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2CA-DD9D-438D-AFF5-6855C3F2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080-29B9-4C39-8D65-0BBD0094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500-95F9-4572-AC06-473DF092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A40-E233-433A-B548-665FAFC1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4AC4-BFED-47A0-BC2E-AA6AD1E3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3AC4-02E7-46F8-A910-F494843C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A07F-072D-47DA-B554-5D0FC2B3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E20E-5167-4156-B3DA-8C02D41E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7734-E98B-462A-AE12-6EB3AF36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D8C3-BD68-4852-AF1A-827BE357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29CE-6DF7-4DD8-B095-16D4815A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413-8627-49E0-B381-045618F6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DBFA-ADA0-4914-B980-585ABFDE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3410-7F5E-4099-BF44-12A0893C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9B31-BAD0-4F47-9C8A-8A1303B8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29EA-6E39-4F12-8E96-99F611FF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4B2C-8496-4D3D-B96D-72FE87E5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25D3-53F2-4BEB-A8A4-E213F124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85C3-BE72-4846-BE0E-F9EFD9C9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F05E9-A8DE-4BC3-A0BF-8FEDD647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17FB-5F3D-41E0-B478-EA7C41F6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B386-E0CE-4C7D-8ECA-B72AE95D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DE4-25EC-49FF-91E2-FFF36A0F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2F8ED-FD56-4065-AF92-0FE92AD0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DDA5-4F01-400C-AC5D-79A97FBC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CA0AB-E36E-4E56-A86D-862F3B00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AD56-8A7D-4FD1-BBAC-85DC1385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3A15-D385-4C6A-A33E-E123CAAF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9786-C4A8-4B26-8863-78B04650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7D4A-32F2-4433-9C3D-AEC709D5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2E2-ADC5-4601-A97C-0D1ADB43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67B-CBA9-4339-B4EF-DC8AD290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6EA-61F0-4772-A1C4-EE2FFAB5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E48-1406-4EBA-A5EF-23C69033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B8F-CDB8-4ED7-BE23-4388FC4E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21C-004B-4A20-8654-15A6418E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hape 9" descr=""/>
          <p:cNvPicPr/>
          <p:nvPr/>
        </p:nvPicPr>
        <p:blipFill>
          <a:blip r:embed="rId2"/>
          <a:srcRect l="6583" t="10269" r="6585" b="79448"/>
          <a:stretch/>
        </p:blipFill>
        <p:spPr>
          <a:xfrm>
            <a:off x="-11160" y="0"/>
            <a:ext cx="9154800" cy="355320"/>
          </a:xfrm>
          <a:prstGeom prst="rect">
            <a:avLst/>
          </a:prstGeom>
          <a:ln w="0">
            <a:noFill/>
          </a:ln>
        </p:spPr>
      </p:pic>
      <p:sp>
        <p:nvSpPr>
          <p:cNvPr id="1" name="Shape 10"/>
          <p:cNvSpPr/>
          <p:nvPr/>
        </p:nvSpPr>
        <p:spPr>
          <a:xfrm>
            <a:off x="0" y="1547640"/>
            <a:ext cx="9143640" cy="5043240"/>
          </a:xfrm>
          <a:prstGeom prst="rect">
            <a:avLst/>
          </a:prstGeom>
          <a:solidFill>
            <a:srgbClr val="d8d8d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2" name="Shape 11"/>
          <p:cNvSpPr/>
          <p:nvPr/>
        </p:nvSpPr>
        <p:spPr>
          <a:xfrm>
            <a:off x="0" y="422280"/>
            <a:ext cx="9143640" cy="1050480"/>
          </a:xfrm>
          <a:prstGeom prst="rect">
            <a:avLst/>
          </a:prstGeom>
          <a:solidFill>
            <a:srgbClr val="bfbfb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3" name="Shape 14"/>
          <p:cNvSpPr/>
          <p:nvPr/>
        </p:nvSpPr>
        <p:spPr>
          <a:xfrm>
            <a:off x="8001000" y="6543720"/>
            <a:ext cx="1082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AAF183A-9074-43C5-9811-8794B7E93D7B}" type="slidenum">
              <a:rPr b="0" lang="en-US" sz="12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hape 15"/>
          <p:cNvSpPr/>
          <p:nvPr/>
        </p:nvSpPr>
        <p:spPr>
          <a:xfrm>
            <a:off x="415800" y="6621480"/>
            <a:ext cx="7784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93cddd"/>
                </a:solidFill>
                <a:latin typeface="Calibri"/>
                <a:ea typeface="Calibri"/>
              </a:rPr>
              <a:t>NATIONAL CENTERS FOR ENVIRONMENT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Shape 16" descr=""/>
          <p:cNvPicPr/>
          <p:nvPr/>
        </p:nvPicPr>
        <p:blipFill>
          <a:blip r:embed="rId3"/>
          <a:stretch/>
        </p:blipFill>
        <p:spPr>
          <a:xfrm>
            <a:off x="63360" y="6427800"/>
            <a:ext cx="393480" cy="393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chemeClr val="dk1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F73C0B26-69FF-432A-AA4D-6142793ADD1D}" type="slidenum"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hape 9" descr=""/>
          <p:cNvPicPr/>
          <p:nvPr/>
        </p:nvPicPr>
        <p:blipFill>
          <a:blip r:embed="rId2"/>
          <a:srcRect l="6583" t="10269" r="6585" b="79448"/>
          <a:stretch/>
        </p:blipFill>
        <p:spPr>
          <a:xfrm>
            <a:off x="-11160" y="0"/>
            <a:ext cx="9154800" cy="355320"/>
          </a:xfrm>
          <a:prstGeom prst="rect">
            <a:avLst/>
          </a:prstGeom>
          <a:ln w="0">
            <a:noFill/>
          </a:ln>
        </p:spPr>
      </p:pic>
      <p:sp>
        <p:nvSpPr>
          <p:cNvPr id="48" name="Shape 10"/>
          <p:cNvSpPr/>
          <p:nvPr/>
        </p:nvSpPr>
        <p:spPr>
          <a:xfrm>
            <a:off x="0" y="1547640"/>
            <a:ext cx="9143640" cy="5043240"/>
          </a:xfrm>
          <a:prstGeom prst="rect">
            <a:avLst/>
          </a:prstGeom>
          <a:solidFill>
            <a:srgbClr val="d8d8d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49" name="Shape 11"/>
          <p:cNvSpPr/>
          <p:nvPr/>
        </p:nvSpPr>
        <p:spPr>
          <a:xfrm>
            <a:off x="0" y="422280"/>
            <a:ext cx="9143640" cy="1050480"/>
          </a:xfrm>
          <a:prstGeom prst="rect">
            <a:avLst/>
          </a:prstGeom>
          <a:solidFill>
            <a:srgbClr val="bfbfb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50" name="Shape 14"/>
          <p:cNvSpPr/>
          <p:nvPr/>
        </p:nvSpPr>
        <p:spPr>
          <a:xfrm>
            <a:off x="8001000" y="6543720"/>
            <a:ext cx="1082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A39AA9F-A8AA-4E13-9A08-DDB523D85148}" type="slidenum">
              <a:rPr b="0" lang="en-US" sz="12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hape 15"/>
          <p:cNvSpPr/>
          <p:nvPr/>
        </p:nvSpPr>
        <p:spPr>
          <a:xfrm>
            <a:off x="415800" y="6621480"/>
            <a:ext cx="7784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93cddd"/>
                </a:solidFill>
                <a:latin typeface="Calibri"/>
                <a:ea typeface="Calibri"/>
              </a:rPr>
              <a:t>NATIONAL CENTERS FOR ENVIRONMENT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hape 16" descr=""/>
          <p:cNvPicPr/>
          <p:nvPr/>
        </p:nvPicPr>
        <p:blipFill>
          <a:blip r:embed="rId3"/>
          <a:stretch/>
        </p:blipFill>
        <p:spPr>
          <a:xfrm>
            <a:off x="63360" y="6427800"/>
            <a:ext cx="393480" cy="393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chemeClr val="dk1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B2666D56-64CE-482B-8869-AC7564E301E7}" type="slidenum"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hape 9" descr=""/>
          <p:cNvPicPr/>
          <p:nvPr/>
        </p:nvPicPr>
        <p:blipFill>
          <a:blip r:embed="rId2"/>
          <a:srcRect l="6583" t="10269" r="6585" b="79448"/>
          <a:stretch/>
        </p:blipFill>
        <p:spPr>
          <a:xfrm>
            <a:off x="-11160" y="0"/>
            <a:ext cx="9154800" cy="355320"/>
          </a:xfrm>
          <a:prstGeom prst="rect">
            <a:avLst/>
          </a:prstGeom>
          <a:ln w="0">
            <a:noFill/>
          </a:ln>
        </p:spPr>
      </p:pic>
      <p:sp>
        <p:nvSpPr>
          <p:cNvPr id="95" name="Shape 10"/>
          <p:cNvSpPr/>
          <p:nvPr/>
        </p:nvSpPr>
        <p:spPr>
          <a:xfrm>
            <a:off x="0" y="1547640"/>
            <a:ext cx="9143640" cy="5043240"/>
          </a:xfrm>
          <a:prstGeom prst="rect">
            <a:avLst/>
          </a:prstGeom>
          <a:solidFill>
            <a:srgbClr val="d8d8d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96" name="Shape 11"/>
          <p:cNvSpPr/>
          <p:nvPr/>
        </p:nvSpPr>
        <p:spPr>
          <a:xfrm>
            <a:off x="0" y="422280"/>
            <a:ext cx="9143640" cy="1050480"/>
          </a:xfrm>
          <a:prstGeom prst="rect">
            <a:avLst/>
          </a:prstGeom>
          <a:solidFill>
            <a:srgbClr val="bfbfb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97" name="Shape 14"/>
          <p:cNvSpPr/>
          <p:nvPr/>
        </p:nvSpPr>
        <p:spPr>
          <a:xfrm>
            <a:off x="8001000" y="6543720"/>
            <a:ext cx="1082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30E5E8A-DF74-491C-814F-21C331D7F5A1}" type="slidenum">
              <a:rPr b="0" lang="en-US" sz="12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hape 15"/>
          <p:cNvSpPr/>
          <p:nvPr/>
        </p:nvSpPr>
        <p:spPr>
          <a:xfrm>
            <a:off x="415800" y="6621480"/>
            <a:ext cx="7784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93cddd"/>
                </a:solidFill>
                <a:latin typeface="Calibri"/>
                <a:ea typeface="Calibri"/>
              </a:rPr>
              <a:t>NATIONAL CENTERS FOR ENVIRONMENT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Shape 16" descr=""/>
          <p:cNvPicPr/>
          <p:nvPr/>
        </p:nvPicPr>
        <p:blipFill>
          <a:blip r:embed="rId3"/>
          <a:stretch/>
        </p:blipFill>
        <p:spPr>
          <a:xfrm>
            <a:off x="63360" y="6427800"/>
            <a:ext cx="393480" cy="393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chemeClr val="dk1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D5D8BBE8-E2DE-49F9-BBDE-E5515B973521}" type="slidenum"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cebook.com/NOAANCEIclimate" TargetMode="External"/><Relationship Id="rId2" Type="http://schemas.openxmlformats.org/officeDocument/2006/relationships/hyperlink" Target="http://www.facebook.com/NOAANCEIclimate" TargetMode="External"/><Relationship Id="rId3" Type="http://schemas.openxmlformats.org/officeDocument/2006/relationships/hyperlink" Target="http://www.facebook.com/NOAANCEIoceangeo" TargetMode="External"/><Relationship Id="rId4" Type="http://schemas.openxmlformats.org/officeDocument/2006/relationships/hyperlink" Target="http://www.twitter.com/NOAANCEIclimate" TargetMode="External"/><Relationship Id="rId5" Type="http://schemas.openxmlformats.org/officeDocument/2006/relationships/hyperlink" Target="http://www.twitter.com/NOAANCEIocngeo" TargetMode="External"/><Relationship Id="rId6" Type="http://schemas.openxmlformats.org/officeDocument/2006/relationships/hyperlink" Target="http://www.twitter.com/NOAANCEIocngeo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94"/>
          <p:cNvSpPr/>
          <p:nvPr/>
        </p:nvSpPr>
        <p:spPr>
          <a:xfrm>
            <a:off x="0" y="95400"/>
            <a:ext cx="9143640" cy="4246560"/>
          </a:xfrm>
          <a:prstGeom prst="rect">
            <a:avLst/>
          </a:prstGeom>
          <a:solidFill>
            <a:srgbClr val="3d74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rcRect l="6977" t="0" r="15468" b="0"/>
          <a:stretch/>
        </p:blipFill>
        <p:spPr>
          <a:xfrm>
            <a:off x="0" y="0"/>
            <a:ext cx="9143640" cy="2775960"/>
          </a:xfrm>
          <a:prstGeom prst="rect">
            <a:avLst/>
          </a:prstGeom>
          <a:ln w="0">
            <a:noFill/>
          </a:ln>
        </p:spPr>
      </p:pic>
      <p:sp>
        <p:nvSpPr>
          <p:cNvPr id="143" name="Shape 99"/>
          <p:cNvSpPr/>
          <p:nvPr/>
        </p:nvSpPr>
        <p:spPr>
          <a:xfrm>
            <a:off x="12600" y="2101680"/>
            <a:ext cx="9143640" cy="2271960"/>
          </a:xfrm>
          <a:prstGeom prst="rect">
            <a:avLst/>
          </a:prstGeom>
          <a:solidFill>
            <a:srgbClr val="20586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76920" y="5370840"/>
            <a:ext cx="8389440" cy="7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9b9da0"/>
                </a:solidFill>
                <a:latin typeface="Arial Narrow"/>
                <a:ea typeface="Arial Narrow"/>
              </a:rPr>
              <a:t>WCRP Data Advisory Council 5</a:t>
            </a:r>
            <a:r>
              <a:rPr b="0" lang="en-US" sz="1600" spc="-1" strike="noStrike" baseline="30000">
                <a:solidFill>
                  <a:srgbClr val="9b9da0"/>
                </a:solidFill>
                <a:latin typeface="Arial Narrow"/>
                <a:ea typeface="Arial Narrow"/>
              </a:rPr>
              <a:t>th</a:t>
            </a:r>
            <a:r>
              <a:rPr b="0" lang="en-US" sz="1600" spc="-1" strike="noStrike">
                <a:solidFill>
                  <a:srgbClr val="9b9da0"/>
                </a:solidFill>
                <a:latin typeface="Arial Narrow"/>
                <a:ea typeface="Arial Narrow"/>
              </a:rPr>
              <a:t>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9b9da0"/>
                </a:solidFill>
                <a:latin typeface="Arial Narrow"/>
                <a:ea typeface="Arial Narrow"/>
              </a:rPr>
              <a:t>April 7-8,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9b9da0"/>
                </a:solidFill>
                <a:latin typeface="Arial Narrow"/>
                <a:ea typeface="Arial Narrow"/>
              </a:rPr>
              <a:t>The Collider, Asheville, 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101"/>
          <p:cNvSpPr/>
          <p:nvPr/>
        </p:nvSpPr>
        <p:spPr>
          <a:xfrm>
            <a:off x="376200" y="6248520"/>
            <a:ext cx="83894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80aecc"/>
                </a:solidFill>
                <a:latin typeface="Arial Narrow"/>
                <a:ea typeface="Arial Narrow"/>
              </a:rPr>
              <a:t>NOAA Satellite and Information Service  |  National Centers for Environmental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hape 103"/>
          <p:cNvSpPr/>
          <p:nvPr/>
        </p:nvSpPr>
        <p:spPr>
          <a:xfrm>
            <a:off x="0" y="4326840"/>
            <a:ext cx="91436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chemeClr val="dk1"/>
                </a:solidFill>
                <a:latin typeface="Arial Narrow"/>
                <a:ea typeface="Arial Narrow"/>
              </a:rPr>
              <a:t>Christina J. Lief-de Groot</a:t>
            </a:r>
            <a:br>
              <a:rPr sz="1800"/>
            </a:br>
            <a:r>
              <a:rPr b="0" lang="en-US" sz="1800" spc="-1" strike="noStrike">
                <a:solidFill>
                  <a:schemeClr val="dk1"/>
                </a:solidFill>
                <a:latin typeface="Arial Narrow"/>
                <a:ea typeface="Arial Narrow"/>
              </a:rPr>
              <a:t>NOAA’s National Centers for Environment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Shape 104" descr=""/>
          <p:cNvPicPr/>
          <p:nvPr/>
        </p:nvPicPr>
        <p:blipFill>
          <a:blip r:embed="rId2"/>
          <a:stretch/>
        </p:blipFill>
        <p:spPr>
          <a:xfrm>
            <a:off x="8022600" y="5815080"/>
            <a:ext cx="864720" cy="8665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0" y="3237840"/>
            <a:ext cx="9156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sential Climate Variable (ECV)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3640" cy="974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200" y="1886040"/>
            <a:ext cx="8426160" cy="4582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Arial"/>
                <a:ea typeface="Arial"/>
              </a:rPr>
              <a:t>The Global Observing Systems Information Center (GOSIC) provides a clearinghouse that facilitates the discovery of and access to authoritative data, products, metadata and information for the GCOS, including a utility to access ECV data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Arial"/>
                <a:ea typeface="Arial"/>
              </a:rPr>
              <a:t>The ECV Data Access Matrix provides access to authoritative  ECV datasets and information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Arial"/>
                <a:ea typeface="Arial"/>
              </a:rPr>
              <a:t>Authoritative datasets have been submitted to critical appraisal and curated for quality and are properly documented by metadata. 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rcRect l="15626" t="4444" r="59713" b="4299"/>
          <a:stretch/>
        </p:blipFill>
        <p:spPr>
          <a:xfrm>
            <a:off x="2257560" y="92880"/>
            <a:ext cx="5328720" cy="66290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164160" y="464400"/>
            <a:ext cx="1792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Main view of the ECV Data Access Matrix on https://gosi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257040" y="1876320"/>
            <a:ext cx="169992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be updated with information from the Status of the Global Observing System for Climate , Oct 2015 (GCOS-1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be linked to the GEOSS Geoportal once it has been upd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OS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cks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ist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85640"/>
            <a:ext cx="9143640" cy="931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5920" y="1914480"/>
            <a:ext cx="8493480" cy="418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The ECV Data Access Matrix provides: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-stop utility to access authoritative ECV data and information for the 50 EC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 to ECV information on network status, current network   capabilities, data gaps, etc.  Information will be updated per the Status of the Global Observing System for Climate – October 2015 (GCOS-1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 such as Digital Object Identifiers (DOI), Metadata Landing Pages, Data Stewardship Maturity Scoreboards, link to BAMS State of the Climate datasets and products, Subject Matter Expert (SME) inform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3640" cy="94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760" y="1903680"/>
            <a:ext cx="8229240" cy="4014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Users would benefit from a more comprehensive list of authoritative datasets available for each of the ECVs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The satellite-based data questionnaire and on-line form were developed by NASA Langley Systems Engineering Office (SEO)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This questionnaire was also adapted to in-situ by NCEI and CICS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An SQL web interface to the satellite and in-situ ECV data base could be hosted on the GOSIC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459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In-situ Based 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  <a:ea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rcRect l="0" t="13676" r="49513" b="4699"/>
          <a:stretch/>
        </p:blipFill>
        <p:spPr>
          <a:xfrm>
            <a:off x="357120" y="1278720"/>
            <a:ext cx="8436240" cy="529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747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it-IT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In-situ Based 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240" y="1764360"/>
            <a:ext cx="8629200" cy="4807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In-situ questions: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343080" indent="-139680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General:</a:t>
            </a: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ponder email, dataset identifier, responsible organization, international coordination, assessment  body, quality control orga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39680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Dataset Usage:</a:t>
            </a: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mate applications, ECV, TCDR, Physical &amp; units of physical 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7800" indent="-343080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Dataset Stewardship:</a:t>
            </a: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ection, calibration organization, inter-calibration, FCDR, TCDR, GCOS requirements assessment, independent peer review, archiving, user service, user feedback 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7800" indent="-343080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Dataset properties:</a:t>
            </a: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verage, horizontal, vertical &amp; temporal resolutions, accuracy, stability, scientific process, CDR generation, stability &amp; homogeneity link, GCOS compliance assessment, independent peer review compliance, maturity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7800" indent="-343080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Dataset Access:</a:t>
            </a: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act email, data format &amp; access, dissemination, data documentation link, data release period 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747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it-IT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5680" y="1864440"/>
            <a:ext cx="8629200" cy="4043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Discussion: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Is there a need for an in-situ based ECV inventory like there is for a satellite-based inventory?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If so…the in-situ questionnaire and form have been generated and would need to be distributed to the data centers and input processed. But this effort needs to be sponsored!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79640" y="5285160"/>
            <a:ext cx="8838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CEI Climate Facebook: 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facebook.com/NOAANCEIclim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CEI Ocean &amp; Geophysics Facebook: 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facebook.com/NOAANCEIoceange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CEI Climate Twitter (@NOAANCEIclimate): 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twitter.com/NOAANCEI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CEI Ocean &amp; Geophysics Twitter (@NOAANCEIocngeo): 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www.twitter.com/NOAANCEIocng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6193800" y="3431520"/>
            <a:ext cx="26888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www.ncei.noaa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www.climate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GOSIC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7"/>
          <a:stretch/>
        </p:blipFill>
        <p:spPr>
          <a:xfrm>
            <a:off x="272160" y="4822560"/>
            <a:ext cx="380520" cy="380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8"/>
          <a:stretch/>
        </p:blipFill>
        <p:spPr>
          <a:xfrm>
            <a:off x="838080" y="4827600"/>
            <a:ext cx="380520" cy="380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9"/>
          <a:stretch/>
        </p:blipFill>
        <p:spPr>
          <a:xfrm>
            <a:off x="228600" y="1592640"/>
            <a:ext cx="5712480" cy="2856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228600" y="543960"/>
            <a:ext cx="8850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3200" spc="-1" strike="noStrike">
                <a:solidFill>
                  <a:srgbClr val="215968"/>
                </a:solidFill>
                <a:latin typeface="Arial Narrow"/>
                <a:ea typeface="Arial"/>
              </a:rPr>
              <a:t>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6303240" y="1981080"/>
            <a:ext cx="2268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0</TotalTime>
  <Application>LibreOffice/7.4.7.2$Linux_X86_64 LibreOffice_project/40$Build-2</Application>
  <AppVersion>15.0000</AppVersion>
  <Words>584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ra Veasey</dc:creator>
  <dc:description/>
  <dc:language>en-US</dc:language>
  <cp:lastModifiedBy>Microsoft Office User</cp:lastModifiedBy>
  <cp:lastPrinted>2016-03-30T17:29:33Z</cp:lastPrinted>
  <dcterms:modified xsi:type="dcterms:W3CDTF">2016-04-08T14:45:58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9</vt:r8>
  </property>
</Properties>
</file>