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10400" cy="929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2A6-5132-446A-BC50-71FC9206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394-4671-4D11-998B-AC38A766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F87-0C37-4F77-A8B3-11B2A4B7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EBB-203F-454B-95F1-C33E4359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B39-5758-4579-B630-574697CC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0853-11AD-4BD4-8ACA-130A177F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D1CD-3FD6-4FC8-8422-36F0F838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C02B-8BF9-4A7B-AC95-113F8D52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7BF9-233A-40DF-B330-73300A5C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2010-47AD-4165-A5E5-97E98202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EE1-1DF3-4089-8459-A2FF98F4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CE8-2E30-45BC-9D13-CBB5A884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CE40-CA46-4658-BADF-8F11197F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BE76-689F-4E9E-A4A4-50B62076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3B4B-63DA-416A-92A1-3D1F718E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7776-44E1-4AC3-AF5A-D28F6C6F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8471-FC23-4655-A790-A480EB8A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055F-72F5-409D-91D8-40014C83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0240-BF52-49AD-BFB4-2BAA63F2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89EC-9D9C-40B9-9434-4684BA34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FC26B-0B62-4851-90E2-7FE08A44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983C-20CE-406F-AACA-CF7BFF63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8639-3DAD-4017-978C-BECFD9BD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80A9-4EB1-4709-83C5-A7E776E1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72C4-995B-47BC-B95E-B20EFC19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9428-672E-4821-B1CD-A2E6ED0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3A61-1C8F-4B98-91F7-5D32996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2E4D-DCE3-4B6B-BF34-2D13CF4C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5F45-B28A-42B6-9022-7C18F5DEB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33E72-4FD8-46FF-BE2B-3EEFBEEC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230-5EF5-4B38-A5D4-46EEC76C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913A-9025-4473-860D-C695F66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C658-BE9C-4C23-A304-FE1B4C1D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574-9F9B-4139-A255-C8FA6553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18F-C6F4-470C-9CD4-9B2A4753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F80-5677-4726-9DE2-58C5A4F5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1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2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3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49957B9C-B7E4-4DDF-9E1F-61377DD8C658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4387CCB5-7DB6-4A37-A083-BB439271ACE5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48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49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50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6F3BF32D-2F9F-4D21-9615-E70E80BFDDE7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9E1E840D-44D0-4717-AA83-25E4EACBA4D5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Shape 9" descr=""/>
          <p:cNvPicPr/>
          <p:nvPr/>
        </p:nvPicPr>
        <p:blipFill>
          <a:blip r:embed="rId2"/>
          <a:srcRect l="6583" t="10269" r="6585" b="79448"/>
          <a:stretch/>
        </p:blipFill>
        <p:spPr>
          <a:xfrm>
            <a:off x="-11160" y="0"/>
            <a:ext cx="9154800" cy="355320"/>
          </a:xfrm>
          <a:prstGeom prst="rect">
            <a:avLst/>
          </a:prstGeom>
          <a:ln w="0">
            <a:noFill/>
          </a:ln>
        </p:spPr>
      </p:pic>
      <p:sp>
        <p:nvSpPr>
          <p:cNvPr id="95" name="Shape 10"/>
          <p:cNvSpPr/>
          <p:nvPr/>
        </p:nvSpPr>
        <p:spPr>
          <a:xfrm>
            <a:off x="0" y="1547640"/>
            <a:ext cx="9143640" cy="5043240"/>
          </a:xfrm>
          <a:prstGeom prst="rect">
            <a:avLst/>
          </a:prstGeom>
          <a:solidFill>
            <a:srgbClr val="d8d8d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96" name="Shape 11"/>
          <p:cNvSpPr/>
          <p:nvPr/>
        </p:nvSpPr>
        <p:spPr>
          <a:xfrm>
            <a:off x="0" y="422280"/>
            <a:ext cx="9143640" cy="1050480"/>
          </a:xfrm>
          <a:prstGeom prst="rect">
            <a:avLst/>
          </a:prstGeom>
          <a:solidFill>
            <a:srgbClr val="bfbfb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97" name="Shape 14"/>
          <p:cNvSpPr/>
          <p:nvPr/>
        </p:nvSpPr>
        <p:spPr>
          <a:xfrm>
            <a:off x="8001000" y="6543720"/>
            <a:ext cx="1082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</a:tabLst>
            </a:pPr>
            <a:fld id="{3470708A-E1EC-44AF-915F-2CEF1E0E7C4C}" type="slidenum">
              <a:rPr b="0" lang="en-US" sz="12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5"/>
          <p:cNvSpPr/>
          <p:nvPr/>
        </p:nvSpPr>
        <p:spPr>
          <a:xfrm>
            <a:off x="415800" y="6621480"/>
            <a:ext cx="7784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900" spc="-1" strike="noStrike">
                <a:solidFill>
                  <a:srgbClr val="93cddd"/>
                </a:solidFill>
                <a:latin typeface="Calibri"/>
                <a:ea typeface="Calibri"/>
              </a:rPr>
              <a:t>NATIONAL CENTERS FOR ENVIRONMENT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hape 16" descr=""/>
          <p:cNvPicPr/>
          <p:nvPr/>
        </p:nvPicPr>
        <p:blipFill>
          <a:blip r:embed="rId3"/>
          <a:stretch/>
        </p:blipFill>
        <p:spPr>
          <a:xfrm>
            <a:off x="63360" y="6427800"/>
            <a:ext cx="393480" cy="393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</a:tabLst>
              <a:defRPr b="0" lang="en-US" sz="1800" spc="-1" strike="noStrike">
                <a:solidFill>
                  <a:schemeClr val="dk1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fld id="{F2843C95-362B-45BB-9907-C48038F155B3}" type="slidenum">
              <a:rPr b="0" lang="en-US" sz="1800" spc="-1" strike="noStrike">
                <a:solidFill>
                  <a:schemeClr val="dk1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cebook.com/NOAANCEIclimate" TargetMode="External"/><Relationship Id="rId2" Type="http://schemas.openxmlformats.org/officeDocument/2006/relationships/hyperlink" Target="http://www.facebook.com/NOAANCEIclimate" TargetMode="External"/><Relationship Id="rId3" Type="http://schemas.openxmlformats.org/officeDocument/2006/relationships/hyperlink" Target="http://www.facebook.com/NOAANCEIoceangeo" TargetMode="External"/><Relationship Id="rId4" Type="http://schemas.openxmlformats.org/officeDocument/2006/relationships/hyperlink" Target="http://www.twitter.com/NOAANCEIclimate" TargetMode="External"/><Relationship Id="rId5" Type="http://schemas.openxmlformats.org/officeDocument/2006/relationships/hyperlink" Target="http://www.twitter.com/NOAANCEIocngeo" TargetMode="External"/><Relationship Id="rId6" Type="http://schemas.openxmlformats.org/officeDocument/2006/relationships/hyperlink" Target="http://www.twitter.com/NOAANCEIocngeo" TargetMode="External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94"/>
          <p:cNvSpPr/>
          <p:nvPr/>
        </p:nvSpPr>
        <p:spPr>
          <a:xfrm>
            <a:off x="0" y="95400"/>
            <a:ext cx="9143640" cy="4246560"/>
          </a:xfrm>
          <a:prstGeom prst="rect">
            <a:avLst/>
          </a:prstGeom>
          <a:solidFill>
            <a:srgbClr val="3d74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6977" t="0" r="15468" b="0"/>
          <a:stretch/>
        </p:blipFill>
        <p:spPr>
          <a:xfrm>
            <a:off x="0" y="0"/>
            <a:ext cx="9143640" cy="2775960"/>
          </a:xfrm>
          <a:prstGeom prst="rect">
            <a:avLst/>
          </a:prstGeom>
          <a:ln w="0">
            <a:noFill/>
          </a:ln>
        </p:spPr>
      </p:pic>
      <p:sp>
        <p:nvSpPr>
          <p:cNvPr id="143" name="Shape 99"/>
          <p:cNvSpPr/>
          <p:nvPr/>
        </p:nvSpPr>
        <p:spPr>
          <a:xfrm>
            <a:off x="12600" y="2101680"/>
            <a:ext cx="9143640" cy="2271960"/>
          </a:xfrm>
          <a:prstGeom prst="rect">
            <a:avLst/>
          </a:prstGeom>
          <a:solidFill>
            <a:srgbClr val="205867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  <a:ea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76920" y="5370840"/>
            <a:ext cx="8389440" cy="7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WCRP Data Advisory Council 5</a:t>
            </a:r>
            <a:r>
              <a:rPr b="0" lang="en-US" sz="1600" spc="-1" strike="noStrike" baseline="30000">
                <a:solidFill>
                  <a:srgbClr val="9b9da0"/>
                </a:solidFill>
                <a:latin typeface="Arial Narrow"/>
                <a:ea typeface="Arial Narrow"/>
              </a:rPr>
              <a:t>th</a:t>
            </a: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April 7-8,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9b9da0"/>
                </a:solidFill>
                <a:latin typeface="Arial Narrow"/>
                <a:ea typeface="Arial Narrow"/>
              </a:rPr>
              <a:t>The Collider, Asheville, 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01"/>
          <p:cNvSpPr/>
          <p:nvPr/>
        </p:nvSpPr>
        <p:spPr>
          <a:xfrm>
            <a:off x="376200" y="6248520"/>
            <a:ext cx="83894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100" spc="-1" strike="noStrike">
                <a:solidFill>
                  <a:srgbClr val="80aecc"/>
                </a:solidFill>
                <a:latin typeface="Arial Narrow"/>
                <a:ea typeface="Arial Narrow"/>
              </a:rPr>
              <a:t>NOAA Satellite and Information Service  |  National Centers for Environmental In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03"/>
          <p:cNvSpPr/>
          <p:nvPr/>
        </p:nvSpPr>
        <p:spPr>
          <a:xfrm>
            <a:off x="0" y="4326840"/>
            <a:ext cx="914364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chemeClr val="dk1"/>
                </a:solidFill>
                <a:latin typeface="Arial Narrow"/>
                <a:ea typeface="Arial Narrow"/>
              </a:rPr>
              <a:t>Christina J. Lief-de Groot</a:t>
            </a:r>
            <a:br>
              <a:rPr sz="1800"/>
            </a:br>
            <a:r>
              <a:rPr b="0" lang="en-US" sz="1800" spc="-1" strike="noStrike">
                <a:solidFill>
                  <a:schemeClr val="dk1"/>
                </a:solidFill>
                <a:latin typeface="Arial Narrow"/>
                <a:ea typeface="Arial Narrow"/>
              </a:rPr>
              <a:t>NOAA’s National Centers for Environment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Shape 104" descr=""/>
          <p:cNvPicPr/>
          <p:nvPr/>
        </p:nvPicPr>
        <p:blipFill>
          <a:blip r:embed="rId2"/>
          <a:stretch/>
        </p:blipFill>
        <p:spPr>
          <a:xfrm>
            <a:off x="8022600" y="5815080"/>
            <a:ext cx="864720" cy="8665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0" y="3237840"/>
            <a:ext cx="9156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ssential Climate Variable (ECV)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3640" cy="974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200" y="1886040"/>
            <a:ext cx="8426160" cy="45820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The Global Observing Systems Information Center (GOSIC) provides a clearinghouse that facilitates the discovery of and access to authoritative data, products, metadata and information for the GCOS, including a utility to access ECV data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The ECV Data Access Matrix provides access to authoritative  ECV datasets and information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Authoritative datasets have been submitted to critical appraisal and curated for quality and are properly documented by metadata. 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rcRect l="15626" t="4444" r="59713" b="4299"/>
          <a:stretch/>
        </p:blipFill>
        <p:spPr>
          <a:xfrm>
            <a:off x="2257560" y="92880"/>
            <a:ext cx="5328720" cy="66290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164160" y="464400"/>
            <a:ext cx="1792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Main view of the ECV Data Access Matrix on https://gosic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257040" y="1876320"/>
            <a:ext cx="169992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be updated with information from the Status of the Global Observing System for Climate , Oct 2015 (GCOS-19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ll be linked to the GEOSS Geoportal once it has been upda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GOS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cks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stic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85640"/>
            <a:ext cx="9143640" cy="931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5920" y="1914480"/>
            <a:ext cx="8493480" cy="418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e ECV Data Access Matrix provides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-stop utility to access authoritative ECV data and information for the 50 ECV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to ECV information on network status, current network   capabilities, data gaps, etc.  Information will be updated per the Status of the Global Observing System for Climate – October 2015 (GCOS-19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such as Digital Object Identifiers (DOI), Metadata Landing Pages, Data Stewardship Maturity Scoreboards, link to BAMS State of the Climate datasets and products, Subject Matter Expert (SME) informatio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71600"/>
            <a:ext cx="9143640" cy="94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760" y="1903680"/>
            <a:ext cx="8229240" cy="4014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Users would benefit from a more comprehensive list of authoritative datasets available for each of the ECVs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e satellite-based data questionnaire and on-line form were developed by NASA Langley Systems Engineering Office (SEO)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This questionnaire was also adapted to in-situ by NCEI and CICS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An SQL web interface to the satellite and in-situ ECV data base could be hosted on the GOSIC.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459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In-situ Based 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  <a:ea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rcRect l="0" t="13676" r="49513" b="4699"/>
          <a:stretch/>
        </p:blipFill>
        <p:spPr>
          <a:xfrm>
            <a:off x="357120" y="1278720"/>
            <a:ext cx="8436240" cy="529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3747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In-situ Based 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240" y="1764360"/>
            <a:ext cx="8629200" cy="4807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n-situ questions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General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sponder email, dataset identifier, responsible organization, international coordination, assessment  body, quality control orga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1396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Usage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imate applications, ECV, TCDR, Physical &amp; units of physical quant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Stewardship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ection, calibration organization, inter-calibration, FCDR, TCDR, GCOS requirements assessment, independent peer review, archiving, user service, user feedback organiz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properties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verage, horizontal, vertical &amp; temporal resolutions, accuracy, stability, scientific process, CDR generation, stability &amp; homogeneity link, GCOS compliance assessment, independent peer review compliance, maturity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7800" indent="-343080"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ataset Access:</a:t>
            </a:r>
            <a:endParaRPr b="0" lang="en-US" sz="20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lvl="1" marL="743040" indent="-108000">
              <a:lnSpc>
                <a:spcPct val="100000"/>
              </a:lnSpc>
              <a:buClr>
                <a:srgbClr val="215968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act email, data format &amp; access, dissemination, data documentation link, data release period (month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7476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 Narrow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" y="1864440"/>
            <a:ext cx="8629200" cy="4043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Discussion: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s there a need for an in-situ based ECV inventory like there is for a satellite-based inventory?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5">
                    <a:lumMod val="50000"/>
                  </a:schemeClr>
                </a:solidFill>
                <a:latin typeface="Arial"/>
                <a:ea typeface="Arial"/>
              </a:rPr>
              <a:t>If so…the in-situ questionnaire and form have been generated and would need to be distributed to the data centers and input processed. But this effort needs to be sponsored!</a:t>
            </a: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chemeClr val="accent5">
                  <a:lumMod val="50000"/>
                </a:schemeClr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179640" y="5285160"/>
            <a:ext cx="88387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Climate Facebook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facebook.com/NOAANCEIclim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Ocean &amp; Geophysics Facebook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http://www.facebook.com/NOAANCEIoceange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Climate Twitter (@NOAANCEIclimate)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http://www.twitter.com/NOAANCEI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CEI Ocean &amp; Geophysics Twitter (@NOAANCEIocngeo): 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5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6"/>
              </a:rPr>
              <a:t>www.twitter.com/NOAANCEIocng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6193800" y="3431520"/>
            <a:ext cx="268884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www.ncei.noa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www.climat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GOSIC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7"/>
          <a:stretch/>
        </p:blipFill>
        <p:spPr>
          <a:xfrm>
            <a:off x="272160" y="4822560"/>
            <a:ext cx="380520" cy="380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8"/>
          <a:stretch/>
        </p:blipFill>
        <p:spPr>
          <a:xfrm>
            <a:off x="838080" y="4827600"/>
            <a:ext cx="380520" cy="380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9"/>
          <a:stretch/>
        </p:blipFill>
        <p:spPr>
          <a:xfrm>
            <a:off x="228600" y="1592640"/>
            <a:ext cx="5712480" cy="28562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228600" y="543960"/>
            <a:ext cx="8850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200" spc="-1" strike="noStrike">
                <a:solidFill>
                  <a:srgbClr val="215968"/>
                </a:solidFill>
                <a:latin typeface="Arial Narrow"/>
                <a:ea typeface="Arial"/>
              </a:rPr>
              <a:t>Essential Climate Variable (ECV)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6303240" y="1981080"/>
            <a:ext cx="22687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1">
                    <a:lumMod val="75000"/>
                  </a:schemeClr>
                </a:solidFill>
                <a:latin typeface="Arial"/>
                <a:ea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  <Words>584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ra Veasey</dc:creator>
  <dc:description/>
  <dc:language>en-US</dc:language>
  <cp:lastModifiedBy>Microsoft Office User</cp:lastModifiedBy>
  <cp:lastPrinted>2016-03-30T17:29:33Z</cp:lastPrinted>
  <dcterms:modified xsi:type="dcterms:W3CDTF">2016-04-08T14:45:58Z</dcterms:modified>
  <cp:revision>1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9</vt:r8>
  </property>
</Properties>
</file>