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B4EE4F-930A-4CB4-98EB-08492974A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1F4A49-61EC-4BA3-A9AA-8935B0A4A03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7B0037-1593-49A5-BF5E-3064F093AEB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D67B67-3FD2-4A82-97D3-04268D64DC0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D3348E-6C13-475F-A144-11A8C2EFBF5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D2B5E0-8486-42D5-A65A-95F572814F0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4DCD94-72B6-4B70-8EA9-627C2D5A2BF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6396AA-D17C-4B7E-8694-8C52DC8CF98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874900-37AB-46A2-AC3A-70115E87897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83F206-1BCC-459A-8B43-CEDCE2B18F2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E07741-37D9-4380-97C1-EF5BF0EFAB5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0A43D3-D7B9-4D39-B2DC-E6988AFEC46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8BA4D1-B482-4E44-A20A-33F32EA9E4F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C9FBC3-BED6-4CEC-A263-8C94678830B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CC489D-EDD6-4748-A175-D04B4BC1744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83B21A-CDAC-42EF-BDD2-BAC6DF49EC7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A8CC2E-A809-47B7-8458-BD11F17EF54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53308E-3DE5-4182-A1C0-D67CFD34FCE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8662CE-52FA-4A9B-BF07-6E764FA4FC3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79DEF1-B2D4-4C26-8679-C95C67F9136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21D907-70D6-4B45-99B9-D5AC71A40A6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24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2400"/>
            <a:ext cx="822924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itle 1"/>
          <p:cNvSpPr/>
          <p:nvPr/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Myriad Pro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ubtitle 2"/>
          <p:cNvSpPr/>
          <p:nvPr/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Myriad Pro"/>
              </a:rPr>
              <a:t>Click to edit Master sub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"/>
          <p:cNvPicPr/>
          <p:nvPr/>
        </p:nvPicPr>
        <p:blipFill>
          <a:blip r:embed="rId2"/>
          <a:stretch/>
        </p:blipFill>
        <p:spPr>
          <a:xfrm>
            <a:off x="0" y="2520"/>
            <a:ext cx="9143640" cy="6852240"/>
          </a:xfrm>
          <a:prstGeom prst="rect">
            <a:avLst/>
          </a:prstGeom>
          <a:ln w="0">
            <a:noFill/>
          </a:ln>
        </p:spPr>
      </p:pic>
      <p:sp>
        <p:nvSpPr>
          <p:cNvPr id="3" name="Slide Number Placeholder 5"/>
          <p:cNvSpPr/>
          <p:nvPr/>
        </p:nvSpPr>
        <p:spPr>
          <a:xfrm>
            <a:off x="7010280" y="6308640"/>
            <a:ext cx="2133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5A6447FA-F358-4C47-BD49-41FDA7672E7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2520"/>
            <a:ext cx="9143640" cy="6852240"/>
          </a:xfrm>
          <a:prstGeom prst="rect">
            <a:avLst/>
          </a:prstGeom>
          <a:ln w="0">
            <a:noFill/>
          </a:ln>
        </p:spPr>
      </p:pic>
      <p:sp>
        <p:nvSpPr>
          <p:cNvPr id="43" name="Slide Number Placeholder 5"/>
          <p:cNvSpPr/>
          <p:nvPr/>
        </p:nvSpPr>
        <p:spPr>
          <a:xfrm>
            <a:off x="7010280" y="6308640"/>
            <a:ext cx="2133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E80EB435-6156-4236-B8A4-97DCCB57627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-situ Data and obs4M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Opportunities and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Jim Bi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station data be included in obs4MIP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ile form/structure should be used for station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support for intercomparison of station data with grids be provid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HCN-M Station Data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observations be handled that aren’t in the standard output t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’t allow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-by-case basis handling by the obs4MIPs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er-driven additions to the 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-driven model (e.g. CF standard nam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observations be handled that aren’t directly connected to model vari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this to be resolved by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/provide “forward transform” modules to produce observation estimates from model outp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data sets with significantly different spatial resolutions pose a problem? (Storage issues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ve this to be resolved by consu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r require regridder mod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support for intercomparison of station data with grids be provid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/require station-to-grid and/or grid-to-station transform mod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ile form/structure should be used for station da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tCDF Climate &amp; Forecast (CF) Metadata Conventions have station and trajectory data 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widespread consensus on how to store the metadata, but efforts are under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F community is open to infl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025800"/>
            <a:ext cx="8229240" cy="397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>
              <a:buNone/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af Area Index Climate Data Recor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lat/lon grid with 0.05° daily re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period of record will consume ~70 GB (with netCDF-4 compres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plete coverage due to clouds,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s to be accompanied by its QA flags variable (flags for clouds, surface type, etc) for the observations to be interpreted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I CD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data sets with significantly different spatial resolutions pose a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higher volume data sets pose a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ell will missing data be hand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can needed auxiliary variables be includ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ata set is in ongoing production for the foreseeable future. How should updates be handl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I CDR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roaden the obs4MIPs auxiliary data rules to allow data beyond number of observations, standard deviation, and standard err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bs4MIPs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observational products more accessible for climate model intercomparis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focus on observed variables that are near-exact matches to model vari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ment type is found in list of requested CMIP5 model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standard CMIP5 frequency, grid, pressure levels,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to update ongoing data set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file but the first and last should contain the same number of time interv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approach is to keep extending the last file until it is full, then start a new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the metadata for the extended file be handled? (uuid, dates and versions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ssible 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4MIPs submissions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obs4MIPs master li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10 different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3 complete (6 from NCEI-Ashevi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3 in work (6 from NCEI-Ashevil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set primarily satellite retriev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-situ data becoming more prominent among newer proposed submis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rent Sit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nging more observational data sets into the ESGF/obs4MIPs system opens up new opportunities for innovative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n effort can help foster the goal of greater interaction between the modeling, observation, and re-analysis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a number of challenges to be faced as we move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re to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CEI holdings include numerous observational datasets that are valuable for climate chang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ll of them are easy to fit into the current obs4MIPs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idSat-B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CN-M Station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 from NC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dded Satellite Data from ISCCP B1 Infrared Channel Brightness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r lat/lon grid with 0.25° monthly resolution (0.07° 3-hourly resolution availab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rightness temperature measurement is not a “requested” variable, although modelers are interested in using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an addition to the standard output 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idSat-B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observations be handled that aren’t in the standard output t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hould observations be handled that aren’t directly connected to model variab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data sets with significantly different spatial resolutions pose a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update ongoing data s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ridSat-B1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Historical Climate Network - Monthly Station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ed and uncorrected observations of monthly mean, max, and min temperatures from 1701 to present for 7280 unique s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mber of stations varies from year to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extensive accompanying metadata for the observations to be interpreted prope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HCN-M Station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240" cy="49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rther details regarding station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ions of individual point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ons may change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trument, method, and quality at a location changes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 of location changes over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turing this information requires auxiliary data (metadata) that may change slow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2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HCN-M Station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itle Slid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urve Header Slid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  <Words>821</Words>
  <Paragraphs>115</Paragraphs>
  <Company>Government Employe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21:39:58Z</dcterms:created>
  <dc:creator>Deb Misch</dc:creator>
  <dc:description/>
  <dc:language>en-US</dc:language>
  <cp:lastModifiedBy>Microsoft Office User</cp:lastModifiedBy>
  <dcterms:modified xsi:type="dcterms:W3CDTF">2016-04-08T12:32:17Z</dcterms:modified>
  <cp:revision>7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On-screen Show (4:3)</vt:lpwstr>
  </property>
  <property fmtid="{D5CDD505-2E9C-101B-9397-08002B2CF9AE}" pid="4" name="Slides">
    <vt:r8>20</vt:r8>
  </property>
</Properties>
</file>