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7FD5E-01D1-4E47-B234-8899A83E4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D001CB-B578-4239-ADE0-2364D298406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4AA924-D1E6-42E6-88C4-A1C034B45D3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17D5E-E072-4FF3-9D4F-E994A89D8E8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07F012-2E10-448E-B3CD-19C5639A81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FF9497-CCA0-45FC-9E7E-63BFA7683E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262C5F-DA0F-4702-9A76-07D88932B4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86D7F8-345E-44E6-82DA-3FBA3BE1935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6BECA9-6D3E-4735-B75D-5E0B279BE9E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D27051-082C-41A9-A78D-8BBA89B1A4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0A2CB4-21AD-447B-86CD-B8A0B38CD30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3DC1F-8599-4DB4-8938-C27021CE0C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46B17-E66F-4882-8232-C8E46E8921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5F7925-3FBE-479F-8AF0-8E1ADCDB18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DB442D-68D7-472C-9DF8-34A450C582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894582-20BE-4DBA-8DAF-BB382FA4E5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41588A-90BD-49E8-8AC8-94D411E01BB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957C08-D17D-41B3-9A4F-4E36B7B23E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74AC9A-3B22-4CBD-8960-0F051B2DEEE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8B4B43-8B94-41A8-972D-F80077AE016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2BDCEE-9042-4B89-AF36-A91E7E96883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2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2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itle 1"/>
          <p:cNvSpPr/>
          <p:nvPr/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Myriad Pro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ubtitle 2"/>
          <p:cNvSpPr/>
          <p:nvPr/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Myriad Pro"/>
              </a:rPr>
              <a:t>Click to edit Master sub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tretch/>
        </p:blipFill>
        <p:spPr>
          <a:xfrm>
            <a:off x="0" y="2520"/>
            <a:ext cx="9143640" cy="6852240"/>
          </a:xfrm>
          <a:prstGeom prst="rect">
            <a:avLst/>
          </a:prstGeom>
          <a:ln w="0">
            <a:noFill/>
          </a:ln>
        </p:spPr>
      </p:pic>
      <p:sp>
        <p:nvSpPr>
          <p:cNvPr id="3" name="Slide Number Placeholder 5"/>
          <p:cNvSpPr/>
          <p:nvPr/>
        </p:nvSpPr>
        <p:spPr>
          <a:xfrm>
            <a:off x="7010280" y="6308640"/>
            <a:ext cx="2133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842B0F71-40FF-4A8F-B769-88460AA939E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2520"/>
            <a:ext cx="9143640" cy="6852240"/>
          </a:xfrm>
          <a:prstGeom prst="rect">
            <a:avLst/>
          </a:prstGeom>
          <a:ln w="0">
            <a:noFill/>
          </a:ln>
        </p:spPr>
      </p:pic>
      <p:sp>
        <p:nvSpPr>
          <p:cNvPr id="43" name="Slide Number Placeholder 5"/>
          <p:cNvSpPr/>
          <p:nvPr/>
        </p:nvSpPr>
        <p:spPr>
          <a:xfrm>
            <a:off x="7010280" y="6308640"/>
            <a:ext cx="2133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A4FB0A0F-6B66-4AD0-BB4C-3D6B76595CA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situ Data and obs4M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Jim Bi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tation data be included in obs4MI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ile form/structure should be used for statio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upport for intercomparison of station data with grids be provi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HCN-M Station Data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in the standard output t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allow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-by-case basis handling by the obs4MIPs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r-driven additions to the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-driven model (e.g. CF standard na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directly connected to model vari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is to be resolved by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/provide “forward transform” modules to produce observation estimates from model outp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data sets with significantly different spatial resolutions pose a problem? (Storage issues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is to be resolved by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r require regridder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upport for intercomparison of station data with grids be provi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/require station-to-grid and/or grid-to-station transform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ile form/structure should be used for statio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CDF Climate &amp; Forecast (CF) Metadata Conventions have station and trajectory data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widespread consensus on how to store the metadata, but efforts are under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F community is open to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025800"/>
            <a:ext cx="822924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f Area Index Climate Data Rec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lat/lon grid with 0.05° daily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period of record will consume ~70 GB (with netCDF-4 compre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plete coverage due to clouds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s to be accompanied by its QA flags variable (flags for clouds, surface type, etc) for the observations to be interpre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I CD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data sets with significantly different spatial resolutions pose a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higher volume data sets pose a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will missing data be hand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needed auxiliary variables be inclu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ta set is in ongoing production for the foreseeable future. How should updates be hand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I CD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roaden the obs4MIPs auxiliary data rules to allow data beyond number of observations, standard deviation, and standard err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s4MIPs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observational products more accessible for climate model intercompari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focus on observed variables that are near-exact matches to model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 type is found in list of requested CMIP5 mode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standard CMIP5 frequency, grid, pressure levels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update ongoing data se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file but the first and last should contain the same number of time inter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approach is to keep extending the last file until it is full, then start a new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the metadata for the extended file be handled? (uuid, dates and versions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4MIPs submission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obs4MIPs master 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10 different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3 complete (6 from NCEI-Ashevi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3 in work (6 from NCEI-Ashevi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set primarily satellite retrie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-situ data becoming more prominent among newer proposed sub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ren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ing more observational data sets into the ESGF/obs4MIPs system opens up new opportunities for innovativ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n effort can help foster the goal of greater interaction between the modeling, observation, and re-analysis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 number of challenges to be faced as we move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re to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CEI holdings include numerous observational datasets that are valuable for climate chang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of them are easy to fit into the current obs4MIPs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idSat-B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CN-M Station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 from NC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dded Satellite Data from ISCCP B1 Infrared Channel Brightness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lat/lon grid with 0.25° monthly resolution (0.07° 3-hourly resolution availab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ightness temperature measurement is not a “requested” variable, although modelers are interested in using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an addition to the standard output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idSat-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in the standard output t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directly connected to model vari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data sets with significantly different spatial resolutions pose a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pdate ongoing data s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idSat-B1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Historical Climate Network - Monthly Statio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ed and uncorrected observations of monthly mean, max, and min temperatures from 1701 to present for 7280 uniqu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stations varies from year to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extensive accompanying metadata for the observations to be interpre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HCN-M 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details regarding statio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ons of individual point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ons may change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ment, method, and quality at a location changes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 of location changes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turing this information requires auxiliary data (metadata) that may change slow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HCN-M 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itle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urve Header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  <Words>821</Words>
  <Paragraphs>115</Paragraphs>
  <Company>Government Employe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21:39:58Z</dcterms:created>
  <dc:creator>Deb Misch</dc:creator>
  <dc:description/>
  <dc:language>en-US</dc:language>
  <cp:lastModifiedBy>Microsoft Office User</cp:lastModifiedBy>
  <dcterms:modified xsi:type="dcterms:W3CDTF">2016-04-08T12:32:17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