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2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906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en-GB" sz="1200" spc="-1" strike="noStrike">
                <a:solidFill>
                  <a:srgbClr val="4a452a"/>
                </a:solidFill>
                <a:latin typeface="Calibri"/>
              </a:defRPr>
            </a:pPr>
            <a:r>
              <a:rPr b="0" lang="en-GB" sz="1200" spc="-1" strike="noStrike">
                <a:solidFill>
                  <a:srgbClr val="4a452a"/>
                </a:solidFill>
                <a:latin typeface="Calibri"/>
              </a:rPr>
              <a:t>Population</a:t>
            </a:r>
          </a:p>
        </c:rich>
      </c:tx>
      <c:layout>
        <c:manualLayout>
          <c:xMode val="edge"/>
          <c:yMode val="edge"/>
          <c:x val="0.383727929373997"/>
          <c:y val="0.103270223752151"/>
        </c:manualLayout>
      </c:layout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spPr>
            <a:gradFill>
              <a:gsLst>
                <a:gs pos="0">
                  <a:srgbClr val="e57314"/>
                </a:gs>
                <a:gs pos="100000">
                  <a:srgbClr val="ffa266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gradFill>
                <a:gsLst>
                  <a:gs pos="0">
                    <a:srgbClr val="a5530e"/>
                  </a:gs>
                  <a:gs pos="100000">
                    <a:srgbClr val="ca8156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1"/>
            <c:spPr>
              <a:gradFill>
                <a:gsLst>
                  <a:gs pos="0">
                    <a:srgbClr val="bd5e10"/>
                  </a:gs>
                  <a:gs pos="100000">
                    <a:srgbClr val="e38c56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2"/>
            <c:spPr>
              <a:gradFill>
                <a:gsLst>
                  <a:gs pos="0">
                    <a:srgbClr val="d36912"/>
                  </a:gs>
                  <a:gs pos="100000">
                    <a:srgbClr val="fa9556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3"/>
            <c:spPr>
              <a:gradFill>
                <a:gsLst>
                  <a:gs pos="0">
                    <a:srgbClr val="e57314"/>
                  </a:gs>
                  <a:gs pos="100000">
                    <a:srgbClr val="ffa266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4"/>
            <c:spPr>
              <a:gradFill>
                <a:gsLst>
                  <a:gs pos="0">
                    <a:srgbClr val="da8350"/>
                  </a:gs>
                  <a:gs pos="100000">
                    <a:srgbClr val="ffb68e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5"/>
            <c:spPr>
              <a:gradFill>
                <a:gsLst>
                  <a:gs pos="0">
                    <a:srgbClr val="d49474"/>
                  </a:gs>
                  <a:gs pos="100000">
                    <a:srgbClr val="ffc8ad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6"/>
            <c:spPr>
              <a:gradFill>
                <a:gsLst>
                  <a:gs pos="0">
                    <a:srgbClr val="d1a48f"/>
                  </a:gs>
                  <a:gs pos="100000">
                    <a:srgbClr val="ffd7c6"/>
                  </a:gs>
                </a:gsLst>
                <a:lin ang="16200000"/>
              </a:gra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5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6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7"/>
                <c:pt idx="0">
                  <c:v>[100%]</c:v>
                </c:pt>
                <c:pt idx="1">
                  <c:v>[90-99%]</c:v>
                </c:pt>
                <c:pt idx="2">
                  <c:v>[80-89%]</c:v>
                </c:pt>
                <c:pt idx="3">
                  <c:v>[70-79%]</c:v>
                </c:pt>
                <c:pt idx="4">
                  <c:v>[60-69%]</c:v>
                </c:pt>
                <c:pt idx="5">
                  <c:v>[50-59%]</c:v>
                </c:pt>
                <c:pt idx="6">
                  <c:v>[&lt;50%]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11</c:v>
                </c:pt>
                <c:pt idx="1">
                  <c:v>20</c:v>
                </c:pt>
                <c:pt idx="2">
                  <c:v>4</c:v>
                </c:pt>
                <c:pt idx="3">
                  <c:v>5</c:v>
                </c:pt>
                <c:pt idx="4">
                  <c:v>4</c:v>
                </c:pt>
                <c:pt idx="5">
                  <c:v>1</c:v>
                </c:pt>
                <c:pt idx="6">
                  <c:v>2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en-GB" sz="1200" spc="-1" strike="noStrike">
                <a:solidFill>
                  <a:srgbClr val="4a452a"/>
                </a:solidFill>
                <a:latin typeface="Calibri"/>
              </a:defRPr>
            </a:pPr>
            <a:r>
              <a:rPr b="0" lang="en-GB" sz="1200" spc="-1" strike="noStrike">
                <a:solidFill>
                  <a:srgbClr val="4a452a"/>
                </a:solidFill>
                <a:latin typeface="Calibri"/>
              </a:rPr>
              <a:t>Consistency</a:t>
            </a:r>
          </a:p>
        </c:rich>
      </c:tx>
      <c:layout>
        <c:manualLayout>
          <c:xMode val="edge"/>
          <c:yMode val="edge"/>
          <c:x val="0.330256706085953"/>
          <c:y val="0.0781786941580756"/>
        </c:manualLayout>
      </c:layout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spPr>
            <a:gradFill>
              <a:gsLst>
                <a:gs pos="0">
                  <a:srgbClr val="2395b4"/>
                </a:gs>
                <a:gs pos="100000">
                  <a:srgbClr val="61bedc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gradFill>
                <a:gsLst>
                  <a:gs pos="0">
                    <a:srgbClr val="1a7189"/>
                  </a:gs>
                  <a:gs pos="100000">
                    <a:srgbClr val="5e9aae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1"/>
            <c:spPr>
              <a:gradFill>
                <a:gsLst>
                  <a:gs pos="0">
                    <a:srgbClr val="1f849f"/>
                  </a:gs>
                  <a:gs pos="100000">
                    <a:srgbClr val="5faec6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2"/>
            <c:spPr>
              <a:gradFill>
                <a:gsLst>
                  <a:gs pos="0">
                    <a:srgbClr val="2395b4"/>
                  </a:gs>
                  <a:gs pos="100000">
                    <a:srgbClr val="61bedc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3"/>
            <c:spPr>
              <a:gradFill>
                <a:gsLst>
                  <a:gs pos="0">
                    <a:srgbClr val="669fb5"/>
                  </a:gs>
                  <a:gs pos="100000">
                    <a:srgbClr val="97cfe3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4"/>
            <c:spPr>
              <a:gradFill>
                <a:gsLst>
                  <a:gs pos="0">
                    <a:srgbClr val="8dacba"/>
                  </a:gs>
                  <a:gs pos="100000">
                    <a:srgbClr val="beddeb"/>
                  </a:gs>
                </a:gsLst>
                <a:lin ang="16200000"/>
              </a:gra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5"/>
                <c:pt idx="0">
                  <c:v>Fully</c:v>
                </c:pt>
                <c:pt idx="1">
                  <c:v>Mostly</c:v>
                </c:pt>
                <c:pt idx="2">
                  <c:v>Partially</c:v>
                </c:pt>
                <c:pt idx="3">
                  <c:v>Barely</c:v>
                </c:pt>
                <c:pt idx="4">
                  <c:v>Non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2</c:v>
                </c:pt>
                <c:pt idx="1">
                  <c:v>14</c:v>
                </c:pt>
                <c:pt idx="2">
                  <c:v>5</c:v>
                </c:pt>
                <c:pt idx="3">
                  <c:v>1</c:v>
                </c:pt>
                <c:pt idx="4">
                  <c:v>7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en-US" sz="1679" spc="-1" strike="noStrike">
                <a:solidFill>
                  <a:srgbClr val="000000"/>
                </a:solidFill>
                <a:latin typeface="Calibri"/>
              </a:defRPr>
            </a:pPr>
            <a:r>
              <a:rPr b="0" lang="en-US" sz="1679" spc="-1" strike="noStrike">
                <a:solidFill>
                  <a:srgbClr val="000000"/>
                </a:solidFill>
                <a:latin typeface="Calibri"/>
              </a:rPr>
              <a:t>Usability</a:t>
            </a:r>
          </a:p>
        </c:rich>
      </c:tx>
      <c:layout>
        <c:manualLayout>
          <c:xMode val="edge"/>
          <c:yMode val="edge"/>
          <c:x val="0.42748717948718"/>
          <c:y val="0.0521947805219478"/>
        </c:manualLayout>
      </c:layout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spPr>
            <a:gradFill>
              <a:gsLst>
                <a:gs pos="0">
                  <a:srgbClr val="81a633"/>
                </a:gs>
                <a:gs pos="100000">
                  <a:srgbClr val="acd06b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gradFill>
                <a:gsLst>
                  <a:gs pos="0">
                    <a:srgbClr val="658228"/>
                  </a:gs>
                  <a:gs pos="100000">
                    <a:srgbClr val="91ab65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1"/>
            <c:spPr>
              <a:gradFill>
                <a:gsLst>
                  <a:gs pos="0">
                    <a:srgbClr val="789c2f"/>
                  </a:gs>
                  <a:gs pos="100000">
                    <a:srgbClr val="a3c569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2"/>
            <c:spPr>
              <a:gradFill>
                <a:gsLst>
                  <a:gs pos="0">
                    <a:srgbClr val="8ba95a"/>
                  </a:gs>
                  <a:gs pos="100000">
                    <a:srgbClr val="b9d68b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3"/>
            <c:spPr>
              <a:gradFill>
                <a:gsLst>
                  <a:gs pos="0">
                    <a:srgbClr val="a1b389"/>
                  </a:gs>
                  <a:gs pos="100000">
                    <a:srgbClr val="d2e3ba"/>
                  </a:gs>
                </a:gsLst>
                <a:lin ang="16200000"/>
              </a:gra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Excellent</c:v>
                </c:pt>
                <c:pt idx="1">
                  <c:v>Good</c:v>
                </c:pt>
                <c:pt idx="2">
                  <c:v>Satisfactory</c:v>
                </c:pt>
                <c:pt idx="3">
                  <c:v>Unsatisfactory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1</c:v>
                </c:pt>
                <c:pt idx="1">
                  <c:v>19</c:v>
                </c:pt>
                <c:pt idx="2">
                  <c:v>10</c:v>
                </c:pt>
                <c:pt idx="3">
                  <c:v>29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E5C0CA6-2604-054F-B881-403D65A0527D}" type="doc">
      <dgm:prSet loTypeId="urn:microsoft.com/office/officeart/2005/8/layout/cycle1" loCatId="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B79DA9FB-B635-E34F-86A6-68615CD0F2BA}">
      <dgm:prSet phldrT="[Text]"/>
      <dgm:spPr>
        <a:xfrm>
          <a:off x="4830469" y="129598"/>
          <a:ext cx="2051372" cy="2051372"/>
        </a:xfrm>
        <a:noFill/>
        <a:ln>
          <a:noFill/>
        </a:ln>
        <a:effectLst/>
      </dgm:spPr>
      <dgm:t>
        <a:bodyPr/>
        <a:lstStyle/>
        <a:p>
          <a:r>
            <a:rPr lang="en-US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ECV Inventory</a:t>
          </a:r>
          <a:endParaRPr lang="en-US" dirty="0">
            <a:solidFill>
              <a:srgbClr val="000000">
                <a:hueOff val="0"/>
                <a:satOff val="0"/>
                <a:lumOff val="0"/>
                <a:alphaOff val="0"/>
              </a:srgbClr>
            </a:solidFill>
            <a:latin typeface="Arial"/>
            <a:ea typeface="+mn-ea"/>
            <a:cs typeface="+mn-cs"/>
          </a:endParaRPr>
        </a:p>
      </dgm:t>
    </dgm:pt>
    <dgm:pt modelId="{552CB162-2DAF-874A-B41B-E747633C7EB2}" type="parTrans" cxnId="{BC3C0EC5-9C85-AA42-9296-93ED3CB1E6EB}">
      <dgm:prSet/>
      <dgm:spPr/>
      <dgm:t>
        <a:bodyPr/>
        <a:lstStyle/>
        <a:p>
          <a:endParaRPr lang="en-US"/>
        </a:p>
      </dgm:t>
    </dgm:pt>
    <dgm:pt modelId="{49BC2B89-B246-EA41-9109-9664F29D7F4F}" type="sibTrans" cxnId="{BC3C0EC5-9C85-AA42-9296-93ED3CB1E6EB}">
      <dgm:prSet/>
      <dgm:spPr>
        <a:xfrm>
          <a:off x="1218799" y="639"/>
          <a:ext cx="5792001" cy="5792001"/>
        </a:xfr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n-US"/>
        </a:p>
      </dgm:t>
    </dgm:pt>
    <dgm:pt modelId="{E2C7B313-FF2A-EF4A-8A88-7916812C9956}">
      <dgm:prSet phldrT="[Text]"/>
      <dgm:spPr>
        <a:xfrm>
          <a:off x="4830469" y="3612309"/>
          <a:ext cx="2051372" cy="2051372"/>
        </a:xfrm>
        <a:noFill/>
        <a:ln>
          <a:noFill/>
        </a:ln>
        <a:effectLst/>
      </dgm:spPr>
      <dgm:t>
        <a:bodyPr/>
        <a:lstStyle/>
        <a:p>
          <a:r>
            <a:rPr lang="en-US" dirty="0" smtClean="0">
              <a:solidFill>
                <a:schemeClr val="tx1"/>
              </a:solidFill>
              <a:latin typeface="Arial"/>
              <a:ea typeface="+mn-ea"/>
              <a:cs typeface="+mn-cs"/>
            </a:rPr>
            <a:t>Reference Assessment Process</a:t>
          </a:r>
          <a:endParaRPr lang="en-US" dirty="0">
            <a:solidFill>
              <a:schemeClr val="tx1"/>
            </a:solidFill>
            <a:latin typeface="Arial"/>
            <a:ea typeface="+mn-ea"/>
            <a:cs typeface="+mn-cs"/>
          </a:endParaRPr>
        </a:p>
      </dgm:t>
    </dgm:pt>
    <dgm:pt modelId="{B2A02F98-1DB8-D447-8FDF-C803C6BD3EEA}" type="parTrans" cxnId="{2687673A-096E-FA4C-B7E4-CCE2FAB9560A}">
      <dgm:prSet/>
      <dgm:spPr/>
      <dgm:t>
        <a:bodyPr/>
        <a:lstStyle/>
        <a:p>
          <a:endParaRPr lang="en-US"/>
        </a:p>
      </dgm:t>
    </dgm:pt>
    <dgm:pt modelId="{FA13B08E-10D5-364E-830F-5B60281BC7F3}" type="sibTrans" cxnId="{2687673A-096E-FA4C-B7E4-CCE2FAB9560A}">
      <dgm:prSet/>
      <dgm:spPr>
        <a:xfrm>
          <a:off x="1279455" y="-16936"/>
          <a:ext cx="5792001" cy="5792001"/>
        </a:xfr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n-US"/>
        </a:p>
      </dgm:t>
    </dgm:pt>
    <dgm:pt modelId="{5ED73F3B-50FD-7246-A469-1BBCE271FDEE}">
      <dgm:prSet phldrT="[Text]"/>
      <dgm:spPr>
        <a:xfrm>
          <a:off x="1292051" y="3500916"/>
          <a:ext cx="2051372" cy="2051372"/>
        </a:xfrm>
        <a:noFill/>
        <a:ln>
          <a:noFill/>
        </a:ln>
        <a:effectLst/>
      </dgm:spPr>
      <dgm:t>
        <a:bodyPr/>
        <a:lstStyle/>
        <a:p>
          <a:r>
            <a:rPr lang="en-US" dirty="0" smtClean="0">
              <a:solidFill>
                <a:schemeClr val="tx1"/>
              </a:solidFill>
              <a:latin typeface="Arial"/>
              <a:ea typeface="+mn-ea"/>
              <a:cs typeface="+mn-cs"/>
            </a:rPr>
            <a:t>Gap Analysis &amp; Recommendation</a:t>
          </a:r>
          <a:endParaRPr lang="en-US" dirty="0">
            <a:solidFill>
              <a:srgbClr val="000000">
                <a:hueOff val="0"/>
                <a:satOff val="0"/>
                <a:lumOff val="0"/>
                <a:alphaOff val="0"/>
              </a:srgbClr>
            </a:solidFill>
            <a:latin typeface="Arial"/>
            <a:ea typeface="+mn-ea"/>
            <a:cs typeface="+mn-cs"/>
          </a:endParaRPr>
        </a:p>
      </dgm:t>
    </dgm:pt>
    <dgm:pt modelId="{9E6E9639-E943-DE4D-A2F2-ADE192F57F2E}" type="parTrans" cxnId="{1FA3D9F6-8514-3149-8536-D9BD6143B4AC}">
      <dgm:prSet/>
      <dgm:spPr/>
      <dgm:t>
        <a:bodyPr/>
        <a:lstStyle/>
        <a:p>
          <a:endParaRPr lang="en-US"/>
        </a:p>
      </dgm:t>
    </dgm:pt>
    <dgm:pt modelId="{46826CA8-97BC-B04D-AC12-128384DAFC0E}" type="sibTrans" cxnId="{1FA3D9F6-8514-3149-8536-D9BD6143B4AC}">
      <dgm:prSet/>
      <dgm:spPr>
        <a:xfrm>
          <a:off x="1238303" y="-67046"/>
          <a:ext cx="5792001" cy="5792001"/>
        </a:xfr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n-US"/>
        </a:p>
      </dgm:t>
    </dgm:pt>
    <dgm:pt modelId="{10452CAF-593F-DA4F-8A5A-A2380C4C4E5C}">
      <dgm:prSet phldrT="[Text]"/>
      <dgm:spPr>
        <a:xfrm>
          <a:off x="1347758" y="129598"/>
          <a:ext cx="2051372" cy="2051372"/>
        </a:xfrm>
        <a:noFill/>
        <a:ln>
          <a:noFill/>
        </a:ln>
        <a:effectLst/>
      </dgm:spPr>
      <dgm:t>
        <a:bodyPr/>
        <a:lstStyle/>
        <a:p>
          <a:r>
            <a:rPr lang="en-US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Action Plan</a:t>
          </a:r>
        </a:p>
        <a:p>
          <a:r>
            <a:rPr lang="en-US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Creation of conditions to </a:t>
          </a:r>
          <a:r>
            <a:rPr lang="en-US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fulfill </a:t>
          </a:r>
          <a:r>
            <a:rPr lang="en-US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GCOS requirements</a:t>
          </a:r>
        </a:p>
      </dgm:t>
    </dgm:pt>
    <dgm:pt modelId="{29D276FF-577E-9340-9341-E6DC4330440B}" type="parTrans" cxnId="{913EB234-48E2-C84E-944D-C36CEA8A5FDF}">
      <dgm:prSet/>
      <dgm:spPr/>
      <dgm:t>
        <a:bodyPr/>
        <a:lstStyle/>
        <a:p>
          <a:endParaRPr lang="en-US"/>
        </a:p>
      </dgm:t>
    </dgm:pt>
    <dgm:pt modelId="{94DBE24B-EAFE-5043-94E5-FA8FA200D0CC}" type="sibTrans" cxnId="{913EB234-48E2-C84E-944D-C36CEA8A5FDF}">
      <dgm:prSet/>
      <dgm:spPr>
        <a:xfrm>
          <a:off x="1218799" y="-58497"/>
          <a:ext cx="5792001" cy="5792001"/>
        </a:xfr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n-US"/>
        </a:p>
      </dgm:t>
    </dgm:pt>
    <dgm:pt modelId="{1175232F-A3D6-F94F-AEBC-D89E03DEBC31}" type="pres">
      <dgm:prSet presAssocID="{0E5C0CA6-2604-054F-B881-403D65A0527D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245D103A-43BB-7D4C-9F39-B62B944EF305}" type="pres">
      <dgm:prSet presAssocID="{B79DA9FB-B635-E34F-86A6-68615CD0F2BA}" presName="dummy" presStyleCnt="0"/>
      <dgm:spPr/>
    </dgm:pt>
    <dgm:pt modelId="{D74F7E72-F0FD-8849-8044-C721D96E0844}" type="pres">
      <dgm:prSet presAssocID="{B79DA9FB-B635-E34F-86A6-68615CD0F2BA}" presName="node" presStyleLbl="revTx" presStyleIdx="0" presStyleCnt="4">
        <dgm:presLayoutVars>
          <dgm:bulletEnabled val="1"/>
        </dgm:presLayoutVars>
      </dgm:prSet>
      <dgm:spPr>
        <a:prstGeom prst="rect">
          <a:avLst/>
        </a:prstGeom>
      </dgm:spPr>
      <dgm:t>
        <a:bodyPr/>
        <a:lstStyle/>
        <a:p>
          <a:endParaRPr lang="en-US"/>
        </a:p>
      </dgm:t>
    </dgm:pt>
    <dgm:pt modelId="{071209F2-7290-6141-9504-B4550094A8FB}" type="pres">
      <dgm:prSet presAssocID="{49BC2B89-B246-EA41-9109-9664F29D7F4F}" presName="sibTrans" presStyleLbl="node1" presStyleIdx="0" presStyleCnt="4"/>
      <dgm:spPr>
        <a:prstGeom prst="circularArrow">
          <a:avLst>
            <a:gd name="adj1" fmla="val 6906"/>
            <a:gd name="adj2" fmla="val 465695"/>
            <a:gd name="adj3" fmla="val 547972"/>
            <a:gd name="adj4" fmla="val 20586333"/>
            <a:gd name="adj5" fmla="val 8057"/>
          </a:avLst>
        </a:prstGeom>
      </dgm:spPr>
      <dgm:t>
        <a:bodyPr/>
        <a:lstStyle/>
        <a:p>
          <a:endParaRPr lang="en-US"/>
        </a:p>
      </dgm:t>
    </dgm:pt>
    <dgm:pt modelId="{B015DCE8-2186-0C47-8464-750E16CCDE88}" type="pres">
      <dgm:prSet presAssocID="{E2C7B313-FF2A-EF4A-8A88-7916812C9956}" presName="dummy" presStyleCnt="0"/>
      <dgm:spPr/>
    </dgm:pt>
    <dgm:pt modelId="{1A662AE3-A963-5B4E-AD1E-CD11E9B6271A}" type="pres">
      <dgm:prSet presAssocID="{E2C7B313-FF2A-EF4A-8A88-7916812C9956}" presName="node" presStyleLbl="revTx" presStyleIdx="1" presStyleCnt="4">
        <dgm:presLayoutVars>
          <dgm:bulletEnabled val="1"/>
        </dgm:presLayoutVars>
      </dgm:prSet>
      <dgm:spPr>
        <a:prstGeom prst="rect">
          <a:avLst/>
        </a:prstGeom>
      </dgm:spPr>
      <dgm:t>
        <a:bodyPr/>
        <a:lstStyle/>
        <a:p>
          <a:endParaRPr lang="en-US"/>
        </a:p>
      </dgm:t>
    </dgm:pt>
    <dgm:pt modelId="{241F3594-1DB6-164C-ACAC-EEDDEF88B3BB}" type="pres">
      <dgm:prSet presAssocID="{FA13B08E-10D5-364E-830F-5B60281BC7F3}" presName="sibTrans" presStyleLbl="node1" presStyleIdx="1" presStyleCnt="4"/>
      <dgm:spPr>
        <a:prstGeom prst="circularArrow">
          <a:avLst>
            <a:gd name="adj1" fmla="val 6906"/>
            <a:gd name="adj2" fmla="val 465695"/>
            <a:gd name="adj3" fmla="val 6119101"/>
            <a:gd name="adj4" fmla="val 4474491"/>
            <a:gd name="adj5" fmla="val 8057"/>
          </a:avLst>
        </a:prstGeom>
      </dgm:spPr>
      <dgm:t>
        <a:bodyPr/>
        <a:lstStyle/>
        <a:p>
          <a:endParaRPr lang="en-US"/>
        </a:p>
      </dgm:t>
    </dgm:pt>
    <dgm:pt modelId="{B9A01B3B-D566-D843-A601-2D8745000DF9}" type="pres">
      <dgm:prSet presAssocID="{5ED73F3B-50FD-7246-A469-1BBCE271FDEE}" presName="dummy" presStyleCnt="0"/>
      <dgm:spPr/>
    </dgm:pt>
    <dgm:pt modelId="{1F15B2D8-CBB0-0145-A1B8-E6F6BE971529}" type="pres">
      <dgm:prSet presAssocID="{5ED73F3B-50FD-7246-A469-1BBCE271FDEE}" presName="node" presStyleLbl="revTx" presStyleIdx="2" presStyleCnt="4" custRadScaleRad="98518" custRadScaleInc="9305">
        <dgm:presLayoutVars>
          <dgm:bulletEnabled val="1"/>
        </dgm:presLayoutVars>
      </dgm:prSet>
      <dgm:spPr>
        <a:prstGeom prst="rect">
          <a:avLst/>
        </a:prstGeom>
      </dgm:spPr>
      <dgm:t>
        <a:bodyPr/>
        <a:lstStyle/>
        <a:p>
          <a:endParaRPr lang="en-US"/>
        </a:p>
      </dgm:t>
    </dgm:pt>
    <dgm:pt modelId="{BD261BBB-B6D4-5E44-948C-2A2B34997C41}" type="pres">
      <dgm:prSet presAssocID="{46826CA8-97BC-B04D-AC12-128384DAFC0E}" presName="sibTrans" presStyleLbl="node1" presStyleIdx="2" presStyleCnt="4"/>
      <dgm:spPr>
        <a:prstGeom prst="circularArrow">
          <a:avLst>
            <a:gd name="adj1" fmla="val 6906"/>
            <a:gd name="adj2" fmla="val 465695"/>
            <a:gd name="adj3" fmla="val 11249637"/>
            <a:gd name="adj4" fmla="val 9849922"/>
            <a:gd name="adj5" fmla="val 8057"/>
          </a:avLst>
        </a:prstGeom>
      </dgm:spPr>
      <dgm:t>
        <a:bodyPr/>
        <a:lstStyle/>
        <a:p>
          <a:endParaRPr lang="en-US"/>
        </a:p>
      </dgm:t>
    </dgm:pt>
    <dgm:pt modelId="{2CB39A90-BFCA-DE41-BE89-ED9167A9567E}" type="pres">
      <dgm:prSet presAssocID="{10452CAF-593F-DA4F-8A5A-A2380C4C4E5C}" presName="dummy" presStyleCnt="0"/>
      <dgm:spPr/>
    </dgm:pt>
    <dgm:pt modelId="{B9B5FCFE-5934-BE47-A670-8A8095B372C9}" type="pres">
      <dgm:prSet presAssocID="{10452CAF-593F-DA4F-8A5A-A2380C4C4E5C}" presName="node" presStyleLbl="revTx" presStyleIdx="3" presStyleCnt="4">
        <dgm:presLayoutVars>
          <dgm:bulletEnabled val="1"/>
        </dgm:presLayoutVars>
      </dgm:prSet>
      <dgm:spPr>
        <a:prstGeom prst="rect">
          <a:avLst/>
        </a:prstGeom>
      </dgm:spPr>
      <dgm:t>
        <a:bodyPr/>
        <a:lstStyle/>
        <a:p>
          <a:endParaRPr lang="en-US"/>
        </a:p>
      </dgm:t>
    </dgm:pt>
    <dgm:pt modelId="{A794E433-BFEF-464D-9E12-10D8C84B41F5}" type="pres">
      <dgm:prSet presAssocID="{94DBE24B-EAFE-5043-94E5-FA8FA200D0CC}" presName="sibTrans" presStyleLbl="node1" presStyleIdx="3" presStyleCnt="4" custLinFactNeighborY="-1021"/>
      <dgm:spPr>
        <a:prstGeom prst="circularArrow">
          <a:avLst>
            <a:gd name="adj1" fmla="val 6906"/>
            <a:gd name="adj2" fmla="val 465695"/>
            <a:gd name="adj3" fmla="val 16747972"/>
            <a:gd name="adj4" fmla="val 15186333"/>
            <a:gd name="adj5" fmla="val 8057"/>
          </a:avLst>
        </a:prstGeom>
      </dgm:spPr>
      <dgm:t>
        <a:bodyPr/>
        <a:lstStyle/>
        <a:p>
          <a:endParaRPr lang="en-US"/>
        </a:p>
      </dgm:t>
    </dgm:pt>
  </dgm:ptLst>
  <dgm:cxnLst>
    <dgm:cxn modelId="{41EEC726-4832-4DBB-BF91-AEE7EC0163D6}" type="presOf" srcId="{49BC2B89-B246-EA41-9109-9664F29D7F4F}" destId="{071209F2-7290-6141-9504-B4550094A8FB}" srcOrd="0" destOrd="0" presId="urn:microsoft.com/office/officeart/2005/8/layout/cycle1"/>
    <dgm:cxn modelId="{628F2F16-18DF-493F-9363-7388C61999C3}" type="presOf" srcId="{94DBE24B-EAFE-5043-94E5-FA8FA200D0CC}" destId="{A794E433-BFEF-464D-9E12-10D8C84B41F5}" srcOrd="0" destOrd="0" presId="urn:microsoft.com/office/officeart/2005/8/layout/cycle1"/>
    <dgm:cxn modelId="{3FF32299-E61A-4A93-A73C-D4C9288DE5E8}" type="presOf" srcId="{46826CA8-97BC-B04D-AC12-128384DAFC0E}" destId="{BD261BBB-B6D4-5E44-948C-2A2B34997C41}" srcOrd="0" destOrd="0" presId="urn:microsoft.com/office/officeart/2005/8/layout/cycle1"/>
    <dgm:cxn modelId="{1FA3D9F6-8514-3149-8536-D9BD6143B4AC}" srcId="{0E5C0CA6-2604-054F-B881-403D65A0527D}" destId="{5ED73F3B-50FD-7246-A469-1BBCE271FDEE}" srcOrd="2" destOrd="0" parTransId="{9E6E9639-E943-DE4D-A2F2-ADE192F57F2E}" sibTransId="{46826CA8-97BC-B04D-AC12-128384DAFC0E}"/>
    <dgm:cxn modelId="{587E6F47-E3B2-4F33-BC93-91308399BB61}" type="presOf" srcId="{0E5C0CA6-2604-054F-B881-403D65A0527D}" destId="{1175232F-A3D6-F94F-AEBC-D89E03DEBC31}" srcOrd="0" destOrd="0" presId="urn:microsoft.com/office/officeart/2005/8/layout/cycle1"/>
    <dgm:cxn modelId="{DC4911EC-0882-4369-A715-7A8A6553D1C6}" type="presOf" srcId="{B79DA9FB-B635-E34F-86A6-68615CD0F2BA}" destId="{D74F7E72-F0FD-8849-8044-C721D96E0844}" srcOrd="0" destOrd="0" presId="urn:microsoft.com/office/officeart/2005/8/layout/cycle1"/>
    <dgm:cxn modelId="{2687673A-096E-FA4C-B7E4-CCE2FAB9560A}" srcId="{0E5C0CA6-2604-054F-B881-403D65A0527D}" destId="{E2C7B313-FF2A-EF4A-8A88-7916812C9956}" srcOrd="1" destOrd="0" parTransId="{B2A02F98-1DB8-D447-8FDF-C803C6BD3EEA}" sibTransId="{FA13B08E-10D5-364E-830F-5B60281BC7F3}"/>
    <dgm:cxn modelId="{E34389E3-8D1E-482F-9C05-220B6017544B}" type="presOf" srcId="{FA13B08E-10D5-364E-830F-5B60281BC7F3}" destId="{241F3594-1DB6-164C-ACAC-EEDDEF88B3BB}" srcOrd="0" destOrd="0" presId="urn:microsoft.com/office/officeart/2005/8/layout/cycle1"/>
    <dgm:cxn modelId="{BC3C0EC5-9C85-AA42-9296-93ED3CB1E6EB}" srcId="{0E5C0CA6-2604-054F-B881-403D65A0527D}" destId="{B79DA9FB-B635-E34F-86A6-68615CD0F2BA}" srcOrd="0" destOrd="0" parTransId="{552CB162-2DAF-874A-B41B-E747633C7EB2}" sibTransId="{49BC2B89-B246-EA41-9109-9664F29D7F4F}"/>
    <dgm:cxn modelId="{7E8B4BF2-FDA8-466B-9F49-AA4EA3E266ED}" type="presOf" srcId="{5ED73F3B-50FD-7246-A469-1BBCE271FDEE}" destId="{1F15B2D8-CBB0-0145-A1B8-E6F6BE971529}" srcOrd="0" destOrd="0" presId="urn:microsoft.com/office/officeart/2005/8/layout/cycle1"/>
    <dgm:cxn modelId="{A4E5D784-1F55-4E9B-8F39-6676EF509019}" type="presOf" srcId="{10452CAF-593F-DA4F-8A5A-A2380C4C4E5C}" destId="{B9B5FCFE-5934-BE47-A670-8A8095B372C9}" srcOrd="0" destOrd="0" presId="urn:microsoft.com/office/officeart/2005/8/layout/cycle1"/>
    <dgm:cxn modelId="{913EB234-48E2-C84E-944D-C36CEA8A5FDF}" srcId="{0E5C0CA6-2604-054F-B881-403D65A0527D}" destId="{10452CAF-593F-DA4F-8A5A-A2380C4C4E5C}" srcOrd="3" destOrd="0" parTransId="{29D276FF-577E-9340-9341-E6DC4330440B}" sibTransId="{94DBE24B-EAFE-5043-94E5-FA8FA200D0CC}"/>
    <dgm:cxn modelId="{BD5B204C-5EA9-4101-93CB-7D11AD35CC91}" type="presOf" srcId="{E2C7B313-FF2A-EF4A-8A88-7916812C9956}" destId="{1A662AE3-A963-5B4E-AD1E-CD11E9B6271A}" srcOrd="0" destOrd="0" presId="urn:microsoft.com/office/officeart/2005/8/layout/cycle1"/>
    <dgm:cxn modelId="{EB0D2503-3F8A-4518-84FC-7DCE3538374B}" type="presParOf" srcId="{1175232F-A3D6-F94F-AEBC-D89E03DEBC31}" destId="{245D103A-43BB-7D4C-9F39-B62B944EF305}" srcOrd="0" destOrd="0" presId="urn:microsoft.com/office/officeart/2005/8/layout/cycle1"/>
    <dgm:cxn modelId="{A68E8B06-A938-4242-BF95-6FD49B4BB77A}" type="presParOf" srcId="{1175232F-A3D6-F94F-AEBC-D89E03DEBC31}" destId="{D74F7E72-F0FD-8849-8044-C721D96E0844}" srcOrd="1" destOrd="0" presId="urn:microsoft.com/office/officeart/2005/8/layout/cycle1"/>
    <dgm:cxn modelId="{94C60B40-F674-4805-B465-F90E52730B6E}" type="presParOf" srcId="{1175232F-A3D6-F94F-AEBC-D89E03DEBC31}" destId="{071209F2-7290-6141-9504-B4550094A8FB}" srcOrd="2" destOrd="0" presId="urn:microsoft.com/office/officeart/2005/8/layout/cycle1"/>
    <dgm:cxn modelId="{23005CF6-61F7-47EA-9F14-1115E850CBF8}" type="presParOf" srcId="{1175232F-A3D6-F94F-AEBC-D89E03DEBC31}" destId="{B015DCE8-2186-0C47-8464-750E16CCDE88}" srcOrd="3" destOrd="0" presId="urn:microsoft.com/office/officeart/2005/8/layout/cycle1"/>
    <dgm:cxn modelId="{D58F07D4-5A02-4C2E-B8BF-2E5E73B5EF4C}" type="presParOf" srcId="{1175232F-A3D6-F94F-AEBC-D89E03DEBC31}" destId="{1A662AE3-A963-5B4E-AD1E-CD11E9B6271A}" srcOrd="4" destOrd="0" presId="urn:microsoft.com/office/officeart/2005/8/layout/cycle1"/>
    <dgm:cxn modelId="{9AB7A925-4D5A-4A75-A284-63F9DF056E90}" type="presParOf" srcId="{1175232F-A3D6-F94F-AEBC-D89E03DEBC31}" destId="{241F3594-1DB6-164C-ACAC-EEDDEF88B3BB}" srcOrd="5" destOrd="0" presId="urn:microsoft.com/office/officeart/2005/8/layout/cycle1"/>
    <dgm:cxn modelId="{07B6F12D-0C1E-4AEF-B0BB-527C359E6157}" type="presParOf" srcId="{1175232F-A3D6-F94F-AEBC-D89E03DEBC31}" destId="{B9A01B3B-D566-D843-A601-2D8745000DF9}" srcOrd="6" destOrd="0" presId="urn:microsoft.com/office/officeart/2005/8/layout/cycle1"/>
    <dgm:cxn modelId="{E857FA34-F1DE-4D29-B9AA-69E5AAB03D52}" type="presParOf" srcId="{1175232F-A3D6-F94F-AEBC-D89E03DEBC31}" destId="{1F15B2D8-CBB0-0145-A1B8-E6F6BE971529}" srcOrd="7" destOrd="0" presId="urn:microsoft.com/office/officeart/2005/8/layout/cycle1"/>
    <dgm:cxn modelId="{E74B9338-D753-472E-8D5B-892E965DAD16}" type="presParOf" srcId="{1175232F-A3D6-F94F-AEBC-D89E03DEBC31}" destId="{BD261BBB-B6D4-5E44-948C-2A2B34997C41}" srcOrd="8" destOrd="0" presId="urn:microsoft.com/office/officeart/2005/8/layout/cycle1"/>
    <dgm:cxn modelId="{F520512D-153C-49CD-A381-E369FC429703}" type="presParOf" srcId="{1175232F-A3D6-F94F-AEBC-D89E03DEBC31}" destId="{2CB39A90-BFCA-DE41-BE89-ED9167A9567E}" srcOrd="9" destOrd="0" presId="urn:microsoft.com/office/officeart/2005/8/layout/cycle1"/>
    <dgm:cxn modelId="{3EE0ED8A-7C55-4171-94BE-30CCB4E542B9}" type="presParOf" srcId="{1175232F-A3D6-F94F-AEBC-D89E03DEBC31}" destId="{B9B5FCFE-5934-BE47-A670-8A8095B372C9}" srcOrd="10" destOrd="0" presId="urn:microsoft.com/office/officeart/2005/8/layout/cycle1"/>
    <dgm:cxn modelId="{7041CF7F-517E-46AB-840B-8B3040D4CEC7}" type="presParOf" srcId="{1175232F-A3D6-F94F-AEBC-D89E03DEBC31}" destId="{A794E433-BFEF-464D-9E12-10D8C84B41F5}" srcOrd="11" destOrd="0" presId="urn:microsoft.com/office/officeart/2005/8/layout/cycle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8172365-98B9-4E75-9BBA-77770D8A1086}" type="doc">
      <dgm:prSet loTypeId="urn:microsoft.com/office/officeart/2005/8/layout/process3" loCatId="process" qsTypeId="urn:microsoft.com/office/officeart/2005/8/quickstyle/simple4" qsCatId="simple" csTypeId="urn:microsoft.com/office/officeart/2005/8/colors/colorful2" csCatId="colorful" phldr="1"/>
      <dgm:spPr/>
      <dgm:t>
        <a:bodyPr/>
        <a:lstStyle/>
        <a:p>
          <a:endParaRPr lang="en-GB"/>
        </a:p>
      </dgm:t>
    </dgm:pt>
    <dgm:pt modelId="{0227238B-107C-4075-8644-1E223EAD842E}">
      <dgm:prSet phldrT="[Text]"/>
      <dgm:spPr/>
      <dgm:t>
        <a:bodyPr/>
        <a:lstStyle/>
        <a:p>
          <a:r>
            <a:rPr lang="en-US" dirty="0" smtClean="0"/>
            <a:t>Preparation</a:t>
          </a:r>
          <a:endParaRPr lang="en-GB" dirty="0"/>
        </a:p>
      </dgm:t>
    </dgm:pt>
    <dgm:pt modelId="{01A6B9A3-3FCF-40AD-9D7A-3A777423535F}" type="parTrans" cxnId="{958401A8-8A77-4D85-9F73-B2369C48449D}">
      <dgm:prSet/>
      <dgm:spPr/>
      <dgm:t>
        <a:bodyPr/>
        <a:lstStyle/>
        <a:p>
          <a:endParaRPr lang="en-GB"/>
        </a:p>
      </dgm:t>
    </dgm:pt>
    <dgm:pt modelId="{D16D3BDD-A210-4B35-A8A1-369356C3BFF5}" type="sibTrans" cxnId="{958401A8-8A77-4D85-9F73-B2369C48449D}">
      <dgm:prSet/>
      <dgm:spPr/>
      <dgm:t>
        <a:bodyPr/>
        <a:lstStyle/>
        <a:p>
          <a:endParaRPr lang="en-GB"/>
        </a:p>
      </dgm:t>
    </dgm:pt>
    <dgm:pt modelId="{F427CF8F-7F25-4C48-9A40-C2118D02E383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Contact with Data Providers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600FE4A9-7AD5-4D09-BB38-5C9A82B9A9EC}" type="parTrans" cxnId="{70C0E8DD-9A31-4D2A-95C1-674439C7BF40}">
      <dgm:prSet/>
      <dgm:spPr/>
      <dgm:t>
        <a:bodyPr/>
        <a:lstStyle/>
        <a:p>
          <a:endParaRPr lang="en-GB"/>
        </a:p>
      </dgm:t>
    </dgm:pt>
    <dgm:pt modelId="{FE251A94-C5B2-46DE-9DE4-78C177002450}" type="sibTrans" cxnId="{70C0E8DD-9A31-4D2A-95C1-674439C7BF40}">
      <dgm:prSet/>
      <dgm:spPr/>
      <dgm:t>
        <a:bodyPr/>
        <a:lstStyle/>
        <a:p>
          <a:endParaRPr lang="en-GB"/>
        </a:p>
      </dgm:t>
    </dgm:pt>
    <dgm:pt modelId="{44FA7E0C-87B8-4B37-A292-218BE5446D71}">
      <dgm:prSet phldrT="[Text]"/>
      <dgm:spPr/>
      <dgm:t>
        <a:bodyPr/>
        <a:lstStyle/>
        <a:p>
          <a:r>
            <a:rPr lang="en-US" dirty="0" smtClean="0"/>
            <a:t>Collection</a:t>
          </a:r>
          <a:endParaRPr lang="en-GB" dirty="0"/>
        </a:p>
      </dgm:t>
    </dgm:pt>
    <dgm:pt modelId="{7746C048-DEE1-4321-BCE3-9319FAA41DAB}" type="parTrans" cxnId="{EE8330ED-5298-4860-8A80-91B5C37EAB7E}">
      <dgm:prSet/>
      <dgm:spPr/>
      <dgm:t>
        <a:bodyPr/>
        <a:lstStyle/>
        <a:p>
          <a:endParaRPr lang="en-GB"/>
        </a:p>
      </dgm:t>
    </dgm:pt>
    <dgm:pt modelId="{1FBA391B-97E0-479E-A5C8-40EE3473EF0B}" type="sibTrans" cxnId="{EE8330ED-5298-4860-8A80-91B5C37EAB7E}">
      <dgm:prSet/>
      <dgm:spPr/>
      <dgm:t>
        <a:bodyPr/>
        <a:lstStyle/>
        <a:p>
          <a:endParaRPr lang="en-GB"/>
        </a:p>
      </dgm:t>
    </dgm:pt>
    <dgm:pt modelId="{DA925533-52B6-4A5F-B5B2-77F2E92392AC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Input of data into ECV Inventory (response to questionnaire through web interface)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01590766-F6E6-4A99-9F0D-3DAB41F099C5}" type="parTrans" cxnId="{6C4F7F8E-420E-44D2-96E1-E631479946D3}">
      <dgm:prSet/>
      <dgm:spPr/>
      <dgm:t>
        <a:bodyPr/>
        <a:lstStyle/>
        <a:p>
          <a:endParaRPr lang="en-GB"/>
        </a:p>
      </dgm:t>
    </dgm:pt>
    <dgm:pt modelId="{E02CFDF2-4A5E-4A24-9A10-5C39535C2067}" type="sibTrans" cxnId="{6C4F7F8E-420E-44D2-96E1-E631479946D3}">
      <dgm:prSet/>
      <dgm:spPr/>
      <dgm:t>
        <a:bodyPr/>
        <a:lstStyle/>
        <a:p>
          <a:endParaRPr lang="en-GB"/>
        </a:p>
      </dgm:t>
    </dgm:pt>
    <dgm:pt modelId="{3D7813E7-F86B-4199-9E3D-323F1AEFECC6}">
      <dgm:prSet phldrT="[Text]"/>
      <dgm:spPr/>
      <dgm:t>
        <a:bodyPr/>
        <a:lstStyle/>
        <a:p>
          <a:r>
            <a:rPr lang="en-US" dirty="0" smtClean="0"/>
            <a:t>Verification</a:t>
          </a:r>
          <a:endParaRPr lang="en-GB" dirty="0"/>
        </a:p>
      </dgm:t>
    </dgm:pt>
    <dgm:pt modelId="{404D1D34-6A60-4C5F-9717-4076A925C41A}" type="parTrans" cxnId="{8D70FB26-61E4-455E-9ED2-B13AF4AE425E}">
      <dgm:prSet/>
      <dgm:spPr/>
      <dgm:t>
        <a:bodyPr/>
        <a:lstStyle/>
        <a:p>
          <a:endParaRPr lang="en-GB"/>
        </a:p>
      </dgm:t>
    </dgm:pt>
    <dgm:pt modelId="{9C421F17-2FC1-4143-AC8B-669A159AEE4E}" type="sibTrans" cxnId="{8D70FB26-61E4-455E-9ED2-B13AF4AE425E}">
      <dgm:prSet/>
      <dgm:spPr/>
      <dgm:t>
        <a:bodyPr/>
        <a:lstStyle/>
        <a:p>
          <a:endParaRPr lang="en-GB"/>
        </a:p>
      </dgm:t>
    </dgm:pt>
    <dgm:pt modelId="{5A9E2012-7E81-47F9-BCF4-3D1A0F216BEF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Pre-check of contents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89BA02E4-7943-4BDB-B8C3-EEEFDBE2EEA1}" type="parTrans" cxnId="{3396F880-DF5E-4E7E-8025-7D11F1A275E2}">
      <dgm:prSet/>
      <dgm:spPr/>
      <dgm:t>
        <a:bodyPr/>
        <a:lstStyle/>
        <a:p>
          <a:endParaRPr lang="en-GB"/>
        </a:p>
      </dgm:t>
    </dgm:pt>
    <dgm:pt modelId="{C0B5DA15-491C-454C-9960-D532FBA269E1}" type="sibTrans" cxnId="{3396F880-DF5E-4E7E-8025-7D11F1A275E2}">
      <dgm:prSet/>
      <dgm:spPr/>
      <dgm:t>
        <a:bodyPr/>
        <a:lstStyle/>
        <a:p>
          <a:endParaRPr lang="en-GB"/>
        </a:p>
      </dgm:t>
    </dgm:pt>
    <dgm:pt modelId="{22B5C07E-F14F-4C52-AAD5-DD39B999418F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Interaction with ‘responders’ to schedule process 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C2497A93-1139-443E-A51D-08410C354FB2}" type="parTrans" cxnId="{C3F91A1F-6B3D-42CF-8401-80F70E32B5E3}">
      <dgm:prSet/>
      <dgm:spPr/>
      <dgm:t>
        <a:bodyPr/>
        <a:lstStyle/>
        <a:p>
          <a:endParaRPr lang="en-GB"/>
        </a:p>
      </dgm:t>
    </dgm:pt>
    <dgm:pt modelId="{79DB290F-0FAC-4B70-BBC4-9AF75DF2A88F}" type="sibTrans" cxnId="{C3F91A1F-6B3D-42CF-8401-80F70E32B5E3}">
      <dgm:prSet/>
      <dgm:spPr/>
      <dgm:t>
        <a:bodyPr/>
        <a:lstStyle/>
        <a:p>
          <a:endParaRPr lang="en-GB"/>
        </a:p>
      </dgm:t>
    </dgm:pt>
    <dgm:pt modelId="{51ED649B-409F-4B5B-95AC-3A5D8A0B00A7}">
      <dgm:prSet phldrT="[Text]" custT="1"/>
      <dgm:spPr/>
      <dgm:t>
        <a:bodyPr/>
        <a:lstStyle/>
        <a:p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94E24A85-95C9-477C-BF38-E0B5D3882F62}" type="parTrans" cxnId="{B267D4E8-4E6F-4252-9C83-1271B78D8494}">
      <dgm:prSet/>
      <dgm:spPr/>
      <dgm:t>
        <a:bodyPr/>
        <a:lstStyle/>
        <a:p>
          <a:endParaRPr lang="en-GB"/>
        </a:p>
      </dgm:t>
    </dgm:pt>
    <dgm:pt modelId="{063FA063-A25F-489E-9A9A-130D9A3595DF}" type="sibTrans" cxnId="{B267D4E8-4E6F-4252-9C83-1271B78D8494}">
      <dgm:prSet/>
      <dgm:spPr/>
      <dgm:t>
        <a:bodyPr/>
        <a:lstStyle/>
        <a:p>
          <a:endParaRPr lang="en-GB"/>
        </a:p>
      </dgm:t>
    </dgm:pt>
    <dgm:pt modelId="{9F60594B-3A3E-40D1-ABD1-91FFD9D31790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One-to-one  verification meetings 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55674061-C2F8-47BD-8099-7DC32A2DA7F7}" type="parTrans" cxnId="{9EDE3B53-78C8-4295-AD05-B272266DF3F7}">
      <dgm:prSet/>
      <dgm:spPr/>
      <dgm:t>
        <a:bodyPr/>
        <a:lstStyle/>
        <a:p>
          <a:endParaRPr lang="en-GB"/>
        </a:p>
      </dgm:t>
    </dgm:pt>
    <dgm:pt modelId="{201B0130-2D2B-4333-948D-063BDAF0353C}" type="sibTrans" cxnId="{9EDE3B53-78C8-4295-AD05-B272266DF3F7}">
      <dgm:prSet/>
      <dgm:spPr/>
      <dgm:t>
        <a:bodyPr/>
        <a:lstStyle/>
        <a:p>
          <a:endParaRPr lang="en-GB"/>
        </a:p>
      </dgm:t>
    </dgm:pt>
    <dgm:pt modelId="{3B9D93DA-D998-4B30-8435-30636B45E1D0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Acceptance of entry into ECV Inventory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0C9CE680-0F80-43E3-9629-0F1066584C5A}" type="parTrans" cxnId="{9939444A-50CC-4B36-991D-C543320F760D}">
      <dgm:prSet/>
      <dgm:spPr/>
      <dgm:t>
        <a:bodyPr/>
        <a:lstStyle/>
        <a:p>
          <a:endParaRPr lang="en-GB"/>
        </a:p>
      </dgm:t>
    </dgm:pt>
    <dgm:pt modelId="{00222A3F-246E-4024-86DD-6C876727B886}" type="sibTrans" cxnId="{9939444A-50CC-4B36-991D-C543320F760D}">
      <dgm:prSet/>
      <dgm:spPr/>
      <dgm:t>
        <a:bodyPr/>
        <a:lstStyle/>
        <a:p>
          <a:endParaRPr lang="en-GB"/>
        </a:p>
      </dgm:t>
    </dgm:pt>
    <dgm:pt modelId="{17175A03-D7B8-49DF-8387-E1CF31AF897C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Engagement of </a:t>
          </a:r>
          <a:r>
            <a:rPr lang="en-US" sz="1400" dirty="0" err="1" smtClean="0">
              <a:solidFill>
                <a:schemeClr val="accent1">
                  <a:lumMod val="50000"/>
                </a:schemeClr>
              </a:solidFill>
            </a:rPr>
            <a:t>WGClimate</a:t>
          </a:r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 members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0A6BD7DB-D361-448A-B8FD-964FC3BE0AB6}" type="parTrans" cxnId="{62198D26-F090-48F3-BE0A-7693DD7F7DFB}">
      <dgm:prSet/>
      <dgm:spPr/>
      <dgm:t>
        <a:bodyPr/>
        <a:lstStyle/>
        <a:p>
          <a:endParaRPr lang="en-GB"/>
        </a:p>
      </dgm:t>
    </dgm:pt>
    <dgm:pt modelId="{B2022992-C3CF-494C-906F-04F5A1BDAB25}" type="sibTrans" cxnId="{62198D26-F090-48F3-BE0A-7693DD7F7DFB}">
      <dgm:prSet/>
      <dgm:spPr/>
      <dgm:t>
        <a:bodyPr/>
        <a:lstStyle/>
        <a:p>
          <a:endParaRPr lang="en-GB"/>
        </a:p>
      </dgm:t>
    </dgm:pt>
    <dgm:pt modelId="{69A412CB-30D3-4966-AC67-62A5593E3104}" type="pres">
      <dgm:prSet presAssocID="{F8172365-98B9-4E75-9BBA-77770D8A1086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GB"/>
        </a:p>
      </dgm:t>
    </dgm:pt>
    <dgm:pt modelId="{81A6B3D1-802B-4F5F-BB6B-24304F1C14CA}" type="pres">
      <dgm:prSet presAssocID="{0227238B-107C-4075-8644-1E223EAD842E}" presName="composite" presStyleCnt="0"/>
      <dgm:spPr/>
    </dgm:pt>
    <dgm:pt modelId="{2D404C6C-89DA-4E9D-9834-4B4D6D615DDF}" type="pres">
      <dgm:prSet presAssocID="{0227238B-107C-4075-8644-1E223EAD842E}" presName="par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CE299FFF-6A0D-4AD3-9AFE-3B4E57267BEF}" type="pres">
      <dgm:prSet presAssocID="{0227238B-107C-4075-8644-1E223EAD842E}" presName="parSh" presStyleLbl="node1" presStyleIdx="0" presStyleCnt="3"/>
      <dgm:spPr/>
      <dgm:t>
        <a:bodyPr/>
        <a:lstStyle/>
        <a:p>
          <a:endParaRPr lang="en-GB"/>
        </a:p>
      </dgm:t>
    </dgm:pt>
    <dgm:pt modelId="{B5714FD2-4487-493C-BA32-003E7E6B5D71}" type="pres">
      <dgm:prSet presAssocID="{0227238B-107C-4075-8644-1E223EAD842E}" presName="desTx" presStyleLbl="fgAcc1" presStyleIdx="0" presStyleCnt="3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BB6FBDD-04DE-4939-9DE1-91AE20E02211}" type="pres">
      <dgm:prSet presAssocID="{D16D3BDD-A210-4B35-A8A1-369356C3BFF5}" presName="sibTrans" presStyleLbl="sibTrans2D1" presStyleIdx="0" presStyleCnt="2"/>
      <dgm:spPr/>
      <dgm:t>
        <a:bodyPr/>
        <a:lstStyle/>
        <a:p>
          <a:endParaRPr lang="en-GB"/>
        </a:p>
      </dgm:t>
    </dgm:pt>
    <dgm:pt modelId="{3432C6B9-DA2C-47CF-807B-8204EA163437}" type="pres">
      <dgm:prSet presAssocID="{D16D3BDD-A210-4B35-A8A1-369356C3BFF5}" presName="connTx" presStyleLbl="sibTrans2D1" presStyleIdx="0" presStyleCnt="2"/>
      <dgm:spPr/>
      <dgm:t>
        <a:bodyPr/>
        <a:lstStyle/>
        <a:p>
          <a:endParaRPr lang="en-GB"/>
        </a:p>
      </dgm:t>
    </dgm:pt>
    <dgm:pt modelId="{AF21F683-25D6-4D87-8D00-6BF322AA5498}" type="pres">
      <dgm:prSet presAssocID="{44FA7E0C-87B8-4B37-A292-218BE5446D71}" presName="composite" presStyleCnt="0"/>
      <dgm:spPr/>
    </dgm:pt>
    <dgm:pt modelId="{46E0BD63-6FAE-4B7F-9464-82396C9FBAE9}" type="pres">
      <dgm:prSet presAssocID="{44FA7E0C-87B8-4B37-A292-218BE5446D71}" presName="par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1DF5861-6986-4422-8352-72D7D878BC50}" type="pres">
      <dgm:prSet presAssocID="{44FA7E0C-87B8-4B37-A292-218BE5446D71}" presName="parSh" presStyleLbl="node1" presStyleIdx="1" presStyleCnt="3"/>
      <dgm:spPr/>
      <dgm:t>
        <a:bodyPr/>
        <a:lstStyle/>
        <a:p>
          <a:endParaRPr lang="en-GB"/>
        </a:p>
      </dgm:t>
    </dgm:pt>
    <dgm:pt modelId="{EBA5C1CC-0A35-4D3E-9A34-A2573B262E0A}" type="pres">
      <dgm:prSet presAssocID="{44FA7E0C-87B8-4B37-A292-218BE5446D71}" presName="desTx" presStyleLbl="fgAcc1" presStyleIdx="1" presStyleCnt="3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EEFCDC1-C896-4B8A-A305-54372557DB63}" type="pres">
      <dgm:prSet presAssocID="{1FBA391B-97E0-479E-A5C8-40EE3473EF0B}" presName="sibTrans" presStyleLbl="sibTrans2D1" presStyleIdx="1" presStyleCnt="2"/>
      <dgm:spPr/>
      <dgm:t>
        <a:bodyPr/>
        <a:lstStyle/>
        <a:p>
          <a:endParaRPr lang="en-GB"/>
        </a:p>
      </dgm:t>
    </dgm:pt>
    <dgm:pt modelId="{3DD6BB60-17CE-4200-8868-50C656564B63}" type="pres">
      <dgm:prSet presAssocID="{1FBA391B-97E0-479E-A5C8-40EE3473EF0B}" presName="connTx" presStyleLbl="sibTrans2D1" presStyleIdx="1" presStyleCnt="2"/>
      <dgm:spPr/>
      <dgm:t>
        <a:bodyPr/>
        <a:lstStyle/>
        <a:p>
          <a:endParaRPr lang="en-GB"/>
        </a:p>
      </dgm:t>
    </dgm:pt>
    <dgm:pt modelId="{0F18DA81-A355-4ADC-96DD-2EBA231BD551}" type="pres">
      <dgm:prSet presAssocID="{3D7813E7-F86B-4199-9E3D-323F1AEFECC6}" presName="composite" presStyleCnt="0"/>
      <dgm:spPr/>
    </dgm:pt>
    <dgm:pt modelId="{27B81DF3-8ABE-4BEF-B612-B00C0CF0119D}" type="pres">
      <dgm:prSet presAssocID="{3D7813E7-F86B-4199-9E3D-323F1AEFECC6}" presName="par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BDB87C65-CC76-44C9-A739-31AA3FA973A4}" type="pres">
      <dgm:prSet presAssocID="{3D7813E7-F86B-4199-9E3D-323F1AEFECC6}" presName="parSh" presStyleLbl="node1" presStyleIdx="2" presStyleCnt="3"/>
      <dgm:spPr/>
      <dgm:t>
        <a:bodyPr/>
        <a:lstStyle/>
        <a:p>
          <a:endParaRPr lang="en-GB"/>
        </a:p>
      </dgm:t>
    </dgm:pt>
    <dgm:pt modelId="{A5457AC8-2798-42B7-AEB0-8170301D8771}" type="pres">
      <dgm:prSet presAssocID="{3D7813E7-F86B-4199-9E3D-323F1AEFECC6}" presName="desTx" presStyleLbl="fgAcc1" presStyleIdx="2" presStyleCnt="3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DAC1892D-2884-401A-A008-CA4097D98DCB}" type="presOf" srcId="{D16D3BDD-A210-4B35-A8A1-369356C3BFF5}" destId="{3432C6B9-DA2C-47CF-807B-8204EA163437}" srcOrd="1" destOrd="0" presId="urn:microsoft.com/office/officeart/2005/8/layout/process3"/>
    <dgm:cxn modelId="{62198D26-F090-48F3-BE0A-7693DD7F7DFB}" srcId="{0227238B-107C-4075-8644-1E223EAD842E}" destId="{17175A03-D7B8-49DF-8387-E1CF31AF897C}" srcOrd="1" destOrd="0" parTransId="{0A6BD7DB-D361-448A-B8FD-964FC3BE0AB6}" sibTransId="{B2022992-C3CF-494C-906F-04F5A1BDAB25}"/>
    <dgm:cxn modelId="{6C4F7F8E-420E-44D2-96E1-E631479946D3}" srcId="{44FA7E0C-87B8-4B37-A292-218BE5446D71}" destId="{DA925533-52B6-4A5F-B5B2-77F2E92392AC}" srcOrd="0" destOrd="0" parTransId="{01590766-F6E6-4A99-9F0D-3DAB41F099C5}" sibTransId="{E02CFDF2-4A5E-4A24-9A10-5C39535C2067}"/>
    <dgm:cxn modelId="{C3F91A1F-6B3D-42CF-8401-80F70E32B5E3}" srcId="{0227238B-107C-4075-8644-1E223EAD842E}" destId="{22B5C07E-F14F-4C52-AAD5-DD39B999418F}" srcOrd="2" destOrd="0" parTransId="{C2497A93-1139-443E-A51D-08410C354FB2}" sibTransId="{79DB290F-0FAC-4B70-BBC4-9AF75DF2A88F}"/>
    <dgm:cxn modelId="{D8174703-C0EB-4375-81EC-47A89B817166}" type="presOf" srcId="{DA925533-52B6-4A5F-B5B2-77F2E92392AC}" destId="{EBA5C1CC-0A35-4D3E-9A34-A2573B262E0A}" srcOrd="0" destOrd="0" presId="urn:microsoft.com/office/officeart/2005/8/layout/process3"/>
    <dgm:cxn modelId="{8EBF91AC-6784-4DFB-AEF6-A366722C4C3E}" type="presOf" srcId="{5A9E2012-7E81-47F9-BCF4-3D1A0F216BEF}" destId="{A5457AC8-2798-42B7-AEB0-8170301D8771}" srcOrd="0" destOrd="0" presId="urn:microsoft.com/office/officeart/2005/8/layout/process3"/>
    <dgm:cxn modelId="{9EDE3B53-78C8-4295-AD05-B272266DF3F7}" srcId="{3D7813E7-F86B-4199-9E3D-323F1AEFECC6}" destId="{9F60594B-3A3E-40D1-ABD1-91FFD9D31790}" srcOrd="1" destOrd="0" parTransId="{55674061-C2F8-47BD-8099-7DC32A2DA7F7}" sibTransId="{201B0130-2D2B-4333-948D-063BDAF0353C}"/>
    <dgm:cxn modelId="{D6EBA792-C8FE-4A61-AB53-331655479D8E}" type="presOf" srcId="{3D7813E7-F86B-4199-9E3D-323F1AEFECC6}" destId="{27B81DF3-8ABE-4BEF-B612-B00C0CF0119D}" srcOrd="0" destOrd="0" presId="urn:microsoft.com/office/officeart/2005/8/layout/process3"/>
    <dgm:cxn modelId="{143FE092-6173-4C7A-8B20-15495E33370C}" type="presOf" srcId="{3D7813E7-F86B-4199-9E3D-323F1AEFECC6}" destId="{BDB87C65-CC76-44C9-A739-31AA3FA973A4}" srcOrd="1" destOrd="0" presId="urn:microsoft.com/office/officeart/2005/8/layout/process3"/>
    <dgm:cxn modelId="{DD4C34CA-334F-45A6-A7F3-B76C40A294AB}" type="presOf" srcId="{0227238B-107C-4075-8644-1E223EAD842E}" destId="{CE299FFF-6A0D-4AD3-9AFE-3B4E57267BEF}" srcOrd="1" destOrd="0" presId="urn:microsoft.com/office/officeart/2005/8/layout/process3"/>
    <dgm:cxn modelId="{EC0E6424-AC3F-476F-B4DE-398E66BDE50E}" type="presOf" srcId="{1FBA391B-97E0-479E-A5C8-40EE3473EF0B}" destId="{5EEFCDC1-C896-4B8A-A305-54372557DB63}" srcOrd="0" destOrd="0" presId="urn:microsoft.com/office/officeart/2005/8/layout/process3"/>
    <dgm:cxn modelId="{3396F880-DF5E-4E7E-8025-7D11F1A275E2}" srcId="{3D7813E7-F86B-4199-9E3D-323F1AEFECC6}" destId="{5A9E2012-7E81-47F9-BCF4-3D1A0F216BEF}" srcOrd="0" destOrd="0" parTransId="{89BA02E4-7943-4BDB-B8C3-EEEFDBE2EEA1}" sibTransId="{C0B5DA15-491C-454C-9960-D532FBA269E1}"/>
    <dgm:cxn modelId="{958401A8-8A77-4D85-9F73-B2369C48449D}" srcId="{F8172365-98B9-4E75-9BBA-77770D8A1086}" destId="{0227238B-107C-4075-8644-1E223EAD842E}" srcOrd="0" destOrd="0" parTransId="{01A6B9A3-3FCF-40AD-9D7A-3A777423535F}" sibTransId="{D16D3BDD-A210-4B35-A8A1-369356C3BFF5}"/>
    <dgm:cxn modelId="{9939444A-50CC-4B36-991D-C543320F760D}" srcId="{3D7813E7-F86B-4199-9E3D-323F1AEFECC6}" destId="{3B9D93DA-D998-4B30-8435-30636B45E1D0}" srcOrd="2" destOrd="0" parTransId="{0C9CE680-0F80-43E3-9629-0F1066584C5A}" sibTransId="{00222A3F-246E-4024-86DD-6C876727B886}"/>
    <dgm:cxn modelId="{70C0E8DD-9A31-4D2A-95C1-674439C7BF40}" srcId="{0227238B-107C-4075-8644-1E223EAD842E}" destId="{F427CF8F-7F25-4C48-9A40-C2118D02E383}" srcOrd="0" destOrd="0" parTransId="{600FE4A9-7AD5-4D09-BB38-5C9A82B9A9EC}" sibTransId="{FE251A94-C5B2-46DE-9DE4-78C177002450}"/>
    <dgm:cxn modelId="{E49284A3-12F1-4C14-8867-1FB588A0CA01}" type="presOf" srcId="{0227238B-107C-4075-8644-1E223EAD842E}" destId="{2D404C6C-89DA-4E9D-9834-4B4D6D615DDF}" srcOrd="0" destOrd="0" presId="urn:microsoft.com/office/officeart/2005/8/layout/process3"/>
    <dgm:cxn modelId="{EE8330ED-5298-4860-8A80-91B5C37EAB7E}" srcId="{F8172365-98B9-4E75-9BBA-77770D8A1086}" destId="{44FA7E0C-87B8-4B37-A292-218BE5446D71}" srcOrd="1" destOrd="0" parTransId="{7746C048-DEE1-4321-BCE3-9319FAA41DAB}" sibTransId="{1FBA391B-97E0-479E-A5C8-40EE3473EF0B}"/>
    <dgm:cxn modelId="{7C7BBDF3-F88C-482C-9DEF-040AF61E6414}" type="presOf" srcId="{51ED649B-409F-4B5B-95AC-3A5D8A0B00A7}" destId="{A5457AC8-2798-42B7-AEB0-8170301D8771}" srcOrd="0" destOrd="3" presId="urn:microsoft.com/office/officeart/2005/8/layout/process3"/>
    <dgm:cxn modelId="{F0A32D39-6E7A-4279-9EE1-2A328A83A1D5}" type="presOf" srcId="{F8172365-98B9-4E75-9BBA-77770D8A1086}" destId="{69A412CB-30D3-4966-AC67-62A5593E3104}" srcOrd="0" destOrd="0" presId="urn:microsoft.com/office/officeart/2005/8/layout/process3"/>
    <dgm:cxn modelId="{B267D4E8-4E6F-4252-9C83-1271B78D8494}" srcId="{3D7813E7-F86B-4199-9E3D-323F1AEFECC6}" destId="{51ED649B-409F-4B5B-95AC-3A5D8A0B00A7}" srcOrd="3" destOrd="0" parTransId="{94E24A85-95C9-477C-BF38-E0B5D3882F62}" sibTransId="{063FA063-A25F-489E-9A9A-130D9A3595DF}"/>
    <dgm:cxn modelId="{8D70FB26-61E4-455E-9ED2-B13AF4AE425E}" srcId="{F8172365-98B9-4E75-9BBA-77770D8A1086}" destId="{3D7813E7-F86B-4199-9E3D-323F1AEFECC6}" srcOrd="2" destOrd="0" parTransId="{404D1D34-6A60-4C5F-9717-4076A925C41A}" sibTransId="{9C421F17-2FC1-4143-AC8B-669A159AEE4E}"/>
    <dgm:cxn modelId="{41889E96-B58B-49D2-B040-388670DECF02}" type="presOf" srcId="{22B5C07E-F14F-4C52-AAD5-DD39B999418F}" destId="{B5714FD2-4487-493C-BA32-003E7E6B5D71}" srcOrd="0" destOrd="2" presId="urn:microsoft.com/office/officeart/2005/8/layout/process3"/>
    <dgm:cxn modelId="{DA9C3059-08B3-4883-ABAE-DA60F7013944}" type="presOf" srcId="{3B9D93DA-D998-4B30-8435-30636B45E1D0}" destId="{A5457AC8-2798-42B7-AEB0-8170301D8771}" srcOrd="0" destOrd="2" presId="urn:microsoft.com/office/officeart/2005/8/layout/process3"/>
    <dgm:cxn modelId="{3B9E51F4-FEFF-46EA-92E3-B233E89D1198}" type="presOf" srcId="{F427CF8F-7F25-4C48-9A40-C2118D02E383}" destId="{B5714FD2-4487-493C-BA32-003E7E6B5D71}" srcOrd="0" destOrd="0" presId="urn:microsoft.com/office/officeart/2005/8/layout/process3"/>
    <dgm:cxn modelId="{CF4A5E90-24C3-4C82-9DF3-9BA079B7C0D9}" type="presOf" srcId="{1FBA391B-97E0-479E-A5C8-40EE3473EF0B}" destId="{3DD6BB60-17CE-4200-8868-50C656564B63}" srcOrd="1" destOrd="0" presId="urn:microsoft.com/office/officeart/2005/8/layout/process3"/>
    <dgm:cxn modelId="{4D9B6541-D9C9-412D-9EA4-3CCE8A193D76}" type="presOf" srcId="{D16D3BDD-A210-4B35-A8A1-369356C3BFF5}" destId="{7BB6FBDD-04DE-4939-9DE1-91AE20E02211}" srcOrd="0" destOrd="0" presId="urn:microsoft.com/office/officeart/2005/8/layout/process3"/>
    <dgm:cxn modelId="{A058D06D-5275-4334-AB57-9EE5EFBC0F66}" type="presOf" srcId="{9F60594B-3A3E-40D1-ABD1-91FFD9D31790}" destId="{A5457AC8-2798-42B7-AEB0-8170301D8771}" srcOrd="0" destOrd="1" presId="urn:microsoft.com/office/officeart/2005/8/layout/process3"/>
    <dgm:cxn modelId="{58D3A15E-E298-409A-8565-4F2B7DBF3BE5}" type="presOf" srcId="{17175A03-D7B8-49DF-8387-E1CF31AF897C}" destId="{B5714FD2-4487-493C-BA32-003E7E6B5D71}" srcOrd="0" destOrd="1" presId="urn:microsoft.com/office/officeart/2005/8/layout/process3"/>
    <dgm:cxn modelId="{79C7E3ED-2C37-4568-8315-BB666F8BF773}" type="presOf" srcId="{44FA7E0C-87B8-4B37-A292-218BE5446D71}" destId="{21DF5861-6986-4422-8352-72D7D878BC50}" srcOrd="1" destOrd="0" presId="urn:microsoft.com/office/officeart/2005/8/layout/process3"/>
    <dgm:cxn modelId="{A3653FF3-D7EC-43BB-90BB-87A802DFB140}" type="presOf" srcId="{44FA7E0C-87B8-4B37-A292-218BE5446D71}" destId="{46E0BD63-6FAE-4B7F-9464-82396C9FBAE9}" srcOrd="0" destOrd="0" presId="urn:microsoft.com/office/officeart/2005/8/layout/process3"/>
    <dgm:cxn modelId="{AF0B5EDD-BFC2-401B-BE57-D30B16E29842}" type="presParOf" srcId="{69A412CB-30D3-4966-AC67-62A5593E3104}" destId="{81A6B3D1-802B-4F5F-BB6B-24304F1C14CA}" srcOrd="0" destOrd="0" presId="urn:microsoft.com/office/officeart/2005/8/layout/process3"/>
    <dgm:cxn modelId="{8B4630A9-5DEE-4AED-A23C-DA5D6C921A05}" type="presParOf" srcId="{81A6B3D1-802B-4F5F-BB6B-24304F1C14CA}" destId="{2D404C6C-89DA-4E9D-9834-4B4D6D615DDF}" srcOrd="0" destOrd="0" presId="urn:microsoft.com/office/officeart/2005/8/layout/process3"/>
    <dgm:cxn modelId="{CDED0C2F-B00D-4D5F-9E20-72D3DFB4B555}" type="presParOf" srcId="{81A6B3D1-802B-4F5F-BB6B-24304F1C14CA}" destId="{CE299FFF-6A0D-4AD3-9AFE-3B4E57267BEF}" srcOrd="1" destOrd="0" presId="urn:microsoft.com/office/officeart/2005/8/layout/process3"/>
    <dgm:cxn modelId="{807ABE00-B9E1-4062-B4A5-1B7ECA2625D8}" type="presParOf" srcId="{81A6B3D1-802B-4F5F-BB6B-24304F1C14CA}" destId="{B5714FD2-4487-493C-BA32-003E7E6B5D71}" srcOrd="2" destOrd="0" presId="urn:microsoft.com/office/officeart/2005/8/layout/process3"/>
    <dgm:cxn modelId="{CC3A8133-8D12-4D3E-94FB-2804BC786820}" type="presParOf" srcId="{69A412CB-30D3-4966-AC67-62A5593E3104}" destId="{7BB6FBDD-04DE-4939-9DE1-91AE20E02211}" srcOrd="1" destOrd="0" presId="urn:microsoft.com/office/officeart/2005/8/layout/process3"/>
    <dgm:cxn modelId="{CDBED01C-9BB8-41E2-8537-6B1E76682CD5}" type="presParOf" srcId="{7BB6FBDD-04DE-4939-9DE1-91AE20E02211}" destId="{3432C6B9-DA2C-47CF-807B-8204EA163437}" srcOrd="0" destOrd="0" presId="urn:microsoft.com/office/officeart/2005/8/layout/process3"/>
    <dgm:cxn modelId="{3BAC6068-AF75-4E45-B07F-A57C8C3A5DD2}" type="presParOf" srcId="{69A412CB-30D3-4966-AC67-62A5593E3104}" destId="{AF21F683-25D6-4D87-8D00-6BF322AA5498}" srcOrd="2" destOrd="0" presId="urn:microsoft.com/office/officeart/2005/8/layout/process3"/>
    <dgm:cxn modelId="{28B484AB-831B-42CF-B464-B6BD73AE2F4F}" type="presParOf" srcId="{AF21F683-25D6-4D87-8D00-6BF322AA5498}" destId="{46E0BD63-6FAE-4B7F-9464-82396C9FBAE9}" srcOrd="0" destOrd="0" presId="urn:microsoft.com/office/officeart/2005/8/layout/process3"/>
    <dgm:cxn modelId="{4B141305-EC39-4803-9F3C-D64D05089C94}" type="presParOf" srcId="{AF21F683-25D6-4D87-8D00-6BF322AA5498}" destId="{21DF5861-6986-4422-8352-72D7D878BC50}" srcOrd="1" destOrd="0" presId="urn:microsoft.com/office/officeart/2005/8/layout/process3"/>
    <dgm:cxn modelId="{4ECC0F27-0985-479E-A232-56425E3A6AFF}" type="presParOf" srcId="{AF21F683-25D6-4D87-8D00-6BF322AA5498}" destId="{EBA5C1CC-0A35-4D3E-9A34-A2573B262E0A}" srcOrd="2" destOrd="0" presId="urn:microsoft.com/office/officeart/2005/8/layout/process3"/>
    <dgm:cxn modelId="{A44A2DDB-3529-4D79-882F-0EBBC9BBCB87}" type="presParOf" srcId="{69A412CB-30D3-4966-AC67-62A5593E3104}" destId="{5EEFCDC1-C896-4B8A-A305-54372557DB63}" srcOrd="3" destOrd="0" presId="urn:microsoft.com/office/officeart/2005/8/layout/process3"/>
    <dgm:cxn modelId="{94FA66A1-A1C3-46DD-A7BC-A140F3B4623C}" type="presParOf" srcId="{5EEFCDC1-C896-4B8A-A305-54372557DB63}" destId="{3DD6BB60-17CE-4200-8868-50C656564B63}" srcOrd="0" destOrd="0" presId="urn:microsoft.com/office/officeart/2005/8/layout/process3"/>
    <dgm:cxn modelId="{D5A2A616-8B5F-4BEB-82D6-4DBFB6E394F3}" type="presParOf" srcId="{69A412CB-30D3-4966-AC67-62A5593E3104}" destId="{0F18DA81-A355-4ADC-96DD-2EBA231BD551}" srcOrd="4" destOrd="0" presId="urn:microsoft.com/office/officeart/2005/8/layout/process3"/>
    <dgm:cxn modelId="{BEA2C9F0-BD43-4417-8140-6A5633C84B5C}" type="presParOf" srcId="{0F18DA81-A355-4ADC-96DD-2EBA231BD551}" destId="{27B81DF3-8ABE-4BEF-B612-B00C0CF0119D}" srcOrd="0" destOrd="0" presId="urn:microsoft.com/office/officeart/2005/8/layout/process3"/>
    <dgm:cxn modelId="{39E79D23-7A62-4474-8D9C-2C223434A339}" type="presParOf" srcId="{0F18DA81-A355-4ADC-96DD-2EBA231BD551}" destId="{BDB87C65-CC76-44C9-A739-31AA3FA973A4}" srcOrd="1" destOrd="0" presId="urn:microsoft.com/office/officeart/2005/8/layout/process3"/>
    <dgm:cxn modelId="{6839A64F-D749-49E6-94EE-3BC30EF1DC9A}" type="presParOf" srcId="{0F18DA81-A355-4ADC-96DD-2EBA231BD551}" destId="{A5457AC8-2798-42B7-AEB0-8170301D8771}" srcOrd="2" destOrd="0" presId="urn:microsoft.com/office/officeart/2005/8/layout/process3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D4B53356-8875-491A-86BE-62247C002C16}" type="doc">
      <dgm:prSet loTypeId="urn:microsoft.com/office/officeart/2005/8/layout/hProcess11" loCatId="process" qsTypeId="urn:microsoft.com/office/officeart/2005/8/quickstyle/simple1" qsCatId="simple" csTypeId="urn:microsoft.com/office/officeart/2005/8/colors/accent1_1" csCatId="accent1" phldr="1"/>
      <dgm:spPr/>
    </dgm:pt>
    <dgm:pt modelId="{D8411887-672C-438E-A739-868C7E63D83A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April - May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1FF532C2-B2AF-4BAD-A572-7A8A17EAE8C1}" type="parTrans" cxnId="{0FBD761B-5290-4276-9AC0-8CFD7E79AC64}">
      <dgm:prSet/>
      <dgm:spPr/>
      <dgm:t>
        <a:bodyPr/>
        <a:lstStyle/>
        <a:p>
          <a:endParaRPr lang="en-GB"/>
        </a:p>
      </dgm:t>
    </dgm:pt>
    <dgm:pt modelId="{4E36089F-F5BA-48F3-AF0F-060BE18B9A5C}" type="sibTrans" cxnId="{0FBD761B-5290-4276-9AC0-8CFD7E79AC64}">
      <dgm:prSet/>
      <dgm:spPr/>
      <dgm:t>
        <a:bodyPr/>
        <a:lstStyle/>
        <a:p>
          <a:endParaRPr lang="en-GB"/>
        </a:p>
      </dgm:t>
    </dgm:pt>
    <dgm:pt modelId="{CDC0F0D3-5844-4DAD-B539-BAABB8224756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June - September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9C9E3422-B154-48B4-A5F4-1D2F05A0DEFA}" type="parTrans" cxnId="{63C8E862-DF02-4F69-A913-1ADD75E76FE2}">
      <dgm:prSet/>
      <dgm:spPr/>
      <dgm:t>
        <a:bodyPr/>
        <a:lstStyle/>
        <a:p>
          <a:endParaRPr lang="en-GB"/>
        </a:p>
      </dgm:t>
    </dgm:pt>
    <dgm:pt modelId="{46114705-0104-4F12-8AEF-7DDFDE603E0F}" type="sibTrans" cxnId="{63C8E862-DF02-4F69-A913-1ADD75E76FE2}">
      <dgm:prSet/>
      <dgm:spPr/>
      <dgm:t>
        <a:bodyPr/>
        <a:lstStyle/>
        <a:p>
          <a:endParaRPr lang="en-GB"/>
        </a:p>
      </dgm:t>
    </dgm:pt>
    <dgm:pt modelId="{16C14695-4211-4D80-B527-78E99C5B5425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July - October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0DCB9BA8-CAA4-48C3-8CA3-97F38304FC7F}" type="parTrans" cxnId="{D1F0D17D-7465-4773-904C-7E21E46B80A1}">
      <dgm:prSet/>
      <dgm:spPr/>
      <dgm:t>
        <a:bodyPr/>
        <a:lstStyle/>
        <a:p>
          <a:endParaRPr lang="en-GB"/>
        </a:p>
      </dgm:t>
    </dgm:pt>
    <dgm:pt modelId="{FB50D407-2D7D-4052-B537-B9910FC9585D}" type="sibTrans" cxnId="{D1F0D17D-7465-4773-904C-7E21E46B80A1}">
      <dgm:prSet/>
      <dgm:spPr/>
      <dgm:t>
        <a:bodyPr/>
        <a:lstStyle/>
        <a:p>
          <a:endParaRPr lang="en-GB"/>
        </a:p>
      </dgm:t>
    </dgm:pt>
    <dgm:pt modelId="{C1FEC91E-89AD-4168-A87E-3303A728253B}" type="pres">
      <dgm:prSet presAssocID="{D4B53356-8875-491A-86BE-62247C002C16}" presName="Name0" presStyleCnt="0">
        <dgm:presLayoutVars>
          <dgm:dir/>
          <dgm:resizeHandles val="exact"/>
        </dgm:presLayoutVars>
      </dgm:prSet>
      <dgm:spPr/>
    </dgm:pt>
    <dgm:pt modelId="{9F4F712A-1312-4F60-887E-541A1E6D9C56}" type="pres">
      <dgm:prSet presAssocID="{D4B53356-8875-491A-86BE-62247C002C16}" presName="arrow" presStyleLbl="bgShp" presStyleIdx="0" presStyleCnt="1"/>
      <dgm:spPr/>
    </dgm:pt>
    <dgm:pt modelId="{2D43192A-A9E9-4CB8-9D10-F2576A431B70}" type="pres">
      <dgm:prSet presAssocID="{D4B53356-8875-491A-86BE-62247C002C16}" presName="points" presStyleCnt="0"/>
      <dgm:spPr/>
    </dgm:pt>
    <dgm:pt modelId="{B874D4D7-4764-4212-B014-A28B8CFAA02D}" type="pres">
      <dgm:prSet presAssocID="{D8411887-672C-438E-A739-868C7E63D83A}" presName="compositeA" presStyleCnt="0"/>
      <dgm:spPr/>
    </dgm:pt>
    <dgm:pt modelId="{79405AA3-03A9-4B2B-8E7B-B88F707BD685}" type="pres">
      <dgm:prSet presAssocID="{D8411887-672C-438E-A739-868C7E63D83A}" presName="textA" presStyleLbl="revTx" presStyleIdx="0" presStyleCnt="3" custScaleX="61533" custLinFactNeighborX="-16163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2F908DD-976C-41A6-944C-DAEE7138BC90}" type="pres">
      <dgm:prSet presAssocID="{D8411887-672C-438E-A739-868C7E63D83A}" presName="circleA" presStyleLbl="node1" presStyleIdx="0" presStyleCnt="3" custLinFactX="-100000" custLinFactNeighborX="-155399" custLinFactNeighborY="1126"/>
      <dgm:spPr/>
    </dgm:pt>
    <dgm:pt modelId="{346C3575-21B6-43C0-9B71-9B6F71304504}" type="pres">
      <dgm:prSet presAssocID="{D8411887-672C-438E-A739-868C7E63D83A}" presName="spaceA" presStyleCnt="0"/>
      <dgm:spPr/>
    </dgm:pt>
    <dgm:pt modelId="{BAF8D574-6BE3-4BA4-84BF-47B3F882C651}" type="pres">
      <dgm:prSet presAssocID="{4E36089F-F5BA-48F3-AF0F-060BE18B9A5C}" presName="space" presStyleCnt="0"/>
      <dgm:spPr/>
    </dgm:pt>
    <dgm:pt modelId="{CF8513F0-986C-459D-9E33-44220AC1FF97}" type="pres">
      <dgm:prSet presAssocID="{CDC0F0D3-5844-4DAD-B539-BAABB8224756}" presName="compositeB" presStyleCnt="0"/>
      <dgm:spPr/>
    </dgm:pt>
    <dgm:pt modelId="{BD88A8B3-1A40-47ED-B1EE-17B5CA4FA413}" type="pres">
      <dgm:prSet presAssocID="{CDC0F0D3-5844-4DAD-B539-BAABB8224756}" presName="textB" presStyleLbl="revTx" presStyleIdx="1" presStyleCnt="3" custLinFactY="-23497" custLinFactNeighborX="10740" custLinFactNeighborY="-100000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9457BBB7-D9CD-49E6-A719-7A7387AFD967}" type="pres">
      <dgm:prSet presAssocID="{CDC0F0D3-5844-4DAD-B539-BAABB8224756}" presName="circleB" presStyleLbl="node1" presStyleIdx="1" presStyleCnt="3"/>
      <dgm:spPr/>
    </dgm:pt>
    <dgm:pt modelId="{37DAA8F7-F3C8-44F7-AA8F-EEA36516CC64}" type="pres">
      <dgm:prSet presAssocID="{CDC0F0D3-5844-4DAD-B539-BAABB8224756}" presName="spaceB" presStyleCnt="0"/>
      <dgm:spPr/>
    </dgm:pt>
    <dgm:pt modelId="{189E2A54-991E-451B-A277-63C302F4D974}" type="pres">
      <dgm:prSet presAssocID="{46114705-0104-4F12-8AEF-7DDFDE603E0F}" presName="space" presStyleCnt="0"/>
      <dgm:spPr/>
    </dgm:pt>
    <dgm:pt modelId="{1E9AC23A-CEA5-47BC-82D4-C6EBE889700F}" type="pres">
      <dgm:prSet presAssocID="{16C14695-4211-4D80-B527-78E99C5B5425}" presName="compositeA" presStyleCnt="0"/>
      <dgm:spPr/>
    </dgm:pt>
    <dgm:pt modelId="{D288BD1E-4BD0-44CB-8391-A7FA352CDF46}" type="pres">
      <dgm:prSet presAssocID="{16C14695-4211-4D80-B527-78E99C5B5425}" presName="textA" presStyleLbl="revTx" presStyleIdx="2" presStyleCnt="3" custScaleX="77787" custLinFactNeighborX="39292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67101BC7-590F-401C-8626-2A4287643ABF}" type="pres">
      <dgm:prSet presAssocID="{16C14695-4211-4D80-B527-78E99C5B5425}" presName="circleA" presStyleLbl="node1" presStyleIdx="2" presStyleCnt="3" custLinFactX="247006" custLinFactNeighborX="300000" custLinFactNeighborY="1125"/>
      <dgm:spPr/>
    </dgm:pt>
    <dgm:pt modelId="{D279C6C8-5489-4FEC-BBE4-31BB15FC11E4}" type="pres">
      <dgm:prSet presAssocID="{16C14695-4211-4D80-B527-78E99C5B5425}" presName="spaceA" presStyleCnt="0"/>
      <dgm:spPr/>
    </dgm:pt>
  </dgm:ptLst>
  <dgm:cxnLst>
    <dgm:cxn modelId="{63C8E862-DF02-4F69-A913-1ADD75E76FE2}" srcId="{D4B53356-8875-491A-86BE-62247C002C16}" destId="{CDC0F0D3-5844-4DAD-B539-BAABB8224756}" srcOrd="1" destOrd="0" parTransId="{9C9E3422-B154-48B4-A5F4-1D2F05A0DEFA}" sibTransId="{46114705-0104-4F12-8AEF-7DDFDE603E0F}"/>
    <dgm:cxn modelId="{0FBD761B-5290-4276-9AC0-8CFD7E79AC64}" srcId="{D4B53356-8875-491A-86BE-62247C002C16}" destId="{D8411887-672C-438E-A739-868C7E63D83A}" srcOrd="0" destOrd="0" parTransId="{1FF532C2-B2AF-4BAD-A572-7A8A17EAE8C1}" sibTransId="{4E36089F-F5BA-48F3-AF0F-060BE18B9A5C}"/>
    <dgm:cxn modelId="{F1058853-6977-44CF-B885-1233621CBDDA}" type="presOf" srcId="{D8411887-672C-438E-A739-868C7E63D83A}" destId="{79405AA3-03A9-4B2B-8E7B-B88F707BD685}" srcOrd="0" destOrd="0" presId="urn:microsoft.com/office/officeart/2005/8/layout/hProcess11"/>
    <dgm:cxn modelId="{D1245AA4-CBDF-4D9C-AD15-56ACA67A16B4}" type="presOf" srcId="{16C14695-4211-4D80-B527-78E99C5B5425}" destId="{D288BD1E-4BD0-44CB-8391-A7FA352CDF46}" srcOrd="0" destOrd="0" presId="urn:microsoft.com/office/officeart/2005/8/layout/hProcess11"/>
    <dgm:cxn modelId="{E72DC2B0-7549-4C5B-B502-4897744CAAFD}" type="presOf" srcId="{D4B53356-8875-491A-86BE-62247C002C16}" destId="{C1FEC91E-89AD-4168-A87E-3303A728253B}" srcOrd="0" destOrd="0" presId="urn:microsoft.com/office/officeart/2005/8/layout/hProcess11"/>
    <dgm:cxn modelId="{947BAED4-B964-4487-8EAA-19891B21B99B}" type="presOf" srcId="{CDC0F0D3-5844-4DAD-B539-BAABB8224756}" destId="{BD88A8B3-1A40-47ED-B1EE-17B5CA4FA413}" srcOrd="0" destOrd="0" presId="urn:microsoft.com/office/officeart/2005/8/layout/hProcess11"/>
    <dgm:cxn modelId="{D1F0D17D-7465-4773-904C-7E21E46B80A1}" srcId="{D4B53356-8875-491A-86BE-62247C002C16}" destId="{16C14695-4211-4D80-B527-78E99C5B5425}" srcOrd="2" destOrd="0" parTransId="{0DCB9BA8-CAA4-48C3-8CA3-97F38304FC7F}" sibTransId="{FB50D407-2D7D-4052-B537-B9910FC9585D}"/>
    <dgm:cxn modelId="{76F5C8EB-7A73-4FA9-A7D3-CCAC6F365A80}" type="presParOf" srcId="{C1FEC91E-89AD-4168-A87E-3303A728253B}" destId="{9F4F712A-1312-4F60-887E-541A1E6D9C56}" srcOrd="0" destOrd="0" presId="urn:microsoft.com/office/officeart/2005/8/layout/hProcess11"/>
    <dgm:cxn modelId="{A714F59A-791F-43BA-B538-BB719B889532}" type="presParOf" srcId="{C1FEC91E-89AD-4168-A87E-3303A728253B}" destId="{2D43192A-A9E9-4CB8-9D10-F2576A431B70}" srcOrd="1" destOrd="0" presId="urn:microsoft.com/office/officeart/2005/8/layout/hProcess11"/>
    <dgm:cxn modelId="{0CFE6988-20C0-4D12-89E1-5A33181D6AFB}" type="presParOf" srcId="{2D43192A-A9E9-4CB8-9D10-F2576A431B70}" destId="{B874D4D7-4764-4212-B014-A28B8CFAA02D}" srcOrd="0" destOrd="0" presId="urn:microsoft.com/office/officeart/2005/8/layout/hProcess11"/>
    <dgm:cxn modelId="{F7F040C5-5965-4364-A58F-D9C94D820424}" type="presParOf" srcId="{B874D4D7-4764-4212-B014-A28B8CFAA02D}" destId="{79405AA3-03A9-4B2B-8E7B-B88F707BD685}" srcOrd="0" destOrd="0" presId="urn:microsoft.com/office/officeart/2005/8/layout/hProcess11"/>
    <dgm:cxn modelId="{9DB66736-C53C-493E-9356-EA738530DE71}" type="presParOf" srcId="{B874D4D7-4764-4212-B014-A28B8CFAA02D}" destId="{52F908DD-976C-41A6-944C-DAEE7138BC90}" srcOrd="1" destOrd="0" presId="urn:microsoft.com/office/officeart/2005/8/layout/hProcess11"/>
    <dgm:cxn modelId="{221FE44E-9732-49A3-BD86-86A373D6CDCA}" type="presParOf" srcId="{B874D4D7-4764-4212-B014-A28B8CFAA02D}" destId="{346C3575-21B6-43C0-9B71-9B6F71304504}" srcOrd="2" destOrd="0" presId="urn:microsoft.com/office/officeart/2005/8/layout/hProcess11"/>
    <dgm:cxn modelId="{BDECAA7F-366D-45D8-B8BF-69BE14A96336}" type="presParOf" srcId="{2D43192A-A9E9-4CB8-9D10-F2576A431B70}" destId="{BAF8D574-6BE3-4BA4-84BF-47B3F882C651}" srcOrd="1" destOrd="0" presId="urn:microsoft.com/office/officeart/2005/8/layout/hProcess11"/>
    <dgm:cxn modelId="{4D31608F-DBCE-4861-A07F-14CD084B16B7}" type="presParOf" srcId="{2D43192A-A9E9-4CB8-9D10-F2576A431B70}" destId="{CF8513F0-986C-459D-9E33-44220AC1FF97}" srcOrd="2" destOrd="0" presId="urn:microsoft.com/office/officeart/2005/8/layout/hProcess11"/>
    <dgm:cxn modelId="{2037D685-D77D-4FFB-B2FC-38FE48BE7598}" type="presParOf" srcId="{CF8513F0-986C-459D-9E33-44220AC1FF97}" destId="{BD88A8B3-1A40-47ED-B1EE-17B5CA4FA413}" srcOrd="0" destOrd="0" presId="urn:microsoft.com/office/officeart/2005/8/layout/hProcess11"/>
    <dgm:cxn modelId="{02E00C61-B82E-4EE5-BA5E-7DD4F22F7577}" type="presParOf" srcId="{CF8513F0-986C-459D-9E33-44220AC1FF97}" destId="{9457BBB7-D9CD-49E6-A719-7A7387AFD967}" srcOrd="1" destOrd="0" presId="urn:microsoft.com/office/officeart/2005/8/layout/hProcess11"/>
    <dgm:cxn modelId="{AAE2E22F-2026-44C6-B3F9-6FDA0D9510A9}" type="presParOf" srcId="{CF8513F0-986C-459D-9E33-44220AC1FF97}" destId="{37DAA8F7-F3C8-44F7-AA8F-EEA36516CC64}" srcOrd="2" destOrd="0" presId="urn:microsoft.com/office/officeart/2005/8/layout/hProcess11"/>
    <dgm:cxn modelId="{7A352958-884B-447E-8BAA-65653C77CA4C}" type="presParOf" srcId="{2D43192A-A9E9-4CB8-9D10-F2576A431B70}" destId="{189E2A54-991E-451B-A277-63C302F4D974}" srcOrd="3" destOrd="0" presId="urn:microsoft.com/office/officeart/2005/8/layout/hProcess11"/>
    <dgm:cxn modelId="{2DAE48D3-556A-499A-B764-66C86803EF88}" type="presParOf" srcId="{2D43192A-A9E9-4CB8-9D10-F2576A431B70}" destId="{1E9AC23A-CEA5-47BC-82D4-C6EBE889700F}" srcOrd="4" destOrd="0" presId="urn:microsoft.com/office/officeart/2005/8/layout/hProcess11"/>
    <dgm:cxn modelId="{82FFFBC8-0CF5-4880-B5EB-F976EF307ED1}" type="presParOf" srcId="{1E9AC23A-CEA5-47BC-82D4-C6EBE889700F}" destId="{D288BD1E-4BD0-44CB-8391-A7FA352CDF46}" srcOrd="0" destOrd="0" presId="urn:microsoft.com/office/officeart/2005/8/layout/hProcess11"/>
    <dgm:cxn modelId="{9C09C067-61B1-4E75-964F-F0738ACF40E4}" type="presParOf" srcId="{1E9AC23A-CEA5-47BC-82D4-C6EBE889700F}" destId="{67101BC7-590F-401C-8626-2A4287643ABF}" srcOrd="1" destOrd="0" presId="urn:microsoft.com/office/officeart/2005/8/layout/hProcess11"/>
    <dgm:cxn modelId="{BC1370FE-D9C0-4145-A481-A6B3A207786A}" type="presParOf" srcId="{1E9AC23A-CEA5-47BC-82D4-C6EBE889700F}" destId="{D279C6C8-5489-4FEC-BBE4-31BB15FC11E4}" srcOrd="2" destOrd="0" presId="urn:microsoft.com/office/officeart/2005/8/layout/hProcess11"/>
  </dgm:cxnLst>
  <dgm:bg>
    <a:effectLst>
      <a:outerShdw blurRad="50800" dist="38100" dir="8100000" algn="tr" rotWithShape="0">
        <a:prstClr val="black">
          <a:alpha val="40000"/>
        </a:prstClr>
      </a:outerShdw>
    </a:effectLst>
  </dgm:bg>
  <dgm:whole/>
  <dgm:extLst>
    <a:ext uri="http://schemas.microsoft.com/office/drawing/2008/diagram">
      <dsp:dataModelExt xmlns:dsp="http://schemas.microsoft.com/office/drawing/2008/diagram" xmlns="" relId="rId10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74F7E72-F0FD-8849-8044-C721D96E0844}">
      <dsp:nvSpPr>
        <dsp:cNvPr id="0" name=""/>
        <dsp:cNvSpPr/>
      </dsp:nvSpPr>
      <dsp:spPr>
        <a:xfrm>
          <a:off x="2706175" y="85002"/>
          <a:ext cx="1363427" cy="136342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300" kern="1200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ECV Inventory</a:t>
          </a:r>
          <a:endParaRPr lang="en-US" sz="1300" kern="1200" dirty="0">
            <a:solidFill>
              <a:srgbClr val="000000">
                <a:hueOff val="0"/>
                <a:satOff val="0"/>
                <a:lumOff val="0"/>
                <a:alphaOff val="0"/>
              </a:srgbClr>
            </a:solidFill>
            <a:latin typeface="Arial"/>
            <a:ea typeface="+mn-ea"/>
            <a:cs typeface="+mn-cs"/>
          </a:endParaRPr>
        </a:p>
      </dsp:txBody>
      <dsp:txXfrm>
        <a:off x="2706175" y="85002"/>
        <a:ext cx="1363427" cy="1363427"/>
      </dsp:txXfrm>
    </dsp:sp>
    <dsp:sp modelId="{071209F2-7290-6141-9504-B4550094A8FB}">
      <dsp:nvSpPr>
        <dsp:cNvPr id="0" name=""/>
        <dsp:cNvSpPr/>
      </dsp:nvSpPr>
      <dsp:spPr>
        <a:xfrm>
          <a:off x="305127" y="-808"/>
          <a:ext cx="3850286" cy="3850286"/>
        </a:xfrm>
        <a:prstGeom prst="circularArrow">
          <a:avLst>
            <a:gd name="adj1" fmla="val 6906"/>
            <a:gd name="adj2" fmla="val 465695"/>
            <a:gd name="adj3" fmla="val 547972"/>
            <a:gd name="adj4" fmla="val 20586333"/>
            <a:gd name="adj5" fmla="val 8057"/>
          </a:avLst>
        </a:prstGeo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1A662AE3-A963-5B4E-AD1E-CD11E9B6271A}">
      <dsp:nvSpPr>
        <dsp:cNvPr id="0" name=""/>
        <dsp:cNvSpPr/>
      </dsp:nvSpPr>
      <dsp:spPr>
        <a:xfrm>
          <a:off x="2706175" y="2400238"/>
          <a:ext cx="1363427" cy="136342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300" kern="1200" dirty="0" smtClean="0">
              <a:solidFill>
                <a:schemeClr val="tx1"/>
              </a:solidFill>
              <a:latin typeface="Arial"/>
              <a:ea typeface="+mn-ea"/>
              <a:cs typeface="+mn-cs"/>
            </a:rPr>
            <a:t>Reference Assessment Process</a:t>
          </a:r>
          <a:endParaRPr lang="en-US" sz="1300" kern="1200" dirty="0">
            <a:solidFill>
              <a:schemeClr val="tx1"/>
            </a:solidFill>
            <a:latin typeface="Arial"/>
            <a:ea typeface="+mn-ea"/>
            <a:cs typeface="+mn-cs"/>
          </a:endParaRPr>
        </a:p>
      </dsp:txBody>
      <dsp:txXfrm>
        <a:off x="2706175" y="2400238"/>
        <a:ext cx="1363427" cy="1363427"/>
      </dsp:txXfrm>
    </dsp:sp>
    <dsp:sp modelId="{241F3594-1DB6-164C-ACAC-EEDDEF88B3BB}">
      <dsp:nvSpPr>
        <dsp:cNvPr id="0" name=""/>
        <dsp:cNvSpPr/>
      </dsp:nvSpPr>
      <dsp:spPr>
        <a:xfrm>
          <a:off x="345439" y="-12493"/>
          <a:ext cx="3850286" cy="3850286"/>
        </a:xfrm>
        <a:prstGeom prst="circularArrow">
          <a:avLst>
            <a:gd name="adj1" fmla="val 6906"/>
            <a:gd name="adj2" fmla="val 465695"/>
            <a:gd name="adj3" fmla="val 6119101"/>
            <a:gd name="adj4" fmla="val 4474491"/>
            <a:gd name="adj5" fmla="val 8057"/>
          </a:avLst>
        </a:prstGeo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1F15B2D8-CBB0-0145-A1B8-E6F6BE971529}">
      <dsp:nvSpPr>
        <dsp:cNvPr id="0" name=""/>
        <dsp:cNvSpPr/>
      </dsp:nvSpPr>
      <dsp:spPr>
        <a:xfrm>
          <a:off x="353906" y="2326187"/>
          <a:ext cx="1363427" cy="136342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300" kern="1200" dirty="0" smtClean="0">
              <a:solidFill>
                <a:schemeClr val="tx1"/>
              </a:solidFill>
              <a:latin typeface="Arial"/>
              <a:ea typeface="+mn-ea"/>
              <a:cs typeface="+mn-cs"/>
            </a:rPr>
            <a:t>Gap Analysis &amp; Recommendation</a:t>
          </a:r>
          <a:endParaRPr lang="en-US" sz="1300" kern="1200" dirty="0">
            <a:solidFill>
              <a:srgbClr val="000000">
                <a:hueOff val="0"/>
                <a:satOff val="0"/>
                <a:lumOff val="0"/>
                <a:alphaOff val="0"/>
              </a:srgbClr>
            </a:solidFill>
            <a:latin typeface="Arial"/>
            <a:ea typeface="+mn-ea"/>
            <a:cs typeface="+mn-cs"/>
          </a:endParaRPr>
        </a:p>
      </dsp:txBody>
      <dsp:txXfrm>
        <a:off x="353906" y="2326187"/>
        <a:ext cx="1363427" cy="1363427"/>
      </dsp:txXfrm>
    </dsp:sp>
    <dsp:sp modelId="{BD261BBB-B6D4-5E44-948C-2A2B34997C41}">
      <dsp:nvSpPr>
        <dsp:cNvPr id="0" name=""/>
        <dsp:cNvSpPr/>
      </dsp:nvSpPr>
      <dsp:spPr>
        <a:xfrm>
          <a:off x="318094" y="-45790"/>
          <a:ext cx="3850286" cy="3850286"/>
        </a:xfrm>
        <a:prstGeom prst="circularArrow">
          <a:avLst>
            <a:gd name="adj1" fmla="val 6906"/>
            <a:gd name="adj2" fmla="val 465695"/>
            <a:gd name="adj3" fmla="val 11249637"/>
            <a:gd name="adj4" fmla="val 9849922"/>
            <a:gd name="adj5" fmla="val 8057"/>
          </a:avLst>
        </a:prstGeo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B9B5FCFE-5934-BE47-A670-8A8095B372C9}">
      <dsp:nvSpPr>
        <dsp:cNvPr id="0" name=""/>
        <dsp:cNvSpPr/>
      </dsp:nvSpPr>
      <dsp:spPr>
        <a:xfrm>
          <a:off x="390939" y="85002"/>
          <a:ext cx="1363427" cy="136342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300" kern="1200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Action Plan</a:t>
          </a:r>
        </a:p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300" kern="1200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Creation of conditions to </a:t>
          </a:r>
          <a:r>
            <a:rPr lang="en-US" sz="1300" kern="1200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fulfill </a:t>
          </a:r>
          <a:r>
            <a:rPr lang="en-US" sz="1300" kern="1200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GCOS requirements</a:t>
          </a:r>
        </a:p>
      </dsp:txBody>
      <dsp:txXfrm>
        <a:off x="390939" y="85002"/>
        <a:ext cx="1363427" cy="1363427"/>
      </dsp:txXfrm>
    </dsp:sp>
    <dsp:sp modelId="{A794E433-BFEF-464D-9E12-10D8C84B41F5}">
      <dsp:nvSpPr>
        <dsp:cNvPr id="0" name=""/>
        <dsp:cNvSpPr/>
      </dsp:nvSpPr>
      <dsp:spPr>
        <a:xfrm>
          <a:off x="305127" y="-40120"/>
          <a:ext cx="3850286" cy="3850286"/>
        </a:xfrm>
        <a:prstGeom prst="circularArrow">
          <a:avLst>
            <a:gd name="adj1" fmla="val 6906"/>
            <a:gd name="adj2" fmla="val 465695"/>
            <a:gd name="adj3" fmla="val 16747972"/>
            <a:gd name="adj4" fmla="val 15186333"/>
            <a:gd name="adj5" fmla="val 8057"/>
          </a:avLst>
        </a:prstGeo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E299FFF-6A0D-4AD3-9AFE-3B4E57267BEF}">
      <dsp:nvSpPr>
        <dsp:cNvPr id="0" name=""/>
        <dsp:cNvSpPr/>
      </dsp:nvSpPr>
      <dsp:spPr>
        <a:xfrm>
          <a:off x="4434" y="92827"/>
          <a:ext cx="2016151" cy="1080000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8000"/>
                <a:satMod val="150000"/>
              </a:schemeClr>
            </a:gs>
            <a:gs pos="72000">
              <a:schemeClr val="accent2">
                <a:hueOff val="0"/>
                <a:satOff val="0"/>
                <a:lumOff val="0"/>
                <a:alphaOff val="0"/>
                <a:tint val="90000"/>
                <a:satMod val="135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tint val="8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43137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0" tIns="177800" rIns="177800" bIns="95250" numCol="1" spcCol="1270" anchor="t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Preparation</a:t>
          </a:r>
          <a:endParaRPr lang="en-GB" sz="2500" kern="1200" dirty="0"/>
        </a:p>
      </dsp:txBody>
      <dsp:txXfrm>
        <a:off x="4434" y="92827"/>
        <a:ext cx="2016151" cy="720000"/>
      </dsp:txXfrm>
    </dsp:sp>
    <dsp:sp modelId="{B5714FD2-4487-493C-BA32-003E7E6B5D71}">
      <dsp:nvSpPr>
        <dsp:cNvPr id="0" name=""/>
        <dsp:cNvSpPr/>
      </dsp:nvSpPr>
      <dsp:spPr>
        <a:xfrm>
          <a:off x="417380" y="812827"/>
          <a:ext cx="2016151" cy="1902656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Contact with Data Providers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Engagement of </a:t>
          </a:r>
          <a:r>
            <a:rPr lang="en-US" sz="1400" kern="1200" dirty="0" err="1" smtClean="0">
              <a:solidFill>
                <a:schemeClr val="accent1">
                  <a:lumMod val="50000"/>
                </a:schemeClr>
              </a:solidFill>
            </a:rPr>
            <a:t>WGClimate</a:t>
          </a: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 members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Interaction with ‘responders’ to schedule process 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417380" y="812827"/>
        <a:ext cx="2016151" cy="1902656"/>
      </dsp:txXfrm>
    </dsp:sp>
    <dsp:sp modelId="{7BB6FBDD-04DE-4939-9DE1-91AE20E02211}">
      <dsp:nvSpPr>
        <dsp:cNvPr id="0" name=""/>
        <dsp:cNvSpPr/>
      </dsp:nvSpPr>
      <dsp:spPr>
        <a:xfrm>
          <a:off x="2326227" y="201846"/>
          <a:ext cx="647959" cy="501963"/>
        </a:xfrm>
        <a:prstGeom prst="righ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8000"/>
                <a:satMod val="150000"/>
              </a:schemeClr>
            </a:gs>
            <a:gs pos="72000">
              <a:schemeClr val="accent2">
                <a:hueOff val="0"/>
                <a:satOff val="0"/>
                <a:lumOff val="0"/>
                <a:alphaOff val="0"/>
                <a:tint val="90000"/>
                <a:satMod val="135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tint val="8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43137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GB" sz="2000" kern="1200"/>
        </a:p>
      </dsp:txBody>
      <dsp:txXfrm>
        <a:off x="2326227" y="201846"/>
        <a:ext cx="647959" cy="501963"/>
      </dsp:txXfrm>
    </dsp:sp>
    <dsp:sp modelId="{21DF5861-6986-4422-8352-72D7D878BC50}">
      <dsp:nvSpPr>
        <dsp:cNvPr id="0" name=""/>
        <dsp:cNvSpPr/>
      </dsp:nvSpPr>
      <dsp:spPr>
        <a:xfrm>
          <a:off x="3243150" y="92827"/>
          <a:ext cx="2016151" cy="1080000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2">
                <a:hueOff val="2182939"/>
                <a:satOff val="7734"/>
                <a:lumOff val="294"/>
                <a:alphaOff val="0"/>
                <a:shade val="58000"/>
                <a:satMod val="150000"/>
              </a:schemeClr>
            </a:gs>
            <a:gs pos="72000">
              <a:schemeClr val="accent2">
                <a:hueOff val="2182939"/>
                <a:satOff val="7734"/>
                <a:lumOff val="294"/>
                <a:alphaOff val="0"/>
                <a:tint val="90000"/>
                <a:satMod val="135000"/>
              </a:schemeClr>
            </a:gs>
            <a:gs pos="100000">
              <a:schemeClr val="accent2">
                <a:hueOff val="2182939"/>
                <a:satOff val="7734"/>
                <a:lumOff val="294"/>
                <a:alphaOff val="0"/>
                <a:tint val="8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43137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0" tIns="177800" rIns="177800" bIns="95250" numCol="1" spcCol="1270" anchor="t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Collection</a:t>
          </a:r>
          <a:endParaRPr lang="en-GB" sz="2500" kern="1200" dirty="0"/>
        </a:p>
      </dsp:txBody>
      <dsp:txXfrm>
        <a:off x="3243150" y="92827"/>
        <a:ext cx="2016151" cy="720000"/>
      </dsp:txXfrm>
    </dsp:sp>
    <dsp:sp modelId="{EBA5C1CC-0A35-4D3E-9A34-A2573B262E0A}">
      <dsp:nvSpPr>
        <dsp:cNvPr id="0" name=""/>
        <dsp:cNvSpPr/>
      </dsp:nvSpPr>
      <dsp:spPr>
        <a:xfrm>
          <a:off x="3656097" y="812827"/>
          <a:ext cx="2016151" cy="1902656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2">
              <a:hueOff val="2182939"/>
              <a:satOff val="7734"/>
              <a:lumOff val="294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Input of data into ECV Inventory (response to questionnaire through web interface)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3656097" y="812827"/>
        <a:ext cx="2016151" cy="1902656"/>
      </dsp:txXfrm>
    </dsp:sp>
    <dsp:sp modelId="{5EEFCDC1-C896-4B8A-A305-54372557DB63}">
      <dsp:nvSpPr>
        <dsp:cNvPr id="0" name=""/>
        <dsp:cNvSpPr/>
      </dsp:nvSpPr>
      <dsp:spPr>
        <a:xfrm>
          <a:off x="5564943" y="201846"/>
          <a:ext cx="647959" cy="501963"/>
        </a:xfrm>
        <a:prstGeom prst="righ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2">
                <a:hueOff val="4365879"/>
                <a:satOff val="15469"/>
                <a:lumOff val="588"/>
                <a:alphaOff val="0"/>
                <a:shade val="58000"/>
                <a:satMod val="150000"/>
              </a:schemeClr>
            </a:gs>
            <a:gs pos="72000">
              <a:schemeClr val="accent2">
                <a:hueOff val="4365879"/>
                <a:satOff val="15469"/>
                <a:lumOff val="588"/>
                <a:alphaOff val="0"/>
                <a:tint val="90000"/>
                <a:satMod val="135000"/>
              </a:schemeClr>
            </a:gs>
            <a:gs pos="100000">
              <a:schemeClr val="accent2">
                <a:hueOff val="4365879"/>
                <a:satOff val="15469"/>
                <a:lumOff val="588"/>
                <a:alphaOff val="0"/>
                <a:tint val="8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43137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GB" sz="2000" kern="1200"/>
        </a:p>
      </dsp:txBody>
      <dsp:txXfrm>
        <a:off x="5564943" y="201846"/>
        <a:ext cx="647959" cy="501963"/>
      </dsp:txXfrm>
    </dsp:sp>
    <dsp:sp modelId="{BDB87C65-CC76-44C9-A739-31AA3FA973A4}">
      <dsp:nvSpPr>
        <dsp:cNvPr id="0" name=""/>
        <dsp:cNvSpPr/>
      </dsp:nvSpPr>
      <dsp:spPr>
        <a:xfrm>
          <a:off x="6481867" y="92827"/>
          <a:ext cx="2016151" cy="1080000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2">
                <a:hueOff val="4365879"/>
                <a:satOff val="15469"/>
                <a:lumOff val="588"/>
                <a:alphaOff val="0"/>
                <a:shade val="58000"/>
                <a:satMod val="150000"/>
              </a:schemeClr>
            </a:gs>
            <a:gs pos="72000">
              <a:schemeClr val="accent2">
                <a:hueOff val="4365879"/>
                <a:satOff val="15469"/>
                <a:lumOff val="588"/>
                <a:alphaOff val="0"/>
                <a:tint val="90000"/>
                <a:satMod val="135000"/>
              </a:schemeClr>
            </a:gs>
            <a:gs pos="100000">
              <a:schemeClr val="accent2">
                <a:hueOff val="4365879"/>
                <a:satOff val="15469"/>
                <a:lumOff val="588"/>
                <a:alphaOff val="0"/>
                <a:tint val="8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43137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0" tIns="177800" rIns="177800" bIns="95250" numCol="1" spcCol="1270" anchor="t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Verification</a:t>
          </a:r>
          <a:endParaRPr lang="en-GB" sz="2500" kern="1200" dirty="0"/>
        </a:p>
      </dsp:txBody>
      <dsp:txXfrm>
        <a:off x="6481867" y="92827"/>
        <a:ext cx="2016151" cy="720000"/>
      </dsp:txXfrm>
    </dsp:sp>
    <dsp:sp modelId="{A5457AC8-2798-42B7-AEB0-8170301D8771}">
      <dsp:nvSpPr>
        <dsp:cNvPr id="0" name=""/>
        <dsp:cNvSpPr/>
      </dsp:nvSpPr>
      <dsp:spPr>
        <a:xfrm>
          <a:off x="6894814" y="812827"/>
          <a:ext cx="2016151" cy="1902656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2">
              <a:hueOff val="4365879"/>
              <a:satOff val="15469"/>
              <a:lumOff val="588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Pre-check of contents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One-to-one  verification meetings 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Acceptance of entry into ECV Inventory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6894814" y="812827"/>
        <a:ext cx="2016151" cy="1902656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F4F712A-1312-4F60-887E-541A1E6D9C56}">
      <dsp:nvSpPr>
        <dsp:cNvPr id="0" name=""/>
        <dsp:cNvSpPr/>
      </dsp:nvSpPr>
      <dsp:spPr>
        <a:xfrm>
          <a:off x="0" y="393575"/>
          <a:ext cx="8346926" cy="524767"/>
        </a:xfrm>
        <a:prstGeom prst="notchedRightArrow">
          <a:avLst/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9405AA3-03A9-4B2B-8E7B-B88F707BD685}">
      <dsp:nvSpPr>
        <dsp:cNvPr id="0" name=""/>
        <dsp:cNvSpPr/>
      </dsp:nvSpPr>
      <dsp:spPr>
        <a:xfrm>
          <a:off x="78002" y="0"/>
          <a:ext cx="1489673" cy="52476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b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April - May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78002" y="0"/>
        <a:ext cx="1489673" cy="524767"/>
      </dsp:txXfrm>
    </dsp:sp>
    <dsp:sp modelId="{52F908DD-976C-41A6-944C-DAEE7138BC90}">
      <dsp:nvSpPr>
        <dsp:cNvPr id="0" name=""/>
        <dsp:cNvSpPr/>
      </dsp:nvSpPr>
      <dsp:spPr>
        <a:xfrm>
          <a:off x="813476" y="591841"/>
          <a:ext cx="131191" cy="131191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D88A8B3-1A40-47ED-B1EE-17B5CA4FA413}">
      <dsp:nvSpPr>
        <dsp:cNvPr id="0" name=""/>
        <dsp:cNvSpPr/>
      </dsp:nvSpPr>
      <dsp:spPr>
        <a:xfrm>
          <a:off x="2805658" y="139079"/>
          <a:ext cx="2420934" cy="52476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t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June - September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2805658" y="139079"/>
        <a:ext cx="2420934" cy="524767"/>
      </dsp:txXfrm>
    </dsp:sp>
    <dsp:sp modelId="{9457BBB7-D9CD-49E6-A719-7A7387AFD967}">
      <dsp:nvSpPr>
        <dsp:cNvPr id="0" name=""/>
        <dsp:cNvSpPr/>
      </dsp:nvSpPr>
      <dsp:spPr>
        <a:xfrm>
          <a:off x="3690521" y="590364"/>
          <a:ext cx="131191" cy="131191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288BD1E-4BD0-44CB-8391-A7FA352CDF46}">
      <dsp:nvSpPr>
        <dsp:cNvPr id="0" name=""/>
        <dsp:cNvSpPr/>
      </dsp:nvSpPr>
      <dsp:spPr>
        <a:xfrm>
          <a:off x="6307746" y="0"/>
          <a:ext cx="1883172" cy="52476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b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July - October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6307746" y="0"/>
        <a:ext cx="1883172" cy="524767"/>
      </dsp:txXfrm>
    </dsp:sp>
    <dsp:sp modelId="{67101BC7-590F-401C-8626-2A4287643ABF}">
      <dsp:nvSpPr>
        <dsp:cNvPr id="0" name=""/>
        <dsp:cNvSpPr/>
      </dsp:nvSpPr>
      <dsp:spPr>
        <a:xfrm>
          <a:off x="6950130" y="591839"/>
          <a:ext cx="131191" cy="131191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1">
  <dgm:title val=""/>
  <dgm:desc val=""/>
  <dgm:catLst>
    <dgm:cat type="cycle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alg type="cycle">
          <dgm:param type="stAng" val="0"/>
          <dgm:param type="spanAng" val="360"/>
        </dgm:alg>
      </dgm:if>
      <dgm:else name="Name2">
        <dgm:alg type="cycle">
          <dgm:param type="stAng" val="0"/>
          <dgm:param type="spanAng" val="-360"/>
        </dgm:alg>
      </dgm:else>
    </dgm:choose>
    <dgm:shape xmlns:r="http://schemas.openxmlformats.org/officeDocument/2006/relationships" r:blip="">
      <dgm:adjLst/>
    </dgm:shape>
    <dgm:presOf/>
    <dgm:choose name="Name3">
      <dgm:if name="Name4" func="var" arg="dir" op="equ" val="norm">
        <dgm:constrLst>
          <dgm:constr type="diam" val="1"/>
          <dgm:constr type="w" for="ch" forName="node" refType="w"/>
          <dgm:constr type="w" for="ch" ptType="sibTrans" refType="w" refFor="ch" refForName="node" fact="0.5"/>
          <dgm:constr type="h" for="ch" ptType="sibTrans" op="equ"/>
          <dgm:constr type="diam" for="ch" ptType="sibTrans" refType="diam" op="equ"/>
          <dgm:constr type="sibSp" refType="w" refFor="ch" refForName="node" fact="0.15"/>
          <dgm:constr type="w" for="ch" forName="dummy" refType="sibSp" fact="2.8"/>
          <dgm:constr type="primFontSz" for="ch" forName="node" op="equ" val="65"/>
        </dgm:constrLst>
      </dgm:if>
      <dgm:else name="Name5">
        <dgm:constrLst>
          <dgm:constr type="diam" val="1"/>
          <dgm:constr type="w" for="ch" forName="node" refType="w"/>
          <dgm:constr type="w" for="ch" ptType="sibTrans" refType="w" refFor="ch" refForName="node" fact="0.5"/>
          <dgm:constr type="h" for="ch" ptType="sibTrans" op="equ"/>
          <dgm:constr type="diam" for="ch" ptType="sibTrans" refType="diam" op="equ" fact="-1"/>
          <dgm:constr type="sibSp" refType="w" refFor="ch" refForName="node" fact="0.15"/>
          <dgm:constr type="w" for="ch" forName="dummy" refType="sibSp" fact="2.8"/>
          <dgm:constr type="primFontSz" for="ch" forName="node" op="equ" val="65"/>
        </dgm:constrLst>
      </dgm:else>
    </dgm:choose>
    <dgm:ruleLst>
      <dgm:rule type="diam" val="INF" fact="NaN" max="NaN"/>
    </dgm:ruleLst>
    <dgm:forEach name="nodesForEach" axis="ch" ptType="node">
      <dgm:choose name="Name6">
        <dgm:if name="Name7" axis="par ch" ptType="doc node" func="cnt" op="gt" val="1">
          <dgm:layoutNode name="dummy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</dgm:if>
        <dgm:else name="Name8"/>
      </dgm:choose>
      <dgm:layoutNode name="node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Name11" axis="followSib" ptType="sibTrans" hideLastTrans="0" cnt="1">
            <dgm:layoutNode name="sibTrans" styleLbl="node1">
              <dgm:alg type="conn">
                <dgm:param type="connRout" val="curve"/>
                <dgm:param type="begPts" val="radial"/>
                <dgm:param type="endPts" val="radial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begPad"/>
                <dgm:constr type="endPad"/>
              </dgm:constrLst>
              <dgm:ruleLst/>
            </dgm:layoutNode>
          </dgm:forEach>
        </dgm:if>
        <dgm:else name="Name12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rocess3">
  <dgm:title val=""/>
  <dgm:desc val=""/>
  <dgm:catLst>
    <dgm:cat type="process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3" destOrd="0"/>
        <dgm:cxn modelId="12" srcId="1" destId="11" srcOrd="0" destOrd="0"/>
        <dgm:cxn modelId="23" srcId="2" destId="21" srcOrd="0" destOrd="0"/>
        <dgm:cxn modelId="34" srcId="3" destId="31" srcOrd="0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  <dgm:pt modelId="3">
          <dgm:prSet phldr="1"/>
        </dgm:pt>
        <dgm:pt modelId="31">
          <dgm:prSet phldr="1"/>
        </dgm:pt>
        <dgm:pt modelId="4">
          <dgm:prSet phldr="1"/>
        </dgm:pt>
        <dgm:pt modelId="41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choose name="Name0">
      <dgm:if name="Name1" func="var" arg="dir" op="equ" val="norm">
        <dgm:alg type="lin"/>
      </dgm:if>
      <dgm:else name="Name2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osite" refType="w"/>
      <dgm:constr type="w" for="ch" ptType="sibTrans" refType="w" refFor="ch" refForName="composite" fact="0.3333"/>
      <dgm:constr type="w" for="des" forName="parTx"/>
      <dgm:constr type="h" for="des" forName="parTx" op="equ"/>
      <dgm:constr type="h" for="des" forName="parSh" op="equ"/>
      <dgm:constr type="w" for="des" forName="desTx"/>
      <dgm:constr type="h" for="des" forName="desTx" op="equ"/>
      <dgm:constr type="w" for="des" forName="parSh"/>
      <dgm:constr type="primFontSz" for="des" forName="parTx" val="65"/>
      <dgm:constr type="secFontSz" for="des" forName="desTx" refType="primFontSz" refFor="des" refForName="parTx" op="equ"/>
      <dgm:constr type="primFontSz" for="des" forName="connTx" refType="primFontSz" refFor="des" refForName="parTx" fact="0.8"/>
      <dgm:constr type="primFontSz" for="des" forName="connTx" refType="primFontSz" refFor="des" refForName="parTx" op="lte" fact="0.8"/>
      <dgm:constr type="h" for="des" forName="parTx" refType="primFontSz" refFor="des" refForName="parTx" fact="0.8"/>
      <dgm:constr type="h" for="des" forName="parSh" refType="primFontSz" refFor="des" refForName="parTx" fact="1.2"/>
      <dgm:constr type="h" for="des" forName="desTx" refType="primFontSz" refFor="des" refForName="parTx" fact="1.6"/>
      <dgm:constr type="h" for="des" forName="parSh" refType="h" refFor="des" refForName="parTx" op="lte" fact="1.5"/>
      <dgm:constr type="h" for="des" forName="parSh" refType="h" refFor="des" refForName="parTx" op="gte" fact="1.5"/>
    </dgm:constrLst>
    <dgm:ruleLst>
      <dgm:rule type="w" for="ch" forName="composite" val="0" fact="NaN" max="NaN"/>
      <dgm:rule type="primFontSz" for="des" forName="parTx" val="5" fact="NaN" max="NaN"/>
    </dgm:ruleLst>
    <dgm:forEach name="Name3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4">
          <dgm:if name="Name5" func="var" arg="dir" op="equ" val="norm">
            <dgm:constrLst>
              <dgm:constr type="h" refType="w" fact="1000"/>
              <dgm:constr type="l" for="ch" forName="parTx"/>
              <dgm:constr type="w" for="ch" forName="parTx" refType="w" fact="0.83"/>
              <dgm:constr type="t" for="ch" forName="parTx"/>
              <dgm:constr type="l" for="ch" forName="parSh"/>
              <dgm:constr type="w" for="ch" forName="parSh" refType="w" refFor="ch" refForName="parTx"/>
              <dgm:constr type="t" for="ch" forName="parSh"/>
              <dgm:constr type="l" for="ch" forName="desTx" refType="w" fact="0.17"/>
              <dgm:constr type="w" for="ch" forName="desTx" refType="w" refFor="ch" refForName="parTx"/>
              <dgm:constr type="t" for="ch" forName="desTx" refType="h" refFor="ch" refForName="parTx"/>
            </dgm:constrLst>
          </dgm:if>
          <dgm:else name="Name6">
            <dgm:constrLst>
              <dgm:constr type="h" refType="w" fact="1000"/>
              <dgm:constr type="l" for="ch" forName="parTx" refType="w" fact="0.17"/>
              <dgm:constr type="w" for="ch" forName="parTx" refType="w" fact="0.83"/>
              <dgm:constr type="t" for="ch" forName="parTx"/>
              <dgm:constr type="l" for="ch" forName="parSh" refType="w" fact="0.15"/>
              <dgm:constr type="w" for="ch" forName="parSh" refType="w" refFor="ch" refForName="parTx"/>
              <dgm:constr type="t" for="ch" forName="parSh"/>
              <dgm:constr type="l" for="ch" forName="desTx"/>
              <dgm:constr type="w" for="ch" forName="desTx" refType="w" refFor="ch" refForName="parTx"/>
              <dgm:constr type="t" for="ch" forName="desTx" refType="h" refFor="ch" refForName="parTx"/>
            </dgm:constrLst>
          </dgm:else>
        </dgm:choose>
        <dgm:ruleLst>
          <dgm:rule type="h" val="INF" fact="NaN" max="NaN"/>
        </dgm:ruleLst>
        <dgm:layoutNode name="parTx">
          <dgm:varLst>
            <dgm:chMax val="0"/>
            <dgm:chPref val="0"/>
            <dgm:bulletEnabled val="1"/>
          </dgm:varLst>
          <dgm:alg type="tx">
            <dgm:param type="parTxLTRAlign" val="l"/>
            <dgm:param type="parTxRTLAlign" val="r"/>
            <dgm:param type="txAnchorVert" val="t"/>
          </dgm:alg>
          <dgm:shape xmlns:r="http://schemas.openxmlformats.org/officeDocument/2006/relationships" type="rect" r:blip="" zOrderOff="1" hideGeom="1">
            <dgm:adjLst>
              <dgm:adj idx="1" val="0.1"/>
            </dgm:adjLst>
          </dgm:shape>
          <dgm:presOf axis="self" ptType="node"/>
          <dgm:constrLst>
            <dgm:constr type="h" refType="w" op="lte" fact="0.4"/>
            <dgm:constr type="bMarg" refType="primFontSz" fact="0.3"/>
            <dgm:constr type="h"/>
          </dgm:constrLst>
          <dgm:ruleLst>
            <dgm:rule type="h" val="INF" fact="NaN" max="NaN"/>
          </dgm:ruleLst>
        </dgm:layoutNode>
        <dgm:layoutNode name="parSh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 ptType="node"/>
          <dgm:constrLst>
            <dgm:constr type="h"/>
          </dgm:constrLst>
          <dgm:ruleLst/>
        </dgm:layoutNode>
        <dgm:layoutNode name="desTx" styleLbl="fgAcc1">
          <dgm:varLst>
            <dgm:bulletEnabled val="1"/>
          </dgm:varLst>
          <dgm:alg type="tx">
            <dgm:param type="stBulletLvl" val="1"/>
          </dgm:alg>
          <dgm:shape xmlns:r="http://schemas.openxmlformats.org/officeDocument/2006/relationships" type="roundRect" r:blip="">
            <dgm:adjLst>
              <dgm:adj idx="1" val="0.1"/>
            </dgm:adjLst>
          </dgm:shape>
          <dgm:presOf axis="des" ptType="node"/>
          <dgm:constrLst>
            <dgm:constr type="secFontSz" val="65"/>
            <dgm:constr type="primFontSz" refType="secFontSz"/>
            <dgm:constr type="h"/>
          </dgm:constrLst>
          <dgm:ruleLst>
            <dgm:rule type="h" val="INF" fact="NaN" max="NaN"/>
          </dgm:ruleLst>
        </dgm:layoutNode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  <dgm:param type="srcNode" val="parTx"/>
            <dgm:param type="dstNode" val="parTx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Tx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hProcess11">
  <dgm:title val=""/>
  <dgm:desc val=""/>
  <dgm:catLst>
    <dgm:cat type="process" pri="8000"/>
    <dgm:cat type="convert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1">
      <dgm:if name="Name2" func="var" arg="dir" op="equ" val="norm">
        <dgm:constrLst>
          <dgm:constr type="w" for="ch" forName="arrow" refType="w"/>
          <dgm:constr type="h" for="ch" forName="arrow" refType="h" fact="0.4"/>
          <dgm:constr type="ctrY" for="ch" forName="arrow" refType="h" fact="0.5"/>
          <dgm:constr type="l" for="ch" forName="arrow"/>
          <dgm:constr type="w" for="ch" forName="points" refType="w" fact="0.9"/>
          <dgm:constr type="h" for="ch" forName="points" refType="h"/>
          <dgm:constr type="t" for="ch" forName="points"/>
          <dgm:constr type="l" for="ch" forName="points"/>
        </dgm:constrLst>
      </dgm:if>
      <dgm:else name="Name3">
        <dgm:constrLst>
          <dgm:constr type="w" for="ch" forName="arrow" refType="w"/>
          <dgm:constr type="h" for="ch" forName="arrow" refType="h" fact="0.4"/>
          <dgm:constr type="ctrY" for="ch" forName="arrow" refType="h" fact="0.5"/>
          <dgm:constr type="r" for="ch" forName="arrow" refType="w"/>
          <dgm:constr type="w" for="ch" forName="points" refType="w" fact="0.9"/>
          <dgm:constr type="h" for="ch" forName="points" refType="h"/>
          <dgm:constr type="t" for="ch" forName="points"/>
          <dgm:constr type="r" for="ch" forName="points" refType="w"/>
        </dgm:constrLst>
      </dgm:else>
    </dgm:choose>
    <dgm:ruleLst/>
    <dgm:layoutNode name="arrow" styleLbl="bgShp">
      <dgm:alg type="sp"/>
      <dgm:choose name="Name4">
        <dgm:if name="Name5" func="var" arg="dir" op="equ" val="norm">
          <dgm:shape xmlns:r="http://schemas.openxmlformats.org/officeDocument/2006/relationships" type="notchedRightArrow" r:blip="">
            <dgm:adjLst/>
          </dgm:shape>
        </dgm:if>
        <dgm:else name="Name6">
          <dgm:shape xmlns:r="http://schemas.openxmlformats.org/officeDocument/2006/relationships" rot="180" type="notchedRightArrow" r:blip="">
            <dgm:adjLst/>
          </dgm:shape>
        </dgm:else>
      </dgm:choose>
      <dgm:presOf/>
      <dgm:constrLst/>
      <dgm:ruleLst/>
    </dgm:layoutNode>
    <dgm:layoutNode name="points">
      <dgm:choose name="Name7">
        <dgm:if name="Name8" func="var" arg="dir" op="equ" val="norm">
          <dgm:alg type="lin">
            <dgm:param type="linDir" val="fromL"/>
          </dgm:alg>
        </dgm:if>
        <dgm:else name="Name9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A" refType="w"/>
        <dgm:constr type="h" for="ch" forName="compositeA" refType="h"/>
        <dgm:constr type="w" for="ch" forName="compositeB" refType="w" refFor="ch" refForName="compositeA" op="equ"/>
        <dgm:constr type="h" for="ch" forName="compositeB" refType="h" refFor="ch" refForName="compositeA" op="equ"/>
        <dgm:constr type="primFontSz" for="des" ptType="node" op="equ" val="65"/>
        <dgm:constr type="w" for="ch" forName="space" refType="w" refFor="ch" refForName="compositeA" op="equ" fact="0.05"/>
      </dgm:constrLst>
      <dgm:ruleLst/>
      <dgm:forEach name="Name10" axis="ch" ptType="node">
        <dgm:choose name="Name11">
          <dgm:if name="Name12" axis="self" ptType="node" func="posOdd" op="equ" val="1">
            <dgm:layoutNode name="compositeA">
              <dgm:alg type="composite"/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extA" refType="w"/>
                <dgm:constr type="h" for="ch" forName="textA" refType="h" fact="0.4"/>
                <dgm:constr type="t" for="ch" forName="textA"/>
                <dgm:constr type="l" for="ch" forName="textA"/>
                <dgm:constr type="h" for="ch" forName="circleA" refType="h" fact="0.1"/>
                <dgm:constr type="h" for="ch" forName="circleA" refType="w" op="lte"/>
                <dgm:constr type="w" for="ch" forName="circleA" refType="h" refFor="ch" refForName="circleA" op="equ"/>
                <dgm:constr type="ctrY" for="ch" forName="circleA" refType="h" fact="0.5"/>
                <dgm:constr type="ctrX" for="ch" forName="circleA" refType="w" refFor="ch" refForName="textA" fact="0.5"/>
                <dgm:constr type="w" for="ch" forName="spaceA" refType="w"/>
                <dgm:constr type="h" for="ch" forName="spaceA" refType="h" fact="0.4"/>
                <dgm:constr type="b" for="ch" forName="spaceA" refType="h"/>
                <dgm:constr type="l" for="ch" forName="spaceA"/>
              </dgm:constrLst>
              <dgm:ruleLst/>
              <dgm:layoutNode name="textA" styleLbl="revTx">
                <dgm:varLst>
                  <dgm:bulletEnabled val="1"/>
                </dgm:varLst>
                <dgm:alg type="tx">
                  <dgm:param type="txAnchorVert" val="b"/>
                  <dgm:param type="txAnchorVertCh" val="b"/>
                  <dgm:param type="txAnchorHorzCh" val="ctr"/>
                </dgm:alg>
                <dgm:shape xmlns:r="http://schemas.openxmlformats.org/officeDocument/2006/relationships" type="rect" r:blip="">
                  <dgm:adjLst/>
                </dgm:shape>
                <dgm:presOf axis="desOrSelf" ptType="node"/>
                <dgm:constrLst/>
                <dgm:ruleLst>
                  <dgm:rule type="primFontSz" val="5" fact="NaN" max="NaN"/>
                </dgm:ruleLst>
              </dgm:layoutNode>
              <dgm:layoutNode name="circleA">
                <dgm:alg type="sp"/>
                <dgm:shape xmlns:r="http://schemas.openxmlformats.org/officeDocument/2006/relationships" type="ellipse" r:blip="">
                  <dgm:adjLst/>
                </dgm:shape>
                <dgm:presOf/>
                <dgm:constrLst/>
                <dgm:ruleLst/>
              </dgm:layoutNode>
              <dgm:layoutNode name="spaceA">
                <dgm:alg type="sp"/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</dgm:layoutNode>
            </dgm:layoutNode>
          </dgm:if>
          <dgm:else name="Name13">
            <dgm:layoutNode name="compositeB">
              <dgm:alg type="composite"/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extB" refType="w"/>
                <dgm:constr type="h" for="ch" forName="textB" refType="h" fact="0.4"/>
                <dgm:constr type="b" for="ch" forName="textB" refType="h"/>
                <dgm:constr type="l" for="ch" forName="textB"/>
                <dgm:constr type="h" for="ch" forName="circleB" refType="h" fact="0.1"/>
                <dgm:constr type="w" for="ch" forName="circleB" refType="h" refFor="ch" refForName="circleB" op="equ"/>
                <dgm:constr type="h" for="ch" forName="circleB" refType="w" op="lte"/>
                <dgm:constr type="ctrY" for="ch" forName="circleB" refType="h" fact="0.5"/>
                <dgm:constr type="ctrX" for="ch" forName="circleB" refType="w" refFor="ch" refForName="textB" fact="0.5"/>
                <dgm:constr type="w" for="ch" forName="spaceB" refType="w"/>
                <dgm:constr type="h" for="ch" forName="spaceB" refType="h" fact="0.4"/>
                <dgm:constr type="t" for="ch" forName="spaceB"/>
                <dgm:constr type="l" for="ch" forName="spaceB"/>
              </dgm:constrLst>
              <dgm:ruleLst/>
              <dgm:layoutNode name="textB" styleLbl="revTx">
                <dgm:varLst>
                  <dgm:bulletEnabled val="1"/>
                </dgm:varLst>
                <dgm:alg type="tx">
                  <dgm:param type="txAnchorVert" val="t"/>
                  <dgm:param type="txAnchorVertCh" val="t"/>
                  <dgm:param type="txAnchorHorzCh" val="ctr"/>
                </dgm:alg>
                <dgm:shape xmlns:r="http://schemas.openxmlformats.org/officeDocument/2006/relationships" type="rect" r:blip="">
                  <dgm:adjLst/>
                </dgm:shape>
                <dgm:presOf axis="desOrSelf" ptType="node"/>
                <dgm:constrLst/>
                <dgm:ruleLst>
                  <dgm:rule type="primFontSz" val="5" fact="NaN" max="NaN"/>
                </dgm:ruleLst>
              </dgm:layoutNode>
              <dgm:layoutNode name="circleB">
                <dgm:alg type="sp"/>
                <dgm:shape xmlns:r="http://schemas.openxmlformats.org/officeDocument/2006/relationships" type="ellipse" r:blip="">
                  <dgm:adjLst/>
                </dgm:shape>
                <dgm:presOf/>
                <dgm:constrLst/>
                <dgm:ruleLst/>
              </dgm:layoutNode>
              <dgm:layoutNode name="spaceB">
                <dgm:alg type="sp"/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</dgm:layoutNode>
            </dgm:layoutNode>
          </dgm:else>
        </dgm:choose>
        <dgm:forEach name="Name14" axis="followSib" ptType="sibTrans" cnt="1">
          <dgm:layoutNode name="space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9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BC8DED-0F25-4848-B1F6-CF41781CA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6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E06C0A-7343-4218-91D4-CFF098E3B2D3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37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03D86A-C439-40D9-9E36-C388E7D14954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38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97D897-975A-4C73-A028-A0CA20EDBDE1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39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3651E5-7873-4440-90BD-BD2D978B5010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40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9AFB17-7E75-4CEC-8170-46B0E7C54898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41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9B6C49-BD71-429E-A87D-87B04FD8EDA0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42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7A71A0-8C93-4146-A1C0-7B21B02BA9C7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43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84BBE2-B9B5-4435-A8C8-09D1A29E81C0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44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5C935D-FE92-46B1-931E-0CAB11473986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45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810983-8E26-44DF-BAA6-8D9AFA3C3646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33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C9F801-5798-4438-87D6-7666560EC8B4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Vision of GF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able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better management of the risks of climate variability and change and adaptation to climate chang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through the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development and incorporation of science-based climate informatio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 prediction into planning, policy and practice on the global, regional and national scale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34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CE8B4F-2A31-4FB3-BA84-0A93FE08729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35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420EB1-9143-412E-A651-BEA0399E7199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95360" y="228600"/>
            <a:ext cx="8915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28600"/>
            <a:ext cx="8915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28600"/>
            <a:ext cx="8915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95000" y="635292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95000" y="114300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62240" y="6462360"/>
            <a:ext cx="190440" cy="12996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820440" y="6381360"/>
            <a:ext cx="699840" cy="388440"/>
          </a:xfrm>
          <a:prstGeom prst="rect">
            <a:avLst/>
          </a:prstGeom>
          <a:ln w="12700">
            <a:noFill/>
          </a:ln>
        </p:spPr>
      </p:pic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8568720" y="6237360"/>
            <a:ext cx="518400" cy="519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20840" y="3886200"/>
            <a:ext cx="7429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974520" y="6355080"/>
            <a:ext cx="7956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676a5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80280" y="3648240"/>
            <a:ext cx="7924320" cy="1279800"/>
          </a:xfrm>
          <a:prstGeom prst="rect">
            <a:avLst/>
          </a:prstGeom>
          <a:noFill/>
          <a:ln cap="rnd" w="6350">
            <a:solidFill>
              <a:srgbClr val="72a376"/>
            </a:solidFill>
            <a:round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90720" y="5048280"/>
            <a:ext cx="7924320" cy="685440"/>
          </a:xfrm>
          <a:prstGeom prst="rect">
            <a:avLst/>
          </a:prstGeom>
          <a:noFill/>
          <a:ln cap="rnd" w="6350">
            <a:solidFill>
              <a:srgbClr val="b0ccb0"/>
            </a:solidFill>
            <a:round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80280" y="3648240"/>
            <a:ext cx="24732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90720" y="5048280"/>
            <a:ext cx="24732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1" name="Picture 10" descr=""/>
          <p:cNvPicPr/>
          <p:nvPr/>
        </p:nvPicPr>
        <p:blipFill>
          <a:blip r:embed="rId4"/>
          <a:stretch/>
        </p:blipFill>
        <p:spPr>
          <a:xfrm>
            <a:off x="1052640" y="404640"/>
            <a:ext cx="1683000" cy="934560"/>
          </a:xfrm>
          <a:prstGeom prst="rect">
            <a:avLst/>
          </a:prstGeom>
          <a:ln w="12700">
            <a:noFill/>
          </a:ln>
        </p:spPr>
      </p:pic>
      <p:pic>
        <p:nvPicPr>
          <p:cNvPr id="12" name="Picture 11" descr=""/>
          <p:cNvPicPr/>
          <p:nvPr/>
        </p:nvPicPr>
        <p:blipFill>
          <a:blip r:embed="rId5"/>
          <a:stretch/>
        </p:blipFill>
        <p:spPr>
          <a:xfrm>
            <a:off x="7839360" y="332640"/>
            <a:ext cx="1124280" cy="11282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2"/>
          <p:cNvSpPr/>
          <p:nvPr/>
        </p:nvSpPr>
        <p:spPr>
          <a:xfrm>
            <a:off x="3782880" y="404640"/>
            <a:ext cx="272988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ctr" pos="2743200"/>
                <a:tab algn="r" pos="5486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Thin"/>
                <a:ea typeface="Times New Roman"/>
              </a:rPr>
              <a:t>WGCl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ctr" pos="2743200"/>
                <a:tab algn="r" pos="5486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Helvetica Neue Thin"/>
                <a:ea typeface="Times New Roman"/>
              </a:rPr>
              <a:t>The Joint CEOS/CG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ctr" pos="2743200"/>
                <a:tab algn="r" pos="5486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Helvetica Neue Thin"/>
                <a:ea typeface="Times New Roman"/>
              </a:rPr>
              <a:t>Working Group on Clim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ctr" pos="2743200"/>
                <a:tab algn="r" pos="5486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GB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traight Connector 27"/>
          <p:cNvSpPr/>
          <p:nvPr/>
        </p:nvSpPr>
        <p:spPr>
          <a:xfrm>
            <a:off x="495000" y="635292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Straight Connector 28"/>
          <p:cNvSpPr/>
          <p:nvPr/>
        </p:nvSpPr>
        <p:spPr>
          <a:xfrm>
            <a:off x="495000" y="114300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Isosceles Triangle 9"/>
          <p:cNvSpPr/>
          <p:nvPr/>
        </p:nvSpPr>
        <p:spPr>
          <a:xfrm rot="5400000">
            <a:off x="462240" y="6462360"/>
            <a:ext cx="190440" cy="12996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820440" y="6381360"/>
            <a:ext cx="699840" cy="388440"/>
          </a:xfrm>
          <a:prstGeom prst="rect">
            <a:avLst/>
          </a:prstGeom>
          <a:ln w="1270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8568720" y="6237360"/>
            <a:ext cx="518400" cy="519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Bookman Old Style"/>
              </a:rPr>
              <a:t>Click to edit Master title styl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Isosceles Triangle 5"/>
          <p:cNvSpPr/>
          <p:nvPr/>
        </p:nvSpPr>
        <p:spPr>
          <a:xfrm rot="5400000">
            <a:off x="462240" y="6462360"/>
            <a:ext cx="190440" cy="12996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2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GB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traight Connector 27"/>
          <p:cNvSpPr/>
          <p:nvPr/>
        </p:nvSpPr>
        <p:spPr>
          <a:xfrm>
            <a:off x="495000" y="635292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Straight Connector 28"/>
          <p:cNvSpPr/>
          <p:nvPr/>
        </p:nvSpPr>
        <p:spPr>
          <a:xfrm>
            <a:off x="495000" y="114300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Isosceles Triangle 9"/>
          <p:cNvSpPr/>
          <p:nvPr/>
        </p:nvSpPr>
        <p:spPr>
          <a:xfrm rot="5400000">
            <a:off x="462240" y="6462360"/>
            <a:ext cx="190440" cy="12996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820440" y="6381360"/>
            <a:ext cx="699840" cy="388440"/>
          </a:xfrm>
          <a:prstGeom prst="rect">
            <a:avLst/>
          </a:prstGeom>
          <a:ln w="1270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3"/>
          <a:stretch/>
        </p:blipFill>
        <p:spPr>
          <a:xfrm>
            <a:off x="8568720" y="6237360"/>
            <a:ext cx="518400" cy="519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Bookman Old Style"/>
              </a:rPr>
              <a:t>Click to edit Master title styl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95360" y="1219320"/>
            <a:ext cx="89150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676a55"/>
                </a:solidFill>
                <a:latin typeface="Gill Sans MT"/>
              </a:rPr>
              <a:t>Second level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9bb49b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b0ccb0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GB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820440" y="6381360"/>
            <a:ext cx="699840" cy="388440"/>
          </a:xfrm>
          <a:prstGeom prst="rect">
            <a:avLst/>
          </a:prstGeom>
          <a:ln w="1270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5"/>
          <a:stretch/>
        </p:blipFill>
        <p:spPr>
          <a:xfrm>
            <a:off x="8568720" y="6237360"/>
            <a:ext cx="518400" cy="519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3"/>
          <p:cNvSpPr>
            <a:spLocks noGrp="1"/>
          </p:cNvSpPr>
          <p:nvPr>
            <p:ph type="ftr" idx="3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9.png"/><Relationship Id="rId3" Type="http://schemas.openxmlformats.org/officeDocument/2006/relationships/chart" Target="../charts/chart2.xml"/><Relationship Id="rId4" Type="http://schemas.openxmlformats.org/officeDocument/2006/relationships/chart" Target="../charts/chart3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diagramData" Target="../diagrams/data3.xml"/><Relationship Id="rId7" Type="http://schemas.openxmlformats.org/officeDocument/2006/relationships/diagramLayout" Target="../diagrams/layout3.xml"/><Relationship Id="rId8" Type="http://schemas.openxmlformats.org/officeDocument/2006/relationships/diagramQuickStyle" Target="../diagrams/quickStyle3.xml"/><Relationship Id="rId9" Type="http://schemas.openxmlformats.org/officeDocument/2006/relationships/diagramColors" Target="../diagrams/colors3.xml"/><Relationship Id="rId10" Type="http://schemas.microsoft.com/office/2007/relationships/diagramDrawing" Target="../diagrams/drawing3.xml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840" y="3886200"/>
            <a:ext cx="7429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Joint Working Group Climate Report 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20840" y="5124600"/>
            <a:ext cx="7429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676a55"/>
                </a:solidFill>
                <a:latin typeface="Bookman Old Style"/>
              </a:rPr>
              <a:t>Jörg Schulz and Pascal Leco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7"/>
          </p:nvPr>
        </p:nvSpPr>
        <p:spPr>
          <a:xfrm>
            <a:off x="974520" y="6355080"/>
            <a:ext cx="7956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2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2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6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676a55"/>
                </a:solidFill>
                <a:latin typeface="Bookman Old Style"/>
              </a:rPr>
              <a:t>CEOS/CGMS Climate WG - Background</a:t>
            </a:r>
            <a:endParaRPr b="0" lang="en-GB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110520" y="1068120"/>
            <a:ext cx="9795240" cy="66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New Joint WG formed in Novemb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Extensive re-use of the arrangements and focus of the predecessor CEOS Climat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ToRs slightly re-worked to clarify the 3 over-arching objectives (reference point is the set of GCOS ECV requiremen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" charset="2"/>
              <a:buChar char="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Providing a comprehensive and accessible view as to what Climate Data Record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" charset="2"/>
              <a:buChar char="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Making best use of currently available data by delivering additional Climate Data Records (e.g. by identifying and targeting cross-calibration or re-processing gaps/shortfa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" charset="2"/>
              <a:buChar char="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Optimising the planning of future satellite missions and constellations to expand existing and planned Climate Data Records, in terms of both coverage and record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ftr" idx="11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4960" y="0"/>
            <a:ext cx="8923320" cy="85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2800" spc="-1" strike="noStrike">
                <a:solidFill>
                  <a:srgbClr val="676a55"/>
                </a:solidFill>
                <a:latin typeface="Bookman Old Style"/>
              </a:rPr>
              <a:t>CEOS-CGMS WGClimate Relevance for Planning</a:t>
            </a: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2880" y="1187280"/>
            <a:ext cx="5375520" cy="56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676a55"/>
                </a:solidFill>
                <a:latin typeface="Gill Sans MT"/>
              </a:rPr>
              <a:t>Provide visibility on Climate Data Records available from CEOS &amp; CGMS missions or their combination </a:t>
            </a:r>
            <a:r>
              <a:rPr b="0" lang="en-IE" sz="2000" spc="-1" strike="noStrike">
                <a:solidFill>
                  <a:srgbClr val="676a55"/>
                </a:solidFill>
                <a:latin typeface="Gill Sans MT"/>
              </a:rPr>
              <a:t>on an GCOS ECV basis that allows response to GCOS IP</a:t>
            </a:r>
            <a:r>
              <a:rPr b="0" lang="en-GB" sz="2000" spc="-1" strike="noStrike">
                <a:solidFill>
                  <a:srgbClr val="676a55"/>
                </a:solidFill>
                <a:latin typeface="Gill Sans MT"/>
              </a:rPr>
              <a:t>;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676a55"/>
                </a:solidFill>
                <a:latin typeface="Gill Sans MT"/>
              </a:rPr>
              <a:t>The Inventory establishes traceability with respect to GCOS principles, requirements and guidelines;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IE" sz="2000" spc="-1" strike="noStrike">
                <a:solidFill>
                  <a:srgbClr val="676a55"/>
                </a:solidFill>
                <a:latin typeface="Gill Sans MT"/>
              </a:rPr>
              <a:t>The WG identifies gaps and shortfalls, provides recommendations and formulates a coordinated action plan to address recommendations;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676a55"/>
                </a:solidFill>
                <a:latin typeface="Gill Sans MT"/>
              </a:rPr>
              <a:t>This optimises the planning of future missions and constellations to expand Climate Data Records and close gaps with respect to GCOS requirements.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144931790"/>
              </p:ext>
            </p:extLst>
          </p:nvPr>
        </p:nvGraphicFramePr>
        <p:xfrm>
          <a:off x="5445360" y="1665000"/>
          <a:ext cx="4460040" cy="3848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93" name="Picture 5" descr=""/>
          <p:cNvPicPr/>
          <p:nvPr/>
        </p:nvPicPr>
        <p:blipFill>
          <a:blip r:embed="rId6"/>
          <a:stretch/>
        </p:blipFill>
        <p:spPr>
          <a:xfrm>
            <a:off x="7166520" y="6469200"/>
            <a:ext cx="699840" cy="388440"/>
          </a:xfrm>
          <a:prstGeom prst="rect">
            <a:avLst/>
          </a:prstGeom>
          <a:ln w="1270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7"/>
          <a:stretch/>
        </p:blipFill>
        <p:spPr>
          <a:xfrm>
            <a:off x="8104680" y="6338160"/>
            <a:ext cx="518400" cy="5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2520" y="152280"/>
            <a:ext cx="9204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Potential Usages of the ECV Inventory beyond the WGClimate 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2"/>
          </p:nvPr>
        </p:nvSpPr>
        <p:spPr>
          <a:xfrm>
            <a:off x="1676520" y="635652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6th Meeting of the Joint CEOS/CGMS Working Group on Climate, 07-09 March, Paris (Fran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520" y="1340640"/>
            <a:ext cx="89150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n inform data record users with a public repository of verified information on what is available and how to access the data; </a:t>
            </a:r>
            <a:endParaRPr b="0" lang="en-GB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n inform climate services, such as Copernicus in Europe, on what CDRs are available/committed and provide status;</a:t>
            </a:r>
            <a:endParaRPr b="0" lang="en-GB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n inform data providers on competitive situations;</a:t>
            </a:r>
            <a:endParaRPr b="0" lang="en-GB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n inform developers with whom to collaborate;</a:t>
            </a:r>
            <a:endParaRPr b="0" lang="en-GB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n inform reviewers of proposals for new CDRs if it is worth investing ...</a:t>
            </a:r>
            <a:endParaRPr b="0" lang="en-GB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3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00" y="228600"/>
            <a:ext cx="9348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 – Recent Developm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110520" y="1419480"/>
            <a:ext cx="97952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Main developments since Nov 201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Europe (ESA then EUMETSAT) will chair the joint WG for the next 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n “integrated team” has been formed to take advantage of this 4-year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ESA has responsibility for completing Inventory Cycle #2 and EUMETSAT has responsibility for completing Cycle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The EC (via Copernicus) has provided funding for a dedicated inventory resource – now 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520" y="228600"/>
            <a:ext cx="9191880" cy="6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 – Recent Developm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110520" y="1068120"/>
            <a:ext cx="97952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Main developments since Nov 2015 - Ct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728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Immediate focus has been on preparing for Cycle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The ECV inventory has been transferred from NASA to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The contents of the Inventory have been assessed and its structure has been slightly modified in preparation for the start of Cycle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n ECV Inventory Guide (to support data providers in the population of the inventory) has been prepared – endorsed at the meeting of JWG on 7-9 March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 reference Gap Analysis Guide (taking benefit from the thin slice gap analysis conducted during Cycle #1) has been prepared – also endorsed at the meeting of JWG on 7-9 March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5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Bookman Old Style"/>
              </a:rPr>
              <a:t>ECV Inventory Cycle#1 - Analysi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6"/>
          </p:nvPr>
        </p:nvSpPr>
        <p:spPr>
          <a:xfrm>
            <a:off x="1676520" y="635652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6th Meeting of the Joint CEOS/CGMS Working Group on Climate, 07-09 March, Paris (Fran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Chart 6"/>
          <p:cNvGraphicFramePr/>
          <p:nvPr/>
        </p:nvGraphicFramePr>
        <p:xfrm>
          <a:off x="0" y="3717000"/>
          <a:ext cx="3588120" cy="2091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428400" y="1700640"/>
            <a:ext cx="3822120" cy="2050200"/>
          </a:xfrm>
          <a:prstGeom prst="rect">
            <a:avLst/>
          </a:prstGeom>
          <a:ln w="9525">
            <a:noFill/>
          </a:ln>
          <a:effectLst>
            <a:outerShdw algn="ctr" blurRad="50760" dir="5400000" dist="50760" rotWithShape="0">
              <a:schemeClr val="tx2">
                <a:alpha val="98000"/>
              </a:schemeClr>
            </a:outerShdw>
          </a:effectLst>
        </p:spPr>
      </p:pic>
      <p:graphicFrame>
        <p:nvGraphicFramePr>
          <p:cNvPr id="209" name="Chart 8"/>
          <p:cNvGraphicFramePr/>
          <p:nvPr/>
        </p:nvGraphicFramePr>
        <p:xfrm>
          <a:off x="2768760" y="3789000"/>
          <a:ext cx="2495880" cy="2094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210" name="Chart 10"/>
          <p:cNvGraphicFramePr/>
          <p:nvPr/>
        </p:nvGraphicFramePr>
        <p:xfrm>
          <a:off x="4484880" y="2853000"/>
          <a:ext cx="5264640" cy="360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cxnSp>
        <p:nvCxnSpPr>
          <p:cNvPr id="211" name="Straight Arrow Connector 14"/>
          <p:cNvCxnSpPr/>
          <p:nvPr/>
        </p:nvCxnSpPr>
        <p:spPr>
          <a:xfrm>
            <a:off x="1052280" y="3140640"/>
            <a:ext cx="312480" cy="792720"/>
          </a:xfrm>
          <a:prstGeom prst="straightConnector1">
            <a:avLst/>
          </a:prstGeom>
          <a:ln w="15875">
            <a:solidFill>
              <a:srgbClr val="67936b"/>
            </a:solidFill>
            <a:round/>
            <a:tailEnd len="med" type="stealth" w="lg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2066400" y="3068640"/>
            <a:ext cx="1014480" cy="864720"/>
          </a:xfrm>
          <a:prstGeom prst="straightConnector1">
            <a:avLst/>
          </a:prstGeom>
          <a:ln w="15875">
            <a:solidFill>
              <a:srgbClr val="67936b"/>
            </a:solidFill>
            <a:round/>
            <a:tailEnd len="med" type="stealth" w="lg"/>
          </a:ln>
        </p:spPr>
      </p:cxnSp>
      <p:cxnSp>
        <p:nvCxnSpPr>
          <p:cNvPr id="213" name="Straight Arrow Connector 28"/>
          <p:cNvCxnSpPr/>
          <p:nvPr/>
        </p:nvCxnSpPr>
        <p:spPr>
          <a:xfrm>
            <a:off x="2846520" y="2924640"/>
            <a:ext cx="2808720" cy="792720"/>
          </a:xfrm>
          <a:prstGeom prst="straightConnector1">
            <a:avLst/>
          </a:prstGeom>
          <a:ln w="15875">
            <a:solidFill>
              <a:srgbClr val="67936b"/>
            </a:solidFill>
            <a:round/>
            <a:tailEnd len="med" type="stealth" w="lg"/>
          </a:ln>
        </p:spPr>
      </p:cxnSp>
      <p:sp>
        <p:nvSpPr>
          <p:cNvPr id="214" name="Multiply 36"/>
          <p:cNvSpPr/>
          <p:nvPr/>
        </p:nvSpPr>
        <p:spPr>
          <a:xfrm>
            <a:off x="2690640" y="4653000"/>
            <a:ext cx="467640" cy="503640"/>
          </a:xfrm>
          <a:prstGeom prst="mathMultiply">
            <a:avLst>
              <a:gd name="adj1" fmla="val 23520"/>
            </a:avLst>
          </a:prstGeom>
          <a:solidFill>
            <a:srgbClr val="72a37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9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15" name="Equal 37"/>
          <p:cNvSpPr/>
          <p:nvPr/>
        </p:nvSpPr>
        <p:spPr>
          <a:xfrm>
            <a:off x="4952880" y="4725000"/>
            <a:ext cx="467640" cy="41004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72a37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9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216" name="Straight Arrow Connector 38"/>
          <p:cNvCxnSpPr/>
          <p:nvPr/>
        </p:nvCxnSpPr>
        <p:spPr>
          <a:xfrm flipV="1">
            <a:off x="428400" y="1556640"/>
            <a:ext cx="360" cy="144360"/>
          </a:xfrm>
          <a:prstGeom prst="straightConnector1">
            <a:avLst/>
          </a:prstGeom>
          <a:ln w="15875">
            <a:solidFill>
              <a:srgbClr val="67936b"/>
            </a:solidFill>
            <a:prstDash val="sysDash"/>
            <a:round/>
            <a:tailEnd len="med" type="stealth" w="med"/>
          </a:ln>
        </p:spPr>
      </p:cxnSp>
      <p:cxnSp>
        <p:nvCxnSpPr>
          <p:cNvPr id="217" name="Straight Arrow Connector 39"/>
          <p:cNvCxnSpPr/>
          <p:nvPr/>
        </p:nvCxnSpPr>
        <p:spPr>
          <a:xfrm flipV="1">
            <a:off x="4328640" y="1556640"/>
            <a:ext cx="4915080" cy="144360"/>
          </a:xfrm>
          <a:prstGeom prst="straightConnector1">
            <a:avLst/>
          </a:prstGeom>
          <a:ln w="15875">
            <a:solidFill>
              <a:srgbClr val="67936b"/>
            </a:solidFill>
            <a:prstDash val="sysDash"/>
            <a:round/>
            <a:tailEnd len="med" type="stealth" w="med"/>
          </a:ln>
        </p:spPr>
      </p:cxnSp>
      <p:pic>
        <p:nvPicPr>
          <p:cNvPr id="218" name="Picture 4" descr=""/>
          <p:cNvPicPr/>
          <p:nvPr/>
        </p:nvPicPr>
        <p:blipFill>
          <a:blip r:embed="rId5"/>
          <a:stretch/>
        </p:blipFill>
        <p:spPr>
          <a:xfrm>
            <a:off x="350640" y="1196640"/>
            <a:ext cx="9125640" cy="297360"/>
          </a:xfrm>
          <a:prstGeom prst="rect">
            <a:avLst/>
          </a:prstGeom>
          <a:ln w="9525">
            <a:noFill/>
          </a:ln>
          <a:effectLst>
            <a:outerShdw algn="ctr" blurRad="50760" dir="5400000" dist="50760" rotWithShape="0">
              <a:schemeClr val="tx2"/>
            </a:outerShdw>
          </a:effectLst>
        </p:spPr>
      </p:pic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Bookman Old Style"/>
              </a:rPr>
              <a:t>Rational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219320"/>
            <a:ext cx="89150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ssons learnt from Cycle #1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8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527800" y="1219320"/>
            <a:ext cx="43779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posed approach for Cycle #2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5186880" y="2150280"/>
            <a:ext cx="436824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Revision of questionnai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Guide to the Questionnai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Direct engagement with responders per data reco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Finding right responders via WGClimate members engagement and catalog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1-to-1 interactions between ‘questioner’ and ‘responder’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Clear split into two qu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662400" y="2205000"/>
            <a:ext cx="3978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Unpopulated / poorly populated fiel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Inconsistent / insufficient input of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Potentially missing data record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Difficult assessment for future improvements of questionnai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Clear distinction between current and future partly lost in implementa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3200" spc="-1" strike="noStrike">
                <a:solidFill>
                  <a:srgbClr val="676a55"/>
                </a:solidFill>
                <a:latin typeface="Bookman Old Style"/>
              </a:rPr>
              <a:t>Database tables - Traceability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9"/>
          </p:nvPr>
        </p:nvSpPr>
        <p:spPr>
          <a:xfrm>
            <a:off x="3140280" y="6356520"/>
            <a:ext cx="3796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6th Meeting of the Joint CEOS/CGMS Working Group on Climate, 07-09 March, Paris (Fran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506520" y="1268640"/>
            <a:ext cx="8944560" cy="4940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29" name="PlaceHolder 3"/>
          <p:cNvSpPr>
            <a:spLocks noGrp="1"/>
          </p:cNvSpPr>
          <p:nvPr>
            <p:ph type="ftr" idx="20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3200" spc="-1" strike="noStrike">
                <a:solidFill>
                  <a:srgbClr val="676a55"/>
                </a:solidFill>
                <a:latin typeface="Bookman Old Style"/>
              </a:rPr>
              <a:t>Integration with WGClimate Websit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21"/>
          </p:nvPr>
        </p:nvSpPr>
        <p:spPr>
          <a:xfrm>
            <a:off x="1676520" y="635652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6th Meeting of the Joint CEOS/CGMS Working Group on Climate, 07-09 March, Paris (Fran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5360" y="1219320"/>
            <a:ext cx="8915040" cy="17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de-DE" sz="2600" spc="-1" strike="noStrike">
                <a:solidFill>
                  <a:srgbClr val="000000"/>
                </a:solidFill>
                <a:latin typeface="Gill Sans MT"/>
              </a:rPr>
              <a:t>ECV inventory is displayed as integral part of the WGClimate website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de-DE" sz="2600" spc="-1" strike="noStrike">
                <a:solidFill>
                  <a:srgbClr val="000000"/>
                </a:solidFill>
                <a:latin typeface="Gill Sans MT"/>
              </a:rPr>
              <a:t>Integration via &lt;iframe&gt; allows independent development and maintenance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506520" y="3141000"/>
            <a:ext cx="4043880" cy="31741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952880" y="3141000"/>
            <a:ext cx="4508640" cy="2592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35" name="Picture 5" descr=""/>
          <p:cNvPicPr/>
          <p:nvPr/>
        </p:nvPicPr>
        <p:blipFill>
          <a:blip r:embed="rId3"/>
          <a:stretch/>
        </p:blipFill>
        <p:spPr>
          <a:xfrm>
            <a:off x="6669360" y="4869000"/>
            <a:ext cx="2532960" cy="1439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36" name="PlaceHolder 4"/>
          <p:cNvSpPr>
            <a:spLocks noGrp="1"/>
          </p:cNvSpPr>
          <p:nvPr>
            <p:ph type="ftr" idx="22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Bookman Old Style"/>
              </a:rPr>
              <a:t>Update process - Overview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ftr" idx="23"/>
          </p:nvPr>
        </p:nvSpPr>
        <p:spPr>
          <a:xfrm>
            <a:off x="1676520" y="635652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6th Meeting of the Joint CEOS/CGMS Working Group on Climate, 07-09 March, Paris (Fran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748956561"/>
              </p:ext>
            </p:extLst>
          </p:nvPr>
        </p:nvGraphicFramePr>
        <p:xfrm>
          <a:off x="495360" y="2637000"/>
          <a:ext cx="8915040" cy="2808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635419573"/>
              </p:ext>
            </p:extLst>
          </p:nvPr>
        </p:nvGraphicFramePr>
        <p:xfrm>
          <a:off x="818640" y="1397160"/>
          <a:ext cx="834660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sp>
        <p:nvSpPr>
          <p:cNvPr id="239" name="PlaceHolder 3"/>
          <p:cNvSpPr>
            <a:spLocks noGrp="1"/>
          </p:cNvSpPr>
          <p:nvPr>
            <p:ph type="ftr" idx="24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ont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8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450360" y="1514880"/>
            <a:ext cx="904824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Introduction/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EOS/CGMS Climate Working Group – Set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EOS/CGMS Climate Working Group –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EOS/CGMS Climate Working Group – Looking Ahead: 4 Yea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00" y="228600"/>
            <a:ext cx="9402840" cy="7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 – Recent Developm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110520" y="1242000"/>
            <a:ext cx="97952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Main developments since Nov 2015 - Ct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371600" y="1681200"/>
            <a:ext cx="8534160" cy="47347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 type="ftr" idx="25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7480" y="228600"/>
            <a:ext cx="9232920" cy="6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 – Recent Developm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110520" y="1159920"/>
            <a:ext cx="97952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Main developments since Nov 2015 - Ct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589760" y="1650240"/>
            <a:ext cx="7469640" cy="48416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 type="ftr" idx="26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1160" y="228600"/>
            <a:ext cx="9219240" cy="6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 – Recent Developm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10520" y="1068120"/>
            <a:ext cx="9795240" cy="63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Other items from the JWG Meeting on 7-9 March 2016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The 4-Year Work Plan was approved – considered in more detail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Prototype of JWG website presented – now undergoing a review process – planned to be available as from 1 May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se Studies using the Architecture presented (backwards from decision-making through to link with observations) – well received – now a WMO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pproach for addressing the actions arising from the CEOS Carbon Strategy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Vice-Chair vacancy (as from Nov 20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Next meeting in Brazil in Feb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ftr" idx="27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9410400" cy="82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: 4-Year Plan – Cycle #2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110520" y="1068120"/>
            <a:ext cx="979524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51360" y="1434600"/>
            <a:ext cx="9372600" cy="4168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 type="ftr" idx="28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9235080" cy="7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: 4-Year Plan – Cycle #3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169920" y="1244880"/>
            <a:ext cx="9626400" cy="154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158760" y="2777760"/>
            <a:ext cx="9626400" cy="2763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 type="ftr" idx="29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7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: 4-Year Plan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169920" y="1244880"/>
            <a:ext cx="9626400" cy="1547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58760" y="2763720"/>
            <a:ext cx="9659160" cy="28040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 type="ftr" idx="30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741840" y="3261960"/>
            <a:ext cx="58968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676a55"/>
                </a:solidFill>
                <a:latin typeface="Times New Roman"/>
              </a:rPr>
              <a:t>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Reporting Activitie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360" y="1219320"/>
            <a:ext cx="89150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porting to CEOS (SIT, April 2016)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Update of the ECV Inventory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nalysis report on new Climate Change Treaty (COP-21)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porting To CGMS (#44 Biot-France June 2016)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676a55"/>
                </a:solidFill>
                <a:latin typeface="Gill Sans MT"/>
              </a:rPr>
              <a:t>Actions: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CDR Inventory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teroperability Standards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porting to SBSTA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GClimate Chair will be present at SBSTA-44 as part of the ESA delegation.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erface with GCOS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pporting the Definition of the New GCOS IP (planned end 2016)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Prepare the CEOS/CGMS response to the new GCOS IP (planned end 2017)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31"/>
          </p:nvPr>
        </p:nvSpPr>
        <p:spPr>
          <a:xfrm>
            <a:off x="2146320" y="6356520"/>
            <a:ext cx="5447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Joint CEOS/CGMS Working Group on Clim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Report from JWGC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1028880" y="1147320"/>
            <a:ext cx="97952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……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Thank you for your atten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32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Relevant outcome of COP-21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219320"/>
            <a:ext cx="89150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aptation (Article 7(c)):</a:t>
            </a:r>
            <a:endParaRPr b="0" lang="en-GB" sz="28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Strengthening scientific knowledge on climat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including research, </a:t>
            </a: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systematic observation of the climate system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 early warning systems, in a manner that </a:t>
            </a: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informs climate services and supports decision-making </a:t>
            </a:r>
            <a:endParaRPr b="0" lang="en-GB" sz="32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25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8" descr="hued"/>
          <p:cNvPicPr/>
          <p:nvPr/>
        </p:nvPicPr>
        <p:blipFill>
          <a:blip r:embed="rId1"/>
          <a:stretch/>
        </p:blipFill>
        <p:spPr>
          <a:xfrm>
            <a:off x="1001520" y="1781640"/>
            <a:ext cx="7629120" cy="4807800"/>
          </a:xfrm>
          <a:prstGeom prst="rect">
            <a:avLst/>
          </a:prstGeom>
          <a:ln w="9525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0" y="0"/>
            <a:ext cx="9905760" cy="84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80000"/>
              </a:lnSpc>
              <a:spcBef>
                <a:spcPts val="420"/>
              </a:spcBef>
              <a:spcAft>
                <a:spcPts val="420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  <a:ea typeface="宋体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21760" cy="85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This is consistent with the GFC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04840" y="961560"/>
            <a:ext cx="9411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Enable better management of adaptation to climate change through the development  and incorporation of science-based climate information  into planning, policy and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Research and science are key drivers 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400" y="1651320"/>
            <a:ext cx="8829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Research: “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trengthening scientific knowledge”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GB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39280" indent="-26928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Research feeds IPCC assessment reports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39280" indent="-26928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Climate Research has requirements of its own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39280" indent="-26928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WCRP and its observation panels play a key role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 robust science base is needed for all GFCS pillars</a:t>
            </a:r>
            <a:endParaRPr b="0" lang="en-GB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39280" indent="-26928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676a55"/>
                </a:solidFill>
                <a:latin typeface="Gill Sans MT"/>
              </a:rPr>
              <a:t>This is true for “Observations and monitoring”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39280" indent="-26928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676a55"/>
                </a:solidFill>
                <a:latin typeface="Gill Sans MT"/>
              </a:rPr>
              <a:t>Science of observation and extraction of Climate Data Records shall not be underestimated  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Tahoma"/>
              </a:rPr>
              <a:t>Climate Symposium 2014: Relevant Outcom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6760" y="1419480"/>
            <a:ext cx="4564080" cy="49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4000"/>
          </a:bodyPr>
          <a:p>
            <a:pPr marL="268920" indent="-268920">
              <a:lnSpc>
                <a:spcPct val="12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3800" spc="-1" strike="noStrike">
                <a:solidFill>
                  <a:srgbClr val="000000"/>
                </a:solidFill>
                <a:latin typeface="Gill Sans MT"/>
              </a:rPr>
              <a:t>There is a need for an </a:t>
            </a:r>
            <a:r>
              <a:rPr b="0" lang="en-GB" sz="3800" spc="-1" strike="noStrike">
                <a:solidFill>
                  <a:srgbClr val="ff0000"/>
                </a:solidFill>
                <a:latin typeface="Gill Sans MT"/>
              </a:rPr>
              <a:t>integrated observational approach</a:t>
            </a:r>
            <a:r>
              <a:rPr b="0" lang="en-GB" sz="3800" spc="-1" strike="noStrike">
                <a:solidFill>
                  <a:srgbClr val="000000"/>
                </a:solidFill>
                <a:latin typeface="Gill Sans MT"/>
              </a:rPr>
              <a:t>.  One that is strategically designed to be </a:t>
            </a:r>
            <a:r>
              <a:rPr b="0" lang="en-GB" sz="3800" spc="-1" strike="noStrike">
                <a:solidFill>
                  <a:srgbClr val="ff0000"/>
                </a:solidFill>
                <a:latin typeface="Gill Sans MT"/>
              </a:rPr>
              <a:t>cost effective and sustained </a:t>
            </a:r>
            <a:r>
              <a:rPr b="0" lang="en-GB" sz="3800" spc="-1" strike="noStrike">
                <a:solidFill>
                  <a:srgbClr val="000000"/>
                </a:solidFill>
                <a:latin typeface="Gill Sans MT"/>
              </a:rPr>
              <a:t>over decades, yet remains </a:t>
            </a:r>
            <a:r>
              <a:rPr b="0" lang="en-GB" sz="3800" spc="-1" strike="noStrike">
                <a:solidFill>
                  <a:srgbClr val="ff0000"/>
                </a:solidFill>
                <a:latin typeface="Gill Sans MT"/>
              </a:rPr>
              <a:t>targeted on key challenges and promotes the fusion of theory, models and observations</a:t>
            </a:r>
            <a:r>
              <a:rPr b="0" lang="en-GB" sz="3800" spc="-1" strike="noStrike">
                <a:solidFill>
                  <a:srgbClr val="000000"/>
                </a:solidFill>
                <a:latin typeface="Gill Sans MT"/>
              </a:rPr>
              <a:t>. Where relevant, this approach should also address the linkages to societal benefits, as this could facilitate the funding of new observation systems.</a:t>
            </a:r>
            <a:endParaRPr b="0" lang="en-GB" sz="3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" name="Picture 3" descr="C:\Jörg\Conferences_and_Workshops\NOAA-CDR-Annuals\August_2015\15717514032_d4c538f6fe_z.jpg"/>
          <p:cNvPicPr/>
          <p:nvPr/>
        </p:nvPicPr>
        <p:blipFill>
          <a:blip r:embed="rId1"/>
          <a:stretch/>
        </p:blipFill>
        <p:spPr>
          <a:xfrm>
            <a:off x="5040720" y="1551600"/>
            <a:ext cx="4723920" cy="387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676a55"/>
                </a:solidFill>
                <a:latin typeface="Bookman Old Style"/>
              </a:rPr>
              <a:t>Flow of Requirements to Products</a:t>
            </a:r>
            <a:endParaRPr b="0" lang="en-GB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9"/>
          </p:nvPr>
        </p:nvSpPr>
        <p:spPr>
          <a:xfrm>
            <a:off x="2146320" y="6356520"/>
            <a:ext cx="5447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Joint CEOS/CGMS Working Group on Clim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Isosceles Triangle 4"/>
          <p:cNvSpPr/>
          <p:nvPr/>
        </p:nvSpPr>
        <p:spPr>
          <a:xfrm>
            <a:off x="4383360" y="2025360"/>
            <a:ext cx="4102560" cy="3282840"/>
          </a:xfrm>
          <a:prstGeom prst="triangle">
            <a:avLst>
              <a:gd name="adj" fmla="val 50000"/>
            </a:avLst>
          </a:prstGeom>
          <a:noFill/>
          <a:ln w="76200">
            <a:solidFill>
              <a:srgbClr val="2222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9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364720" y="1451160"/>
            <a:ext cx="2063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8223120" y="5337360"/>
            <a:ext cx="1568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2031840" y="5413320"/>
            <a:ext cx="2923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WG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ight Arrow 8"/>
          <p:cNvSpPr/>
          <p:nvPr/>
        </p:nvSpPr>
        <p:spPr>
          <a:xfrm flipH="1">
            <a:off x="5057280" y="4597560"/>
            <a:ext cx="2759760" cy="142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2228b"/>
          </a:solidFill>
          <a:ln>
            <a:solidFill>
              <a:srgbClr val="2222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Gill Sans MT"/>
              </a:rPr>
              <a:t>Consolid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Gill Sans MT"/>
              </a:rPr>
              <a:t>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ight Arrow 9"/>
          <p:cNvSpPr/>
          <p:nvPr/>
        </p:nvSpPr>
        <p:spPr>
          <a:xfrm rot="18000000">
            <a:off x="4390200" y="3092040"/>
            <a:ext cx="2079720" cy="1071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2228b"/>
          </a:solidFill>
          <a:ln>
            <a:solidFill>
              <a:srgbClr val="2222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Gill Sans MT"/>
              </a:rPr>
              <a:t>ECVs/CD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ight Arrow 10"/>
          <p:cNvSpPr/>
          <p:nvPr/>
        </p:nvSpPr>
        <p:spPr>
          <a:xfrm rot="3600000">
            <a:off x="6403680" y="2973960"/>
            <a:ext cx="2120040" cy="1443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2228b"/>
          </a:solidFill>
          <a:ln>
            <a:solidFill>
              <a:srgbClr val="2222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Gill Sans MT"/>
              </a:rPr>
              <a:t>UNFC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Gill Sans MT"/>
              </a:rPr>
              <a:t>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Table 11"/>
          <p:cNvGraphicFramePr/>
          <p:nvPr/>
        </p:nvGraphicFramePr>
        <p:xfrm>
          <a:off x="383040" y="1581480"/>
          <a:ext cx="3281760" cy="1552320"/>
        </p:xfrm>
        <a:graphic>
          <a:graphicData uri="http://schemas.openxmlformats.org/drawingml/2006/table">
            <a:tbl>
              <a:tblPr/>
              <a:tblGrid>
                <a:gridCol w="1270080"/>
                <a:gridCol w="996120"/>
                <a:gridCol w="1015560"/>
              </a:tblGrid>
              <a:tr h="64980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C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rbon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ater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2a376"/>
                    </a:solidFill>
                  </a:tcPr>
                </a:tc>
              </a:tr>
              <a:tr h="447480"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cipi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orit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orit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4680"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orit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ority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TextBox 13"/>
          <p:cNvSpPr/>
          <p:nvPr/>
        </p:nvSpPr>
        <p:spPr>
          <a:xfrm>
            <a:off x="7657200" y="6378120"/>
            <a:ext cx="212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ourtesy J. B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Architecture.png"/>
          <p:cNvPicPr/>
          <p:nvPr/>
        </p:nvPicPr>
        <p:blipFill>
          <a:blip r:embed="rId1"/>
          <a:stretch/>
        </p:blipFill>
        <p:spPr>
          <a:xfrm>
            <a:off x="1456200" y="4516200"/>
            <a:ext cx="2599920" cy="71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6"/>
          <p:cNvSpPr/>
          <p:nvPr/>
        </p:nvSpPr>
        <p:spPr>
          <a:xfrm>
            <a:off x="7738200" y="1187280"/>
            <a:ext cx="1951200" cy="1614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ink to Grand Science Challenges and their 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Straight Connector 18"/>
          <p:cNvCxnSpPr>
            <a:stCxn id="177" idx="2"/>
            <a:endCxn id="167" idx="4"/>
          </p:cNvCxnSpPr>
          <p:nvPr/>
        </p:nvCxnSpPr>
        <p:spPr>
          <a:xfrm flipH="1">
            <a:off x="8486280" y="2818440"/>
            <a:ext cx="227880" cy="2490480"/>
          </a:xfrm>
          <a:prstGeom prst="straightConnector1">
            <a:avLst/>
          </a:prstGeom>
          <a:ln w="76200">
            <a:solidFill>
              <a:srgbClr val="000000"/>
            </a:solidFill>
            <a:prstDash val="dashDot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028880" y="871560"/>
            <a:ext cx="8875440" cy="480636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10" descr="CEOS Logo"/>
          <p:cNvPicPr/>
          <p:nvPr/>
        </p:nvPicPr>
        <p:blipFill>
          <a:blip r:embed="rId2"/>
          <a:stretch/>
        </p:blipFill>
        <p:spPr>
          <a:xfrm>
            <a:off x="76320" y="3992400"/>
            <a:ext cx="1671120" cy="502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5760" cy="8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2800" spc="-1" strike="noStrike">
                <a:solidFill>
                  <a:srgbClr val="676a55"/>
                </a:solidFill>
                <a:latin typeface="Bookman Old Style"/>
              </a:rPr>
              <a:t>The Architecture for Climate Monitoring from Space</a:t>
            </a: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0" y="5574600"/>
            <a:ext cx="99057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ation coordina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oint CEOS – CGMS Working Group on Climate (JWG Clim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CGMS"/>
          <p:cNvPicPr/>
          <p:nvPr/>
        </p:nvPicPr>
        <p:blipFill>
          <a:blip r:embed="rId3"/>
          <a:stretch/>
        </p:blipFill>
        <p:spPr>
          <a:xfrm>
            <a:off x="216360" y="1768320"/>
            <a:ext cx="936360" cy="1017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155520" y="-13644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GB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676a55"/>
                </a:solidFill>
                <a:latin typeface="Bookman Old Style"/>
              </a:rPr>
              <a:t>CEOS/CGMS Climate WG - Background</a:t>
            </a:r>
            <a:endParaRPr b="0" lang="en-GB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110520" y="1514880"/>
            <a:ext cx="9177120" cy="75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3" marL="7315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Particip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Europe: JRC, ESA, EUMETSAT, ASI, CNES, DLR, NSC, U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mericas: INPE, NOAA, NASA, US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sia: CMA, ISRO, JAXA, JMA, K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315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Chaired by: Pascal Lecomte (ESA) until November 2017, then Jörg Schulz (EUMETSAT) until November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ftr" idx="10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Foundry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Foundry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Foundry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9</TotalTime>
  <Application>LibreOffice/7.4.7.2$Linux_X86_64 LibreOffice_project/40$Build-2</Application>
  <AppVersion>15.0000</AppVersion>
  <Words>1723</Words>
  <Paragraphs>229</Paragraphs>
  <Company>Eumetsa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08:21:02Z</dcterms:created>
  <dc:creator>Thomas Staudte</dc:creator>
  <dc:description/>
  <dc:language>en-US</dc:language>
  <cp:lastModifiedBy>Joerg Schulz</cp:lastModifiedBy>
  <cp:lastPrinted>2006-03-06T14:11:17Z</cp:lastPrinted>
  <dcterms:modified xsi:type="dcterms:W3CDTF">2016-04-08T09:50:50Z</dcterms:modified>
  <cp:revision>214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A4 Paper (210x297 mm)</vt:lpwstr>
  </property>
  <property fmtid="{D5CDD505-2E9C-101B-9397-08002B2CF9AE}" pid="4" name="Slides">
    <vt:r8>27</vt:r8>
  </property>
</Properties>
</file>