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7521-0F12-4690-B8B5-F40A51B47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0DA7-AE68-466B-B769-3F7598B8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346-3840-4E1C-9F91-0CED8AA6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677-EEE1-4C0F-84D0-0A781EA8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9CB-7E0D-4E9F-B3B4-84F92B65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05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270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581-020E-4E72-9A01-3388DF2D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7D58-CD9F-4213-A32C-11EB6D3F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FF2-BB60-4A7D-9580-8719C815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8BF-3AB2-48AF-A206-D158D96C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EA7-DF3B-4E26-B3DC-50CF43E1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33B-25B7-4A0A-A69E-4160BFED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3B1-0976-4580-8375-19DF99C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2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264-6D63-4833-8638-AEC87160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0570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270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375-B111-4916-BC8A-797148D3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2560" y="6095520"/>
            <a:ext cx="3276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7784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F2E8-34B4-42D5-836F-96063D4A4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bbe0e3"/>
              </a:solidFill>
              <a:latin typeface="Arial"/>
            </a:endParaRPr>
          </a:p>
        </p:txBody>
      </p:sp>
      <p:pic>
        <p:nvPicPr>
          <p:cNvPr id="5" name="Picture 9" descr="lower_banner"/>
          <p:cNvPicPr/>
          <p:nvPr/>
        </p:nvPicPr>
        <p:blipFill>
          <a:blip r:embed="rId2"/>
          <a:stretch/>
        </p:blipFill>
        <p:spPr>
          <a:xfrm>
            <a:off x="0" y="6229440"/>
            <a:ext cx="9144000" cy="628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upper_banner"/>
          <p:cNvPicPr/>
          <p:nvPr/>
        </p:nvPicPr>
        <p:blipFill>
          <a:blip r:embed="rId3"/>
          <a:stretch/>
        </p:blipFill>
        <p:spPr>
          <a:xfrm>
            <a:off x="0" y="0"/>
            <a:ext cx="914400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2126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C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dvisory Council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ril 7, 201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JSC36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2171880"/>
          <a:ext cx="7772400" cy="1006200"/>
        </p:xfrm>
        <a:graphic>
          <a:graphicData uri="http://schemas.openxmlformats.org/drawingml/2006/table">
            <a:tbl>
              <a:tblPr/>
              <a:tblGrid>
                <a:gridCol w="357120"/>
                <a:gridCol w="865080"/>
                <a:gridCol w="4176720"/>
                <a:gridCol w="1440000"/>
                <a:gridCol w="933480"/>
              </a:tblGrid>
              <a:tr h="1369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23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7.3 WDAC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Make data issues more prominent within WCRP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Develop ideas and plans for a data prize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Work with GCOS to expand ECVs in useful directions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Establish a WCRP-wide open data policy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Refine and clarify the earth system reanalysis concept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AC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, with JPS and GCOS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MT"/>
                        </a:rPr>
                        <a:t>Summer 2015 </a:t>
                      </a:r>
                      <a:endParaRPr b="1" lang="en-US" sz="1200" spc="-1" strike="noStrike">
                        <a:solidFill>
                          <a:srgbClr val="bbe0e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218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ctions for your consid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04640"/>
            <a:ext cx="85075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put together a summary of actions for your input and approva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this as the last item on our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 as a single entry point for all WCRP data, information, and observation activities with its sister programm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ordinate their high-level aspects across the WCR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ure cooperation with main WCRP partners such as GCOS, CEOS, CGMS and other observing program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DAC works with the WCRP Modeling Advisory Council to promote effective use of observations with models and to address issues related to the coordinated development of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ata assimilation, reanalysis, Observing System Sampling Experiments, fluxes and paleoclimatic data and their assessm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etric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c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5720" y="1371600"/>
            <a:ext cx="6707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CRP Data Advisory Council 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(WDAC)</a:t>
            </a:r>
            <a:endParaRPr b="1" lang="en-US" sz="36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15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participating in WDAC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thank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olli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osting this meeting and to Theresa Stone for local prepar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genda is very, very full, so please respect the time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240" y="1844280"/>
            <a:ext cx="89154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JSC36 action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Responses / A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CRP – GCO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operation – this morning’s joint meet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Obs4MIP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review of current status and new dataset inclu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Ana4MIPs &amp; TIR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review of current statu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rface Fluxes – review of current stat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CRP-GCO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Data Priz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CRP/GCOS – Open Data Poli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CRP Strategic Plan – Comments, input,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ge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258920" y="1822320"/>
            <a:ext cx="3168720" cy="4483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4427640" y="1754280"/>
            <a:ext cx="31687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 Recs/Actions [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324000" y="2057400"/>
            <a:ext cx="83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WCRP / GCOS Open Data Policy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. Develop a Draft Data Polic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DAC Co-chairs and GCOS Chair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GCO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status report / provide feedback (Michel Rixen, Carolin Richter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CLIVAR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3.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Quo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rovide additional details so that WDAC can make informed decision about potential endorsement (Pierre-Philippe Matthieu, Magdalena Balmaseda)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4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 to consider using ana4MIPS for SIRTA (Walt Meier) 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329040" y="595008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 Recs/Actions [2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324000" y="1989000"/>
            <a:ext cx="87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SPARC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RC to articulate need for new missions to address current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k of planned satellite observations (esp. limb) of UTS composition” and forward to WGClimate (Susann Tegtmeier, Michaela Heggli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set assessment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6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te draft document to WCRP project offices for review and publication (Michel Rixen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4MIP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7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-up on tractable work: maturity matrix, data set call, xml technical note, completeness table (obs4MIPs Task Team, end 2015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: use SOCAT and other data sets as case studies for obs4MIPs in situ protocol and standards (JPS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329040" y="595944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 Recs/Actions [3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539640" y="1628640"/>
            <a:ext cx="871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4MIP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8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te TIRA concept note to WCRP core projects and DAOS (Michael Bosilovich) 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: TIRA to engage core project reanalysis efforts (Michael Bosilovich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0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GClimate to update WDAC on (satellite component of) ECV inventory (WGClimate Co-chairs, WDAC5)*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Fluxes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e ToR, add Brian as vice-chair, address high latitude and biogeochemistry representation, and circulate to JSC for approval (Brian War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329040" y="595944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Arial"/>
              </a:rPr>
              <a:t>WDAC4 Recs/Actions [4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13716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C3 Outco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way May 6-7, 2014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324000" y="198900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Data Prize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fting Tiger Team (Sonia, Martin, Anny + GCOS rep(s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rolin) to scan ‘Prize’ landscape and get back to WDAC with final proposal, consider data availability as part of the criteria, revisit career criteria (WDAC Co-chairs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 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1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WDAC pages and mailing list (GDAP and WGClimate co-chairs, etc) (Michel Rixe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: Address WDAC membership expirations with a 1/3, 1/3, 1/3 rotation arrangement and submit to WCRP JSC (WDAC Co-Chairs, Michel Rixen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  <a:p>
            <a:pPr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: WDAC5 session, Asheville, ideally 2 days during week 4-8 April 2016, in conjunction with AOP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明朝"/>
              </a:rPr>
              <a:t>)*</a:t>
            </a:r>
            <a:endParaRPr b="1" lang="en-US" sz="1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334800" y="596124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completed</a:t>
            </a:r>
            <a:endParaRPr b="1" lang="en-US" sz="1200" spc="-1" strike="noStrike">
              <a:solidFill>
                <a:srgbClr val="bbe0e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1T15:23:54Z</dcterms:created>
  <dc:creator>Microsoft Office User</dc:creator>
  <dc:description/>
  <dc:language>en-US</dc:language>
  <cp:lastModifiedBy>Otis Brown</cp:lastModifiedBy>
  <cp:lastPrinted>2008-10-29T15:33:33Z</cp:lastPrinted>
  <dcterms:modified xsi:type="dcterms:W3CDTF">2016-04-07T18:49:50Z</dcterms:modified>
  <cp:revision>17</cp:revision>
  <dc:subject/>
  <dc:title>WCRP  Data Advisory Council  July 2-3, 2015 Overview</dc:title>
</cp:coreProperties>
</file>