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48E-4D9E-4CEF-9B17-DE15A07A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ACE-16D0-40AF-93B3-57C8C3C5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D93-8656-42E5-86B4-7C74C954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9FF-1655-4BC0-B2FF-17AC0D2A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34C-67C1-486B-92B4-1E29AEF8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76F-2EEF-46C9-B72B-90ADC84A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CB1-B29E-4681-B798-60C8D94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19A-F2C5-4CBE-AE1F-73A7CD5F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24C-2F9B-421E-A9DA-68DDF63F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EAD-946F-4B83-BBD3-58E7758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947-6DA3-45FD-856E-3E9AE0C7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86C-AD49-4570-A3EE-4EF1FFB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EAF-2872-4801-9B96-3A561F7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233-7CF5-4F06-8355-7CA8B1C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9AE2-EA70-4086-9825-5D629DBF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l 7, 20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6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2171880"/>
          <a:ext cx="7772400" cy="1006200"/>
        </p:xfrm>
        <a:graphic>
          <a:graphicData uri="http://schemas.openxmlformats.org/drawingml/2006/table">
            <a:tbl>
              <a:tblPr/>
              <a:tblGrid>
                <a:gridCol w="357120"/>
                <a:gridCol w="865080"/>
                <a:gridCol w="4176720"/>
                <a:gridCol w="1440000"/>
                <a:gridCol w="933480"/>
              </a:tblGrid>
              <a:tr h="136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23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7.3 WDAC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ake data issues more prominent within WCRP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evelop ideas and plans for a data prize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Work with GCOS to expand ECVs in useful direction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Establish a WCRP-wide open data policy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Refine and clarify the earth system reanalysis concept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, with JPS and GCO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Summer 2015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GCOS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participating in WDAC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hank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oll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osting this meeting and to Theresa Stone for local prepa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genda is very, very full, so please respect the tim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240" y="1844280"/>
            <a:ext cx="8915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JSC36 action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Responses / A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CRP – GCO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operation – this morning’s joint me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bs4MIP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review of current status and new dataset inclu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na4MIPs &amp; TIR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review of current statu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rface Fluxes – review of current stat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CRP-GCO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Data Priz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CRP/GCOS – Open Data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CRP Strategic Plan – Comments, input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258920" y="1822320"/>
            <a:ext cx="3168720" cy="448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427640" y="1754280"/>
            <a:ext cx="3168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24000" y="205740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CRP / GCOS Open Data Policy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. Develop a Draft Data Polic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DAC Co-chairs and GCOS Chai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GCO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tatus report / provide feedback (Michel Rixen, Carolin Richter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LIVAR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3.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Qu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rovide additional details so that WDAC can make informed decision about potential endorsement (Pierre-Philippe Matthieu, Magdalena Balmaseda)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 to consider using ana4MIPS for SIRTA (Walt Meier) 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29040" y="59500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989000"/>
            <a:ext cx="87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PARC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RC to articulate need for new missions to address current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planned satellite observations (esp. limb) of UTS composition” and forward to WGClimate (Susann Tegtmeier, Michaela Heggli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et assessment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e draft document to WCRP project offices for review and publication (Michel Rixen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4MIP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7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-up on tractable work: maturity matrix, data set call, xml technical note, completeness table (obs4MIPs Task Team, end 2015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: use SOCAT and other data sets as case studies for obs4MIPs in situ protocol and standards (JPS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9040" y="5959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539640" y="1628640"/>
            <a:ext cx="87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4MIP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8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e TIRA concept note to WCRP core projects and DAOS (Michael Bosilovich) 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 TIRA to engage core project reanalysis efforts (Michael Bosilovich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0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Climate to update WDAC on (satellite component of) ECV inventory (WGClimate Co-chairs, WDAC5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Fluxe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e ToR, add Brian as vice-chair, address high latitude and biogeochemistry representation, and circulate to JSC for approval (Brian Wa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29040" y="5959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4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24000" y="198900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ata Prize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ing Tiger Team (Sonia, Martin, Anny + GCOS rep(s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olin) to scan ‘Prize’ landscape and get back to WDAC with final proposal, consider data availability as part of the criteria, revisit career criteria (WDAC Co-chairs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WDAC pages and mailing list (GDAP and WGClimate co-chairs, etc) (Michel 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: Address WDAC membership expirations with a 1/3, 1/3, 1/3 rotation arrangement and submit to WCRP JSC (WDAC Co-Chairs, Michel 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: WDAC5 session, Asheville, ideally 2 days during week 4-8 April 2016, in conjunction with AO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34800" y="59612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6-04-07T18:49:50Z</dcterms:modified>
  <cp:revision>17</cp:revision>
  <dc:subject/>
  <dc:title>WCRP  Data Advisory Council  July 2-3, 2015 Overview</dc:title>
</cp:coreProperties>
</file>