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9842-197F-49B2-A01C-79F34031E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B1D9-7943-4E4A-8DB0-878D4D99D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9BDD-B638-4165-857F-8DB8E6E3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E8CB-C996-4D92-8720-51A05DE7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012B-99C4-40BD-B94A-22E04757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3E7A-C36C-463A-BBC3-23933CD1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1B01-0696-4EF7-8A0F-75947231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1258-84BB-4AB8-96E0-B13ED42B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28D9-D154-46F7-A29F-56F541D4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F36D-5F14-409A-8A79-93F55AD2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166D-05AE-4FC8-A524-C3B352C5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50F2-BB07-4F08-A8D0-F3EF1BA0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9E07-5F0F-4D53-8D3F-B2D9A928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EF32-0EE8-4119-9CE6-7D393C4E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2560" y="6095520"/>
            <a:ext cx="327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7784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9DAE-239E-4A8B-8AE1-7799D6DC0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5" name="Picture 9" descr="lower_banner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upper_banner"/>
          <p:cNvPicPr/>
          <p:nvPr/>
        </p:nvPicPr>
        <p:blipFill>
          <a:blip r:embed="rId3"/>
          <a:stretch/>
        </p:blipFill>
        <p:spPr>
          <a:xfrm>
            <a:off x="0" y="0"/>
            <a:ext cx="9144000" cy="93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321264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46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CR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Advisory Council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ly 3, 201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V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ECV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440" y="1915920"/>
            <a:ext cx="81342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n onlin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sit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V inventory using an online survey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EOS MIM infrastructure so linkage with satellite holdings is straightforw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in situ data centers (via WMO) for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GCOS Panel expertise in reviewing hol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SIC would be the cu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1592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with WG-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cooperative with GOSIC (NOAA/NCEI) and NASA / LARC CEOS Inventory [Lief / Stover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ing alternative approaches, e.g., use of Obs4MIPs style documentation for metadata ex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collaboration with other international collaborators for ho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1T15:23:54Z</dcterms:created>
  <dc:creator>Microsoft Office User</dc:creator>
  <dc:description/>
  <dc:language>en-US</dc:language>
  <cp:lastModifiedBy>Otis Brown</cp:lastModifiedBy>
  <cp:lastPrinted>2008-10-29T15:33:33Z</cp:lastPrinted>
  <dcterms:modified xsi:type="dcterms:W3CDTF">2015-07-03T10:00:32Z</dcterms:modified>
  <cp:revision>10</cp:revision>
  <dc:subject/>
  <dc:title>WCRP  Data Advisory Council  July 2-3, 2015 Overview</dc:title>
</cp:coreProperties>
</file>