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53E8-B6DE-4A05-AAE3-6880C1C82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242C-9148-4F4A-9E61-4472570D1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13B1-5660-4F99-BA64-A143F0A4F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6682-615A-43D8-AEC6-E135CC5B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673A-4B54-4628-A834-9ADD38BFB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56C5-41BD-4DC1-9AC1-7D5BB2495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20C8-39C4-4C1A-A4C3-D06ED319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2B70-6F8A-43D3-8F66-1877AE25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A271-1AAC-4DD0-947C-B8AE56BF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5505-84EE-4AC7-BFEF-97A8CC05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C165-40A4-4E5F-BFA5-DF3C6769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2914-D07C-401C-BFD2-735E7681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93E2-7735-4481-8AA8-E6446535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FBC3-5C1C-40EC-B692-9AD9E111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0152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0152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0152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2560" y="6095520"/>
            <a:ext cx="3276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877840" y="647676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E5AE-2B07-4A2E-9DF1-B7C3E4FF5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be0e3"/>
              </a:solidFill>
              <a:latin typeface="Arial"/>
            </a:endParaRPr>
          </a:p>
        </p:txBody>
      </p:sp>
      <p:pic>
        <p:nvPicPr>
          <p:cNvPr id="5" name="Picture 9" descr="lower_banner"/>
          <p:cNvPicPr/>
          <p:nvPr/>
        </p:nvPicPr>
        <p:blipFill>
          <a:blip r:embed="rId2"/>
          <a:stretch/>
        </p:blipFill>
        <p:spPr>
          <a:xfrm>
            <a:off x="0" y="6229440"/>
            <a:ext cx="9144000" cy="6285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upper_banner"/>
          <p:cNvPicPr/>
          <p:nvPr/>
        </p:nvPicPr>
        <p:blipFill>
          <a:blip r:embed="rId3"/>
          <a:stretch/>
        </p:blipFill>
        <p:spPr>
          <a:xfrm>
            <a:off x="0" y="0"/>
            <a:ext cx="9144000" cy="938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321264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468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CR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Advisory Council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ly 3, 2015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V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ECV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440" y="1915920"/>
            <a:ext cx="81342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an onlin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 sit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V inventory using an online survey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EOS MIM infrastructure so linkage with satellite holdings is straightforwa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 in situ data centers (via WMO) for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rage GCOS Panel expertise in reviewing hold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SIC would be the cu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15920"/>
            <a:ext cx="77724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ith WG-Cl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cooperative with GOSIC (NOAA/NCEI) and NASA / LARC CEOS Inventory [Lief / Stover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ing alternative approaches, e.g., use of Obs4MIPs style documentation for metadata ex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collaboration with other international collaborators for ho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1T15:23:54Z</dcterms:created>
  <dc:creator>Microsoft Office User</dc:creator>
  <dc:description/>
  <dc:language>en-US</dc:language>
  <cp:lastModifiedBy>Otis Brown</cp:lastModifiedBy>
  <cp:lastPrinted>2008-10-29T15:33:33Z</cp:lastPrinted>
  <dcterms:modified xsi:type="dcterms:W3CDTF">2015-07-03T10:00:32Z</dcterms:modified>
  <cp:revision>10</cp:revision>
  <dc:subject/>
  <dc:title>WCRP  Data Advisory Council  July 2-3, 2015 Overview</dc:title>
</cp:coreProperties>
</file>