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7365C-8AC2-4588-BB69-9AA8E1947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AD95-656F-416A-8275-9F38C9918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AF543-A785-483C-B092-E24EBF634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9F640-0051-48F2-9058-B5197B026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CACB0-1909-4FD2-9525-52612EB01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618DD-30BF-466E-AAD9-3302CF81D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35B1D-A058-4580-9872-483C7A23D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BC3C8-C46A-46C6-AED2-E77FAB8E0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F9E1F-A5CA-463D-879D-519EFC7CF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17F7E-6351-4942-A5F0-A64FFD155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910D9-E7F0-4120-9336-56CAE1FF4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46F17-9A0B-40CF-9EEF-B9762BB52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8C2AD-4CBD-4128-951C-2164AD8A5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3FFAC-1E26-4134-9A62-DA62A09CE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E5E93-F3FF-4253-A778-53D46A0E3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27C89-0EDC-4E56-9D8A-E503D92AE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34370-F304-4EEE-B10F-71A9BB4F3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324BA-D8D3-4D59-B06B-16EE6CD1AB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90E9B-817B-4DF9-99FE-4FB6D9295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7E747-0A48-442A-A23A-89ADA6DC3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01EFD-DD32-4DA1-9E7C-0AA876EA5D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B2C0D-DC98-4035-87CF-0BC7A0AF3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2FF21-A0D9-4438-B45E-2E4B0504B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6BCEC-4A4D-418D-9AD8-5303D9D64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41182-7BF5-4CE4-A5AB-34745A522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247EA-D753-48A9-8FDF-5CCAA0D5A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83616-42C8-4E89-A2AF-118A9F8CF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875DD-39DF-428A-A0B7-9D3750B24B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FF043-7981-4B1C-8DE7-39EED5C566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1B4DC5-80E1-4229-826F-55E0C60458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F1555-ED9D-46CB-A6F3-569248DC8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70E1-3741-40B1-BC35-5C3BC1115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51E2E-F5D2-4E36-851B-35DE7530F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8EFC3-FE6C-4F85-A263-01079FA0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5F4B-9F65-4967-836D-873EA52FD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0E1B4-2BE7-4790-91BF-468EF85A7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720D-43F5-4A41-B104-AB632F2F353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CC8A-BEC8-4539-8BBC-EFAAC8C467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41" name="Picture 16" descr="https://encrypted-tbn2.gstatic.com/images?q=tbn:ANd9GcQFdVZbmbqvWkJfeOSggWqzzJlDFuJ67DNZsz_mtbrJ6cYYuwZYyA"/>
          <p:cNvPicPr/>
          <p:nvPr/>
        </p:nvPicPr>
        <p:blipFill>
          <a:blip r:embed="rId2"/>
          <a:stretch/>
        </p:blipFill>
        <p:spPr>
          <a:xfrm>
            <a:off x="7713720" y="6248520"/>
            <a:ext cx="1430280" cy="539640"/>
          </a:xfrm>
          <a:prstGeom prst="rect">
            <a:avLst/>
          </a:prstGeom>
          <a:ln w="0">
            <a:noFill/>
          </a:ln>
        </p:spPr>
      </p:pic>
      <p:pic>
        <p:nvPicPr>
          <p:cNvPr id="42" name="Picture 7" descr=""/>
          <p:cNvPicPr/>
          <p:nvPr/>
        </p:nvPicPr>
        <p:blipFill>
          <a:blip r:embed="rId3"/>
          <a:stretch/>
        </p:blipFill>
        <p:spPr>
          <a:xfrm>
            <a:off x="0" y="5924520"/>
            <a:ext cx="1432080" cy="9334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4B1A-06FD-45F6-AEEA-8CC7F376B91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213A-BE0E-4E26-ACB2-1DF6273821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5924520"/>
            <a:ext cx="1432080" cy="933480"/>
          </a:xfrm>
          <a:prstGeom prst="rect">
            <a:avLst/>
          </a:prstGeom>
          <a:ln w="0">
            <a:noFill/>
          </a:ln>
        </p:spPr>
      </p:pic>
      <p:pic>
        <p:nvPicPr>
          <p:cNvPr id="85" name="Picture 16" descr="https://encrypted-tbn2.gstatic.com/images?q=tbn:ANd9GcQFdVZbmbqvWkJfeOSggWqzzJlDFuJ67DNZsz_mtbrJ6cYYuwZYyA"/>
          <p:cNvPicPr/>
          <p:nvPr/>
        </p:nvPicPr>
        <p:blipFill>
          <a:blip r:embed="rId3"/>
          <a:stretch/>
        </p:blipFill>
        <p:spPr>
          <a:xfrm>
            <a:off x="7713720" y="6248520"/>
            <a:ext cx="1430280" cy="539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7662-A2C2-4A1A-862C-FA2F12A70EE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0BAF-5689-478C-8D47-81D8340A0D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960" y="2130120"/>
            <a:ext cx="8839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sal for an Obs4ECV Dataset and OpenSearch Capability for ESG</a:t>
            </a:r>
            <a:endParaRPr b="0" lang="en-US" sz="4400" spc="-1" strike="noStrike">
              <a:solidFill>
                <a:srgbClr val="000000"/>
              </a:solidFill>
              <a:latin typeface="Calibri"/>
            </a:endParaRPr>
          </a:p>
        </p:txBody>
      </p:sp>
      <p:sp>
        <p:nvSpPr>
          <p:cNvPr id="128" name="PlaceHolder 2"/>
          <p:cNvSpPr>
            <a:spLocks noGrp="1"/>
          </p:cNvSpPr>
          <p:nvPr>
            <p:ph type="subTitle"/>
          </p:nvPr>
        </p:nvSpPr>
        <p:spPr>
          <a:xfrm>
            <a:off x="533160" y="3886200"/>
            <a:ext cx="8001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ohn Bat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ir, CEOS-CGMS Working Group on Climate</a:t>
            </a:r>
            <a:endParaRPr b="0" lang="en-US" sz="3200" spc="-1" strike="noStrike">
              <a:solidFill>
                <a:srgbClr val="000000"/>
              </a:solidFill>
              <a:latin typeface="Calibri"/>
            </a:endParaRPr>
          </a:p>
        </p:txBody>
      </p:sp>
      <p:pic>
        <p:nvPicPr>
          <p:cNvPr id="129" name="Picture 3" descr=""/>
          <p:cNvPicPr/>
          <p:nvPr/>
        </p:nvPicPr>
        <p:blipFill>
          <a:blip r:embed="rId1"/>
          <a:stretch/>
        </p:blipFill>
        <p:spPr>
          <a:xfrm>
            <a:off x="0" y="5924520"/>
            <a:ext cx="1432080" cy="933480"/>
          </a:xfrm>
          <a:prstGeom prst="rect">
            <a:avLst/>
          </a:prstGeom>
          <a:ln w="0">
            <a:noFill/>
          </a:ln>
        </p:spPr>
      </p:pic>
      <p:pic>
        <p:nvPicPr>
          <p:cNvPr id="130" name="Picture 16" descr="https://encrypted-tbn2.gstatic.com/images?q=tbn:ANd9GcQFdVZbmbqvWkJfeOSggWqzzJlDFuJ67DNZsz_mtbrJ6cYYuwZYyA"/>
          <p:cNvPicPr/>
          <p:nvPr/>
        </p:nvPicPr>
        <p:blipFill>
          <a:blip r:embed="rId2"/>
          <a:stretch/>
        </p:blipFill>
        <p:spPr>
          <a:xfrm>
            <a:off x="7713720" y="6248520"/>
            <a:ext cx="1430280" cy="53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EOS-CGMS WGClimate Goal and Objectives</a:t>
            </a:r>
            <a:endParaRPr b="0" lang="en-US" sz="40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The over-arching goal of the CEOS/CGMS Working Group on Climate (WG Climate) will be to improve the systematic availability of Climate Data Records through the coordinated implementation, and further development of the architecture for climate monitoring from space. </a:t>
            </a:r>
            <a:endParaRPr b="0" lang="en-US" sz="2000" spc="-1" strike="noStrike">
              <a:solidFill>
                <a:srgbClr val="000000"/>
              </a:solidFill>
              <a:latin typeface="Calibri"/>
            </a:endParaRPr>
          </a:p>
          <a:p>
            <a:pPr marL="3430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Objectives</a:t>
            </a:r>
            <a:endParaRPr b="0" lang="en-US" sz="2000" spc="-1" strike="noStrike">
              <a:solidFill>
                <a:srgbClr val="000000"/>
              </a:solidFill>
              <a:latin typeface="Calibri"/>
            </a:endParaRPr>
          </a:p>
          <a:p>
            <a:pPr lvl="1" marL="743040" indent="-28584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Calibri"/>
              </a:rPr>
              <a:t>Provision of a structured, comprehensive and accessible view as to what Climate Data Records are currently available from satellite missions of CEOS and CGMS members or their combination;</a:t>
            </a:r>
            <a:endParaRPr b="0" lang="en-US" sz="1900" spc="-1" strike="noStrike">
              <a:solidFill>
                <a:srgbClr val="000000"/>
              </a:solidFill>
              <a:latin typeface="Calibri"/>
            </a:endParaRPr>
          </a:p>
          <a:p>
            <a:pPr lvl="1" marL="743040" indent="-28584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Calibri"/>
              </a:rPr>
              <a:t>Creation of the conditions for delivering further Climate Data Records, including multi-mission Climate Date Records, through best use of available data to fulfil GCOS requirements (e.g. by identifying and targeting cross-calibration or re-processing gaps/shortfalls );</a:t>
            </a:r>
            <a:endParaRPr b="0" lang="en-US" sz="1900" spc="-1" strike="noStrike">
              <a:solidFill>
                <a:srgbClr val="000000"/>
              </a:solidFill>
              <a:latin typeface="Calibri"/>
            </a:endParaRPr>
          </a:p>
          <a:p>
            <a:pPr lvl="1" marL="743040" indent="-28584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Calibri"/>
              </a:rPr>
              <a:t>Optimization of the planning of future satellite missions and constellations to expand existing and planned Climate Data Records, both in terms of coverage and record length, and to address possible gaps with respect to GCOS requirements</a:t>
            </a:r>
            <a:endParaRPr b="0" lang="en-US" sz="1900" spc="-1" strike="noStrike">
              <a:solidFill>
                <a:srgbClr val="000000"/>
              </a:solidFill>
              <a:latin typeface="Calibri"/>
            </a:endParaRPr>
          </a:p>
          <a:p>
            <a:pPr marL="343080" indent="-34308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ajor Activity of WGClimate is Collection, Analysis, and Action Plan Using an ECV Inventory </a:t>
            </a:r>
            <a:endParaRPr b="0" lang="en-US" sz="3600" spc="-1" strike="noStrike">
              <a:solidFill>
                <a:srgbClr val="000000"/>
              </a:solidFill>
              <a:latin typeface="Calibri"/>
            </a:endParaRPr>
          </a:p>
        </p:txBody>
      </p:sp>
      <p:pic>
        <p:nvPicPr>
          <p:cNvPr id="134" name="Picture 3" descr=""/>
          <p:cNvPicPr/>
          <p:nvPr/>
        </p:nvPicPr>
        <p:blipFill>
          <a:blip r:embed="rId1"/>
          <a:stretch/>
        </p:blipFill>
        <p:spPr>
          <a:xfrm>
            <a:off x="324000" y="1596960"/>
            <a:ext cx="3436920" cy="3676680"/>
          </a:xfrm>
          <a:prstGeom prst="rect">
            <a:avLst/>
          </a:prstGeom>
          <a:ln w="0">
            <a:noFill/>
          </a:ln>
        </p:spPr>
      </p:pic>
      <p:pic>
        <p:nvPicPr>
          <p:cNvPr id="135" name="Picture 4" descr=""/>
          <p:cNvPicPr/>
          <p:nvPr/>
        </p:nvPicPr>
        <p:blipFill>
          <a:blip r:embed="rId2"/>
          <a:stretch/>
        </p:blipFill>
        <p:spPr>
          <a:xfrm>
            <a:off x="3760920" y="1598760"/>
            <a:ext cx="5059080" cy="36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V Inventory Challenges and the new paradigm for Earth observation data discovery</a:t>
            </a:r>
            <a:endParaRPr b="0" lang="en-US" sz="3600" spc="-1" strike="noStrike">
              <a:solidFill>
                <a:srgbClr val="000000"/>
              </a:solidFill>
              <a:latin typeface="Calibri"/>
            </a:endParaRPr>
          </a:p>
        </p:txBody>
      </p:sp>
      <p:sp>
        <p:nvSpPr>
          <p:cNvPr id="137" name=""/>
          <p:cNvSpPr txBox="1"/>
          <p:nvPr/>
        </p:nvSpPr>
        <p:spPr>
          <a:xfrm>
            <a:off x="457200" y="1447560"/>
            <a:ext cx="8229600" cy="5105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V Inventory challenges – </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be exact match with ECV/CDR nam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be available from an EO data servi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provide document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all not effective and does not reach entire ECV community</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re an existing effort that has these characteristics that we might build upon???</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es, Observations for model intercomparisons (Obs4MIP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s Climate-Forecast (CF) name convention allowing exact match</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s Earth System Grid (ESG) EO-compatible data servi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ins most documentation, needs ECV Extens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build ECV inventory dynamically by finding ‘ECV’ tag from ESG catalo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Obs4ECV as sub-set of Obs4MIPS effort within WCRP DA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8800" y="2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Paradigm for Earth observation discovery and metadata harvesting</a:t>
            </a:r>
            <a:endParaRPr b="0" lang="en-US" sz="4000" spc="-1" strike="noStrike">
              <a:solidFill>
                <a:srgbClr val="000000"/>
              </a:solidFill>
              <a:latin typeface="Calibri"/>
            </a:endParaRPr>
          </a:p>
        </p:txBody>
      </p:sp>
      <p:pic>
        <p:nvPicPr>
          <p:cNvPr id="139" name="Picture 4" descr=""/>
          <p:cNvPicPr/>
          <p:nvPr/>
        </p:nvPicPr>
        <p:blipFill>
          <a:blip r:embed="rId1"/>
          <a:stretch/>
        </p:blipFill>
        <p:spPr>
          <a:xfrm>
            <a:off x="388800" y="1108080"/>
            <a:ext cx="8421840" cy="4192560"/>
          </a:xfrm>
          <a:prstGeom prst="rect">
            <a:avLst/>
          </a:prstGeom>
          <a:ln w="0">
            <a:noFill/>
          </a:ln>
        </p:spPr>
      </p:pic>
      <p:sp>
        <p:nvSpPr>
          <p:cNvPr id="140" name="TextBox 5"/>
          <p:cNvSpPr/>
          <p:nvPr/>
        </p:nvSpPr>
        <p:spPr>
          <a:xfrm>
            <a:off x="1574640" y="5670720"/>
            <a:ext cx="604836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dd ESG OpenSearch Compliant MIPs – Obs4ECVs, Obs4MIP6s, CMIP-6, etc.</a:t>
            </a:r>
            <a:endParaRPr b="0" lang="en-US" sz="1800" spc="-1" strike="noStrike">
              <a:solidFill>
                <a:srgbClr val="000000"/>
              </a:solidFill>
              <a:latin typeface="Calibri"/>
            </a:endParaRPr>
          </a:p>
        </p:txBody>
      </p:sp>
      <p:sp>
        <p:nvSpPr>
          <p:cNvPr id="141" name="Right Arrow 6"/>
          <p:cNvSpPr/>
          <p:nvPr/>
        </p:nvSpPr>
        <p:spPr>
          <a:xfrm rot="16200000">
            <a:off x="4017960" y="4954320"/>
            <a:ext cx="325440" cy="10908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Search</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nSearch is a collection of simple formats for the sharing of search results.</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OpenSearch description document format can be used to describe a search engine so that it can be used by search client applications.</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OpenSearch response elements can be used to extend existing syndication formats, such as RSS and Atom, with the extra metadata needed to return search resul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9T18:56:19Z</dcterms:created>
  <dc:creator>John J. Bates</dc:creator>
  <dc:description/>
  <dc:language>en-US</dc:language>
  <cp:lastModifiedBy>Catherine Michaut</cp:lastModifiedBy>
  <dcterms:modified xsi:type="dcterms:W3CDTF">2015-09-18T09:54:43Z</dcterms:modified>
  <cp:revision>7</cp:revision>
  <dc:subject/>
  <dc:title>Proposal for an Obs4ECV Dataset and</dc:title>
</cp:coreProperties>
</file>