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E35-25D1-4120-941B-11790579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FC2E-D6F8-4F13-8E87-0ADFDE90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4AB-30EA-4E98-A827-9217CB66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15E1-D739-47E9-B978-1156AF7A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A597-5FD3-47C1-A2DB-FF76B544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73B-47B2-453C-AB60-543D8232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9E1C-BAFF-4965-A8E3-EDCAF9C4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8FB6-19FA-40F3-86DB-933DE47A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B4C-7514-4123-84BF-BD958BD9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967-18C9-4138-9704-7A15EEAE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8047-4357-406A-B379-18A788AB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998-4BE9-4927-AED4-A060AAC8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65455-F416-44CE-B734-052D490E7C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7A977-6EF8-415F-9590-D4D9E3516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96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sk Team for Intercomparison of Re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360"/>
            <a:ext cx="64008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veloped with input fr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chael Bosilovich, NASA GSFC GMA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ean-Noël Thépaut, ECMW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azutoshi Onogi, J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un Kumar, NOAA NC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ck Dee, ECMW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tis Brown, NCSU and NOA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RA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87000"/>
            <a:ext cx="82296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centers developing reanalyses on a regular b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pite wide use in research and applications, average users do not know the subtle differences among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ertainties exist across all reanalyses, information both developers and users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omparison can be made easier for an “average” us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international coordinating body ex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ss Roots Intercomparison Proj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4160" y="1033560"/>
            <a:ext cx="8618400" cy="57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analysis.org – Information, shared results, expert oversigh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b-based Reanalysis intercomparison Tool (WRIT) – incorporates recent reanalyses, some visualization, and server-side comput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ratosphere Reanalysis Intercomparison Project (S-RIP) and Ocean (ORA-IP)– Disciplinary self organized with expert inpu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llaborative REAnalysis Technical Environment Intercomparison Project (CREATE-IP) – Placing reanalysis data in the ESGF, similar to CMIP and Obs4MIP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RE CLIMAX, 2014: Procedure for comparing reanalyses, and comparing reanalyses to assimilated observations and CDRs. COordinating Earth observation data validation for RE-analysis for CLIMAte Servic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inuing the Moment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-RIP shows that the community can take on this problem, but it takes effort, others may benefit from guid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ould benefit the developing centers to have interactions with the science panels in the intercomparisons/vali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DAC is the obvious choice for a task team to to fill the v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RA 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85480"/>
            <a:ext cx="8229600" cy="55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ged to develop an intercomparison Proj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foster understanding and estimation of uncertainties in reanalysis data by intercomparison and other me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ommunicate new developments and best practices among the reanalyses producing ce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enhance the understanding of data and assimilation issues and their impact on uncertainties, leading to improved reanalyses for climate assess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 communicate the strengths and weaknesses of reanalyses, their fitness for purpose, and best practices in the use of reanalysis datasets by the scientific commun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ngible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36240"/>
            <a:ext cx="822960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unication (support and continuation of reanalysis.or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eanalysis Intercomparison Projec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 with a template based on IPC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-IP provides technical support, CORE-CLIMAX provides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WCRP projects should provide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RA guides and provides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oint experimentation/work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nsus inventory of input observations, updated as new versions become available (incl SSTs, and other disciplinary data for eventual integr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standard output (facilitate inclusion in CREATE-I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ibute to deep understanding with center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ential Standing Me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mospheric Reanalysis Developing C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MWF, JMA, CMA, NCEP and GMA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CRP Pan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WEX, CLIVAR, CLiC and SPAR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iplinary – Land/Ocean/Cryo reanaly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 reanalysis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nalysis user communities? Wind Pow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9T19:00:39Z</dcterms:created>
  <dc:creator>Michael Bosilovich</dc:creator>
  <dc:description/>
  <dc:language>en-US</dc:language>
  <cp:lastModifiedBy>Catherine Michaut</cp:lastModifiedBy>
  <cp:lastPrinted>2015-07-02T07:36:01Z</cp:lastPrinted>
  <dcterms:modified xsi:type="dcterms:W3CDTF">2015-09-18T09:52:06Z</dcterms:modified>
  <cp:revision>18</cp:revision>
  <dc:subject/>
  <dc:title>Task Team for Intercomparison of ReAnalysis</dc:title>
</cp:coreProperties>
</file>