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DFEA-181A-4EFF-A570-754ED40B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80AA-96AE-4F36-9C84-C8E683F2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11EF-5E10-4944-8025-353CB8BD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4324-0289-49B8-B4B8-F3048A4A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3D35-26B2-491B-BB05-A08DE929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A2B5-CCCA-4F48-ACE1-68A36255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0A7D-C766-4AE6-9F77-9311B263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A4A9-82D9-4ACF-A6C6-79CC72A2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374D-FF6C-4EE0-97E3-56B0FB78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4281-11DC-4C9B-9D2B-C77F5B44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A1C9-EBCB-40DA-9CB5-00ED0B66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B68D-006C-44D8-8022-4C64C571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E6EF2-9C82-409E-BC18-E82BA16607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8047F-E492-415B-A1E5-85864F32D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96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sk Team for Intercomparison of Re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97360"/>
            <a:ext cx="64008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ed with input fr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chael Bosilovich, NASA GSFC GMA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ean-Noël Thépaut, ECMW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azutoshi Onogi, J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un Kumar, NOAA NCE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ck Dee, ECMW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is Brown, NCSU and NOA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RA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8700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centers developing reanalyses on a regular b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pite wide use in research and applications, average users do not know the subtle differences among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ertainties exist across all reanalyses, information both developers and users n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comparison can be made easier for an “average” u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international coordinating body ex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ss Roots Intercomparison Proj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4160" y="1033560"/>
            <a:ext cx="8618400" cy="57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analysis.org – Information, shared results, expert oversigh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b-based Reanalysis intercomparison Tool (WRIT) – incorporates recent reanalyses, some visualization, and server-side comput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ratosphere Reanalysis Intercomparison Project (S-RIP) and Ocean (ORA-IP)– Disciplinary self organized with expert inpu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llaborative REAnalysis Technical Environment Intercomparison Project (CREATE-IP) – Placing reanalysis data in the ESGF, similar to CMIP and Obs4MIP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RE CLIMAX, 2014: Procedure for comparing reanalyses, and comparing reanalyses to assimilated observations and CDRs. COordinating Earth observation data validation for RE-analysis for CLIMAte Servic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inuing the Moment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-RIP shows that the community can take on this problem, but it takes effort, others may benefit from guid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would benefit the developing centers to have interactions with the science panels in the intercomparisons/vali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DAC is the obvious choice for a task team to to fill the vo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RA 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85480"/>
            <a:ext cx="8229600" cy="55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rged to develop an intercomparison Proj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foster understanding and estimation of uncertainties in reanalysis data by intercomparison and other mea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communicate new developments and best practices among the reanalyses producing ce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enhance the understanding of data and assimilation issues and their impact on uncertainties, leading to improved reanalyses for climate assess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communicate the strengths and weaknesses of reanalyses, their fitness for purpose, and best practices in the use of reanalysis datasets by the scientific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ngible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36240"/>
            <a:ext cx="822960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munication (support and continuation of reanalysis.org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analysis Intercomparison Projec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 with a template based on IPC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-IP provides technical support, CORE-CLIMAX provides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WCRP projects should provide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RA guides and provides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Joint experimentation/wor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ensus inventory of input observations, updated as new versions become available (incl SSTs, and other disciplinary data for eventual integr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standard output (facilitate inclusion in CREATE-I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ibute to deep understanding with center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tential Standing Me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mospheric Reanalysis Developing Ce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MWF, JMA, CMA, NCEP and GMA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CRP Pan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WEX, CLIVAR, CLiC and SPAR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iplinary – Land/Ocean/Cryo reanaly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 reanalysis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nalysis user communities? Wind Pow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9T19:00:39Z</dcterms:created>
  <dc:creator>Michael Bosilovich</dc:creator>
  <dc:description/>
  <dc:language>en-US</dc:language>
  <cp:lastModifiedBy>Catherine Michaut</cp:lastModifiedBy>
  <cp:lastPrinted>2015-07-02T07:36:01Z</cp:lastPrinted>
  <dcterms:modified xsi:type="dcterms:W3CDTF">2015-09-18T09:52:06Z</dcterms:modified>
  <cp:revision>18</cp:revision>
  <dc:subject/>
  <dc:title>Task Team for Intercomparison of ReAnalysis</dc:title>
</cp:coreProperties>
</file>