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36E4-D99D-461E-B0C0-A544FFF7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D7F-FC61-4025-B066-5CDCDCA5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771-7147-453A-AAD2-83F8E43F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701-0BAC-4EBF-86E8-DBFB867F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9DC-B7D3-4270-9A64-6F80F7D8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DE0-85F2-4EB7-9B8D-3FACA0BC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B2D-01F0-4F2E-BD49-2C8E7038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F52-CBE4-4E56-A36F-C62DB532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547-9B30-4550-A9EE-97FFA97A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EE0-F596-4F4A-B587-A754EFD0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B95E-EB8D-40CA-A6E0-B18FC19E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BFB-983F-4867-B95C-03AA926E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F4021-7739-49CD-94BD-0276AE617A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E86E3-BC97-41AA-9659-E617CB53E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pdate on obs4MIP (and ana4MIP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523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Aft>
                <a:spcPts val="28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DAC Observations for Model Evaluation Task Team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hairs: Peter Gleckler, PCMDI and Duane Waliser, JPL/NAS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drine Bony, IPS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ke Bosilovich, GSFC/NA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lene Chepfer, IPS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onika Erying, DL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bert Ferraro, JPL/NAS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erre-Phillipe Mathieu, ES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ger Saunders, UKM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örg Schulz, EUMETS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arl Taylor, PCMDI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ean-Noël Thépaut, ECMW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272960"/>
            <a:ext cx="882648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step requires work/resources (for data providers and/or members of the task tea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roces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of data preparation/ESGF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rimarily technic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ter defining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roces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what datasets get included and how it is catalogu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ansion (e.g., high frequency, in-sit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69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als to be met before WDAC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1160" y="502920"/>
            <a:ext cx="88153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2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vancements on all “tractable” impr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and document a process of data preparation/ESG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ter defin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proces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f what datasets get included and how it is catalog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e opportunities and possible path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1160" y="1387080"/>
            <a:ext cx="881532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s4MIPs has attracted a great deal of attention, with lots of interest in seeing it expanded (e.g., higher frequency satellite data and in situ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well defined process of hosting/documenting observations could represent a useful protocol for other observational CF/ESGF inven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Organizational op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overarching ESGF observational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WCRP/WDAC recommended protocol for many ESGF observational project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nalysis for model intercomparison and mo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Jerry Pott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Laura Carrie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Mike Bosilovi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Tsengdar Le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 of ana4MIP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data for CMIP evaluation that is not directly observ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ed variables with high potential for model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luding, but not limited to monthly me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CMIP5 pressure level Temperature, winds and geopotential h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m surface temperature and specific humid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 sea level pressure and surface wi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y some higher frequency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rrent reanalysis sources converted to the CMIP5 standard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Table 8" descr=""/>
          <p:cNvPicPr/>
          <p:nvPr/>
        </p:nvPicPr>
        <p:blipFill>
          <a:blip r:embed="rId1"/>
          <a:stretch/>
        </p:blipFill>
        <p:spPr>
          <a:xfrm>
            <a:off x="1042920" y="1195560"/>
            <a:ext cx="775332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45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cope of ana4MIP limi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l re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to provide data for a reanalysis intercomparison – new project was envisi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aborative REAnalysis Technical Environment – Intercomparison Project (CREATE-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5872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xpanded reanalysis intercompari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-to-date (annually if not month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thly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frequency (1hr, 3hr, 6hr) for limited number of variab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available 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increments (O-A and O-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observations a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 of a total environment – science cloud, analytics, ontology, visualization,  A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 with reanalysis and outside user commun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urpose of CREATE-I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mprove reanalyses and ac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-location and improved data discover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mon data forma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roader use by other commun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diversity, water supply, agriculture, wind power, pandem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certainty quantification - assessing appropriate use of reanaly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inhomogene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Calibri"/>
              </a:rPr>
              <a:t>CREATE-IP data is available on the CoG and follows the CMIP data convention!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riefing out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8280" y="1800360"/>
            <a:ext cx="7945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ick review, general status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lenges, possible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ategic consid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m reanalysis: ana4MIPs / CREATE-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28160" y="1595520"/>
            <a:ext cx="5241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se the CMIP5 Standard Model Outpu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s guideline for selecting observ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Observations to b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matted the same as CMIP Model outpu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(e.g. NetCDF files, CF Conventio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Hosted side by sid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 the ESGF with CMIP model output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lude a Technical Not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or each variable describing observation and use for model evaluation (at graduate student level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2"/>
          <p:cNvSpPr/>
          <p:nvPr/>
        </p:nvSpPr>
        <p:spPr>
          <a:xfrm>
            <a:off x="4680" y="19080"/>
            <a:ext cx="61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0"/>
                </a:solidFill>
                <a:latin typeface="Calibri"/>
                <a:ea typeface="ＭＳ Ｐゴシック"/>
              </a:rPr>
              <a:t>obs4MIPs: The 4 Command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28"/>
          <p:cNvGrpSpPr/>
          <p:nvPr/>
        </p:nvGrpSpPr>
        <p:grpSpPr>
          <a:xfrm>
            <a:off x="5737320" y="1514520"/>
            <a:ext cx="3285360" cy="1778040"/>
            <a:chOff x="5737320" y="1514520"/>
            <a:chExt cx="3285360" cy="1778040"/>
          </a:xfrm>
        </p:grpSpPr>
        <p:sp>
          <p:nvSpPr>
            <p:cNvPr id="48" name="Oval 8"/>
            <p:cNvSpPr/>
            <p:nvPr/>
          </p:nvSpPr>
          <p:spPr>
            <a:xfrm>
              <a:off x="5737320" y="1782360"/>
              <a:ext cx="1404000" cy="849240"/>
            </a:xfrm>
            <a:prstGeom prst="ellipse">
              <a:avLst/>
            </a:prstGeom>
            <a:solidFill>
              <a:srgbClr val="93cddd">
                <a:alpha val="35000"/>
              </a:srgbClr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9"/>
            <p:cNvSpPr/>
            <p:nvPr/>
          </p:nvSpPr>
          <p:spPr>
            <a:xfrm>
              <a:off x="5903640" y="1820520"/>
              <a:ext cx="1042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odel Outpu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val 10"/>
            <p:cNvSpPr/>
            <p:nvPr/>
          </p:nvSpPr>
          <p:spPr>
            <a:xfrm>
              <a:off x="6652800" y="1950120"/>
              <a:ext cx="2368800" cy="1342440"/>
            </a:xfrm>
            <a:prstGeom prst="ellipse">
              <a:avLst/>
            </a:prstGeom>
            <a:solidFill>
              <a:srgbClr val="31859c">
                <a:alpha val="28000"/>
              </a:srgbClr>
            </a:solidFill>
            <a:ln w="9360">
              <a:solidFill>
                <a:srgbClr val="4a7ebb">
                  <a:alpha val="32000"/>
                </a:srgbClr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22"/>
            <p:cNvSpPr/>
            <p:nvPr/>
          </p:nvSpPr>
          <p:spPr>
            <a:xfrm>
              <a:off x="7189560" y="2189880"/>
              <a:ext cx="1216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ellite Retrieva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23"/>
            <p:cNvSpPr/>
            <p:nvPr/>
          </p:nvSpPr>
          <p:spPr>
            <a:xfrm>
              <a:off x="7090920" y="1514520"/>
              <a:ext cx="19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800" spc="-1" strike="noStrike">
                  <a:solidFill>
                    <a:srgbClr val="000090"/>
                  </a:solidFill>
                  <a:latin typeface="Arial"/>
                  <a:ea typeface="ＭＳ Ｐゴシック"/>
                </a:rPr>
                <a:t>Target Quantiti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3" name="Curved Connector 13"/>
            <p:cNvCxnSpPr/>
            <p:nvPr/>
          </p:nvCxnSpPr>
          <p:spPr>
            <a:xfrm rot="5400000">
              <a:off x="6890040" y="1845360"/>
              <a:ext cx="514440" cy="4035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000090"/>
              </a:solidFill>
              <a:miter/>
              <a:tailEnd len="med" type="arrow" w="med"/>
            </a:ln>
          </p:spPr>
        </p:cxnSp>
      </p:grpSp>
      <p:pic>
        <p:nvPicPr>
          <p:cNvPr id="54" name="Group 27" descr=""/>
          <p:cNvPicPr/>
          <p:nvPr/>
        </p:nvPicPr>
        <p:blipFill>
          <a:blip r:embed="rId1"/>
          <a:stretch/>
        </p:blipFill>
        <p:spPr>
          <a:xfrm>
            <a:off x="6334200" y="3371760"/>
            <a:ext cx="2577960" cy="3035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2"/>
          <a:stretch/>
        </p:blipFill>
        <p:spPr>
          <a:xfrm>
            <a:off x="8197920" y="55440"/>
            <a:ext cx="882720" cy="88272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pic>
        <p:nvPicPr>
          <p:cNvPr id="56" name="Picture 25" descr=""/>
          <p:cNvPicPr/>
          <p:nvPr/>
        </p:nvPicPr>
        <p:blipFill>
          <a:blip r:embed="rId3"/>
          <a:stretch/>
        </p:blipFill>
        <p:spPr>
          <a:xfrm>
            <a:off x="6181560" y="44280"/>
            <a:ext cx="884520" cy="884520"/>
          </a:xfrm>
          <a:prstGeom prst="rect">
            <a:avLst/>
          </a:prstGeom>
          <a:ln w="38160">
            <a:solidFill>
              <a:srgbClr val="984807"/>
            </a:solidFill>
            <a:miter/>
          </a:ln>
        </p:spPr>
      </p:pic>
      <p:sp>
        <p:nvSpPr>
          <p:cNvPr id="57" name="Left-Right Arrow 26"/>
          <p:cNvSpPr/>
          <p:nvPr/>
        </p:nvSpPr>
        <p:spPr>
          <a:xfrm>
            <a:off x="7088040" y="193680"/>
            <a:ext cx="1081080" cy="250920"/>
          </a:xfrm>
          <a:prstGeom prst="leftRightArrow">
            <a:avLst>
              <a:gd name="adj1" fmla="val 50000"/>
              <a:gd name="adj2" fmla="val 50146"/>
            </a:avLst>
          </a:prstGeom>
          <a:solidFill>
            <a:srgbClr val="8eb4e3"/>
          </a:solidFill>
          <a:ln w="9360">
            <a:solidFill>
              <a:srgbClr val="35359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27"/>
          <p:cNvSpPr/>
          <p:nvPr/>
        </p:nvSpPr>
        <p:spPr>
          <a:xfrm>
            <a:off x="7112160" y="477720"/>
            <a:ext cx="1044360" cy="337320"/>
          </a:xfrm>
          <a:prstGeom prst="rect">
            <a:avLst/>
          </a:prstGeom>
          <a:solidFill>
            <a:srgbClr val="bfe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s4MI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6159600" y="92880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telli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8"/>
          <p:cNvSpPr/>
          <p:nvPr/>
        </p:nvSpPr>
        <p:spPr>
          <a:xfrm>
            <a:off x="8243280" y="939960"/>
            <a:ext cx="75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9360" y="415800"/>
            <a:ext cx="85615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ata accessibility for WCRP projects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0800" y="1339920"/>
            <a:ext cx="81882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 System Grid Federation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SG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will be used for CMIP6 (and, increasingly, many other projec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MIP5_Archive.png"/>
          <p:cNvPicPr/>
          <p:nvPr/>
        </p:nvPicPr>
        <p:blipFill>
          <a:blip r:embed="rId1"/>
          <a:stretch/>
        </p:blipFill>
        <p:spPr>
          <a:xfrm>
            <a:off x="5651640" y="2187720"/>
            <a:ext cx="3492360" cy="2570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ESGF_Participants.png"/>
          <p:cNvPicPr/>
          <p:nvPr/>
        </p:nvPicPr>
        <p:blipFill>
          <a:blip r:embed="rId2"/>
          <a:stretch/>
        </p:blipFill>
        <p:spPr>
          <a:xfrm>
            <a:off x="249120" y="2287440"/>
            <a:ext cx="487836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1760" y="84240"/>
            <a:ext cx="867096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ess and project connected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517720" y="1341360"/>
            <a:ext cx="36054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s4MIPs data (and ana4MIPs) are available through the Co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G is directly connected to ESG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MIP6 is expected to be hosted on the CoG, as are many othe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88920" y="1208160"/>
            <a:ext cx="5400720" cy="540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TextBox 5"/>
          <p:cNvSpPr/>
          <p:nvPr/>
        </p:nvSpPr>
        <p:spPr>
          <a:xfrm>
            <a:off x="6063840" y="582768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Obs4MIPs/WCRP logo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bs4MIPs progr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01520" y="1195200"/>
            <a:ext cx="9042480" cy="45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ntributions accumulating steadil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SA, NOAA, ESA, EUMETSAT, DLR committing con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SGF will be used for CMIP6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G environment is strengthening, expanding; e.g., will serve CMIP6,  . .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sk team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althy and productive intera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eadily getting grappling with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ots to do and think abou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NASA Logo (Meatball).tif"/>
          <p:cNvPicPr/>
          <p:nvPr/>
        </p:nvPicPr>
        <p:blipFill>
          <a:blip r:embed="rId1"/>
          <a:stretch/>
        </p:blipFill>
        <p:spPr>
          <a:xfrm>
            <a:off x="120600" y="6145200"/>
            <a:ext cx="738360" cy="612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882720" y="6129360"/>
            <a:ext cx="662040" cy="666720"/>
          </a:xfrm>
          <a:prstGeom prst="rect">
            <a:avLst/>
          </a:prstGeom>
          <a:ln w="0">
            <a:noFill/>
          </a:ln>
        </p:spPr>
      </p:pic>
      <p:sp>
        <p:nvSpPr>
          <p:cNvPr id="73" name="TextBox 6"/>
          <p:cNvSpPr/>
          <p:nvPr/>
        </p:nvSpPr>
        <p:spPr>
          <a:xfrm>
            <a:off x="5916960" y="63453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…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.  and growing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7621560" y="6319800"/>
            <a:ext cx="1501920" cy="509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3425760" y="6084720"/>
            <a:ext cx="703440" cy="70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5"/>
          <a:stretch/>
        </p:blipFill>
        <p:spPr>
          <a:xfrm>
            <a:off x="1593720" y="6181560"/>
            <a:ext cx="1005120" cy="563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2676600" y="6129360"/>
            <a:ext cx="738000" cy="66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7"/>
          <a:stretch/>
        </p:blipFill>
        <p:spPr>
          <a:xfrm>
            <a:off x="4211640" y="6172200"/>
            <a:ext cx="833400" cy="623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8"/>
          <a:stretch/>
        </p:blipFill>
        <p:spPr>
          <a:xfrm>
            <a:off x="5106960" y="6194520"/>
            <a:ext cx="8431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10960" y="123840"/>
            <a:ext cx="8290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Obs4MIPs: Current Set of Satellite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(Monthly me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37007640" y="18232560"/>
            <a:ext cx="13854240" cy="24831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Datasets Currently Hosted at obs4M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(Variable Long Nam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bient Aerosol Optical Thickness at 550 n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3D Clear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3D Undefine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Clear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High Leve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Low Leve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Mid Leve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Scattering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PSO Tota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 Fraction retrieved by MIS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Sat 94GHz radar Tota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udSat Radar Reflectivity CF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ward Near-Surface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tward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ion of Absorbed Photosynthetically Acti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Cloud Area Fraction (Joint histogram of optical thickness and cloud top press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Mean Cloud Albedo (Cloud-fraction weighted &amp; daytime on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Mean Cloud Top Pressure (Cloud-fraction weighted &amp; daytime on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Mean Cloud Top Temperature (Cloud-fraction weighted &amp; daytime on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CCP Total Cloud Fraction (daytime only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f Area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 Fraction of O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-Surface Wind Sp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ward Near-Surface Wi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rthward Wi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SOL Reflec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 Surface Height Above Ge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a Surface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Hum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Downwelling Clear-Sky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Downwelling Clear-Sky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Downwelling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Downwelling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Upwelling Clear-Sky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Upwelling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Upwelling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Incident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Outgoing Clear-Sky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Outgoing Clear-Sky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Outgoing Long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A Outgoing Shortwave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Cloud F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Vapor P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510120" y="1811160"/>
            <a:ext cx="4751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bient Aerosol Optical Thickness at 550 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3D Clear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3D Undefine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Clear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High Leve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Low Leve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Mid Leve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Scattering Rati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PSO Tota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 Fraction retrieved by MIS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at 94GHz radar Tota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at Radar Reflectivity CF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ion of Absorbed Photosynthetically Acti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Cloud Area Fraction (Joint histogram of optical thickness and CT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Mean Cloud Albedo (Cloud-fraction weighted &amp; day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Mean Cloud Top Pressure (Cloud-fraction weighted &amp; day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Mean Cloud Top Temperature (Cloud-fraction weighted &amp; day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CCP Total Cloud Fraction (daytime onl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 Area Ind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le Fraction of 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Surface Wind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SOL Reflec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5469480" y="1927080"/>
            <a:ext cx="341784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ipitation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Surface Height Above Ge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Surface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Humid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Downwelling Clear-Sky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Downwelling Clear-Sky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Downwelling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Downwelling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Upwelling Clear-Sky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Upwelling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Upwelling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Incident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Outgoing Clear-Sky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Outgoing Clear-Sky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Outgoing Long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A Outgoing Shortwave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loud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Vapor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592200" y="124632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ted by CF Variabl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Long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348960" y="6307200"/>
            <a:ext cx="23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hr data also avail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8640" y="18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 - tractable work to be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240" y="1887120"/>
            <a:ext cx="88138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d presentation/organization of CoG s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ch note:  PDF -&gt; X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I’s on tech not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data.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 tech note report series?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“completeness table”?  (described momentaril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ssible adoption of a “maturity matrix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vertising a “dataset call”, review new proposals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516960" y="5994360"/>
            <a:ext cx="75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require a moderate amount of effort to do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63440" y="84240"/>
            <a:ext cx="79758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obs4MIPs planning meeting for CMIP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35359b"/>
                </a:solidFill>
                <a:latin typeface="Calibri"/>
                <a:ea typeface="ＭＳ Ｐゴシック"/>
              </a:rPr>
              <a:t>(April 2014, NASA HQ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15920" y="755640"/>
            <a:ext cx="880740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lected consensus recommendations that applied to all of the meeting topic are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pand the inventory of included datase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more higher frequency data and model output (a “golden period”?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iable and defendable error characterization/estimation of observations is a high priority, and obs4MIPs should press harder f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datasets in support of off-line simulators (prime example:  COSP—Cloud Feedback Model Intercomparison Project [CFMIP] Observation Simulator Pack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ocated observations, including sparser in-situ datasets, are particularly valuable for diagnosing certain processes and their inclusion in obs4MIPs should therefore be encoura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cise definitions of data products (what’s actually being reported), including biases, and precise definitions of the model output variables are requ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404640" y="6427800"/>
            <a:ext cx="83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3366ff"/>
                </a:solidFill>
                <a:latin typeface="Calibri"/>
              </a:rPr>
              <a:t>Ferraro et al., BAMS </a:t>
            </a:r>
            <a:r>
              <a:rPr b="1" i="1" lang="en-US" sz="1400" spc="-1" strike="noStrike">
                <a:solidFill>
                  <a:srgbClr val="3366ff"/>
                </a:solidFill>
                <a:latin typeface="Calibri"/>
              </a:rPr>
              <a:t>in press </a:t>
            </a:r>
            <a:r>
              <a:rPr b="1" lang="en-US" sz="1400" spc="-1" strike="noStrike">
                <a:solidFill>
                  <a:srgbClr val="3366ff"/>
                </a:solidFill>
                <a:latin typeface="Calibri"/>
              </a:rPr>
              <a:t>and full meeting report on CoG websit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7:26:42Z</dcterms:created>
  <dc:creator>Peter Gleckler</dc:creator>
  <dc:description/>
  <dc:language>en-US</dc:language>
  <cp:lastModifiedBy>Catherine Michaut</cp:lastModifiedBy>
  <dcterms:modified xsi:type="dcterms:W3CDTF">2015-09-18T09:52:44Z</dcterms:modified>
  <cp:revision>77</cp:revision>
  <dc:subject/>
  <dc:title>PowerPoint Presentation</dc:title>
</cp:coreProperties>
</file>