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15.wmf" ContentType="image/x-wmf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B91E1-F008-4DAF-B0F5-1806F8554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54167-CD1A-4719-AD82-5D832C1E4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1DB65-7AF0-421F-A8F1-449F98276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E0949-2B00-4F92-9864-A50BCD1D0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430FE-1B7B-491E-BA33-C12114CA5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3EFA7-E7A2-4B41-B8D9-6C3A27F3B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DF893-7015-4892-8B4C-85B74994D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009C3-81AD-4833-83C8-F6BB92C09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70164-7F1D-49C9-89DF-82BCB338E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0C2A2-FBA3-4A1F-AB65-DF2D82BB2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350CE-284C-4DC6-AA84-9C1B040B2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467DF-E7C1-4481-84E6-E8035C028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5861B93-E0E7-4D16-907F-A8550CE8E2C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BF79E92-887D-4FB7-AE6B-2E5D7BD594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28640" y="187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Update on obs4MIP (and ana4MIPs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0" y="1523520"/>
            <a:ext cx="9144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Aft>
                <a:spcPts val="28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DAC Observations for Model Evaluation Task Team Membershi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-chairs: Peter Gleckler, PCMDI and Duane Waliser, JPL/NASA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andrine Bony, IPS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ike Bosilovich, GSFC/NAS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elene Chepfer, IPS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Veronika Erying, DL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obert Ferraro, JPL/NASA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ierre-Phillipe Mathieu, ESA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oger Saunders, UKMO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Jörg Schulz, EUMETSA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Karl Taylor, PCMDI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Jean-Noël Thépaut, ECMW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28640" y="187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ome challeng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0" y="1272960"/>
            <a:ext cx="8826480" cy="459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9144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very step requires work/resources (for data providers and/or members of the task team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mproving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he process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of data preparation/ESGF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(primarily technical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Better defining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he process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of what datasets get included and how it is catalogued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xpansion (e.g., high frequency, in-situ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11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836928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28640" y="187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Goals to be met before WDAC-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01160" y="502920"/>
            <a:ext cx="8815320" cy="513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 indent="0">
              <a:lnSpc>
                <a:spcPct val="120000"/>
              </a:lnSpc>
              <a:spcBef>
                <a:spcPts val="1276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51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dvancements on all “tractable” improvem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fine and document a process of data preparation/ESG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Better defining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he process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of what datasets get included and how it is catalogu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28640" y="187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ome opportunities and possible pathway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01160" y="1387080"/>
            <a:ext cx="8815320" cy="513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Obs4MIPs has attracted a great deal of attention, with lots of interest in seeing it expanded (e.g., higher frequency satellite data and in situ)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 well defined process of hosting/documenting observations could represent a useful protocol for other observational CF/ESGF inventor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  <a:ea typeface="ＭＳ Ｐゴシック"/>
              </a:rPr>
              <a:t>Organizational option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One overarching ESGF observational project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or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 WCRP/WDAC recommended protocol for many ESGF observational projects?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…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 algn="ctr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 algn="ctr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analysis for model intercomparison and more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Jerry Potter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Laura Carrier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Mike Bosilovich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Tsengdar Le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urpose of ana4MIPs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vide data for CMIP evaluation that is not directly observ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lected variables with high potential for model evalu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luding, but not limited to monthly mean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andard CMIP5 pressure level Temperature, winds and geopotential heigh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m surface temperature and specific humid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ean sea level pressure and surface win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ossibly some higher frequency da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858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urrent reanalysis sources converted to the CMIP5 standard forma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Table 8" descr=""/>
          <p:cNvPicPr/>
          <p:nvPr/>
        </p:nvPicPr>
        <p:blipFill>
          <a:blip r:embed="rId1"/>
          <a:stretch/>
        </p:blipFill>
        <p:spPr>
          <a:xfrm>
            <a:off x="1042920" y="1195560"/>
            <a:ext cx="7753320" cy="667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457200" y="1452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scope of ana4MIP limi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ariab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ve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emporal resolu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order to provide data for a reanalysis intercomparison – new project was envision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llaborative REAnalysis Technical Environment – Intercomparison Project (CREATE-IP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58720" y="1701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Expanded reanalysis intercompariso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p-to-date (annually if not monthly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nthly d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igh frequency (1hr, 3hr, 6hr) for limited number of variab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ll available leve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clude increments (O-A and O-F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clude observations as availab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art of a total environment – science cloud, analytics, ontology, visualization,  AP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teraction with reanalysis and outside user communi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urpose of CREATE-IP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455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Improve reanalyses and acces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Co-location and improved data discovery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Common data format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Broader use by other communitie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Biodiversity, water supply, agriculture, wind power, pandemic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Uncertainty quantification - assessing appropriate use of reanalysi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tudy inhomogeneit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500" spc="-1" strike="noStrike">
                <a:solidFill>
                  <a:srgbClr val="0000ff"/>
                </a:solidFill>
                <a:latin typeface="Calibri"/>
              </a:rPr>
              <a:t>CREATE-IP data is available on the CoG and follows the CMIP data convention!  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28640" y="187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Briefing outlin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728280" y="1800360"/>
            <a:ext cx="794556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Quick review, general status repo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llenges, possible solu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ategic consider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tm reanalysis: ana4MIPs / CREATE-I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28160" y="1595520"/>
            <a:ext cx="5241960" cy="41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-457200">
              <a:lnSpc>
                <a:spcPct val="80000"/>
              </a:lnSpc>
              <a:spcAft>
                <a:spcPts val="119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Use the CMIP5 Standard Model Output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as guideline for selecting observation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Aft>
                <a:spcPts val="1199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Aft>
                <a:spcPts val="119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Observations to be </a:t>
            </a:r>
            <a:r>
              <a:rPr b="0" lang="en-US" sz="19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formatted the same as CMIP Model output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(e.g. NetCDF files, CF Convention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Aft>
                <a:spcPts val="1199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Aft>
                <a:spcPts val="119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Hosted side by side </a:t>
            </a:r>
            <a:r>
              <a:rPr b="0" lang="en-US" sz="19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on the ESGF with CMIP model output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Aft>
                <a:spcPts val="1199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Aft>
                <a:spcPts val="119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Include a Technical Note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for each variable describing observation and use for model evaluation (at graduate student level)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Aft>
                <a:spcPts val="119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itle 2"/>
          <p:cNvSpPr/>
          <p:nvPr/>
        </p:nvSpPr>
        <p:spPr>
          <a:xfrm>
            <a:off x="4680" y="19080"/>
            <a:ext cx="6105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0"/>
                </a:solidFill>
                <a:latin typeface="Calibri"/>
                <a:ea typeface="ＭＳ Ｐゴシック"/>
              </a:rPr>
              <a:t>obs4MIPs: The 4 Command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7" name="Group 28"/>
          <p:cNvGrpSpPr/>
          <p:nvPr/>
        </p:nvGrpSpPr>
        <p:grpSpPr>
          <a:xfrm>
            <a:off x="5737320" y="1514520"/>
            <a:ext cx="3285360" cy="1778040"/>
            <a:chOff x="5737320" y="1514520"/>
            <a:chExt cx="3285360" cy="1778040"/>
          </a:xfrm>
        </p:grpSpPr>
        <p:sp>
          <p:nvSpPr>
            <p:cNvPr id="48" name="Oval 8"/>
            <p:cNvSpPr/>
            <p:nvPr/>
          </p:nvSpPr>
          <p:spPr>
            <a:xfrm>
              <a:off x="5737320" y="1782360"/>
              <a:ext cx="1404000" cy="849240"/>
            </a:xfrm>
            <a:prstGeom prst="ellipse">
              <a:avLst/>
            </a:prstGeom>
            <a:solidFill>
              <a:srgbClr val="93cddd">
                <a:alpha val="35000"/>
              </a:srgbClr>
            </a:solidFill>
            <a:ln w="9360">
              <a:solidFill>
                <a:srgbClr val="4a7ebb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" name="TextBox 9"/>
            <p:cNvSpPr/>
            <p:nvPr/>
          </p:nvSpPr>
          <p:spPr>
            <a:xfrm>
              <a:off x="5903640" y="1820520"/>
              <a:ext cx="10425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Model Output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ables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" name="Oval 10"/>
            <p:cNvSpPr/>
            <p:nvPr/>
          </p:nvSpPr>
          <p:spPr>
            <a:xfrm>
              <a:off x="6652800" y="1950120"/>
              <a:ext cx="2368800" cy="1342440"/>
            </a:xfrm>
            <a:prstGeom prst="ellipse">
              <a:avLst/>
            </a:prstGeom>
            <a:solidFill>
              <a:srgbClr val="31859c">
                <a:alpha val="28000"/>
              </a:srgbClr>
            </a:solidFill>
            <a:ln w="9360">
              <a:solidFill>
                <a:srgbClr val="4a7ebb">
                  <a:alpha val="32000"/>
                </a:srgbClr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" name="TextBox 22"/>
            <p:cNvSpPr/>
            <p:nvPr/>
          </p:nvSpPr>
          <p:spPr>
            <a:xfrm>
              <a:off x="7189560" y="2189880"/>
              <a:ext cx="1216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Satellite Retrieva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ables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TextBox 23"/>
            <p:cNvSpPr/>
            <p:nvPr/>
          </p:nvSpPr>
          <p:spPr>
            <a:xfrm>
              <a:off x="7090920" y="1514520"/>
              <a:ext cx="193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800" spc="-1" strike="noStrike">
                  <a:solidFill>
                    <a:srgbClr val="000090"/>
                  </a:solidFill>
                  <a:latin typeface="Arial"/>
                  <a:ea typeface="ＭＳ Ｐゴシック"/>
                </a:rPr>
                <a:t>Target Quantitie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3" name="Curved Connector 13"/>
            <p:cNvCxnSpPr/>
            <p:nvPr/>
          </p:nvCxnSpPr>
          <p:spPr>
            <a:xfrm rot="5400000">
              <a:off x="6890040" y="1845360"/>
              <a:ext cx="514440" cy="40356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25560">
              <a:solidFill>
                <a:srgbClr val="000090"/>
              </a:solidFill>
              <a:miter/>
              <a:tailEnd len="med" type="arrow" w="med"/>
            </a:ln>
          </p:spPr>
        </p:cxnSp>
      </p:grpSp>
      <p:pic>
        <p:nvPicPr>
          <p:cNvPr id="54" name="Group 27" descr=""/>
          <p:cNvPicPr/>
          <p:nvPr/>
        </p:nvPicPr>
        <p:blipFill>
          <a:blip r:embed="rId1"/>
          <a:stretch/>
        </p:blipFill>
        <p:spPr>
          <a:xfrm>
            <a:off x="6334200" y="3371760"/>
            <a:ext cx="2577960" cy="30355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4" descr=""/>
          <p:cNvPicPr/>
          <p:nvPr/>
        </p:nvPicPr>
        <p:blipFill>
          <a:blip r:embed="rId2"/>
          <a:stretch/>
        </p:blipFill>
        <p:spPr>
          <a:xfrm>
            <a:off x="8197920" y="55440"/>
            <a:ext cx="882720" cy="882720"/>
          </a:xfrm>
          <a:prstGeom prst="rect">
            <a:avLst/>
          </a:prstGeom>
          <a:ln w="38160">
            <a:solidFill>
              <a:srgbClr val="984807"/>
            </a:solidFill>
            <a:miter/>
          </a:ln>
        </p:spPr>
      </p:pic>
      <p:pic>
        <p:nvPicPr>
          <p:cNvPr id="56" name="Picture 25" descr=""/>
          <p:cNvPicPr/>
          <p:nvPr/>
        </p:nvPicPr>
        <p:blipFill>
          <a:blip r:embed="rId3"/>
          <a:stretch/>
        </p:blipFill>
        <p:spPr>
          <a:xfrm>
            <a:off x="6181560" y="44280"/>
            <a:ext cx="884520" cy="884520"/>
          </a:xfrm>
          <a:prstGeom prst="rect">
            <a:avLst/>
          </a:prstGeom>
          <a:ln w="38160">
            <a:solidFill>
              <a:srgbClr val="984807"/>
            </a:solidFill>
            <a:miter/>
          </a:ln>
        </p:spPr>
      </p:pic>
      <p:sp>
        <p:nvSpPr>
          <p:cNvPr id="57" name="Left-Right Arrow 26"/>
          <p:cNvSpPr/>
          <p:nvPr/>
        </p:nvSpPr>
        <p:spPr>
          <a:xfrm>
            <a:off x="7088040" y="193680"/>
            <a:ext cx="1081080" cy="250920"/>
          </a:xfrm>
          <a:prstGeom prst="leftRightArrow">
            <a:avLst>
              <a:gd name="adj1" fmla="val 50000"/>
              <a:gd name="adj2" fmla="val 50146"/>
            </a:avLst>
          </a:prstGeom>
          <a:solidFill>
            <a:srgbClr val="8eb4e3"/>
          </a:solidFill>
          <a:ln w="9360">
            <a:solidFill>
              <a:srgbClr val="35359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Box 27"/>
          <p:cNvSpPr/>
          <p:nvPr/>
        </p:nvSpPr>
        <p:spPr>
          <a:xfrm>
            <a:off x="7112160" y="477720"/>
            <a:ext cx="1044360" cy="337320"/>
          </a:xfrm>
          <a:prstGeom prst="rect">
            <a:avLst/>
          </a:prstGeom>
          <a:solidFill>
            <a:srgbClr val="bfeb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Obs4MIP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Box 23"/>
          <p:cNvSpPr/>
          <p:nvPr/>
        </p:nvSpPr>
        <p:spPr>
          <a:xfrm>
            <a:off x="6159600" y="92880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atellit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Box 28"/>
          <p:cNvSpPr/>
          <p:nvPr/>
        </p:nvSpPr>
        <p:spPr>
          <a:xfrm>
            <a:off x="8243280" y="939960"/>
            <a:ext cx="75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odel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79360" y="415800"/>
            <a:ext cx="8561520" cy="76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Data accessibility for WCRP projects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280800" y="1339920"/>
            <a:ext cx="8188200" cy="132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arth System Grid Federation (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SGF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 will be used for CMIP6 (and, increasingly, many other project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4" descr="CMIP5_Archive.png"/>
          <p:cNvPicPr/>
          <p:nvPr/>
        </p:nvPicPr>
        <p:blipFill>
          <a:blip r:embed="rId1"/>
          <a:stretch/>
        </p:blipFill>
        <p:spPr>
          <a:xfrm>
            <a:off x="5651640" y="2187720"/>
            <a:ext cx="3492360" cy="25700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6" descr="ESGF_Participants.png"/>
          <p:cNvPicPr/>
          <p:nvPr/>
        </p:nvPicPr>
        <p:blipFill>
          <a:blip r:embed="rId2"/>
          <a:stretch/>
        </p:blipFill>
        <p:spPr>
          <a:xfrm>
            <a:off x="249120" y="2287440"/>
            <a:ext cx="4878360" cy="44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31760" y="84240"/>
            <a:ext cx="867096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ata access and project connected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5517720" y="1341360"/>
            <a:ext cx="3605400" cy="32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Obs4MIPs data (and ana4MIPs) are available through the Co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G is directly connected to ESGF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MIP6 is expected to be hosted on the CoG, as are many other projec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3" descr=""/>
          <p:cNvPicPr/>
          <p:nvPr/>
        </p:nvPicPr>
        <p:blipFill>
          <a:blip r:embed="rId1"/>
          <a:stretch/>
        </p:blipFill>
        <p:spPr>
          <a:xfrm>
            <a:off x="88920" y="1208160"/>
            <a:ext cx="5400720" cy="5408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8" name="TextBox 5"/>
          <p:cNvSpPr/>
          <p:nvPr/>
        </p:nvSpPr>
        <p:spPr>
          <a:xfrm>
            <a:off x="6063840" y="5827680"/>
            <a:ext cx="298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Obs4MIPs/WCRP logo need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28640" y="187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Obs4MIPs progres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01520" y="1195200"/>
            <a:ext cx="9042480" cy="459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-457200">
              <a:lnSpc>
                <a:spcPct val="11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Contributions accumulating steadily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ASA, NOAA, ESA, EUMETSAT, DLR committing contribu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1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ESGF will be used for CMIP6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1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CoG environment is strengthening, expanding; e.g., will serve CMIP6,  . . 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1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ask team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Healthy and productive interac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teadily getting grappling with issu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Lots to do and think about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7" descr="NASA Logo (Meatball).tif"/>
          <p:cNvPicPr/>
          <p:nvPr/>
        </p:nvPicPr>
        <p:blipFill>
          <a:blip r:embed="rId1"/>
          <a:stretch/>
        </p:blipFill>
        <p:spPr>
          <a:xfrm>
            <a:off x="120600" y="6145200"/>
            <a:ext cx="738360" cy="6127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5" descr=""/>
          <p:cNvPicPr/>
          <p:nvPr/>
        </p:nvPicPr>
        <p:blipFill>
          <a:blip r:embed="rId2"/>
          <a:stretch/>
        </p:blipFill>
        <p:spPr>
          <a:xfrm>
            <a:off x="882720" y="6129360"/>
            <a:ext cx="662040" cy="666720"/>
          </a:xfrm>
          <a:prstGeom prst="rect">
            <a:avLst/>
          </a:prstGeom>
          <a:ln w="0">
            <a:noFill/>
          </a:ln>
        </p:spPr>
      </p:pic>
      <p:sp>
        <p:nvSpPr>
          <p:cNvPr id="73" name="TextBox 6"/>
          <p:cNvSpPr/>
          <p:nvPr/>
        </p:nvSpPr>
        <p:spPr>
          <a:xfrm>
            <a:off x="5916960" y="6345360"/>
            <a:ext cx="176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alibri"/>
              </a:rPr>
              <a:t>…</a:t>
            </a:r>
            <a:r>
              <a:rPr b="1" lang="en-US" sz="1800" spc="-1" strike="noStrike">
                <a:solidFill>
                  <a:srgbClr val="0000ff"/>
                </a:solidFill>
                <a:latin typeface="Calibri"/>
              </a:rPr>
              <a:t>.  and growing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7" descr=""/>
          <p:cNvPicPr/>
          <p:nvPr/>
        </p:nvPicPr>
        <p:blipFill>
          <a:blip r:embed="rId3"/>
          <a:stretch/>
        </p:blipFill>
        <p:spPr>
          <a:xfrm>
            <a:off x="7621560" y="6319800"/>
            <a:ext cx="1501920" cy="5097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8" descr=""/>
          <p:cNvPicPr/>
          <p:nvPr/>
        </p:nvPicPr>
        <p:blipFill>
          <a:blip r:embed="rId4"/>
          <a:stretch/>
        </p:blipFill>
        <p:spPr>
          <a:xfrm>
            <a:off x="3425760" y="6084720"/>
            <a:ext cx="703440" cy="7034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9" descr=""/>
          <p:cNvPicPr/>
          <p:nvPr/>
        </p:nvPicPr>
        <p:blipFill>
          <a:blip r:embed="rId5"/>
          <a:stretch/>
        </p:blipFill>
        <p:spPr>
          <a:xfrm>
            <a:off x="1593720" y="6181560"/>
            <a:ext cx="1005120" cy="5637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0" descr=""/>
          <p:cNvPicPr/>
          <p:nvPr/>
        </p:nvPicPr>
        <p:blipFill>
          <a:blip r:embed="rId6"/>
          <a:stretch/>
        </p:blipFill>
        <p:spPr>
          <a:xfrm>
            <a:off x="2676600" y="6129360"/>
            <a:ext cx="738000" cy="6652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1" descr=""/>
          <p:cNvPicPr/>
          <p:nvPr/>
        </p:nvPicPr>
        <p:blipFill>
          <a:blip r:embed="rId7"/>
          <a:stretch/>
        </p:blipFill>
        <p:spPr>
          <a:xfrm>
            <a:off x="4211640" y="6172200"/>
            <a:ext cx="833400" cy="6238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2" descr=""/>
          <p:cNvPicPr/>
          <p:nvPr/>
        </p:nvPicPr>
        <p:blipFill>
          <a:blip r:embed="rId8"/>
          <a:stretch/>
        </p:blipFill>
        <p:spPr>
          <a:xfrm>
            <a:off x="5106960" y="6194520"/>
            <a:ext cx="84312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Box 1"/>
          <p:cNvSpPr/>
          <p:nvPr/>
        </p:nvSpPr>
        <p:spPr>
          <a:xfrm>
            <a:off x="210960" y="123840"/>
            <a:ext cx="8290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5359b"/>
                </a:solidFill>
                <a:latin typeface="Calibri"/>
                <a:ea typeface="ＭＳ Ｐゴシック"/>
              </a:rPr>
              <a:t>Obs4MIPs: Current Set of Satellite Observ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5359b"/>
                </a:solidFill>
                <a:latin typeface="Calibri"/>
                <a:ea typeface="ＭＳ Ｐゴシック"/>
              </a:rPr>
              <a:t> </a:t>
            </a:r>
            <a:r>
              <a:rPr b="0" lang="en-US" sz="3200" spc="-1" strike="noStrike">
                <a:solidFill>
                  <a:srgbClr val="35359b"/>
                </a:solidFill>
                <a:latin typeface="Calibri"/>
                <a:ea typeface="ＭＳ Ｐゴシック"/>
              </a:rPr>
              <a:t>(Monthly mean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Rectangle 8"/>
          <p:cNvSpPr/>
          <p:nvPr/>
        </p:nvSpPr>
        <p:spPr>
          <a:xfrm>
            <a:off x="37007640" y="18232560"/>
            <a:ext cx="13854240" cy="2483172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0070c0"/>
                </a:solidFill>
                <a:latin typeface="Calibri"/>
              </a:rPr>
              <a:t>Datasets Currently Hosted at obs4MIP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Calibri"/>
              </a:rPr>
              <a:t>(Variable Long Name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ir Tempera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mbient Aerosol Optical Thickness at 550 n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LIPSO 3D Clear fra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LIPSO 3D Undefined fra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LIPSO Clear Cloud Fra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LIPSO Cloud Fra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LIPSO High Level Cloud Fra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LIPSO Low Level Cloud Fra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LIPSO Mid Level Cloud Fra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LIPSO Scattering Rati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LIPSO Total Cloud Fra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oud Fraction retrieved by MIS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oudSat 94GHz radar Total Cloud Fra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oudSat Radar Reflectivity CFAD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astward Near-Surface Wi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astward Wi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raction of Absorbed Photosynthetically Active Radi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SCCP Cloud Area Fraction (Joint histogram of optical thickness and cloud top pressur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SCCP Mean Cloud Albedo (Cloud-fraction weighted &amp; daytime only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SCCP Mean Cloud Top Pressure (Cloud-fraction weighted &amp; daytime only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SCCP Mean Cloud Top Temperature (Cloud-fraction weighted &amp; daytime only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SCCP Total Cloud Fraction (daytime only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af Area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le Fraction of O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ar-Surface Wind Spe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rthward Near-Surface Wi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rthward Wind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ASOL Reflect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ecipi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a Surface Height Above Geoi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a Surface Tempera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pecific Humid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rface Downwelling Clear-Sky Longwave Radi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rface Downwelling Clear-Sky Shortwave Radi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rface Downwelling Longwave Radi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rface Downwelling Shortwave Radi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rface Upwelling Clear-Sky Shortwave Radi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rface Upwelling Longwave Radi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rface Upwelling Shortwave Radi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A Incident Shortwave Radi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A Outgoing Clear-Sky Longwave Radi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A Outgoing Clear-Sky Shortwave Radi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A Outgoing Longwave Radi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A Outgoing Shortwave Radi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tal Cloud Fra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ter Vapor Pat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Box 2"/>
          <p:cNvSpPr/>
          <p:nvPr/>
        </p:nvSpPr>
        <p:spPr>
          <a:xfrm>
            <a:off x="510120" y="1811160"/>
            <a:ext cx="475128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ir Tempera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mbient Aerosol Optical Thickness at 550 n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LIPSO 3D Clear fra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LIPSO 3D Undefined fra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LIPSO Clear Cloud Fra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LIPSO Cloud Fra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LIPSO High Level Cloud Fra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LIPSO Low Level Cloud Fra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LIPSO Mid Level Cloud Fra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LIPSO Scattering Rati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LIPSO Total Cloud Fra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oud Fraction retrieved by MIS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oudSat 94GHz radar Total Cloud Fra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oudSat Radar Reflectivity CFA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action of Absorbed Photosynthetically Active Radi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CCP Cloud Area Fraction (Joint histogram of optical thickness and CTP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CCP Mean Cloud Albedo (Cloud-fraction weighted &amp; daytim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CCP Mean Cloud Top Pressure (Cloud-fraction weighted &amp; daytim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CCP Mean Cloud Top Temperature (Cloud-fraction weighted &amp; daytim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CCP Total Cloud Fraction (daytime only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af Area Inde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le Fraction of O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ar-Surface Wind Spe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ASOL Reflect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TextBox 12"/>
          <p:cNvSpPr/>
          <p:nvPr/>
        </p:nvSpPr>
        <p:spPr>
          <a:xfrm>
            <a:off x="5469480" y="1927080"/>
            <a:ext cx="3417840" cy="41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cipitation</a:t>
            </a:r>
            <a:r>
              <a:rPr b="0" lang="en-US" sz="1200" spc="-1" strike="noStrike">
                <a:solidFill>
                  <a:srgbClr val="ff0000"/>
                </a:solidFill>
                <a:latin typeface="Calibri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a Surface Height Above Geoi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a Surface Tempera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cific Humid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rface Downwelling Clear-Sky Longwave Radi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rface Downwelling Clear-Sky Shortwave Radi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rface Downwelling Longwave Radi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rface Downwelling Shortwave Radi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rface Upwelling Clear-Sky Shortwave Radi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rface Upwelling Longwave Radi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rface Upwelling Shortwave Radi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A Incident Shortwave Radi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A Outgoing Clear-Sky Longwave Radi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A Outgoing Clear-Sky Shortwave Radi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A Outgoing Longwave Radi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A Outgoing Shortwave Radi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tal Cloud Fra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ter Vapor Pa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xtBox 3"/>
          <p:cNvSpPr/>
          <p:nvPr/>
        </p:nvSpPr>
        <p:spPr>
          <a:xfrm>
            <a:off x="592200" y="1246320"/>
            <a:ext cx="334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rted by CF Variable 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Long Na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6348960" y="6307200"/>
            <a:ext cx="237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*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3hr data also availab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28640" y="187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atus - tractable work to be do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2240" y="1887120"/>
            <a:ext cx="8813880" cy="310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mproved presentation/organization of CoG si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ech note:  PDF -&gt; XM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OI’s on tech note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data.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  <a:ea typeface="ＭＳ Ｐゴシック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A tech note report series?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  <a:ea typeface="ＭＳ Ｐゴシック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 “completeness table”?  (described momentarily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ossible adoption of a “maturity matrix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dvertising a “dataset call”, review new proposals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  <a:ea typeface="ＭＳ Ｐゴシック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Box 2"/>
          <p:cNvSpPr/>
          <p:nvPr/>
        </p:nvSpPr>
        <p:spPr>
          <a:xfrm>
            <a:off x="516960" y="5994360"/>
            <a:ext cx="757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Could require a moderate amount of effort to do proper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Box 1"/>
          <p:cNvSpPr/>
          <p:nvPr/>
        </p:nvSpPr>
        <p:spPr>
          <a:xfrm>
            <a:off x="163440" y="84240"/>
            <a:ext cx="797580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5359b"/>
                </a:solidFill>
                <a:latin typeface="Calibri"/>
                <a:ea typeface="ＭＳ Ｐゴシック"/>
              </a:rPr>
              <a:t>obs4MIPs planning meeting for CMIP6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35359b"/>
                </a:solidFill>
                <a:latin typeface="Calibri"/>
                <a:ea typeface="ＭＳ Ｐゴシック"/>
              </a:rPr>
              <a:t>(April 2014, NASA HQ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TextBox 1"/>
          <p:cNvSpPr/>
          <p:nvPr/>
        </p:nvSpPr>
        <p:spPr>
          <a:xfrm>
            <a:off x="115920" y="755640"/>
            <a:ext cx="8807400" cy="518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Selected consensus recommendations that applied to all of the meeting topic areas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xpand the inventory of included dataset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nclude more higher frequency data and model output (a “golden period”?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liable and defendable error characterization/estimation of observations is a high priority, and obs4MIPs should press harder fo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hi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nclude datasets in support of off-line simulators (prime example:  COSP—Cloud Feedback Model Intercomparison Project [CFMIP] Observation Simulator Package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ollocated observations, including sparser in-situ datasets, are particularly valuable for diagnosing certain processes and their inclusion in obs4MIPs should therefore be encourag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recise definitions of data products (what’s actually being reported), including biases, and precise definitions of the model output variables are requir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2"/>
          <p:cNvSpPr/>
          <p:nvPr/>
        </p:nvSpPr>
        <p:spPr>
          <a:xfrm>
            <a:off x="404640" y="6427800"/>
            <a:ext cx="836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alibri"/>
              </a:rPr>
              <a:t>Ferraro et al., BAMS </a:t>
            </a:r>
            <a:r>
              <a:rPr b="1" i="1" lang="en-US" sz="1400" spc="-1" strike="noStrike">
                <a:solidFill>
                  <a:srgbClr val="3366ff"/>
                </a:solidFill>
                <a:latin typeface="Calibri"/>
              </a:rPr>
              <a:t>in press </a:t>
            </a:r>
            <a:r>
              <a:rPr b="1" lang="en-US" sz="1400" spc="-1" strike="noStrike">
                <a:solidFill>
                  <a:srgbClr val="3366ff"/>
                </a:solidFill>
                <a:latin typeface="Calibri"/>
              </a:rPr>
              <a:t>and full meeting report on CoG website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16T17:26:42Z</dcterms:created>
  <dc:creator>Peter Gleckler</dc:creator>
  <dc:description/>
  <dc:language>en-US</dc:language>
  <cp:lastModifiedBy>Catherine Michaut</cp:lastModifiedBy>
  <dcterms:modified xsi:type="dcterms:W3CDTF">2015-09-18T09:52:44Z</dcterms:modified>
  <cp:revision>77</cp:revision>
  <dc:subject/>
  <dc:title>PowerPoint Presentation</dc:title>
</cp:coreProperties>
</file>