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D4D6-64E1-45BD-AB45-A91AB442DC7D}" type="datetime">
              <a:rPr b="0" lang="en-GB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4D2D-C3D6-4DFA-AD88-35A42E1810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F550-AA2B-4E3D-AE10-A1576F3F8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6E9-B5F4-45DA-AA7C-DD2795599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0B9-80D9-419D-A2DF-07425904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FD2-6A88-4F6E-B5DA-EC8D2D83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8F1-C303-43EB-81C3-572A8EBE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751-EB5C-45AE-B972-EB6E3C82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14A-DA40-4408-8325-9303745E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9B7-EB26-4B23-98AA-207175A4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088-C260-4B05-BCC4-3A12DBB3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01B-7FD6-4454-B5C1-96651E7F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621A-767B-49CE-A2E2-A80242BF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CBD-E0ED-4964-876B-BEE35D4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84A-09A3-438D-B91A-0BBA7712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AB4E-9D20-46E4-9090-CE67C3D1CE9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0F92-4A8C-4AF4-8983-A36578B4BB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Screen Shot 2015-01-03 at 6.32.25 PM.png"/>
          <p:cNvPicPr/>
          <p:nvPr/>
        </p:nvPicPr>
        <p:blipFill>
          <a:blip r:embed="rId2"/>
          <a:stretch/>
        </p:blipFill>
        <p:spPr>
          <a:xfrm>
            <a:off x="838080" y="6408720"/>
            <a:ext cx="1524240" cy="37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rcRect l="33020" t="30315" r="30805" b="8656"/>
          <a:stretch/>
        </p:blipFill>
        <p:spPr>
          <a:xfrm rot="20745000">
            <a:off x="428760" y="2015640"/>
            <a:ext cx="3051000" cy="386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rcRect l="33761" t="30315" r="30805" b="13578"/>
          <a:stretch/>
        </p:blipFill>
        <p:spPr>
          <a:xfrm rot="1719600">
            <a:off x="5495400" y="2157480"/>
            <a:ext cx="3168720" cy="376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rcRect l="34688" t="30143" r="31355" b="11230"/>
          <a:stretch/>
        </p:blipFill>
        <p:spPr>
          <a:xfrm>
            <a:off x="3059280" y="2060640"/>
            <a:ext cx="2892240" cy="3744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3366720" y="5950080"/>
            <a:ext cx="24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örg Schulz (EUMETS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620640"/>
            <a:ext cx="8496000" cy="131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 Proposal for Structured Data Set Quality  Assess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DAC tasked with outlining guidance to perform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lity assessments also providing high-level best practices to entire WCRP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em discussed since 201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DAC-2 (2013) saw first presentation of what this guidance may contain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DAC-3 (2014) saw first version of th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ata Set Quality Assessments: Needs, Benefits, Best Practises and Governance paper based on experiences from GDAP. Discussion led to need for update, in particular, addition of linkage to obs4mips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DAC-4 (2015) should review updated paper and is asked to decide if this is forwarded to other areas of WCR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pect further discussion of inputs from other WCRP areas at WDAC-5 (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755640" y="981000"/>
            <a:ext cx="784872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urrent 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1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Introduction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2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Background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3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History of Quality Assessment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4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Assessment Types and Potential Benefit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5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High Level Best Practise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6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Needs for Funding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7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Governance Aspect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8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Conclusion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9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References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10.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Glossary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</a:rPr>
              <a:t>	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00:42:15Z</dcterms:created>
  <dc:creator>Joerg Schulz</dc:creator>
  <dc:description/>
  <dc:language>en-US</dc:language>
  <cp:lastModifiedBy>Catherine Michaut</cp:lastModifiedBy>
  <dcterms:modified xsi:type="dcterms:W3CDTF">2015-09-18T09:53:03Z</dcterms:modified>
  <cp:revision>136</cp:revision>
  <dc:subject/>
  <dc:title>Water  vapour assessment plans</dc:title>
</cp:coreProperties>
</file>