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E1E9-5458-4D69-A308-B34F374D0B47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3850-0319-4885-A09D-3DD8601A2A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37AC-CDEF-4C9B-AFC9-3ED56DECB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64F9-3B80-4FAF-AF68-D1D93326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2E6-EA33-4BB8-9265-FEF490CF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734C-40EC-477C-BD87-AA7BA3CC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8D3-E22F-4CBF-97A1-4BDB2344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69C0-AC5E-4EF2-AE33-6C3A8ABD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15A-70F1-4113-8222-2313AB55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FFF-7219-4176-B798-5DC9A338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5A27-E4A8-4F88-B201-929A5EEA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6C8-B4DE-4436-8BD8-72479104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6BD2-9DC0-4F9F-BE16-3863F493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CD69-2A6B-4359-89DD-A8A72655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2AB-83ED-4A4F-AF15-06DB157F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758D-12BA-4386-BDCD-7F4FA7D80F2B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707F-05AF-4158-B8CD-FDF0ACEF3C1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creen Shot 2015-01-03 at 6.32.25 PM.png"/>
          <p:cNvPicPr/>
          <p:nvPr/>
        </p:nvPicPr>
        <p:blipFill>
          <a:blip r:embed="rId2"/>
          <a:stretch/>
        </p:blipFill>
        <p:spPr>
          <a:xfrm>
            <a:off x="838080" y="6408720"/>
            <a:ext cx="1524240" cy="37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rcRect l="33020" t="30315" r="30805" b="8656"/>
          <a:stretch/>
        </p:blipFill>
        <p:spPr>
          <a:xfrm rot="20745000">
            <a:off x="428760" y="2015640"/>
            <a:ext cx="3051000" cy="386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rcRect l="33761" t="30315" r="30805" b="13578"/>
          <a:stretch/>
        </p:blipFill>
        <p:spPr>
          <a:xfrm rot="1719600">
            <a:off x="5495400" y="2157480"/>
            <a:ext cx="3168720" cy="3763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3"/>
          <a:srcRect l="34688" t="30143" r="31355" b="11230"/>
          <a:stretch/>
        </p:blipFill>
        <p:spPr>
          <a:xfrm>
            <a:off x="3059280" y="2060640"/>
            <a:ext cx="2892240" cy="3744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3"/>
          <p:cNvSpPr/>
          <p:nvPr/>
        </p:nvSpPr>
        <p:spPr>
          <a:xfrm>
            <a:off x="3366720" y="595008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örg Schulz (EUMETS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620640"/>
            <a:ext cx="8496000" cy="1312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A Proposal for Structured Data Set Quality  Assess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DAC tasked with outlining guidance to perform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assessments also providing high-level best practices to entire WCRP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em discussed since 2013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DAC-2 (2013) saw first presentation of what this guidance may contain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DAC-3 (2014) saw first version of the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ata Set Quality Assessments: Needs, Benefits, Best Practises and Governance paper based on experiences from GDAP. Discussion led to need for update, in particular, addition of linkage to obs4mip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DAC-4 (2015) should review updated paper and is asked to decide if this is forwarded to other areas of WCRP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pect further discussion of inputs from other WCRP areas at WDAC-5 (20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3"/>
          <p:cNvSpPr/>
          <p:nvPr/>
        </p:nvSpPr>
        <p:spPr>
          <a:xfrm>
            <a:off x="755640" y="981000"/>
            <a:ext cx="784872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urrent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1.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Introduction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2.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Background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3.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History of Quality Assessments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4.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Assessment Types and Potential Benefits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5.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High Level Best Practises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6.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Needs for Funding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7.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Governance Aspects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8.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Conclusion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9.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References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10.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Glossary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0:42:15Z</dcterms:created>
  <dc:creator>Joerg Schulz</dc:creator>
  <dc:description/>
  <dc:language>en-US</dc:language>
  <cp:lastModifiedBy>Catherine Michaut</cp:lastModifiedBy>
  <dcterms:modified xsi:type="dcterms:W3CDTF">2015-09-18T09:53:03Z</dcterms:modified>
  <cp:revision>136</cp:revision>
  <dc:subject/>
  <dc:title>Water  vapour assessment plans</dc:title>
</cp:coreProperties>
</file>