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7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</p:sldMasterIdLst>
  <p:notesMasterIdLst>
    <p:notesMasterId r:id="rId49"/>
  </p:notesMasterIdLst>
  <p:sldIdLst>
    <p:sldId id="256" r:id="rId50"/>
    <p:sldId id="257" r:id="rId51"/>
    <p:sldId id="258" r:id="rId52"/>
    <p:sldId id="259" r:id="rId53"/>
    <p:sldId id="260" r:id="rId54"/>
    <p:sldId id="261" r:id="rId55"/>
    <p:sldId id="262" r:id="rId56"/>
    <p:sldId id="263" r:id="rId57"/>
    <p:sldId id="264" r:id="rId58"/>
    <p:sldId id="265" r:id="rId59"/>
    <p:sldId id="266" r:id="rId60"/>
    <p:sldId id="267" r:id="rId61"/>
    <p:sldId id="268" r:id="rId62"/>
    <p:sldId id="269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notesMaster" Target="notesMasters/notesMaster1.xml"/><Relationship Id="rId50" Type="http://schemas.openxmlformats.org/officeDocument/2006/relationships/slide" Target="slides/slide1.xml"/><Relationship Id="rId51" Type="http://schemas.openxmlformats.org/officeDocument/2006/relationships/slide" Target="slides/slide2.xml"/><Relationship Id="rId52" Type="http://schemas.openxmlformats.org/officeDocument/2006/relationships/slide" Target="slides/slide3.xml"/><Relationship Id="rId53" Type="http://schemas.openxmlformats.org/officeDocument/2006/relationships/slide" Target="slides/slide4.xml"/><Relationship Id="rId54" Type="http://schemas.openxmlformats.org/officeDocument/2006/relationships/slide" Target="slides/slide5.xml"/><Relationship Id="rId55" Type="http://schemas.openxmlformats.org/officeDocument/2006/relationships/slide" Target="slides/slide6.xml"/><Relationship Id="rId56" Type="http://schemas.openxmlformats.org/officeDocument/2006/relationships/slide" Target="slides/slide7.xml"/><Relationship Id="rId57" Type="http://schemas.openxmlformats.org/officeDocument/2006/relationships/slide" Target="slides/slide8.xml"/><Relationship Id="rId58" Type="http://schemas.openxmlformats.org/officeDocument/2006/relationships/slide" Target="slides/slide9.xml"/><Relationship Id="rId59" Type="http://schemas.openxmlformats.org/officeDocument/2006/relationships/slide" Target="slides/slide10.xml"/><Relationship Id="rId60" Type="http://schemas.openxmlformats.org/officeDocument/2006/relationships/slide" Target="slides/slide11.xml"/><Relationship Id="rId61" Type="http://schemas.openxmlformats.org/officeDocument/2006/relationships/slide" Target="slides/slide12.xml"/><Relationship Id="rId62" Type="http://schemas.openxmlformats.org/officeDocument/2006/relationships/slide" Target="slides/slide13.xml"/><Relationship Id="rId63" Type="http://schemas.openxmlformats.org/officeDocument/2006/relationships/slide" Target="slides/slide14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 type="dt" idx="12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5"/>
          <p:cNvSpPr>
            <a:spLocks noGrp="1"/>
          </p:cNvSpPr>
          <p:nvPr>
            <p:ph type="ftr" idx="12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6"/>
          <p:cNvSpPr>
            <a:spLocks noGrp="1"/>
          </p:cNvSpPr>
          <p:nvPr>
            <p:ph type="sldNum" idx="12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A39A-8DF2-4E53-BCFE-F89FB7EC1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iable Infiltration Capacity (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I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ll huge remaining uncertainties in ET estimates, leading to different signs in budgets for continents depending on the data set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935D-351D-4744-B87A-C3F93A255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0DB8-7029-4975-AE11-A316A58F46F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a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: CM SAF/HOAPS 3.2; RSS/SSMI Version 7; NASA/NVAP-M; NCEP/CFSR; ECMWF/ERA Interim; NASA/MER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exceptions for the pairs HOAPS/REMSS and NVAP-M/MER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dots are stations which sample twice daily and have a high temporal coverage. Basis: HomoRS92 (based in IG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D9B3-FCE4-4B2F-BB00-5D27B8EA61B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slides from the water vapor assessment shows that there is general a lot of disagreement among data records of atmospheric water vapor pro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832F-2F2E-4BF5-A83B-6ED515242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E124-736E-45F8-B1C1-01CBF608F2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Osaka"/>
              </a:rPr>
              <a:t>Challenge: heat fluxes do not have a unique signature that can be remotely detected, so </a:t>
            </a:r>
            <a:r>
              <a:rPr b="0" lang="en-GB" sz="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satellite observation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Osaka"/>
              </a:rPr>
              <a:t> need to be combined by a </a:t>
            </a:r>
            <a:r>
              <a:rPr b="0" lang="en-GB" sz="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model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Osaka"/>
              </a:rPr>
              <a:t> (process-based, empirical,….) to infer them.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566100"/>
              </a:buClr>
              <a:buFont typeface="Calibri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Calibri"/>
              </a:rPr>
              <a:t>What model to use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566100"/>
              </a:buClr>
              <a:buFont typeface="Calibri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Calibri"/>
              </a:rPr>
              <a:t>What forcing to choose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566100"/>
              </a:buClr>
              <a:buFont typeface="Calibri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Calibri"/>
              </a:rPr>
              <a:t>What scale and resolution is appropriate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566100"/>
              </a:buClr>
              <a:buFont typeface="Calibri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Calibri"/>
              </a:rPr>
              <a:t>How to evaluate and assess model (and forcing) data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7382-2C13-45F9-AB0C-47A95063273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1984-2007 mean annual ET (soil+transpir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78D7-0980-4EEF-9B70-E2795A9E773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0AC1C-614A-4EBA-8199-E8222EDF2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BC657-D807-427C-A5BC-0A2F35972DC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95AE2-E276-4667-B21C-CC501EDC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1018A-F30E-40B4-9681-0AC83E4A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F9B69-2504-4567-B8CC-26A6819D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B414E-AC26-406A-A41E-CC8312AB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BD6B7-3716-492C-8027-1C4DF8D8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8AB65-A2FC-4DE3-9B47-73495F2B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05DE0-2AF4-4242-9635-2DA213CB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781CE-357C-4636-9E46-C31F7540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0F79C-8E53-4DF4-8A2A-BC724953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DD6A4-CFBD-4B1A-9CEA-0D41DD2E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76FE0-BE0F-4764-BFDD-F1E48487534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42783-39CE-4D75-8268-F8764ABC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133B6-EF3A-4B49-9150-C2897352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349E3-F7C4-4559-ACEE-BBAF5138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51A2A-86AA-4BBE-9A5B-2A346141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BC5C2-925F-44BF-84CF-1EF655B4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D6D95-4131-44AF-9A2D-98035402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85967-09C6-41BF-8F97-2BC55A21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9E357-90B9-42AB-9CC1-EC93385A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4E242-26B9-4438-81A2-28560C85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20719-9496-4B4B-A645-C654D284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3C46-6B37-4AD5-879C-8B722DF3D2F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47F86-C86D-4A0A-B88B-E622B419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AF621-3298-463B-B725-04E83BDE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99A0D-BCCB-4208-BD77-D45C7D84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B500B-8DC6-417D-BCEF-689765E4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B5B24-03B8-4B29-8942-F6669E0E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B92E9-CECE-46F4-B281-A259B9B1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A0E81-CA81-4C74-855C-AF3D2067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25379-1D19-4107-8CED-7A8BD82B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D56B8-6948-4117-9D80-C45C5746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2F4A0-D270-445E-8B3F-4D9BE30E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8EEB6-3C10-4B9C-B0E5-F6985F2A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CE5BD-87A8-426C-A015-35A1403C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6684F-CAE4-4E7F-AD59-ABE18617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CE909-885F-4E43-88AC-E682118E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95F89-CF04-4789-B40B-C0013ACB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1F486-AA53-450D-BF72-002841DF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0D90E-BB10-43CC-98C4-A59C5631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364F0-3691-4687-8429-8F3E54D4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DDD7D-1D20-431B-972A-32425EAA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AE273-F7C7-4BCC-B1B5-CD8B1D51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01094-A469-449B-9DFF-16C6E9CC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38C71-9A7E-4A43-B5D0-BEC45EC9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A43AB-8C23-42E8-AF43-8E5E9099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CC7C3-EAF0-405B-8CF1-DB73EDFA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86EEA-0095-4363-ABAB-1260A380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69423-0616-4A42-BBA9-1421D919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0643C-A8AB-4983-B1AE-EC2A58F8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70AF6-6CFB-4873-8A47-ADD8AA46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65E11-A104-4554-A8B5-692AAD33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901D0-1224-49CF-8599-8CC2029E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14F3F-E2A7-4AF4-9F6D-94CEC40D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BE024-3516-4177-AAFF-2296AAB4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86B2E-35F2-490C-AF90-123B8387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E02BB-4A8F-482C-8DD6-8FC87112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6B2B5-18FF-4CD7-975F-AC48C424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6D630-7CA8-4939-A834-5DCC3A71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6222F-0307-4395-B8F7-99DD3379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788DD-9018-46A5-8537-D214A03D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6D842-2D90-44AA-ADE0-264733AB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DCE88-0292-40EF-8FCE-A9EAD095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301E8-F1CF-4BD2-B0C3-27993129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BCC25-2AB9-41CC-B8FF-8486EAED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3CE52-41A5-4E84-B586-34022EA0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16B06-0788-4756-BF6E-449161ED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BCDAA-38CE-4907-B725-C7785B6A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C3559-6E90-478E-9455-BDED85A5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82375-2CF2-4E9D-A4B2-196ADF42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A02A6-1152-440B-AC01-8967BC44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F4517-6558-4867-864A-6A1BCFF1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DFA6E-34C2-4A8D-80B4-CF9DF100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0E258-55B8-4818-A71F-1A28D102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8DB96-CEC7-48FD-A755-F3951D72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9BB5A-DCE5-48D4-9A93-B6D9F502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B25D6-209E-4FC9-A98F-D35D3A48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48652-9294-45DB-94E1-BFD64815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43065-07C3-43B3-9DFA-0D8BF263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6CAB4-15E4-4DF0-8499-E5751B7E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B84D0-C253-4FAC-8DF3-E343F23A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30045-4DC0-4559-81DE-4A523A7F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08EE8-4071-4A36-AE0C-49EF57FA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4EFA5-97D1-4E91-8D97-B5661C07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BF1DC4-79EB-41BB-B962-1807BB46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F76BE-3E42-403A-8812-348C1202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8F6613-CF0D-43BD-A417-59BD9F97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3F39B-F059-4B3F-809F-9E5B1EDF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489A7D-A72B-40C6-B17F-CA31943C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DA582-3654-47B6-8F49-44EAB352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1E7BC4-EA27-4B5C-9164-3213DC24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0AC61F-EB6D-4875-B1B6-53E73E2D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8E918C-ACC8-48D3-BA6E-6CE8559F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23B0C-B85A-4BD0-AFB3-122FF063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82A52-ACB0-46BF-B890-8C7ADF5F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D4132B-822D-4372-8F1D-65FC9D5A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28B361-65BE-4611-BFA3-9C7E9E2D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A08A31-1904-4647-8A56-AB37E47D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FFC875-BE03-489A-9958-9EA99923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1901BE-F2EC-4CF8-9C9A-07359A66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CCCC7B-A198-49A8-8E3F-80BBC90D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1D2DB1-FC26-421C-B268-90D032B6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1EC1F5-28D2-41CA-A6B6-4D58DF03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A1B6-5AA9-4733-94A9-D27DFD0E5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D676F2-11FB-4656-B673-8B50978E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6E3811-3F39-4FCD-9B60-5D66CEDD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A4337B-7FE2-4011-90CC-3EC8582A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31D6DC-C528-42F4-8B49-539C1690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AFCE1D-684A-452E-B1A0-C3608108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889E20-BDD0-4850-A4B3-54C18901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6942F6-0F7C-4173-B79C-A3F4844D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AC41D6-B5B7-4903-ABB0-F8932A28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75D93A-41A9-40CA-8A99-1F78E7E1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CE3B7D-3B60-4CEE-908C-E457309F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20709C-C828-49FA-97F3-262B1D37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EB00D6-0889-4D0E-8899-417E6008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F2B135-30CB-4B2E-A8AB-6757D4C4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3631DD-3A24-4442-BC8F-81E86626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85E2B6-6087-487B-B49D-90FD6F93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949224-BECD-42C8-AEF6-099F9D9E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73DEB1-E360-4E9E-B460-257505E7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F53D8D-8C96-48E8-ADF7-9D5D84F1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1D3DB9-EFF1-4F60-AD26-E7C4DDD2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CC72AC-F47C-41D0-AC51-5F61A5EF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F2058C-CF41-4F2A-9793-9FB868E7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E7F842-7564-44A2-BAD9-935F74C7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6E2694-5899-42BC-B766-D5608E93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DCEB39-368C-4170-B17A-DFEBCD28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D55FC5-05A5-4682-B549-D91C71BA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80E72B-6B56-4279-B0BB-D8326AA9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87A359-EA80-4906-AA1F-ED780E63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EA2B08-8247-4272-AD74-6F675887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D94195-2CAB-4BC8-A539-76EAA21D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CC2AEE-CBE8-4518-A600-E3FA7539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EEC4E1-C9C8-4F5C-907C-ECF0528C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2CD8E5-0712-4C70-B383-EDD7A1C1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8175D7-BF53-403A-BC64-12EED07E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4E6392-0FEE-4967-AABD-6F76A6B1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018E9F-564F-4F4A-8464-542F907B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444403-C93D-4085-B60F-F53B7EAB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E9A419-CADA-43EE-9931-EA823646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636F36-6088-4697-86A0-789EF494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FFDAC-DB5C-4D1B-B0C4-248300A8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29796B-40A5-4B05-B500-1E0C375E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774B3A-7BB0-4AA5-B5F6-BBC8270D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A8B8EF-F63A-4653-BF1B-94B22BFC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ACB1F1-E20B-4A86-B41D-C693B438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F508A1-E749-4F12-B0CB-4FC7A9C3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24051D-2E23-432B-A2F0-3DB0F2DA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7BF175-7ECE-4AA1-A8F1-78C1D1EE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CDDC7D-DBAB-4303-BE8B-E2864473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92F7D9-2D1A-44FE-8627-D4B068BD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5FE5A9-86FC-4468-B279-8F4F5FE3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47AB3-6562-4D58-8EFF-8E9A2E96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6ECBD3-DDBC-43A7-AEEC-8476DCCC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80E672-F5DD-4E7B-B013-86F765CD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E4E840-5BB2-4BAC-A1B2-7539EBEC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42AFF2-E016-45D8-9222-6F12B137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68CE3E-E780-4B8E-AD58-28764D13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68E833-7002-47BD-B677-D1043A37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49690E-FA15-4886-B133-EA270AD4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DE0A06-C233-4DEA-AB41-9575AF82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36B2C8-4E0B-4A27-8F51-E70B8CF6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A453FF-CA6B-40E1-9B10-A72E5122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8ECC5-AA1B-4ADC-A49F-1F0D01BB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8DDF54-D85C-43B5-BB07-4ABEC709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D8F475-FCEF-495B-B4F8-FD2DB1A3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812786-6714-4737-805B-4BA608A8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5FFD4F-AA51-46CA-8079-682454D2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D99FA4-9C61-4F81-A567-533D13AB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3C4BDE-C087-407C-99CA-FE756678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036E75-1589-4703-94F3-1EF6EB1F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ECC388-62FA-4D1B-A602-1983D2C5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E07C58-148F-424B-8A65-4544E066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D5EE37-5F6E-46CA-8588-F0346066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B1F0E-E819-4D5C-81C7-5F13ECE2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1F7283-D22E-4663-8AFE-AC4193F0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54DE1F-8610-43D0-8D9C-49C7DBD0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14A67A-016B-4201-B7A0-43D4BC3F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3386A4-F800-4257-9D11-C6DD0968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BE8F36-489C-4D34-908A-4090C9BC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E9F60F-317E-426D-B555-875FA83D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D14CB3-4BCA-4B41-851B-ED855077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22F4D4-2CF5-4AEF-B90A-71382477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A0BCE5-B6EF-4F4F-998F-BA6892E7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0D4EBA-2951-48CE-867D-97778E90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A2A60-9972-4DDC-8F57-33E3DD11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745CBC-F676-4DB7-B232-9DA60716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66D4D4-E623-4D03-B11C-BD6092E2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46C453-0CC3-4C6B-9FE2-2328D286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0A90BF-F745-495E-AD6F-06A58F65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9CF59E-E3D3-4769-BA42-004133E0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920F47-C158-43BE-8DA1-6FE220BA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401B70-B90D-4ABD-8DCE-04680C5E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EEE0E1-FB98-45CE-B851-576B74A3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A72E2F-A455-417E-A195-4038DDA5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76D539-6AA8-45D8-A905-7496BF6F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1471B-2D14-4AD1-AC1F-68525E9B9B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B01B7-24AC-4DEA-A65B-B57DA14E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D3DC2A-CFF2-4374-B5A2-C68A2D56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AE64AD-1AE9-44CB-8B48-4CC41695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2D52F1-42A3-47AB-8528-77E6EC8E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A6620B-701B-405C-BB98-2CF07243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3241B7-172B-449B-B46B-7B7F1B25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2F9F3D-A71D-412D-954B-25F56982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3F0008-DE75-4741-9EF1-6586A4C7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D4FE59-DE17-47A5-99B8-F75E6478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12FAEA-1A51-41F7-BB09-E5AE3CF7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E32DF7-EEF5-40B0-8E8C-06098236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0C222-2A1D-47F0-96F2-A1861956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5E4A7C-F63C-429F-969D-4720B8AC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56D710-A28C-462A-A497-44ECBC26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13C185-2A6D-4860-8562-D4D1BF7C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68D8B2-1D04-4746-9741-B954D0F2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640612-19CE-4188-8673-68B824CE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FC22A6-396D-4E9F-AF6E-C09B01AA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88715B-702B-4AF4-B673-CA8C253C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03AC43-03DE-4F66-8F11-F4444EA5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ECAEC6-7D52-4E87-B50D-52548213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49A6B0-693A-4A69-95C7-E2D87154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AD818-6F1A-422F-ABFC-5E75EB85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FDE3FD-18CE-42E1-910F-484DC8DB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B87D0E-E173-42F9-A3D7-1C2D86B5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FA3BE7-3A3E-4D3C-BAC5-EB43C3FB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0818E1-DC90-4D75-A147-FE99EF08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796A99-8DF8-4F1A-967C-BD682DE4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C1B544-2CBF-46C2-9889-87FB6632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8319BA-CE7C-4A61-993E-2A3963E6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10A52C-07F7-4B36-892D-4C880C0C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B6F7F9-C767-42D0-9B77-CDF9BDE8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74048D-865C-4A04-993C-E00159D1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72C5B-ABD8-42D9-9209-699AD8FD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F171F5-DD4C-4751-9BAE-37E3FF3D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7B635B-BB75-47AE-9E0C-573AF78B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E81C88-E787-4F9C-B17B-6200E618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A7B1EE-1027-4A84-B23D-F97B8F1B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4F0C00-151B-4740-B2BF-3A064D7A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1118F9-58AB-4EF6-9276-98837525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EEE2D8-5727-4FB5-BF73-F39A15FC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40E784-75A0-43FB-AEA6-71E16CDC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CC19F0-9C1E-4250-A159-DB8AC528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5F601C-A224-4736-8069-B2D966C1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C6773-E038-49CA-BA3F-A2C854EB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E2276B-A4F3-445F-B0E1-224B5DCB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ACFA52-7289-4AF8-A25C-84769D96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B1BD93-CCFA-41EC-A62D-9DF66A4A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6A0789-53F6-47DB-98EB-21E88983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BAD982-EFF4-4D64-B6DB-0F78B577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0BD9EB-AB14-416A-8337-262D7FC7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70486C-C473-40C9-B051-877C540B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047A4B-E11B-4E8D-B0AD-E91562B2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A15C46-D2E6-4626-991E-E80ED313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79D6CF-92B6-4223-BC53-063494A0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CA5D0-4BA7-4F3E-9518-F154B90C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A050DE-9443-43D2-BCDB-0C71E599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AA40EF-00A8-45E9-8671-660D13B3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59543B-195B-4FF6-891F-4E4AA2DF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C572EC-90BC-4094-B43C-C6971964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25D9B7-2D53-49AD-A094-DD68FC2A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D93E6C-7472-4D05-A6C4-08BC9BAF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65217A-5FBD-451C-AC9B-2835B2CD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3C7B34-7971-4966-834B-15A98893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CB185D-351B-42CE-B48E-E3BCC110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55368C-EE3F-4E97-9E7E-5B7D5D27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39B4C-91D2-43BE-98AE-4EB671E6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39B28D-7C06-426B-97AB-EC9D7B4C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51362D-309C-4EA5-A16D-35299BDC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E83CE7-7757-4276-898B-A175C191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35C255-79DE-453C-97BA-218336C4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5F15AD-B941-4FDB-844F-494F60BA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82A4C0-BBC3-4621-BCE7-51B88172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A00B2F-34BC-4B6C-AE4E-128B12CB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0A9965-2BDA-41EE-BF9F-7AF62D3E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8481D7-D23A-463D-B91C-4EE0324F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E7F0C7-AE79-4250-9480-DFEA4FBF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A6534B-73D5-4C7C-8164-AB4FB0A0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DC0808-09BE-487C-9E71-EF005654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CA9592-6282-4276-AADB-B74E0DBE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E85B36-86B7-4C82-817B-81E4959D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45E72C-0959-41E7-B74E-AB798F27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813A32-1631-443C-A579-F3F0A459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B71E22-6846-4D9A-94D6-ED7878F5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B286A0-6702-4592-A2A5-798AE430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1F4755-DE88-4A1F-9333-13C53153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95A3F9-9C25-4EDE-9E10-66693E11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6E4A7F-0C67-488E-9D8C-B8107856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F16A66-5EC9-4E81-BD3C-4DE3B944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729485-0394-4B50-860D-2AD05284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F41762-754D-45EB-8827-5909FE7F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1A3F7E-E758-4325-BE9E-7BB3D01F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F659E7-CBF9-4720-94C8-F403C295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6BA3FC-2AA0-499F-81BF-C680ED6B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6C67D6-4C39-481B-846A-64D97F08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78F95D-EA6D-4406-9C48-F619EF58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944EFB-3211-4E01-9B97-E83B55F4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A614D3-2C21-4445-AF6E-FA95CF07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C23CC6-459E-4D00-95C5-81E257ED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7CE9CD-44E4-418E-A4FD-64554F56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E5A7491-7E84-41FD-86B2-217D2AFA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268CFA-CFDD-4376-90FD-39E47742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ED3407-BA12-44C3-AAC6-5A51057D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1339E5-644B-4119-86E3-DB9D1997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D12D34-F021-4C0F-A9EF-5705AE2F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8B6532-68F1-40FD-97CB-F9989DF3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4C3251-CC40-40F3-AB9D-698349C4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611D1F-DA15-48B5-86A6-3F371034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A94C36-703F-4630-90DF-66B7CD09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856C21-AD79-489B-B7BB-2D12EE19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B3798-6159-4627-A7B5-7176C39314F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4073D5-3C51-4C7C-BAD6-F8E81ACF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523F9B-E0AC-46FF-BEBF-FED88A4A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ED7ECC-2A77-41EF-BCC7-CCD59483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F261BC-7DC8-4DDA-962B-20A9D441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B7879AC-06BF-4C91-9F90-1EE5699E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2FFE3B-6080-497C-AF8A-4C6D7787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B01C3C-4DD2-4A01-B0F2-0E1666C4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FAA200-5D62-4CCD-9278-B0F4A543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6E9F64-3345-45CD-91FE-191E2E37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28B153-0ED8-4096-8BA0-F3983AE2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7059BD-D3A6-4EB8-8502-D84FC503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BE2D8A-D7B7-4BEE-BB1C-B0D83239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6A3DB6-EB31-45C7-9C64-6EF1D35F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8D5711-C293-46A9-B873-9EEA421E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F6E952-EB67-4EB9-B9FB-B9506614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966A90-0F64-4EE0-B236-6D8F63D0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5AA396F-31D1-4964-9571-A5011CB6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9DBE80-50B7-4F4C-88F3-8840B050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A4B3AF-4312-431F-850F-8620F0B0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6C93D19-8F74-4BD7-961D-F895365D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09A1FE-E045-406C-B9BF-418DDF8A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88F2C5B-4222-435C-B639-0631DDB1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6251E5-C078-4202-AB18-5165B70B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B1FEDB2-513A-4CA8-BDD7-71E9FE97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D86B2B-7334-4EDD-B8F7-D5D6D5A4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2CAF9A5-0DDF-4A2B-9FFB-B3C0C8CF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C095A9-F985-4E7B-988B-A68BA172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8111D49-ACBB-4B65-B23D-FC3AF9EC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5C81801-0D82-4EA2-8A2F-05149741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C5B6A2-391C-42A5-AE97-C735751B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809DBE-43A7-4D65-9A28-A641ADF2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D73A766-58C5-4BD3-B1C0-BB5A69EA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4DB8BB-EF8A-45C1-9355-E58EC053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E61D6D-CE09-4011-80A9-78EB826F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5C5B43-380F-4D65-AF54-35C6F0E5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DE404A6-BDAC-43E7-B6A0-11FB754A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A14721-0360-4491-8EE3-B6CA079C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A04262-3E15-4359-B1CB-A358A6EF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6E7140C-CDFB-4CDB-A631-7BA32F32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801E9F1-976A-4AF0-A01A-B4F73FAD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4F16877-537B-4600-974D-57AB1D82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2C97222-CCFE-4572-BC6F-5975520F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940E460-117D-4244-882F-AC6C26F3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C4F468-B96C-4E64-8EE7-A28E52C9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DCCF57-9E05-4239-A844-65BF46F6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F6FFC48-8440-4D15-9541-0700CBE8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25FDBFC-0E54-4090-8657-1C6D45EA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069C0B2-18E0-4406-881B-1C5E3DBE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BC59B84-A84A-41ED-8689-02C6C4E6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A332A85-61A4-41F3-A32B-BB75798A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AC111B-F2D6-4800-AA43-8EB43C8B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0855948-2467-4B89-9E07-54A3F0B0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57377E5-BB5F-4618-9130-FF05108B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B7ED4BA-A791-4F88-ADCC-F14A0695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94FE04-A9E2-4E98-ADED-1008B524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610D7D-0C9D-4A48-B952-8E379C3C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8191514-1530-4290-93D3-37DCFB5A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26A6CAA-8DED-4604-ABB8-C77ED269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E38122-4453-45B2-B91A-CC321CE3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8B644A-C42E-47EC-B557-55602C9F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3A4827-1D61-4174-A614-7D9DF377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8B5352B-1C86-487C-B0CD-FC70D47A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8CCDE54-22ED-420F-994D-41ABD8F3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80FB732-873B-4186-9BBB-597FBCD6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EA574A1-933B-4385-83BC-B73FC2FC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51F64E3-378C-4833-B651-A24795DA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4B3CA7-3E41-4E8B-B240-5092EFF6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7E01111-C03C-4E0A-BF75-C07138B0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51DDC61-1658-4E14-8513-2D854C7F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AD8F86C-AC61-4A42-9350-A91C6EE3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68CB91D-D2EE-4F05-8FB5-C39F2B48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BA17803-B93D-4964-A02E-519F0460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8013911-6A87-434A-8DE1-6A782567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2FC8D68-41DF-46BA-B7CE-84FD5749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2EF7840-3453-4685-9633-E8762FCB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61EF4C0-AAC5-41AD-AA32-90590604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A183053-5A1D-4432-B1FA-FB5FFF94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EF57A4-C343-489F-AD18-85C5ADC1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DF2E11E-91BC-4410-B0DA-242CF3F8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4F466E4-9659-4DE8-9296-B1D9B100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C23665-313A-4329-8175-F8018F1C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0CD4938-0158-48F7-9EBC-526FB5E5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37A9C47-B465-4087-BD70-8B353BFD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4FA2E87-7CA7-4A88-90B6-5E40812B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7D5BDDA-F314-48D9-89F6-09F51AB7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0BF0987-AF01-4A7F-A60B-74ABD7CD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659D27B-E487-4514-9B97-507D62D6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4004766-A18E-48B3-AE1F-73EBC820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C8DBDE-F07A-43DC-9242-4CD0B2F0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2F14F36-466D-48CA-9BE7-1E247181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7C29AB6-4DAA-41F2-A00A-D5AE2985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C350DAA-9F31-4431-813E-A4A52BAC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5D1B876-F997-4237-867A-EF9726FA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89AAFE1-1CE7-4988-A24F-018C1973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D5A10BA-34B2-4288-8C55-E1FB43D8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2E2BC4E-DEE3-4F6B-A229-FEB87B34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394C8FA-27AE-47EF-811A-F8AA2B39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B10A68B-BA5E-4315-8AED-3AF33FA7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A049382-4AC1-4E0D-B194-7D57E07B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4D993-C261-44B1-9BE9-11B441D87521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7239121-B20C-41B8-909A-BDCE7AE0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41EB07B-4A2D-4E02-B40D-9934A312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874170A-9D7D-48C2-A4FD-19F4CACD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538463E-8523-4996-BAE6-5C8F49C9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664A8C7-CADE-47FB-B8B5-ECB13993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6139087-089F-4595-9253-F57189AC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E64E067-E155-4307-B853-F6098705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D930FA8-3019-4C46-B8D9-A32D69F6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F0266B6-0138-4FB7-AF44-CB7F75C5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142729A-3EBE-45A3-9BC3-04AFE0AF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94A70-03C7-4319-8130-A658BC6E5A0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01F1B-6AAD-4201-A5A1-76D46C0CDE6A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DB1C575-8603-44AA-A54B-F4878C05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D315467-B9AC-463B-9480-9A8AD523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602225E-8242-4806-87C2-00FBE490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9650954-611C-4938-B6F8-07B0C6AC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6B44062-03E5-40A3-9DA8-49BFD5AF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9005B6C-5AD1-483A-A520-E729F97D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F71D163-666A-4EF4-A135-9EF74D9C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13C7381-9AE0-4469-ABED-2DC6F087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01698F3-4797-438E-929F-82570F18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7DF6468-FCA9-4A52-933D-1F0EA199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B335D-5982-4530-BCFE-9FAE7404096E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6C610D7-FEDA-4C1D-975D-9251A31E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2E610DE-B2C2-420C-953A-2C14FBA0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52590E2-CEE3-4E3C-8D2C-42EA53D1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D8A62AD-D479-4EF0-94B7-6D96DC7C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F18953C-964F-41EA-9962-A2C5B020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ADA6DB2-C2ED-4E21-AE74-A3E914D2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6B5CF62-31A7-472C-90E6-6CC3BA6A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03B09D9-CD28-4229-A59E-2F3FC93F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0B53127-9695-44E1-8BE6-C43E2651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8C38878-4A97-45E7-8DDE-CA85C40C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C6B82-F4ED-4235-B24B-30514E024BE1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166289A-144D-4C78-A1D7-24364ED8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D02503C-99BA-46D8-905E-5605B0EF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8187469-A045-4996-9987-A81AE08A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9353E72-731E-454E-AB73-3FAAAED7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AFCBFF4-50BC-4265-9EA7-66B0ECF0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033B68B-C7D7-47F3-B0A3-69B26449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650E6AF-8664-423F-97F3-9166A7B6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1E611BA-6629-4175-880C-63227435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2B0904B-A477-4773-A193-D1598582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EAA7C4B-7259-4E5B-BD22-C7BD23F1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CD72C0-9249-41BE-9E0A-A18169CE9F89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5E34D72-E018-4C64-A35D-EC292C70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7775772-0E8F-43A8-8951-476EC5BB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4E30271-6967-4A85-95E9-CC808E6A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68D36F5-6F8A-46FD-B457-E5D9D3E7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3F6D2A8-FE9E-4657-BEAC-40FB41EA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E463AE7-86AB-49F2-97A5-91825B0B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5D36D23-9627-4CBF-9884-19EB736B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77B8FBE-2B89-48BC-89F1-CD4355D3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4DE9FD4-4446-42D8-802C-0B090B69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A967FEC-EBE6-47D3-A960-F186198B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F93A7-36E8-40FD-915C-1A40D25D3E13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6052679-7E09-4AC9-8E6B-327095F9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59D2340-195D-43FC-A302-7C9545479D9D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3DD2B95-1D5E-4480-B189-7D51D388FAA6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5D383EAA-C570-47BC-8D69-8C74415AD49C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F3A2703-61E3-4664-A1CA-650D7FC466D1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64BF7123-DBD5-4C6F-B040-CDB38651698B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8E5F616-B486-41F7-9192-DE2A0475FBB3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653288F2-A537-4204-948E-C60CC8009BE8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B9D08A7C-676C-4861-83B5-DF584250B278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CF725B4-3430-4B60-A91C-9D4547A603A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0361D-401A-4825-BF7B-CBD945DAA936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59564D91-7091-43C6-B7DF-48241E1738AD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68B513F-B3C2-4031-97A7-CDE0CBBA14CA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F358DA4-BE31-47FC-B641-4C4F62431C82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8BB9E68-B117-43E7-AB35-EDB87D59D15F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83D19E7-AE29-43F6-8EBE-422744DB9B4D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1685C72-5886-417F-8321-0094DAE63320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18F763C-F35C-4A59-81C0-BC563BC594F8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02CAA15-D313-42DD-937B-057331090CCF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B94521D-2853-4BC5-9296-0C40809DD520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1E6B72F-41BB-4A23-AF1E-FC139241B7D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68B9DC-055E-45F7-9E06-9E14FFF92207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93EEBA9-FE0F-41E1-8612-BBACC7C966FB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804BE11-559A-46EC-9C6B-EDA7069A25E3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EFC5928C-F954-4A16-90B3-AED30E6C0518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3BB3F1F-3449-4D9A-824C-A5F0C9C13B88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866721D-5DE6-4934-9BED-8E0E9E4D54C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FCD84-7743-4B42-AC52-DCD79DD57F8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9E0AE-744C-4678-987C-4C2AE9E4D2C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943357-091D-47E7-989F-7F4C6FE8B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46762-153C-4C49-8274-38414E8E230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DA71AE-806B-4F03-91E2-EC5D6CF75CF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493250-0394-49B1-A200-E9CCB175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0CFA5B-4332-4843-B7E3-2FE37C2E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6BB05C-A1B2-4117-B069-F61E370E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55F1AE-06C0-481A-B756-2EC0FAA5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1AB1E2-B60F-498C-A1C8-E55B183D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57F39D-BECC-4DFD-913A-87C5D8F4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8C1B5F-3AB2-447E-A9E4-2C63E960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BCA5D9-88D0-41C2-85B2-126D7892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435C56-D4FB-445D-BE69-9506964B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B1D9-59D9-4AF5-9542-4CA4E8FBFE5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F862F4-C410-4C08-A2FB-78AA59E2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1FB808-DE85-4833-BB00-F3403F34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185DA4-38ED-44BE-A7C0-9D27B84A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B89FA-2EA9-4C02-BD78-A36431E6D74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5CB84-19E6-4845-A123-8ECA68E3A1C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08B7A-08C6-4BE2-B776-8B2463E93C9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C843D-C17B-4541-94F0-8E8352AD25F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44E95-1ED0-44A8-9B75-04D42F3A8C9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36561-F068-4525-BD81-E3A029A2BD0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5E3BE-9993-4046-B1E6-1020D722A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DC299-320C-4D77-AABB-348660FC1DF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1DADE-2A5E-4FAC-B3B5-011F0844941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33FA1-8972-4EB8-9B22-AE5104EE0CE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7B419-18AF-4BA6-BE1A-DD797C1099C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94A08-0E66-4117-BE99-AC428574A15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F2D7E-6377-4685-8E41-3438395CA79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CA1AF-BE35-4879-838F-BC3A3224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A362D-4A47-4CD5-87A2-F77E8514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EF650-6F91-422F-8702-4DF3A266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37FF1-0316-4FF4-9740-04FF2019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6F1A7-1D44-49C2-8313-9BAA6433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4AC4D-87BE-4B62-AD2A-C328985D902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CF661-5910-43FA-9211-901FBC60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B347F-CF08-4EFA-88B1-51A29E79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B2315-6B38-486D-BBE3-08564A25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53ABD-2BAD-49BA-9AC0-EC7A5763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10005-A708-43E0-8361-CE78F145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F551E-CC90-4D68-BA00-DD4F0016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46EFF-F998-4738-BC8A-98EBD9F8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55943-94FF-4030-B097-C220CB8F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39792-1749-45AD-81F7-1BA6F509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D6471-8C63-46A8-93B2-14BEDCC6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FA6A-E3ED-4E59-AF7F-C2666A8F0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4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391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A312-8014-4629-8124-E11A5FA86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436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7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9F75-A16F-4BB8-AA6F-74814AE3E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481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2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0EF1-2720-446B-B167-75DCCD487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526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7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AFA8-C4D6-4A55-96A0-200E48FDF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571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2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686A-D525-4B1B-88BD-719B5F3CF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616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7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EA4B-DACF-43A6-88B7-17BC5C7A9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661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2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0DED-9979-40D5-AEFE-887CDCBCD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706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7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D2B9-BC6D-413A-B935-2238253A1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751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2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9C80-95EC-492C-8AF5-E0A6214B6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796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7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hteck 4"/>
          <p:cNvSpPr/>
          <p:nvPr/>
        </p:nvSpPr>
        <p:spPr>
          <a:xfrm>
            <a:off x="0" y="1440"/>
            <a:ext cx="9144000" cy="1051200"/>
          </a:xfrm>
          <a:prstGeom prst="rect">
            <a:avLst/>
          </a:prstGeom>
          <a:solidFill>
            <a:srgbClr val="008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Grafik 1" descr=""/>
          <p:cNvPicPr/>
          <p:nvPr/>
        </p:nvPicPr>
        <p:blipFill>
          <a:blip r:embed="rId2"/>
          <a:stretch/>
        </p:blipFill>
        <p:spPr>
          <a:xfrm>
            <a:off x="23760" y="7920"/>
            <a:ext cx="1052640" cy="1044720"/>
          </a:xfrm>
          <a:prstGeom prst="rect">
            <a:avLst/>
          </a:prstGeom>
          <a:ln w="0">
            <a:noFill/>
          </a:ln>
        </p:spPr>
      </p:pic>
      <p:pic>
        <p:nvPicPr>
          <p:cNvPr id="45" name="Grafik 1" descr=""/>
          <p:cNvPicPr/>
          <p:nvPr/>
        </p:nvPicPr>
        <p:blipFill>
          <a:blip r:embed="rId3"/>
          <a:stretch/>
        </p:blipFill>
        <p:spPr>
          <a:xfrm>
            <a:off x="7885080" y="6308640"/>
            <a:ext cx="1079640" cy="46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hteck 4"/>
          <p:cNvSpPr/>
          <p:nvPr/>
        </p:nvSpPr>
        <p:spPr>
          <a:xfrm>
            <a:off x="0" y="1440"/>
            <a:ext cx="9144000" cy="1051200"/>
          </a:xfrm>
          <a:prstGeom prst="rect">
            <a:avLst/>
          </a:prstGeom>
          <a:solidFill>
            <a:srgbClr val="008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Grafik 1" descr=""/>
          <p:cNvPicPr/>
          <p:nvPr/>
        </p:nvPicPr>
        <p:blipFill>
          <a:blip r:embed="rId2"/>
          <a:stretch/>
        </p:blipFill>
        <p:spPr>
          <a:xfrm>
            <a:off x="23760" y="7920"/>
            <a:ext cx="1052640" cy="1044720"/>
          </a:xfrm>
          <a:prstGeom prst="rect">
            <a:avLst/>
          </a:prstGeom>
          <a:ln w="0">
            <a:noFill/>
          </a:ln>
        </p:spPr>
      </p:pic>
      <p:pic>
        <p:nvPicPr>
          <p:cNvPr id="839" name="Grafik 1" descr=""/>
          <p:cNvPicPr/>
          <p:nvPr/>
        </p:nvPicPr>
        <p:blipFill>
          <a:blip r:embed="rId3"/>
          <a:stretch/>
        </p:blipFill>
        <p:spPr>
          <a:xfrm>
            <a:off x="7885080" y="6308640"/>
            <a:ext cx="1079640" cy="46512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EGU general Assme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iuenna, 7 May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outer Dorigo – wd@ipf.tuwien.ac.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ulti-mission microwave soil mois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8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0E16-4684-4CC4-83CB-771283D25668}" type="slidenum">
              <a:rPr b="0" lang="en-AU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hteck 4"/>
          <p:cNvSpPr/>
          <p:nvPr/>
        </p:nvSpPr>
        <p:spPr>
          <a:xfrm>
            <a:off x="0" y="1440"/>
            <a:ext cx="9144000" cy="1051200"/>
          </a:xfrm>
          <a:prstGeom prst="rect">
            <a:avLst/>
          </a:prstGeom>
          <a:solidFill>
            <a:srgbClr val="008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Grafik 1" descr=""/>
          <p:cNvPicPr/>
          <p:nvPr/>
        </p:nvPicPr>
        <p:blipFill>
          <a:blip r:embed="rId2"/>
          <a:stretch/>
        </p:blipFill>
        <p:spPr>
          <a:xfrm>
            <a:off x="23760" y="7920"/>
            <a:ext cx="1052640" cy="1044720"/>
          </a:xfrm>
          <a:prstGeom prst="rect">
            <a:avLst/>
          </a:prstGeom>
          <a:ln w="0">
            <a:noFill/>
          </a:ln>
        </p:spPr>
      </p:pic>
      <p:pic>
        <p:nvPicPr>
          <p:cNvPr id="881" name="Grafik 1" descr=""/>
          <p:cNvPicPr/>
          <p:nvPr/>
        </p:nvPicPr>
        <p:blipFill>
          <a:blip r:embed="rId3"/>
          <a:stretch/>
        </p:blipFill>
        <p:spPr>
          <a:xfrm>
            <a:off x="7885080" y="6308640"/>
            <a:ext cx="1079640" cy="465120"/>
          </a:xfrm>
          <a:prstGeom prst="rect">
            <a:avLst/>
          </a:prstGeom>
          <a:ln w="0">
            <a:noFill/>
          </a:ln>
        </p:spPr>
      </p:pic>
      <p:sp>
        <p:nvSpPr>
          <p:cNvPr id="882" name="PlaceHolder 1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041B-D9D0-435D-A412-C6E3405133A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D4B8-E454-4FA0-AA38-F7FAD81EC05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366F-4C95-4069-A697-E877529EA9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A8D6-BD11-415F-A451-896077CAE39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D698-D95F-48C7-93E8-65FB1E819F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2738-53D3-4E4D-9F46-7E6BCE3F50B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5F1E-D2C1-402A-A739-3DC2573187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6E75-5C90-4CD2-83C8-CBAD2EE395B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1185-9C9A-4A8C-90EA-C5984992F9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8CDE-112A-4694-9ACE-0C9D67EBFC0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031D-A404-49A6-9239-5F096D9AFB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0050-8E75-4FF4-AB49-C0169BC433D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DCC6-4EDA-4B97-9DC0-5056CFB109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FAC6-18F2-4484-889C-B9CBE4B66C5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CC88-EBC7-4BB7-9A9E-9EA1973207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11E2-77FF-4F06-ACBA-25950A7C7DD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22B2-13ED-4303-8787-F1F2295193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Kursinski &amp; Kursinski </a:t>
            </a:r>
            <a:fld id="{DF637429-CBB1-4A3A-99FA-1A592DAA81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G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c 17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EA3F-084B-4B48-826E-CD5E1DBBF05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4D37-B17D-49AB-A4E8-49DE7CB0A2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7159-BD9E-4B1F-8490-2662B32E19B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2124-4C2C-4F9A-BE97-C40FDD10AE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1EE6-60CB-43B7-BDED-89CBC4DB656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396D-8506-4E93-86EF-1A34598843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 type="dt" idx="85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ugust 23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 type="ftr" idx="8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AA/UCAR GPS Sympo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 type="sldNum" idx="87"/>
          </p:nvPr>
        </p:nvSpPr>
        <p:spPr>
          <a:xfrm>
            <a:off x="67053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4" name="Picture 12" descr="topbar_data"/>
          <p:cNvPicPr/>
          <p:nvPr/>
        </p:nvPicPr>
        <p:blipFill>
          <a:blip r:embed="rId2"/>
          <a:srcRect l="0" t="0" r="37801" b="0"/>
          <a:stretch/>
        </p:blipFill>
        <p:spPr>
          <a:xfrm>
            <a:off x="6372360" y="63360"/>
            <a:ext cx="2627280" cy="106200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 type="ftr" idx="89"/>
          </p:nvPr>
        </p:nvSpPr>
        <p:spPr>
          <a:xfrm>
            <a:off x="2339640" y="65527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 type="sldNum" idx="90"/>
          </p:nvPr>
        </p:nvSpPr>
        <p:spPr>
          <a:xfrm>
            <a:off x="6012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0DBD-7A80-4447-90EE-6E5B3A46E3B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2" descr="topbar_data"/>
          <p:cNvPicPr/>
          <p:nvPr/>
        </p:nvPicPr>
        <p:blipFill>
          <a:blip r:embed="rId2"/>
          <a:srcRect l="0" t="0" r="37801" b="0"/>
          <a:stretch/>
        </p:blipFill>
        <p:spPr>
          <a:xfrm>
            <a:off x="6372360" y="63360"/>
            <a:ext cx="2627280" cy="1062000"/>
          </a:xfrm>
          <a:prstGeom prst="rect">
            <a:avLst/>
          </a:prstGeom>
          <a:ln w="0">
            <a:noFill/>
          </a:ln>
        </p:spPr>
      </p:pic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 type="ftr" idx="92"/>
          </p:nvPr>
        </p:nvSpPr>
        <p:spPr>
          <a:xfrm>
            <a:off x="2339640" y="65527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 type="sldNum" idx="93"/>
          </p:nvPr>
        </p:nvSpPr>
        <p:spPr>
          <a:xfrm>
            <a:off x="6012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0AD6-7852-46D0-A27B-A07538F0B65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0" name="Picture 12" descr="topbar_data"/>
          <p:cNvPicPr/>
          <p:nvPr/>
        </p:nvPicPr>
        <p:blipFill>
          <a:blip r:embed="rId2"/>
          <a:srcRect l="0" t="0" r="37801" b="0"/>
          <a:stretch/>
        </p:blipFill>
        <p:spPr>
          <a:xfrm>
            <a:off x="6372360" y="63360"/>
            <a:ext cx="2627280" cy="1062000"/>
          </a:xfrm>
          <a:prstGeom prst="rect">
            <a:avLst/>
          </a:prstGeom>
          <a:ln w="0">
            <a:noFill/>
          </a:ln>
        </p:spPr>
      </p:pic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 type="ftr" idx="95"/>
          </p:nvPr>
        </p:nvSpPr>
        <p:spPr>
          <a:xfrm>
            <a:off x="2339640" y="65527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 type="sldNum" idx="96"/>
          </p:nvPr>
        </p:nvSpPr>
        <p:spPr>
          <a:xfrm>
            <a:off x="6012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793D-C355-4580-9F2E-1EC293DDA49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3" name="Picture 12" descr="topbar_data"/>
          <p:cNvPicPr/>
          <p:nvPr/>
        </p:nvPicPr>
        <p:blipFill>
          <a:blip r:embed="rId2"/>
          <a:srcRect l="0" t="0" r="37801" b="0"/>
          <a:stretch/>
        </p:blipFill>
        <p:spPr>
          <a:xfrm>
            <a:off x="6372360" y="63360"/>
            <a:ext cx="2627280" cy="1062000"/>
          </a:xfrm>
          <a:prstGeom prst="rect">
            <a:avLst/>
          </a:prstGeom>
          <a:ln w="0">
            <a:noFill/>
          </a:ln>
        </p:spPr>
      </p:pic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 type="ftr" idx="98"/>
          </p:nvPr>
        </p:nvSpPr>
        <p:spPr>
          <a:xfrm>
            <a:off x="2339640" y="65527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 type="sldNum" idx="99"/>
          </p:nvPr>
        </p:nvSpPr>
        <p:spPr>
          <a:xfrm>
            <a:off x="6012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0CB2-3F94-4C6F-AB73-C38F938D8C6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6" name="Picture 12" descr="topbar_data"/>
          <p:cNvPicPr/>
          <p:nvPr/>
        </p:nvPicPr>
        <p:blipFill>
          <a:blip r:embed="rId2"/>
          <a:srcRect l="0" t="0" r="37801" b="0"/>
          <a:stretch/>
        </p:blipFill>
        <p:spPr>
          <a:xfrm>
            <a:off x="6372360" y="63360"/>
            <a:ext cx="2627280" cy="1062000"/>
          </a:xfrm>
          <a:prstGeom prst="rect">
            <a:avLst/>
          </a:prstGeom>
          <a:ln w="0">
            <a:noFill/>
          </a:ln>
        </p:spPr>
      </p:pic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01"/>
          </p:nvPr>
        </p:nvSpPr>
        <p:spPr>
          <a:xfrm>
            <a:off x="2339640" y="65527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02"/>
          </p:nvPr>
        </p:nvSpPr>
        <p:spPr>
          <a:xfrm>
            <a:off x="6012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FA62-71CE-4D65-A1D5-CA837C01F5B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9" name="Picture 12" descr="topbar_data"/>
          <p:cNvPicPr/>
          <p:nvPr/>
        </p:nvPicPr>
        <p:blipFill>
          <a:blip r:embed="rId2"/>
          <a:srcRect l="0" t="0" r="37801" b="0"/>
          <a:stretch/>
        </p:blipFill>
        <p:spPr>
          <a:xfrm>
            <a:off x="6372360" y="63360"/>
            <a:ext cx="2627280" cy="1062000"/>
          </a:xfrm>
          <a:prstGeom prst="rect">
            <a:avLst/>
          </a:prstGeom>
          <a:ln w="0">
            <a:noFill/>
          </a:ln>
        </p:spPr>
      </p:pic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 type="ftr" idx="104"/>
          </p:nvPr>
        </p:nvSpPr>
        <p:spPr>
          <a:xfrm>
            <a:off x="2339640" y="65527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 type="sldNum" idx="105"/>
          </p:nvPr>
        </p:nvSpPr>
        <p:spPr>
          <a:xfrm>
            <a:off x="6012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EE2E-8571-4642-8EF1-3308914011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6"/>
          </p:nvPr>
        </p:nvSpPr>
        <p:spPr>
          <a:xfrm>
            <a:off x="2339640" y="65527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7"/>
          </p:nvPr>
        </p:nvSpPr>
        <p:spPr>
          <a:xfrm>
            <a:off x="6012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C587-2AA2-42EF-8BE6-018870BCD9D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2" descr="topbar_data"/>
          <p:cNvPicPr/>
          <p:nvPr/>
        </p:nvPicPr>
        <p:blipFill>
          <a:blip r:embed="rId2"/>
          <a:srcRect l="0" t="0" r="37801" b="0"/>
          <a:stretch/>
        </p:blipFill>
        <p:spPr>
          <a:xfrm>
            <a:off x="6372360" y="63360"/>
            <a:ext cx="2627280" cy="106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12" descr="topbar_data"/>
          <p:cNvPicPr/>
          <p:nvPr/>
        </p:nvPicPr>
        <p:blipFill>
          <a:blip r:embed="rId2"/>
          <a:srcRect l="0" t="0" r="37801" b="0"/>
          <a:stretch/>
        </p:blipFill>
        <p:spPr>
          <a:xfrm>
            <a:off x="6372360" y="63360"/>
            <a:ext cx="2627280" cy="1062000"/>
          </a:xfrm>
          <a:prstGeom prst="rect">
            <a:avLst/>
          </a:prstGeom>
          <a:ln w="0">
            <a:noFill/>
          </a:ln>
        </p:spPr>
      </p:pic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 type="ftr" idx="107"/>
          </p:nvPr>
        </p:nvSpPr>
        <p:spPr>
          <a:xfrm>
            <a:off x="2339640" y="65527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 type="sldNum" idx="108"/>
          </p:nvPr>
        </p:nvSpPr>
        <p:spPr>
          <a:xfrm>
            <a:off x="6012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D1E5-025D-4F18-961B-141AC53E81A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5" name="Picture 12" descr="topbar_data"/>
          <p:cNvPicPr/>
          <p:nvPr/>
        </p:nvPicPr>
        <p:blipFill>
          <a:blip r:embed="rId2"/>
          <a:srcRect l="0" t="0" r="37801" b="0"/>
          <a:stretch/>
        </p:blipFill>
        <p:spPr>
          <a:xfrm>
            <a:off x="6372360" y="63360"/>
            <a:ext cx="2627280" cy="1062000"/>
          </a:xfrm>
          <a:prstGeom prst="rect">
            <a:avLst/>
          </a:prstGeom>
          <a:ln w="0">
            <a:noFill/>
          </a:ln>
        </p:spPr>
      </p:pic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ftr" idx="110"/>
          </p:nvPr>
        </p:nvSpPr>
        <p:spPr>
          <a:xfrm>
            <a:off x="2339640" y="65527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 type="sldNum" idx="111"/>
          </p:nvPr>
        </p:nvSpPr>
        <p:spPr>
          <a:xfrm>
            <a:off x="6012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F84C-B7AF-459C-A571-8C3659E2A91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8" name="Picture 12" descr="topbar_data"/>
          <p:cNvPicPr/>
          <p:nvPr/>
        </p:nvPicPr>
        <p:blipFill>
          <a:blip r:embed="rId2"/>
          <a:srcRect l="0" t="0" r="37801" b="0"/>
          <a:stretch/>
        </p:blipFill>
        <p:spPr>
          <a:xfrm>
            <a:off x="6372360" y="63360"/>
            <a:ext cx="2627280" cy="1062000"/>
          </a:xfrm>
          <a:prstGeom prst="rect">
            <a:avLst/>
          </a:prstGeom>
          <a:ln w="0">
            <a:noFill/>
          </a:ln>
        </p:spPr>
      </p:pic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 type="ftr" idx="113"/>
          </p:nvPr>
        </p:nvSpPr>
        <p:spPr>
          <a:xfrm>
            <a:off x="2339640" y="65527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 type="sldNum" idx="114"/>
          </p:nvPr>
        </p:nvSpPr>
        <p:spPr>
          <a:xfrm>
            <a:off x="6012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AEB1-7F5B-48E8-AC1A-DD7878B1154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1" name="Picture 12" descr="topbar_data"/>
          <p:cNvPicPr/>
          <p:nvPr/>
        </p:nvPicPr>
        <p:blipFill>
          <a:blip r:embed="rId2"/>
          <a:srcRect l="0" t="0" r="37801" b="0"/>
          <a:stretch/>
        </p:blipFill>
        <p:spPr>
          <a:xfrm>
            <a:off x="6372360" y="63360"/>
            <a:ext cx="2627280" cy="1062000"/>
          </a:xfrm>
          <a:prstGeom prst="rect">
            <a:avLst/>
          </a:prstGeom>
          <a:ln w="0">
            <a:noFill/>
          </a:ln>
        </p:spPr>
      </p:pic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 type="ftr" idx="116"/>
          </p:nvPr>
        </p:nvSpPr>
        <p:spPr>
          <a:xfrm>
            <a:off x="2339640" y="65527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 type="sldNum" idx="117"/>
          </p:nvPr>
        </p:nvSpPr>
        <p:spPr>
          <a:xfrm>
            <a:off x="6012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4864-F630-4AAD-87E4-AE7C8D8C9CE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4" name="Picture 12" descr="topbar_data"/>
          <p:cNvPicPr/>
          <p:nvPr/>
        </p:nvPicPr>
        <p:blipFill>
          <a:blip r:embed="rId2"/>
          <a:srcRect l="0" t="0" r="37801" b="0"/>
          <a:stretch/>
        </p:blipFill>
        <p:spPr>
          <a:xfrm>
            <a:off x="6372360" y="63360"/>
            <a:ext cx="2627280" cy="1062000"/>
          </a:xfrm>
          <a:prstGeom prst="rect">
            <a:avLst/>
          </a:prstGeom>
          <a:ln w="0">
            <a:noFill/>
          </a:ln>
        </p:spPr>
      </p:pic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19"/>
          </p:nvPr>
        </p:nvSpPr>
        <p:spPr>
          <a:xfrm>
            <a:off x="2339640" y="65527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20"/>
          </p:nvPr>
        </p:nvSpPr>
        <p:spPr>
          <a:xfrm>
            <a:off x="6012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59C7-00C2-4B16-B3C6-942982D1329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7" name="Picture 12" descr="topbar_data"/>
          <p:cNvPicPr/>
          <p:nvPr/>
        </p:nvPicPr>
        <p:blipFill>
          <a:blip r:embed="rId2"/>
          <a:srcRect l="0" t="0" r="37801" b="0"/>
          <a:stretch/>
        </p:blipFill>
        <p:spPr>
          <a:xfrm>
            <a:off x="6372360" y="63360"/>
            <a:ext cx="2627280" cy="1062000"/>
          </a:xfrm>
          <a:prstGeom prst="rect">
            <a:avLst/>
          </a:prstGeom>
          <a:ln w="0">
            <a:noFill/>
          </a:ln>
        </p:spPr>
      </p:pic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 type="ftr" idx="122"/>
          </p:nvPr>
        </p:nvSpPr>
        <p:spPr>
          <a:xfrm>
            <a:off x="2339640" y="65527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 type="sldNum" idx="123"/>
          </p:nvPr>
        </p:nvSpPr>
        <p:spPr>
          <a:xfrm>
            <a:off x="6012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CB52-2EB5-49B6-BF20-844691D8F33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Rectangle 8"/>
          <p:cNvSpPr/>
          <p:nvPr/>
        </p:nvSpPr>
        <p:spPr>
          <a:xfrm>
            <a:off x="165240" y="4491000"/>
            <a:ext cx="8978760" cy="216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Rectangle 5"/>
          <p:cNvSpPr/>
          <p:nvPr/>
        </p:nvSpPr>
        <p:spPr>
          <a:xfrm>
            <a:off x="279360" y="4362480"/>
            <a:ext cx="88376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82520" indent="-182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ffffff"/>
                </a:solidFill>
                <a:latin typeface="Calibri"/>
                <a:ea typeface="宋体"/>
              </a:rPr>
              <a:t>KING ABDULLAH UNIVERSITY OF SCIENCE AND TECHNOLOGY,  SAUDI ARAB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Rectangle 12"/>
          <p:cNvSpPr/>
          <p:nvPr/>
        </p:nvSpPr>
        <p:spPr>
          <a:xfrm>
            <a:off x="0" y="190440"/>
            <a:ext cx="8978760" cy="349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2" name="Picture 6" descr="logo-kaust-header.jpeg"/>
          <p:cNvPicPr/>
          <p:nvPr/>
        </p:nvPicPr>
        <p:blipFill>
          <a:blip r:embed="rId2"/>
          <a:stretch/>
        </p:blipFill>
        <p:spPr>
          <a:xfrm>
            <a:off x="6137280" y="5275440"/>
            <a:ext cx="3006720" cy="1582560"/>
          </a:xfrm>
          <a:prstGeom prst="rect">
            <a:avLst/>
          </a:prstGeom>
          <a:ln w="0">
            <a:noFill/>
          </a:ln>
        </p:spPr>
      </p:pic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264600" y="117000"/>
            <a:ext cx="865836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 type="body"/>
          </p:nvPr>
        </p:nvSpPr>
        <p:spPr>
          <a:xfrm>
            <a:off x="1091880" y="1384200"/>
            <a:ext cx="7364520" cy="4957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82520" indent="-182520">
              <a:spcBef>
                <a:spcPts val="649"/>
              </a:spcBef>
              <a:buClr>
                <a:srgbClr val="0033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2" marL="905040" indent="-1828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3" marL="1262160" indent="-17784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4" marL="1623960" indent="-18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5" marL="1623960" indent="-18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6" marL="1623960" indent="-18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 type="sldNum" idx="124"/>
          </p:nvPr>
        </p:nvSpPr>
        <p:spPr>
          <a:xfrm>
            <a:off x="6854400" y="87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F5C6-FC89-449B-A9C2-EB79CE20A1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2" name="Group 9"/>
          <p:cNvGrpSpPr/>
          <p:nvPr/>
        </p:nvGrpSpPr>
        <p:grpSpPr>
          <a:xfrm>
            <a:off x="673200" y="923760"/>
            <a:ext cx="8470800" cy="492120"/>
            <a:chOff x="673200" y="923760"/>
            <a:chExt cx="8470800" cy="492120"/>
          </a:xfrm>
        </p:grpSpPr>
        <p:sp>
          <p:nvSpPr>
            <p:cNvPr id="1973" name="Rectangle 10"/>
            <p:cNvSpPr/>
            <p:nvPr/>
          </p:nvSpPr>
          <p:spPr>
            <a:xfrm>
              <a:off x="673200" y="1072800"/>
              <a:ext cx="8470800" cy="2160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Rectangle 5"/>
            <p:cNvSpPr/>
            <p:nvPr/>
          </p:nvSpPr>
          <p:spPr>
            <a:xfrm>
              <a:off x="780840" y="923760"/>
              <a:ext cx="83376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82520" indent="-18252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KING ABDULLAH UNIVERSITY OF SCIENCE AND TECHNOLOGY,  SAUDI ARAB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5" name="Rectangle 14"/>
          <p:cNvSpPr/>
          <p:nvPr/>
        </p:nvSpPr>
        <p:spPr>
          <a:xfrm>
            <a:off x="187200" y="69840"/>
            <a:ext cx="8825040" cy="879480"/>
          </a:xfrm>
          <a:prstGeom prst="rect">
            <a:avLst/>
          </a:prstGeom>
          <a:gradFill rotWithShape="0">
            <a:gsLst>
              <a:gs pos="0">
                <a:srgbClr val="609cc9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264600" y="117000"/>
            <a:ext cx="865836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1091880" y="1384200"/>
            <a:ext cx="7364520" cy="4957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82520" indent="-182520">
              <a:spcBef>
                <a:spcPts val="649"/>
              </a:spcBef>
              <a:buClr>
                <a:srgbClr val="0033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2" marL="905040" indent="-1828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3" marL="1262160" indent="-17784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4" marL="1623960" indent="-18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5" marL="1623960" indent="-18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6" marL="1623960" indent="-18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 type="sldNum" idx="125"/>
          </p:nvPr>
        </p:nvSpPr>
        <p:spPr>
          <a:xfrm>
            <a:off x="6905160" y="6285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AD4E-F337-4B39-B62B-0CB2442A594B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9"/>
          <p:cNvGrpSpPr/>
          <p:nvPr/>
        </p:nvGrpSpPr>
        <p:grpSpPr>
          <a:xfrm>
            <a:off x="673200" y="923760"/>
            <a:ext cx="8470800" cy="492120"/>
            <a:chOff x="673200" y="923760"/>
            <a:chExt cx="8470800" cy="492120"/>
          </a:xfrm>
        </p:grpSpPr>
        <p:sp>
          <p:nvSpPr>
            <p:cNvPr id="167" name="Rectangle 10"/>
            <p:cNvSpPr/>
            <p:nvPr/>
          </p:nvSpPr>
          <p:spPr>
            <a:xfrm>
              <a:off x="673200" y="1072800"/>
              <a:ext cx="8470800" cy="2160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"/>
            <p:cNvSpPr/>
            <p:nvPr/>
          </p:nvSpPr>
          <p:spPr>
            <a:xfrm>
              <a:off x="780840" y="923760"/>
              <a:ext cx="83376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82520" indent="-18252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KING ABDULLAH UNIVERSITY OF SCIENCE AND TECHNOLOGY,  SAUDI ARAB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14"/>
          <p:cNvSpPr/>
          <p:nvPr/>
        </p:nvSpPr>
        <p:spPr>
          <a:xfrm>
            <a:off x="187200" y="69840"/>
            <a:ext cx="8825040" cy="879480"/>
          </a:xfrm>
          <a:prstGeom prst="rect">
            <a:avLst/>
          </a:prstGeom>
          <a:gradFill rotWithShape="0">
            <a:gsLst>
              <a:gs pos="0">
                <a:srgbClr val="609cc9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64600" y="117000"/>
            <a:ext cx="865836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091880" y="1384200"/>
            <a:ext cx="7364520" cy="4957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82520" indent="-182520">
              <a:spcBef>
                <a:spcPts val="649"/>
              </a:spcBef>
              <a:buClr>
                <a:srgbClr val="0033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2" marL="905040" indent="-1828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3" marL="1262160" indent="-17784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4" marL="1623960" indent="-18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5" marL="1623960" indent="-18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6" marL="1623960" indent="-18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8"/>
          </p:nvPr>
        </p:nvSpPr>
        <p:spPr>
          <a:xfrm>
            <a:off x="6854400" y="1947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5079-6D3E-4E3B-ADD2-3176D6C46F2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210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500C-F1F8-441E-8B60-FC21EE3B8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255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0" y="6324480"/>
            <a:ext cx="9144000" cy="457200"/>
            <a:chOff x="0" y="6324480"/>
            <a:chExt cx="9144000" cy="457200"/>
          </a:xfrm>
        </p:grpSpPr>
        <p:pic>
          <p:nvPicPr>
            <p:cNvPr id="259" name="Picture 7" descr="Screen Shot 2015-01-03 at 6.32.25 PM.png"/>
            <p:cNvPicPr/>
            <p:nvPr/>
          </p:nvPicPr>
          <p:blipFill>
            <a:blip r:embed="rId3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D0EF-932B-4E0D-B6D1-E20857E6B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301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2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1DBE-CF60-47F1-8958-8FFA57015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346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044A-31B8-4661-8150-B0D525B56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osweb.larc.nasa.gov/GEWEX-RFA/" TargetMode="External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wex-vap.org/" TargetMode="Externa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6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fluxdata.org/DataInfo/" TargetMode="External"/><Relationship Id="rId3" Type="http://schemas.openxmlformats.org/officeDocument/2006/relationships/hyperlink" Target="http://www.fluxdata.org/DataInfo/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55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5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8892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"/>
              </a:rPr>
              <a:t>GEWEX DATA and ASSESSMENTS PANEL (GD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Jörg Schulz (Chair, GD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EUMET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Matthew McCabe (Vice Chair, GD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K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ulla University of Science and Technology, Saudi Ara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on behalf of the GDAP with contributions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Straight Connector 4"/>
          <p:cNvSpPr/>
          <p:nvPr/>
        </p:nvSpPr>
        <p:spPr>
          <a:xfrm>
            <a:off x="685800" y="1143000"/>
            <a:ext cx="784872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Rectangle 5"/>
          <p:cNvSpPr/>
          <p:nvPr/>
        </p:nvSpPr>
        <p:spPr>
          <a:xfrm>
            <a:off x="228600" y="4114800"/>
            <a:ext cx="8729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lf Bennartz, Xavier Calbet,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i Ershadi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nk Fell, John Forsythe,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los Jimenez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ristian Kummerow, Rob Kursinski, Miaoling Liang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arit Lockhoff,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go Miralles, Dominik Michel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rigitte Mueller, Remy Roca,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ia Seneviratne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i Shi, Marc Schröder,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 Trent, Andi Walther,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c 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3" name=""/>
          <p:cNvGraphicFramePr/>
          <p:nvPr/>
        </p:nvGraphicFramePr>
        <p:xfrm>
          <a:off x="304920" y="914400"/>
          <a:ext cx="8531280" cy="5334120"/>
        </p:xfrm>
        <a:graphic>
          <a:graphicData uri="http://schemas.openxmlformats.org/drawingml/2006/table">
            <a:tbl>
              <a:tblPr/>
              <a:tblGrid>
                <a:gridCol w="1371600"/>
                <a:gridCol w="1218960"/>
                <a:gridCol w="762120"/>
                <a:gridCol w="1074600"/>
                <a:gridCol w="925560"/>
                <a:gridCol w="1112760"/>
                <a:gridCol w="1070280"/>
                <a:gridCol w="995400"/>
              </a:tblGrid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5e8ea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a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 Ame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me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d5e8ea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o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b0f0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V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b0f0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3680">
                      <a:solidFill>
                        <a:srgbClr val="daedef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daedef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b0f0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GP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b0f0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3680">
                      <a:solidFill>
                        <a:srgbClr val="daedef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daedef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</a:tr>
              <a:tr h="3873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ndflu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b0f0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5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b0f0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4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3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9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3680">
                      <a:solidFill>
                        <a:srgbClr val="daedef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5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daedef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4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b0f0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3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8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3680">
                      <a:solidFill>
                        <a:srgbClr val="daedef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4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daedef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</a:tr>
              <a:tr h="3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SE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5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b0f0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3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3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3680">
                      <a:solidFill>
                        <a:srgbClr val="daedef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4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daedef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</a:tr>
              <a:tr h="38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GL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5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b0f0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4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4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4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9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3680">
                      <a:solidFill>
                        <a:srgbClr val="daedef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5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daedef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</a:tr>
              <a:tr h="55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b0f0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3680">
                      <a:solidFill>
                        <a:srgbClr val="daedef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daedef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</a:tr>
              <a:tr h="830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Runoff – P-avg(E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±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b0f0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6±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±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±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±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3680">
                      <a:solidFill>
                        <a:srgbClr val="daedef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±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daedef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</a:tr>
              <a:tr h="60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Runoff – P-ET(P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8.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b0f0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3680">
                      <a:solidFill>
                        <a:srgbClr val="daedef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daedef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4" name="TextBox 8"/>
          <p:cNvSpPr/>
          <p:nvPr/>
        </p:nvSpPr>
        <p:spPr>
          <a:xfrm>
            <a:off x="1319040" y="160200"/>
            <a:ext cx="6578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rces of Estimates (mm/yr; 1984-200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Straight Connector 10"/>
          <p:cNvSpPr/>
          <p:nvPr/>
        </p:nvSpPr>
        <p:spPr>
          <a:xfrm>
            <a:off x="685800" y="685800"/>
            <a:ext cx="784872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w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ed planning of new precipitation and soil moisture assessment by tasking Hiro Masunaga and Wouter Dorigo to develop assessment white paper with the community until next GDAP meeting (29 Sep – 1 Oct, 2015, Xiamen, Chin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m is to outline full assessment but to concentrate on items that are achievable within 2 years from the st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Straight Connector 3"/>
          <p:cNvSpPr/>
          <p:nvPr/>
        </p:nvSpPr>
        <p:spPr>
          <a:xfrm>
            <a:off x="685800" y="1219320"/>
            <a:ext cx="784872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cipitation Assessment Fo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)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lobal and Regional Climatology (long-term mean and tr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)  Time series analysis in the context of different modes of climate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c)  Extr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d)  Frozen precip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)  Structural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 up with MOUNTerrain from GH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Straight Connector 3"/>
          <p:cNvSpPr/>
          <p:nvPr/>
        </p:nvSpPr>
        <p:spPr>
          <a:xfrm>
            <a:off x="685800" y="990720"/>
            <a:ext cx="784872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Rectangle 2"/>
          <p:cNvSpPr/>
          <p:nvPr/>
        </p:nvSpPr>
        <p:spPr>
          <a:xfrm>
            <a:off x="304920" y="260280"/>
            <a:ext cx="85341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Arial"/>
              </a:rPr>
              <a:t>Soil Moisture Microwave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Rectangle 3"/>
          <p:cNvSpPr/>
          <p:nvPr/>
        </p:nvSpPr>
        <p:spPr>
          <a:xfrm>
            <a:off x="324000" y="1557360"/>
            <a:ext cx="8362800" cy="39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Inhaltsplatzhalter 3"/>
          <p:cNvSpPr/>
          <p:nvPr/>
        </p:nvSpPr>
        <p:spPr>
          <a:xfrm>
            <a:off x="152280" y="1143000"/>
            <a:ext cx="5211720" cy="50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70a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SMOS mission extended until February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a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Copernicus Sentinel-1 and SMAP launched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a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New quasi operational soil moisture products from AMSR2, Feng-Yun 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a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Large interest in soil moisture 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a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ESA CCI Soil moisture product has over 1300 registered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a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Increasing use of soil moisture for improving precipitation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a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5" name="Picture 2" descr="Figure01_Rmap_vs_GPCC"/>
          <p:cNvPicPr/>
          <p:nvPr/>
        </p:nvPicPr>
        <p:blipFill>
          <a:blip r:embed="rId1"/>
          <a:srcRect l="10360" t="9100" r="8503" b="7103"/>
          <a:stretch/>
        </p:blipFill>
        <p:spPr>
          <a:xfrm>
            <a:off x="5289480" y="685800"/>
            <a:ext cx="3854520" cy="5707080"/>
          </a:xfrm>
          <a:prstGeom prst="rect">
            <a:avLst/>
          </a:prstGeom>
          <a:ln w="0">
            <a:noFill/>
          </a:ln>
        </p:spPr>
      </p:pic>
      <p:sp>
        <p:nvSpPr>
          <p:cNvPr id="2126" name="Rectangle 5"/>
          <p:cNvSpPr/>
          <p:nvPr/>
        </p:nvSpPr>
        <p:spPr>
          <a:xfrm>
            <a:off x="3001680" y="5791320"/>
            <a:ext cx="218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ec0"/>
                </a:solidFill>
                <a:latin typeface="Arial"/>
              </a:rPr>
              <a:t>Brocca et al., 2014, JGR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Straight Connector 6"/>
          <p:cNvSpPr/>
          <p:nvPr/>
        </p:nvSpPr>
        <p:spPr>
          <a:xfrm>
            <a:off x="685800" y="685800"/>
            <a:ext cx="784872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5715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 txBox="1"/>
          <p:nvPr/>
        </p:nvSpPr>
        <p:spPr>
          <a:xfrm>
            <a:off x="380880" y="10663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GEWEX data set assessments as shown for water vapor and evapotranspiration help to further understand issues in data records and facilitate further develop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New assessments planned on precipitation and soil moistur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Constructing an integrated product using the GEWEX standard products is an enormous t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"/>
                <a:ea typeface="Baskerville"/>
              </a:rPr>
              <a:t>Basic building blocks of integrated Product: Ts, T(z), q(z) are not as good as hoped for.  Large differences between products and little in terms of absolute vali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"/>
                <a:ea typeface="Baskerville"/>
              </a:rPr>
              <a:t>Integrated product is a way forward in that the very interdependence that makes it difficult to produce, is also a very strict QC proce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Straight Connector 6"/>
          <p:cNvSpPr/>
          <p:nvPr/>
        </p:nvSpPr>
        <p:spPr>
          <a:xfrm>
            <a:off x="762120" y="838080"/>
            <a:ext cx="7848360" cy="1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DAP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 txBox="1"/>
          <p:nvPr/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cilitate Data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a better understanding of variability and change of the water and energy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uct Quality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independent and transparent quality assurance for existing data records, to endorse the use and the credibility of data records to a broad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des the guidance of surface networks such as BSRN and GPCC delivering crucial data needed for assessmen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ative Transfer Code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tandard for assessing the performance and potentially certifying GCM-style SW and LW RT codes (shared with GAS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of canopy radiative transfer models under controlled experimental condi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ablish new products supporting new challenges (obs4mips, extremes, PROES, etc), e.g., high res precipitation climate data record from radar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Straight Connector 3"/>
          <p:cNvSpPr/>
          <p:nvPr/>
        </p:nvSpPr>
        <p:spPr>
          <a:xfrm>
            <a:off x="762120" y="914400"/>
            <a:ext cx="784836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Rectangle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Data Set Assessments performed by GRP/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D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5"/>
          <p:cNvSpPr/>
          <p:nvPr/>
        </p:nvSpPr>
        <p:spPr>
          <a:xfrm>
            <a:off x="228600" y="1066680"/>
            <a:ext cx="87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il Moisture – 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Discussion at GDAP 20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ation –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GPCP and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White paper for assessment available, GDAP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Vapor –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ultiple data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Assessment underway (fifth workshop in Nov 2015 at CIMSS, Madi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bulent Fluxes: 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SeaFlux and Land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SeaFlux assessment largely finished, lots of publications, reporting 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LandFLux assessment largely finished, lots of publications, reporting 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rosols –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GACP over ocean; land is TB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Aerosol assessment underway with very limited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s –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ISCCP (http://climserv.ipsl.polytechnique.fr/gewexca/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Cloud assessment completed 201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CRP Report No. 23/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tion –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SRB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osweb.larc.nasa.gov/GEWEX-RFA/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urface reference observations –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BS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Radiation assessment completed 201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CRP Report No. 19/2012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ation –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GPC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fc gauge obs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(GP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First Assessment completed 2008 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CRP-128, WMO/TD-No. 1430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Straight Connector 3"/>
          <p:cNvSpPr/>
          <p:nvPr/>
        </p:nvSpPr>
        <p:spPr>
          <a:xfrm>
            <a:off x="762120" y="914400"/>
            <a:ext cx="784836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 Vapour Assessment (G-VAP)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Text Box 4"/>
          <p:cNvSpPr/>
          <p:nvPr/>
        </p:nvSpPr>
        <p:spPr>
          <a:xfrm>
            <a:off x="457200" y="1295280"/>
            <a:ext cx="8229600" cy="53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date a comprehensive and consistent assessment of long-term satellite based water vapour data records addressing GCOS ECVs has not been carried out (Past SPARC WAVACS covered parts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-VAP fills this gap and will fully document each step of the analysis and related resul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DAP started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-VAP in 201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The major objective of G-VAP is to inform users (science community, GDAP, agencies, PIs,…) on the strength and weaknesses of available data recor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in approach: consistent inter-comparison and comparison to ground-based and in-situ observations analysing variability/stability with focus on troposphe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us far, four workshops have been carried out. These have been hosted by: 1) ESA-ESRIN, 2) DWD, 3) CSU, 4) FU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ifth workshop will be at the SSEC, University of Wisconsin at 4+5 November 20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rther details on G-VAP can be at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"/>
              </a:rPr>
              <a:t>www.gewex-vap.or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traight Connector 4"/>
          <p:cNvSpPr/>
          <p:nvPr/>
        </p:nvSpPr>
        <p:spPr>
          <a:xfrm>
            <a:off x="762120" y="914400"/>
            <a:ext cx="784836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Rechteck 4"/>
          <p:cNvSpPr/>
          <p:nvPr/>
        </p:nvSpPr>
        <p:spPr>
          <a:xfrm>
            <a:off x="1206360" y="44280"/>
            <a:ext cx="6732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-term analysis of TCW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Textfeld 5"/>
          <p:cNvSpPr/>
          <p:nvPr/>
        </p:nvSpPr>
        <p:spPr>
          <a:xfrm>
            <a:off x="0" y="465444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ons with distinct differences largely coincide among the standard deviation of the differences and in the mean absolute difference of the trend estima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are caused by break points, coincident with changes in the observing system. The time, the sign and the step size are typically a function of region and data recor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global ice free ocean scale the trend estimates among the different data records were found to be significantly different between the data recor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7" name="Grafik 2" descr=""/>
          <p:cNvPicPr/>
          <p:nvPr/>
        </p:nvPicPr>
        <p:blipFill>
          <a:blip r:embed="rId1"/>
          <a:srcRect l="8027" t="0" r="0" b="0"/>
          <a:stretch/>
        </p:blipFill>
        <p:spPr>
          <a:xfrm>
            <a:off x="0" y="984240"/>
            <a:ext cx="5292720" cy="3597120"/>
          </a:xfrm>
          <a:prstGeom prst="rect">
            <a:avLst/>
          </a:prstGeom>
          <a:ln w="0">
            <a:noFill/>
          </a:ln>
        </p:spPr>
      </p:pic>
      <p:pic>
        <p:nvPicPr>
          <p:cNvPr id="2038" name="Grafik 3" descr=""/>
          <p:cNvPicPr/>
          <p:nvPr/>
        </p:nvPicPr>
        <p:blipFill>
          <a:blip r:embed="rId2"/>
          <a:srcRect l="0" t="0" r="5869" b="0"/>
          <a:stretch/>
        </p:blipFill>
        <p:spPr>
          <a:xfrm>
            <a:off x="4716360" y="1063800"/>
            <a:ext cx="4427640" cy="3228840"/>
          </a:xfrm>
          <a:prstGeom prst="rect">
            <a:avLst/>
          </a:prstGeom>
          <a:ln w="0">
            <a:noFill/>
          </a:ln>
        </p:spPr>
      </p:pic>
      <p:sp>
        <p:nvSpPr>
          <p:cNvPr id="2039" name="Textfeld 5"/>
          <p:cNvSpPr/>
          <p:nvPr/>
        </p:nvSpPr>
        <p:spPr>
          <a:xfrm>
            <a:off x="0" y="493560"/>
            <a:ext cx="9144000" cy="8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Standard deviation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     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    Mean absolute difference in 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    trend 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Slide Number Placeholder 5"/>
          <p:cNvSpPr/>
          <p:nvPr/>
        </p:nvSpPr>
        <p:spPr>
          <a:xfrm>
            <a:off x="6553080" y="6566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MOOG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June 17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Footer Placeholder 4"/>
          <p:cNvSpPr/>
          <p:nvPr/>
        </p:nvSpPr>
        <p:spPr>
          <a:xfrm>
            <a:off x="3505320" y="40384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CMWF/EUMETSAT ROM-SAF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2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1444320" y="-11160"/>
            <a:ext cx="7699320" cy="6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47 hPa Specific Humidity Compari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"/>
          <p:cNvSpPr txBox="1"/>
          <p:nvPr/>
        </p:nvSpPr>
        <p:spPr>
          <a:xfrm>
            <a:off x="-133200" y="1600200"/>
            <a:ext cx="944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Oval 7"/>
          <p:cNvSpPr/>
          <p:nvPr/>
        </p:nvSpPr>
        <p:spPr>
          <a:xfrm>
            <a:off x="1047600" y="2033640"/>
            <a:ext cx="311400" cy="3475080"/>
          </a:xfrm>
          <a:prstGeom prst="ellipse">
            <a:avLst/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TextBox 8"/>
          <p:cNvSpPr/>
          <p:nvPr/>
        </p:nvSpPr>
        <p:spPr>
          <a:xfrm>
            <a:off x="1365120" y="5084640"/>
            <a:ext cx="2106720" cy="87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53735"/>
                </a:solidFill>
                <a:latin typeface="Calibri"/>
              </a:rPr>
              <a:t>ECMWF &amp; NCEP analyses don’t like really dry ai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7" name="Straight Arrow Connector 9"/>
          <p:cNvCxnSpPr/>
          <p:nvPr/>
        </p:nvCxnSpPr>
        <p:spPr>
          <a:xfrm flipH="1" flipV="1">
            <a:off x="1425240" y="4353840"/>
            <a:ext cx="568800" cy="71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48" name="Straight Connector 10"/>
          <p:cNvSpPr/>
          <p:nvPr/>
        </p:nvSpPr>
        <p:spPr>
          <a:xfrm>
            <a:off x="2284560" y="498600"/>
            <a:ext cx="6502320" cy="0"/>
          </a:xfrm>
          <a:prstGeom prst="line">
            <a:avLst/>
          </a:prstGeom>
          <a:ln w="316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Oval 11"/>
          <p:cNvSpPr/>
          <p:nvPr/>
        </p:nvSpPr>
        <p:spPr>
          <a:xfrm rot="850800">
            <a:off x="4909680" y="4997520"/>
            <a:ext cx="3052800" cy="1003320"/>
          </a:xfrm>
          <a:prstGeom prst="ellipse">
            <a:avLst/>
          </a:prstGeom>
          <a:noFill/>
          <a:ln w="22320">
            <a:solidFill>
              <a:srgbClr val="16f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TextBox 12"/>
          <p:cNvSpPr/>
          <p:nvPr/>
        </p:nvSpPr>
        <p:spPr>
          <a:xfrm>
            <a:off x="5530680" y="4307040"/>
            <a:ext cx="3356280" cy="61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53735"/>
                </a:solidFill>
                <a:latin typeface="Calibri"/>
              </a:rPr>
              <a:t>General underestimate of  very high humidity air except MERR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Oval 13"/>
          <p:cNvSpPr/>
          <p:nvPr/>
        </p:nvSpPr>
        <p:spPr>
          <a:xfrm>
            <a:off x="1041480" y="412920"/>
            <a:ext cx="542880" cy="1620720"/>
          </a:xfrm>
          <a:prstGeom prst="ellipse">
            <a:avLst/>
          </a:prstGeom>
          <a:noFill/>
          <a:ln w="19080">
            <a:solidFill>
              <a:srgbClr val="16f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Box 14"/>
          <p:cNvSpPr/>
          <p:nvPr/>
        </p:nvSpPr>
        <p:spPr>
          <a:xfrm>
            <a:off x="1650960" y="1033560"/>
            <a:ext cx="21909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GPS, MERRA &amp; AIRS agree well on very dry end in mid-trop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Box 15"/>
          <p:cNvSpPr/>
          <p:nvPr/>
        </p:nvSpPr>
        <p:spPr>
          <a:xfrm>
            <a:off x="2770200" y="2851200"/>
            <a:ext cx="19191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NCEP &amp; AIRS overestimate mid-humidity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4" name="Straight Arrow Connector 16"/>
          <p:cNvCxnSpPr/>
          <p:nvPr/>
        </p:nvCxnSpPr>
        <p:spPr>
          <a:xfrm flipH="1">
            <a:off x="3375720" y="3725640"/>
            <a:ext cx="158040" cy="462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55" name="TextBox 17"/>
          <p:cNvSpPr/>
          <p:nvPr/>
        </p:nvSpPr>
        <p:spPr>
          <a:xfrm>
            <a:off x="1662120" y="511200"/>
            <a:ext cx="3868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~5 km altitude, 30S-30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Date Placeholder 3"/>
          <p:cNvSpPr/>
          <p:nvPr/>
        </p:nvSpPr>
        <p:spPr>
          <a:xfrm>
            <a:off x="457200" y="6551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ursinski  et al.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Text Box 3"/>
          <p:cNvSpPr/>
          <p:nvPr/>
        </p:nvSpPr>
        <p:spPr>
          <a:xfrm>
            <a:off x="1357200" y="67644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1111-90F0-4972-BFB9-A71C749FC44A}" type="slidenum">
              <a:rPr b="0" lang="en-GB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9" name="Image 3" descr="logo-obspm-bandeau.png"/>
          <p:cNvPicPr/>
          <p:nvPr/>
        </p:nvPicPr>
        <p:blipFill>
          <a:blip r:embed="rId1"/>
          <a:stretch/>
        </p:blipFill>
        <p:spPr>
          <a:xfrm>
            <a:off x="7010280" y="6456240"/>
            <a:ext cx="760680" cy="401760"/>
          </a:xfrm>
          <a:prstGeom prst="rect">
            <a:avLst/>
          </a:prstGeom>
          <a:ln w="0">
            <a:noFill/>
          </a:ln>
        </p:spPr>
      </p:pic>
      <p:pic>
        <p:nvPicPr>
          <p:cNvPr id="2060" name="Picture 18" descr=""/>
          <p:cNvPicPr/>
          <p:nvPr/>
        </p:nvPicPr>
        <p:blipFill>
          <a:blip r:embed="rId2"/>
          <a:stretch/>
        </p:blipFill>
        <p:spPr>
          <a:xfrm>
            <a:off x="8077320" y="6477120"/>
            <a:ext cx="966600" cy="264960"/>
          </a:xfrm>
          <a:prstGeom prst="rect">
            <a:avLst/>
          </a:prstGeom>
          <a:ln w="0">
            <a:noFill/>
          </a:ln>
        </p:spPr>
      </p:pic>
      <p:sp>
        <p:nvSpPr>
          <p:cNvPr id="2061" name="Rectangle 7"/>
          <p:cNvSpPr/>
          <p:nvPr/>
        </p:nvSpPr>
        <p:spPr>
          <a:xfrm>
            <a:off x="453960" y="806400"/>
            <a:ext cx="8408880" cy="17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alibri"/>
              </a:rPr>
              <a:t>GEWEX Data and Assessments Panel (GDAP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99"/>
                </a:solidFill>
                <a:uFillTx/>
                <a:latin typeface="Calibri"/>
              </a:rPr>
              <a:t>Goal</a:t>
            </a:r>
            <a:r>
              <a:rPr b="0" lang="en-US" sz="2600" spc="-1" strike="noStrike">
                <a:solidFill>
                  <a:srgbClr val="000099"/>
                </a:solidFill>
                <a:latin typeface="Calibri"/>
              </a:rPr>
              <a:t>: Develop global </a:t>
            </a:r>
            <a:r>
              <a:rPr b="0" i="1" lang="en-US" sz="2600" spc="-1" strike="noStrike">
                <a:solidFill>
                  <a:srgbClr val="000099"/>
                </a:solidFill>
                <a:latin typeface="Calibri"/>
              </a:rPr>
              <a:t>observationally</a:t>
            </a:r>
            <a:r>
              <a:rPr b="0" lang="en-US" sz="2600" spc="-1" strike="noStrike">
                <a:solidFill>
                  <a:srgbClr val="000099"/>
                </a:solidFill>
                <a:latin typeface="Calibri"/>
              </a:rPr>
              <a:t> based products to allow independent water and energy cycle assessment (1984-2007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Ellipse 50"/>
          <p:cNvSpPr/>
          <p:nvPr/>
        </p:nvSpPr>
        <p:spPr>
          <a:xfrm>
            <a:off x="4992840" y="2200320"/>
            <a:ext cx="965160" cy="3537000"/>
          </a:xfrm>
          <a:prstGeom prst="ellipse">
            <a:avLst/>
          </a:prstGeom>
          <a:solidFill>
            <a:srgbClr val="ff4415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Rectangle 2"/>
          <p:cNvSpPr/>
          <p:nvPr/>
        </p:nvSpPr>
        <p:spPr>
          <a:xfrm>
            <a:off x="2263680" y="4710240"/>
            <a:ext cx="1871640" cy="11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Oval 10"/>
          <p:cNvSpPr/>
          <p:nvPr/>
        </p:nvSpPr>
        <p:spPr>
          <a:xfrm>
            <a:off x="4776840" y="3271680"/>
            <a:ext cx="1346040" cy="138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Rectangle 11"/>
          <p:cNvSpPr/>
          <p:nvPr/>
        </p:nvSpPr>
        <p:spPr>
          <a:xfrm>
            <a:off x="4778280" y="3843360"/>
            <a:ext cx="13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Rectangle 12"/>
          <p:cNvSpPr/>
          <p:nvPr/>
        </p:nvSpPr>
        <p:spPr>
          <a:xfrm>
            <a:off x="6705720" y="3743280"/>
            <a:ext cx="701640" cy="527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Rectangle 14"/>
          <p:cNvSpPr/>
          <p:nvPr/>
        </p:nvSpPr>
        <p:spPr>
          <a:xfrm>
            <a:off x="2263680" y="2346480"/>
            <a:ext cx="1871640" cy="1128600"/>
          </a:xfrm>
          <a:prstGeom prst="rect">
            <a:avLst/>
          </a:prstGeom>
          <a:solidFill>
            <a:srgbClr val="335b8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Rectangle 15"/>
          <p:cNvSpPr/>
          <p:nvPr/>
        </p:nvSpPr>
        <p:spPr>
          <a:xfrm>
            <a:off x="2496960" y="4726080"/>
            <a:ext cx="14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urce of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Rectangle 16"/>
          <p:cNvSpPr/>
          <p:nvPr/>
        </p:nvSpPr>
        <p:spPr>
          <a:xfrm>
            <a:off x="2263680" y="3527280"/>
            <a:ext cx="1871640" cy="1128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Rectangle 17"/>
          <p:cNvSpPr/>
          <p:nvPr/>
        </p:nvSpPr>
        <p:spPr>
          <a:xfrm>
            <a:off x="2265480" y="3560760"/>
            <a:ext cx="18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urce of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Rectangle 18"/>
          <p:cNvSpPr/>
          <p:nvPr/>
        </p:nvSpPr>
        <p:spPr>
          <a:xfrm>
            <a:off x="2338560" y="405612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rt/Long-wave rad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20"/>
          <p:cNvSpPr/>
          <p:nvPr/>
        </p:nvSpPr>
        <p:spPr>
          <a:xfrm>
            <a:off x="4135320" y="2936880"/>
            <a:ext cx="781200" cy="620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21"/>
          <p:cNvSpPr/>
          <p:nvPr/>
        </p:nvSpPr>
        <p:spPr>
          <a:xfrm>
            <a:off x="4135320" y="4065480"/>
            <a:ext cx="641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22"/>
          <p:cNvSpPr/>
          <p:nvPr/>
        </p:nvSpPr>
        <p:spPr>
          <a:xfrm flipV="1">
            <a:off x="4135320" y="4441680"/>
            <a:ext cx="817560" cy="85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23"/>
          <p:cNvSpPr/>
          <p:nvPr/>
        </p:nvSpPr>
        <p:spPr>
          <a:xfrm>
            <a:off x="6122880" y="3959280"/>
            <a:ext cx="58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Rectangle 24"/>
          <p:cNvSpPr/>
          <p:nvPr/>
        </p:nvSpPr>
        <p:spPr>
          <a:xfrm>
            <a:off x="2324160" y="51958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GE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Rectangle 13"/>
          <p:cNvSpPr/>
          <p:nvPr/>
        </p:nvSpPr>
        <p:spPr>
          <a:xfrm>
            <a:off x="6289560" y="3814920"/>
            <a:ext cx="15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Rectangle 25"/>
          <p:cNvSpPr/>
          <p:nvPr/>
        </p:nvSpPr>
        <p:spPr>
          <a:xfrm>
            <a:off x="1535040" y="2354400"/>
            <a:ext cx="714600" cy="3492360"/>
          </a:xfrm>
          <a:prstGeom prst="rect">
            <a:avLst/>
          </a:prstGeom>
          <a:solidFill>
            <a:srgbClr val="bba0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Rectangle 26"/>
          <p:cNvSpPr/>
          <p:nvPr/>
        </p:nvSpPr>
        <p:spPr>
          <a:xfrm rot="16200000">
            <a:off x="420480" y="378000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ATELLITE OBSERV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Rectangle 11"/>
          <p:cNvSpPr/>
          <p:nvPr/>
        </p:nvSpPr>
        <p:spPr>
          <a:xfrm rot="16200000">
            <a:off x="4737600" y="4866480"/>
            <a:ext cx="149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TER 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Rectangle 11"/>
          <p:cNvSpPr/>
          <p:nvPr/>
        </p:nvSpPr>
        <p:spPr>
          <a:xfrm rot="16200000">
            <a:off x="4732560" y="2526840"/>
            <a:ext cx="1490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MOS. 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Rectangle 9"/>
          <p:cNvSpPr/>
          <p:nvPr/>
        </p:nvSpPr>
        <p:spPr>
          <a:xfrm>
            <a:off x="2509920" y="2460600"/>
            <a:ext cx="1349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nk for vap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Rectangle 19"/>
          <p:cNvSpPr/>
          <p:nvPr/>
        </p:nvSpPr>
        <p:spPr>
          <a:xfrm>
            <a:off x="2220840" y="3014640"/>
            <a:ext cx="18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Title 4"/>
          <p:cNvSpPr/>
          <p:nvPr/>
        </p:nvSpPr>
        <p:spPr>
          <a:xfrm>
            <a:off x="336600" y="117360"/>
            <a:ext cx="86360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GEWEX Landfl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1"/>
          <p:cNvSpPr/>
          <p:nvPr/>
        </p:nvSpPr>
        <p:spPr>
          <a:xfrm>
            <a:off x="6905520" y="6285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3AD5-64F2-4067-B2C5-D6C336D2DF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TextBox 33"/>
          <p:cNvSpPr/>
          <p:nvPr/>
        </p:nvSpPr>
        <p:spPr>
          <a:xfrm>
            <a:off x="3375360" y="5867280"/>
            <a:ext cx="37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Courtesy of C. Jimenez and M. McC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Straight Connector 35"/>
          <p:cNvSpPr/>
          <p:nvPr/>
        </p:nvSpPr>
        <p:spPr>
          <a:xfrm>
            <a:off x="196920" y="828720"/>
            <a:ext cx="8548560" cy="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Text Box 0"/>
          <p:cNvSpPr/>
          <p:nvPr/>
        </p:nvSpPr>
        <p:spPr>
          <a:xfrm>
            <a:off x="1901880" y="2330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336240" y="117000"/>
            <a:ext cx="86360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ower and Model Forcing Data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0" name="Text Box 0"/>
          <p:cNvSpPr/>
          <p:nvPr/>
        </p:nvSpPr>
        <p:spPr>
          <a:xfrm>
            <a:off x="1901880" y="2330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Rectangle 3"/>
          <p:cNvSpPr/>
          <p:nvPr/>
        </p:nvSpPr>
        <p:spPr>
          <a:xfrm>
            <a:off x="428760" y="1387440"/>
            <a:ext cx="85230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alibri"/>
              </a:rPr>
              <a:t>Meteorological forcing and common parame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Slide Number Placeholder 1"/>
          <p:cNvSpPr/>
          <p:nvPr/>
        </p:nvSpPr>
        <p:spPr>
          <a:xfrm>
            <a:off x="6905520" y="6285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F912-1BEA-4B8F-9167-A1B080E57BF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3" name="Picture 2" descr=""/>
          <p:cNvPicPr/>
          <p:nvPr/>
        </p:nvPicPr>
        <p:blipFill>
          <a:blip r:embed="rId1"/>
          <a:stretch/>
        </p:blipFill>
        <p:spPr>
          <a:xfrm>
            <a:off x="171360" y="2935440"/>
            <a:ext cx="6019920" cy="3816360"/>
          </a:xfrm>
          <a:prstGeom prst="rect">
            <a:avLst/>
          </a:prstGeom>
          <a:ln w="0">
            <a:noFill/>
          </a:ln>
        </p:spPr>
      </p:pic>
      <p:sp>
        <p:nvSpPr>
          <p:cNvPr id="2094" name="TextBox 3"/>
          <p:cNvSpPr/>
          <p:nvPr/>
        </p:nvSpPr>
        <p:spPr>
          <a:xfrm>
            <a:off x="6262560" y="2976480"/>
            <a:ext cx="2727360" cy="3660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ow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Flux tower and site information from</a:t>
            </a:r>
            <a:r>
              <a:rPr b="0" lang="en-US" sz="1800" spc="-1" strike="noStrike" u="sng">
                <a:solidFill>
                  <a:srgbClr val="cb5056"/>
                </a:solidFill>
                <a:uFillTx/>
                <a:latin typeface="Calibri"/>
                <a:ea typeface="Calibri"/>
                <a:hlinkClick r:id="rId2"/>
              </a:rPr>
              <a:t>http</a:t>
            </a:r>
            <a:r>
              <a:rPr b="0" lang="en-US" sz="1800" spc="-1" strike="noStrike" u="sng">
                <a:solidFill>
                  <a:srgbClr val="cb5056"/>
                </a:solidFill>
                <a:uFillTx/>
                <a:latin typeface="Calibri"/>
                <a:ea typeface="Calibri"/>
                <a:hlinkClick r:id="rId3"/>
              </a:rPr>
              <a:t>://www.fluxdata.org/DataInfo/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eteor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Vegetation 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adiation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ST from LW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atellite based ND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NTERCEPTION!!!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TextBox 4"/>
          <p:cNvSpPr/>
          <p:nvPr/>
        </p:nvSpPr>
        <p:spPr>
          <a:xfrm>
            <a:off x="179280" y="2155680"/>
            <a:ext cx="5953320" cy="642600"/>
          </a:xfrm>
          <a:prstGeom prst="rect">
            <a:avLst/>
          </a:prstGeom>
          <a:solidFill>
            <a:srgbClr val="acc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Grid based data derived from a combination of reanalysis, satellite products and VIC mode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6" name="Picture 12" descr=""/>
          <p:cNvPicPr/>
          <p:nvPr/>
        </p:nvPicPr>
        <p:blipFill>
          <a:blip r:embed="rId4"/>
          <a:stretch/>
        </p:blipFill>
        <p:spPr>
          <a:xfrm>
            <a:off x="8018640" y="2014560"/>
            <a:ext cx="776160" cy="779400"/>
          </a:xfrm>
          <a:prstGeom prst="rect">
            <a:avLst/>
          </a:prstGeom>
          <a:ln w="0">
            <a:noFill/>
          </a:ln>
        </p:spPr>
      </p:pic>
      <p:pic>
        <p:nvPicPr>
          <p:cNvPr id="2097" name="Picture 5" descr=""/>
          <p:cNvPicPr/>
          <p:nvPr/>
        </p:nvPicPr>
        <p:blipFill>
          <a:blip r:embed="rId5"/>
          <a:stretch/>
        </p:blipFill>
        <p:spPr>
          <a:xfrm>
            <a:off x="6276960" y="2116080"/>
            <a:ext cx="169056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Text Box 0"/>
          <p:cNvSpPr/>
          <p:nvPr/>
        </p:nvSpPr>
        <p:spPr>
          <a:xfrm>
            <a:off x="1901880" y="2330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36240" y="117000"/>
            <a:ext cx="86360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andFLUX Version 0 Produc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0" name="Text Box 0"/>
          <p:cNvSpPr/>
          <p:nvPr/>
        </p:nvSpPr>
        <p:spPr>
          <a:xfrm>
            <a:off x="1901880" y="2330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Rectangle 3"/>
          <p:cNvSpPr/>
          <p:nvPr/>
        </p:nvSpPr>
        <p:spPr>
          <a:xfrm>
            <a:off x="214200" y="1387440"/>
            <a:ext cx="873756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Final V0 product based on four “candidate” LandFLUX models to be released in Fall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661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ts is evaluated at local, regional and continental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661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work is needed on developing consistent forc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661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single model performs well everywhere. An ensemble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Slide Number Placeholder 1"/>
          <p:cNvSpPr/>
          <p:nvPr/>
        </p:nvSpPr>
        <p:spPr>
          <a:xfrm>
            <a:off x="6905520" y="6285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FE00-473D-4E57-B471-8D503228DA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3" name="Picture 2" descr="Global profile_CFSR-SRB_HIRS_4models"/>
          <p:cNvPicPr/>
          <p:nvPr/>
        </p:nvPicPr>
        <p:blipFill>
          <a:blip r:embed="rId1"/>
          <a:srcRect l="0" t="3515" r="0" b="0"/>
          <a:stretch/>
        </p:blipFill>
        <p:spPr>
          <a:xfrm>
            <a:off x="5857920" y="3421080"/>
            <a:ext cx="3031920" cy="3513240"/>
          </a:xfrm>
          <a:prstGeom prst="rect">
            <a:avLst/>
          </a:prstGeom>
          <a:ln w="0">
            <a:noFill/>
          </a:ln>
        </p:spPr>
      </p:pic>
      <p:grpSp>
        <p:nvGrpSpPr>
          <p:cNvPr id="2104" name="Group 3"/>
          <p:cNvGrpSpPr/>
          <p:nvPr/>
        </p:nvGrpSpPr>
        <p:grpSpPr>
          <a:xfrm>
            <a:off x="277920" y="3495600"/>
            <a:ext cx="5392800" cy="3306960"/>
            <a:chOff x="277920" y="3495600"/>
            <a:chExt cx="5392800" cy="3306960"/>
          </a:xfrm>
        </p:grpSpPr>
        <p:pic>
          <p:nvPicPr>
            <p:cNvPr id="2105" name="Picture 5" descr="mean_le24y.png"/>
            <p:cNvPicPr/>
            <p:nvPr/>
          </p:nvPicPr>
          <p:blipFill>
            <a:blip r:embed="rId2"/>
            <a:srcRect l="5398" t="54129" r="3111" b="29477"/>
            <a:stretch/>
          </p:blipFill>
          <p:spPr>
            <a:xfrm>
              <a:off x="277920" y="4999320"/>
              <a:ext cx="5392800" cy="136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6" name="Picture 5" descr="mean_le24y.png"/>
            <p:cNvPicPr/>
            <p:nvPr/>
          </p:nvPicPr>
          <p:blipFill>
            <a:blip r:embed="rId3"/>
            <a:srcRect l="5398" t="32941" r="3111" b="50571"/>
            <a:stretch/>
          </p:blipFill>
          <p:spPr>
            <a:xfrm>
              <a:off x="277920" y="3495600"/>
              <a:ext cx="5392800" cy="137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7" name="TextBox 7"/>
            <p:cNvSpPr/>
            <p:nvPr/>
          </p:nvSpPr>
          <p:spPr>
            <a:xfrm>
              <a:off x="581040" y="4331160"/>
              <a:ext cx="67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TextBox 8"/>
            <p:cNvSpPr/>
            <p:nvPr/>
          </p:nvSpPr>
          <p:spPr>
            <a:xfrm>
              <a:off x="3294360" y="433872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TextBox 9"/>
            <p:cNvSpPr/>
            <p:nvPr/>
          </p:nvSpPr>
          <p:spPr>
            <a:xfrm>
              <a:off x="578520" y="579744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TextBox 10"/>
            <p:cNvSpPr/>
            <p:nvPr/>
          </p:nvSpPr>
          <p:spPr>
            <a:xfrm>
              <a:off x="3208320" y="582444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LE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1" name="Picture 5" descr="mean_le24y.png"/>
            <p:cNvPicPr/>
            <p:nvPr/>
          </p:nvPicPr>
          <p:blipFill>
            <a:blip r:embed="rId4"/>
            <a:srcRect l="13922" t="70480" r="53002" b="26868"/>
            <a:stretch/>
          </p:blipFill>
          <p:spPr>
            <a:xfrm>
              <a:off x="1155960" y="6433560"/>
              <a:ext cx="3876120" cy="3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2" name="Text Box 11"/>
            <p:cNvSpPr/>
            <p:nvPr/>
          </p:nvSpPr>
          <p:spPr>
            <a:xfrm>
              <a:off x="4872600" y="647352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m/y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21:09:49Z</dcterms:created>
  <dc:creator>Christian Kummerow</dc:creator>
  <dc:description/>
  <dc:language>en-US</dc:language>
  <cp:lastModifiedBy>Catherine Michaut</cp:lastModifiedBy>
  <dcterms:modified xsi:type="dcterms:W3CDTF">2015-09-18T09:53:25Z</dcterms:modified>
  <cp:revision>290</cp:revision>
  <dc:subject/>
  <dc:title>20th GEWEX SSG MEETING Irvine, CA, 19-13 January 2009</dc:title>
</cp:coreProperties>
</file>