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7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</p:sldMasterIdLst>
  <p:notesMasterIdLst>
    <p:notesMasterId r:id="rId49"/>
  </p:notes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  <p:sldId id="265" r:id="rId59"/>
    <p:sldId id="266" r:id="rId60"/>
    <p:sldId id="267" r:id="rId61"/>
    <p:sldId id="268" r:id="rId62"/>
    <p:sldId id="269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notesMaster" Target="notesMasters/notesMaster1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slide" Target="slides/slide10.xml"/><Relationship Id="rId60" Type="http://schemas.openxmlformats.org/officeDocument/2006/relationships/slide" Target="slides/slide11.xml"/><Relationship Id="rId61" Type="http://schemas.openxmlformats.org/officeDocument/2006/relationships/slide" Target="slides/slide12.xml"/><Relationship Id="rId62" Type="http://schemas.openxmlformats.org/officeDocument/2006/relationships/slide" Target="slides/slide13.xml"/><Relationship Id="rId63" Type="http://schemas.openxmlformats.org/officeDocument/2006/relationships/slide" Target="slides/slide14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 type="dt" idx="12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5"/>
          <p:cNvSpPr>
            <a:spLocks noGrp="1"/>
          </p:cNvSpPr>
          <p:nvPr>
            <p:ph type="ftr" idx="12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6"/>
          <p:cNvSpPr>
            <a:spLocks noGrp="1"/>
          </p:cNvSpPr>
          <p:nvPr>
            <p:ph type="sldNum" idx="12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5C79-967D-4ACC-B3E6-0A94B8E11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riable Infiltration Capacity (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I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ll huge remaining uncertainties in ET estimates, leading to different signs in budgets for continents depending on the data set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DE60-7213-46BA-9487-86A4B727D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0152-5216-4D47-B816-DCFD6234A8F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a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: CM SAF/HOAPS 3.2; RSS/SSMI Version 7; NASA/NVAP-M; NCEP/CFSR; ECMWF/ERA Interim; NASA/MER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exceptions for the pairs HOAPS/REMSS and NVAP-M/MER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dots are stations which sample twice daily and have a high temporal coverage. Basis: HomoRS92 (based in IG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203E-E53C-406F-A2BF-79F07C3846D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slides from the water vapor assessment shows that there is general a lot of disagreement among data records of atmospheric water vapor pro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DA99-DFE6-4161-90C2-BDCF7F06E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A30B-623B-4A44-B5A3-EA6F62DF3A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Osaka"/>
              </a:rPr>
              <a:t>Challenge: heat fluxes do not have a unique signature that can be remotely detected, so </a:t>
            </a:r>
            <a:r>
              <a:rPr b="0" lang="en-GB" sz="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satellite observation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Osaka"/>
              </a:rPr>
              <a:t> need to be combined by a </a:t>
            </a:r>
            <a:r>
              <a:rPr b="0" lang="en-GB" sz="800" spc="-1" strike="noStrike" u="sng">
                <a:solidFill>
                  <a:srgbClr val="000000"/>
                </a:solidFill>
                <a:uFillTx/>
                <a:latin typeface="Arial"/>
                <a:ea typeface="Osaka"/>
              </a:rPr>
              <a:t>model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Osaka"/>
              </a:rPr>
              <a:t> (process-based, empirical,….) to infer them.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566100"/>
              </a:buClr>
              <a:buFont typeface="Calibri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Calibri"/>
              </a:rPr>
              <a:t>What model to use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566100"/>
              </a:buClr>
              <a:buFont typeface="Calibri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Calibri"/>
              </a:rPr>
              <a:t>What forcing to choose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566100"/>
              </a:buClr>
              <a:buFont typeface="Calibri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Calibri"/>
              </a:rPr>
              <a:t>What scale and resolution is appropriate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buClr>
                <a:srgbClr val="566100"/>
              </a:buClr>
              <a:buFont typeface="Calibri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800" spc="-1" strike="noStrike">
                <a:solidFill>
                  <a:srgbClr val="000099"/>
                </a:solidFill>
                <a:latin typeface="Calibri"/>
              </a:rPr>
              <a:t>How to evaluate and assess model (and forcing) data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8698-BF6E-4DA2-A759-64BD69A7239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1984-2007 mean annual ET (soil+transpir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503A-E116-4420-956E-8A723056AAA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7C36-ABFE-4B57-B5B0-CBF6B2DE3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8AB4B-107E-437E-8C91-A98D607D280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37D0A-F537-4ADA-AAC9-30812EA7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0F0AD-0536-43F9-BC58-F3CBDE60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BC195-FE1E-4319-A8E2-514E327D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E03DB-17FA-468E-9983-2550F8BD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F9728-F07D-4738-856F-88B653B2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E00D9-3194-4744-BA83-CAE311E5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A1852-72AF-417E-8957-3CEEBDA1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EE9A7-9BDD-4AFC-B240-44C20353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09B64-C619-44B4-863E-F4FEE920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CFE21-105D-477C-BF0E-D9B4C2E7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9A56-BDC9-467F-818D-38E575569DF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9E48D-5297-4AD8-A454-40253791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5EF48-1660-4BA4-A1A2-14FA875A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FC19C-0CD6-41D6-86AE-7BA1EAFA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866D2-525B-42FB-8146-F4B20ACC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3AF3C-748F-4617-A337-DD227E98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51D8E-885E-41C5-A870-6BF33801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4CE0E-0DD0-4565-82EA-6C04C155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63E53-2E0B-489C-8BCA-C2E86E5F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E1346-1C92-4027-975B-C198DBA4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2BB37-F9BE-455F-8F50-D017858E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FD51-6341-4A41-B43C-B18E492392A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A8310-8322-4A3E-9B92-31D4B970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72A0D-DE8C-4BDF-953B-AAA2C699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458B6-86F2-4350-8FD6-61749361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0BB85-FE9B-4D36-A89D-FFED8D26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F7FAA-19B9-4007-BF7B-6A77B3B7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AA579-FA02-4B15-AD03-58F49483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A4A76-0E6B-4EB6-8B38-74B5427F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70782-8D1C-482C-B846-9D6AA63B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7CDDB-DE3B-4A51-B080-CA21C9EC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6397D-7D73-4F62-80D9-1BA730D2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BF538-1246-46B3-9D4F-6C3DF732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0D3EC-3956-48BE-9269-E0312F49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21981-A9D4-4147-A70B-3FCB016A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98D7F-17AC-4682-8AD9-BAFD4BE7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D61EF1-1E80-4D71-AEBB-B4D29007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8A214-7A51-493A-B62D-70728A48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E954D-4411-4450-872F-D46AF629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E0399-D6E5-4349-969F-0E004CE2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1548C-2A47-4618-BD4A-C56D0EE3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75D7B-B147-41BE-A447-5B7A6E13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AF543-5C91-4033-BD0B-CEEB0985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C81C5-66A9-469A-ACAC-5A9E6366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1DD87-FA0D-41D3-A0FE-D5A92F33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71178-E2DA-4914-B35A-F539DE1C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A27EB-107D-496C-8337-96CE8B6F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A76DB-EA78-48F1-8832-C689127D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92128-DCEA-4112-842A-1AA0C4CC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B68FF-D61C-4A7E-87C5-EB2D1D13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034DD-2DF2-49E3-B548-E002F772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54275-57B6-4129-8E81-02329A9F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9DE8F-1B49-435B-977D-2599A192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E148F-1BA2-487C-884D-D9B98E32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2EF96-5B47-40F0-A1A7-799489B0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E5630-9BC8-41E0-893D-86285CDB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05D45-F048-4A0F-8752-8045AC76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FE233-1B08-4A36-8835-44950E08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441F1-C958-4A1B-8D77-D049DEA5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C7B33-3E90-4907-A84D-4C6FACCE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21128-00E6-4BB0-8D6A-5754802E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E44D6-C275-4638-8188-40979F07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E2901-4C38-431C-98A1-91528339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68EAAB-75FF-4C0F-93BA-13A908EF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7D237-D650-44CC-BF8D-362CCEE8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E042F-999D-443A-822F-4DB2A931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93BB2-A897-4255-99E1-79103E68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8CCB9-3C26-40F9-8182-58813B59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99E09-E950-4161-9518-3A18DA38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870BA-5797-4D1B-BAC3-95DBAA1A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6D847-92E2-485E-8EB5-D6CA6567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6210C-802A-4C1C-8E95-0DF73FBF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31E03-BEFE-4B5B-AAB6-29F692B5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596FA-80F0-4771-9ADF-85C1DB40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ECC22-D2DE-4BB1-8EFD-190BFB1D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D0AFE-99A1-4EAD-BE91-7ADA2189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D91B8-E180-479A-9625-80AAFFFE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8ABE0-FC90-48FC-B3CD-623BDDD7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D0580-E1F3-4770-95E8-AD495FCD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85BD1-6899-4A91-9ED8-DE049B04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4BA42-52D8-4820-B67D-7DBAD9D4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BF0023-63C5-4506-B28A-DB46D345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1FD3A-56EB-4AEE-9B18-D6180729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6F769-7A4D-48EF-8539-B2EDB815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3281A-7EA1-45DA-81BF-B9BDB127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7EFCA-A9BC-4943-9185-6FE78880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19CCA-AA04-41C4-88C5-53CD2BA2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D9374-48C8-40D4-AB8E-16955F6B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F46C8-E9C0-4C5D-8239-EB358990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17EDB-C4B3-41C5-B2AE-78A7A567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A24630-5CE5-43CD-A5EB-9E9CEB94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B3FDD-7B54-415C-A241-22E13C43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8040F-633E-44D9-9C92-51EA07BF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3C7A4D-4DFF-4CDD-825F-F2C01C73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893FC-799C-40A1-9895-ABC70D52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CEC58-43B7-4145-A35F-F6D41BCC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5FBC2-4708-4857-A677-294103E9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AE1EFE-F7B4-435B-B126-C9B0C5C1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A8E3AA-CFB9-4C72-9BAF-FD16532F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EB597D-310D-4033-9271-158DAB10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6EE77A-1FCD-4878-B7FA-33AD5A8B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D56496-687F-4C82-BEDB-2F0CF76E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43CD-AA37-41FE-A877-8AE4BCCD4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598D97-74FD-4379-A927-6DE868B4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5B7E3D-98A6-4ABC-AD7A-24E13CE6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2CA09-BD6C-4860-A649-85BC902A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F68AEB-BACD-4BFF-A1BD-150BB000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013E3A-7D58-4A70-BD8C-AAB2767F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283A76-C58E-4E5D-9FD9-20CB23ADA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CCC186-25CA-43D3-A341-E566EF10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DCBD19-CC4F-4E9E-944C-2857A728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0F65A2-075C-4922-B04D-BBB0F1D6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34467-1D8B-4DFE-B49A-57705BC0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65B6A4-23EF-4617-AEA2-C4A6E897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4E512F-86AF-4ED1-BCC7-F200C1C0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5BF7FB-B1AC-4844-AD96-E1C906DE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FBC587-CEC6-4194-8806-619EE541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9AF2A8-7FFF-4318-A722-72C29D11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972C07-9C5A-442D-B0BD-F7166890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E1D2BB-60F6-485B-91FE-EE07D0D0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FCE98-3213-4FB5-8B68-26AD8C5D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DDFDA0-08F8-4B12-97AC-1B10AE72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4EB37A-6400-4777-BF09-9E425EBD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574345-D5E0-4743-A3E9-9C3BC559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C10E56-93A4-4207-B58B-BF041F0D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29AB17-38EF-43F2-B3FC-18D3EAEC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7A619E-6171-4FF3-B106-FCB9FFC6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D9F90-7362-4A5D-9D8C-0554FC82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7D4578-22C1-486D-89D4-501931B6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96E9EE-CBAC-49B6-BE0F-3ECFCD72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0633C2-60A1-4A96-B597-D5C25D01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517BD8-4BA0-4925-91BB-A6C77186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566A86-4B18-4438-8E98-75406CFD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56928C-EEFF-4DB3-80A9-5C04281E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C9E67A-396E-4816-BCED-954D12D7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5BAA35-6884-4931-9540-E9C0DEC4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F4C4E0-0B69-47BD-9440-D33685BB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661A1A-EAD2-41FD-AB9B-2F97C69A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A538D2-7C90-4E2B-A0E3-F61FE385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A97106-1AFC-49FF-BDC6-3A16CB4B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D8422C-C9A7-4365-A1E0-0B229BB4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9B983-3CCB-4374-8F53-D8FA73AF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5A48EB-80B9-484B-8427-E8599939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93F278-8D85-4074-92A9-592A175E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4E8BE7-6ECC-402E-B1D7-7B16D692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BAA4D7-358D-45A1-933F-68AA1681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33EE34-22D5-4236-B142-DCEA2C14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4535D5-179E-4D13-AF78-8161A71E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78FA67-745C-4260-BD78-2B3F3208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1F3A27-52D9-4F39-8E26-B717190F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792199-7EAA-43AC-9DD6-92B15796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A5CAD0-7C15-4E97-A18A-4B903E4E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14968-37F2-4355-8CEA-3610AA19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C2BF65-6838-4C96-8F7D-994AF22B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A26B8F-0D41-4D17-9AA9-771C67EB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708F5C-61A3-4F41-A95D-74D0F5E6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27A4FF-079C-43A2-A5D5-008B198C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376F3E-C2F9-4B68-AA4B-E1DDCF63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B3FDDE-F022-4A5C-92AE-F1E6209D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329BAD-AA6C-4FE7-B0DF-AB045EE9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63393E-A5C3-47F0-8C9C-90DEC810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186A82-1024-4071-9088-EB653A26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46EC01-B674-4B77-A38E-D3763761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B65C9-E2B0-4E65-B190-29CA75CB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8F0E29-0935-4705-BCFF-644F8C27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DBA8B2-4D3B-4C3E-97C4-B1E9083D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28CC9A-3EE0-4722-8573-4BD445B1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CB695D-CD0F-489B-A7CF-C54E2355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55EB60-C4B7-46CF-9DB0-74678A23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21D30A-1E63-4500-81DF-AE709673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C24D79-499B-4573-9569-DDD4E496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C9A2E3-6C31-4D9A-8260-8BAA0B60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0EEF6E-6090-4F27-9349-7D6289F3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9D25E5-482F-4BD0-B041-156A93C8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07680-617D-46CF-BA81-9B679127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B8CFA5-20DA-447D-AF21-C22C5ADC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4A8792-8203-486E-8175-26ACECFF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EAF0D9-60CC-4749-9334-82A1DCEC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5C5D1D-269C-432D-97BF-C89BCB73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9BF7EC-074C-49DB-9C57-2DD2AB60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F09500-B7DC-4A0F-855C-4B24B17E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7E8E57-25BE-4185-82C7-3D2B9FFD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01FA10-4E00-4D6E-8BE3-D6AEB087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E68BDD-25E0-47FD-BC55-4B01DD6D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DE7E5B-427F-4E68-B528-F710C9B4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A6CE7-232C-4C3B-8F85-49E2CC73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549E66-E7C2-4F17-B11D-6601F8F1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86EC04-7F4E-4F53-AECC-EB971445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674AED-B916-4196-AE8A-2E37119A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469EF0-C3CC-4919-9DD5-5CF04585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02B6CB-3310-42E0-9B97-0AE30596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3CBA61-555E-4D81-9189-FE724341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16E233-07A6-4418-AF3A-E421B525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FABCE6-4620-4484-AA2A-886E6B1A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F95BB8-2537-4294-906F-75DB7779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8BA2A7-9990-4A04-A929-D63C107D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1EE2-2489-4392-BB32-6EFF96EB4E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B54DC-67B1-45D2-AE35-4D0F4B1C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EA75EC-ED59-4D0B-8D64-B37088E4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A4DB99-9682-45E5-AE3B-C599BFF01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7BABE9-604B-40EF-BDCE-1E6E9403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26BD6C-33FD-4568-9C30-B5CD975D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51E021-0D80-4C84-9EE5-C60F942F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D02586-5BB3-4BCF-A165-04C3D565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2ECA60-C4E9-435D-9DFF-8C43D326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B55CB3-4201-4898-AC2A-D976BB08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AB0ED9-509E-4030-B4C3-8A9A7F90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437AC3-4CA0-42F3-891F-2467A0DD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1FE10-3C3D-487C-9A7F-ED6DA04D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35D83A-4172-42F1-ACDF-0576AE8C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5E4B80-62AF-471A-A66A-E1AA9A79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C5B2CD-58F3-496A-86B4-3F3C5E57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0B6832-9EB1-4AA1-9F03-B2E5402D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613222-892A-4762-BD61-9C49F825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6CC541-2A42-4444-80B7-310F047C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1A556A-9529-40CD-8A60-395F679F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1A115B-0671-4C7E-B90D-4E0DEF6D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AFFB57-BC9D-4216-BE50-B3D76200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0FE17A-7503-4727-9B1F-C09D0802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44F2A-DFD9-49F9-BCD4-99E360FD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D2BE50-E689-4303-BDF8-7CA64356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F1C8CF-2374-484C-95C8-01AF353D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C5C714-B37C-4CE8-B679-E1C98D78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AAE5F7-3927-4565-B47B-1F64080F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8271F9-CAA3-4541-BE0C-B4E17CB6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4FE6EA-EFCC-41EB-904F-200426DB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E02174-280A-4360-9DE8-EB328A3F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9EA50D-C37A-4B83-A600-503B688B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7F7743-2D87-4098-8403-EBC8CB17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3610F0-0F87-4BFB-92C0-6FE42DD7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A0FF6-5CD8-4CEC-A89E-CB354013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38A019-613F-43C0-AE39-217A49B8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879F06-D318-4115-889D-53B6C9DE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2B0F25-2B1B-4434-AB77-C50752C1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B21F1F-64C8-4E8E-893C-049E0DD0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3466B0-B49D-42D5-B027-B3C70C10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A0E102-24D6-4BD8-9473-8B4D3F8F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B91DB7-0B07-41AA-A27B-5B35C6A6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9C84C1-D6F4-4809-BA10-B459EF72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112D1B-76C3-4115-B29E-C77E6BA0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B526FB-0146-4B8C-9CA5-D14A07CD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B1339-9642-4A09-9C63-E0F095A0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B3BAB8-24B6-488D-A7ED-F86C85F7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EF003F-C665-4925-83D0-51DFE3C8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F23DB1-161F-415D-916F-657246F2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1253AD-13D0-4176-A34B-DFD9B936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1B52FA8-FCB7-458B-86AD-924B7BE5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F2B7DE-BCE7-4C9B-9437-5BA513AD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3B6EC2-3FC8-487B-982E-AF6A7619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9D3233-0122-4675-8621-3DD2AC67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4C8FE2-F05E-4325-A502-83A0C20F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036EBE-B33D-426F-BA9D-8DAD3311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85E79-0F08-4B7E-AD01-4F891905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17E5EE-CC54-4296-9021-01351CBC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33C7FB-636B-4DCB-A198-8C525147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2677FB-87F1-4747-BB39-365EC985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5370A2-7EF9-4664-B9BA-60C1510D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E13042-F7A7-40AA-9350-E1B48ECE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90E62F-431A-4FC8-9F59-CD5FE4E0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335004-5DEE-4DB0-A101-79CFFEE0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964C09-F04C-4C12-AF71-7F7E9776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D22115-863E-473C-BCB6-F36DC0F0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C2EF59-5349-4521-A151-29D8921A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CC623-8F8E-41A5-81EA-243A8500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5BAC27-BDD9-444D-88DE-6CF54D56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4FA95C-493A-4E34-A8F8-C272D181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EC5D13-4BF4-4382-B4DE-067F89FB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24B3A9-4CE7-4A24-8946-18E097A5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AA76FC-6A0A-48AD-A2AC-C63A1363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62E670-239A-482B-A72F-83F22A60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A30191-4F91-41DF-9FF8-00ECF13C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500A75-6A58-4851-8A91-EC3E214A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C70ED5-351D-45E7-AF53-B731A573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A9352C-9112-45C1-BCBE-F213B01B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CED188-767C-4E4E-8DA9-FB8D4B80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610C24-4AF2-4803-BA0D-1D9A1874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408746-EBC2-4AAD-9F69-97DC4D9F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50369D-63A6-44BF-AA40-19028D79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98224F-BB9F-43BA-A6ED-D3A6C1E4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6C7066-45CF-4B43-A935-2034A1C7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3A1908-6AC4-481A-9517-BC1221CF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00A83B-8331-4E24-8FC9-F14F53CC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598854-7339-461B-B626-639E7706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34DF90-C41B-4D7E-9AC2-FFB13009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468BE1-60D0-499D-AB9F-6101821A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A51655-A2A7-4A58-9C1A-2E660BE9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8FED28-664B-4EFE-8FD5-B985D15E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28E8ED-D49D-495A-A70E-9D0FAC4E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9DFC30-CC28-4091-B312-8BF6F64D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1AB794-ED48-4DAE-ACF3-6B5FDD65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2DABD3-8D8C-4943-87A1-64FF322F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BB0BFF-D52F-4FE4-9277-504D90AA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5D17B5-4466-4451-969E-2128496E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E956FF-F093-4F69-BA89-F31FF0D2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37BD09-ECF8-4E98-B11F-A3E7FB99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86F1D9-0428-4283-906D-7217FF2B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B23A8A-13EC-42B6-8B53-F3C2FA2E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A57AEF7-ACA7-47C5-8B42-BCD69316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5FD011-73A8-4EEA-9516-BB4BF3CB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0D02C2-7648-4346-AE01-5A87284A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AECFC7-7452-40C2-A339-97B3006D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4689F9-42BD-48B4-9097-2F0EB537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3FB4DA-DBD5-4CB6-BEB7-7E0DDE0E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F598EB-BDCA-4B30-A1A9-CFB11ADB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14F0773-0C97-460B-AC6B-E5345962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EDE8365-C258-4C63-9DAD-9BCF2C2A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BDE2F6-0674-4B97-979E-412BEA1C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BE61-A9E4-4775-803B-FB12B06097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627603-442A-453D-B4D8-CC369DC4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C837A8-5B57-451D-98FD-395CE2CA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2773346-00B0-4A42-820A-9E7E0532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7977FC-4ABD-4046-A4F0-61C651C4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0A11F6-F9EF-4154-99A7-CFC3D2B1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02F5A8-5BFE-411E-A1AC-2DFD360B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8EE0B1-071F-4D5D-A638-CA6DF36B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F701A5-2355-454A-9FB9-76558CC6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C2CB1F-9D32-44E0-AE45-7DF82344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4B81CE-DBFA-4DAE-9A9E-5EC8E19D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1C42B0-986C-4865-92A5-78A73A9D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53F1CC-92ED-4E75-B0A0-240E8806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0BBAF3-F169-48BC-812A-66AD0E90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EEEFDA-4D45-46A2-A958-C5F31FB8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8A093F-4474-4D66-AD84-0041542E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0D3415-21FC-4119-8F05-2B7163D8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EC19B3-56BC-43AA-AA81-CF7B8DAC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2A5375-6C68-45DA-9BFC-849C8347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730519-D3F6-4761-8963-DB28565E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8FFC6F-0AD6-4DAC-AF5A-D392829C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D4B7B4-2DF0-4C37-8860-8D7E855E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8E4DBC-E797-422B-BD7B-E9EE023D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1C189E-F08A-4BD1-A3B9-A0650E28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FC4DB4-5D43-4BE8-B3AF-3BC56504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4DDCB2-01E7-4605-90AF-3A09B951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F49BDC-6F42-4DB7-9858-4B3DEB89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F44415-B47A-4553-BFFB-FC3FC0AD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E9D6D3-7DC8-4EF5-ABC3-6888EF84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3C5B47-649E-46F0-91E3-21D44D82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305585-8ED1-4EA0-959C-BA34901D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083BFA-0F6F-4202-8D3C-4D2217D1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C0E1B2F-3337-4935-A23A-60446117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0568475-6FF3-443E-A08F-89A4FCD6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76EEC3-5CAB-4C2C-8791-EADB31CE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2C8065A-BC53-4C5A-92C6-956672E6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202698F-D16A-4AC6-984A-3508A786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9FE6E4-7D67-474F-A46A-DF2C16B9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48B32C-1889-4D53-92AF-BD9C93DF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CF376F5-805C-48E8-A289-40AD73BD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E4BCCC-0AF7-44BD-8D3F-450A431E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DC52A1-29A9-418E-9D3C-0275F247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607062-C9F1-447E-8022-EFE0A105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EAE6C0C-67E2-4004-8831-E3F0FFCC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7AA06FB-8F42-4CCE-98CE-E4A03E0E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BE6A8E-9D59-4C2F-A99A-D8C2384B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FFA10DB-E871-4B6D-AE70-5075BE12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34350E-77D7-4274-B246-C3B80B85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6363F6D-0E1B-4981-A7BC-0C4A0666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E1E8C3-E71F-487A-820E-CD80D583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56BA44F-A9E4-4EEE-A6E2-A8F367F1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1A640C-3DA2-4C64-9C95-6E45E2D4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0BB449-E97B-49E6-8A28-3199AEFD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7AA0140-F699-4AD3-AF2C-59D12547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3529ED-A156-45E8-A6F4-79370CDE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958B72-C47B-48B8-B936-3D1BA8CD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751E96-F12D-4D9A-9878-7A196CDF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5FE0AED-B4A7-45F3-8005-1DBC5A50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233ADA-C5E2-49CE-A032-3D29F44C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B04A6C-C7FA-4D42-9321-3C462B99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A84044-85BD-4924-B7A9-7531E37B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35C4F1-9D55-497A-84C1-5499F178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BE64DB8-EF88-4894-B873-A6DDBED3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AAF704E-B763-4C2F-94E3-3EA01852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EDCF888-B674-48FC-A92C-004EEDC4E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2E11AA5-0E3B-4F62-9901-E8583EB2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AF5A89C-4F5D-4734-A980-ED809678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CF2205-DB26-4B52-9BD5-EF2793D2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E33AE09-4AB3-4E07-AE56-0850AC7F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992BD6-7701-458F-85CE-AD19AFF2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C84C2C9-27F6-455C-A45D-7BEC8904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AB754B3-B75B-4B31-A271-76E5B6CC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AE6735-4A87-4CEE-A694-D42E32A6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2958B5C-42AE-4568-B60F-D3F1E351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79B9D1B-104E-4B09-8408-2158C14F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0AF0441-2520-49AC-AA3C-D8D0A5F6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9676FC-2F7F-46D8-A015-B75AC8EE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9AF4E27-AA4E-480D-B3A0-306183DF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3D2158-0AA1-44C5-8F93-7BF63DE0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B286108-A2E7-46BB-A1A8-2AB83597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B32DA6-4B94-460A-A61D-62D0B27E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FC5C383-B513-461A-A31E-05A19007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964EF32-8796-4626-A511-DD8887F6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572D60-83EB-43B7-8E99-5C048552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C0C8263-D719-4B27-AE02-B23D797E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7A2F90-2E71-4B3A-9B7C-0D11B78C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F688EA4-46CB-4F50-AA17-A13C41A9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3A0E43-1CC7-49EC-9819-8FE47EF7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96622A8-E411-4DA1-9F1F-908F9C68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71EA7E-2B2D-42F7-93F3-53B4721B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43A595D-BA28-44B3-B29C-901A9251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D6F324D-F599-4BED-B83C-EEE1C320D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0790E6A-486D-47BD-A9E6-26D286A8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79C2D7C-DE2C-4171-83AF-3F02B979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CF4C887-8E76-4244-AF59-23135546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9ED2434-4476-49DF-A57C-D666C333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B2A71F6-1018-4F22-9EFA-6EF17A07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08569F0-2591-4663-AA83-CE826243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EBAE8E1-E554-4F14-87DA-E673169D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41D8C9-40AE-44F2-BAA9-838DFEB6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0C4DA-60A4-4F9B-9E91-43722E6A0A97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419AC8-3C05-48C7-82D0-0B5277F5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239D967-AE6A-46D6-A5E4-07DE556C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3BB4C66-D65F-44BC-A4D4-32C7481C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5C1BC53-84DB-41CC-A2D3-58088625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5572C2B-6118-4F79-A863-4880E9FD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F30DC60-7E2A-460D-819C-C55771A9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5B0C2E5-3F76-42D8-8739-B03AC414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2D44256-6A3E-4749-8A3F-E865DBD9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666444F-3AD8-434C-BA06-53925978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641EFC8-629E-4CA1-BB90-EC2E49D5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4359-6107-427A-ACC0-AC5AE4C74C4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2A0F3-56BC-4896-8082-C1038863857A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981E1DB-5A6E-46E2-BF56-AA7DE886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536F89D-47A6-4CA8-8187-6FA121DB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19DB62D-8D3A-4991-90F5-01CDC74E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7894594-8DA3-401B-9134-0E81C06C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9B376D1-71DA-40E2-B840-91D8E08C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F3B1C12-189F-45EA-93CF-8BBC2DAA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74BD645-9FE3-4DF5-BD2B-F2D9B91E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74F009A-0E67-4CCB-8C16-FA24F2B5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8CA0A09-1784-4471-B518-40363A2F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C6402E5-72BF-4223-B725-E94961D8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97F7B-41D9-493B-AB38-72CCF225963C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32BE26B-EBBD-4255-99C1-BB054388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5B2A189-E24C-4FA8-A414-2603AD12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4CAA98-6C9E-4A3E-BD16-BFE634F5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358195D-3955-43F7-BA5D-23169956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7AAC0FD-90A3-429A-BD27-23A51FF7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6798584-27FD-4FE2-A269-2E71B21E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FF6E790-7305-4D52-862C-3A874D724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CB11643-ED6E-4E3B-B1D8-1CEA908A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C66EE68-3278-4940-9EA1-08177E5C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0535254-3EF2-4A41-AA61-8077ABDE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49CAD-6264-4B52-A789-BC358A212A6A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BEDDB3C-7CD2-40D7-93B1-740EAF48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2D6CD69-8FB0-4648-83E7-010F2DDB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E7777A3-8292-4F1B-83F3-473EB85B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1AC3249-CC0B-4AE3-BF33-2AA99074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EB06478-8E4F-4D0F-8180-35958958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8F8E933-7D25-4E3C-AB20-A6CFE4E1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9DC74BA-AFA6-4868-A821-54CC0364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8B7C350-2A1F-427F-97F9-FA6777A0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A6EF128-BF81-4637-9B02-FA88FC26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9F5E4A8-D8CF-49C2-8514-D08C453C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C6EB0F-FF87-414B-8F36-8AC199DBBD8A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F180795-E0D0-418C-8F7F-464F7265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087BF86-92DF-496E-B265-2FC75D3C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79C8641-7023-4503-8BA7-B212533C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4E08652-BB3D-4930-AF14-738AB281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A7AF90A-0737-49DE-A38F-6A032B1C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1D04D27-2A87-4804-80FD-290101AD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71A48AA-3BEA-4F56-AC99-DFAA389E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6C76B8D-ACAD-4FD0-98C8-F0D2B3A4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27973CE-9510-4CE9-97F8-1CB875CA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7AC593C-1F54-4AED-BABF-3C8FDA86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D876E-50C0-42E0-BCFE-718F475BF8E5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27DBE13-598D-4ACE-8CF9-738959D1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0298952-FF05-4A64-87DC-6189C0B24F92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A2C6AFC-34FD-4AB1-B821-BBA6B03C7C9F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7FE52A0-C36E-4ED0-82E1-A76D91365B20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3147B424-44FB-4547-9899-06E73D9A825C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E5F0A7C-B3F3-439C-A8E2-0C5A1F36A327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02174D4-E8EA-409B-A2AC-FBC1EC712D40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19E4145-4C72-44EE-ADE9-15769A5DA556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0902F73-26C5-4C5D-803C-8C5E1FB6F41A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E7F3EFA-4C77-4B2F-A924-1199095CDED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FFD485-F176-426B-A174-C6B74E7CEF9E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34515A33-136C-483B-B080-43047A03EA35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22284C1-A009-40FB-88A4-9AD3E16259A9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BB45BD0A-3679-4F3F-BE40-4ABB18997885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EC1D1C9-D2DE-45B1-89F2-C03E363723CF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48DA972-4CF7-4951-86F5-F21A7E6528AB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2313320-C4BF-473D-A68E-056313E4318A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0EF4691-1CBB-4DD1-8B9D-D277E40FA031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B08310A-E689-4E2D-8EC1-D196D9891BDF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1A737AA-E108-45AD-A89F-8B798C73BB6C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C158032-C295-4D28-893A-B3ABF2CFA71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8381E-F81F-44BC-A865-F7D02E5D5045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7CF37DB-42AD-4A05-9BE8-C28F33DA6BAC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D8A4DCD-1859-427F-8209-64CF30B1EEAE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E654D85C-8A1D-4B8C-8E11-99F0B43C1259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5EE9E2F-5470-47C2-B6D3-74D07646C9AE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DA68A00-FDA7-42F9-9A92-BDF7445EE46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574D4-D86B-4995-AC5F-67FD659E659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9EB38-8D0E-4940-A1E3-5A0324E0474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51510-1952-4D8E-9C90-38FB83883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C678-A9E1-4D7F-A9F8-A96082E61F8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C7751-2D0D-4444-9779-B2C5D9E92BE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EB135A-F33A-429B-A23C-04D2408F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776C81-6CED-4D6E-B6AC-5EFC37DB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567D9C-AB9B-4E87-9A4B-FEB777DE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BECD09-EE13-4FEB-90D4-EC89657F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97DD93-D3AD-487A-858C-E2A88FF9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AE7777-A031-466F-99B1-0DF9ABF7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75968B-C22B-4778-947E-8EA4BDCA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18120B-4384-4567-9882-7EFD0636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B997E5-F6D8-4712-A311-2B33745B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08A3A-B95E-439E-A3A6-AD2DD9E24CA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FE45CA-85DD-42D9-ACC2-B5D3250E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4A8C96-020A-4A4A-876E-6ACE65C9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DEE98F-A901-4F3D-A6C3-0D9297E1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488FE-227D-4655-AB4A-40A2BA0D8A3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73589-6808-417A-86F7-72C76D2B162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79DF8-7D8E-4B72-B9A4-E1C17DA00B7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C979C-B00B-4A1C-8E73-C02D1834456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156AC-C818-4503-B02A-5EC2B7E087A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5EA7F-58B1-4CBE-B66C-9E4AF84F5E7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46EE5-B9F7-45D6-B097-4FAAF7A3C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DE6D-B5B2-4231-B8A0-80FA891B14C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B47F0-4B6E-4877-BB61-17D6BD894CA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C2067-09FB-458F-B47A-22355FC88FA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B6277-F7F3-493E-B5BC-02D0645AA1A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1326F-DF6F-4F85-8F39-55E94D19C77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196B0-4516-448F-A3E0-7F7EA149729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A3F13-8B00-478A-AECF-ADDA6C2A6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7D788-2A0A-4246-AC3F-0EF508C5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79F86-EC51-4A83-8F8A-B7F9DEFD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843AA-FA9B-4FA0-8333-1E8BA9AB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E7E51-C4FE-429C-89EE-420D8F2A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79DA-DB6E-43EA-BC90-C2110941EC2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9686B-57D5-4955-A0F0-2A67C60C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1B183-91C8-4762-B13D-6F32DC25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C269F-E10D-4026-9148-75AC480D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965AD-B9F6-44AA-9877-DEF77ACD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C62D8-BBAF-4E06-B774-E8D76FAC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C9914-5674-4F09-B692-5E64453F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7D65D-EFB9-4A8A-B6B9-ABEF7002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22533-F0E8-4860-B1B4-6584FD44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E4AC8-7EEF-437C-A651-0D67C9AE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34F88-5834-41B3-AD55-D393E9CD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9F50-948E-4C94-81CA-25C76F233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4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391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95B7-FA99-4061-B91D-DFD55150A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436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7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4B2F-C064-47FE-B584-893953FE7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481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2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EE46-5036-4241-A3E8-DD792912E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526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7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E678-EFE8-4546-A96E-C7CA44C92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571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2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0F63-4A8C-458A-9358-5B52671E3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616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7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95CE-37D9-4A5A-AA5D-4A1D15E38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661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2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CF14-1D38-41E6-A255-22FAE28F6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706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7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0B6C-BE47-41B1-8FAC-F95631BCB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751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2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5F48-CF0D-4757-8236-ABA6B1656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796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7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hteck 4"/>
          <p:cNvSpPr/>
          <p:nvPr/>
        </p:nvSpPr>
        <p:spPr>
          <a:xfrm>
            <a:off x="0" y="1440"/>
            <a:ext cx="9144000" cy="1051200"/>
          </a:xfrm>
          <a:prstGeom prst="rect">
            <a:avLst/>
          </a:prstGeom>
          <a:solidFill>
            <a:srgbClr val="008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Grafik 1" descr=""/>
          <p:cNvPicPr/>
          <p:nvPr/>
        </p:nvPicPr>
        <p:blipFill>
          <a:blip r:embed="rId2"/>
          <a:stretch/>
        </p:blipFill>
        <p:spPr>
          <a:xfrm>
            <a:off x="23760" y="7920"/>
            <a:ext cx="1052640" cy="1044720"/>
          </a:xfrm>
          <a:prstGeom prst="rect">
            <a:avLst/>
          </a:prstGeom>
          <a:ln w="0">
            <a:noFill/>
          </a:ln>
        </p:spPr>
      </p:pic>
      <p:pic>
        <p:nvPicPr>
          <p:cNvPr id="45" name="Grafik 1" descr=""/>
          <p:cNvPicPr/>
          <p:nvPr/>
        </p:nvPicPr>
        <p:blipFill>
          <a:blip r:embed="rId3"/>
          <a:stretch/>
        </p:blipFill>
        <p:spPr>
          <a:xfrm>
            <a:off x="7885080" y="6308640"/>
            <a:ext cx="107964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hteck 4"/>
          <p:cNvSpPr/>
          <p:nvPr/>
        </p:nvSpPr>
        <p:spPr>
          <a:xfrm>
            <a:off x="0" y="1440"/>
            <a:ext cx="9144000" cy="1051200"/>
          </a:xfrm>
          <a:prstGeom prst="rect">
            <a:avLst/>
          </a:prstGeom>
          <a:solidFill>
            <a:srgbClr val="008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Grafik 1" descr=""/>
          <p:cNvPicPr/>
          <p:nvPr/>
        </p:nvPicPr>
        <p:blipFill>
          <a:blip r:embed="rId2"/>
          <a:stretch/>
        </p:blipFill>
        <p:spPr>
          <a:xfrm>
            <a:off x="23760" y="7920"/>
            <a:ext cx="1052640" cy="1044720"/>
          </a:xfrm>
          <a:prstGeom prst="rect">
            <a:avLst/>
          </a:prstGeom>
          <a:ln w="0">
            <a:noFill/>
          </a:ln>
        </p:spPr>
      </p:pic>
      <p:pic>
        <p:nvPicPr>
          <p:cNvPr id="839" name="Grafik 1" descr=""/>
          <p:cNvPicPr/>
          <p:nvPr/>
        </p:nvPicPr>
        <p:blipFill>
          <a:blip r:embed="rId3"/>
          <a:stretch/>
        </p:blipFill>
        <p:spPr>
          <a:xfrm>
            <a:off x="7885080" y="6308640"/>
            <a:ext cx="1079640" cy="46512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EGU general Assme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iuenna, 7 May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Wouter Dorigo – wd@ipf.tuwien.ac.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Multi-mission microwave soil mois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8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584B-6DF5-43F2-BD57-F54831A2589A}" type="slidenum">
              <a:rPr b="0" lang="en-AU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hteck 4"/>
          <p:cNvSpPr/>
          <p:nvPr/>
        </p:nvSpPr>
        <p:spPr>
          <a:xfrm>
            <a:off x="0" y="1440"/>
            <a:ext cx="9144000" cy="1051200"/>
          </a:xfrm>
          <a:prstGeom prst="rect">
            <a:avLst/>
          </a:prstGeom>
          <a:solidFill>
            <a:srgbClr val="008e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Grafik 1" descr=""/>
          <p:cNvPicPr/>
          <p:nvPr/>
        </p:nvPicPr>
        <p:blipFill>
          <a:blip r:embed="rId2"/>
          <a:stretch/>
        </p:blipFill>
        <p:spPr>
          <a:xfrm>
            <a:off x="23760" y="7920"/>
            <a:ext cx="1052640" cy="1044720"/>
          </a:xfrm>
          <a:prstGeom prst="rect">
            <a:avLst/>
          </a:prstGeom>
          <a:ln w="0">
            <a:noFill/>
          </a:ln>
        </p:spPr>
      </p:pic>
      <p:pic>
        <p:nvPicPr>
          <p:cNvPr id="881" name="Grafik 1" descr=""/>
          <p:cNvPicPr/>
          <p:nvPr/>
        </p:nvPicPr>
        <p:blipFill>
          <a:blip r:embed="rId3"/>
          <a:stretch/>
        </p:blipFill>
        <p:spPr>
          <a:xfrm>
            <a:off x="7885080" y="6308640"/>
            <a:ext cx="1079640" cy="46512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0B34-F1DC-41CC-AF3C-EF89912669AF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7DC0-D025-4B17-AE75-EA7ACC44E1D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D681-7283-43C4-A6A6-0D5D6E702C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8B31-CCE7-4009-9B64-FB84DA4B552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76F4-E031-41C7-8D1B-24E1659B57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21DC-40A7-4E95-8965-74AA52DE7D1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C134-BFFE-475C-A753-24ADB13937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79FA-0721-41A6-94D0-2E83CAD3810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F990-9E4D-491C-9D53-CB9F8A851D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E989-FE38-410C-8854-61730DEA5B9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E4DD-F0FB-4805-A660-BE786D5BF3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FF5E-6E39-4687-9231-FA427DFAC68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B9A9-3FFF-4615-9BF4-C1E5018CE6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4D6D-1C4B-4EDB-B51E-F207E859662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B0ED-E831-4727-A7DB-9A52A7A949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63BF-D5D1-4534-BDF7-635886CB835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941C-D9F6-46B8-9CE6-E606D28BAB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Kursinski &amp; Kursinski </a:t>
            </a:r>
            <a:fld id="{939E1172-66CF-4E97-A17B-6C9398BE2A0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G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c 17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1170-D520-46D2-A08C-B473A194B5F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D154-5EBC-4227-B494-777F6BCD8A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C37D-61DB-4838-9524-35B4D674DF8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4080-0764-4A4B-9004-56EB5E2A9E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C478-0076-40B4-95A7-364AEC5374F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02F0-7A1B-4FEE-A5EF-4EDB37BA02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 type="dt" idx="85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ugust 23,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 type="ftr" idx="86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AA/UCAR GPS Sympo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 type="sldNum" idx="87"/>
          </p:nvPr>
        </p:nvSpPr>
        <p:spPr>
          <a:xfrm>
            <a:off x="67053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4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 type="ftr" idx="89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 type="sldNum" idx="90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8E3F-B5F1-4D1C-8967-DCBD9F04087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 type="ftr" idx="92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 type="sldNum" idx="93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4188-5C4E-4C09-8593-3D467B1CE7B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0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 type="ftr" idx="95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 type="sldNum" idx="96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9989-9F6F-42F5-B6EE-8719DDAA48C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3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 type="ftr" idx="98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 type="sldNum" idx="99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4BA7-D545-4570-904C-C423996EABF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6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01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02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32D3-5907-496E-B8D7-49B93BE9455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9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 type="ftr" idx="104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 type="sldNum" idx="105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A3AB-EF94-4F42-B07A-A5111C3DE23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6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7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9AEC-ABF9-4FB1-8180-622ED665DD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 type="ftr" idx="107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 type="sldNum" idx="108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4C1A-B31E-4BEB-919D-78F37CC604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5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110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111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61FB-9C1C-41B7-A85B-5DAEAA9E586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8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 type="dt" idx="1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 type="ftr" idx="113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5"/>
          <p:cNvSpPr>
            <a:spLocks noGrp="1"/>
          </p:cNvSpPr>
          <p:nvPr>
            <p:ph type="sldNum" idx="114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A198-F68D-4378-9DE0-4E5C392CEB6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1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 type="dt" idx="1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 type="ftr" idx="116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 type="sldNum" idx="117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F890-B8D7-4E1D-90E7-090E8BCB5FC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4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19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20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355C-9A1B-4C78-9B47-8F1218206AE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Line 7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7" name="Picture 12" descr="topbar_data"/>
          <p:cNvPicPr/>
          <p:nvPr/>
        </p:nvPicPr>
        <p:blipFill>
          <a:blip r:embed="rId2"/>
          <a:srcRect l="0" t="0" r="37801" b="0"/>
          <a:stretch/>
        </p:blipFill>
        <p:spPr>
          <a:xfrm>
            <a:off x="6372360" y="63360"/>
            <a:ext cx="2627280" cy="1062000"/>
          </a:xfrm>
          <a:prstGeom prst="rect">
            <a:avLst/>
          </a:prstGeom>
          <a:ln w="0">
            <a:noFill/>
          </a:ln>
        </p:spPr>
      </p:pic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 type="dt" idx="1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 type="ftr" idx="122"/>
          </p:nvPr>
        </p:nvSpPr>
        <p:spPr>
          <a:xfrm>
            <a:off x="2339640" y="6552720"/>
            <a:ext cx="47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5"/>
          <p:cNvSpPr>
            <a:spLocks noGrp="1"/>
          </p:cNvSpPr>
          <p:nvPr>
            <p:ph type="sldNum" idx="123"/>
          </p:nvPr>
        </p:nvSpPr>
        <p:spPr>
          <a:xfrm>
            <a:off x="6012000" y="655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DA8D-BCAC-4D5C-A260-09628F2213C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Rectangle 8"/>
          <p:cNvSpPr/>
          <p:nvPr/>
        </p:nvSpPr>
        <p:spPr>
          <a:xfrm>
            <a:off x="165240" y="4491000"/>
            <a:ext cx="8978760" cy="2160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Rectangle 5"/>
          <p:cNvSpPr/>
          <p:nvPr/>
        </p:nvSpPr>
        <p:spPr>
          <a:xfrm>
            <a:off x="279360" y="4362480"/>
            <a:ext cx="88376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82520" indent="-182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" spc="-1" strike="noStrike">
                <a:solidFill>
                  <a:srgbClr val="ffffff"/>
                </a:solidFill>
                <a:latin typeface="Calibri"/>
                <a:ea typeface="宋体"/>
              </a:rPr>
              <a:t>KING ABDULLAH UNIVERSITY OF SCIENCE AND TECHNOLOGY,  SAUDI ARAB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Rectangle 12"/>
          <p:cNvSpPr/>
          <p:nvPr/>
        </p:nvSpPr>
        <p:spPr>
          <a:xfrm>
            <a:off x="0" y="190440"/>
            <a:ext cx="8978760" cy="349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2" name="Picture 6" descr="logo-kaust-header.jpeg"/>
          <p:cNvPicPr/>
          <p:nvPr/>
        </p:nvPicPr>
        <p:blipFill>
          <a:blip r:embed="rId2"/>
          <a:stretch/>
        </p:blipFill>
        <p:spPr>
          <a:xfrm>
            <a:off x="6137280" y="5275440"/>
            <a:ext cx="3006720" cy="1582560"/>
          </a:xfrm>
          <a:prstGeom prst="rect">
            <a:avLst/>
          </a:prstGeom>
          <a:ln w="0">
            <a:noFill/>
          </a:ln>
        </p:spPr>
      </p:pic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264600" y="117000"/>
            <a:ext cx="865836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1091880" y="1384200"/>
            <a:ext cx="7364520" cy="4957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82520" indent="-182520">
              <a:spcBef>
                <a:spcPts val="649"/>
              </a:spcBef>
              <a:buClr>
                <a:srgbClr val="0033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2" marL="905040" indent="-1828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3" marL="1262160" indent="-17784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4" marL="1623960" indent="-18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5" marL="1623960" indent="-18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6" marL="1623960" indent="-18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 type="sldNum" idx="124"/>
          </p:nvPr>
        </p:nvSpPr>
        <p:spPr>
          <a:xfrm>
            <a:off x="6854400" y="874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9527-957E-45F1-85CE-BAAE946120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2" name="Group 9"/>
          <p:cNvGrpSpPr/>
          <p:nvPr/>
        </p:nvGrpSpPr>
        <p:grpSpPr>
          <a:xfrm>
            <a:off x="673200" y="923760"/>
            <a:ext cx="8470800" cy="492120"/>
            <a:chOff x="673200" y="923760"/>
            <a:chExt cx="8470800" cy="492120"/>
          </a:xfrm>
        </p:grpSpPr>
        <p:sp>
          <p:nvSpPr>
            <p:cNvPr id="1973" name="Rectangle 10"/>
            <p:cNvSpPr/>
            <p:nvPr/>
          </p:nvSpPr>
          <p:spPr>
            <a:xfrm>
              <a:off x="673200" y="1072800"/>
              <a:ext cx="8470800" cy="2160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Rectangle 5"/>
            <p:cNvSpPr/>
            <p:nvPr/>
          </p:nvSpPr>
          <p:spPr>
            <a:xfrm>
              <a:off x="780840" y="923760"/>
              <a:ext cx="83376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82520" indent="-18252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KING ABDULLAH UNIVERSITY OF SCIENCE AND TECHNOLOGY,  SAUDI ARAB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5" name="Rectangle 14"/>
          <p:cNvSpPr/>
          <p:nvPr/>
        </p:nvSpPr>
        <p:spPr>
          <a:xfrm>
            <a:off x="187200" y="69840"/>
            <a:ext cx="8825040" cy="879480"/>
          </a:xfrm>
          <a:prstGeom prst="rect">
            <a:avLst/>
          </a:prstGeom>
          <a:gradFill rotWithShape="0">
            <a:gsLst>
              <a:gs pos="0">
                <a:srgbClr val="609cc9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264600" y="117000"/>
            <a:ext cx="865836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1091880" y="1384200"/>
            <a:ext cx="7364520" cy="4957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82520" indent="-182520">
              <a:spcBef>
                <a:spcPts val="649"/>
              </a:spcBef>
              <a:buClr>
                <a:srgbClr val="0033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2" marL="905040" indent="-1828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3" marL="1262160" indent="-17784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4" marL="1623960" indent="-18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5" marL="1623960" indent="-18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6" marL="1623960" indent="-18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 type="sldNum" idx="125"/>
          </p:nvPr>
        </p:nvSpPr>
        <p:spPr>
          <a:xfrm>
            <a:off x="6905160" y="6285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77CD-C4AD-4DE7-B9F3-034B0EE79DFF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9"/>
          <p:cNvGrpSpPr/>
          <p:nvPr/>
        </p:nvGrpSpPr>
        <p:grpSpPr>
          <a:xfrm>
            <a:off x="673200" y="923760"/>
            <a:ext cx="8470800" cy="492120"/>
            <a:chOff x="673200" y="923760"/>
            <a:chExt cx="8470800" cy="492120"/>
          </a:xfrm>
        </p:grpSpPr>
        <p:sp>
          <p:nvSpPr>
            <p:cNvPr id="167" name="Rectangle 10"/>
            <p:cNvSpPr/>
            <p:nvPr/>
          </p:nvSpPr>
          <p:spPr>
            <a:xfrm>
              <a:off x="673200" y="1072800"/>
              <a:ext cx="8470800" cy="2160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"/>
            <p:cNvSpPr/>
            <p:nvPr/>
          </p:nvSpPr>
          <p:spPr>
            <a:xfrm>
              <a:off x="780840" y="923760"/>
              <a:ext cx="83376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182520" indent="-18252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KING ABDULLAH UNIVERSITY OF SCIENCE AND TECHNOLOGY,  SAUDI ARAB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4"/>
          <p:cNvSpPr/>
          <p:nvPr/>
        </p:nvSpPr>
        <p:spPr>
          <a:xfrm>
            <a:off x="187200" y="69840"/>
            <a:ext cx="8825040" cy="879480"/>
          </a:xfrm>
          <a:prstGeom prst="rect">
            <a:avLst/>
          </a:prstGeom>
          <a:gradFill rotWithShape="0">
            <a:gsLst>
              <a:gs pos="0">
                <a:srgbClr val="609cc9"/>
              </a:gs>
              <a:gs pos="100000">
                <a:srgbClr val="0033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64600" y="117000"/>
            <a:ext cx="865836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91880" y="1384200"/>
            <a:ext cx="7364520" cy="4957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82520" indent="-182520">
              <a:spcBef>
                <a:spcPts val="649"/>
              </a:spcBef>
              <a:buClr>
                <a:srgbClr val="0033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1" marL="542880" indent="-1810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2" marL="905040" indent="-1828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3" marL="1262160" indent="-17784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4" marL="1623960" indent="-18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5" marL="1623960" indent="-18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  <a:p>
            <a:pPr lvl="6" marL="1623960" indent="-18252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1" lang="en-US" sz="26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8"/>
          </p:nvPr>
        </p:nvSpPr>
        <p:spPr>
          <a:xfrm>
            <a:off x="6854400" y="1947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8273-0206-4328-B20C-6C5D49B1A79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210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1044-54F6-4446-A1F1-91C0ACBD6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255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0" y="6324480"/>
            <a:ext cx="9144000" cy="457200"/>
            <a:chOff x="0" y="6324480"/>
            <a:chExt cx="9144000" cy="457200"/>
          </a:xfrm>
        </p:grpSpPr>
        <p:pic>
          <p:nvPicPr>
            <p:cNvPr id="259" name="Picture 7" descr="Screen Shot 2015-01-03 at 6.32.25 PM.png"/>
            <p:cNvPicPr/>
            <p:nvPr/>
          </p:nvPicPr>
          <p:blipFill>
            <a:blip r:embed="rId3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D1262-A5FA-48EE-B7FA-FAC5BD611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301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2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B527-C6B6-43ED-88A9-41E54251E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6"/>
          <p:cNvGrpSpPr/>
          <p:nvPr/>
        </p:nvGrpSpPr>
        <p:grpSpPr>
          <a:xfrm>
            <a:off x="0" y="6324480"/>
            <a:ext cx="9144000" cy="527400"/>
            <a:chOff x="0" y="6324480"/>
            <a:chExt cx="9144000" cy="527400"/>
          </a:xfrm>
        </p:grpSpPr>
        <p:sp>
          <p:nvSpPr>
            <p:cNvPr id="346" name="Rectangle 3"/>
            <p:cNvSpPr/>
            <p:nvPr/>
          </p:nvSpPr>
          <p:spPr>
            <a:xfrm>
              <a:off x="0" y="6402240"/>
              <a:ext cx="9144000" cy="4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askerville"/>
                </a:rPr>
                <a:t>WDAC 4</a:t>
              </a:r>
              <a:br>
                <a:rPr sz="1400"/>
              </a:br>
              <a:r>
                <a:rPr b="0" lang="en-US" sz="1200" spc="-1" strike="noStrike">
                  <a:solidFill>
                    <a:srgbClr val="000000"/>
                  </a:solidFill>
                  <a:latin typeface="Baskerville"/>
                </a:rPr>
                <a:t>ECMWF, Reading, UK, 2-3 July 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Picture 8" descr="Screen Shot 2015-01-03 at 6.32.25 PM.png"/>
            <p:cNvPicPr/>
            <p:nvPr/>
          </p:nvPicPr>
          <p:blipFill>
            <a:blip r:embed="rId2"/>
            <a:stretch/>
          </p:blipFill>
          <p:spPr>
            <a:xfrm>
              <a:off x="838080" y="6409080"/>
              <a:ext cx="1523880" cy="37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Straight Connector 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490A-7FD6-4CB0-B661-9CE97A438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osweb.larc.nasa.gov/GEWEX-RFA/" TargetMode="External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wex-vap.org/" TargetMode="Externa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6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fluxdata.org/DataInfo/" TargetMode="External"/><Relationship Id="rId3" Type="http://schemas.openxmlformats.org/officeDocument/2006/relationships/hyperlink" Target="http://www.fluxdata.org/DataInfo/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55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5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8892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askerville"/>
              </a:rPr>
              <a:t>GEWEX DATA and ASSESSMENTS PANEL (GD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Jörg Schulz (Chair, GD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EUMET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Matthew McCabe (Vice Chair, GD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K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ulla University of Science and Technology, Saudi A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on behalf of the GDAP with contributions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Straight Connector 4"/>
          <p:cNvSpPr/>
          <p:nvPr/>
        </p:nvSpPr>
        <p:spPr>
          <a:xfrm>
            <a:off x="685800" y="1143000"/>
            <a:ext cx="78487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5"/>
          <p:cNvSpPr/>
          <p:nvPr/>
        </p:nvSpPr>
        <p:spPr>
          <a:xfrm>
            <a:off x="228600" y="4114800"/>
            <a:ext cx="8729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lf Bennartz, Xavier Calbet,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i Ershadi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nk Fell, John Forsythe,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los Jimenez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ristian Kummerow, Rob Kursinski, Miaoling Liang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arit Lockhoff,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go Miralles, Dominik Michel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rigitte Mueller, Remy Roca,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ia Seneviratne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i Shi, Marc Schröder,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 Trent, Andi Walther,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c W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3" name=""/>
          <p:cNvGraphicFramePr/>
          <p:nvPr/>
        </p:nvGraphicFramePr>
        <p:xfrm>
          <a:off x="304920" y="914400"/>
          <a:ext cx="8531280" cy="5334120"/>
        </p:xfrm>
        <a:graphic>
          <a:graphicData uri="http://schemas.openxmlformats.org/drawingml/2006/table">
            <a:tbl>
              <a:tblPr/>
              <a:tblGrid>
                <a:gridCol w="1371600"/>
                <a:gridCol w="1218960"/>
                <a:gridCol w="762120"/>
                <a:gridCol w="1074600"/>
                <a:gridCol w="925560"/>
                <a:gridCol w="1112760"/>
                <a:gridCol w="1070280"/>
                <a:gridCol w="995400"/>
              </a:tblGrid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d5e8ea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a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Ame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me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d5e8ea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nof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b0f0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V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b0f0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3680">
                      <a:solidFill>
                        <a:srgbClr val="daedef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daedef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pi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b0f0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GP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b0f0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3680">
                      <a:solidFill>
                        <a:srgbClr val="daedef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daedef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</a:tr>
              <a:tr h="3873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ndflu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b0f0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5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b0f0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4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3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9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3680">
                      <a:solidFill>
                        <a:srgbClr val="daedef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5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daedef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4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b0f0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3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8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3680">
                      <a:solidFill>
                        <a:srgbClr val="daedef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daedef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</a:tr>
              <a:tr h="3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SE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5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b0f0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3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3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3680">
                      <a:solidFill>
                        <a:srgbClr val="daedef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4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daedef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</a:tr>
              <a:tr h="38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GLE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5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b0f0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4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4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9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3680">
                      <a:solidFill>
                        <a:srgbClr val="daedef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a6a6a6"/>
                          </a:solidFill>
                          <a:latin typeface="Arial"/>
                        </a:rPr>
                        <a:t>5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daedef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</a:tr>
              <a:tr h="55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VER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b0f0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3680">
                      <a:solidFill>
                        <a:srgbClr val="daedef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daedef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</a:tr>
              <a:tr h="830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Runoff – P-avg(E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5760">
                      <a:solidFill>
                        <a:srgbClr val="d6ecee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±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b0f0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6±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±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±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±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3680">
                      <a:solidFill>
                        <a:srgbClr val="daedef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±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daedef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</a:tr>
              <a:tr h="60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Runoff – P-ET(P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d6ecee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b0f0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5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13680">
                      <a:solidFill>
                        <a:srgbClr val="daedef"/>
                      </a:solidFill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3680">
                      <a:solidFill>
                        <a:srgbClr val="daedef"/>
                      </a:solidFill>
                    </a:lnL>
                    <a:lnR>
                      <a:noFill/>
                    </a:lnR>
                    <a:lnT w="4320">
                      <a:solidFill>
                        <a:srgbClr val="d5e8ea"/>
                      </a:solidFill>
                    </a:lnT>
                    <a:lnB w="4320">
                      <a:solidFill>
                        <a:srgbClr val="d5e8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4" name="TextBox 8"/>
          <p:cNvSpPr/>
          <p:nvPr/>
        </p:nvSpPr>
        <p:spPr>
          <a:xfrm>
            <a:off x="1319040" y="160200"/>
            <a:ext cx="657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rces of Estimates (mm/yr; 1984-2007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Straight Connector 10"/>
          <p:cNvSpPr/>
          <p:nvPr/>
        </p:nvSpPr>
        <p:spPr>
          <a:xfrm>
            <a:off x="685800" y="685800"/>
            <a:ext cx="78487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ed planning of new precipitation and soil moisture assessment by tasking Hiro Masunaga and Wouter Dorigo to develop assessment white paper with the community until next GDAP meeting (29 Sep – 1 Oct, 2015, Xiamen, Chin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m is to outline full assessment but to concentrate on items that are achievable within 2 years from the st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Straight Connector 3"/>
          <p:cNvSpPr/>
          <p:nvPr/>
        </p:nvSpPr>
        <p:spPr>
          <a:xfrm>
            <a:off x="685800" y="1219320"/>
            <a:ext cx="78487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cipitation Assessment Fo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)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lobal and Regional Climatology (long-term mean and tr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)  Time series analysis in the context of different modes of climate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c)  Extr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d)  Frozen precip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)  Structural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 up with MOUNTerrain from GH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Straight Connector 3"/>
          <p:cNvSpPr/>
          <p:nvPr/>
        </p:nvSpPr>
        <p:spPr>
          <a:xfrm>
            <a:off x="685800" y="990720"/>
            <a:ext cx="78487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Rectangle 2"/>
          <p:cNvSpPr/>
          <p:nvPr/>
        </p:nvSpPr>
        <p:spPr>
          <a:xfrm>
            <a:off x="304920" y="260280"/>
            <a:ext cx="85341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Arial"/>
              </a:rPr>
              <a:t>Soil Moisture Microwave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Rectangle 3"/>
          <p:cNvSpPr/>
          <p:nvPr/>
        </p:nvSpPr>
        <p:spPr>
          <a:xfrm>
            <a:off x="324000" y="1557360"/>
            <a:ext cx="8362800" cy="39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Inhaltsplatzhalter 3"/>
          <p:cNvSpPr/>
          <p:nvPr/>
        </p:nvSpPr>
        <p:spPr>
          <a:xfrm>
            <a:off x="152280" y="1143000"/>
            <a:ext cx="5211720" cy="50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70a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SMOS mission extended until February 2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a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Copernicus Sentinel-1 and SMAP launched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a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New quasi operational soil moisture products from AMSR2, Feng-Yun 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a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Large interest in soil moisture 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a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ESA CCI Soil moisture product has over 1300 registere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a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Increasing use of soil moisture for improving precipitation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a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5" name="Picture 2" descr="Figure01_Rmap_vs_GPCC"/>
          <p:cNvPicPr/>
          <p:nvPr/>
        </p:nvPicPr>
        <p:blipFill>
          <a:blip r:embed="rId1"/>
          <a:srcRect l="10360" t="9100" r="8503" b="7103"/>
          <a:stretch/>
        </p:blipFill>
        <p:spPr>
          <a:xfrm>
            <a:off x="5289480" y="685800"/>
            <a:ext cx="3854520" cy="5707080"/>
          </a:xfrm>
          <a:prstGeom prst="rect">
            <a:avLst/>
          </a:prstGeom>
          <a:ln w="0">
            <a:noFill/>
          </a:ln>
        </p:spPr>
      </p:pic>
      <p:sp>
        <p:nvSpPr>
          <p:cNvPr id="2126" name="Rectangle 5"/>
          <p:cNvSpPr/>
          <p:nvPr/>
        </p:nvSpPr>
        <p:spPr>
          <a:xfrm>
            <a:off x="3001680" y="5791320"/>
            <a:ext cx="218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ec0"/>
                </a:solidFill>
                <a:latin typeface="Arial"/>
              </a:rPr>
              <a:t>Brocca et al., 2014, JGR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Straight Connector 6"/>
          <p:cNvSpPr/>
          <p:nvPr/>
        </p:nvSpPr>
        <p:spPr>
          <a:xfrm>
            <a:off x="685800" y="685800"/>
            <a:ext cx="78487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5715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"/>
                <a:ea typeface="Baskerville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 txBox="1"/>
          <p:nvPr/>
        </p:nvSpPr>
        <p:spPr>
          <a:xfrm>
            <a:off x="380880" y="10663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GEWEX data set assessments as shown for water vapor and evapotranspiration help to further understand issues in data records and facilitate further develop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New assessments planned on precipitation and soil moistur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  <a:ea typeface="Baskerville"/>
              </a:rPr>
              <a:t>Constructing an integrated product using the GEWEX standard products is an enormous t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"/>
                <a:ea typeface="Baskerville"/>
              </a:rPr>
              <a:t>Basic building blocks of integrated Product: Ts, T(z), q(z) are not as good as hoped for.  Large differences between products and little in terms of absolute val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skerville"/>
                <a:ea typeface="Baskerville"/>
              </a:rPr>
              <a:t>Integrated product is a way forward in that the very interdependence that makes it difficult to produce, is also a very strict QC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Straight Connector 6"/>
          <p:cNvSpPr/>
          <p:nvPr/>
        </p:nvSpPr>
        <p:spPr>
          <a:xfrm>
            <a:off x="762120" y="838080"/>
            <a:ext cx="7848360" cy="1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DAP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cilitate Data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a better understanding of variability and change of the water and energy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t Quality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independent and transparent quality assurance for existing data records, to endorse the use and the credibility of data records to a broader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es the guidance of surface networks such as BSRN and GPCC delivering crucial data needed for assessment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diative Transfer Code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standard for assessing the performance and potentially certifying GCM-style SW and LW RT codes (shared with GASS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of canopy radiative transfer models under controlled experimental condi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tablish new products supporting new challenges (obs4mips, extremes, PROES, etc), e.g., high res precipitation climate data record from radar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Straight Connector 3"/>
          <p:cNvSpPr/>
          <p:nvPr/>
        </p:nvSpPr>
        <p:spPr>
          <a:xfrm>
            <a:off x="762120" y="914400"/>
            <a:ext cx="784836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Rectangle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ata Set Assessments performed by GRP/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5"/>
          <p:cNvSpPr/>
          <p:nvPr/>
        </p:nvSpPr>
        <p:spPr>
          <a:xfrm>
            <a:off x="228600" y="1066680"/>
            <a:ext cx="87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il Moisture – 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Discussion at GDAP 20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tion –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GPCP and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White paper for assessment available, GDAP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Vapor –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multiple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Assessment underway (fifth workshop in Nov 2015 at CIMSS, Madi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bulent Fluxes: 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SeaFlux and LandFl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SeaFlux assessment largely finished, lots of publications, reporting 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LandFLux assessment largely finished, lots of publications, reporting 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rosols –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GACP over ocean; land is TB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Aerosol assessment underway with very limited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s –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ISCCP (http://climserv.ipsl.polytechnique.fr/gewexca/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Cloud assessment completed 201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CRP Report No. 23/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tion –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SRB (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osweb.larc.nasa.gov/GEWEX-RFA/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urface reference observations –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BS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Radiation assessment completed 201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CRP Report No. 19/2012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ation –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GPC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fc gauge obs 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(GP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3960" indent="-266760">
              <a:lnSpc>
                <a:spcPct val="100000"/>
              </a:lnSpc>
              <a:buClr>
                <a:srgbClr val="009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First Assessment completed 2008 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CRP-128, WMO/TD-No. 1430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Straight Connector 3"/>
          <p:cNvSpPr/>
          <p:nvPr/>
        </p:nvSpPr>
        <p:spPr>
          <a:xfrm>
            <a:off x="762120" y="914400"/>
            <a:ext cx="784836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 Vapour Assessment (G-VAP)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82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Text Box 4"/>
          <p:cNvSpPr/>
          <p:nvPr/>
        </p:nvSpPr>
        <p:spPr>
          <a:xfrm>
            <a:off x="457200" y="1295280"/>
            <a:ext cx="8229600" cy="53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date a comprehensive and consistent assessment of long-term satellite based water vapour data records addressing GCOS ECVs has not been carried out (Past SPARC WAVACS covered parts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-VAP fills this gap and will fully document each step of the analysis and related resul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DAP started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-VAP in 201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The major objective of G-VAP is to inform users (science community, GDAP, agencies, PIs,…) on the strength and weaknesses of available data reco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in approach: consistent inter-comparison and comparison to ground-based and in-situ observations analysing variability/stability with focus on troposph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us far, four workshops have been carried out. These have been hosted by: 1) ESA-ESRIN, 2) DWD, 3) CSU, 4) FU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ifth workshop will be at the SSEC, University of Wisconsin at 4+5 November 201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rther details on G-VAP can be at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www.gewex-vap.or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traight Connector 4"/>
          <p:cNvSpPr/>
          <p:nvPr/>
        </p:nvSpPr>
        <p:spPr>
          <a:xfrm>
            <a:off x="762120" y="914400"/>
            <a:ext cx="784836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Rechteck 4"/>
          <p:cNvSpPr/>
          <p:nvPr/>
        </p:nvSpPr>
        <p:spPr>
          <a:xfrm>
            <a:off x="1206360" y="44280"/>
            <a:ext cx="6732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ng-term analysis of TCW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Textfeld 5"/>
          <p:cNvSpPr/>
          <p:nvPr/>
        </p:nvSpPr>
        <p:spPr>
          <a:xfrm>
            <a:off x="0" y="465444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ons with distinct differences largely coincide among the standard deviation of the differences and in the mean absolute difference of the trend estim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are caused by break points, coincident with changes in the observing system. The time, the sign and the step size are typically a function of region and data recor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global ice free ocean scale the trend estimates among the different data records were found to be significantly different between the data recor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7" name="Grafik 2" descr=""/>
          <p:cNvPicPr/>
          <p:nvPr/>
        </p:nvPicPr>
        <p:blipFill>
          <a:blip r:embed="rId1"/>
          <a:srcRect l="8027" t="0" r="0" b="0"/>
          <a:stretch/>
        </p:blipFill>
        <p:spPr>
          <a:xfrm>
            <a:off x="0" y="984240"/>
            <a:ext cx="5292720" cy="3597120"/>
          </a:xfrm>
          <a:prstGeom prst="rect">
            <a:avLst/>
          </a:prstGeom>
          <a:ln w="0">
            <a:noFill/>
          </a:ln>
        </p:spPr>
      </p:pic>
      <p:pic>
        <p:nvPicPr>
          <p:cNvPr id="2038" name="Grafik 3" descr=""/>
          <p:cNvPicPr/>
          <p:nvPr/>
        </p:nvPicPr>
        <p:blipFill>
          <a:blip r:embed="rId2"/>
          <a:srcRect l="0" t="0" r="5869" b="0"/>
          <a:stretch/>
        </p:blipFill>
        <p:spPr>
          <a:xfrm>
            <a:off x="4716360" y="1063800"/>
            <a:ext cx="4427640" cy="3228840"/>
          </a:xfrm>
          <a:prstGeom prst="rect">
            <a:avLst/>
          </a:prstGeom>
          <a:ln w="0">
            <a:noFill/>
          </a:ln>
        </p:spPr>
      </p:pic>
      <p:sp>
        <p:nvSpPr>
          <p:cNvPr id="2039" name="Textfeld 5"/>
          <p:cNvSpPr/>
          <p:nvPr/>
        </p:nvSpPr>
        <p:spPr>
          <a:xfrm>
            <a:off x="0" y="493560"/>
            <a:ext cx="9144000" cy="8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Standard deviation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     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    Mean absolute difference in 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b050"/>
                </a:solidFill>
                <a:latin typeface="Arial"/>
              </a:rPr>
              <a:t>    trend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Slide Number Placeholder 5"/>
          <p:cNvSpPr/>
          <p:nvPr/>
        </p:nvSpPr>
        <p:spPr>
          <a:xfrm>
            <a:off x="6553080" y="65660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pperplate Gothic Light"/>
              </a:rPr>
              <a:t>MOOG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June 17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Footer Placeholder 4"/>
          <p:cNvSpPr/>
          <p:nvPr/>
        </p:nvSpPr>
        <p:spPr>
          <a:xfrm>
            <a:off x="3505320" y="40384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CMWF/EUMETSAT ROM-SAF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2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1444320" y="-11160"/>
            <a:ext cx="7699320" cy="6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47 hPa Specific Humidity Compari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"/>
          <p:cNvSpPr txBox="1"/>
          <p:nvPr/>
        </p:nvSpPr>
        <p:spPr>
          <a:xfrm>
            <a:off x="-133200" y="1600200"/>
            <a:ext cx="944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Oval 7"/>
          <p:cNvSpPr/>
          <p:nvPr/>
        </p:nvSpPr>
        <p:spPr>
          <a:xfrm>
            <a:off x="1047600" y="2033640"/>
            <a:ext cx="311400" cy="3475080"/>
          </a:xfrm>
          <a:prstGeom prst="ellipse">
            <a:avLst/>
          </a:prstGeom>
          <a:noFill/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TextBox 8"/>
          <p:cNvSpPr/>
          <p:nvPr/>
        </p:nvSpPr>
        <p:spPr>
          <a:xfrm>
            <a:off x="1365120" y="5084640"/>
            <a:ext cx="2106720" cy="87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53735"/>
                </a:solidFill>
                <a:latin typeface="Calibri"/>
              </a:rPr>
              <a:t>ECMWF &amp; NCEP analyses don’t like really dry ai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7" name="Straight Arrow Connector 9"/>
          <p:cNvCxnSpPr/>
          <p:nvPr/>
        </p:nvCxnSpPr>
        <p:spPr>
          <a:xfrm flipH="1" flipV="1">
            <a:off x="1425240" y="4353840"/>
            <a:ext cx="568800" cy="71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48" name="Straight Connector 10"/>
          <p:cNvSpPr/>
          <p:nvPr/>
        </p:nvSpPr>
        <p:spPr>
          <a:xfrm>
            <a:off x="2284560" y="498600"/>
            <a:ext cx="6502320" cy="0"/>
          </a:xfrm>
          <a:prstGeom prst="line">
            <a:avLst/>
          </a:prstGeom>
          <a:ln w="316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Oval 11"/>
          <p:cNvSpPr/>
          <p:nvPr/>
        </p:nvSpPr>
        <p:spPr>
          <a:xfrm rot="850800">
            <a:off x="4909680" y="4997520"/>
            <a:ext cx="3052800" cy="1003320"/>
          </a:xfrm>
          <a:prstGeom prst="ellipse">
            <a:avLst/>
          </a:prstGeom>
          <a:noFill/>
          <a:ln w="22320">
            <a:solidFill>
              <a:srgbClr val="16f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TextBox 12"/>
          <p:cNvSpPr/>
          <p:nvPr/>
        </p:nvSpPr>
        <p:spPr>
          <a:xfrm>
            <a:off x="5530680" y="4307040"/>
            <a:ext cx="3356280" cy="61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953735"/>
                </a:solidFill>
                <a:latin typeface="Calibri"/>
              </a:rPr>
              <a:t>General underestimate of  very high humidity air except MER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Oval 13"/>
          <p:cNvSpPr/>
          <p:nvPr/>
        </p:nvSpPr>
        <p:spPr>
          <a:xfrm>
            <a:off x="1041480" y="412920"/>
            <a:ext cx="542880" cy="1620720"/>
          </a:xfrm>
          <a:prstGeom prst="ellipse">
            <a:avLst/>
          </a:prstGeom>
          <a:noFill/>
          <a:ln w="19080">
            <a:solidFill>
              <a:srgbClr val="16f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Box 14"/>
          <p:cNvSpPr/>
          <p:nvPr/>
        </p:nvSpPr>
        <p:spPr>
          <a:xfrm>
            <a:off x="1650960" y="1033560"/>
            <a:ext cx="21909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GPS, MERRA &amp; AIRS agree well on very dry end in mid-trop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Box 15"/>
          <p:cNvSpPr/>
          <p:nvPr/>
        </p:nvSpPr>
        <p:spPr>
          <a:xfrm>
            <a:off x="2770200" y="2851200"/>
            <a:ext cx="19191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953735"/>
                </a:solidFill>
                <a:latin typeface="Calibri"/>
              </a:rPr>
              <a:t>NCEP &amp; AIRS overestimate mid-humidity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4" name="Straight Arrow Connector 16"/>
          <p:cNvCxnSpPr/>
          <p:nvPr/>
        </p:nvCxnSpPr>
        <p:spPr>
          <a:xfrm flipH="1">
            <a:off x="3375720" y="3725640"/>
            <a:ext cx="158040" cy="462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55" name="TextBox 17"/>
          <p:cNvSpPr/>
          <p:nvPr/>
        </p:nvSpPr>
        <p:spPr>
          <a:xfrm>
            <a:off x="1662120" y="511200"/>
            <a:ext cx="3868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~5 km altitude, 30S-30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Date Placeholder 3"/>
          <p:cNvSpPr/>
          <p:nvPr/>
        </p:nvSpPr>
        <p:spPr>
          <a:xfrm>
            <a:off x="457200" y="6551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ursinski  et al.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Text Box 3"/>
          <p:cNvSpPr/>
          <p:nvPr/>
        </p:nvSpPr>
        <p:spPr>
          <a:xfrm>
            <a:off x="1357200" y="67644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F588-532F-441A-8C37-BC0F39AC8313}" type="slidenum">
              <a:rPr b="0" lang="en-GB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9" name="Image 3" descr="logo-obspm-bandeau.png"/>
          <p:cNvPicPr/>
          <p:nvPr/>
        </p:nvPicPr>
        <p:blipFill>
          <a:blip r:embed="rId1"/>
          <a:stretch/>
        </p:blipFill>
        <p:spPr>
          <a:xfrm>
            <a:off x="7010280" y="6456240"/>
            <a:ext cx="760680" cy="401760"/>
          </a:xfrm>
          <a:prstGeom prst="rect">
            <a:avLst/>
          </a:prstGeom>
          <a:ln w="0">
            <a:noFill/>
          </a:ln>
        </p:spPr>
      </p:pic>
      <p:pic>
        <p:nvPicPr>
          <p:cNvPr id="2060" name="Picture 18" descr=""/>
          <p:cNvPicPr/>
          <p:nvPr/>
        </p:nvPicPr>
        <p:blipFill>
          <a:blip r:embed="rId2"/>
          <a:stretch/>
        </p:blipFill>
        <p:spPr>
          <a:xfrm>
            <a:off x="8077320" y="6477120"/>
            <a:ext cx="966600" cy="264960"/>
          </a:xfrm>
          <a:prstGeom prst="rect">
            <a:avLst/>
          </a:prstGeom>
          <a:ln w="0">
            <a:noFill/>
          </a:ln>
        </p:spPr>
      </p:pic>
      <p:sp>
        <p:nvSpPr>
          <p:cNvPr id="2061" name="Rectangle 7"/>
          <p:cNvSpPr/>
          <p:nvPr/>
        </p:nvSpPr>
        <p:spPr>
          <a:xfrm>
            <a:off x="453960" y="806400"/>
            <a:ext cx="840888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alibri"/>
              </a:rPr>
              <a:t>GEWEX Data and Assessments Panel (GDAP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99"/>
                </a:solidFill>
                <a:uFillTx/>
                <a:latin typeface="Calibri"/>
              </a:rPr>
              <a:t>Goal</a:t>
            </a:r>
            <a:r>
              <a:rPr b="0" lang="en-US" sz="2600" spc="-1" strike="noStrike">
                <a:solidFill>
                  <a:srgbClr val="000099"/>
                </a:solidFill>
                <a:latin typeface="Calibri"/>
              </a:rPr>
              <a:t>: Develop global </a:t>
            </a:r>
            <a:r>
              <a:rPr b="0" i="1" lang="en-US" sz="2600" spc="-1" strike="noStrike">
                <a:solidFill>
                  <a:srgbClr val="000099"/>
                </a:solidFill>
                <a:latin typeface="Calibri"/>
              </a:rPr>
              <a:t>observationally</a:t>
            </a:r>
            <a:r>
              <a:rPr b="0" lang="en-US" sz="2600" spc="-1" strike="noStrike">
                <a:solidFill>
                  <a:srgbClr val="000099"/>
                </a:solidFill>
                <a:latin typeface="Calibri"/>
              </a:rPr>
              <a:t> based products to allow independent water and energy cycle assessment (1984-2007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Ellipse 50"/>
          <p:cNvSpPr/>
          <p:nvPr/>
        </p:nvSpPr>
        <p:spPr>
          <a:xfrm>
            <a:off x="4992840" y="2200320"/>
            <a:ext cx="965160" cy="3537000"/>
          </a:xfrm>
          <a:prstGeom prst="ellipse">
            <a:avLst/>
          </a:prstGeom>
          <a:solidFill>
            <a:srgbClr val="ff4415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Rectangle 2"/>
          <p:cNvSpPr/>
          <p:nvPr/>
        </p:nvSpPr>
        <p:spPr>
          <a:xfrm>
            <a:off x="2263680" y="4710240"/>
            <a:ext cx="1871640" cy="11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Oval 10"/>
          <p:cNvSpPr/>
          <p:nvPr/>
        </p:nvSpPr>
        <p:spPr>
          <a:xfrm>
            <a:off x="4776840" y="3271680"/>
            <a:ext cx="1346040" cy="1384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Rectangle 11"/>
          <p:cNvSpPr/>
          <p:nvPr/>
        </p:nvSpPr>
        <p:spPr>
          <a:xfrm>
            <a:off x="4778280" y="3843360"/>
            <a:ext cx="13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Rectangle 12"/>
          <p:cNvSpPr/>
          <p:nvPr/>
        </p:nvSpPr>
        <p:spPr>
          <a:xfrm>
            <a:off x="6705720" y="3743280"/>
            <a:ext cx="701640" cy="527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Rectangle 14"/>
          <p:cNvSpPr/>
          <p:nvPr/>
        </p:nvSpPr>
        <p:spPr>
          <a:xfrm>
            <a:off x="2263680" y="2346480"/>
            <a:ext cx="1871640" cy="1128600"/>
          </a:xfrm>
          <a:prstGeom prst="rect">
            <a:avLst/>
          </a:prstGeom>
          <a:solidFill>
            <a:srgbClr val="335b8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Rectangle 15"/>
          <p:cNvSpPr/>
          <p:nvPr/>
        </p:nvSpPr>
        <p:spPr>
          <a:xfrm>
            <a:off x="2496960" y="4726080"/>
            <a:ext cx="14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urce of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Rectangle 16"/>
          <p:cNvSpPr/>
          <p:nvPr/>
        </p:nvSpPr>
        <p:spPr>
          <a:xfrm>
            <a:off x="2263680" y="3527280"/>
            <a:ext cx="1871640" cy="1128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Rectangle 17"/>
          <p:cNvSpPr/>
          <p:nvPr/>
        </p:nvSpPr>
        <p:spPr>
          <a:xfrm>
            <a:off x="2265480" y="3560760"/>
            <a:ext cx="18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urce of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Rectangle 18"/>
          <p:cNvSpPr/>
          <p:nvPr/>
        </p:nvSpPr>
        <p:spPr>
          <a:xfrm>
            <a:off x="2338560" y="405612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rt/Long-wave rad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20"/>
          <p:cNvSpPr/>
          <p:nvPr/>
        </p:nvSpPr>
        <p:spPr>
          <a:xfrm>
            <a:off x="4135320" y="2936880"/>
            <a:ext cx="781200" cy="62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21"/>
          <p:cNvSpPr/>
          <p:nvPr/>
        </p:nvSpPr>
        <p:spPr>
          <a:xfrm>
            <a:off x="4135320" y="4065480"/>
            <a:ext cx="641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22"/>
          <p:cNvSpPr/>
          <p:nvPr/>
        </p:nvSpPr>
        <p:spPr>
          <a:xfrm flipV="1">
            <a:off x="4135320" y="4441680"/>
            <a:ext cx="817560" cy="85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23"/>
          <p:cNvSpPr/>
          <p:nvPr/>
        </p:nvSpPr>
        <p:spPr>
          <a:xfrm>
            <a:off x="6122880" y="3959280"/>
            <a:ext cx="582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Rectangle 24"/>
          <p:cNvSpPr/>
          <p:nvPr/>
        </p:nvSpPr>
        <p:spPr>
          <a:xfrm>
            <a:off x="2324160" y="51958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GE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Rectangle 13"/>
          <p:cNvSpPr/>
          <p:nvPr/>
        </p:nvSpPr>
        <p:spPr>
          <a:xfrm>
            <a:off x="6289560" y="3814920"/>
            <a:ext cx="15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Rectangle 25"/>
          <p:cNvSpPr/>
          <p:nvPr/>
        </p:nvSpPr>
        <p:spPr>
          <a:xfrm>
            <a:off x="1535040" y="2354400"/>
            <a:ext cx="714600" cy="3492360"/>
          </a:xfrm>
          <a:prstGeom prst="rect">
            <a:avLst/>
          </a:prstGeom>
          <a:solidFill>
            <a:srgbClr val="bba0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tangle 26"/>
          <p:cNvSpPr/>
          <p:nvPr/>
        </p:nvSpPr>
        <p:spPr>
          <a:xfrm rot="16200000">
            <a:off x="420480" y="378000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TELLITE OBSERV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Rectangle 11"/>
          <p:cNvSpPr/>
          <p:nvPr/>
        </p:nvSpPr>
        <p:spPr>
          <a:xfrm rot="16200000">
            <a:off x="4737600" y="4866480"/>
            <a:ext cx="149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TER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Rectangle 11"/>
          <p:cNvSpPr/>
          <p:nvPr/>
        </p:nvSpPr>
        <p:spPr>
          <a:xfrm rot="16200000">
            <a:off x="4732560" y="2526840"/>
            <a:ext cx="1490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MOS.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Rectangle 9"/>
          <p:cNvSpPr/>
          <p:nvPr/>
        </p:nvSpPr>
        <p:spPr>
          <a:xfrm>
            <a:off x="2509920" y="2460600"/>
            <a:ext cx="1349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nk for vap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Rectangle 19"/>
          <p:cNvSpPr/>
          <p:nvPr/>
        </p:nvSpPr>
        <p:spPr>
          <a:xfrm>
            <a:off x="2220840" y="3014640"/>
            <a:ext cx="18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Title 4"/>
          <p:cNvSpPr/>
          <p:nvPr/>
        </p:nvSpPr>
        <p:spPr>
          <a:xfrm>
            <a:off x="336600" y="117360"/>
            <a:ext cx="86360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GEWEX Landfl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1"/>
          <p:cNvSpPr/>
          <p:nvPr/>
        </p:nvSpPr>
        <p:spPr>
          <a:xfrm>
            <a:off x="6905520" y="6285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2063E-AF67-4AF5-AE21-7FD12BD997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TextBox 33"/>
          <p:cNvSpPr/>
          <p:nvPr/>
        </p:nvSpPr>
        <p:spPr>
          <a:xfrm>
            <a:off x="3375360" y="5867280"/>
            <a:ext cx="37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Courtesy of C. Jimenez and M. McCa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Straight Connector 35"/>
          <p:cNvSpPr/>
          <p:nvPr/>
        </p:nvSpPr>
        <p:spPr>
          <a:xfrm>
            <a:off x="196920" y="828720"/>
            <a:ext cx="8548560" cy="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Text Box 0"/>
          <p:cNvSpPr/>
          <p:nvPr/>
        </p:nvSpPr>
        <p:spPr>
          <a:xfrm>
            <a:off x="1901880" y="2330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336240" y="117000"/>
            <a:ext cx="86360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ower and Model Forcing Data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0" name="Text Box 0"/>
          <p:cNvSpPr/>
          <p:nvPr/>
        </p:nvSpPr>
        <p:spPr>
          <a:xfrm>
            <a:off x="1901880" y="2330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Rectangle 3"/>
          <p:cNvSpPr/>
          <p:nvPr/>
        </p:nvSpPr>
        <p:spPr>
          <a:xfrm>
            <a:off x="428760" y="1387440"/>
            <a:ext cx="85230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alibri"/>
              </a:rPr>
              <a:t>Meteorological forcing and common parame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Slide Number Placeholder 1"/>
          <p:cNvSpPr/>
          <p:nvPr/>
        </p:nvSpPr>
        <p:spPr>
          <a:xfrm>
            <a:off x="6905520" y="6285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25F7B-CD25-4C34-A568-460965168E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3" name="Picture 2" descr=""/>
          <p:cNvPicPr/>
          <p:nvPr/>
        </p:nvPicPr>
        <p:blipFill>
          <a:blip r:embed="rId1"/>
          <a:stretch/>
        </p:blipFill>
        <p:spPr>
          <a:xfrm>
            <a:off x="171360" y="2935440"/>
            <a:ext cx="6019920" cy="3816360"/>
          </a:xfrm>
          <a:prstGeom prst="rect">
            <a:avLst/>
          </a:prstGeom>
          <a:ln w="0">
            <a:noFill/>
          </a:ln>
        </p:spPr>
      </p:pic>
      <p:sp>
        <p:nvSpPr>
          <p:cNvPr id="2094" name="TextBox 3"/>
          <p:cNvSpPr/>
          <p:nvPr/>
        </p:nvSpPr>
        <p:spPr>
          <a:xfrm>
            <a:off x="6262560" y="2976480"/>
            <a:ext cx="2727360" cy="3660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ow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lux tower and site information from</a:t>
            </a:r>
            <a:r>
              <a:rPr b="0" lang="en-US" sz="1800" spc="-1" strike="noStrike" u="sng">
                <a:solidFill>
                  <a:srgbClr val="cb5056"/>
                </a:solidFill>
                <a:uFillTx/>
                <a:latin typeface="Calibri"/>
                <a:ea typeface="Calibri"/>
                <a:hlinkClick r:id="rId2"/>
              </a:rPr>
              <a:t>http</a:t>
            </a:r>
            <a:r>
              <a:rPr b="0" lang="en-US" sz="1800" spc="-1" strike="noStrike" u="sng">
                <a:solidFill>
                  <a:srgbClr val="cb5056"/>
                </a:solidFill>
                <a:uFillTx/>
                <a:latin typeface="Calibri"/>
                <a:ea typeface="Calibri"/>
                <a:hlinkClick r:id="rId3"/>
              </a:rPr>
              <a:t>://www.fluxdata.org/DataInfo/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eteor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Vegetation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adiation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ST from LW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atellite based ND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NTERCEPTION!!!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TextBox 4"/>
          <p:cNvSpPr/>
          <p:nvPr/>
        </p:nvSpPr>
        <p:spPr>
          <a:xfrm>
            <a:off x="179280" y="2155680"/>
            <a:ext cx="5953320" cy="642600"/>
          </a:xfrm>
          <a:prstGeom prst="rect">
            <a:avLst/>
          </a:prstGeom>
          <a:solidFill>
            <a:srgbClr val="acc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Grid based data derived from a combination of reanalysis, satellite products and VIC mode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6" name="Picture 12" descr=""/>
          <p:cNvPicPr/>
          <p:nvPr/>
        </p:nvPicPr>
        <p:blipFill>
          <a:blip r:embed="rId4"/>
          <a:stretch/>
        </p:blipFill>
        <p:spPr>
          <a:xfrm>
            <a:off x="8018640" y="2014560"/>
            <a:ext cx="776160" cy="779400"/>
          </a:xfrm>
          <a:prstGeom prst="rect">
            <a:avLst/>
          </a:prstGeom>
          <a:ln w="0">
            <a:noFill/>
          </a:ln>
        </p:spPr>
      </p:pic>
      <p:pic>
        <p:nvPicPr>
          <p:cNvPr id="2097" name="Picture 5" descr=""/>
          <p:cNvPicPr/>
          <p:nvPr/>
        </p:nvPicPr>
        <p:blipFill>
          <a:blip r:embed="rId5"/>
          <a:stretch/>
        </p:blipFill>
        <p:spPr>
          <a:xfrm>
            <a:off x="6276960" y="2116080"/>
            <a:ext cx="169056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Text Box 0"/>
          <p:cNvSpPr/>
          <p:nvPr/>
        </p:nvSpPr>
        <p:spPr>
          <a:xfrm>
            <a:off x="1901880" y="2330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336240" y="117000"/>
            <a:ext cx="86360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LandFLUX Version 0 Produc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0" name="Text Box 0"/>
          <p:cNvSpPr/>
          <p:nvPr/>
        </p:nvSpPr>
        <p:spPr>
          <a:xfrm>
            <a:off x="1901880" y="2330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Rectangle 3"/>
          <p:cNvSpPr/>
          <p:nvPr/>
        </p:nvSpPr>
        <p:spPr>
          <a:xfrm>
            <a:off x="214200" y="1387440"/>
            <a:ext cx="873756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Final V0 product based on four “candidate” LandFLUX models to be released in Fall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661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s is evaluated at local, regional and continental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661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work is needed on developing consistent forc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5661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single model performs well everywhere. An ensemble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Slide Number Placeholder 1"/>
          <p:cNvSpPr/>
          <p:nvPr/>
        </p:nvSpPr>
        <p:spPr>
          <a:xfrm>
            <a:off x="6905520" y="6285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8DEC-0CBD-469A-8B52-43B594108D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3" name="Picture 2" descr="Global profile_CFSR-SRB_HIRS_4models"/>
          <p:cNvPicPr/>
          <p:nvPr/>
        </p:nvPicPr>
        <p:blipFill>
          <a:blip r:embed="rId1"/>
          <a:srcRect l="0" t="3515" r="0" b="0"/>
          <a:stretch/>
        </p:blipFill>
        <p:spPr>
          <a:xfrm>
            <a:off x="5857920" y="3421080"/>
            <a:ext cx="3031920" cy="3513240"/>
          </a:xfrm>
          <a:prstGeom prst="rect">
            <a:avLst/>
          </a:prstGeom>
          <a:ln w="0">
            <a:noFill/>
          </a:ln>
        </p:spPr>
      </p:pic>
      <p:grpSp>
        <p:nvGrpSpPr>
          <p:cNvPr id="2104" name="Group 3"/>
          <p:cNvGrpSpPr/>
          <p:nvPr/>
        </p:nvGrpSpPr>
        <p:grpSpPr>
          <a:xfrm>
            <a:off x="277920" y="3495600"/>
            <a:ext cx="5392800" cy="3306960"/>
            <a:chOff x="277920" y="3495600"/>
            <a:chExt cx="5392800" cy="3306960"/>
          </a:xfrm>
        </p:grpSpPr>
        <p:pic>
          <p:nvPicPr>
            <p:cNvPr id="2105" name="Picture 5" descr="mean_le24y.png"/>
            <p:cNvPicPr/>
            <p:nvPr/>
          </p:nvPicPr>
          <p:blipFill>
            <a:blip r:embed="rId2"/>
            <a:srcRect l="5398" t="54129" r="3111" b="29477"/>
            <a:stretch/>
          </p:blipFill>
          <p:spPr>
            <a:xfrm>
              <a:off x="277920" y="4999320"/>
              <a:ext cx="5392800" cy="136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6" name="Picture 5" descr="mean_le24y.png"/>
            <p:cNvPicPr/>
            <p:nvPr/>
          </p:nvPicPr>
          <p:blipFill>
            <a:blip r:embed="rId3"/>
            <a:srcRect l="5398" t="32941" r="3111" b="50571"/>
            <a:stretch/>
          </p:blipFill>
          <p:spPr>
            <a:xfrm>
              <a:off x="277920" y="3495600"/>
              <a:ext cx="5392800" cy="137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7" name="TextBox 7"/>
            <p:cNvSpPr/>
            <p:nvPr/>
          </p:nvSpPr>
          <p:spPr>
            <a:xfrm>
              <a:off x="581040" y="4331160"/>
              <a:ext cx="67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E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TextBox 8"/>
            <p:cNvSpPr/>
            <p:nvPr/>
          </p:nvSpPr>
          <p:spPr>
            <a:xfrm>
              <a:off x="3294360" y="433872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TextBox 9"/>
            <p:cNvSpPr/>
            <p:nvPr/>
          </p:nvSpPr>
          <p:spPr>
            <a:xfrm>
              <a:off x="578520" y="579744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TextBox 10"/>
            <p:cNvSpPr/>
            <p:nvPr/>
          </p:nvSpPr>
          <p:spPr>
            <a:xfrm>
              <a:off x="3208320" y="582444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GLE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1" name="Picture 5" descr="mean_le24y.png"/>
            <p:cNvPicPr/>
            <p:nvPr/>
          </p:nvPicPr>
          <p:blipFill>
            <a:blip r:embed="rId4"/>
            <a:srcRect l="13922" t="70480" r="53002" b="26868"/>
            <a:stretch/>
          </p:blipFill>
          <p:spPr>
            <a:xfrm>
              <a:off x="1155960" y="6433560"/>
              <a:ext cx="3876120" cy="3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2" name="Text Box 11"/>
            <p:cNvSpPr/>
            <p:nvPr/>
          </p:nvSpPr>
          <p:spPr>
            <a:xfrm>
              <a:off x="4872600" y="647352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m/y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21:09:49Z</dcterms:created>
  <dc:creator>Christian Kummerow</dc:creator>
  <dc:description/>
  <dc:language>en-US</dc:language>
  <cp:lastModifiedBy>Catherine Michaut</cp:lastModifiedBy>
  <dcterms:modified xsi:type="dcterms:W3CDTF">2015-09-18T09:53:25Z</dcterms:modified>
  <cp:revision>290</cp:revision>
  <dc:subject/>
  <dc:title>20th GEWEX SSG MEETING Irvine, CA, 19-13 January 2009</dc:title>
</cp:coreProperties>
</file>