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112-9E1B-44D9-957B-B9883D21E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2542-6740-4F0F-BF90-781B935C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8080" y="676440"/>
            <a:ext cx="4599000" cy="34509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200" y="4352760"/>
            <a:ext cx="501156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S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4EDA-581B-4057-A591-D88A326D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3FF4-ED97-4B0A-99A1-DCB9DB9F4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7498E-315F-4960-93BD-0AA1E2D32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7B29-D050-44E2-AD2B-08C47ADC3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49EF5-64E3-41F6-B84D-0C3CCE8AB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886-732F-456C-8D26-4FE16615EF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43BA-4FBD-4ED2-83FD-3317E0269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E37-EC4F-47B7-A492-16601B06BC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EF3-C5E8-49D8-8635-6B7A613150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656-54A3-402B-B535-B8A62EB654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0FA-8876-4FCD-AD0C-7705458EDE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466E-5509-49F1-AC21-DDC9C101D4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AA8B3-EE29-4833-9A05-C1AA927487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A2B-2F31-4780-A6B4-7A00BF5C78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C83-8084-4246-AB3F-64B68A5F3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89D-5FC1-4F7B-913E-ADBDA052DF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790B-6335-43A0-829E-D99712BD6F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0E6B-C3A2-4C5B-A689-8D3A03E21B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7E8D-E926-40F7-8759-F0E31D82B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C30C-D29D-4E4C-AEF6-D40E8DD78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651B4-E266-4CC5-A113-444D32AE4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0DDE-9AD8-4BE0-A84E-154E2248C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D389-9634-4068-956B-5D9AD6937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9F45-DEA1-4DA4-8E34-F2FDAFAE3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86EB-B695-4E9B-80AD-E047226AF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091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1E1D-29E0-4122-B6CA-8ECA23145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2"/>
          </p:nvPr>
        </p:nvSpPr>
        <p:spPr>
          <a:xfrm>
            <a:off x="2971440" y="6552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3"/>
          </p:nvPr>
        </p:nvSpPr>
        <p:spPr>
          <a:xfrm>
            <a:off x="609120" y="6552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1F05-D264-4EE5-8966-A24BBAC1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838080" y="17924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OPC’s connections to WC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1523880" y="3200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Bourassa, Katy Hill, and Toshio S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Taking forward OOPC connections to WC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52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Attend WDAC meetings (when and where pos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Will seek comment and feedback from WCRP/CLIVAR for GCOS and GOOS planning/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LIVAR Basin Panel plus GSOP representives attend OOPC meetings, engage in OOPC activit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CLIVAR Pacific Panel engagement in the TPOS Review, and TPOS 2020 Project Task Teams (node of Project office to be collocated with CLIVAR IGP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Joint OOPC-CLIVAR Session on Boundary Currents and their interactions with the shelf to be held at Ocean Science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Opportunities to improve connections, and strengthen feedbacks between research and sustained observ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.e. short term/mesoscale variability and link to large sc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52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text: OOPC’s role in sustained observations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ustained Observing break out session at Pan CLIVAR (June 20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framing discussions: CLIVAR input to OOPC-18 (April 201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king forward connections between OOPC and WCRP/CLIV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GCOS-GOOS-WCRP </a:t>
            </a:r>
            <a:br>
              <a:rPr sz="2800"/>
            </a:b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Ocean Observations Panel for Clim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295280"/>
            <a:ext cx="8713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ponsored by GCOS, GOOS and WC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formation broker between GCOS and GO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ibling Terrestrial and Atmosphere Panels in G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ibling Biogeochemisty and Biology Panels in GO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Provides scientific advice to JCOMM (particularly the Observations Coordination Group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aking a systems approach to observing system design and eval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mal connection to WCRP through WDAC meet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rong working connection to CLIV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Basin Panels and GSOP represented at the OOPC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reak out Discussions: Role of CLIVA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0663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ustained observing system requires ongoing scientific oversight and in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se/Advocacy of the Sustained observing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everaging for process studies/analyses/R&amp;D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eeding back into observing system desig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GOOS moving from platform thinking to systems thin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sidering requirements by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ronger focus needed on best analyses/products by variable (drawing on multiple observing networ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228600" y="11592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VAR/OOPC Sustained Ocean Observations Breakout (Pan CLIVAR, May 201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179280" y="1219320"/>
            <a:ext cx="4087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le of CLIVAR in GOOS &amp; G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amework for Ocean Observations (FOO) can be used to shows where CLIVAR contrib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What do we need to observe to address various iss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ow well do we need to observe 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frame_3d"/>
          <p:cNvPicPr/>
          <p:nvPr/>
        </p:nvPicPr>
        <p:blipFill>
          <a:blip r:embed="rId1"/>
          <a:stretch/>
        </p:blipFill>
        <p:spPr>
          <a:xfrm>
            <a:off x="4067280" y="1771560"/>
            <a:ext cx="5076720" cy="38480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3962520" y="1981080"/>
            <a:ext cx="3886200" cy="3124440"/>
            <a:chOff x="3962520" y="1981080"/>
            <a:chExt cx="3886200" cy="3124440"/>
          </a:xfrm>
        </p:grpSpPr>
        <p:sp>
          <p:nvSpPr>
            <p:cNvPr id="98" name="Oval 4"/>
            <p:cNvSpPr/>
            <p:nvPr/>
          </p:nvSpPr>
          <p:spPr>
            <a:xfrm>
              <a:off x="5943600" y="1981080"/>
              <a:ext cx="190512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"/>
            <p:cNvSpPr/>
            <p:nvPr/>
          </p:nvSpPr>
          <p:spPr>
            <a:xfrm>
              <a:off x="3962520" y="3505320"/>
              <a:ext cx="1066680" cy="1600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iscussions with CLIVAR at OOPC-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Sendai, Japan, 24-27th Apr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eedback loop needed between Research and Sustained Observations (CLIVAR-OOP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PC needs to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requirements for ocean observations, and set associated targets for ocean observing networks (i.e. seasonal and long term variability in upper ocean heat content and Argo array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nd report observing system implementation status, risks and challenges (with JCOMM Observations Coordination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erformance of observing system against requirement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areas of the observing system which require development (i.e Tropical Pacific, Deep Ocean, Boundary Current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OPC needs CLIVA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ulate and advocate their requirements for sustained observ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observations to do good science, process studies, etc;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feed-back and guidance into improving sustained observations, closing gaps, etc., which helps us improve the observing system for research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Questions Addressed by CLIVAR Panels at OOPC-1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7617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are the current research priorities of the pane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GSOP: focussed on the development of climate quality products and reanalysis dataset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Basin Panels: Common themes: Circulation (esp. Boundary currents and interbasin flows;  meso and submesoscale variability; extreme events and influence on larger scale; tropical variability; deep ocea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Atlantic/Southern Ocean have interest in meridional overturning and deep water formatio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Southern Ocean highlights links to biogeochemistry and biology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are sustained ocean observations being used to meet these priorities?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commonly highlight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go:for hear content estimate, context for historical observations, providing improved observations of upper ocean structu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ceanSITES: validation of mean fields and long term temporal variability. </a:t>
            </a:r>
            <a:r>
              <a:rPr b="0" lang="fr-CH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opical Moored Arrays: considered the cornerstone of basin scale observations, leveraged heavily for research activitie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Questions Addressed by CLIVAR Panels at OOPC-18 (p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gaps or uncertainties in the observat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Improved air sea flux estimates, Observations below 2000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Short term mesoscale variability  in upper ocean/stratification (extreme events, e.g. Cyclones, and strong SST gradients, e.g. boundary cur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modelling and process experiments are currently being conducted (how can/are they being used to inform the development of sustained observation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GSOP focussing on model experiments which test upper verses deep ocean variability and tr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Basin Panels have strong focus on eastern and western boundary regions: enthusiasm to build process experiments organised within CLIVAR to inform sustained observing system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Connections to Tropical Pacific Observing System 2020 project highligh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sues would you like to table for discussion with OOPC?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OPC to engage with climate modelling groups on how best to use climate + ocean models as sources of hypothesised variability and development of methods for helping to develop a quasi-optimal deep observing array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22:44:20Z</dcterms:created>
  <dc:creator>Autologon</dc:creator>
  <dc:description/>
  <dc:language>en-US</dc:language>
  <cp:lastModifiedBy>Mark Bourassa</cp:lastModifiedBy>
  <cp:lastPrinted>2010-07-27T22:17:53Z</cp:lastPrinted>
  <dcterms:modified xsi:type="dcterms:W3CDTF">2015-07-02T12:38:44Z</dcterms:modified>
  <cp:revision>399</cp:revision>
  <dc:subject/>
  <dc:title>Ocean Climate Indices from Data</dc:title>
</cp:coreProperties>
</file>