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C90E-DF34-4EC6-93FD-7F980358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21B-E18D-42E1-82D7-212A49D2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8080" y="676440"/>
            <a:ext cx="4599000" cy="3450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S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1C6-456F-40D7-8D46-F1E5ED08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A5F0-780F-417B-953D-566B2D23C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ACF8-EEB7-49CB-A171-BF38A8EAA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4407-973E-4FBC-B32B-0995E2008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D0C3-8515-4E36-BB28-313FC8ADB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928-5E25-44B9-ABAE-7AC328231B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E46-6967-43AC-840C-9B4AD6D7B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B0E-D207-48FD-8F11-992E3E7941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B62-C833-4799-A827-BF41DDAA2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1B1-95D0-4DD3-A0FE-1EF31BF19B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132-391B-462B-AE06-F782CE4D1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DDD-60C3-4B84-B6AF-B03191F52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7887-7630-4891-9CE6-3676F5C68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DD3-A69A-4B33-8C6D-799BADACD9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ED0-1D7A-4DA0-B17E-C43F264ED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251-F02B-4FD8-B179-A73CED18D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09B-1041-479F-A4FF-BCB0637D79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013-8E59-443C-AD2F-23C037485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0D15-EC85-41B2-BE01-81CF82F46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F5C0-1E65-40BC-8EA7-D69B3B5AC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E50B-51CE-4978-A72F-7C73240B2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FF3F-3843-4DF7-B59D-9F15C7F69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E009-7F03-4961-91C4-2A2D8D78A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BA2C-4AE7-4566-A04B-D9690454F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76BD-ADD1-4C6D-BC24-9509B4B98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091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B84-8595-4A17-B347-AED0F2BA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29714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091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8BF-5DF5-4FD1-A029-DCD14A8C8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838080" y="1792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OPC’s connections to WC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523880" y="3200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Bourassa, Katy Hill, and Toshio S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Taking forward OOPC connections to WC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ttend WDAC meetings (when and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ill seek comment and feedback from WCRP/CLIVAR for GCOS and GOOS planning/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LIVAR Basin Panel plus GSOP representives attend OOPC meetings, engage in OOPC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LIVAR Pacific Panel engagement in the TPOS Review, and TPOS 2020 Project Task Teams (node of Project office to be collocated with CLIVAR IGP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oint OOPC-CLIVAR Session on Boundary Currents and their interactions with the shelf to be held at Ocean Scien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pportunities to improve connections, and strengthen feedbacks between research and sustained observ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.e. short term/mesoscale variability and link to large sc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text: OOPC’s role in sustained observations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ustained Observing break out session at Pan CLIVAR (June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framing discussions: CLIVAR input to OOPC-18 (April 201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king forward connections between OOPC and WCRP/CLIV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GCOS-GOOS-WCRP </a:t>
            </a:r>
            <a:br>
              <a:rPr sz="28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cean Observations Panel for Cl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onsored by GCOS, GOOS and W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broker between GCOS and GO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ibling Terrestrial and Atmosphere Panels in G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ibling Biogeochemisty and Biology Panels in GO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rovides scientific advice to JCOMM (particularly the Observations Coordination Grou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king a systems approach to observing system design and eval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mal connection to WCRP through WDAC mee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ong working connection to CLIV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asin Panels and GSOP represented at the OOPC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reak out Discussions: Role of CLIV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0663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ustained observing system requires ongoing scientific oversight and in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se/Advocacy of the Sustained observ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veraging for process studies/analyses/R&amp;D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eeding back into observing system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OOS moving from platform thinking to systems thin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ing requirements by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onger focus needed on best analyses/products by variable (drawing on multiple observing networ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228600" y="115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VAR/OOPC Sustained Ocean Observations Breakout (Pan CLIVAR, May 20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179280" y="1219320"/>
            <a:ext cx="4087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le of CLIVAR in GOOS &amp; G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mework for Ocean Observations (FOO) can be used to shows where CLIVAR con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hat do we need to observe to address various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ow well do we need to observe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rame_3d"/>
          <p:cNvPicPr/>
          <p:nvPr/>
        </p:nvPicPr>
        <p:blipFill>
          <a:blip r:embed="rId1"/>
          <a:stretch/>
        </p:blipFill>
        <p:spPr>
          <a:xfrm>
            <a:off x="4067280" y="1771560"/>
            <a:ext cx="5076720" cy="38480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3962520" y="1981080"/>
            <a:ext cx="3886200" cy="3124440"/>
            <a:chOff x="3962520" y="1981080"/>
            <a:chExt cx="3886200" cy="3124440"/>
          </a:xfrm>
        </p:grpSpPr>
        <p:sp>
          <p:nvSpPr>
            <p:cNvPr id="98" name="Oval 4"/>
            <p:cNvSpPr/>
            <p:nvPr/>
          </p:nvSpPr>
          <p:spPr>
            <a:xfrm>
              <a:off x="5943600" y="1981080"/>
              <a:ext cx="190512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"/>
            <p:cNvSpPr/>
            <p:nvPr/>
          </p:nvSpPr>
          <p:spPr>
            <a:xfrm>
              <a:off x="3962520" y="3505320"/>
              <a:ext cx="1066680" cy="1600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iscussions with CLIVAR at OOPC-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endai, Japan, 24-27th Apr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eedback loop needed between Research and Sustained Observations (CLIVAR-OOP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C needs to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requirements for ocean observations, and set associated targets for ocean observing networks (i.e. seasonal and long term variability in upper ocean heat content and Argo array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nd report observing system implementation status, risks and challenges (with JCOMM Observations Coordination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erformance of observing system against requirement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reas of the observing system which require development (i.e Tropical Pacific, Deep Ocean, Boundary Current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C needs CLIVA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 and advocate their requirements for sustained obser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observations to do good science, process studies, etc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feed-back and guidance into improving sustained observations, closing gaps, etc., which helps us improve the observing system for research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estions Addressed by CLIVAR Panels at OOPC-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are the current research priorities of the pa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GSOP: focussed on the development of climate quality products and reanalysis dataset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Basin Panels: Common themes: Circulation (esp. Boundary currents and interbasin flows;  meso and submesoscale variability; extreme events and influence on larger scale; tropical variability; deep ocea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Atlantic/Southern Ocean have interest in meridional overturning and deep water form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Southern Ocean highlights links to biogeochemistry and biology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are sustained ocean observations being used to meet these priorities?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ommonly highligh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go:for hear content estimate, context for historical observations, providing improved observations of upper ocean struc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ceanSITES: validation of mean fields and long term temporal variability. 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opical Moored Arrays: considered the cornerstone of basin scale observations, leveraged heavily for research activiti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estions Addressed by CLIVAR Panels at OOPC-18 (p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gaps or uncertainties in the observ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mproved air sea flux estimates, Observations below 2000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hort term mesoscale variability  in upper ocean/stratification (extreme events, e.g. Cyclones, and strong SST gradients, e.g. boundary cur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modelling and process experiments are currently being conducted (how can/are they being used to inform the development of sustained observation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GSOP focussing on model experiments which test upper verses deep ocean variability and tr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asin Panels have strong focus on eastern and western boundary regions: enthusiasm to build process experiments organised within CLIVAR to inform sustained observing syst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nnections to Tropical Pacific Observing System 2020 project highligh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sues would you like to table for discussion with OOPC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OPC to engage with climate modelling groups on how best to use climate + ocean models as sources of hypothesised variability and development of methods for helping to develop a quasi-optimal deep observing array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22:44:20Z</dcterms:created>
  <dc:creator>Autologon</dc:creator>
  <dc:description/>
  <dc:language>en-US</dc:language>
  <cp:lastModifiedBy>Mark Bourassa</cp:lastModifiedBy>
  <cp:lastPrinted>2010-07-27T22:17:53Z</cp:lastPrinted>
  <dcterms:modified xsi:type="dcterms:W3CDTF">2015-07-02T12:38:44Z</dcterms:modified>
  <cp:revision>399</cp:revision>
  <dc:subject/>
  <dc:title>Ocean Climate Indices from Data</dc:title>
</cp:coreProperties>
</file>