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9080" y="4732200"/>
            <a:ext cx="4959360" cy="4632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39880" y="684000"/>
            <a:ext cx="5122800" cy="38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39880" y="684360"/>
            <a:ext cx="5122800" cy="38415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9080" y="4732200"/>
            <a:ext cx="4959360" cy="46324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lvl="1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Font typeface="Arial"/>
              <a:buChar char="•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Koni Steffen (Switzerland) Chair since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Font typeface="Arial"/>
              <a:buChar char="•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Next meeting of TOPC-17: 16-17 March 2015, WSL, Zürich, Switzer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Font typeface="Arial"/>
              <a:buChar char="•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Joint activities between  GCOS and GOFC-GOLD on ‘Observations for Climate Change Mitigation’ focussing on engaging REDD+ experts, the agriculture mitigation community, representatives from the climate modelling and integrated impact assessment community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  <a:ea typeface="Arial"/>
              </a:rPr>
              <a:t>Ocean Observations Panel for Climate (OOPC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 - co-sponsored by GO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Reactivated following GOOS reorganization; support now based in GCOS Secretariat, 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SimSun"/>
              </a:rPr>
              <a:t>he OOPC Technical Secretariat has moved to GCOS at WMO headquarte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SimSun"/>
              </a:rPr>
              <a:t>Due to a restructuring of the Global Ocean Observing System (GOOS) that follows the Framework for Ocean Observations (FOO), GOOS has – similar to the structure of GCOS – three expert panels for ocean physical observations (OOPC), biogeochemical observations (IOCCP), and biological observations (formed in November 2013)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OOPC will expand its focus to coastal oceans/shelf areas, and the deep oce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2013/2014 – coordination of the Tropical Pacific Observing System (TPOS) workshop, organized by NOAA and JAMSTEC, that was held at Scribbs Institute from 27-30 January 2014, and discussed  the potential of existing (i.e. Argo, satellite observation) and new technologies (i.e. profiling floats, gliders) in the reg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Font typeface="Arial"/>
              <a:buChar char="•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Mark Bourassa (US) and Toshio Suga (Japan) co-Chairs since 20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Font typeface="Arial"/>
              <a:buChar char="•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Next meeting of OOPC-18: 14-16 April 2015, Sendai,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2000" y="-360"/>
            <a:ext cx="63356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80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5952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244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80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5952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92000" y="-360"/>
            <a:ext cx="63356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0320" indent="-34308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" name="Line 9"/>
          <p:cNvSpPr/>
          <p:nvPr/>
        </p:nvSpPr>
        <p:spPr>
          <a:xfrm>
            <a:off x="216000" y="792000"/>
            <a:ext cx="8712000" cy="0"/>
          </a:xfrm>
          <a:prstGeom prst="line">
            <a:avLst/>
          </a:prstGeom>
          <a:ln w="3816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5861160" y="6138720"/>
            <a:ext cx="3153960" cy="456480"/>
            <a:chOff x="5861160" y="6138720"/>
            <a:chExt cx="3153960" cy="456480"/>
          </a:xfrm>
        </p:grpSpPr>
        <p:pic>
          <p:nvPicPr>
            <p:cNvPr id="5" name="Picture 7" descr="ICSUlogo4c"/>
            <p:cNvPicPr/>
            <p:nvPr/>
          </p:nvPicPr>
          <p:blipFill>
            <a:blip r:embed="rId2"/>
            <a:stretch/>
          </p:blipFill>
          <p:spPr>
            <a:xfrm>
              <a:off x="7805520" y="6141960"/>
              <a:ext cx="1209600" cy="3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IOC_UNESCO_color"/>
            <p:cNvPicPr/>
            <p:nvPr/>
          </p:nvPicPr>
          <p:blipFill>
            <a:blip r:embed="rId3"/>
            <a:stretch/>
          </p:blipFill>
          <p:spPr>
            <a:xfrm>
              <a:off x="6334560" y="6141960"/>
              <a:ext cx="7941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UNEP279E"/>
            <p:cNvPicPr/>
            <p:nvPr/>
          </p:nvPicPr>
          <p:blipFill>
            <a:blip r:embed="rId4"/>
            <a:stretch/>
          </p:blipFill>
          <p:spPr>
            <a:xfrm>
              <a:off x="7298280" y="6152400"/>
              <a:ext cx="3502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WMO"/>
            <p:cNvPicPr/>
            <p:nvPr/>
          </p:nvPicPr>
          <p:blipFill>
            <a:blip r:embed="rId5"/>
            <a:stretch/>
          </p:blipFill>
          <p:spPr>
            <a:xfrm>
              <a:off x="5861160" y="6138720"/>
              <a:ext cx="355320" cy="45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5" descr="GCOS_logo[1]-June 2011"/>
          <p:cNvPicPr/>
          <p:nvPr/>
        </p:nvPicPr>
        <p:blipFill>
          <a:blip r:embed="rId6"/>
          <a:stretch/>
        </p:blipFill>
        <p:spPr>
          <a:xfrm>
            <a:off x="344520" y="6051600"/>
            <a:ext cx="150804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5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216000" y="6156360"/>
            <a:ext cx="1241280" cy="647640"/>
            <a:chOff x="216000" y="6156360"/>
            <a:chExt cx="1241280" cy="647640"/>
          </a:xfrm>
        </p:grpSpPr>
        <p:pic>
          <p:nvPicPr>
            <p:cNvPr id="48" name="Picture 8" descr="GCOS_new_logo.PNG"/>
            <p:cNvPicPr/>
            <p:nvPr/>
          </p:nvPicPr>
          <p:blipFill>
            <a:blip r:embed="rId2"/>
            <a:srcRect l="25780" t="3176" r="17033" b="25409"/>
            <a:stretch/>
          </p:blipFill>
          <p:spPr>
            <a:xfrm>
              <a:off x="781920" y="6297840"/>
              <a:ext cx="67536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GCOS_new_logo.PNG"/>
            <p:cNvPicPr/>
            <p:nvPr/>
          </p:nvPicPr>
          <p:blipFill>
            <a:blip r:embed="rId3"/>
            <a:srcRect l="26517" t="79419" r="0" b="1588"/>
            <a:stretch/>
          </p:blipFill>
          <p:spPr>
            <a:xfrm>
              <a:off x="216000" y="6711840"/>
              <a:ext cx="122940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8" descr="GCOS_new_logo.PNG"/>
            <p:cNvPicPr/>
            <p:nvPr/>
          </p:nvPicPr>
          <p:blipFill>
            <a:blip r:embed="rId4"/>
            <a:srcRect l="0" t="0" r="77801" b="23821"/>
            <a:stretch/>
          </p:blipFill>
          <p:spPr>
            <a:xfrm>
              <a:off x="216000" y="6156360"/>
              <a:ext cx="556920" cy="5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Line 9"/>
          <p:cNvSpPr/>
          <p:nvPr/>
        </p:nvSpPr>
        <p:spPr>
          <a:xfrm>
            <a:off x="216000" y="792000"/>
            <a:ext cx="8712000" cy="0"/>
          </a:xfrm>
          <a:prstGeom prst="line">
            <a:avLst/>
          </a:prstGeom>
          <a:ln w="3816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16000" y="669960"/>
            <a:ext cx="8712000" cy="0"/>
          </a:xfrm>
          <a:prstGeom prst="line">
            <a:avLst/>
          </a:prstGeom>
          <a:ln w="5724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0320" indent="-34308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GCOS-SC@eumetsat.int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432080"/>
            <a:ext cx="9144000" cy="2527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obal Climate Observing Syste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COS update fo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DAC-4</a:t>
            </a:r>
            <a:endParaRPr b="1" lang="en-US" sz="3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08240" y="42541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ts val="2999"/>
              </a:lnSpc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rolin Rich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2999"/>
              </a:lnSpc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irector, GCOS Secretari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2999"/>
              </a:lnSpc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 - 3 July 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2999"/>
              </a:lnSpc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CMWF, Reading, U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299880" y="847800"/>
            <a:ext cx="871236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rmAutofit/>
          </a:bodyPr>
          <a:p>
            <a:pPr marL="446040" indent="-44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GCOS encompasses the climate components of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WMO observing systems (WIGOS: GOS, GAW, WHYCOS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IOC-led co-sponsored Global Ocean Observing System (GO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terrestrial observing networks, FAO co-sponsored Global Terrestrial Observing System (GT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observational elements of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research programm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 (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WCRP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, IGBP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other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systems contributing to climate observations, data management or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which together form our overall global observing system for climate, and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climate-observing component of the GEO System of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14480" y="0"/>
            <a:ext cx="88135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cope of GCOS as a System (of Syste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le 1"/>
          <p:cNvSpPr/>
          <p:nvPr/>
        </p:nvSpPr>
        <p:spPr>
          <a:xfrm>
            <a:off x="3384720" y="0"/>
            <a:ext cx="55432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9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50a0"/>
                </a:solidFill>
                <a:latin typeface="Arial"/>
                <a:ea typeface="Arial"/>
              </a:rPr>
              <a:t>WCRP sponsored Expert Pa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179280" y="1565280"/>
            <a:ext cx="87487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TOPC logo"/>
          <p:cNvPicPr/>
          <p:nvPr/>
        </p:nvPicPr>
        <p:blipFill>
          <a:blip r:embed="rId1"/>
          <a:stretch/>
        </p:blipFill>
        <p:spPr>
          <a:xfrm>
            <a:off x="6156360" y="2108160"/>
            <a:ext cx="2701800" cy="655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J:\Sponsors_and_systems_7.png"/>
          <p:cNvPicPr/>
          <p:nvPr/>
        </p:nvPicPr>
        <p:blipFill>
          <a:blip r:embed="rId2"/>
          <a:stretch/>
        </p:blipFill>
        <p:spPr>
          <a:xfrm>
            <a:off x="703440" y="2641680"/>
            <a:ext cx="7702200" cy="2522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OOPC logo"/>
          <p:cNvPicPr/>
          <p:nvPr/>
        </p:nvPicPr>
        <p:blipFill>
          <a:blip r:embed="rId3"/>
          <a:stretch/>
        </p:blipFill>
        <p:spPr>
          <a:xfrm>
            <a:off x="766800" y="1933560"/>
            <a:ext cx="265752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OPC_logo"/>
          <p:cNvPicPr/>
          <p:nvPr/>
        </p:nvPicPr>
        <p:blipFill>
          <a:blip r:embed="rId4"/>
          <a:stretch/>
        </p:blipFill>
        <p:spPr>
          <a:xfrm>
            <a:off x="3562200" y="1004760"/>
            <a:ext cx="2284560" cy="97020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2"/>
          <p:cNvSpPr/>
          <p:nvPr/>
        </p:nvSpPr>
        <p:spPr>
          <a:xfrm flipH="1">
            <a:off x="1525320" y="2641680"/>
            <a:ext cx="284040" cy="750960"/>
          </a:xfrm>
          <a:prstGeom prst="line">
            <a:avLst/>
          </a:prstGeom>
          <a:ln w="57240">
            <a:solidFill>
              <a:srgbClr val="3b8d85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000160" y="2668680"/>
            <a:ext cx="419040" cy="761760"/>
          </a:xfrm>
          <a:prstGeom prst="line">
            <a:avLst/>
          </a:prstGeom>
          <a:ln w="57240">
            <a:solidFill>
              <a:srgbClr val="3b8d85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6"/>
          <p:cNvSpPr/>
          <p:nvPr/>
        </p:nvSpPr>
        <p:spPr>
          <a:xfrm>
            <a:off x="2209680" y="2641680"/>
            <a:ext cx="2344680" cy="433440"/>
          </a:xfrm>
          <a:prstGeom prst="line">
            <a:avLst/>
          </a:prstGeom>
          <a:ln w="57240">
            <a:solidFill>
              <a:srgbClr val="3b8d85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9"/>
          <p:cNvSpPr/>
          <p:nvPr/>
        </p:nvSpPr>
        <p:spPr>
          <a:xfrm flipH="1">
            <a:off x="1668600" y="1974960"/>
            <a:ext cx="3031920" cy="1417680"/>
          </a:xfrm>
          <a:prstGeom prst="line">
            <a:avLst/>
          </a:prstGeom>
          <a:ln w="5724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1"/>
          <p:cNvSpPr/>
          <p:nvPr/>
        </p:nvSpPr>
        <p:spPr>
          <a:xfrm flipH="1">
            <a:off x="3561840" y="1933560"/>
            <a:ext cx="1203480" cy="1459080"/>
          </a:xfrm>
          <a:prstGeom prst="line">
            <a:avLst/>
          </a:prstGeom>
          <a:ln w="5724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4"/>
          <p:cNvSpPr/>
          <p:nvPr/>
        </p:nvSpPr>
        <p:spPr>
          <a:xfrm flipH="1">
            <a:off x="1771560" y="2695680"/>
            <a:ext cx="4905360" cy="720720"/>
          </a:xfrm>
          <a:prstGeom prst="line">
            <a:avLst/>
          </a:prstGeom>
          <a:ln w="57240">
            <a:solidFill>
              <a:srgbClr val="ff9933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6"/>
          <p:cNvSpPr/>
          <p:nvPr/>
        </p:nvSpPr>
        <p:spPr>
          <a:xfrm flipH="1">
            <a:off x="6715080" y="2862360"/>
            <a:ext cx="285840" cy="530280"/>
          </a:xfrm>
          <a:prstGeom prst="line">
            <a:avLst/>
          </a:prstGeom>
          <a:ln w="57240">
            <a:solidFill>
              <a:srgbClr val="ff9933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9"/>
          <p:cNvSpPr/>
          <p:nvPr/>
        </p:nvSpPr>
        <p:spPr>
          <a:xfrm flipH="1">
            <a:off x="5695560" y="2862360"/>
            <a:ext cx="1189080" cy="530280"/>
          </a:xfrm>
          <a:prstGeom prst="line">
            <a:avLst/>
          </a:prstGeom>
          <a:ln w="57240">
            <a:solidFill>
              <a:srgbClr val="ff9933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1"/>
          <p:cNvSpPr/>
          <p:nvPr/>
        </p:nvSpPr>
        <p:spPr>
          <a:xfrm flipH="1">
            <a:off x="4554360" y="1933560"/>
            <a:ext cx="284400" cy="1141560"/>
          </a:xfrm>
          <a:prstGeom prst="line">
            <a:avLst/>
          </a:prstGeom>
          <a:ln w="5724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9"/>
          <p:cNvSpPr/>
          <p:nvPr/>
        </p:nvSpPr>
        <p:spPr>
          <a:xfrm flipH="1">
            <a:off x="4704840" y="2763720"/>
            <a:ext cx="2009880" cy="338400"/>
          </a:xfrm>
          <a:prstGeom prst="line">
            <a:avLst/>
          </a:prstGeom>
          <a:ln w="57240">
            <a:solidFill>
              <a:srgbClr val="ff9933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1"/>
          <p:cNvSpPr/>
          <p:nvPr/>
        </p:nvSpPr>
        <p:spPr>
          <a:xfrm>
            <a:off x="4915080" y="1974960"/>
            <a:ext cx="780840" cy="1417680"/>
          </a:xfrm>
          <a:prstGeom prst="line">
            <a:avLst/>
          </a:prstGeom>
          <a:ln w="5724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6"/>
          <p:cNvSpPr/>
          <p:nvPr/>
        </p:nvSpPr>
        <p:spPr>
          <a:xfrm>
            <a:off x="7153200" y="2862360"/>
            <a:ext cx="505080" cy="530280"/>
          </a:xfrm>
          <a:prstGeom prst="line">
            <a:avLst/>
          </a:prstGeom>
          <a:ln w="57240">
            <a:solidFill>
              <a:srgbClr val="6d6d6d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6"/>
          <p:cNvSpPr/>
          <p:nvPr/>
        </p:nvSpPr>
        <p:spPr>
          <a:xfrm>
            <a:off x="5052960" y="1933560"/>
            <a:ext cx="2454480" cy="1459080"/>
          </a:xfrm>
          <a:prstGeom prst="line">
            <a:avLst/>
          </a:prstGeom>
          <a:ln w="57240">
            <a:solidFill>
              <a:srgbClr val="6d6d6d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6"/>
          <p:cNvSpPr/>
          <p:nvPr/>
        </p:nvSpPr>
        <p:spPr>
          <a:xfrm>
            <a:off x="2335320" y="2505240"/>
            <a:ext cx="4998960" cy="911160"/>
          </a:xfrm>
          <a:prstGeom prst="line">
            <a:avLst/>
          </a:prstGeom>
          <a:ln w="57240">
            <a:solidFill>
              <a:srgbClr val="6d6d6d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268200" y="0"/>
            <a:ext cx="871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  <a:ea typeface="Arial"/>
              </a:rPr>
              <a:t>GCOS Continuous Improvement &amp; Assessment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39840" y="919080"/>
            <a:ext cx="864072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The GCOS programme has started the process for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(1)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GCOS Status Report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: a 2015 report on the progress and status of climate observation, submitted to COP21/SBSTA in November 201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(2)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A new “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Implementation Plan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” in 2016, which wil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599"/>
              </a:lnSpc>
              <a:spcBef>
                <a:spcPts val="499"/>
              </a:spcBef>
              <a:spcAft>
                <a:spcPts val="901"/>
              </a:spcAft>
              <a:buClr>
                <a:srgbClr val="3366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alibri"/>
              </a:rPr>
              <a:t>reinforce Energy, Carbon and Water Cyc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599"/>
              </a:lnSpc>
              <a:spcBef>
                <a:spcPts val="499"/>
              </a:spcBef>
              <a:spcAft>
                <a:spcPts val="901"/>
              </a:spcAft>
              <a:buClr>
                <a:srgbClr val="3366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alibri"/>
              </a:rPr>
              <a:t>discuss Essential Climate Variables to be used across UN conventions for climate change, biological diversity and to combat desertification : UNFCCC, CBD, UNCC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599"/>
              </a:lnSpc>
              <a:spcBef>
                <a:spcPts val="499"/>
              </a:spcBef>
              <a:spcAft>
                <a:spcPts val="901"/>
              </a:spcAft>
              <a:buClr>
                <a:srgbClr val="3366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alibri"/>
              </a:rPr>
              <a:t>address adaptation and mitigation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599"/>
              </a:lnSpc>
              <a:spcBef>
                <a:spcPts val="499"/>
              </a:spcBef>
              <a:spcAft>
                <a:spcPts val="901"/>
              </a:spcAft>
              <a:buClr>
                <a:srgbClr val="3366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alibri"/>
              </a:rPr>
              <a:t>acknowledge climate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The new Plan will be submitted to COP22 in 2016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50640" y="1346040"/>
            <a:ext cx="8600760" cy="30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ts val="2999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wo workshops on </a:t>
            </a:r>
            <a:r>
              <a:rPr b="1" lang="fr-CH" sz="2000" spc="-1" strike="noStrike">
                <a:solidFill>
                  <a:srgbClr val="003399"/>
                </a:solidFill>
                <a:latin typeface="Arial"/>
              </a:rPr>
              <a:t>«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Adaptation</a:t>
            </a:r>
            <a:r>
              <a:rPr b="1" lang="fr-CH" sz="2000" spc="-1" strike="noStrike">
                <a:solidFill>
                  <a:srgbClr val="003399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Observations for Adaptation to Climate Variability and Change, February 2013, Offenbach (co-sponsored by IOC of UNESC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>
              <a:lnSpc>
                <a:spcPct val="100000"/>
              </a:lnSpc>
              <a:spcAft>
                <a:spcPts val="1001"/>
              </a:spcAft>
              <a:buClr>
                <a:srgbClr val="003399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MS PGothic"/>
              </a:rPr>
              <a:t>Enhancing observations to support preparedness and adaptation in a changing climate – Learning from the Fifth IPCC Assessment Report (AR5),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MS PGothic"/>
              </a:rPr>
              <a:t>February 2015, UNFCCC, Bonn, Germ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000" spc="-1" strike="noStrike">
                <a:solidFill>
                  <a:srgbClr val="003399"/>
                </a:solidFill>
                <a:latin typeface="Arial"/>
                <a:ea typeface="MS PGothic"/>
              </a:rPr>
              <a:t>One workshop on «Mitigation»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>
              <a:lnSpc>
                <a:spcPct val="100000"/>
              </a:lnSpc>
              <a:spcAft>
                <a:spcPts val="1001"/>
              </a:spcAft>
              <a:buClr>
                <a:srgbClr val="003399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MS PGothic"/>
              </a:rPr>
              <a:t>Observations for Climate Change Mitigation, May 2014, Geneva, Switzerl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ctr">
              <a:lnSpc>
                <a:spcPct val="100000"/>
              </a:lnSpc>
              <a:spcAft>
                <a:spcPts val="1001"/>
              </a:spcAft>
              <a:buClr>
                <a:srgbClr val="003399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MS PGothic"/>
              </a:rPr>
              <a:t>Reports available: gcos.wmo.int/public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703440" y="241200"/>
            <a:ext cx="80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</a:rPr>
              <a:t>GCOS workshops 2013-2015  to support GF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206280" y="2392200"/>
            <a:ext cx="8721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rmAutofit fontScale="20000"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GCOS Panel Meetings March – April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WCRP Task Force on Observations (result of JSC in April 201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GCOS Expert Meeting to draft the new Implementation Plan (6</a:t>
            </a:r>
            <a:r>
              <a:rPr b="1" lang="fr-CH" sz="2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th</a:t>
            </a: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 July 201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Common Future Conference 7 – 10 July, Par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358920" y="22320"/>
            <a:ext cx="8721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Current Key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le 1"/>
          <p:cNvSpPr/>
          <p:nvPr/>
        </p:nvSpPr>
        <p:spPr>
          <a:xfrm>
            <a:off x="122400" y="1774800"/>
            <a:ext cx="872172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Status Report goes for Public review … July-August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Organisation of the GCOS Science Con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800" spc="-1" strike="noStrike">
                <a:solidFill>
                  <a:srgbClr val="003399"/>
                </a:solidFill>
                <a:latin typeface="Arial"/>
                <a:ea typeface="Arial"/>
              </a:rPr>
              <a:t>GCOS Steering Committee 29 Sep – 1 Oct, Cape Town, R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358920" y="22320"/>
            <a:ext cx="8721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Key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693720" y="2583000"/>
            <a:ext cx="75582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50a0"/>
                </a:solidFill>
                <a:latin typeface="Arial"/>
                <a:ea typeface="Arial"/>
              </a:rPr>
              <a:t>GCOS International Science Conference –The Road to the Fu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50a0"/>
                </a:solidFill>
                <a:latin typeface="Arial"/>
                <a:ea typeface="Arial"/>
              </a:rPr>
              <a:t>(Shaping the next GCOS Implementation Pl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50a0"/>
                </a:solidFill>
                <a:latin typeface="Arial"/>
                <a:ea typeface="Arial"/>
              </a:rPr>
              <a:t>2 – 4 March 20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50a0"/>
                </a:solidFill>
                <a:latin typeface="Arial"/>
                <a:ea typeface="Arial"/>
              </a:rPr>
              <a:t>Royal Academy of Arts and Sciences, Amsterdam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50a0"/>
                </a:solidFill>
                <a:latin typeface="Arial"/>
                <a:ea typeface="Arial"/>
              </a:rPr>
              <a:t>The Nether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H" sz="1800" spc="-1" strike="noStrike">
                <a:solidFill>
                  <a:srgbClr val="ff0000"/>
                </a:solidFill>
                <a:latin typeface="Arial"/>
                <a:ea typeface="Arial"/>
              </a:rPr>
              <a:t>Infos: gcos.wmo.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il to organising committee: </a:t>
            </a:r>
            <a:r>
              <a:rPr b="0" lang="en-GB" sz="1800" spc="-1" strike="noStrike" u="sng">
                <a:solidFill>
                  <a:srgbClr val="fc0128"/>
                </a:solidFill>
                <a:uFillTx/>
                <a:latin typeface="Arial"/>
                <a:ea typeface="Arial"/>
                <a:hlinkClick r:id="rId1"/>
              </a:rPr>
              <a:t>GCOS-SC@eumetsat.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776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rcRect l="12000" t="37317" r="55858" b="49771"/>
          <a:stretch/>
        </p:blipFill>
        <p:spPr>
          <a:xfrm>
            <a:off x="1058760" y="960480"/>
            <a:ext cx="646452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8:03:05Z</dcterms:created>
  <dc:creator>Robert Hine</dc:creator>
  <dc:description/>
  <dc:language>en-US</dc:language>
  <cp:lastModifiedBy>Carolin Richter</cp:lastModifiedBy>
  <cp:lastPrinted>2015-06-18T08:32:18Z</cp:lastPrinted>
  <dcterms:modified xsi:type="dcterms:W3CDTF">2015-06-26T12:16:50Z</dcterms:modified>
  <cp:revision>1790</cp:revision>
  <dc:subject/>
  <dc:title>PowerPoint Presentation</dc:title>
</cp:coreProperties>
</file>