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6474-6B47-40DA-B709-13B35B3A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D279-97B1-4D79-8210-9B63B5B8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B27-5611-4D65-9C0F-1E8803D0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839-2FE0-4E92-8803-B4FDAF1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0A5D-EA8A-4EBE-98C5-CB318AC2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ECE-620B-498B-85E9-1A030F86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DB0-F297-4705-BE89-C5FAD68A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193-948D-43D8-88B3-48446AD1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0349-4364-4875-9702-C9DC2AD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7685-C117-4E6F-915E-3F9A9650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901-7842-458B-91D4-68BF7DAE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2E70-E5E8-4B6B-9E46-8F5AC45E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8D9-EF6D-41F1-9252-AB5C77B2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7CF-0ED8-4743-9423-F22EDC08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8E0E-8D9B-4FB6-AE1B-2EDE681C1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eos.org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2-3, 20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GCOS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participating in WDAC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hanks to ECMWF for hosting this meeting and to Jean-Noël Thépaut and his staff for local prepa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genda is very, very full, so please respect the tim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240" y="1844280"/>
            <a:ext cx="8915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ernicus CDS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SC36 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Response /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CRP – G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quality assessment best practices/guidelines – GEWEX draft report review and discussion -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s4M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eview of current status and new dataset i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4M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mit to quantities used for mode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nalysis Task Team – TIRA white paper, CREATE-IP, S-RI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System reanalysis propos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Flux Task Team Formation – ToR, membe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c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–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CV Invent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atu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CRP-GCO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ata Pr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Agenda_WDAC4 v6 p1.pdf"/>
          <p:cNvPicPr/>
          <p:nvPr/>
        </p:nvPicPr>
        <p:blipFill>
          <a:blip r:embed="rId1"/>
          <a:stretch/>
        </p:blipFill>
        <p:spPr>
          <a:xfrm>
            <a:off x="1324080" y="1844640"/>
            <a:ext cx="3103560" cy="439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Agenda_WDAC4 v6 p2.pdf"/>
          <p:cNvPicPr/>
          <p:nvPr/>
        </p:nvPicPr>
        <p:blipFill>
          <a:blip r:embed="rId2"/>
          <a:stretch/>
        </p:blipFill>
        <p:spPr>
          <a:xfrm>
            <a:off x="4572000" y="1844640"/>
            <a:ext cx="31035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24000" y="1989000"/>
            <a:ext cx="835164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FLUXE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. Development of ToR and membership of a Flux Task Team to address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ＭＳ 明朝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(Clayson - lead, Mathieu, Ward, Schulz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EB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2. Add link to WG Climate (</a:t>
            </a: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ea typeface="ＭＳ 明朝"/>
                <a:hlinkClick r:id="rId1"/>
              </a:rPr>
              <a:t>www.ceos.o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 on WDAC page (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3. Update ToRs to reflect WG Climate (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GEO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4. Register ESGF/COG as GEO resource (Rixen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29040" y="5743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989000"/>
            <a:ext cx="871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REANALYSI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5. Check hosting Reanalysis.org web page (Rixen, Bosilovich, Compo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6. Circulate CORE-CLIMAX draft report to WDAC when ready (Thépaut/Poli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7. Draft white/concept paper on a RIP, S-RIP+CORE-CLIMAX effort as a potential basis (Bosilovich, mid-summ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8. WDAC4 to consider a focused reanalysis session (co-chairs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9. Check BADC format of S-RIP (Sato, Gleckle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0. S-RIP to liaise with ana4mips and forward WDAC3 relevant obs4MIPs and ana4MIPS briefs (Sato/SPARC, Gleckler, Bosilovich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1. Forward any support requirement for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Input obs for reanalysis workshop (2015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to WCRP (Thépaut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2. Start planning 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ＭＳ 明朝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International Reanalysis Conference (Bosilovich, Thépaut/ Poli, Rixen)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34800" y="57675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3 Recs/Actions [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324000" y="19890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SSESSMENT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3. Best practice report: include obs4mips section (Gleckler, Schulz)*, review (WDAC), circulate to core projects and GCOS panels for final approval (Rixen)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OPEN ACCESS AND DOI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4. Open access and DOI (Rixen to draft text for WDAC report to JSC35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AOB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5. Contact OOPC regarding rationale and need to highlight resource needs for TAO array, ARGO and TPOS2020 recommendations (Rixen, Husband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34800" y="57675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6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2171880"/>
          <a:ext cx="7772400" cy="1006200"/>
        </p:xfrm>
        <a:graphic>
          <a:graphicData uri="http://schemas.openxmlformats.org/drawingml/2006/table">
            <a:tbl>
              <a:tblPr/>
              <a:tblGrid>
                <a:gridCol w="357120"/>
                <a:gridCol w="865080"/>
                <a:gridCol w="4176720"/>
                <a:gridCol w="1440000"/>
                <a:gridCol w="933480"/>
              </a:tblGrid>
              <a:tr h="136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23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7.3 WDAC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ake data issues more prominent within WCRP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evelop ideas and plans for a data prize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Work with GCOS to expand ECVs in useful direction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Establish a WCRP-wide open data policy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Refine and clarify the earth system reanalysis concept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, with JPS and GCO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Summer 2015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5-07-01T15:57:52Z</dcterms:modified>
  <cp:revision>6</cp:revision>
  <dc:subject/>
  <dc:title>WCRP  Data Advisory Council  July 2-3, 2015 Overview</dc:title>
</cp:coreProperties>
</file>