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85E-D0B4-4468-8AA1-AE11AEFA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685D-5B29-4502-BEB7-295A22753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4B0-1B05-4614-9931-A4261B46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DD9-B8CC-41FB-8D01-58E4F61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CC9-49C2-40A6-85A1-CCCA2C15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21F-479A-47C2-A5AB-03C7C1B9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B79-6FB0-400D-96B5-14974B4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55F-78D5-4389-80D6-C4E1DD2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81C-F687-464F-8D9C-80F68B03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4BF-69DE-4AEB-95DA-CA2BB5DF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486-CEBE-4167-9BA7-16ED23B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49D-6653-4F84-981D-467CA18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5E5-20B7-48B9-9D92-CB192C4A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286-E1A7-4892-A222-0B27AE0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C8A6-954D-4EA6-96AB-B64D3D68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eos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2-3, 20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ctions for you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0464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ut together a summary of actions for your input and approva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s the last item on our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 as a single entry point for all WCRP data, information, and observation activities with its sister programm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their high-level aspects across the WCR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cooperation with main WCRP partners such as GCOS, CEOS, CGMS and other observing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DAC works with the WCRP Modeling Advisory Council to promote effective use of observations with models and to address issues related to the coordinated development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ata assimilation, reanalysis, Observing System Sampling Experiments, fluxes and paleoclimatic data and their assess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etric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5720" y="1371600"/>
            <a:ext cx="670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CRP Data Advisory Council 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(WDAC)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participating in WDAC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hanks to ECMWF for hosting this meeting and to Jean-Noël Thépaut and his staff for local prepa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genda is very, very full, so please respect the time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240" y="1844280"/>
            <a:ext cx="8915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ernicus CDS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SC36 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Response /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CRP – G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quality assessment best practices/guidelines – GEWEX draft report review and discussion -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s4M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view of current status and new dataset i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4M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mit to quantities used for mode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nalysis Task Team – TIRA white paper, CREATE-IP, S-RI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ystem reanalysis propo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Flux Task Team Formation – ToR, membe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–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CV Invent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atu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CRP-G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ata P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Agenda_WDAC4 v6 p1.pdf"/>
          <p:cNvPicPr/>
          <p:nvPr/>
        </p:nvPicPr>
        <p:blipFill>
          <a:blip r:embed="rId1"/>
          <a:stretch/>
        </p:blipFill>
        <p:spPr>
          <a:xfrm>
            <a:off x="1324080" y="1844640"/>
            <a:ext cx="310356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Agenda_WDAC4 v6 p2.pdf"/>
          <p:cNvPicPr/>
          <p:nvPr/>
        </p:nvPicPr>
        <p:blipFill>
          <a:blip r:embed="rId2"/>
          <a:stretch/>
        </p:blipFill>
        <p:spPr>
          <a:xfrm>
            <a:off x="4572000" y="1844640"/>
            <a:ext cx="3103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Recs/Actions [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24000" y="1989000"/>
            <a:ext cx="835164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FLUXE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. Development of ToR and membership of a Flux Task Team to addres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ＭＳ 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Clayson - lead, Mathieu, Ward, Schulz, Gleckl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EB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2. Add link to WG Climate (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ea typeface="ＭＳ 明朝"/>
                <a:hlinkClick r:id="rId1"/>
              </a:rPr>
              <a:t>www.ceos.o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 on WDAC page (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3. Update ToRs to reflect WG Climate (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GEO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4. Register ESGF/COG as GEO resource (Rixen, Gleckl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29040" y="57434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Recs/Actions [2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24000" y="1989000"/>
            <a:ext cx="87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REANALYSI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5. Check hosting Reanalysis.org web page (Rixen, Bosilovich, Compo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6. Circulate CORE-CLIMAX draft report to WDAC when ready (Thépaut/Poli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7. Draft white/concept paper on a RIP, S-RIP+CORE-CLIMAX effort as a potential basis (Bosilovich, mid-summ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8. WDAC4 to consider a focused reanalysis session (co-chairs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9. Check BADC format of S-RIP (Sato, Gleckl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0. S-RIP to liaise with ana4mips and forward WDAC3 relevant obs4MIPs and ana4MIPS briefs (Sato/SPARC, Gleckler, Bosilovich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1. Forward any support requirement for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nput obs for reanalysis workshop (2015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to WCRP (Thépaut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2. Start planning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International Reanalysis Conference (Bosilovich, Thépaut/ Poli, Rixen)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34800" y="576756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Recs/Actions [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324000" y="1989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SSESSMENT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3. Best practice report: include obs4mips section (Gleckler, Schulz)*, review (WDAC), circulate to core projects and GCOS panels for final approval (Rixen)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PEN ACCESS AND DOI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4. Open access and DOI (Rixen to draft text for WDAC report to JSC35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OB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5. Contact OOPC regarding rationale and need to highlight resource needs for TAO array, ARGO and TPOS2020 recommendations (Rixen, Husband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34800" y="576756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6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171880"/>
          <a:ext cx="7772400" cy="1006200"/>
        </p:xfrm>
        <a:graphic>
          <a:graphicData uri="http://schemas.openxmlformats.org/drawingml/2006/table">
            <a:tbl>
              <a:tblPr/>
              <a:tblGrid>
                <a:gridCol w="357120"/>
                <a:gridCol w="865080"/>
                <a:gridCol w="4176720"/>
                <a:gridCol w="1440000"/>
                <a:gridCol w="933480"/>
              </a:tblGrid>
              <a:tr h="136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23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7.3 WDAC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Make data issues more prominent within WCRP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Develop ideas and plans for a data prize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Work with GCOS to expand ECVs in useful direction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Establish a WCRP-wide open data policy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Refine and clarify the earth system reanalysis concept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, with JPS and GCO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Summer 2015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Otis Brown</cp:lastModifiedBy>
  <cp:lastPrinted>2008-10-29T15:33:33Z</cp:lastPrinted>
  <dcterms:modified xsi:type="dcterms:W3CDTF">2015-07-01T15:57:52Z</dcterms:modified>
  <cp:revision>6</cp:revision>
  <dc:subject/>
  <dc:title>WCRP  Data Advisory Council  July 2-3, 2015 Overview</dc:title>
</cp:coreProperties>
</file>