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10691813" cy="7562850"/>
  <p:notesSz cx="10691813" cy="7562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10692000" cy="75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3" name="PlaceHolder 1"/>
          <p:cNvSpPr>
            <a:spLocks noGrp="1"/>
          </p:cNvSpPr>
          <p:nvPr>
            <p:ph type="hdr"/>
          </p:nvPr>
        </p:nvSpPr>
        <p:spPr>
          <a:xfrm>
            <a:off x="0" y="0"/>
            <a:ext cx="4633920" cy="378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PlaceHolder 2"/>
          <p:cNvSpPr>
            <a:spLocks noGrp="1"/>
          </p:cNvSpPr>
          <p:nvPr>
            <p:ph type="dt" idx="39"/>
          </p:nvPr>
        </p:nvSpPr>
        <p:spPr>
          <a:xfrm>
            <a:off x="6057720" y="0"/>
            <a:ext cx="4632120" cy="3780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2B6E4-FAC8-4C91-ADCE-26F0E6CC01E0}"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535" name="PlaceHolder 3"/>
          <p:cNvSpPr>
            <a:spLocks noGrp="1"/>
          </p:cNvSpPr>
          <p:nvPr>
            <p:ph type="sldImg"/>
          </p:nvPr>
        </p:nvSpPr>
        <p:spPr>
          <a:xfrm>
            <a:off x="3341160" y="566640"/>
            <a:ext cx="4010040" cy="283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536" name="PlaceHolder 4"/>
          <p:cNvSpPr>
            <a:spLocks noGrp="1"/>
          </p:cNvSpPr>
          <p:nvPr>
            <p:ph type="body"/>
          </p:nvPr>
        </p:nvSpPr>
        <p:spPr>
          <a:xfrm>
            <a:off x="1069920" y="3592080"/>
            <a:ext cx="8553600" cy="3403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0" y="7183440"/>
            <a:ext cx="4633920" cy="378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PlaceHolder 6"/>
          <p:cNvSpPr>
            <a:spLocks noGrp="1"/>
          </p:cNvSpPr>
          <p:nvPr>
            <p:ph type="sldNum" idx="41"/>
          </p:nvPr>
        </p:nvSpPr>
        <p:spPr>
          <a:xfrm>
            <a:off x="6057720" y="7183440"/>
            <a:ext cx="4632120" cy="3780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FA3F5-84E3-4F05-8E21-FDAEC6B8AF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three of the key questions for CMIP6 through regional simulations with different climate forcings (CMIP Key Question 1), evaluation of physical processes affecting added value and biases in the downscaled results (CMIP Key Question 2) and characterization of the impact of unforced variability, both internally generated and via ensemble boundary conditions, on the ratio of regional climate change signals versus the noise of unforced variability (CMIP Key Question 3).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irical Probability Density Function (PDF, i.e. frequency vs. intensity) of daily precipitation events over a West Africa region [73] in: simulations with the regional climate model RegCM4 (50 km grid spacing) driven by the global models MPI and HadGCM (see [73] for details on the models), coarse scale (GPCP, 1.0° [74]) and fine scale (TRMM, 0.25° [75]) observations. Data are for the historical period 1976-2005 in the models, 1996-2004 for GPCP and 1998-2009 for TRMM. The figure is adapted from [7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341520" y="566640"/>
            <a:ext cx="4010040" cy="2836800"/>
          </a:xfrm>
          <a:prstGeom prst="rect">
            <a:avLst/>
          </a:prstGeom>
          <a:ln w="0">
            <a:noFill/>
          </a:ln>
        </p:spPr>
      </p:sp>
      <p:sp>
        <p:nvSpPr>
          <p:cNvPr id="581" name="PlaceHolder 2"/>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AS sent by A.P. Dimri on Indian Summer Monsoon. All okey except that the proposed reviewers are both from the same institution in India so maybe a bit bia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 sent by Piet Termonia on gathering Belgian regional downscaling expertise. All okey but a bit longer application than expected and perhaps the reviewers should be reconsid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NAM sent by Andrew Ireson on Cold regions LSS model intercomparison.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MED sent by Stefan Sobolowski on Convective phenomena.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 sent by Diana Rechid on Impact of land use changes on climate.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AM sent by Maria Bettolli on Extreme precipitation events.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FR sent by Chris Lennard on Assessing impact of global warming targets.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D sent by Solomon Fabien on the Role of the natural an anthropogenic aerosols. All okey</a:t>
            </a:r>
            <a:endParaRPr b="0" lang="en-US" sz="1200" spc="-1" strike="noStrike">
              <a:solidFill>
                <a:srgbClr val="000000"/>
              </a:solidFill>
              <a:latin typeface="Calibri"/>
            </a:endParaRPr>
          </a:p>
        </p:txBody>
      </p:sp>
      <p:sp>
        <p:nvSpPr>
          <p:cNvPr id="582" name="Slide Number Placeholder 3"/>
          <p:cNvSpPr/>
          <p:nvPr/>
        </p:nvSpPr>
        <p:spPr>
          <a:xfrm>
            <a:off x="6058080" y="718344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4BF9B-1D6E-4841-ABF3-9B54DFFB4C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3341520" y="566640"/>
            <a:ext cx="4010040" cy="2836800"/>
          </a:xfrm>
          <a:prstGeom prst="rect">
            <a:avLst/>
          </a:prstGeom>
          <a:ln w="0">
            <a:noFill/>
          </a:ln>
        </p:spPr>
      </p:sp>
      <p:sp>
        <p:nvSpPr>
          <p:cNvPr id="584" name="PlaceHolder 2"/>
          <p:cNvSpPr>
            <a:spLocks noGrp="1"/>
          </p:cNvSpPr>
          <p:nvPr>
            <p:ph type="body"/>
          </p:nvPr>
        </p:nvSpPr>
        <p:spPr>
          <a:xfrm>
            <a:off x="1069920" y="3592080"/>
            <a:ext cx="8553600" cy="3403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Slide Number Placeholder 3"/>
          <p:cNvSpPr/>
          <p:nvPr/>
        </p:nvSpPr>
        <p:spPr>
          <a:xfrm>
            <a:off x="6058080" y="718344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C69AA-BF46-4A13-8C72-CCD0411B86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616344B-0723-4045-8640-DF813FF04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C951992-15EB-41FD-B001-4CB746750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7"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80AFE4-DA65-48E1-BE4E-F090CDFA8E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1E54DD-1700-4530-8A3F-96CF8D4952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C3D248-124C-4815-9F60-0DB6B023F7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4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B4FA9E-760A-430D-96EA-A519F3C1854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46"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0BDA68-75F9-4564-B6F1-3F271F65EDA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FBCCA5-4C24-4847-968F-A5F8E5EDA0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4"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AF990F-7019-4383-9EB0-FBBFFEEDFD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6F36BC-707E-4ABF-B87A-87E5F0B7FDE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62"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EC52378-A5F0-4800-B821-56AF01EFB7B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8C10BC4-A951-4206-987F-6BAD50BA3EB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B0E1963-B271-4261-B1EF-C46D410A105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4"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D223F7-66C1-442E-980F-5FBA2B32CCC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6"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8CEDFE6-C9DA-40C3-B63B-C177A01EA12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8"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A6053BB-6EF7-4368-8A3A-1A6A7ACD63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7D392B6-7083-4AD1-B337-1273D42FE75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2D483B1-F189-4932-ADA3-5B557FA91B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8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6CED54-FA6B-41A8-8E4B-6C82925FEF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87"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CAE89F-DCB6-466A-AEF2-1EE14E7435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60BA6F-0F98-4E36-A7F9-28E18A35FD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5"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2E31B9C-8B3C-4EC3-A7D2-EC489A236A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7DD083A-4A2F-40C4-A1AF-C26D87784E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A2822F7-5862-4B6A-A512-D4B50BEDDE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03"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1A09661-AA96-420D-84CE-B26ECDE8B36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E1F0DA3-1FC5-4780-A6C7-2A3022AB2AC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5"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E383E84-E93F-4F94-812F-60E23B41D8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7"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9EA8DDE-F216-48D5-8EC6-653625952B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0C3FEB5-0D6C-47A5-935B-53C5A4D5C5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0BB45B-75D1-4DEF-91A6-3F91BD8C2A4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11C2B7-816E-41AC-AC67-0CCE63956ED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2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1C2D35-1A1C-4918-81B7-AC0F2FF076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28"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354582-DE06-40EA-A2FB-F935067B866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0A7DD2-2693-4776-BF4D-D1C59ED9D1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3E292D-D62A-468D-8ACE-14F072ECEED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6"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F8557DD-A891-4DCC-B51E-E41FC8F191F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4EBD18-D955-4085-8D2C-C46202B63F6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44"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91FEE34-2F55-4D69-B254-13655935160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CA49DAB-6561-4745-9C87-A08E14076B3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5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4DE3DE4-027C-41D7-A014-0AB3D7AAD7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5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17B74D1-5EB0-48DD-9884-1CF24BF9974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C738E93-7F77-4E30-A7EE-70B931C578E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276C7EB-838F-4C4D-B92E-50DD27A2D2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4CF0E4-8A94-416D-86E4-09C1482EB92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F583586-8672-4B80-8C4A-01930789F83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5"/>
          </p:nvPr>
        </p:nvSpPr>
        <p:spPr/>
        <p:txBody>
          <a:bodyPr/>
          <a:p>
            <a:fld id="{AAF8F110-BDAE-43F1-94B7-8586DD5D8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E84B6A-5FF8-4757-9544-2CFA32EEFF3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4ED6CC9-E25D-425B-9E1A-9522377135B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038AD7-35AF-4EA0-AF15-ED95AEAC1F1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34A8046-9413-444E-8513-3A691B065C1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AD2F314-5F45-4489-B6F5-5669D30FF1F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6421382-9D3E-4C09-9C86-9AFC9C1B753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7"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2A21CAB-34B4-48A4-BA09-34C7C1DE73A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9"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DA106CB-D0A4-41B1-8D04-E074CB042D2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C431246-7895-4EC8-983C-4E6F9BF8FF6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EC6D34E-DBC6-4BF9-978F-80439EA8315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5"/>
          </p:nvPr>
        </p:nvSpPr>
        <p:spPr/>
        <p:txBody>
          <a:bodyPr/>
          <a:p>
            <a:fld id="{8A4B0292-5C10-431F-B9BD-44F06D2D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C038FCC-17E1-4778-8A20-D644E31CDB2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8191B36-500C-44F0-A138-D4418FBEC3E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8D652AF-A3DB-498B-8868-A8CEA1387BC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7E36A27-F0E1-4D1D-B724-C982FBED2A7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8"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027B4B3-0F0C-462B-9AD1-02C9F26C6A8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158B484-8D7B-4DAF-9F67-6E37E59704E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6"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D401D60-DF35-4F61-B593-054E322F045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5"/>
          </p:nvPr>
        </p:nvSpPr>
        <p:spPr/>
        <p:txBody>
          <a:bodyPr/>
          <a:p>
            <a:fld id="{2230D132-D464-45BE-AA84-278B4F0EF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ldNum" idx="5"/>
          </p:nvPr>
        </p:nvSpPr>
        <p:spPr/>
        <p:txBody>
          <a:bodyPr/>
          <a:p>
            <a:fld id="{8360783D-8836-4DD1-857B-0D125CC82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B542ABDC-F51B-4FEE-B4AD-ADF07677A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9CA0B9A1-70BC-4D70-AF03-68FEFBC44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7F9DDB5-4AA2-4B19-8E0E-BC6ADB6B6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5F38BA6D-94BB-43A6-B493-06AB340AD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16E025CA-845B-4B3A-882E-5D3FE336E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5"/>
          </p:nvPr>
        </p:nvSpPr>
        <p:spPr/>
        <p:txBody>
          <a:bodyPr/>
          <a:p>
            <a:fld id="{9D00E354-0584-4272-9EB7-3CBE59788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5"/>
          </p:nvPr>
        </p:nvSpPr>
        <p:spPr/>
        <p:txBody>
          <a:bodyPr/>
          <a:p>
            <a:fld id="{42A36306-4F34-4A48-8440-B1C6A1A2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5"/>
          </p:nvPr>
        </p:nvSpPr>
        <p:spPr/>
        <p:txBody>
          <a:bodyPr/>
          <a:p>
            <a:fld id="{4D52B38C-E3C8-47C7-A0C4-C9BDC213B6E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4AE4F9-1F9E-4719-931B-755A176D10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7"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034F9A-6F0C-4592-BFA5-9BA9CF4402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9"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87056F-7FB7-411E-91E5-97D8D6AE17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F77409-7D14-4A01-8E6E-33B2163798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A4AC00-8280-418B-9996-4460BDE7A6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C3DAF9F-CAEE-4C4A-B514-BFC3182B8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5276AE-5DD5-451C-86A5-642FBD03C8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62CE61-68B6-47D1-A0B7-3EF036EE57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2376C3-E116-4F2F-B236-EB459ECA6B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E1A54A-B395-4DE8-9E98-F4C0C4880F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8"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C6E17E-9877-4A2A-BF4B-CF73A53E27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A9197B-73C4-49F6-BD7E-21A5A859A5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6"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10854C-8A48-4A31-92EA-6DCD4E98BCA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7DE679-5561-4A03-BA26-B3525EACA6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8"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A55839-6E16-4710-8DDB-FE29CD9E58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0"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6E35B2-F79D-4BD9-84BA-CFAD44DC9B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D22A599-D64A-4E82-BD7D-4AC1E1833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2"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8A6024-B13A-4A16-B031-E2B16F051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8D2DF6-8AFE-4DD3-9300-0347D03EEC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3EFD09-1571-4C0C-B6D7-50A97429AF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4059D0-823D-4500-B003-AEBAB5AE06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E3AAAB-027E-4AD5-B0F8-E71F1CF909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D1590F-731A-4771-8162-57FBA10D4B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9"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F80A95-5228-4F01-A024-91AFEF0B7B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77C229-DBF1-4815-B76B-0514C45B96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7"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160554-72D4-4B01-9897-096962FE7D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7712E4C-E325-4B93-96F3-99F618DCD1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487F569-5DED-49BA-BA66-DDEAB44DA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9"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AC6EAC-4325-4BDD-A67B-E2EB756373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1"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196A68-53E4-4A11-9274-CA69CEFFD8D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3"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059AFB-AD7C-4CE8-BC5C-9AC78F8B63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5C29E3-E190-460E-8A77-E3AC693D7E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CAB854-7C1A-4C5B-8ABB-176CDC1B20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4C762F-785B-495C-9CCE-C5ABB6A582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82"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CF650F-9093-4FC4-97EC-DC4C73CDEE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8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A43D4F-6285-4A36-A48A-69A0AC0F94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0"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FC2D6A9-F12B-42FB-97D2-CCEB2A13A3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D29781-86C3-49A8-BABE-0D51D495F9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4FA406F-5982-4CE3-84CE-F5744EBD3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8"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81C3C26-66CE-4538-A853-9514395C3F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F53CC15-F00D-4564-B8D6-4F2DDD17152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0"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F033FC-B9D9-4989-B481-FADCE36695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2"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5823D7-CBB7-4C25-AB1F-60FFB63B9C8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4"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01A9F9-57FE-4B99-BB64-EFDEF7BC93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0D8122-6353-4F9B-B13C-75C6B560557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18D452-2410-4273-9ED7-0CB34939CD7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4FDCEA-FC6D-4805-8C1A-4237EFBE93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23"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B42322-9568-43FF-B330-161C67D4B3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2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A1B5B5-C3AB-402E-8EAC-8E22082BA0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32C72C3-552B-4EE1-9750-FF6A350D8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1"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DBE974-23D8-4FE3-9533-85994EF193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59892ED-25B1-4903-9A3B-C914EC5378E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9"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F8649C-4C9F-425F-A10A-51F86A2A7F6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82E8DC5-1002-4FA0-9E52-204F917DAC4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1"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72D0B6-0E26-4666-9253-B541E3B745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3"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795DF81-2389-4D99-94A7-0DF3645D4E0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5"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F29E9A9-B46E-4AEB-A6C1-89ADD8D967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C5C7A0-362A-4197-AC98-D428C8046C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E84D73-DAC1-433A-A844-2414D3B51B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28F95B-D2B0-4C73-978F-CBEB3B4370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6D553EE-4B72-45C6-BA45-FB122486A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4"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937389-E4C9-44D2-88E4-244602A9F2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B67DED-1530-4D39-BBF9-95E2FE84D7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2"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B520ED-BA34-4FC3-A6A6-0F202E9EA0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F84A56-F393-4B09-B54A-F3D2EC8749E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80"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478CF2A-44C7-4427-B3FC-1E61A2E047B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24D3D5-0195-46BC-8F50-BC13BA44A7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2"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74842E5-7795-486F-8B55-4BBB659ED0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4"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E29F53-99BF-47F5-AAAE-124F41D1CB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6"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A68EA0-F286-4EDF-A903-DB97669AEB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F69617-6F23-4571-BA2A-1AB317D692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DB0DC4F-A7EB-4271-B155-BEB83F089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65A545-2806-4FF2-9738-87AB044F10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7E63B5-94AE-4462-98A0-675700A9A3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5"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6D4F1F-15ED-4764-A21C-BFB2FE64BB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75AEBA-7A45-4273-BC9D-6BE3C12EE7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13"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F23E9F-E98D-4050-A87D-C16C411DF1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1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A2FA745-0B8C-41F8-AE9B-3EE41E38EEC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1"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9E8314-6346-4DC8-AB9E-D40C3B721C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9065E34-D523-4D23-8178-F9BD93D787C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3"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56878E-3174-4A30-84F1-BD245CB517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5"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3DB2CE-C668-40F1-8FF4-E1DA91C5773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841320" y="1477800"/>
            <a:ext cx="9010800" cy="517536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635280" y="7034040"/>
            <a:ext cx="3422880" cy="378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34600" y="7034040"/>
            <a:ext cx="2459160" cy="378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3C4F4-2AAF-400C-886D-F6D3065C12B8}" type="datetime">
              <a:rPr b="0" lang="en-US" sz="1800" spc="-1" strike="noStrike">
                <a:solidFill>
                  <a:srgbClr val="898989"/>
                </a:solidFill>
                <a:latin typeface="Calibri"/>
              </a:rPr>
              <a:t>07/30/26</a:t>
            </a:fld>
            <a:endParaRPr b="0" lang="en-US" sz="1800" spc="-1" strike="noStrike">
              <a:solidFill>
                <a:srgbClr val="000000"/>
              </a:solidFill>
              <a:latin typeface="Calibri"/>
            </a:endParaRPr>
          </a:p>
        </p:txBody>
      </p:sp>
      <p:sp>
        <p:nvSpPr>
          <p:cNvPr id="4" name="PlaceHolder 5"/>
          <p:cNvSpPr>
            <a:spLocks noGrp="1"/>
          </p:cNvSpPr>
          <p:nvPr>
            <p:ph type="sldNum" idx="3"/>
          </p:nvPr>
        </p:nvSpPr>
        <p:spPr>
          <a:xfrm>
            <a:off x="7698960" y="7034040"/>
            <a:ext cx="2459160" cy="378000"/>
          </a:xfrm>
          <a:prstGeom prst="rect">
            <a:avLst/>
          </a:prstGeom>
          <a:noFill/>
          <a:ln w="0">
            <a:noFill/>
          </a:ln>
        </p:spPr>
        <p:txBody>
          <a:bodyPr lIns="0" rIns="0" tIns="0" bIns="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8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21652-5579-4AC6-B799-A8634BED6AF5}" type="slidenum">
              <a:rPr b="0" lang="en-GB"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369"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70" name="PlaceHolder 3"/>
          <p:cNvSpPr>
            <a:spLocks noGrp="1"/>
          </p:cNvSpPr>
          <p:nvPr>
            <p:ph type="dt" idx="27"/>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B2155-EE6E-4867-8297-2AECF3DC2C73}"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371" name="PlaceHolder 4"/>
          <p:cNvSpPr>
            <a:spLocks noGrp="1"/>
          </p:cNvSpPr>
          <p:nvPr>
            <p:ph type="ftr" idx="28"/>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35757-3B0B-4EF1-927E-96B0857EA8BD}"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10"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11" name="PlaceHolder 3"/>
          <p:cNvSpPr>
            <a:spLocks noGrp="1"/>
          </p:cNvSpPr>
          <p:nvPr>
            <p:ph type="dt" idx="30"/>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93A83-7742-4776-A249-46ADCFB3CB01}"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412" name="PlaceHolder 4"/>
          <p:cNvSpPr>
            <a:spLocks noGrp="1"/>
          </p:cNvSpPr>
          <p:nvPr>
            <p:ph type="ftr" idx="31"/>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883CC-C832-47D7-B604-FC1D67ABBFB4}"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51"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52" name="PlaceHolder 3"/>
          <p:cNvSpPr>
            <a:spLocks noGrp="1"/>
          </p:cNvSpPr>
          <p:nvPr>
            <p:ph type="dt" idx="33"/>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764DF-23BF-434A-9B80-3DE7A646935C}"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453" name="PlaceHolder 4"/>
          <p:cNvSpPr>
            <a:spLocks noGrp="1"/>
          </p:cNvSpPr>
          <p:nvPr>
            <p:ph type="ftr" idx="34"/>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C2BCC-3B16-46C7-99C3-8C8D1F5C0B73}"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9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93" name="PlaceHolder 3"/>
          <p:cNvSpPr>
            <a:spLocks noGrp="1"/>
          </p:cNvSpPr>
          <p:nvPr>
            <p:ph type="dt" idx="36"/>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B4FEA-E4C5-4A10-A004-AF16EECC6554}"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494" name="PlaceHolder 4"/>
          <p:cNvSpPr>
            <a:spLocks noGrp="1"/>
          </p:cNvSpPr>
          <p:nvPr>
            <p:ph type="ftr" idx="37"/>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PlaceHolder 5"/>
          <p:cNvSpPr>
            <a:spLocks noGrp="1"/>
          </p:cNvSpPr>
          <p:nvPr>
            <p:ph type="sldNum" idx="38"/>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BE21B-9805-4DB9-A1EC-03DDC76B8B6C}"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3" name="PlaceHolder 3"/>
          <p:cNvSpPr>
            <a:spLocks noGrp="1"/>
          </p:cNvSpPr>
          <p:nvPr>
            <p:ph type="dt" idx="4"/>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7662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8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83" name="PlaceHolder 3"/>
          <p:cNvSpPr>
            <a:spLocks noGrp="1"/>
          </p:cNvSpPr>
          <p:nvPr>
            <p:ph type="dt" idx="6"/>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4"/>
          <p:cNvSpPr>
            <a:spLocks noGrp="1"/>
          </p:cNvSpPr>
          <p:nvPr>
            <p:ph type="ftr" idx="7"/>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8C616-1F69-45F4-8D31-F9DE213BAF80}"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23"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124" name="PlaceHolder 3"/>
          <p:cNvSpPr>
            <a:spLocks noGrp="1"/>
          </p:cNvSpPr>
          <p:nvPr>
            <p:ph type="dt" idx="9"/>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PlaceHolder 4"/>
          <p:cNvSpPr>
            <a:spLocks noGrp="1"/>
          </p:cNvSpPr>
          <p:nvPr>
            <p:ph type="ftr" idx="10"/>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34C10-5E95-414E-B01E-D3DD1E7F79A8}"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64"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165" name="PlaceHolder 3"/>
          <p:cNvSpPr>
            <a:spLocks noGrp="1"/>
          </p:cNvSpPr>
          <p:nvPr>
            <p:ph type="dt" idx="12"/>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4"/>
          <p:cNvSpPr>
            <a:spLocks noGrp="1"/>
          </p:cNvSpPr>
          <p:nvPr>
            <p:ph type="ftr" idx="13"/>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01556-4CCC-463F-A550-A058EA1535CC}"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05"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06" name="PlaceHolder 3"/>
          <p:cNvSpPr>
            <a:spLocks noGrp="1"/>
          </p:cNvSpPr>
          <p:nvPr>
            <p:ph type="dt" idx="15"/>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PlaceHolder 4"/>
          <p:cNvSpPr>
            <a:spLocks noGrp="1"/>
          </p:cNvSpPr>
          <p:nvPr>
            <p:ph type="ftr" idx="16"/>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78EBB-1C82-4AA6-84B0-2643D26B42B8}"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46"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47" name="PlaceHolder 3"/>
          <p:cNvSpPr>
            <a:spLocks noGrp="1"/>
          </p:cNvSpPr>
          <p:nvPr>
            <p:ph type="dt" idx="18"/>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13B3B-E6C6-485E-B0C4-F28BFBD92ABE}"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248" name="PlaceHolder 4"/>
          <p:cNvSpPr>
            <a:spLocks noGrp="1"/>
          </p:cNvSpPr>
          <p:nvPr>
            <p:ph type="ftr" idx="19"/>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9264E-8DAE-4AC5-AC29-5E8DCE5A2D27}"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87"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88" name="PlaceHolder 3"/>
          <p:cNvSpPr>
            <a:spLocks noGrp="1"/>
          </p:cNvSpPr>
          <p:nvPr>
            <p:ph type="dt" idx="21"/>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B4CB5-38C4-411C-9C27-CE03764F68A8}"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289" name="PlaceHolder 4"/>
          <p:cNvSpPr>
            <a:spLocks noGrp="1"/>
          </p:cNvSpPr>
          <p:nvPr>
            <p:ph type="ftr" idx="22"/>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BD545-CED6-429F-96A9-EA9749A83A5B}"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328"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29" name="PlaceHolder 3"/>
          <p:cNvSpPr>
            <a:spLocks noGrp="1"/>
          </p:cNvSpPr>
          <p:nvPr>
            <p:ph type="dt" idx="24"/>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783D7-FC18-4A26-AB75-F83EFA2A1B86}" type="datetime">
              <a:rPr b="0" lang="en-US" sz="1300" spc="-1" strike="noStrike">
                <a:solidFill>
                  <a:srgbClr val="898989"/>
                </a:solidFill>
                <a:latin typeface="Calibri"/>
              </a:rPr>
              <a:t>07/30/26</a:t>
            </a:fld>
            <a:endParaRPr b="0" lang="en-US" sz="1300" spc="-1" strike="noStrike">
              <a:solidFill>
                <a:srgbClr val="000000"/>
              </a:solidFill>
              <a:latin typeface="Calibri"/>
            </a:endParaRPr>
          </a:p>
        </p:txBody>
      </p:sp>
      <p:sp>
        <p:nvSpPr>
          <p:cNvPr id="330" name="PlaceHolder 4"/>
          <p:cNvSpPr>
            <a:spLocks noGrp="1"/>
          </p:cNvSpPr>
          <p:nvPr>
            <p:ph type="ftr" idx="25"/>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7ADE5-E833-4CA7-A8EA-C48D77CC5174}"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9" name="object 3"/>
          <p:cNvSpPr/>
          <p:nvPr/>
        </p:nvSpPr>
        <p:spPr>
          <a:xfrm>
            <a:off x="1247760" y="200160"/>
            <a:ext cx="8213760" cy="8535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ordinated Regional Downscaling Experiment:</a:t>
            </a:r>
            <a:endParaRPr b="0" lang="en-US" sz="2800" spc="-1" strike="noStrike">
              <a:solidFill>
                <a:srgbClr val="000000"/>
              </a:solidFill>
              <a:latin typeface="Calibr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MIP6 &amp; Regional Information for IPCC</a:t>
            </a:r>
            <a:endParaRPr b="0" lang="en-US" sz="2800" spc="-1" strike="noStrike">
              <a:solidFill>
                <a:srgbClr val="000000"/>
              </a:solidFill>
              <a:latin typeface="Calibri"/>
            </a:endParaRPr>
          </a:p>
        </p:txBody>
      </p:sp>
      <p:sp>
        <p:nvSpPr>
          <p:cNvPr id="540"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1" name="Picture 7" descr="logo_cordex.jpg"/>
          <p:cNvPicPr/>
          <p:nvPr/>
        </p:nvPicPr>
        <p:blipFill>
          <a:blip r:embed="rId1"/>
          <a:stretch/>
        </p:blipFill>
        <p:spPr>
          <a:xfrm>
            <a:off x="8166240" y="6524640"/>
            <a:ext cx="2158920" cy="762120"/>
          </a:xfrm>
          <a:prstGeom prst="rect">
            <a:avLst/>
          </a:prstGeom>
          <a:ln w="0">
            <a:noFill/>
          </a:ln>
        </p:spPr>
      </p:pic>
      <p:sp>
        <p:nvSpPr>
          <p:cNvPr id="542" name="Rectangle 1"/>
          <p:cNvSpPr/>
          <p:nvPr/>
        </p:nvSpPr>
        <p:spPr>
          <a:xfrm>
            <a:off x="469800" y="1571760"/>
            <a:ext cx="982980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Scientific Vision:</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To advance and coordinate the science and application of regional climate downscaling through global partnerships</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oals:</a:t>
            </a:r>
            <a:endParaRPr b="0" lang="en-US" sz="2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better understand relevant regional/local climate phenomena, their variability and changes, through downscaling.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evaluate and improve regional climate downscaling models and techniques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produce coordinated sets of regional downscaled projections worldwide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To foster communication and knowledge exchange with users of regional climate information</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in CMIP6:  Details</a:t>
            </a:r>
            <a:endParaRPr b="0" lang="en-US" sz="2800" spc="-1" strike="noStrike">
              <a:solidFill>
                <a:srgbClr val="000000"/>
              </a:solidFill>
              <a:latin typeface="Calibri"/>
            </a:endParaRPr>
          </a:p>
        </p:txBody>
      </p:sp>
      <p:sp>
        <p:nvSpPr>
          <p:cNvPr id="575"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76" name="Picture 7" descr="logo_cordex.jpg"/>
          <p:cNvPicPr/>
          <p:nvPr/>
        </p:nvPicPr>
        <p:blipFill>
          <a:blip r:embed="rId1"/>
          <a:stretch/>
        </p:blipFill>
        <p:spPr>
          <a:xfrm>
            <a:off x="8166240" y="6524640"/>
            <a:ext cx="2158920" cy="762120"/>
          </a:xfrm>
          <a:prstGeom prst="rect">
            <a:avLst/>
          </a:prstGeom>
          <a:ln w="0">
            <a:noFill/>
          </a:ln>
        </p:spPr>
      </p:pic>
      <p:sp>
        <p:nvSpPr>
          <p:cNvPr id="577" name="Rectangle 1"/>
          <p:cNvSpPr/>
          <p:nvPr/>
        </p:nvSpPr>
        <p:spPr>
          <a:xfrm>
            <a:off x="530280" y="733320"/>
            <a:ext cx="9829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Supplementary variables that are desirabl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oil moisture (vertically integrate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now densi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now albedo</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low and medium cloud cov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geopotential height at 850, 700 and 500 hPa</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3" name="object 3"/>
          <p:cNvSpPr/>
          <p:nvPr/>
        </p:nvSpPr>
        <p:spPr>
          <a:xfrm>
            <a:off x="1316160" y="8208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44"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5" name="Picture 7" descr="logo_cordex.jpg"/>
          <p:cNvPicPr/>
          <p:nvPr/>
        </p:nvPicPr>
        <p:blipFill>
          <a:blip r:embed="rId1"/>
          <a:stretch/>
        </p:blipFill>
        <p:spPr>
          <a:xfrm>
            <a:off x="8166240" y="6524640"/>
            <a:ext cx="2158920" cy="762120"/>
          </a:xfrm>
          <a:prstGeom prst="rect">
            <a:avLst/>
          </a:prstGeom>
          <a:ln w="0">
            <a:noFill/>
          </a:ln>
        </p:spPr>
      </p:pic>
      <p:sp>
        <p:nvSpPr>
          <p:cNvPr id="546" name="Rectangle 6"/>
          <p:cNvSpPr/>
          <p:nvPr/>
        </p:nvSpPr>
        <p:spPr>
          <a:xfrm>
            <a:off x="863640" y="1724040"/>
            <a:ext cx="9829800" cy="4359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rimary CMIP6 Question Addressed:  </a:t>
            </a:r>
            <a:r>
              <a:rPr b="0" lang="en-US" sz="2800" spc="-1" strike="noStrike">
                <a:solidFill>
                  <a:srgbClr val="000000"/>
                </a:solidFill>
                <a:latin typeface="Times New Roman"/>
                <a:ea typeface="Times New Roman"/>
              </a:rPr>
              <a:t>How can we assess future climate changes given climate variability, predictability and uncertainties in scenarios?</a:t>
            </a: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rimary WCRP Grand Challenges Addressed: </a:t>
            </a:r>
            <a:endParaRPr b="0" lang="en-US" sz="2800" spc="-1" strike="noStrike">
              <a:solidFill>
                <a:srgbClr val="000000"/>
              </a:solidFill>
              <a:latin typeface="Calibri"/>
            </a:endParaRPr>
          </a:p>
          <a:p>
            <a:pPr lvl="1">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gional climate information (though this GC is evolving)</a:t>
            </a:r>
            <a:endParaRPr b="0" lang="en-US" sz="2800" spc="-1" strike="noStrike">
              <a:solidFill>
                <a:srgbClr val="000000"/>
              </a:solidFill>
              <a:latin typeface="Calibri"/>
            </a:endParaRPr>
          </a:p>
          <a:p>
            <a:pPr lvl="1">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eather and climate extremes</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otential Coordination:  </a:t>
            </a:r>
            <a:r>
              <a:rPr b="0" lang="en-US" sz="2800" spc="-1" strike="noStrike">
                <a:solidFill>
                  <a:srgbClr val="000000"/>
                </a:solidFill>
                <a:latin typeface="Times New Roman"/>
                <a:ea typeface="Times New Roman"/>
              </a:rPr>
              <a:t>HighResMIP</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7" name="object 3"/>
          <p:cNvSpPr/>
          <p:nvPr/>
        </p:nvSpPr>
        <p:spPr>
          <a:xfrm>
            <a:off x="1247760" y="53172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48"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9" name="Picture 7" descr="logo_cordex.jpg"/>
          <p:cNvPicPr/>
          <p:nvPr/>
        </p:nvPicPr>
        <p:blipFill>
          <a:blip r:embed="rId1"/>
          <a:stretch/>
        </p:blipFill>
        <p:spPr>
          <a:xfrm>
            <a:off x="8166240" y="6524640"/>
            <a:ext cx="2158920" cy="762120"/>
          </a:xfrm>
          <a:prstGeom prst="rect">
            <a:avLst/>
          </a:prstGeom>
          <a:ln w="0">
            <a:noFill/>
          </a:ln>
        </p:spPr>
      </p:pic>
      <p:pic>
        <p:nvPicPr>
          <p:cNvPr id="550" name="Picture 8" descr=""/>
          <p:cNvPicPr/>
          <p:nvPr/>
        </p:nvPicPr>
        <p:blipFill>
          <a:blip r:embed="rId2"/>
          <a:srcRect l="0" t="21811" r="7453" b="20583"/>
          <a:stretch/>
        </p:blipFill>
        <p:spPr>
          <a:xfrm>
            <a:off x="933480" y="1343160"/>
            <a:ext cx="6699240" cy="5105160"/>
          </a:xfrm>
          <a:prstGeom prst="rect">
            <a:avLst/>
          </a:prstGeom>
          <a:ln w="0">
            <a:noFill/>
          </a:ln>
        </p:spPr>
      </p:pic>
      <p:sp>
        <p:nvSpPr>
          <p:cNvPr id="551" name="TextBox 1"/>
          <p:cNvSpPr/>
          <p:nvPr/>
        </p:nvSpPr>
        <p:spPr>
          <a:xfrm>
            <a:off x="7709040" y="1724040"/>
            <a:ext cx="27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GCMs are consistent with the observed large-scale climate statistics, while the RCM simulations produce  greater consistency with the fine scale statistic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2"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53"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54" name="Picture 7" descr="logo_cordex.jpg"/>
          <p:cNvPicPr/>
          <p:nvPr/>
        </p:nvPicPr>
        <p:blipFill>
          <a:blip r:embed="rId1"/>
          <a:stretch/>
        </p:blipFill>
        <p:spPr>
          <a:xfrm>
            <a:off x="8166240" y="6524640"/>
            <a:ext cx="2158920" cy="762120"/>
          </a:xfrm>
          <a:prstGeom prst="rect">
            <a:avLst/>
          </a:prstGeom>
          <a:ln w="0">
            <a:noFill/>
          </a:ln>
        </p:spPr>
      </p:pic>
      <p:sp>
        <p:nvSpPr>
          <p:cNvPr id="555" name="Rectangle 1"/>
          <p:cNvSpPr/>
          <p:nvPr/>
        </p:nvSpPr>
        <p:spPr>
          <a:xfrm>
            <a:off x="530280" y="733320"/>
            <a:ext cx="982980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Connectivity to DECK: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nalysis of downscaled CMIP DECK simulations (30 years) for the pre-industrial control compared to the transient forcing cases (e.g., CMIP6 Historical) will determine potential regional climate-change detectio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Connectivity to CMIP6 Historical  and Scenario Simulations:</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1.  Analysis during the historical period (1950-2014) will indicate where and when the downscaling provides regional detail of physical behavior that agrees better with observations than the driving GCM output and provides robust additional fine scale climate information.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2. Analysis during the historical period (1950-2014, though ideally, 1900-2014) from downscaling of multiple realizations by the same GCM will indicate the magnitude of regional unforced variability.  When coupled with analysis of downscaled projections (2015-2100), results will assess where and when the downscaling provides regional detail of physical behavior that exceeds noise levels of unforced internal variability.</a:t>
            </a:r>
            <a:endParaRPr b="0" lang="en-US" sz="2000" spc="-1" strike="noStrike">
              <a:solidFill>
                <a:srgbClr val="000000"/>
              </a:solidFill>
              <a:latin typeface="Calibri"/>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6"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57"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58" name="Picture 7" descr="logo_cordex.jpg"/>
          <p:cNvPicPr/>
          <p:nvPr/>
        </p:nvPicPr>
        <p:blipFill>
          <a:blip r:embed="rId1"/>
          <a:stretch/>
        </p:blipFill>
        <p:spPr>
          <a:xfrm>
            <a:off x="8166240" y="6524640"/>
            <a:ext cx="2158920" cy="762120"/>
          </a:xfrm>
          <a:prstGeom prst="rect">
            <a:avLst/>
          </a:prstGeom>
          <a:ln w="0">
            <a:noFill/>
          </a:ln>
        </p:spPr>
      </p:pic>
      <p:sp>
        <p:nvSpPr>
          <p:cNvPr id="559" name="Rectangle 1"/>
          <p:cNvSpPr/>
          <p:nvPr/>
        </p:nvSpPr>
        <p:spPr>
          <a:xfrm>
            <a:off x="530280" y="733320"/>
            <a:ext cx="9829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Targeted GCM simulations should: </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ver as well as possible the range of GCM climate model sensitivity; </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vide acceptable quality of historical climate simulations in the regions where they supply boundary conditions;</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vide acceptable quality of historical climate simulations for important large-scale features affecting regional climates, such as ENSO, NAO, etc.;</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ave a distinctive model development history.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Ideal GCM output for downscaling:</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Sufficient for dynamical and empirical statistical downscaling (transient climate-change simula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Multiple realizations of the same GCM for both the pre-industrial and transient climate-change simulations [explore unforced variabili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Pre-industrial control runs (CMIP DECK) and runs with changes in only one climate forcing (if part of CMIP6) [explore regional detection and attribu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064"/>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77920"/>
            <a:ext cx="10083600" cy="730080"/>
          </a:xfrm>
          <a:prstGeom prst="rect">
            <a:avLst/>
          </a:prstGeom>
          <a:noFill/>
          <a:ln w="0">
            <a:noFill/>
          </a:ln>
        </p:spPr>
        <p:txBody>
          <a:bodyPr anchor="ctr">
            <a:noAutofit/>
          </a:bodyPr>
          <a:p>
            <a:pPr indent="0" algn="ct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500" spc="-1" strike="noStrike">
                <a:solidFill>
                  <a:srgbClr val="ffff00"/>
                </a:solidFill>
                <a:latin typeface="Times New Roman"/>
                <a:ea typeface="Times New Roman"/>
              </a:rPr>
              <a:t>CMIP6 &amp; CORDEX – Flagship Pilot Studies</a:t>
            </a:r>
            <a:endParaRPr b="0" lang="en-US" sz="3500" spc="-1" strike="noStrike">
              <a:solidFill>
                <a:srgbClr val="000000"/>
              </a:solidFill>
              <a:latin typeface="Calibri"/>
            </a:endParaRPr>
          </a:p>
        </p:txBody>
      </p:sp>
      <p:sp>
        <p:nvSpPr>
          <p:cNvPr id="561" name="PlaceHolder 2"/>
          <p:cNvSpPr>
            <a:spLocks noGrp="1"/>
          </p:cNvSpPr>
          <p:nvPr>
            <p:ph type="subTitle"/>
          </p:nvPr>
        </p:nvSpPr>
        <p:spPr>
          <a:xfrm>
            <a:off x="528120" y="1385640"/>
            <a:ext cx="9734760" cy="4724280"/>
          </a:xfrm>
          <a:prstGeom prst="rect">
            <a:avLst/>
          </a:prstGeom>
          <a:noFill/>
          <a:ln w="0">
            <a:noFill/>
          </a:ln>
        </p:spPr>
        <p:txBody>
          <a:bodyPr anchor="t">
            <a:noAutofit/>
          </a:bodyPr>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First FPS call closed 15 Feb. 2016</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8 proposals (under review) from 6 CORDEX regions </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Coordinate developments in conv.-permitting climate sim.</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Must have</a:t>
            </a:r>
            <a:endParaRPr b="0" lang="en-US" sz="26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Fine-scale processes important to region’s climate (physical basi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Observational basis for verification (analysis basi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User applications (VIA basis)</a:t>
            </a:r>
            <a:endParaRPr b="0" lang="en-US" sz="22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Potential connection with other WCRP programs, esp. GEWEX</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Details:  www.cordex.org</a:t>
            </a:r>
            <a:endParaRPr b="0" lang="en-US" sz="2600" spc="-1" strike="noStrike">
              <a:solidFill>
                <a:srgbClr val="000000"/>
              </a:solidFill>
              <a:latin typeface="Calibri"/>
            </a:endParaRPr>
          </a:p>
          <a:p>
            <a:pPr lvl="1" marL="1008000" indent="0">
              <a:lnSpc>
                <a:spcPct val="100000"/>
              </a:lnSpc>
              <a:spcBef>
                <a:spcPts val="425"/>
              </a:spcBef>
              <a:buNone/>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7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rPr>
              <a:t> </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p:txBody>
      </p:sp>
      <p:pic>
        <p:nvPicPr>
          <p:cNvPr id="562" name="Picture 3" descr="Fig6-possibily.JPG"/>
          <p:cNvPicPr/>
          <p:nvPr/>
        </p:nvPicPr>
        <p:blipFill>
          <a:blip r:embed="rId1"/>
          <a:srcRect l="0" t="29798" r="0" b="30179"/>
          <a:stretch/>
        </p:blipFill>
        <p:spPr>
          <a:xfrm>
            <a:off x="2603520" y="6110280"/>
            <a:ext cx="5816520" cy="145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064"/>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277920"/>
            <a:ext cx="10083600" cy="730080"/>
          </a:xfrm>
          <a:prstGeom prst="rect">
            <a:avLst/>
          </a:prstGeom>
          <a:noFill/>
          <a:ln w="0">
            <a:noFill/>
          </a:ln>
        </p:spPr>
        <p:txBody>
          <a:bodyPr anchor="ctr">
            <a:noAutofit/>
          </a:bodyPr>
          <a:p>
            <a:pPr indent="0" algn="ct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500" spc="-1" strike="noStrike">
                <a:solidFill>
                  <a:srgbClr val="ffff00"/>
                </a:solidFill>
                <a:latin typeface="Times New Roman"/>
                <a:ea typeface="Times New Roman"/>
              </a:rPr>
              <a:t>CMIP6 &amp; CORDEX – CORE Simulations</a:t>
            </a:r>
            <a:endParaRPr b="0" lang="en-US" sz="3500" spc="-1" strike="noStrike">
              <a:solidFill>
                <a:srgbClr val="000000"/>
              </a:solidFill>
              <a:latin typeface="Calibri"/>
            </a:endParaRPr>
          </a:p>
        </p:txBody>
      </p:sp>
      <p:sp>
        <p:nvSpPr>
          <p:cNvPr id="564" name="PlaceHolder 2"/>
          <p:cNvSpPr>
            <a:spLocks noGrp="1"/>
          </p:cNvSpPr>
          <p:nvPr>
            <p:ph type="subTitle"/>
          </p:nvPr>
        </p:nvSpPr>
        <p:spPr>
          <a:xfrm>
            <a:off x="528120" y="1385640"/>
            <a:ext cx="9734760" cy="4724280"/>
          </a:xfrm>
          <a:prstGeom prst="rect">
            <a:avLst/>
          </a:prstGeom>
          <a:noFill/>
          <a:ln w="0">
            <a:noFill/>
          </a:ln>
        </p:spPr>
        <p:txBody>
          <a:bodyPr anchor="t">
            <a:noAutofit/>
          </a:bodyPr>
          <a:p>
            <a:pPr indent="0" algn="ctr">
              <a:spcBef>
                <a:spcPts val="649"/>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2600" spc="-1" strike="noStrike" u="sng">
                <a:solidFill>
                  <a:srgbClr val="ffffff"/>
                </a:solidFill>
                <a:uFillTx/>
                <a:latin typeface="Calibri"/>
              </a:rPr>
              <a:t>CORDEX Coordinated Output for Regional Evaluations (CORE)</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In development</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Motivated by IPCC Workshop on Reg. Climate (Sept. 2015)</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Elements</a:t>
            </a:r>
            <a:endParaRPr b="0" lang="en-US" sz="26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Succinct set of downscalings for each region</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Provide a core foundation for additional work by other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Span plausible range of climate change =&gt; 3 distinct GCM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CMIP5?  Historical + RCP8.5? </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3-4 RCM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ESD method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Resolution?</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indent="0">
              <a:spcBef>
                <a:spcPts val="550"/>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200" spc="-1" strike="noStrike">
                <a:solidFill>
                  <a:srgbClr val="ffffff"/>
                </a:solidFill>
                <a:latin typeface="Calibri"/>
              </a:rPr>
              <a:t> </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pic>
        <p:nvPicPr>
          <p:cNvPr id="565" name="Picture 3" descr="Fig6-possibily.JPG"/>
          <p:cNvPicPr/>
          <p:nvPr/>
        </p:nvPicPr>
        <p:blipFill>
          <a:blip r:embed="rId1"/>
          <a:srcRect l="0" t="29798" r="0" b="30179"/>
          <a:stretch/>
        </p:blipFill>
        <p:spPr>
          <a:xfrm>
            <a:off x="2567160" y="6157800"/>
            <a:ext cx="5618160" cy="14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6"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67"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68" name="Rectangle 1"/>
          <p:cNvSpPr/>
          <p:nvPr/>
        </p:nvSpPr>
        <p:spPr>
          <a:xfrm>
            <a:off x="530280" y="733320"/>
            <a:ext cx="982980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Beyond the details, many broad questions to address:</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hat are realistic expectations for input to the AR6?</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re contributions possible to IPCC special reports?</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hat timeline(s) are needed?</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 .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69" name="Picture 6" descr=""/>
          <p:cNvPicPr/>
          <p:nvPr/>
        </p:nvPicPr>
        <p:blipFill>
          <a:blip r:embed="rId1"/>
          <a:stretch/>
        </p:blipFill>
        <p:spPr>
          <a:xfrm>
            <a:off x="2527200" y="4317840"/>
            <a:ext cx="5661000" cy="19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0"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in CMIP6:  Details</a:t>
            </a:r>
            <a:endParaRPr b="0" lang="en-US" sz="2800" spc="-1" strike="noStrike">
              <a:solidFill>
                <a:srgbClr val="000000"/>
              </a:solidFill>
              <a:latin typeface="Calibri"/>
            </a:endParaRPr>
          </a:p>
        </p:txBody>
      </p:sp>
      <p:sp>
        <p:nvSpPr>
          <p:cNvPr id="571"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72" name="Picture 7" descr="logo_cordex.jpg"/>
          <p:cNvPicPr/>
          <p:nvPr/>
        </p:nvPicPr>
        <p:blipFill>
          <a:blip r:embed="rId1"/>
          <a:stretch/>
        </p:blipFill>
        <p:spPr>
          <a:xfrm>
            <a:off x="8166240" y="6524640"/>
            <a:ext cx="2158920" cy="762120"/>
          </a:xfrm>
          <a:prstGeom prst="rect">
            <a:avLst/>
          </a:prstGeom>
          <a:ln w="0">
            <a:noFill/>
          </a:ln>
        </p:spPr>
      </p:pic>
      <p:sp>
        <p:nvSpPr>
          <p:cNvPr id="573" name="Rectangle 1"/>
          <p:cNvSpPr/>
          <p:nvPr/>
        </p:nvSpPr>
        <p:spPr>
          <a:xfrm>
            <a:off x="530280" y="733320"/>
            <a:ext cx="9829800" cy="667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eferred output period:  </a:t>
            </a:r>
            <a:r>
              <a:rPr b="0" lang="en-US" sz="2400" spc="-1" strike="noStrike">
                <a:solidFill>
                  <a:srgbClr val="000000"/>
                </a:solidFill>
                <a:latin typeface="Calibri"/>
              </a:rPr>
              <a:t>1951-2100 for transient climate change (RCP8.5, RCP4.5 and RCP2.6 for 2015-2100); 30 years of pre-industrial control.</a:t>
            </a:r>
            <a:endParaRPr b="0" lang="en-US" sz="2400" spc="-1" strike="noStrike">
              <a:solidFill>
                <a:srgbClr val="000000"/>
              </a:solidFill>
              <a:latin typeface="Calibri"/>
            </a:endParaRPr>
          </a:p>
          <a:p>
            <a:pPr marL="343080" indent="-34308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For dynamical downscaling: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surface press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three-dimensional fields of temperature, atmospheric specific humidity, zonal wind and meridional wind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For statistical downscaling, also: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ximum daily surface (2m) temperat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imum daily surface (2m) temperat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urface temperature (2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urface dewpoint temperature (2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zonal wind (10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meridional wind (10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precipitation</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precipitable water</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thly sea surface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10:27:38Z</dcterms:created>
  <dc:creator>pa5g</dc:creator>
  <dc:description/>
  <cp:keywords/>
  <dc:language>en-US</dc:language>
  <cp:lastModifiedBy>Catherine Michaut</cp:lastModifiedBy>
  <dcterms:modified xsi:type="dcterms:W3CDTF">2016-06-16T10:44:59Z</dcterms:modified>
  <cp:revision>19</cp:revision>
  <dc:subject/>
  <dc:title>Microsoft PowerPoint - CMIP6FinalDesign_WGCMMeeting_150116_Sent.ppt [Kompatibilitätsmod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01-20T06:00:00Z</vt:filetime>
  </property>
  <property fmtid="{D5CDD505-2E9C-101B-9397-08002B2CF9AE}" pid="3" name="LastSaved">
    <vt:filetime>2015-04-23T05:00:00Z</vt:filetime>
  </property>
</Properties>
</file>