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dt" idx="55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ftr" idx="56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 type="sldNum" idx="57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07A0-B5BE-4864-BAA1-661F5D958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30C6-74FD-43BE-9E71-A84096A09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736D-4DE6-4182-9FBA-720829DF1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B13-D7F3-4991-93C2-EDD76F75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6B24-A543-47D3-97C5-850D1FE5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94406-03DC-4C9D-ACC3-0F593EF9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EDC47-67B9-4D4F-9438-ED04F422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B3C47-DAFE-430D-AF8C-B8C31E6B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4BDE6-961B-4ABE-8636-6AEEB433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6DEC5-E56E-4000-A589-5FE32EF5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E99CF-63D0-4345-B055-40EF9E86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A8C0F-F02C-4823-BA71-2043ECBF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EE7FC-5648-447B-AA2D-CE383413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FDFDC-73BD-4C05-B189-3D6A70C8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93609-9AAE-47E2-895F-0150B8E4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2C6-0A58-46C5-A8F2-07BBD72E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84702-706C-43BC-9CD2-950E3452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2948A-3EB2-4864-BB0C-6DBA2683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07C92-2727-4A3D-8623-E317F3F8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E573C-418A-4EAE-B5B9-20417A14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F13E1-8255-4F78-94C9-B60451ED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7F1A9-B222-4EB6-8C0A-DFF3B082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11959-8270-4E5F-9E27-9A9A9B78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FAE7B-7939-4F1A-A13F-6139EE9A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02BEF-A269-48E2-A601-D5E71045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267FB-9C53-4432-8E8F-E5C5B994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D4F-C2E7-45AB-BE17-D88336C2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A6BAD-F18D-4FAF-856E-78B9B3E1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74AB8-3C63-4860-B9D0-DD03AB6D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DD409-4804-4074-BCE7-E1585EC0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4EBF2-E655-4BB3-9349-210CEC16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5D171-32A9-4A40-A7E2-FC278399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D9D95-A95C-4E44-B0A4-ED7A7F33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EA5B7-6C6E-41C4-8FE1-76A386C0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ABBC8-60C3-497B-A224-E197B49A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F585B-BBD2-4120-91A9-0A522368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139BD-A674-4AAB-87D3-CC02F709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0907-FD3C-4943-9C4F-EB4CE12C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BD091-61AD-4925-AFE6-BAEFBB30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E9BBF-4B11-4186-A3D0-B418A190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6D334-48DD-4318-A252-78566D3F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6A7DF-AA4D-4B0E-B454-A0FE1CA0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C0497-7FEB-4699-951B-9A5355FF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13BD8-4467-4BBE-B827-B1DD72E9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0426A-33B0-451E-8676-0042E9EF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0EA90-0A3F-49D5-A08F-F54B111A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F7393-1936-455C-BE57-1F755733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6F1C3-3FA6-400B-BDCD-B60B2EE9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9C69-A4F5-48FA-A9CE-B82E6CC2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4C0D5-DF06-4B1A-9061-05F4DE9B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DD05C-DC05-4A04-A020-E0629E8E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53272-C490-4DC6-8DC4-6CED40FC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9627F-5F34-4D27-92D3-69ADA85F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76092-DCA0-43E9-8655-643E6355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3B8D8-2591-422E-95F0-B5181F69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EBA53-4C8E-4B34-BF6E-7616B3A3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346A0-DEBD-4E57-A60D-714FCA05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F3708B-6A3B-43E2-ADBB-561EAC5D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F539A-CE49-4F45-B997-7A7BE0C0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7034-824F-40B3-AD41-FC9A2434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78062-391A-42A0-ADD2-D34D0CED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F18E5-A4D0-4BC0-A4CE-CCDCF2C3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BD54F-4F10-4A42-98C5-78397C66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AFF60-B7F5-47CB-9EDA-82F885B7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E12C8-EFED-4B96-BABB-33109DBA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0A7988-4F72-4E72-BA08-880A5E44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16F37-FEC5-4848-9E85-DE3D4C86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F4057-C9F0-4375-8E19-8D2489A0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CD7B7-A29D-4797-82CB-110C1CD6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FC1CD-DAD7-480E-AAC4-8ACDA614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7F02-7666-470A-B9C9-2C0965F6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0BA87-466E-4B90-9528-582D4EF6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E675C-5E47-45DA-8E09-0C48982B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9FFFA-4C25-4EE8-B599-9213AB8C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5B867-A156-4A33-9245-6FAFE9C2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F2FA85-1B78-44D1-A811-DE719DF7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AA3D5-FC4D-4122-BFAC-F9E35FC1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31801-5C32-4292-A64A-82528029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29522-FB7D-4116-9648-85FD2B81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85E4E-DE17-4E30-8835-82FAD6F6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8E6DE-2823-4DC5-8848-BA8CD849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854A-F47B-442E-BFBE-E3143CEC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61FD8-28E8-441E-AA16-1790596E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A2CA15-3FC0-4EFD-81A1-9F5116A9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9C74FC-E6AA-47CA-8D7C-157A9C7B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705A5-9049-487D-B179-85CE6B05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EAFDE-57DA-4971-8ED2-F76D25F2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4D6B0-CF12-4049-99FA-534188F9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23C04-BD75-4D23-988A-128795A4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74ADC0-C754-467D-B5E2-AFFFC18D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7F36F-952E-477D-B720-3D29F233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81679-5CE9-4E1D-9A99-95168511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C08F-7480-475A-93F6-562952D0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77462-2B2D-46B0-8125-BC16E72B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92863F-B8C3-4F2F-89E9-1DE50E6A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CE6CB-26C8-44C4-B5CE-29B37150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8B794-FB5D-4C39-B688-57585FED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2661DB-B403-4203-B94E-B1243081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B4C86-E135-4683-975D-63383DAF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FAE8A8-3C87-487E-A0C6-42A26662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6979D-90D2-4169-9FDE-6834BC7B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0C0A76-78AC-4749-B5AD-F23A6E8C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C70A28-F57E-41B0-B3AB-AB0D3B28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63F7-66DC-461E-A351-E8849100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5AD2E4-2806-4065-AD8F-59ED7699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D8D84-BA77-4225-A096-646998BD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6D8194-711E-4F48-8172-C8B81078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F6C786-922B-4024-BBFA-2F693282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32F457-0479-4102-8B62-2EDB9D5D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22217-4746-4F4F-B7E0-41F4935F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98CC47-D7D1-4684-9E15-82D9C9D6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F5D99-8918-4144-B7E0-29199CFD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225A59-EAA1-41C4-AE5E-13C5E388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498EC3-04C5-480C-AE08-3B2603E8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66B-FD09-4B94-9C48-D676680D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C09C-429D-4677-BB4D-BABC92FE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559E3E-72F1-47B8-BA52-C8A96849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AA0683-F498-43CC-A41A-AE74BDBD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3342CB-3BF8-4658-84F4-BAB3F9C0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B4BF1-F41E-4C62-B1AB-F098DEC2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E0B6F3-68CB-4B60-8E65-DEA8DD39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90A985-89EE-45A0-85A5-EEFCD72B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1D153-6F16-4399-A208-AAD873A7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680040-D15C-4FED-8589-4C2D7FD0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4E35B3-7420-4295-9F33-8E4F8CC6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F31E19-D713-4F8A-93CC-32CE4E25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F349-D3C9-4767-9FBC-F7465AD4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17FC76-52F0-41A3-8CE0-F052BCEA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A4E24-5E42-4B71-B920-92683A0D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7FB23-E495-4DCC-8031-75C4CDE6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5D5ADA-50A1-4C42-AD12-D03710B2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EBC631-7B6E-45C5-ABF9-CEBA679F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25347C-9825-4A29-841B-7A1805C6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BA063E-62D7-4817-9477-F0C4F579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C7A2-3472-4903-A303-ECDDA461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709D-4B11-4AD9-9C26-7BCF2DD3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71D7-3BB3-4F59-ABB0-EE57B3F3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91F2-9F73-451F-80AC-72ACA148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867E-9551-45EE-B35E-2A78475A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98C8F-0605-4FD7-94BC-D2E23780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4DB4-8ED4-495A-804D-48D598C6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0ACA-2416-450C-AF99-1B407542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2BFA-A8E8-4BE9-8D4A-31974EC8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8C9B9-0A5A-485E-B404-CEFBC580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C1575-A88A-4960-A954-31EEFDE1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EDB6-E792-4352-A758-8B5617E5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186C0-AF28-4C47-B7DD-11C3E0A9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D4050-CE63-4C9B-9018-56927370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22687-C160-492F-97C6-924B0E87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7000-2A79-4093-B21E-96C5F8F2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6ADD0-2D52-4334-B258-2124D8F5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59929-C855-4315-A9D1-EE093E45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F4D24-F816-48B9-8486-C5DF15BA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E7C-E08C-40AC-8A7E-7255EA32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26C52-0A7A-4DD0-9484-A6A6C9FF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ECE8-EFE0-414D-891F-8D8D7074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08484-D3B5-42BC-A789-4E940AD9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98954-92EF-499C-8851-9F6B4B87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2E5C4-56D8-48B5-A6BA-013F9A28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5DDFD-4B2B-48C0-810A-36968546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B81B3-8C1C-4354-9D50-1E0FA90B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A7068-3BDD-4DC0-B0B1-07DACE5E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95AB7-2775-4219-8C6B-187BBC2C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72CE8-729C-49B9-9544-3CD9D971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8DD-8DDB-4139-9E94-BCEECC6C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07B4A-C3BC-4972-B51E-BFAE6485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7EE49-C236-4DE9-B370-195B597E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E9DE7-848F-466B-87C6-F25B0345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D1986-6407-4AC8-9FAB-043B7571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E1B0F-9B8C-4061-A44E-E8995EAA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68061-8B20-4056-BC02-977BD4BC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3BE7C-339B-45E6-A881-2E963926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FB3BE-BC30-4245-ABDF-212A287B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00159-9500-4921-A29F-E5AA2B26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65A2C-6E49-4966-8642-F57E3136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BD3-66AC-4937-BE8B-9531B173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A2AF6-43DF-4904-9B8A-551430AA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DBEFC-6FA9-4C7E-A9F9-E8DD166D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EDBFE-AD73-445B-A452-D3989617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6A8CD-73E8-4631-8928-4BBCB2AE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3F0D9-8745-471E-97C6-4148C7FD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B83DA-D67A-458B-BC08-E70DB0B2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17045-0893-4BB6-A657-F1AA7F35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74D2A-BF0B-4C92-A093-647808E8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BE247-2E67-40D7-84BD-4E47F90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458FE-D60F-4E00-AEFB-75876DFC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178-620F-4036-95D6-7BF9563D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2BD41-8430-4E2E-9E1D-1CAF7DE9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FF1BB-4B9A-4890-8AFC-A6E67905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1B0E3-DD57-421F-999F-952AA879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A0A8E-8976-4BBD-8D55-C8D62F65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843C9-0305-4980-9417-7BC1F2B3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0B056-E947-457E-99CF-BCCF64BE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D5A99-60ED-43CC-A5A4-CB198642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C1540-A3F6-47BB-AA34-D17D527E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2B235-57AE-4B80-B007-7B59EDF6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C8492-4637-4059-9370-A2C427BD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821-295E-4FBB-881E-7F4E5BAB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12A49-EB3C-4B5B-8700-9321D232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631A9-7611-4DBF-8AD3-9155395F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B5DB5-668F-47C2-96E9-252F9307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0420C-1E25-4E90-8F8B-BB3BE615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20BE0-C713-496D-A61A-17C71F29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D48E3-3CF3-45F6-9006-25F421BE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A8401-10A8-4FFD-BA08-580639C5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FCB03-9C59-4AB5-97FF-6FDA800C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60BE5-D9DA-48FE-B2C2-ECFAFFA9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B893F-530E-4FE9-A888-443B030E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D805-0EF5-412A-8455-4B3EE81C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72EB8-7696-4756-8574-EDBFF0EC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3C034-2A6D-44A0-9D0F-640B6A6D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14056-C09B-4AB1-8355-4E0F07AD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D0990-C69F-4DE4-A669-22AC2F09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B6F22-BD44-4FEE-A667-BAAE9A15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492FC-97ED-430A-BE5C-4CF22B3D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D85FB-B24F-4036-9B60-A5EF2A19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CC46D-F499-4A03-AF38-7DB34DE5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A4EA2-899A-4FA7-8A17-53804FCE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DC505-0763-4118-93B5-0FC7ED61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07A6-0521-4B0D-B3AB-F5B181285F7A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A950-C7A8-4D38-9C3D-88B1DBAEB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BDC5-3CB8-40B1-8D78-79DA17A8A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CC5E-18C1-4648-B4C2-4ED272B09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3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4AB5-A792-43B5-B3DC-84957CAC0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8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8CF6-FB89-46A6-B973-6B67C80BC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2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58FC-7D99-46DD-AC10-585E1E8B9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7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1608-747F-4CE6-A3F1-3524BD5B8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71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F8B5-5473-4680-A513-134E973B8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6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5A42-A0F9-4264-8446-47185FA737FC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4509-03B7-446C-9645-9DDC3CFF71FC}" type="slidenum">
              <a:rPr b="0" lang="en-C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8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526D-5623-4D8D-B2BA-99238200B1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2AD1-C6ED-4C83-874B-C7935379DFBD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7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3203-B618-466F-8FC7-FF20F020DA68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22ED-C268-4FF2-B854-46EBDC324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6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21D5-CF60-44AB-BEC0-135901BFF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862E-36BD-462D-9ABB-D4187C32F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5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AEAD-D78C-460B-8ECA-E99842576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2"/>
          <p:cNvSpPr/>
          <p:nvPr/>
        </p:nvSpPr>
        <p:spPr>
          <a:xfrm>
            <a:off x="430200" y="565956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1908000" y="387360"/>
            <a:ext cx="5556600" cy="44910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1"/>
          <p:cNvSpPr/>
          <p:nvPr/>
        </p:nvSpPr>
        <p:spPr>
          <a:xfrm>
            <a:off x="1637640" y="5273640"/>
            <a:ext cx="609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6666"/>
                </a:solidFill>
                <a:latin typeface="Arial"/>
              </a:rPr>
              <a:t>What is our Vision for Decad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6666"/>
                </a:solidFill>
                <a:latin typeface="Arial"/>
              </a:rPr>
              <a:t>Climate Research in the WCR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2"/>
          <p:cNvSpPr/>
          <p:nvPr/>
        </p:nvSpPr>
        <p:spPr>
          <a:xfrm>
            <a:off x="430200" y="565956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6666"/>
                </a:solidFill>
                <a:latin typeface="Arial"/>
              </a:rPr>
              <a:t>Whither decadal climate resear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ny groups/organization have interests in decadal pred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nels, SGs, WGs, foci, concept groups….. (some people are members of 4 or more of the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ptions include: modified status quo, added layer, convergence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66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24000" y="1600200"/>
            <a:ext cx="849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Arial"/>
              </a:rPr>
              <a:t>Choices for JSC/WMAC to consider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6666"/>
                </a:solidFill>
                <a:latin typeface="Arial"/>
              </a:rPr>
              <a:t>Modified status qu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GSIP, CLIVAR/DCVP, GC SG, 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6666"/>
                </a:solidFill>
                <a:latin typeface="Arial"/>
              </a:rPr>
              <a:t>Added 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ecadal Climate Steering Group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6666"/>
                </a:solidFill>
                <a:latin typeface="Arial"/>
              </a:rPr>
              <a:t>Convergence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500" spc="-1" strike="noStrike">
                <a:solidFill>
                  <a:srgbClr val="006666"/>
                </a:solidFill>
                <a:latin typeface="Arial"/>
              </a:rPr>
              <a:t>Group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for decadal clim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.g. CGDC, EGDC, WGDC,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6666"/>
                </a:solidFill>
                <a:latin typeface="Arial"/>
              </a:rPr>
              <a:t>Evolution by consultation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(via web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G and WG chairs, JSC members with decadal climate inter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of WCRP panels, WGs, foci, concept groups etc. with some interest in decadal cli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is there a consensus on a WCRP approach to decadal clim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755640" y="115560"/>
            <a:ext cx="7848720" cy="30099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66"/>
                </a:solidFill>
                <a:latin typeface="Verdana"/>
              </a:rPr>
              <a:t>Broad interests in decadal climate variability and predi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WGSIP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Sub-seasonal to (inter)annual predic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WGC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Forced climate</a:t>
            </a:r>
            <a:r>
              <a:rPr b="1" lang="en-CA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change and natural variability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CMIP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Coordinated experimentation including scenarios, decadal prediction …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CLIVAR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Focus” on decadal variability and predictability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Ocean aspects, initializ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Grand Challenge </a:t>
            </a:r>
            <a:r>
              <a:rPr b="0" lang="en-CA" sz="1000" spc="-1" strike="noStrike">
                <a:solidFill>
                  <a:srgbClr val="000000"/>
                </a:solidFill>
                <a:latin typeface="Verdana"/>
              </a:rPr>
              <a:t>of Near Term Climate Predic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research and development leading toward operational annual, multi-annual forecas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IPCC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Near term climate a focus of AR5 and expected to be an important contribution to AR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DCPP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Decadal climate prediction project currently reports to WGSIP and WGCM, is an endorsed CMIP MIP and has connections to all group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7" name="Group 7"/>
          <p:cNvGrpSpPr/>
          <p:nvPr/>
        </p:nvGrpSpPr>
        <p:grpSpPr>
          <a:xfrm>
            <a:off x="1400040" y="3268800"/>
            <a:ext cx="5495760" cy="3531960"/>
            <a:chOff x="1400040" y="3268800"/>
            <a:chExt cx="5495760" cy="3531960"/>
          </a:xfrm>
        </p:grpSpPr>
        <p:sp>
          <p:nvSpPr>
            <p:cNvPr id="818" name="Isosceles Triangle 2"/>
            <p:cNvSpPr/>
            <p:nvPr/>
          </p:nvSpPr>
          <p:spPr>
            <a:xfrm>
              <a:off x="1400040" y="3517560"/>
              <a:ext cx="1994760" cy="163404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21000"/>
              </a:srgbClr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Box 1"/>
            <p:cNvSpPr/>
            <p:nvPr/>
          </p:nvSpPr>
          <p:spPr>
            <a:xfrm>
              <a:off x="4834800" y="4287600"/>
              <a:ext cx="152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rand Challe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4"/>
            <p:cNvSpPr/>
            <p:nvPr/>
          </p:nvSpPr>
          <p:spPr>
            <a:xfrm>
              <a:off x="3994560" y="5376240"/>
              <a:ext cx="1825560" cy="1424520"/>
            </a:xfrm>
            <a:prstGeom prst="ellipse">
              <a:avLst/>
            </a:prstGeom>
            <a:solidFill>
              <a:srgbClr val="def3f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8"/>
            <p:cNvSpPr/>
            <p:nvPr/>
          </p:nvSpPr>
          <p:spPr>
            <a:xfrm>
              <a:off x="2015640" y="4287600"/>
              <a:ext cx="76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WG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ounded Rectangle 6"/>
            <p:cNvSpPr/>
            <p:nvPr/>
          </p:nvSpPr>
          <p:spPr>
            <a:xfrm>
              <a:off x="3436200" y="3268800"/>
              <a:ext cx="1994760" cy="137700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8"/>
            <p:cNvSpPr/>
            <p:nvPr/>
          </p:nvSpPr>
          <p:spPr>
            <a:xfrm>
              <a:off x="5076000" y="4151160"/>
              <a:ext cx="1728360" cy="1437480"/>
            </a:xfrm>
            <a:prstGeom prst="rect">
              <a:avLst/>
            </a:prstGeom>
            <a:solidFill>
              <a:srgbClr val="33cccc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5"/>
            <p:cNvSpPr/>
            <p:nvPr/>
          </p:nvSpPr>
          <p:spPr>
            <a:xfrm>
              <a:off x="2725920" y="3964680"/>
              <a:ext cx="2035080" cy="1963440"/>
            </a:xfrm>
            <a:prstGeom prst="ellipse">
              <a:avLst/>
            </a:prstGeom>
            <a:solidFill>
              <a:srgbClr val="adffff"/>
            </a:solidFill>
            <a:ln cap="sq" w="12600">
              <a:solidFill>
                <a:srgbClr val="000000">
                  <a:alpha val="76000"/>
                </a:srgbClr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7"/>
            <p:cNvSpPr/>
            <p:nvPr/>
          </p:nvSpPr>
          <p:spPr>
            <a:xfrm>
              <a:off x="3355920" y="49993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WGS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Box 10"/>
            <p:cNvSpPr/>
            <p:nvPr/>
          </p:nvSpPr>
          <p:spPr>
            <a:xfrm>
              <a:off x="4277880" y="36237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CM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Box 11"/>
            <p:cNvSpPr/>
            <p:nvPr/>
          </p:nvSpPr>
          <p:spPr>
            <a:xfrm>
              <a:off x="5367960" y="5068440"/>
              <a:ext cx="152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rand Challe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9"/>
            <p:cNvSpPr/>
            <p:nvPr/>
          </p:nvSpPr>
          <p:spPr>
            <a:xfrm>
              <a:off x="4495680" y="604332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CLIV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50880" y="188640"/>
            <a:ext cx="788832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Where does a decadal climate fi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830" name="Group 1"/>
          <p:cNvGrpSpPr/>
          <p:nvPr/>
        </p:nvGrpSpPr>
        <p:grpSpPr>
          <a:xfrm>
            <a:off x="1387440" y="1125360"/>
            <a:ext cx="6218280" cy="3232440"/>
            <a:chOff x="1387440" y="1125360"/>
            <a:chExt cx="6218280" cy="3232440"/>
          </a:xfrm>
        </p:grpSpPr>
        <p:pic>
          <p:nvPicPr>
            <p:cNvPr id="831" name="Picture 4" descr="Fig11"/>
            <p:cNvPicPr/>
            <p:nvPr/>
          </p:nvPicPr>
          <p:blipFill>
            <a:blip r:embed="rId1"/>
            <a:srcRect l="0" t="16318" r="0" b="17011"/>
            <a:stretch/>
          </p:blipFill>
          <p:spPr>
            <a:xfrm>
              <a:off x="1387440" y="1125360"/>
              <a:ext cx="6218280" cy="29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Line 5"/>
            <p:cNvSpPr/>
            <p:nvPr/>
          </p:nvSpPr>
          <p:spPr>
            <a:xfrm flipV="1">
              <a:off x="3752640" y="1541880"/>
              <a:ext cx="0" cy="1767600"/>
            </a:xfrm>
            <a:prstGeom prst="line">
              <a:avLst/>
            </a:prstGeom>
            <a:ln w="1908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6"/>
            <p:cNvSpPr/>
            <p:nvPr/>
          </p:nvSpPr>
          <p:spPr>
            <a:xfrm>
              <a:off x="3549960" y="1345320"/>
              <a:ext cx="2230560" cy="3012480"/>
            </a:xfrm>
            <a:prstGeom prst="rect">
              <a:avLst/>
            </a:prstGeom>
            <a:noFill/>
            <a:ln cap="sq" w="1260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Straight Connector 3"/>
          <p:cNvSpPr/>
          <p:nvPr/>
        </p:nvSpPr>
        <p:spPr>
          <a:xfrm>
            <a:off x="2050920" y="4575240"/>
            <a:ext cx="1297080" cy="612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8"/>
          <p:cNvSpPr/>
          <p:nvPr/>
        </p:nvSpPr>
        <p:spPr>
          <a:xfrm flipV="1">
            <a:off x="3419640" y="4502160"/>
            <a:ext cx="1076040" cy="648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13"/>
          <p:cNvSpPr/>
          <p:nvPr/>
        </p:nvSpPr>
        <p:spPr>
          <a:xfrm>
            <a:off x="4500720" y="4575240"/>
            <a:ext cx="920520" cy="612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18"/>
          <p:cNvSpPr/>
          <p:nvPr/>
        </p:nvSpPr>
        <p:spPr>
          <a:xfrm>
            <a:off x="5435640" y="4508640"/>
            <a:ext cx="1008000" cy="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4"/>
          <p:cNvSpPr/>
          <p:nvPr/>
        </p:nvSpPr>
        <p:spPr>
          <a:xfrm>
            <a:off x="2302200" y="4594320"/>
            <a:ext cx="46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day-week      week-year    year -decade  decade-cen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5"/>
          <p:cNvSpPr/>
          <p:nvPr/>
        </p:nvSpPr>
        <p:spPr>
          <a:xfrm>
            <a:off x="4583160" y="48988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Deca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cl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21"/>
          <p:cNvSpPr/>
          <p:nvPr/>
        </p:nvSpPr>
        <p:spPr>
          <a:xfrm>
            <a:off x="3389760" y="4898880"/>
            <a:ext cx="12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Sub-sea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seas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22"/>
          <p:cNvSpPr/>
          <p:nvPr/>
        </p:nvSpPr>
        <p:spPr>
          <a:xfrm>
            <a:off x="2242440" y="4898880"/>
            <a:ext cx="10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Weat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foreca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23"/>
          <p:cNvSpPr/>
          <p:nvPr/>
        </p:nvSpPr>
        <p:spPr>
          <a:xfrm>
            <a:off x="5583240" y="4902120"/>
            <a:ext cx="98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Clim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"/>
          <p:cNvSpPr/>
          <p:nvPr/>
        </p:nvSpPr>
        <p:spPr>
          <a:xfrm>
            <a:off x="2097360" y="5421240"/>
            <a:ext cx="522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t least currently, approaches and results depend on </a:t>
            </a:r>
            <a:r>
              <a:rPr b="0" lang="en-CA" sz="1400" spc="-1" strike="noStrike">
                <a:solidFill>
                  <a:srgbClr val="006666"/>
                </a:solidFill>
                <a:latin typeface="Arial"/>
              </a:rPr>
              <a:t>timescale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tmosphere/land/ocean initialization, ensembl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resolution of models, ensemble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dependent realizations, start 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xternal forcing, dri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50880" y="188640"/>
            <a:ext cx="788832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Where does a decadal climate fi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5" name="Text Box 12"/>
          <p:cNvSpPr/>
          <p:nvPr/>
        </p:nvSpPr>
        <p:spPr>
          <a:xfrm>
            <a:off x="1258920" y="5229360"/>
            <a:ext cx="72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ecadal variability and predi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- annual, multi-annual, up to a decade or 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initializ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forecasts of both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forc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internally generat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mponents of var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1"/>
          <p:cNvGrpSpPr/>
          <p:nvPr/>
        </p:nvGrpSpPr>
        <p:grpSpPr>
          <a:xfrm>
            <a:off x="1387440" y="1125360"/>
            <a:ext cx="6218280" cy="3967920"/>
            <a:chOff x="1387440" y="1125360"/>
            <a:chExt cx="6218280" cy="3967920"/>
          </a:xfrm>
        </p:grpSpPr>
        <p:pic>
          <p:nvPicPr>
            <p:cNvPr id="847" name="Picture 4" descr="Fig11"/>
            <p:cNvPicPr/>
            <p:nvPr/>
          </p:nvPicPr>
          <p:blipFill>
            <a:blip r:embed="rId1"/>
            <a:srcRect l="0" t="16318" r="0" b="17011"/>
            <a:stretch/>
          </p:blipFill>
          <p:spPr>
            <a:xfrm>
              <a:off x="1387440" y="1125360"/>
              <a:ext cx="6218280" cy="292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Line 5"/>
            <p:cNvSpPr/>
            <p:nvPr/>
          </p:nvSpPr>
          <p:spPr>
            <a:xfrm flipV="1">
              <a:off x="3752640" y="1541520"/>
              <a:ext cx="0" cy="1767240"/>
            </a:xfrm>
            <a:prstGeom prst="line">
              <a:avLst/>
            </a:prstGeom>
            <a:ln w="1908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6"/>
            <p:cNvSpPr/>
            <p:nvPr/>
          </p:nvSpPr>
          <p:spPr>
            <a:xfrm>
              <a:off x="3549960" y="1345320"/>
              <a:ext cx="2230560" cy="3012120"/>
            </a:xfrm>
            <a:prstGeom prst="rect">
              <a:avLst/>
            </a:prstGeom>
            <a:noFill/>
            <a:ln cap="sq" w="1260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7"/>
            <p:cNvSpPr/>
            <p:nvPr/>
          </p:nvSpPr>
          <p:spPr>
            <a:xfrm>
              <a:off x="3464280" y="4654440"/>
              <a:ext cx="98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S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8"/>
            <p:cNvSpPr/>
            <p:nvPr/>
          </p:nvSpPr>
          <p:spPr>
            <a:xfrm>
              <a:off x="5559480" y="4694400"/>
              <a:ext cx="99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6"/>
          <p:cNvGrpSpPr/>
          <p:nvPr/>
        </p:nvGrpSpPr>
        <p:grpSpPr>
          <a:xfrm>
            <a:off x="2150280" y="4653000"/>
            <a:ext cx="3522960" cy="703800"/>
            <a:chOff x="2150280" y="4653000"/>
            <a:chExt cx="3522960" cy="703800"/>
          </a:xfrm>
        </p:grpSpPr>
        <p:sp>
          <p:nvSpPr>
            <p:cNvPr id="853" name="Text Box 7"/>
            <p:cNvSpPr/>
            <p:nvPr/>
          </p:nvSpPr>
          <p:spPr>
            <a:xfrm>
              <a:off x="2150280" y="4653000"/>
              <a:ext cx="93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7"/>
            <p:cNvSpPr/>
            <p:nvPr/>
          </p:nvSpPr>
          <p:spPr>
            <a:xfrm>
              <a:off x="4532400" y="4653000"/>
              <a:ext cx="1140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0000"/>
                  </a:solidFill>
                  <a:latin typeface="Verdana"/>
                </a:rPr>
                <a:t>Decad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0000"/>
                  </a:solidFill>
                  <a:latin typeface="Verdana"/>
                </a:rPr>
                <a:t>Clim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Straight Connector 3"/>
          <p:cNvSpPr/>
          <p:nvPr/>
        </p:nvSpPr>
        <p:spPr>
          <a:xfrm>
            <a:off x="2050920" y="4575240"/>
            <a:ext cx="1297080" cy="612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8"/>
          <p:cNvSpPr/>
          <p:nvPr/>
        </p:nvSpPr>
        <p:spPr>
          <a:xfrm flipV="1">
            <a:off x="3419640" y="4502160"/>
            <a:ext cx="1076040" cy="648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13"/>
          <p:cNvSpPr/>
          <p:nvPr/>
        </p:nvSpPr>
        <p:spPr>
          <a:xfrm>
            <a:off x="4619520" y="4546440"/>
            <a:ext cx="920880" cy="648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18"/>
          <p:cNvSpPr/>
          <p:nvPr/>
        </p:nvSpPr>
        <p:spPr>
          <a:xfrm>
            <a:off x="5572080" y="4500720"/>
            <a:ext cx="1008000" cy="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2"/>
          <p:cNvSpPr/>
          <p:nvPr/>
        </p:nvSpPr>
        <p:spPr>
          <a:xfrm>
            <a:off x="430200" y="565956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66"/>
                </a:solidFill>
                <a:latin typeface="Arial"/>
              </a:rPr>
              <a:t>An Example of Ove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Content Placeholder 6" descr=""/>
          <p:cNvPicPr/>
          <p:nvPr/>
        </p:nvPicPr>
        <p:blipFill>
          <a:blip r:embed="rId1"/>
          <a:stretch/>
        </p:blipFill>
        <p:spPr>
          <a:xfrm>
            <a:off x="700200" y="1257480"/>
            <a:ext cx="3744720" cy="3476520"/>
          </a:xfrm>
          <a:prstGeom prst="rect">
            <a:avLst/>
          </a:prstGeom>
          <a:ln w="0">
            <a:noFill/>
          </a:ln>
        </p:spPr>
      </p:pic>
      <p:pic>
        <p:nvPicPr>
          <p:cNvPr id="862" name="Content Placeholder 7" descr=""/>
          <p:cNvPicPr/>
          <p:nvPr/>
        </p:nvPicPr>
        <p:blipFill>
          <a:blip r:embed="rId2"/>
          <a:stretch/>
        </p:blipFill>
        <p:spPr>
          <a:xfrm>
            <a:off x="4643280" y="1260360"/>
            <a:ext cx="3380040" cy="34689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8"/>
          <p:cNvSpPr/>
          <p:nvPr/>
        </p:nvSpPr>
        <p:spPr>
          <a:xfrm>
            <a:off x="5969880" y="5200560"/>
            <a:ext cx="30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50% of membership in 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across DCPP and DCV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gt;50% of NTCP part of DCPP, DCV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"/>
          <p:cNvSpPr/>
          <p:nvPr/>
        </p:nvSpPr>
        <p:spPr>
          <a:xfrm>
            <a:off x="6449400" y="1103400"/>
            <a:ext cx="175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6666"/>
                </a:solidFill>
                <a:latin typeface="Arial"/>
                <a:ea typeface="Arial"/>
              </a:rPr>
              <a:t>DCVP focu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2" descr=""/>
          <p:cNvPicPr/>
          <p:nvPr/>
        </p:nvPicPr>
        <p:blipFill>
          <a:blip r:embed="rId3"/>
          <a:stretch/>
        </p:blipFill>
        <p:spPr>
          <a:xfrm>
            <a:off x="447840" y="4668840"/>
            <a:ext cx="5564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275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Other overl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Content Placeholder 5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6184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Group 6"/>
          <p:cNvGrpSpPr/>
          <p:nvPr/>
        </p:nvGrpSpPr>
        <p:grpSpPr>
          <a:xfrm>
            <a:off x="2411280" y="2205000"/>
            <a:ext cx="4416480" cy="3929040"/>
            <a:chOff x="2411280" y="2205000"/>
            <a:chExt cx="4416480" cy="3929040"/>
          </a:xfrm>
        </p:grpSpPr>
        <p:pic>
          <p:nvPicPr>
            <p:cNvPr id="869" name="Diagram 4" descr=""/>
            <p:cNvPicPr/>
            <p:nvPr/>
          </p:nvPicPr>
          <p:blipFill>
            <a:blip r:embed="rId1"/>
            <a:stretch/>
          </p:blipFill>
          <p:spPr>
            <a:xfrm>
              <a:off x="2411280" y="2334600"/>
              <a:ext cx="4416480" cy="32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Oval 1"/>
            <p:cNvSpPr/>
            <p:nvPr/>
          </p:nvSpPr>
          <p:spPr>
            <a:xfrm>
              <a:off x="2552040" y="2205000"/>
              <a:ext cx="3952440" cy="3929040"/>
            </a:xfrm>
            <a:prstGeom prst="ellipse">
              <a:avLst/>
            </a:prstGeom>
            <a:noFill/>
            <a:ln cap="sq"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TextBox 8"/>
          <p:cNvSpPr/>
          <p:nvPr/>
        </p:nvSpPr>
        <p:spPr>
          <a:xfrm>
            <a:off x="1007280" y="668160"/>
            <a:ext cx="73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 we </a:t>
            </a:r>
            <a:r>
              <a:rPr b="0" i="1" lang="en-CA" sz="2800" spc="-1" strike="noStrike">
                <a:solidFill>
                  <a:srgbClr val="006666"/>
                </a:solidFill>
                <a:latin typeface="Arial"/>
              </a:rPr>
              <a:t>unif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he several interests in decad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ariability and predi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Decadal Climate: how best to progr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Scientificall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would like to benefit from a seamless appro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oupled predi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thods of initialization &amp; ensemble gen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thods of treatment of shocks and drif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derstanding of predictability and mechanis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incorporating natural and anthropogenic forc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Challenge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: all of the above depend on the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timescal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initialization and deep oce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solution of models, ensemble size depend on forecast leng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umber of independent cases/start dates very differ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nthropogenic forcing change less an issue at shorter timesc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tc. etc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odified status qu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dded lay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onverge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66"/>
                </a:solidFill>
                <a:latin typeface="Arial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Modified status quo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GSIP covers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sub-season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 to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decadal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prediction of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forced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internally generated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limate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variation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(subsumes DCPP which earlier reported also to WG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LIVAR/DCVP covers decadal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variabilit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predictabilit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(DCPP involvement via Component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rand Challenge SG has responsibility for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GC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f Near Term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ther panels, working groups, projects, foci etc. each retain some interest in decadal climate and there is considerable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overlap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Added layer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: status quo plus </a:t>
            </a: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Decadal Climate Steering Group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or equivalent, coordinating/interacting with </a:t>
            </a: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curr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anels, working groups, projec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Convergence: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nified effort in decadal climate with </a:t>
            </a: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Working Group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 Decadal Climate (WGDC), </a:t>
            </a: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Enterprise Group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 Decadal Climate (EGDC), </a:t>
            </a: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Convergenc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Group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on Decadal Climate (CGDC) or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voids overlapping panels, steering group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oss-cutting in the sense of maintaining connections with working groups, projects etc. that have an interest in decadal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encompasse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merge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the DCPP, the DCVP, and the Grand Challenge and provides continuity in decadal climat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er,George [CCCMA]</dc:creator>
  <dc:description/>
  <dc:language>en-US</dc:language>
  <cp:lastModifiedBy>Catherine Michaut</cp:lastModifiedBy>
  <dcterms:modified xsi:type="dcterms:W3CDTF">2016-06-16T10:45:28Z</dcterms:modified>
  <cp:revision>196</cp:revision>
  <dc:subject/>
  <dc:title>Decadal prediction</dc:title>
</cp:coreProperties>
</file>