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dt" idx="55"/>
          </p:nvPr>
        </p:nvSpPr>
        <p:spPr>
          <a:xfrm>
            <a:off x="388440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ftr" idx="56"/>
          </p:nvPr>
        </p:nvSpPr>
        <p:spPr>
          <a:xfrm>
            <a:off x="-36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 type="sldNum" idx="57"/>
          </p:nvPr>
        </p:nvSpPr>
        <p:spPr>
          <a:xfrm>
            <a:off x="3884400" y="87721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4E1-B74A-4A6D-BEF5-D682F8FE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FFCA-6B84-4AAA-9720-8DE29AD6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206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87320"/>
            <a:ext cx="54864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3884760" y="877248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363C-ACB9-4872-8813-1411A26D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2DE-E627-42A7-80A2-30DDCB59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377-C9E7-40DA-943F-A30689EF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D4BB-5BA1-462F-9EE8-C7314D67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37BE6-CF25-476F-85B8-4B9DF5B3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6F45C-2FAC-4409-A721-9CFDA74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66C7-0088-4773-9A9E-9CE284E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6BD58-EFDA-4692-B80D-79145587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18C14-F47B-4769-A047-6875BEF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FB0CC-B199-4C71-8BC0-C07B21E1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57795-720C-4911-BEC4-EA3D780E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3A599-8670-460F-9C8F-F61DBADB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541DB-E8BA-46E6-A52B-48B6BAA2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BD6-90F5-4998-B7EF-15068061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A241A-2D39-4A4B-B3BF-F1EB2CD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1C7D1-173F-4149-98E8-DDD63F3D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646B1-55B9-498F-9658-78021922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FAD16-4CAD-4B1D-93C0-008EB253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FDAD0-D760-4856-9352-1694DFA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886C6-03F3-4085-95A9-2ABA770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2BD77-CA8B-4027-9E4A-8E960819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D1BFB-8654-4B99-A22D-7FE7FD4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E27F8-D549-4715-9931-94EAB002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2498B-5786-4DBF-A6A6-EE2C6BA0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0AD-12BC-4510-970F-FD7AB7AD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FD7B1-84FB-4DD3-86D4-97272826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6CBDC-2F3E-4D2D-B11E-2A1A332A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E7C37-CE68-47A6-9F3D-C8711B2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28A7-FE76-43E7-93C4-2B0BA32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28277-EC32-48F0-8932-FF976B3D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C5387-A946-4364-9EEF-6F36F27D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07D0C-891D-4E27-9CB1-AE9BB62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3860A-9A5B-4F53-9CB1-F15A327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1C09A-9E26-431E-86D4-E516BFAA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84E81-2E0A-4DFF-81EA-36CCFCA9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73D2-EAD6-42E7-8A6C-C735904B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643A0-4EFF-480B-B224-374FF68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7FFAD-3261-49C9-8132-8EDFB370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800E-C2D6-4DA9-BEFD-1CEC784B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D20F6-427D-4330-B195-D7D59249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E630-6664-4148-8379-0FDC1706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250F3-19CC-4CE7-8046-92BCADF0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F3CBA-F351-4978-B2C1-D7133967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DF611-5894-4F8F-A8AF-A7AC9B22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3F837-AE6B-4291-840F-3CCB93E6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EF906-5C74-4FD6-A2E2-9186134C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96BB-D1FF-46A3-9B54-52A062E5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93AF6-E443-42D0-99DC-13AF230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08905-A403-4122-B076-D7E1346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1F39A-856B-462C-B117-E8DDC52C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207DC-88D5-49E2-AC61-22575F25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47BF68-B19F-489A-B9D9-09164BB1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42FE2-55E2-44B7-83D8-DDB4FD6A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5CB7B-14DD-40AA-9E7B-A25228F0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719F0-17FE-4A02-9926-B055843F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D3729-6C67-4C5E-86E3-6F1CF2C5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FEA86-1294-435C-BF5B-4AB1498B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A522-D6DC-46C0-8F16-177424B4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E41D0-B9FC-4519-BE0B-86E5C57D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F3A20-604C-4A8D-91BB-8D48F75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CCD29-6458-42B9-BF2B-8DE68AD9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DDC3B-E675-4EBB-923E-FCB5DF6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09FE2F-7746-4381-B81C-B3C940E6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FCB19-55B8-41EE-98D3-BC39DB455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8EA6F9-946B-4ED4-A674-0C39307D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B83BF-956A-4572-8880-6299EFC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D642C-1E4F-4733-A75E-6DB664A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E4443-84FE-4E21-9267-8A450004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1EFD-D0BB-4AB8-9364-773260A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91B9E-F73F-4F43-9B63-03B814B7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9CE374-B39A-451D-B522-C71ADD2B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5F30A-5589-4A72-93DD-2987330D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4EB30-B41B-4B50-82A5-9A5BBDA1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4268E-7181-4731-BBA7-55B6A04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D3CB8-D442-4D1F-AA17-2CCA529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5AB0E-9E62-43EC-8678-D42ABA82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19A27-1BD3-4440-8E47-350280E19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CCA691-D52B-4705-8469-E8E545FB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99E59-2101-49B3-8F33-288BEE7A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7524-0317-4AA1-8450-6581900B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9EAA0-2F57-43FC-BFBE-4A4CE7F6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AD36B-D1AC-43CA-BF31-615C1103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D6A477-F75D-4F61-B00D-AE5B328D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D72EA-CBB1-4A1A-BF1B-CA1A1F72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037443-E397-44D6-A89A-8432499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9B3152-31DD-4195-BBA4-DBEAB7E2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43259-2F4D-4168-9911-05DE3E0B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D9D675-5727-437A-93C3-0E44764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E7F532-E5DF-42C6-9747-2E2334DD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DB2AA-48FC-4409-945C-D3877589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AB9F-1240-4463-B135-5B7DBDC9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711237-49D4-4084-A332-EFB1F832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7A378-F60A-4D03-BC75-94C2F512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16E85-DC97-46EF-BCA5-80BD9271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383EC-92F8-40D2-8F5C-DFD8CFAE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5FA43-C21B-4D94-AF59-D32AC7C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37680-0170-48C0-894E-A53C2ADF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B279F-7B18-46F0-AE7D-0FEA25C8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CA116-E7F0-42DF-B631-E36542E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11C4D-EDA8-4D9B-85C8-C04942CF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CF005-B99A-4305-A5AD-2859AAAA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D349-56DE-4003-83D4-AA494BB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968C1-0D18-47A6-B542-8D5F215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031F9-8A7E-4337-BDDD-B982F476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77658-A9AA-4C45-A165-367085F0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A1B63-97B0-4971-9F75-45B013CF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E12E6-4802-4775-9EA7-06FC157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00CD78-D5F1-4648-8C47-705D92EE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0F751-1CC3-4CD1-BDD7-4B04C85B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FF0FCB-4437-4AE8-82A6-B171837C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3ADA4-97B1-4D51-8832-520D4CA2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E9471-66A5-4630-B278-FF5A6CF5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975-C505-4459-BA81-0191B18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BBF7-9D36-41D9-BB22-44A3D972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73321-4D0F-4D79-A518-CE6B625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84D8C-AA89-492B-80D7-7FEA187E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6703F-E18C-4285-BB3E-BD5F9B1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30158D-CDB5-4108-A928-EB2AB9F5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A3749-81EB-4A8A-A261-9D736C9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0F4AD2-1DD5-4AC1-B1B3-30F0A26E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03151-C8F9-432C-BA0D-24261914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59967E-71D0-4F82-BDA7-835E0346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7F5FB-8315-4DF5-B59A-C5D87497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E3426-F1D1-4F4A-8239-52F8E8F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3855-C7F9-4BFF-BF2A-654CD02E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FF845-967E-4962-AAD5-3CB7985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7E9D72-BA19-437D-B20C-7E037C6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BBC10-5F48-45C6-9585-7AA16741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EB18A-9448-4BEE-9991-798BF51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8ADF4-0B62-4611-874C-956D4F40F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C63B47-83C4-423F-9ED1-C3FB6B8C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6CB49-3CBB-47CF-8A17-98AC9953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B3C1-EC5F-4CDF-AFA6-1F5F7C4B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5158-BDBC-47F0-8F36-E8D1050F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47A7-2507-40ED-9376-0D8482A7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B3DE6-2F34-4131-8D43-24FBD15C2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E8E5-7350-4D89-9DE0-93C0C288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25AB-BCE6-415D-964B-6EEE4264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8564-3E1D-428C-9577-FD3F843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CE5DB-8FC8-4448-A672-5D48B21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1DD-7C6E-4A31-925E-F6DD0FCF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B390C-660E-47A6-A9C5-C05FC5B3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375C-0188-4B83-A9C2-AAE38F7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D697-C5B9-4999-88FB-0F13053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16229-074E-43AD-B4A2-99E79E3F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0F3DF-5D99-4A60-86DC-A9C08104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8681-8FD9-49FC-88E3-80866263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55E2C-D91F-4F9C-86E0-902BFA96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78F3-8481-4DCD-929E-318153D3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6C4C-77FF-4498-9E89-7334805A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E2899-4A95-4233-827B-20B38896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DBF9-B9E3-49FE-B05B-DDE95100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E213-2587-4BBA-9C77-10290C1E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87BD-F1CB-432A-8050-3F690401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74A85-3C0E-4537-B882-0145434A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0BE1-17E1-413F-AD83-E7E8CE9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6F69-9699-4D4C-9F90-F453B135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3F9B-6847-4252-A33A-008908F3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B47D6-3241-40E5-9065-058AF946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601F-D797-4A89-99D9-0A5C7AA5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2BA68-469F-49D7-9A75-A01445E17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760C-56ED-4B32-A582-DC03F268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A71C-FAFA-4A62-A45C-E96028B2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84FBB-05A8-4608-A9AF-5E4C847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E30C-1F6C-4E7A-A8CF-FE9F9545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D1BB-0310-43B2-AC0B-0A2D01C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FBD0-0456-4A60-993E-FEE8D0C7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8E0B4-AE96-49D9-8B05-F96687DB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A350-D612-4D96-8DAB-F6CE6D61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0BD12-6AEB-4A3F-8DCD-06547B0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A0A38-E2AA-4397-82B2-5D6696BF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16D3E-1F0C-4168-A75E-EFDEAD5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0ABCA-A087-44A4-A7B6-79C43DFB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65E-9630-4BE7-9577-082821F0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15CBE-32FC-4FBE-A7FE-3EB44B66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01DB4-9067-404F-B2E2-2D085909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4EE6E-232F-4417-AA69-935D2405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BA7F-7D8E-4D98-9FFB-5EC4DD94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E580-50D4-4893-B4C5-AEA8B27A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F9FBF-47CA-4137-B097-8B8CFC09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1FA5B-A85E-4DAB-87C0-356AF13C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E3FC8-1682-49A5-A1C0-E5DFD15A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E3121-A954-4FC5-BC93-282B2F8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9603E-D361-4D89-AFF8-20A7D486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E98-A185-441E-B6CF-7EA1124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9ECD-9F15-43E3-B3D6-C88FE59D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08F5-38E1-4BEA-8B85-9E26FA81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B5CBC-0199-4C79-97EF-91EDBFDD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6A6A0-C750-4A63-B47E-D4B9FAAB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B4C06-98F9-48BA-8218-453BD667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F565E-6074-4E41-A380-091C32CC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720CB-6C56-4429-8CB4-9813811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25DEC-0FFB-4880-A5EC-9036DD4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07B7-08B6-4C9F-96F4-14432A00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F3C51-432A-44B4-9A23-A923D3CD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DE4-6C60-4ECA-A96A-E8B00AFD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DD91-2507-4B73-ADCA-D7810440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5D1FD-AF7F-46A3-8967-27CCEAB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D5AF5-51AC-4F18-81CA-2E9FCCF3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FAF38-EFF3-4B7F-A59A-C9407358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1C713-656A-4DE3-8D55-9142F3E7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D0A3A-5C90-4D33-B1AD-BB9825CC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CF8A1-9D4D-41B1-B3F3-430EEEF2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E23B6-0143-45CC-9109-1FE145D5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E8FBF-C481-4626-BC2B-5AFC239A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9FE6E-6EFF-4AD5-87AF-F011B82D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67F9-F06D-4E5F-89B3-1A5F92B3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B77B8-68F1-4F12-B899-8F376833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86DA9-321E-4EB6-A786-81EACCF8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23A4-5114-442B-83D2-44AF9099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8FDE0-DA16-42AC-BA7A-CFAF65CA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903DD-1497-4189-A1B2-4CA5634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8C153-CB62-4830-9FEE-097A98FF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1FE3-F379-4874-83A3-AC89A3EF4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561D9-8924-430F-817E-E78BA87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20AC8-478E-4AA9-AEF6-56A1AC0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26AD9-9DAC-4794-A5D4-DFF90794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D59F-0274-4304-915B-608E0D9CB6E7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5DE7-AEFC-4EC4-8E6E-74ED0B916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971E-5492-45B2-89CE-0DE11CD90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003-22E0-472F-8457-1E8FEE730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1A3-8ED0-4945-9435-F2DDF2C44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2C9-53FE-498F-B25C-6AB3FDDA4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F1A7-BC1B-47FD-BA9A-FCBC53A68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6AF4-0651-4065-9AB4-8DEFC2E7D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606-5437-4C51-9144-8ACC7295F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D6CD-CD8C-4E98-8F28-4E8F6993EA39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9F66-CCE3-4D12-8AB0-0EE6A24B8AC8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9BEA-5829-49D7-91C6-BDA5F59E3A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B0E-3C78-4DE3-9780-0727F7B83916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6223-EFF0-46DE-81A3-406766AAAAD6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9A8E-A2D3-4763-82E0-55BDE6ECE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60F3-41AB-4B76-AF06-EA8B4E531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E81-BA68-4623-8E3A-66C7647C7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3A15-361A-4E30-A5F9-D7A0C3E50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908000" y="387360"/>
            <a:ext cx="5556600" cy="44910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"/>
          <p:cNvSpPr/>
          <p:nvPr/>
        </p:nvSpPr>
        <p:spPr>
          <a:xfrm>
            <a:off x="1637640" y="5273640"/>
            <a:ext cx="60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hat is our Vision for Decad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Climate Research in the WC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Whither decadal climate rese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ny groups/organization have interests in decadal predi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anels, SGs, WGs, foci, concept groups….. (some people are members of 4 or more of the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tions include: modified status quo, added layer, convergence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Arial"/>
              </a:rPr>
              <a:t>Choices for JSC/WMAC to consider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Modified status qu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WGSIP, CLIVAR/DCVP, GC SG,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Added 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ecadal Climate Steering Group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Convergence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Group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for decadal clim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 CGDC, EGDC, WGDC,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66"/>
                </a:solidFill>
                <a:latin typeface="Arial"/>
              </a:rPr>
              <a:t>Evolution by consultation</a:t>
            </a: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ia web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G and WG chairs, JSC members with decadal climate inter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of WCRP panels, WGs, foci, concept groups etc. with some interest in decadal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s there a consensus on a WCRP approach to decadal clima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7848720" cy="30099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66"/>
                </a:solidFill>
                <a:latin typeface="Verdana"/>
              </a:rPr>
              <a:t>Broad interests in decadal climate variability and pred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Sub-seasonal to (inter)annual predic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rced climate</a:t>
            </a:r>
            <a:r>
              <a:rPr b="1" lang="en-C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hange and natural vari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oordinated experimentation including scenarios, decadal prediction …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LIVAR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cus” on decadal variability and predict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Ocean aspects, initializ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lang="en-CA" sz="1000" spc="-1" strike="noStrike">
                <a:solidFill>
                  <a:srgbClr val="000000"/>
                </a:solidFill>
                <a:latin typeface="Verdana"/>
              </a:rPr>
              <a:t>of Near Term Climate Predi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research and development leading toward operational annual, multi-annual forecas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IPC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Near term climate a focus of AR5 and expected to be an important contribution to AR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DCPP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Decadal climate prediction project currently reports to WGSIP and WGCM, is an endorsed CMIP MIP and has connections to all group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7" name="Group 7"/>
          <p:cNvGrpSpPr/>
          <p:nvPr/>
        </p:nvGrpSpPr>
        <p:grpSpPr>
          <a:xfrm>
            <a:off x="1400040" y="3268800"/>
            <a:ext cx="5495760" cy="3531960"/>
            <a:chOff x="1400040" y="3268800"/>
            <a:chExt cx="5495760" cy="3531960"/>
          </a:xfrm>
        </p:grpSpPr>
        <p:sp>
          <p:nvSpPr>
            <p:cNvPr id="818" name="Isosceles Triangle 2"/>
            <p:cNvSpPr/>
            <p:nvPr/>
          </p:nvSpPr>
          <p:spPr>
            <a:xfrm>
              <a:off x="1400040" y="3517560"/>
              <a:ext cx="1994760" cy="163404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21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1"/>
            <p:cNvSpPr/>
            <p:nvPr/>
          </p:nvSpPr>
          <p:spPr>
            <a:xfrm>
              <a:off x="4834800" y="428760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4"/>
            <p:cNvSpPr/>
            <p:nvPr/>
          </p:nvSpPr>
          <p:spPr>
            <a:xfrm>
              <a:off x="3994560" y="5376240"/>
              <a:ext cx="1825560" cy="1424520"/>
            </a:xfrm>
            <a:prstGeom prst="ellipse">
              <a:avLst/>
            </a:prstGeom>
            <a:solidFill>
              <a:srgbClr val="def3f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8"/>
            <p:cNvSpPr/>
            <p:nvPr/>
          </p:nvSpPr>
          <p:spPr>
            <a:xfrm>
              <a:off x="2015640" y="428760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ounded Rectangle 6"/>
            <p:cNvSpPr/>
            <p:nvPr/>
          </p:nvSpPr>
          <p:spPr>
            <a:xfrm>
              <a:off x="3436200" y="3268800"/>
              <a:ext cx="1994760" cy="137700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8"/>
            <p:cNvSpPr/>
            <p:nvPr/>
          </p:nvSpPr>
          <p:spPr>
            <a:xfrm>
              <a:off x="5076000" y="4151160"/>
              <a:ext cx="1728360" cy="1437480"/>
            </a:xfrm>
            <a:prstGeom prst="rect">
              <a:avLst/>
            </a:prstGeom>
            <a:solidFill>
              <a:srgbClr val="33cccc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5"/>
            <p:cNvSpPr/>
            <p:nvPr/>
          </p:nvSpPr>
          <p:spPr>
            <a:xfrm>
              <a:off x="2725920" y="3964680"/>
              <a:ext cx="2035080" cy="1963440"/>
            </a:xfrm>
            <a:prstGeom prst="ellipse">
              <a:avLst/>
            </a:prstGeom>
            <a:solidFill>
              <a:srgbClr val="adffff"/>
            </a:solidFill>
            <a:ln cap="sq" w="12600">
              <a:solidFill>
                <a:srgbClr val="000000">
                  <a:alpha val="76000"/>
                </a:srgbClr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7"/>
            <p:cNvSpPr/>
            <p:nvPr/>
          </p:nvSpPr>
          <p:spPr>
            <a:xfrm>
              <a:off x="3355920" y="49993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S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Box 10"/>
            <p:cNvSpPr/>
            <p:nvPr/>
          </p:nvSpPr>
          <p:spPr>
            <a:xfrm>
              <a:off x="4277880" y="3623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M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Box 11"/>
            <p:cNvSpPr/>
            <p:nvPr/>
          </p:nvSpPr>
          <p:spPr>
            <a:xfrm>
              <a:off x="5367960" y="506844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9"/>
            <p:cNvSpPr/>
            <p:nvPr/>
          </p:nvSpPr>
          <p:spPr>
            <a:xfrm>
              <a:off x="4495680" y="60433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LI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30" name="Group 1"/>
          <p:cNvGrpSpPr/>
          <p:nvPr/>
        </p:nvGrpSpPr>
        <p:grpSpPr>
          <a:xfrm>
            <a:off x="1387440" y="1125360"/>
            <a:ext cx="6218280" cy="3232440"/>
            <a:chOff x="1387440" y="1125360"/>
            <a:chExt cx="6218280" cy="3232440"/>
          </a:xfrm>
        </p:grpSpPr>
        <p:pic>
          <p:nvPicPr>
            <p:cNvPr id="831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Line 5"/>
            <p:cNvSpPr/>
            <p:nvPr/>
          </p:nvSpPr>
          <p:spPr>
            <a:xfrm flipV="1">
              <a:off x="3752640" y="1541880"/>
              <a:ext cx="0" cy="176760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6"/>
            <p:cNvSpPr/>
            <p:nvPr/>
          </p:nvSpPr>
          <p:spPr>
            <a:xfrm>
              <a:off x="3549960" y="1345320"/>
              <a:ext cx="2230560" cy="301248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"/>
          <p:cNvSpPr/>
          <p:nvPr/>
        </p:nvSpPr>
        <p:spPr>
          <a:xfrm>
            <a:off x="2302200" y="459432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y-week      week-year    year -decade  decade-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5"/>
          <p:cNvSpPr/>
          <p:nvPr/>
        </p:nvSpPr>
        <p:spPr>
          <a:xfrm>
            <a:off x="4583160" y="48988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Deca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1"/>
          <p:cNvSpPr/>
          <p:nvPr/>
        </p:nvSpPr>
        <p:spPr>
          <a:xfrm>
            <a:off x="3389760" y="4898880"/>
            <a:ext cx="12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ub-sea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ea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22"/>
          <p:cNvSpPr/>
          <p:nvPr/>
        </p:nvSpPr>
        <p:spPr>
          <a:xfrm>
            <a:off x="2242440" y="48988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Wea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fore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23"/>
          <p:cNvSpPr/>
          <p:nvPr/>
        </p:nvSpPr>
        <p:spPr>
          <a:xfrm>
            <a:off x="5583240" y="490212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"/>
          <p:cNvSpPr/>
          <p:nvPr/>
        </p:nvSpPr>
        <p:spPr>
          <a:xfrm>
            <a:off x="2097360" y="5421240"/>
            <a:ext cx="522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least currently, approaches and results depend on </a:t>
            </a:r>
            <a:r>
              <a:rPr b="0" lang="en-CA" sz="14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mosphere/land/ocean initialization, ensembl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solution of models, ensembl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ependent realizations, start 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ternal forcing, d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5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variability and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 or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7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Text Box 7"/>
            <p:cNvSpPr/>
            <p:nvPr/>
          </p:nvSpPr>
          <p:spPr>
            <a:xfrm>
              <a:off x="3464280" y="465444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Text Box 8"/>
            <p:cNvSpPr/>
            <p:nvPr/>
          </p:nvSpPr>
          <p:spPr>
            <a:xfrm>
              <a:off x="5559480" y="469440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6"/>
          <p:cNvGrpSpPr/>
          <p:nvPr/>
        </p:nvGrpSpPr>
        <p:grpSpPr>
          <a:xfrm>
            <a:off x="2150280" y="4653000"/>
            <a:ext cx="3522960" cy="703800"/>
            <a:chOff x="2150280" y="4653000"/>
            <a:chExt cx="3522960" cy="703800"/>
          </a:xfrm>
        </p:grpSpPr>
        <p:sp>
          <p:nvSpPr>
            <p:cNvPr id="853" name="Text Box 7"/>
            <p:cNvSpPr/>
            <p:nvPr/>
          </p:nvSpPr>
          <p:spPr>
            <a:xfrm>
              <a:off x="2150280" y="465300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Text Box 7"/>
            <p:cNvSpPr/>
            <p:nvPr/>
          </p:nvSpPr>
          <p:spPr>
            <a:xfrm>
              <a:off x="4532400" y="4653000"/>
              <a:ext cx="114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Deca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Clim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13"/>
          <p:cNvSpPr/>
          <p:nvPr/>
        </p:nvSpPr>
        <p:spPr>
          <a:xfrm>
            <a:off x="4619520" y="4546440"/>
            <a:ext cx="92088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18"/>
          <p:cNvSpPr/>
          <p:nvPr/>
        </p:nvSpPr>
        <p:spPr>
          <a:xfrm>
            <a:off x="5572080" y="450072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n Example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Content Placeholder 6" descr=""/>
          <p:cNvPicPr/>
          <p:nvPr/>
        </p:nvPicPr>
        <p:blipFill>
          <a:blip r:embed="rId1"/>
          <a:stretch/>
        </p:blipFill>
        <p:spPr>
          <a:xfrm>
            <a:off x="700200" y="1257480"/>
            <a:ext cx="3744720" cy="3476520"/>
          </a:xfrm>
          <a:prstGeom prst="rect">
            <a:avLst/>
          </a:prstGeom>
          <a:ln w="0">
            <a:noFill/>
          </a:ln>
        </p:spPr>
      </p:pic>
      <p:pic>
        <p:nvPicPr>
          <p:cNvPr id="862" name="Content Placeholder 7" descr=""/>
          <p:cNvPicPr/>
          <p:nvPr/>
        </p:nvPicPr>
        <p:blipFill>
          <a:blip r:embed="rId2"/>
          <a:stretch/>
        </p:blipFill>
        <p:spPr>
          <a:xfrm>
            <a:off x="4643280" y="1260360"/>
            <a:ext cx="3380040" cy="3468960"/>
          </a:xfrm>
          <a:prstGeom prst="rect">
            <a:avLst/>
          </a:prstGeom>
          <a:ln w="0">
            <a:noFill/>
          </a:ln>
        </p:spPr>
      </p:pic>
      <p:sp>
        <p:nvSpPr>
          <p:cNvPr id="863" name="TextBox 8"/>
          <p:cNvSpPr/>
          <p:nvPr/>
        </p:nvSpPr>
        <p:spPr>
          <a:xfrm>
            <a:off x="5969880" y="5200560"/>
            <a:ext cx="30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cross DCPP and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gt;50% of NTCP part of DCPP,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"/>
          <p:cNvSpPr/>
          <p:nvPr/>
        </p:nvSpPr>
        <p:spPr>
          <a:xfrm>
            <a:off x="6449400" y="1103400"/>
            <a:ext cx="175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focu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2" descr=""/>
          <p:cNvPicPr/>
          <p:nvPr/>
        </p:nvPicPr>
        <p:blipFill>
          <a:blip r:embed="rId3"/>
          <a:stretch/>
        </p:blipFill>
        <p:spPr>
          <a:xfrm>
            <a:off x="447840" y="4668840"/>
            <a:ext cx="556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2755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Other overl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Content Placeholder 5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618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6"/>
          <p:cNvGrpSpPr/>
          <p:nvPr/>
        </p:nvGrpSpPr>
        <p:grpSpPr>
          <a:xfrm>
            <a:off x="2411280" y="2205000"/>
            <a:ext cx="4416480" cy="3929040"/>
            <a:chOff x="2411280" y="2205000"/>
            <a:chExt cx="4416480" cy="3929040"/>
          </a:xfrm>
        </p:grpSpPr>
        <p:pic>
          <p:nvPicPr>
            <p:cNvPr id="869" name="Diagram 4" descr=""/>
            <p:cNvPicPr/>
            <p:nvPr/>
          </p:nvPicPr>
          <p:blipFill>
            <a:blip r:embed="rId1"/>
            <a:stretch/>
          </p:blipFill>
          <p:spPr>
            <a:xfrm>
              <a:off x="2411280" y="2334600"/>
              <a:ext cx="4416480" cy="32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Oval 1"/>
            <p:cNvSpPr/>
            <p:nvPr/>
          </p:nvSpPr>
          <p:spPr>
            <a:xfrm>
              <a:off x="2552040" y="2205000"/>
              <a:ext cx="3952440" cy="3929040"/>
            </a:xfrm>
            <a:prstGeom prst="ellipse">
              <a:avLst/>
            </a:prstGeom>
            <a:noFill/>
            <a:ln cap="sq"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TextBox 8"/>
          <p:cNvSpPr/>
          <p:nvPr/>
        </p:nvSpPr>
        <p:spPr>
          <a:xfrm>
            <a:off x="1007280" y="668160"/>
            <a:ext cx="73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 we </a:t>
            </a:r>
            <a:r>
              <a:rPr b="0" i="1" lang="en-CA" sz="2800" spc="-1" strike="noStrike">
                <a:solidFill>
                  <a:srgbClr val="006666"/>
                </a:solidFill>
                <a:latin typeface="Arial"/>
              </a:rPr>
              <a:t>unif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he several interests in decad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ariability and predi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Decadal Climate: how best to prog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Scientificall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would like to benefit from a seamless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upled predi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thods of initialization &amp; ensemble gen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thods of treatment of shocks and drif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derstanding of predictability and mechanis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corporating natural and anthropogenic forc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Challeng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all of the above depend on th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initialization and deep oce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resolution of models, ensemble size depend on forecast leng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number of independent cases/start dates very differ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nthropogenic forcing change less an issue at shorter timesca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etc. etc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modified status qu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ed lay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Modified status quo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GSIP covers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sub-seasona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l to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decada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prediction of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internally generated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imat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varia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(subsumes DCPP which earlier reported also to WG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LIVAR/DCVP covers decadal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variabili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predictability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(DCPP involvement via Component 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rand Challenge SG has responsibility for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GC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f Near Term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ther panels, working groups, projects, foci etc. each retain some interest in decadal climate and there is considerable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overlap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Added layer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: status quo plus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Decadal Climate Steering Grou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, or equivalent, coordinating/interacting with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urren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panels, working groups, projec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onvergence: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nified effort in decadal climate with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Working Group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Decadal Climate (WGDC),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Enterprise Group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on Decadal Climate (EGDC),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Converge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6666"/>
                </a:solidFill>
                <a:latin typeface="Arial"/>
              </a:rPr>
              <a:t>Group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on Decadal Climate (CGDC) or equival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voids overlapping panels, steering group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ross-cutting in the sense of maintaining connections with working groups, projects etc. that have an interest in decadal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encompass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800" spc="-1" strike="noStrike">
                <a:solidFill>
                  <a:srgbClr val="006666"/>
                </a:solidFill>
                <a:latin typeface="Arial"/>
              </a:rPr>
              <a:t>merg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 DCPP, the DCVP, and the Grand Challenge and provides continuity in decadal climat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6-06-16T10:45:28Z</dcterms:modified>
  <cp:revision>196</cp:revision>
  <dc:subject/>
  <dc:title>Decadal prediction</dc:title>
</cp:coreProperties>
</file>