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4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1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350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388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4" descr="COM1016_corp_banner__03"/>
          <p:cNvPicPr/>
          <p:nvPr/>
        </p:nvPicPr>
        <p:blipFill>
          <a:blip r:embed="rId3"/>
          <a:srcRect l="0" t="0" r="0" b="11973"/>
          <a:stretch/>
        </p:blipFill>
        <p:spPr>
          <a:xfrm>
            <a:off x="0" y="83664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4" descr="COM1016_corp_banner__03"/>
          <p:cNvPicPr/>
          <p:nvPr/>
        </p:nvPicPr>
        <p:blipFill>
          <a:blip r:embed="rId3"/>
          <a:srcRect l="0" t="0" r="0" b="11973"/>
          <a:stretch/>
        </p:blipFill>
        <p:spPr>
          <a:xfrm>
            <a:off x="0" y="83664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4"/>
          <p:cNvSpPr/>
          <p:nvPr/>
        </p:nvSpPr>
        <p:spPr>
          <a:xfrm>
            <a:off x="755640" y="6093000"/>
            <a:ext cx="813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Page </a:t>
            </a:r>
            <a:fld id="{6A67D41C-FA94-4D09-A671-6D006AEFB1DF}" type="slidenum"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r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fld id="{A213A295-1216-4268-9491-50D8DB83B67B}" type="datetime3"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July 30, 2026</a:t>
            </a:fld>
            <a:endParaRPr b="0" lang="en-US" sz="10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30"/>
          <p:cNvSpPr/>
          <p:nvPr/>
        </p:nvSpPr>
        <p:spPr>
          <a:xfrm>
            <a:off x="826920" y="1268280"/>
            <a:ext cx="8317080" cy="0"/>
          </a:xfrm>
          <a:prstGeom prst="line">
            <a:avLst/>
          </a:prstGeom>
          <a:ln w="28440">
            <a:solidFill>
              <a:srgbClr val="3a60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4"/>
          <p:cNvSpPr/>
          <p:nvPr/>
        </p:nvSpPr>
        <p:spPr>
          <a:xfrm>
            <a:off x="755640" y="6093000"/>
            <a:ext cx="813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Page </a:t>
            </a:r>
            <a:fld id="{B4CF3A97-53E9-4820-A93C-B2138DE55669}" type="slidenum"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r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fld id="{BB985B36-3373-461D-9F32-26F48BD3C878}" type="datetime3"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July 30, 2026</a:t>
            </a:fld>
            <a:endParaRPr b="0" lang="en-US" sz="10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826920" y="1268280"/>
            <a:ext cx="8317080" cy="0"/>
          </a:xfrm>
          <a:prstGeom prst="line">
            <a:avLst/>
          </a:prstGeom>
          <a:ln w="28440">
            <a:solidFill>
              <a:srgbClr val="3a60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119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157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195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233" name="Picture 2" descr="MO_RGB_transpbackg.png"/>
          <p:cNvPicPr/>
          <p:nvPr/>
        </p:nvPicPr>
        <p:blipFill>
          <a:blip r:embed="rId2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MO_RGB_whitebackg.jpg"/>
          <p:cNvPicPr/>
          <p:nvPr/>
        </p:nvPicPr>
        <p:blipFill>
          <a:blip r:embed="rId3"/>
          <a:stretch/>
        </p:blipFill>
        <p:spPr>
          <a:xfrm>
            <a:off x="152280" y="133200"/>
            <a:ext cx="1595520" cy="1460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274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312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842920" y="2852640"/>
            <a:ext cx="36003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GNE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547640" y="4508640"/>
            <a:ext cx="604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yrton Zadra and Keith Williams (WGNE co-chai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MAC5 25/04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760320" y="6119640"/>
            <a:ext cx="82854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95240" y="1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a601b"/>
                </a:solidFill>
                <a:latin typeface="Arial"/>
              </a:rPr>
              <a:t>Comparison of averaged surface torque components – winter month</a:t>
            </a:r>
            <a:endParaRPr b="1" lang="en-US" sz="2400" spc="-1" strike="noStrike">
              <a:solidFill>
                <a:srgbClr val="3a601b"/>
              </a:solidFill>
              <a:latin typeface="Arial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2"/>
          <a:stretch/>
        </p:blipFill>
        <p:spPr>
          <a:xfrm>
            <a:off x="1425600" y="1612800"/>
            <a:ext cx="6629400" cy="4981680"/>
          </a:xfrm>
          <a:prstGeom prst="rect">
            <a:avLst/>
          </a:prstGeom>
          <a:ln w="0">
            <a:noFill/>
          </a:ln>
        </p:spPr>
      </p:pic>
      <p:sp>
        <p:nvSpPr>
          <p:cNvPr id="530" name="Oval 1"/>
          <p:cNvSpPr/>
          <p:nvPr/>
        </p:nvSpPr>
        <p:spPr>
          <a:xfrm>
            <a:off x="5022720" y="1569960"/>
            <a:ext cx="1940040" cy="469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760320" y="6119640"/>
            <a:ext cx="82854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2"/>
          <a:stretch/>
        </p:blipFill>
        <p:spPr>
          <a:xfrm>
            <a:off x="1349280" y="1641600"/>
            <a:ext cx="6696000" cy="498132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5240" y="1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a601b"/>
                </a:solidFill>
                <a:latin typeface="Arial"/>
              </a:rPr>
              <a:t>Comparison of averaged surface torque components – winter month</a:t>
            </a:r>
            <a:endParaRPr b="1" lang="en-US" sz="24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34" name="Oval 4"/>
          <p:cNvSpPr/>
          <p:nvPr/>
        </p:nvSpPr>
        <p:spPr>
          <a:xfrm>
            <a:off x="5627520" y="1612800"/>
            <a:ext cx="787680" cy="398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60320" y="6119640"/>
            <a:ext cx="82854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536" name="Content Placeholder 3" descr=""/>
          <p:cNvPicPr/>
          <p:nvPr/>
        </p:nvPicPr>
        <p:blipFill>
          <a:blip r:embed="rId2"/>
          <a:stretch/>
        </p:blipFill>
        <p:spPr>
          <a:xfrm>
            <a:off x="1403280" y="1617840"/>
            <a:ext cx="6666120" cy="4959000"/>
          </a:xfrm>
          <a:prstGeom prst="rect">
            <a:avLst/>
          </a:prstGeom>
          <a:ln w="0">
            <a:noFill/>
          </a:ln>
        </p:spPr>
      </p:pic>
      <p:sp>
        <p:nvSpPr>
          <p:cNvPr id="537" name="Oval 3"/>
          <p:cNvSpPr/>
          <p:nvPr/>
        </p:nvSpPr>
        <p:spPr>
          <a:xfrm>
            <a:off x="5570640" y="1584360"/>
            <a:ext cx="885600" cy="469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95240" y="1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a601b"/>
                </a:solidFill>
                <a:latin typeface="Arial"/>
              </a:rPr>
              <a:t>Comparison of averaged surface torque components – winter month</a:t>
            </a:r>
            <a:endParaRPr b="1" lang="en-US" sz="2400" spc="-1" strike="noStrike">
              <a:solidFill>
                <a:srgbClr val="3a60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760320" y="6119640"/>
            <a:ext cx="82854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41" name="Title 1"/>
          <p:cNvSpPr/>
          <p:nvPr/>
        </p:nvSpPr>
        <p:spPr>
          <a:xfrm>
            <a:off x="977760" y="344520"/>
            <a:ext cx="7533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a601b"/>
                </a:solidFill>
                <a:latin typeface="Arial"/>
                <a:ea typeface="Arial Unicode MS"/>
              </a:rPr>
              <a:t>WGNE Drag Project</a:t>
            </a:r>
            <a:endParaRPr b="0" lang="en-US" sz="32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42" name="TextBox 1"/>
          <p:cNvSpPr/>
          <p:nvPr/>
        </p:nvSpPr>
        <p:spPr>
          <a:xfrm>
            <a:off x="254160" y="1557360"/>
            <a:ext cx="8889840" cy="46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cent developments, ongoing and planned activities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ebsite and 1</a:t>
            </a:r>
            <a:r>
              <a:rPr b="0" i="1" lang="en-CA" sz="20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st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port submitted to participant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ncept paper in preparation (to be submitted to BAMS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 presented at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21</a:t>
            </a:r>
            <a:r>
              <a:rPr b="0" i="1" lang="en-CA" sz="1800" spc="-1" strike="noStrike" baseline="30000">
                <a:solidFill>
                  <a:srgbClr val="333399"/>
                </a:solidFill>
                <a:latin typeface="Arial"/>
                <a:ea typeface="Arial Unicode MS"/>
              </a:rPr>
              <a:t>st</a:t>
            </a:r>
            <a:r>
              <a:rPr b="0" i="1" lang="en-CA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 Symposium on Boundary Layer and Turbulence (Jun 2014, Leeds, UK)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World Weather Open Science Conference (Aug 2014, Montreal, Canada)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Workshop on Angular Momentum Budget (April 2015 at Univ. Reading, organized by Dr. T. Shepherd)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ulio Bacmeister is project’s main contact with climate community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additional output for CMIP6 (for free atmosphere momentum balance, following TEM approach)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participated in Workshop on CMIP5 Model Analysis and Scientific Plans for CMIP6, Oct 2015, Dubrovnik, Croatia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CWMF to organize a workshop on “Drag processes and their links to large-scale circulation”, in Sep 2016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2"/>
          <a:stretch/>
        </p:blipFill>
        <p:spPr>
          <a:xfrm>
            <a:off x="0" y="549360"/>
            <a:ext cx="9150480" cy="6308640"/>
          </a:xfrm>
          <a:prstGeom prst="rect">
            <a:avLst/>
          </a:prstGeom>
          <a:ln w="0">
            <a:noFill/>
          </a:ln>
        </p:spPr>
      </p:pic>
      <p:sp>
        <p:nvSpPr>
          <p:cNvPr id="545" name="TextBox 4"/>
          <p:cNvSpPr/>
          <p:nvPr/>
        </p:nvSpPr>
        <p:spPr>
          <a:xfrm>
            <a:off x="0" y="260280"/>
            <a:ext cx="9144000" cy="3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52f9"/>
                </a:solidFill>
                <a:latin typeface="Arial"/>
              </a:rPr>
              <a:t>WGNE/WGCM climate metrics and diagnostics panel (Peter Gleckler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1"/>
          <p:cNvSpPr/>
          <p:nvPr/>
        </p:nvSpPr>
        <p:spPr>
          <a:xfrm>
            <a:off x="324000" y="1989000"/>
            <a:ext cx="856908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GNE aims around verification and evaluation: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ourage more interaction between the Climate Metrics and Diagnostics Panel and the Joint Working Group for Forecast Verification Research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more seamless, comprehensive, process-orientated evaluation and verification methodologies across timescales (including seasonal!)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a52f9"/>
                </a:solidFill>
                <a:latin typeface="Arial"/>
              </a:rPr>
              <a:t>From a WGNE point of view, the main purpose of verification and evaluation is to indentify model deficiencies and possible causes with a view to fixing the model errors, rather than as a beauty contest.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49" name="TextBox 11"/>
          <p:cNvSpPr/>
          <p:nvPr/>
        </p:nvSpPr>
        <p:spPr>
          <a:xfrm>
            <a:off x="324000" y="1773360"/>
            <a:ext cx="8351640" cy="34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NE future directions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in aim to focus core activity of improving weather and climate models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stronger links with GASS and GLA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cern over current lack of GASS chair(s)).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develop understanding on systematic model errors and work with GEWEX groups to address these.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11"/>
          <p:cNvSpPr/>
          <p:nvPr/>
        </p:nvSpPr>
        <p:spPr>
          <a:xfrm>
            <a:off x="324000" y="1484280"/>
            <a:ext cx="835164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ther short-term goals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rison of model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omentum budgets 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Consolidate results, engage with more participants, expand to climate (SPARC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mportance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eroso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for weather and S2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Expand cases,  refine protocols, expand beyond NWP angle, etc. Links to EUMETCHEM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2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Systematic error workshop, special focus on teleconnection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P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(PCPI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Verification (quality of (re-)analyses), observational system design, etc.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IW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MIP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Particularly encourage NWP participation in HighResMIP (seamless agenda; counterpart of Tranpose-AMIP) 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1"/>
          <p:cNvSpPr/>
          <p:nvPr/>
        </p:nvSpPr>
        <p:spPr>
          <a:xfrm>
            <a:off x="324000" y="2421000"/>
            <a:ext cx="8569080" cy="33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WGNE Systematic Errors workshop</a:t>
            </a:r>
            <a:endParaRPr b="0" lang="en-US" sz="36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2f9"/>
                </a:solidFill>
                <a:latin typeface="Arial"/>
              </a:rPr>
              <a:t>(probably) 19-23 June 2017</a:t>
            </a:r>
            <a:endParaRPr b="0" lang="en-US" sz="36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2f9"/>
                </a:solidFill>
                <a:latin typeface="Arial"/>
              </a:rPr>
              <a:t>Montreal Canada</a:t>
            </a:r>
            <a:endParaRPr b="0" lang="en-US" sz="36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principal goal is to increase understanding of the nature and cause of errors in models used for weather and climate prediction.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1"/>
          <p:cNvSpPr/>
          <p:nvPr/>
        </p:nvSpPr>
        <p:spPr>
          <a:xfrm>
            <a:off x="324000" y="2133720"/>
            <a:ext cx="8569080" cy="33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Group on Numerical Experimentation: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ibility of fostering the development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mospher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irculation models for use in weather prediction and climate studies on all time scales and diagnosing and resolving shortcomings.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52f9"/>
                </a:solidFill>
                <a:latin typeface="Arial"/>
              </a:rPr>
              <a:t>Where does coupled NWP live?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52f9"/>
                </a:solidFill>
                <a:latin typeface="Arial"/>
              </a:rPr>
              <a:t>Should “atmospheric circulation” be removed from above?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09" name="TextBox 11"/>
          <p:cNvSpPr/>
          <p:nvPr/>
        </p:nvSpPr>
        <p:spPr>
          <a:xfrm>
            <a:off x="755640" y="1989000"/>
            <a:ext cx="7704000" cy="4363560"/>
          </a:xfrm>
          <a:prstGeom prst="rect">
            <a:avLst/>
          </a:prstGeom>
          <a:solidFill>
            <a:srgbClr val="c3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on Numerical Experimentation: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ly established by the WCRP and the WMO Commission for Atmospheric Sciences (CAS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ibility of fostering the development of atmospheric circulation models for use in weather prediction and climate studies on all time scales and diagnosing and resolving shortcomings.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…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ka building better models!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llation of the Terms of Reference…..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ice, liaison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ordinated experiment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shops, publications, meeting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57" name="TextBox 11"/>
          <p:cNvSpPr/>
          <p:nvPr/>
        </p:nvSpPr>
        <p:spPr>
          <a:xfrm>
            <a:off x="2987640" y="3284640"/>
            <a:ext cx="30243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1"/>
          <p:cNvSpPr/>
          <p:nvPr/>
        </p:nvSpPr>
        <p:spPr>
          <a:xfrm>
            <a:off x="324000" y="1557360"/>
            <a:ext cx="856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on of current WGNE activities: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JO-Task Force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g projec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comparison on momentum budget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mless working (AMIP &amp; Transpose-AMIP methodologies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ing importance of aerosols – level of complexity required across different timescale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udy-radiance – comparing methods used in data assimilation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y-zone – joint project with GAS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and verification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P performance (more variables - TC’s, precipitation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ar verification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 metric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with verification against own analysi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4"/>
          <p:cNvSpPr/>
          <p:nvPr/>
        </p:nvSpPr>
        <p:spPr>
          <a:xfrm>
            <a:off x="0" y="260280"/>
            <a:ext cx="9144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a52f9"/>
                </a:solidFill>
                <a:latin typeface="Arial"/>
              </a:rPr>
              <a:t>WGNE MJO Task Force (Steve Woolnough and Daehyun Kim)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2"/>
          <a:stretch/>
        </p:blipFill>
        <p:spPr>
          <a:xfrm>
            <a:off x="1319040" y="2995560"/>
            <a:ext cx="7639200" cy="162900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"/>
          <p:cNvSpPr/>
          <p:nvPr/>
        </p:nvSpPr>
        <p:spPr>
          <a:xfrm>
            <a:off x="352440" y="1308240"/>
            <a:ext cx="86788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ain 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compar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arametr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or physics component of this surface stress, i.e. the stress from parametrizations such as the planetary boundary layer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B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 and the subgrid orographic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 schemes.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25" name="TextBox 2"/>
          <p:cNvSpPr/>
          <p:nvPr/>
        </p:nvSpPr>
        <p:spPr>
          <a:xfrm>
            <a:off x="352440" y="4862520"/>
            <a:ext cx="86788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asic output reques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x- and y-components of the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arametrized stress, in units of N/m2, averaged over the 1st day (24h) of a month of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oreca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he months proposed were Jan and Jul 2012.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77400" y="344520"/>
            <a:ext cx="7533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a601b"/>
                </a:solidFill>
                <a:latin typeface="Arial"/>
              </a:rPr>
              <a:t>WGNE Drag Project</a:t>
            </a:r>
            <a:r>
              <a:rPr b="1" lang="en-CA" sz="3600" spc="-1" strike="noStrike">
                <a:solidFill>
                  <a:srgbClr val="3a601b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3a601b"/>
                </a:solidFill>
                <a:latin typeface="Arial"/>
              </a:rPr>
              <a:t>(Ayrton Zadra)</a:t>
            </a:r>
            <a:endParaRPr b="1" lang="en-US" sz="2400" spc="-1" strike="noStrike">
              <a:solidFill>
                <a:srgbClr val="3a60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4:32:49Z</dcterms:created>
  <dc:creator>helen.chater</dc:creator>
  <dc:description>submitted 26.7.2005     CHG015666 refers</dc:description>
  <dc:language>en-US</dc:language>
  <cp:lastModifiedBy>Catherine Michaut</cp:lastModifiedBy>
  <cp:lastPrinted>2004-10-15T09:34:20Z</cp:lastPrinted>
  <dcterms:modified xsi:type="dcterms:W3CDTF">2016-06-16T10:44:28Z</dcterms:modified>
  <cp:revision>69</cp:revision>
  <dc:subject/>
  <dc:title>Title of Presentation</dc:title>
</cp:coreProperties>
</file>