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8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2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028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4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2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028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12680"/>
            <a:ext cx="761976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2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028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74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2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028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2680"/>
            <a:ext cx="761976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3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228160" y="225360"/>
            <a:ext cx="676080" cy="68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508440"/>
            <a:ext cx="3124080" cy="1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Times New Roman"/>
              </a:rPr>
              <a:t>© Crown copyright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94760" y="6508800"/>
            <a:ext cx="76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age </a:t>
            </a:r>
            <a:fld id="{59259F18-4338-4A10-B264-CCE171FBB80E}" type="slidenum">
              <a:rPr b="0" lang="en-GB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33520" indent="-17640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89064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24776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 algn="ctr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76200" indent="-1908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539640" indent="17316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893880" indent="17604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236600" indent="19044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236600" indent="1904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236600" indent="1904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9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Strat-trop interaction an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Met Office seasonal forecasting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6624720" cy="12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am Scaife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eff Knight, Andrew Marshall, Sarah Ineson and Alberto Arrib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Hadley Centre, Met Office, Exeter, UK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7840" y="3059280"/>
            <a:ext cx="322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4365720"/>
            <a:ext cx="4608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European winter climate and the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Stratospheric influence: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ean and Extrem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rop-strat vs trop models: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and ENS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GloSea4: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ests and pla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Possibl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869000"/>
            <a:ext cx="1943280" cy="441360"/>
          </a:xfrm>
          <a:prstGeom prst="flowChartPunchedTape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869000"/>
            <a:ext cx="1943280" cy="441360"/>
          </a:xfrm>
          <a:prstGeom prst="flowChartPunchedTape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1916280"/>
            <a:ext cx="1152360" cy="129528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213372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8920" y="49417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tlantic SS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005360"/>
            <a:ext cx="165564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9080" y="3213000"/>
            <a:ext cx="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213000"/>
            <a:ext cx="447840" cy="792360"/>
          </a:xfrm>
          <a:custGeom>
            <a:avLst/>
            <a:gdLst/>
            <a:ahLst/>
            <a:rect l="l" t="t" r="r" b="b"/>
            <a:pathLst>
              <a:path w="282" h="532">
                <a:moveTo>
                  <a:pt x="166" y="532"/>
                </a:moveTo>
                <a:cubicBezTo>
                  <a:pt x="156" y="504"/>
                  <a:pt x="137" y="503"/>
                  <a:pt x="111" y="493"/>
                </a:cubicBezTo>
                <a:cubicBezTo>
                  <a:pt x="104" y="482"/>
                  <a:pt x="92" y="474"/>
                  <a:pt x="105" y="460"/>
                </a:cubicBezTo>
                <a:cubicBezTo>
                  <a:pt x="131" y="433"/>
                  <a:pt x="216" y="443"/>
                  <a:pt x="216" y="443"/>
                </a:cubicBezTo>
                <a:cubicBezTo>
                  <a:pt x="247" y="433"/>
                  <a:pt x="256" y="422"/>
                  <a:pt x="238" y="382"/>
                </a:cubicBezTo>
                <a:cubicBezTo>
                  <a:pt x="236" y="377"/>
                  <a:pt x="227" y="378"/>
                  <a:pt x="221" y="377"/>
                </a:cubicBezTo>
                <a:cubicBezTo>
                  <a:pt x="181" y="368"/>
                  <a:pt x="146" y="359"/>
                  <a:pt x="105" y="355"/>
                </a:cubicBezTo>
                <a:cubicBezTo>
                  <a:pt x="72" y="343"/>
                  <a:pt x="67" y="335"/>
                  <a:pt x="39" y="316"/>
                </a:cubicBezTo>
                <a:cubicBezTo>
                  <a:pt x="50" y="269"/>
                  <a:pt x="90" y="276"/>
                  <a:pt x="133" y="272"/>
                </a:cubicBezTo>
                <a:cubicBezTo>
                  <a:pt x="170" y="258"/>
                  <a:pt x="211" y="255"/>
                  <a:pt x="244" y="233"/>
                </a:cubicBezTo>
                <a:cubicBezTo>
                  <a:pt x="256" y="215"/>
                  <a:pt x="270" y="207"/>
                  <a:pt x="282" y="189"/>
                </a:cubicBezTo>
                <a:cubicBezTo>
                  <a:pt x="269" y="145"/>
                  <a:pt x="197" y="143"/>
                  <a:pt x="160" y="139"/>
                </a:cubicBezTo>
                <a:cubicBezTo>
                  <a:pt x="129" y="136"/>
                  <a:pt x="66" y="128"/>
                  <a:pt x="66" y="128"/>
                </a:cubicBezTo>
                <a:cubicBezTo>
                  <a:pt x="39" y="121"/>
                  <a:pt x="20" y="115"/>
                  <a:pt x="0" y="94"/>
                </a:cubicBezTo>
                <a:cubicBezTo>
                  <a:pt x="9" y="35"/>
                  <a:pt x="37" y="55"/>
                  <a:pt x="105" y="50"/>
                </a:cubicBezTo>
                <a:cubicBezTo>
                  <a:pt x="142" y="43"/>
                  <a:pt x="160" y="41"/>
                  <a:pt x="1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V="1">
            <a:off x="97128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>
            <a:off x="118692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>
            <a:off x="140292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3852720" y="4005360"/>
            <a:ext cx="165600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3440" y="4124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7800" y="4124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341360"/>
            <a:ext cx="1656000" cy="208764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06064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ORMAL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4005360"/>
            <a:ext cx="165564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1240" y="412416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-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9080" y="3213000"/>
            <a:ext cx="447840" cy="792360"/>
          </a:xfrm>
          <a:custGeom>
            <a:avLst/>
            <a:gdLst/>
            <a:ahLst/>
            <a:rect l="l" t="t" r="r" b="b"/>
            <a:pathLst>
              <a:path w="282" h="532">
                <a:moveTo>
                  <a:pt x="166" y="532"/>
                </a:moveTo>
                <a:cubicBezTo>
                  <a:pt x="156" y="504"/>
                  <a:pt x="137" y="503"/>
                  <a:pt x="111" y="493"/>
                </a:cubicBezTo>
                <a:cubicBezTo>
                  <a:pt x="104" y="482"/>
                  <a:pt x="92" y="474"/>
                  <a:pt x="105" y="460"/>
                </a:cubicBezTo>
                <a:cubicBezTo>
                  <a:pt x="131" y="433"/>
                  <a:pt x="216" y="443"/>
                  <a:pt x="216" y="443"/>
                </a:cubicBezTo>
                <a:cubicBezTo>
                  <a:pt x="247" y="433"/>
                  <a:pt x="256" y="422"/>
                  <a:pt x="238" y="382"/>
                </a:cubicBezTo>
                <a:cubicBezTo>
                  <a:pt x="236" y="377"/>
                  <a:pt x="227" y="378"/>
                  <a:pt x="221" y="377"/>
                </a:cubicBezTo>
                <a:cubicBezTo>
                  <a:pt x="181" y="368"/>
                  <a:pt x="146" y="359"/>
                  <a:pt x="105" y="355"/>
                </a:cubicBezTo>
                <a:cubicBezTo>
                  <a:pt x="72" y="343"/>
                  <a:pt x="67" y="335"/>
                  <a:pt x="39" y="316"/>
                </a:cubicBezTo>
                <a:cubicBezTo>
                  <a:pt x="50" y="269"/>
                  <a:pt x="90" y="276"/>
                  <a:pt x="133" y="272"/>
                </a:cubicBezTo>
                <a:cubicBezTo>
                  <a:pt x="170" y="258"/>
                  <a:pt x="211" y="255"/>
                  <a:pt x="244" y="233"/>
                </a:cubicBezTo>
                <a:cubicBezTo>
                  <a:pt x="256" y="215"/>
                  <a:pt x="270" y="207"/>
                  <a:pt x="282" y="189"/>
                </a:cubicBezTo>
                <a:cubicBezTo>
                  <a:pt x="269" y="145"/>
                  <a:pt x="197" y="143"/>
                  <a:pt x="160" y="139"/>
                </a:cubicBezTo>
                <a:cubicBezTo>
                  <a:pt x="129" y="136"/>
                  <a:pt x="66" y="128"/>
                  <a:pt x="66" y="128"/>
                </a:cubicBezTo>
                <a:cubicBezTo>
                  <a:pt x="39" y="121"/>
                  <a:pt x="20" y="115"/>
                  <a:pt x="0" y="94"/>
                </a:cubicBezTo>
                <a:cubicBezTo>
                  <a:pt x="9" y="35"/>
                  <a:pt x="37" y="55"/>
                  <a:pt x="105" y="50"/>
                </a:cubicBezTo>
                <a:cubicBezTo>
                  <a:pt x="142" y="43"/>
                  <a:pt x="160" y="41"/>
                  <a:pt x="1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3080" y="299736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573360"/>
            <a:ext cx="9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Rossby wav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000" y="49417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tlantic SS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4654440"/>
            <a:ext cx="79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Heat flux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40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328608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9080" y="328608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29440" y="45100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Wind stress +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heat flux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1916280"/>
            <a:ext cx="1152360" cy="129528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213372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7920" y="5875200"/>
            <a:ext cx="29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nd vice versa in +ve NAO winter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Decadal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052640"/>
            <a:ext cx="46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ratosphere-troposphere Model (HadAM3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797360"/>
            <a:ext cx="41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Troposphere Model (HadAM3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3645000"/>
            <a:ext cx="3456000" cy="30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AO TRENDS 1960/61-1990/91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: 11.9 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-trop HadAM3: 10.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.2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-trop HadGAM: 7.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5 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op HadAM3: 5.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.4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Possibility of improved signal to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ise ratio in ensemble decadal predict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924280"/>
            <a:ext cx="45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ratosphere-troposphere Model (HadGAM1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954" r="0" b="67095"/>
          <a:stretch/>
        </p:blipFill>
        <p:spPr>
          <a:xfrm>
            <a:off x="468360" y="1341360"/>
            <a:ext cx="3816360" cy="1639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0" t="35056" r="0" b="33993"/>
          <a:stretch/>
        </p:blipFill>
        <p:spPr>
          <a:xfrm>
            <a:off x="468360" y="5126040"/>
            <a:ext cx="3816360" cy="163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1954" r="0" b="67095"/>
          <a:stretch/>
        </p:blipFill>
        <p:spPr>
          <a:xfrm>
            <a:off x="468360" y="3213000"/>
            <a:ext cx="3816360" cy="1640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2579" t="0" r="50007" b="67095"/>
          <a:stretch/>
        </p:blipFill>
        <p:spPr>
          <a:xfrm>
            <a:off x="5651640" y="1125360"/>
            <a:ext cx="2303280" cy="2219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A simple metric to judge mode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68360" y="4508640"/>
          <a:ext cx="5256360" cy="2189160"/>
        </p:xfrm>
        <a:graphic>
          <a:graphicData uri="http://schemas.openxmlformats.org/drawingml/2006/table">
            <a:tbl>
              <a:tblPr/>
              <a:tblGrid>
                <a:gridCol w="1312920"/>
                <a:gridCol w="1316160"/>
                <a:gridCol w="1314360"/>
                <a:gridCol w="13129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AO (hPa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50 (m/s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dAM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dGA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1.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rcRect l="4447" t="1201" r="48135" b="68786"/>
          <a:stretch/>
        </p:blipFill>
        <p:spPr>
          <a:xfrm>
            <a:off x="755640" y="1557360"/>
            <a:ext cx="2303640" cy="202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54861" t="1481" r="0" b="68506"/>
          <a:stretch/>
        </p:blipFill>
        <p:spPr>
          <a:xfrm>
            <a:off x="3564000" y="1557360"/>
            <a:ext cx="2195280" cy="2027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rcRect l="4447" t="34553" r="49636" b="35474"/>
          <a:stretch/>
        </p:blipFill>
        <p:spPr>
          <a:xfrm>
            <a:off x="6372360" y="1557360"/>
            <a:ext cx="2235240" cy="2027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7780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308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144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394920" y="1918440"/>
            <a:ext cx="3628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onal Wind (m/s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3800" y="1125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adAM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8320" y="112536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51240" y="11253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adGA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420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4948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092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GloSea4 –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next Met Office seasonal forecas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1628640"/>
            <a:ext cx="7366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are currently testing an extended stratospheric model as a likely candidate for use in the next Met Office seasonal forecast system GloSea4, due in 2009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ill measures and mechanisms using case studies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38 vs L60 – overall improvemen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canic years, cold globe but warm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ak/strong stratospheric jet years, predictable? Cold/warm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Nino years, weak polar vortex and cold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an operational volcanic “switch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6000" y="184464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AO dominated mean and extreme European winter climate shift from the 1960s to 1990s and the stratosphere played an important ro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icture is emerging which links the stratosphere to the NAO (sometimes because of ENSO) and to cold, blocked European wint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nded model experiments produce a –ve NAO response to El Nino and potentially larger decadal responses to SST but the winter 2005/6 stratospheric anomaly is not predictable from SST information alon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s are underway to include initial atmospheric conditions to evaluate a trop-strat model as the next Met Office seasonal forecast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North Atlantic Oscil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3440" y="1268280"/>
            <a:ext cx="7345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minant pattern of Atlantic-European weather variabilit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ed to changes in the position and strength of the Atlantic Storm trac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90160" y="64533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440" y="5734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T*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4160" y="4941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9" idx="3"/>
            <a:endCxn id="90" idx="2"/>
          </p:cNvCxnSpPr>
          <p:nvPr/>
        </p:nvCxnSpPr>
        <p:spPr>
          <a:xfrm flipV="1">
            <a:off x="5613120" y="5245920"/>
            <a:ext cx="1050120" cy="640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2" name=""/>
          <p:cNvCxnSpPr>
            <a:stCxn id="89" idx="3"/>
            <a:endCxn id="88" idx="0"/>
          </p:cNvCxnSpPr>
          <p:nvPr/>
        </p:nvCxnSpPr>
        <p:spPr>
          <a:xfrm>
            <a:off x="5613120" y="5886000"/>
            <a:ext cx="1245240" cy="56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3" name=""/>
          <p:cNvCxnSpPr>
            <a:stCxn id="90" idx="2"/>
            <a:endCxn id="88" idx="0"/>
          </p:cNvCxnSpPr>
          <p:nvPr/>
        </p:nvCxnSpPr>
        <p:spPr>
          <a:xfrm>
            <a:off x="6662880" y="5246640"/>
            <a:ext cx="195840" cy="1207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11840" y="57546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67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532296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6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61657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8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0880" y="645336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* NET: 15W-45E,30-65N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51082"/>
          <a:stretch/>
        </p:blipFill>
        <p:spPr>
          <a:xfrm>
            <a:off x="3708360" y="2349360"/>
            <a:ext cx="4857840" cy="237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1137" t="1981" r="47198" b="53948"/>
          <a:stretch/>
        </p:blipFill>
        <p:spPr>
          <a:xfrm>
            <a:off x="250920" y="2178000"/>
            <a:ext cx="3147840" cy="468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Stratospheric influ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48533" b="66012"/>
          <a:stretch/>
        </p:blipFill>
        <p:spPr>
          <a:xfrm>
            <a:off x="4932360" y="1052640"/>
            <a:ext cx="3168720" cy="290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48533" b="67095"/>
          <a:stretch/>
        </p:blipFill>
        <p:spPr>
          <a:xfrm>
            <a:off x="5076720" y="4005360"/>
            <a:ext cx="2951280" cy="26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77480" y="981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ange in NAO inde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4040" y="38606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ange in surface pressu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680" y="1413000"/>
            <a:ext cx="5085000" cy="53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 have a large increase in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rol run has very little increase in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ncludes GHG, aerosols, observed SST etc, c.f. Rodwell et al. 1999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se a body force in the model’s stratosp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c.f. Norton 2003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&gt; Increase in stratospheric wind from 1960s to 1990s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&gt; Increase in NAO similar to observed val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6313" t="11555" r="9139" b="60493"/>
          <a:stretch/>
        </p:blipFill>
        <p:spPr>
          <a:xfrm>
            <a:off x="468360" y="3213000"/>
            <a:ext cx="3851280" cy="177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3680" y="364500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Stone Sans ITC TT"/>
              </a:rPr>
              <a:t>NA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9080" y="4076640"/>
            <a:ext cx="814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Stone Sans ITC TT"/>
              </a:rPr>
              <a:t>U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Stone Sans ITC TT"/>
              </a:rPr>
              <a:t>50hP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Winter climate and stratospheric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9367" t="50604" r="8657" b="28440"/>
          <a:stretch/>
        </p:blipFill>
        <p:spPr>
          <a:xfrm>
            <a:off x="0" y="1125360"/>
            <a:ext cx="5867280" cy="288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5800" y="12682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 Temperatu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520" y="126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ed Temperatu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2708280"/>
            <a:ext cx="284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uropean T trends 1960s-1990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ctl      0.15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expt   0.59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   0.53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17724" t="76442" r="58028" b="3727"/>
          <a:stretch/>
        </p:blipFill>
        <p:spPr>
          <a:xfrm>
            <a:off x="324000" y="436572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60382" t="76442" r="16181" b="3727"/>
          <a:stretch/>
        </p:blipFill>
        <p:spPr>
          <a:xfrm>
            <a:off x="3492360" y="4365720"/>
            <a:ext cx="2017800" cy="237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280" y="4149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 Precipit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9440" y="4149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ed Precipit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7080" y="645336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et al. GRL, 2005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Observed vs forced changes in extre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986" t="5157" r="8001" b="50003"/>
          <a:stretch/>
        </p:blipFill>
        <p:spPr>
          <a:xfrm>
            <a:off x="0" y="1628640"/>
            <a:ext cx="2809800" cy="2270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5480" y="1484280"/>
            <a:ext cx="1319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013360"/>
            <a:ext cx="813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ed changes larger than modelled changes with all anthropogenic forcing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gns of dipole across Europe in observed dat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7386" t="14418" r="12939" b="0"/>
          <a:stretch/>
        </p:blipFill>
        <p:spPr>
          <a:xfrm>
            <a:off x="2987640" y="170028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64360" y="6381720"/>
            <a:ext cx="171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et al., J.Clim., 2007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17386" t="12205" r="12939" b="0"/>
          <a:stretch/>
        </p:blipFill>
        <p:spPr>
          <a:xfrm>
            <a:off x="6084720" y="1628640"/>
            <a:ext cx="288000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05840" y="1484280"/>
            <a:ext cx="156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(forcing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4400" y="1484280"/>
            <a:ext cx="216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(forcings + NAO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ccff33"/>
                </a:solidFill>
                <a:latin typeface="Arial"/>
              </a:rPr>
              <a:t>Winter 2005/6: cold Europe case stud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4054" t="3016" r="1082" b="67095"/>
          <a:stretch/>
        </p:blipFill>
        <p:spPr>
          <a:xfrm>
            <a:off x="179280" y="4724280"/>
            <a:ext cx="4608720" cy="201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11320" y="4365720"/>
            <a:ext cx="3140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Zonal wind through the winter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(c.f. Baldwin and Dunkerton 2001, Charlton et al. 2004)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414036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er than 1970-2000 over much of Europ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nd coldest in 10 years using area mean 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rd snowfall in parts of central Europ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te winter colder than early winte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treme stratospheric sudden warming in Januar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950080"/>
            <a:ext cx="41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2952720" cy="16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132000" y="1844640"/>
            <a:ext cx="2951280" cy="1660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084720" y="1844640"/>
            <a:ext cx="2953080" cy="166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22560" y="14842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8920" y="14842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00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2560" y="148428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34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ccff33"/>
                </a:solidFill>
                <a:latin typeface="Arial"/>
              </a:rPr>
              <a:t>Winter 2005/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43120" y="2419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3413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ic models (HadAM/HadG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/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a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ic Model + stratospheric perturb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lower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urbed stratosphere from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a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e-stratosphere mode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a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450" t="4303" r="0" b="6552"/>
          <a:stretch/>
        </p:blipFill>
        <p:spPr>
          <a:xfrm>
            <a:off x="6012000" y="3284640"/>
            <a:ext cx="2931840" cy="173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04720" y="31417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Zonal wind at 50hP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ccff33"/>
                </a:solidFill>
                <a:latin typeface="Arial"/>
              </a:rPr>
              <a:t>Winter 2005/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221000"/>
            <a:ext cx="28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 European signal fr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lantic SS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 European signal from stratospheric warming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ospheric warming unpredictable from SST alon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484360" cy="223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5896" t="0" r="0" b="0"/>
          <a:stretch/>
        </p:blipFill>
        <p:spPr>
          <a:xfrm>
            <a:off x="3132000" y="1413000"/>
            <a:ext cx="2376720" cy="223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2360" y="6453360"/>
            <a:ext cx="2017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and Knight, QJ, in prep.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rcRect l="0" t="0" r="31645" b="47225"/>
          <a:stretch/>
        </p:blipFill>
        <p:spPr>
          <a:xfrm>
            <a:off x="755640" y="3716280"/>
            <a:ext cx="4822920" cy="221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134136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d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1413000"/>
            <a:ext cx="23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d model + strat warm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71628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w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371628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w trop-strat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6560" y="1413000"/>
            <a:ext cx="1701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served Anomali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0" t="0" r="48623" b="0"/>
          <a:stretch/>
        </p:blipFill>
        <p:spPr>
          <a:xfrm>
            <a:off x="6012000" y="1628640"/>
            <a:ext cx="2589120" cy="222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ENSO effects on Euro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320" y="1079640"/>
            <a:ext cx="734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O events produce a –ve NAO response (e.g. Bronniman et al. 2004)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nly the weakest 2/3 of observed events and didn’t occur in trop model (Toniazzo and Scaife 2006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pper level component appears in trop-strat models (Hamilton, 1993, Manzini et al., 2006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2157480" cy="2328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20476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195640" y="4508640"/>
            <a:ext cx="2050920" cy="2349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788000" y="454356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26200" y="306864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hPa gph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000" y="1989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38 HadGA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4360" y="53737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MS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6920" y="1989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60 HadGA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3:30:14Z</dcterms:created>
  <dc:creator>Corey Mackie</dc:creator>
  <dc:description/>
  <dc:language>en-US</dc:language>
  <cp:lastModifiedBy>adam.scaife</cp:lastModifiedBy>
  <dcterms:modified xsi:type="dcterms:W3CDTF">2007-06-18T08:39:58Z</dcterms:modified>
  <cp:revision>474</cp:revision>
  <dc:subject/>
  <dc:title>Slide 1</dc:title>
</cp:coreProperties>
</file>