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7.jpeg" ContentType="image/jpe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31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8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F8E-6F78-49CF-9B22-34879EE2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gions used in the analysis presented in this wo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U North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U South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Z Amaz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SA Southern Sou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M Central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NA West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N Central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A East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A Ala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RL Gree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D Mediterran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EU North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AF West 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AF East 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F South 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H Sah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A South East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AS East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S South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S Central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B Tib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S North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3CA-8059-4EFC-A36D-12202BFA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7F3-5D39-40EB-A306-AD27BCC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B140EB-F5F1-46D6-8015-8E318C0A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509AF-3494-4E45-9C4F-A7C63A27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2DBCB-DAAD-413D-94A9-EB3329DF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4877B-66C8-41BD-9AAF-B3732BF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CB15B-381F-40BC-8669-94ACC1E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0F630-6798-4155-AC2A-505CE99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63DD86-A869-4F60-B8C2-08352A13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D6900-F126-43BB-B149-AA9BACD0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D2F72-298B-4994-BB57-BA3E1443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52D-3F05-46C7-A122-8202D4DE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5CE-5477-432E-B392-504325AB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E12-0CB1-4BBD-AC54-0AB2B7EC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81C-F9DC-4D83-9BE5-5B7D826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C049-6A80-45D5-83F6-BD4AC664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28A-C990-43FA-8F70-6A5290C8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86A3-3DB6-42FE-BE23-EB33D332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354A-BD1C-4126-BC0F-E4E02ED7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BA25-53EA-4FA2-817A-DC6FCDB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937-916B-4E5F-AABA-AFB87E7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238E-ABC1-409E-B404-B23615E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7E2-D233-4B2F-AF1E-8763C9F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0FCA-51E2-4F52-BD0D-A2D1C87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2715-36C9-45FD-BF88-CE3F1D43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767-C2D1-4A4C-88C0-35AC8938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40F1-A3B2-4029-9F4D-390E25BB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9675-A7C8-46C5-B21E-6B99F63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A8B1-F3DE-48A8-B625-C3C3512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9BE3-F08B-464B-A716-0AE06B0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9A5A-B2A1-44CC-BE4B-0FCEB9E4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2DF-8CD0-4A01-9370-1B77F94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0626-9A60-462C-A6EA-3C52F690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EC47-7A2B-47E2-977B-0EB8DE5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13FC-0DDF-4D81-A632-C5AF7D4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9E79-3481-4631-90CC-30F25271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BFDE-0FA3-435E-A965-EC4B3A75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A9FE-4175-4578-9896-C6FFDF3A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11F2-0B71-485D-A140-438C0942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2A76-6E79-4518-A0A3-49E361F7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FC6E-9ACA-4E5F-A1C8-7B0D57C8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D1F0-5E7A-4E29-9BDB-6C68FCBC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7E5-FE47-4A20-9AE2-46F10BC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3991-5332-4084-916F-E55C8C5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D4DB-1903-42C7-BC02-7263A6F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1845-E9F2-4286-8D60-ABF3524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9C46-91E0-4B20-8BED-11AED57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498F-5232-48A0-87B0-1056E80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15F8-685F-4E56-AF42-83C70BD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4991-D1BC-4AF8-AFF2-210A6865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DCF7-A959-4F10-B70A-1AFE3E76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02A03-2826-471F-96B5-FD2D3932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AC4-D223-439B-9F7F-8E64C74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F19-A743-4E95-B8AE-4B024D85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BCE-D8B2-449A-A866-A346963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8A6-AC95-4277-B7ED-90E5704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2D3-5422-489A-8491-992F0DE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6E038-78E3-412D-A130-5B1F1093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A7ADE-D756-4750-8AD0-FFB2CE21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78E7C6-84C1-4CF6-AF23-A691032B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66E-747A-4488-891C-11C82395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C83-5B73-4C4D-ACD6-65EC4CE0E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75760" y="6257880"/>
            <a:ext cx="53496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511-B17A-480D-95B0-689774C2B4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EDE-0B2C-4512-9886-025C20A13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1e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vantGarde Md BT"/>
              </a:rPr>
              <a:t>Click to edit the title text format</a:t>
            </a:r>
            <a:endParaRPr b="0" lang="en-US" sz="4000" spc="-1" strike="noStrike" u="sng">
              <a:solidFill>
                <a:srgbClr val="ffffff"/>
              </a:solidFill>
              <a:uFillTx/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3520" y="431640"/>
            <a:ext cx="8610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-10050" t="-8477" r="-10050" b="-8477"/>
          <a:stretch/>
        </p:blipFill>
        <p:spPr>
          <a:xfrm>
            <a:off x="4376880" y="6445080"/>
            <a:ext cx="392040" cy="27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1e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vantGarde Md BT"/>
              </a:rPr>
              <a:t>Click to edit the title text format</a:t>
            </a:r>
            <a:endParaRPr b="0" lang="en-US" sz="4000" spc="-1" strike="noStrike" u="sng">
              <a:solidFill>
                <a:srgbClr val="ffffff"/>
              </a:solidFill>
              <a:uFillTx/>
              <a:latin typeface="AvantGarde Md BT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6435720"/>
            <a:ext cx="8715240" cy="295200"/>
          </a:xfrm>
          <a:prstGeom prst="parallelogram">
            <a:avLst>
              <a:gd name="adj" fmla="val -1052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vantGarde Md BT"/>
                <a:ea typeface="Arial"/>
              </a:rPr>
              <a:t>DEMETER                                                                                                          IfM-Kiel, 7 July 2003bbbb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-10050" t="-8477" r="-10050" b="-8477"/>
          <a:stretch/>
        </p:blipFill>
        <p:spPr>
          <a:xfrm>
            <a:off x="4376880" y="6445080"/>
            <a:ext cx="39204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" y="304920"/>
            <a:ext cx="811404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112240" cy="493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ts val="2500"/>
              </a:lnSpc>
              <a:spcAft>
                <a:spcPts val="1001"/>
              </a:spcAft>
              <a:buClr>
                <a:srgbClr val="3333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ts val="25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0320" indent="-343080">
              <a:lnSpc>
                <a:spcPts val="2500"/>
              </a:lnSpc>
              <a:spcAft>
                <a:spcPts val="1001"/>
              </a:spcAft>
              <a:buClr>
                <a:srgbClr val="919191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28600">
              <a:lnSpc>
                <a:spcPts val="2500"/>
              </a:lnSpc>
              <a:spcAft>
                <a:spcPts val="1001"/>
              </a:spcAft>
              <a:buClr>
                <a:srgbClr val="919191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ts val="2500"/>
              </a:lnSpc>
              <a:spcAft>
                <a:spcPts val="1001"/>
              </a:spcAft>
              <a:buClr>
                <a:srgbClr val="919191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ts val="25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ts val="25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23080" y="6264360"/>
            <a:ext cx="16066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Arial Black"/>
                <a:ea typeface="Arial"/>
              </a:rPr>
              <a:t>ECMW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6378480"/>
            <a:ext cx="6468840" cy="228600"/>
          </a:xfrm>
          <a:prstGeom prst="parallelogram">
            <a:avLst>
              <a:gd name="adj" fmla="val 54892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375760" y="6262560"/>
            <a:ext cx="534960" cy="409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791320" y="6353280"/>
            <a:ext cx="990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 </a:t>
            </a:r>
            <a:fld id="{68E4A722-9CC1-4B40-8BA3-BF707BE3693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bf5"/>
            </a:gs>
            <a:gs pos="100000">
              <a:srgbClr val="f6f7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1440" y="82080"/>
            <a:ext cx="86104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vantGarde Md BT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vantGarde Md B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271440" y="841320"/>
            <a:ext cx="861048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50000"/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D40-FD91-4327-9872-5C3066240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ynthesis of Seasonal Prediction Skil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03280" y="3548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.N.Pal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CRP/CLI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596360" y="5691240"/>
            <a:ext cx="1295280" cy="9777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2987640" y="5805360"/>
            <a:ext cx="3889440" cy="746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826920" y="5877000"/>
            <a:ext cx="1008360" cy="790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95280" y="1743120"/>
            <a:ext cx="8496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Arial"/>
              </a:rPr>
              <a:t>–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Arial"/>
              </a:rPr>
              <a:t>In the Context of Climate Chan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pplications Where DEMETER Predictions Have Shown 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laria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op yield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ergy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urricane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39640" y="399960"/>
            <a:ext cx="8047080" cy="4705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123920" y="5391000"/>
            <a:ext cx="729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udy reliability of precipitation based on Giorgi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15892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359080" y="393840"/>
          <a:ext cx="6534000" cy="6072120"/>
        </p:xfrm>
        <a:graphic>
          <a:graphicData uri="http://schemas.openxmlformats.org/drawingml/2006/table">
            <a:tbl>
              <a:tblPr/>
              <a:tblGrid>
                <a:gridCol w="1703520"/>
                <a:gridCol w="455400"/>
                <a:gridCol w="581040"/>
                <a:gridCol w="647640"/>
                <a:gridCol w="652680"/>
                <a:gridCol w="647640"/>
                <a:gridCol w="652320"/>
                <a:gridCol w="646200"/>
                <a:gridCol w="547560"/>
              </a:tblGrid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 Tempera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J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J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18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azon Bas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rn Sou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ern Nor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or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ern Nor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ee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terranean Bas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ern Eur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h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ast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b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108000" y="765000"/>
            <a:ext cx="208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rier Skill Score for Lower/Upper tercile (1980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mperature an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72360" y="0"/>
            <a:ext cx="0" cy="6858000"/>
          </a:xfrm>
          <a:prstGeom prst="line">
            <a:avLst/>
          </a:prstGeom>
          <a:ln w="88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5931000" y="4591080"/>
            <a:ext cx="2528640" cy="2255760"/>
            <a:chOff x="5931000" y="4591080"/>
            <a:chExt cx="2528640" cy="2255760"/>
          </a:xfrm>
        </p:grpSpPr>
        <p:sp>
          <p:nvSpPr>
            <p:cNvPr id="490" name=""/>
            <p:cNvSpPr/>
            <p:nvPr/>
          </p:nvSpPr>
          <p:spPr>
            <a:xfrm>
              <a:off x="6038640" y="4591080"/>
              <a:ext cx="23684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theast Asia dry J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31000" y="4699440"/>
              <a:ext cx="322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6038640" y="5024880"/>
              <a:ext cx="2421000" cy="18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2700360" y="34920"/>
            <a:ext cx="2906640" cy="2257560"/>
            <a:chOff x="2700360" y="34920"/>
            <a:chExt cx="2906640" cy="2257560"/>
          </a:xfrm>
        </p:grpSpPr>
        <p:sp>
          <p:nvSpPr>
            <p:cNvPr id="494" name=""/>
            <p:cNvSpPr/>
            <p:nvPr/>
          </p:nvSpPr>
          <p:spPr>
            <a:xfrm>
              <a:off x="3023280" y="34920"/>
              <a:ext cx="2583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stern North America dry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00360" y="143280"/>
              <a:ext cx="430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2874240" y="468720"/>
              <a:ext cx="2409480" cy="18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2700360" y="2224080"/>
            <a:ext cx="2584080" cy="2257560"/>
            <a:chOff x="2700360" y="2224080"/>
            <a:chExt cx="2584080" cy="2257560"/>
          </a:xfrm>
        </p:grpSpPr>
        <p:sp>
          <p:nvSpPr>
            <p:cNvPr id="498" name=""/>
            <p:cNvSpPr/>
            <p:nvPr/>
          </p:nvSpPr>
          <p:spPr>
            <a:xfrm>
              <a:off x="3130920" y="2224080"/>
              <a:ext cx="20462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azon Basin wet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00360" y="2332440"/>
              <a:ext cx="32292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2874240" y="2657880"/>
              <a:ext cx="2410200" cy="18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"/>
          <p:cNvGrpSpPr/>
          <p:nvPr/>
        </p:nvGrpSpPr>
        <p:grpSpPr>
          <a:xfrm>
            <a:off x="5823000" y="17640"/>
            <a:ext cx="2625840" cy="2274480"/>
            <a:chOff x="5823000" y="17640"/>
            <a:chExt cx="2625840" cy="2274480"/>
          </a:xfrm>
        </p:grpSpPr>
        <p:sp>
          <p:nvSpPr>
            <p:cNvPr id="502" name=""/>
            <p:cNvSpPr/>
            <p:nvPr/>
          </p:nvSpPr>
          <p:spPr>
            <a:xfrm>
              <a:off x="6253560" y="17640"/>
              <a:ext cx="1938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th Asia wet J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23000" y="126000"/>
              <a:ext cx="3229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6038280" y="468720"/>
              <a:ext cx="2410560" cy="182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"/>
          <p:cNvGrpSpPr/>
          <p:nvPr/>
        </p:nvGrpSpPr>
        <p:grpSpPr>
          <a:xfrm>
            <a:off x="2700360" y="4591080"/>
            <a:ext cx="2692440" cy="2266920"/>
            <a:chOff x="2700360" y="4591080"/>
            <a:chExt cx="2692440" cy="2266920"/>
          </a:xfrm>
        </p:grpSpPr>
        <p:sp>
          <p:nvSpPr>
            <p:cNvPr id="506" name=""/>
            <p:cNvSpPr/>
            <p:nvPr/>
          </p:nvSpPr>
          <p:spPr>
            <a:xfrm>
              <a:off x="2700360" y="4699440"/>
              <a:ext cx="3229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15640" y="4591080"/>
              <a:ext cx="2477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thern Europe dry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2880360" y="5042160"/>
              <a:ext cx="2404440" cy="18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"/>
          <p:cNvGrpSpPr/>
          <p:nvPr/>
        </p:nvGrpSpPr>
        <p:grpSpPr>
          <a:xfrm>
            <a:off x="5823000" y="2203560"/>
            <a:ext cx="2619360" cy="2250720"/>
            <a:chOff x="5823000" y="2203560"/>
            <a:chExt cx="2619360" cy="2250720"/>
          </a:xfrm>
        </p:grpSpPr>
        <p:sp>
          <p:nvSpPr>
            <p:cNvPr id="510" name=""/>
            <p:cNvSpPr/>
            <p:nvPr/>
          </p:nvSpPr>
          <p:spPr>
            <a:xfrm>
              <a:off x="6038280" y="2203560"/>
              <a:ext cx="23688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 North America wet J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23000" y="2311920"/>
              <a:ext cx="32292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6"/>
            <a:stretch/>
          </p:blipFill>
          <p:spPr>
            <a:xfrm>
              <a:off x="6038280" y="2637360"/>
              <a:ext cx="2404080" cy="18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"/>
          <p:cNvSpPr/>
          <p:nvPr/>
        </p:nvSpPr>
        <p:spPr>
          <a:xfrm>
            <a:off x="179280" y="260280"/>
            <a:ext cx="288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ETER Reliability of Seasonal Precip for selected Giorgi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bf5"/>
            </a:gs>
            <a:gs pos="100000">
              <a:srgbClr val="f6f7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rcRect l="0" t="40345" r="54078" b="37215"/>
          <a:stretch/>
        </p:blipFill>
        <p:spPr>
          <a:xfrm>
            <a:off x="6129360" y="2852640"/>
            <a:ext cx="2874960" cy="19861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rcRect l="0" t="40345" r="54078" b="37215"/>
          <a:stretch/>
        </p:blipFill>
        <p:spPr>
          <a:xfrm>
            <a:off x="3168720" y="2813040"/>
            <a:ext cx="2871720" cy="19843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1760" y="50400"/>
            <a:ext cx="887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vantGarde Md BT"/>
              </a:rPr>
              <a:t>Blocking frequency in climate models</a:t>
            </a:r>
            <a:endParaRPr b="0" lang="en-US" sz="3600" spc="-1" strike="noStrike" u="sng">
              <a:solidFill>
                <a:srgbClr val="000000"/>
              </a:solidFill>
              <a:uFillTx/>
              <a:latin typeface="AvantGarde Md BT"/>
            </a:endParaRPr>
          </a:p>
        </p:txBody>
      </p:sp>
      <p:sp>
        <p:nvSpPr>
          <p:cNvPr id="517" name=""/>
          <p:cNvSpPr/>
          <p:nvPr/>
        </p:nvSpPr>
        <p:spPr>
          <a:xfrm>
            <a:off x="593280" y="714240"/>
            <a:ext cx="79819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Northern Hemisphere blocking frequency for DEMETER hind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November start, 1959-2001, 9-member ensem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January (third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vantGarde Md BT"/>
                <a:ea typeface="Arial"/>
              </a:rPr>
              <a:t>ERA40</a:t>
            </a:r>
            <a:r>
              <a:rPr b="1" lang="en-GB" sz="2000" spc="-1" strike="noStrike">
                <a:solidFill>
                  <a:srgbClr val="ff6600"/>
                </a:solidFill>
                <a:latin typeface="AvantGarde Md BT"/>
                <a:ea typeface="Arial"/>
              </a:rPr>
              <a:t>	</a:t>
            </a:r>
            <a:r>
              <a:rPr b="1" lang="en-GB" sz="2000" spc="-1" strike="noStrike">
                <a:solidFill>
                  <a:srgbClr val="ff6600"/>
                </a:solidFill>
                <a:latin typeface="AvantGarde Md BT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Singl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4800" y="226548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CN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57520" y="22766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ECM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23200" y="228276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Me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rcRect l="0" t="40345" r="54078" b="37215"/>
          <a:stretch/>
        </p:blipFill>
        <p:spPr>
          <a:xfrm>
            <a:off x="192240" y="2781360"/>
            <a:ext cx="287172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57387" r="7374" b="8695"/>
          <a:stretch/>
        </p:blipFill>
        <p:spPr>
          <a:xfrm>
            <a:off x="755640" y="1197000"/>
            <a:ext cx="734544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66640" y="-847800"/>
            <a:ext cx="8010720" cy="56674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117440" y="4919760"/>
            <a:ext cx="67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tential-Vorticity Perspective of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132680" cy="10082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5651640" y="3710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  <a:ea typeface="Arial"/>
              </a:rPr>
              <a:t>T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4360" y="2990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T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ETER provides a baseline for future seasonal forecast systems (TFSP, Stochastic Physics, Perturbed Parameters) to beat!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What is our strategy for developing future forecast systems with minimal deficiencies in blocking, monsoons etc? How are we to execute such a strategy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rcRect l="9835" t="19666" r="4918" b="22943"/>
          <a:stretch/>
        </p:blipFill>
        <p:spPr>
          <a:xfrm>
            <a:off x="2050920" y="836640"/>
            <a:ext cx="5616720" cy="28479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rcRect l="9835" t="19666" r="4918" b="22943"/>
          <a:stretch/>
        </p:blipFill>
        <p:spPr>
          <a:xfrm>
            <a:off x="1941480" y="3860640"/>
            <a:ext cx="5799240" cy="2928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79280" y="119700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probability of dry (lower tercile) D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4221000"/>
            <a:ext cx="16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probability of wet (upper tercile) J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856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in Probability of Lower/Upper Tercile Precip Seasons Under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05800" y="540720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IPCC AR4 multi-model ensem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939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1280" y="2060640"/>
            <a:ext cx="7848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he overarching objectives of WCRP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o determine the predictability of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o determine the effect of human activities on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rustworthy Are These Precipitation Proj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light of known systematic deficiencies in climate 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19000" y="291960"/>
            <a:ext cx="4545000" cy="59058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508720" y="1239840"/>
            <a:ext cx="36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  <a:ea typeface="Arial"/>
              </a:rPr>
              <a:t>Does the UK need a national water grid. Cost £16bill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70680" cy="8442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187280" y="501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uropean droughts occur because of anomalous Euro/Atlantic block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67280" y="19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locking 200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419640" y="2276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2360" y="2492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imatological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659280" y="2852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939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611280" y="2421000"/>
            <a:ext cx="78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he WCRP strategic framework points to the need for seamless predictions spanning timescales from weeks to decade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49160" y="3240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587920" y="378468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 chain is only as strong as its weakest link.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4533840" y="3772080"/>
            <a:ext cx="8892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68360" y="1484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Use Seasonal Forecasts to quantify the strength of  links 1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84360" y="692280"/>
            <a:ext cx="7319880" cy="5492520"/>
            <a:chOff x="684360" y="692280"/>
            <a:chExt cx="7319880" cy="5492520"/>
          </a:xfrm>
        </p:grpSpPr>
        <p:grpSp>
          <p:nvGrpSpPr>
            <p:cNvPr id="552" name=""/>
            <p:cNvGrpSpPr/>
            <p:nvPr/>
          </p:nvGrpSpPr>
          <p:grpSpPr>
            <a:xfrm>
              <a:off x="684360" y="692280"/>
              <a:ext cx="7319880" cy="5492520"/>
              <a:chOff x="684360" y="692280"/>
              <a:chExt cx="7319880" cy="5492520"/>
            </a:xfrm>
          </p:grpSpPr>
          <p:pic>
            <p:nvPicPr>
              <p:cNvPr id="5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692280"/>
                <a:ext cx="7319880" cy="549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 flipH="1">
                <a:off x="4734000" y="3122280"/>
                <a:ext cx="25653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4469040" y="3342960"/>
                <a:ext cx="1736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163760" y="3581280"/>
                <a:ext cx="10033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926000" y="4314600"/>
                <a:ext cx="13176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161400" y="3336840"/>
              <a:ext cx="0" cy="2234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02520" y="3341520"/>
              <a:ext cx="0" cy="2234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55640" y="18900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e Calibration Techn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607860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se calibration to discount AR4 raw probabilities (Palmer Doblas-Reyes Weisheimer Rodwell, submitted to B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771640" y="1601640"/>
            <a:ext cx="3297240" cy="2475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580000" y="1606680"/>
            <a:ext cx="3294000" cy="2469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187280" y="5495760"/>
            <a:ext cx="6777360" cy="5972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692280"/>
            <a:ext cx="8064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stern North America dry D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1566720"/>
            <a:ext cx="430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179280" y="1628640"/>
            <a:ext cx="3097440" cy="234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684360" y="421632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2360" y="42879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00720" y="429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28000" y="5734080"/>
            <a:ext cx="7920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859120" y="2106720"/>
            <a:ext cx="3297240" cy="2474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3297240" cy="24764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42448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900000" y="907920"/>
            <a:ext cx="7128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azon Basin wet D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4000" y="2359080"/>
            <a:ext cx="323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108000" y="2300400"/>
            <a:ext cx="2879640" cy="21794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516720" y="4581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6400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11280" y="4576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028000" y="5734080"/>
            <a:ext cx="7920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484360" y="21859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3511440" cy="2628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42448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395280" y="2168640"/>
            <a:ext cx="324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55640" y="565200"/>
            <a:ext cx="7705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thern Europe dry D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108000" y="2370240"/>
            <a:ext cx="2663640" cy="20113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443640" y="4532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4532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4576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ir David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bigger problem than climate change. The threat is quite simple, it’s a threat to our civiliz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571840" y="2133720"/>
            <a:ext cx="3295440" cy="2466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3295440" cy="24667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42448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258920" y="620640"/>
            <a:ext cx="6192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th Asia wet J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54640" y="125280"/>
            <a:ext cx="322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-36360" y="2257560"/>
            <a:ext cx="2879640" cy="21794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300720" y="46054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4581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4576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076560" y="2041560"/>
            <a:ext cx="3295800" cy="24670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5813280" y="1989000"/>
            <a:ext cx="3295800" cy="2467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56884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39640" y="620640"/>
            <a:ext cx="795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ntral North America wet J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8360" y="2149560"/>
            <a:ext cx="322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179280" y="2039760"/>
            <a:ext cx="3168720" cy="23972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6516720" y="460548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8000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4360" y="464832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522760" y="162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116000" y="5234040"/>
            <a:ext cx="7308720" cy="6429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187280" y="692280"/>
            <a:ext cx="6624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theast Asia dry J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9280" y="1952640"/>
            <a:ext cx="322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0" y="2120760"/>
            <a:ext cx="2627280" cy="19782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6372360" y="4149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2000" y="4221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4000" y="428796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28000" y="5734080"/>
            <a:ext cx="7920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rcRect l="9835" t="19666" r="4918" b="22943"/>
          <a:stretch/>
        </p:blipFill>
        <p:spPr>
          <a:xfrm>
            <a:off x="1908000" y="333360"/>
            <a:ext cx="5004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2017800" y="3111480"/>
            <a:ext cx="4381560" cy="3753000"/>
            <a:chOff x="2017800" y="3111480"/>
            <a:chExt cx="4381560" cy="3753000"/>
          </a:xfrm>
        </p:grpSpPr>
        <p:sp>
          <p:nvSpPr>
            <p:cNvPr id="621" name=""/>
            <p:cNvSpPr/>
            <p:nvPr/>
          </p:nvSpPr>
          <p:spPr>
            <a:xfrm>
              <a:off x="2855880" y="3111480"/>
              <a:ext cx="25146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stern North America dry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2"/>
            <a:stretch/>
          </p:blipFill>
          <p:spPr>
            <a:xfrm>
              <a:off x="2017800" y="3568680"/>
              <a:ext cx="4381560" cy="329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08000" y="806400"/>
            <a:ext cx="9144000" cy="56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 of Water Grid =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nomic and Social Losses from water shortages =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est in water grid if probability of drought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&gt;C/L=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uncalibrated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(drought)&lt;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ri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alibrated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(drought)&lt;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easonal forecasts will impact quantitatively on the decision whether or not to invest in the water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ETER provides baseline of skill for future systems (TFSP, Stochastic Physics, Perturbed Parameters) to b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al forecasts are important in their own right as part of a climate adapt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seamless system seasonal forecasts can be used to discount probabilistic projections of climate change in regions of forecast unreliability. Important for decisions on infrastructure investment for climate adap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s a community need to articulate a strategy to reduce existing model deficiencies and corresponding forecast unreli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he Importance of Seasonal Prediction – In the Context of Climat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-change is expected to lead to more extreme climate vari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vision to society of reliable forecasts of specific occurrences of extreme climate fluctuations on seasonal timescales should be an essential element in any strategy on climate adap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onal forecasts can play a key role in validating probabilistic projections of climate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4160" y="1217520"/>
            <a:ext cx="86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6040" y="3544920"/>
            <a:ext cx="88092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D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evelopment of 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E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uropean </a:t>
            </a: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M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ulti-Model </a:t>
            </a: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E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nsemble Syst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fo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Seasonal to In</a:t>
            </a: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ter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annual Predi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2280" y="304920"/>
            <a:ext cx="8809200" cy="2705760"/>
            <a:chOff x="152280" y="304920"/>
            <a:chExt cx="8809200" cy="2705760"/>
          </a:xfrm>
        </p:grpSpPr>
        <p:grpSp>
          <p:nvGrpSpPr>
            <p:cNvPr id="388" name=""/>
            <p:cNvGrpSpPr/>
            <p:nvPr/>
          </p:nvGrpSpPr>
          <p:grpSpPr>
            <a:xfrm>
              <a:off x="3090960" y="1228680"/>
              <a:ext cx="2928600" cy="1782000"/>
              <a:chOff x="3090960" y="1228680"/>
              <a:chExt cx="2928600" cy="1782000"/>
            </a:xfrm>
          </p:grpSpPr>
          <p:pic>
            <p:nvPicPr>
              <p:cNvPr id="389" name="" descr=""/>
              <p:cNvPicPr/>
              <p:nvPr/>
            </p:nvPicPr>
            <p:blipFill>
              <a:blip r:embed="rId1"/>
              <a:srcRect l="0" t="0" r="10267" b="0"/>
              <a:stretch/>
            </p:blipFill>
            <p:spPr>
              <a:xfrm>
                <a:off x="5239800" y="1832040"/>
                <a:ext cx="779760" cy="116784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3090960" y="1970280"/>
                <a:ext cx="795240" cy="104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3"/>
              <a:srcRect l="3919" t="6176" r="0" b="5558"/>
              <a:stretch/>
            </p:blipFill>
            <p:spPr>
              <a:xfrm>
                <a:off x="3611880" y="1228680"/>
                <a:ext cx="655920" cy="12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4"/>
              <a:srcRect l="0" t="0" r="12741" b="5265"/>
              <a:stretch/>
            </p:blipFill>
            <p:spPr>
              <a:xfrm>
                <a:off x="4753800" y="1309320"/>
                <a:ext cx="618840" cy="121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5">
                <a:grayscl/>
              </a:blip>
              <a:srcRect l="7536" t="1753" r="7536" b="32378"/>
              <a:stretch/>
            </p:blipFill>
            <p:spPr>
              <a:xfrm>
                <a:off x="4194720" y="1716120"/>
                <a:ext cx="696240" cy="1164240"/>
              </a:xfrm>
              <a:prstGeom prst="rect">
                <a:avLst/>
              </a:prstGeom>
              <a:ln w="28440">
                <a:solidFill>
                  <a:srgbClr val="00cc99"/>
                </a:solidFill>
                <a:miter/>
              </a:ln>
            </p:spPr>
          </p:pic>
        </p:grpSp>
        <p:sp>
          <p:nvSpPr>
            <p:cNvPr id="394" name=""/>
            <p:cNvSpPr/>
            <p:nvPr/>
          </p:nvSpPr>
          <p:spPr>
            <a:xfrm>
              <a:off x="152280" y="304920"/>
              <a:ext cx="880920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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4160" y="1217520"/>
            <a:ext cx="86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700280"/>
            <a:ext cx="8809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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4221000"/>
            <a:ext cx="8809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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58920" y="33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Transition to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2720" y="2781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438280" y="-90360"/>
            <a:ext cx="5334120" cy="3671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438280" y="3335400"/>
            <a:ext cx="5334120" cy="3674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492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M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32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638680"/>
            <a:ext cx="5335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106668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4800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559116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mer et al, 2004; Hagedorn et a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694560" y="373068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460760" y="3726000"/>
            <a:ext cx="2516400" cy="2516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235240" y="372600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6686640" y="122076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4457880" y="121608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rcRect l="3558" t="13765" r="5338" b="7374"/>
          <a:stretch/>
        </p:blipFill>
        <p:spPr>
          <a:xfrm>
            <a:off x="7454880" y="88920"/>
            <a:ext cx="1666800" cy="1044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-152280" y="187200"/>
            <a:ext cx="784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emble Reliability: 2m-Temp.&gt;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7"/>
          <a:stretch/>
        </p:blipFill>
        <p:spPr>
          <a:xfrm>
            <a:off x="2230560" y="122400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0" y="122400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-3240" y="3733920"/>
            <a:ext cx="2516400" cy="2516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0" y="1219320"/>
            <a:ext cx="9144000" cy="5022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347840" y="1415880"/>
            <a:ext cx="7486560" cy="3305520"/>
            <a:chOff x="1347840" y="1415880"/>
            <a:chExt cx="7486560" cy="3305520"/>
          </a:xfrm>
        </p:grpSpPr>
        <p:sp>
          <p:nvSpPr>
            <p:cNvPr id="422" name=""/>
            <p:cNvSpPr/>
            <p:nvPr/>
          </p:nvSpPr>
          <p:spPr>
            <a:xfrm>
              <a:off x="1376640" y="1415880"/>
              <a:ext cx="7660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0720" y="148896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5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08960" y="149220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91640" y="1494000"/>
              <a:ext cx="839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-0.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8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42040" y="4000680"/>
              <a:ext cx="839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-0.0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83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20120" y="400068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08920" y="4003560"/>
              <a:ext cx="8254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2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7840" y="401328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429680" y="5467320"/>
            <a:ext cx="1809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  <a:ea typeface="Times New Roman"/>
              </a:rPr>
              <a:t>Demeter multi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15408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ETER End-to-end Forecast System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65800" y="1316520"/>
            <a:ext cx="60156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2240" y="123048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78480" y="1306800"/>
            <a:ext cx="60156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12880" y="1308240"/>
            <a:ext cx="601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13040" y="1310040"/>
            <a:ext cx="60156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4280" y="1311480"/>
            <a:ext cx="601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1480" y="1314720"/>
            <a:ext cx="601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05480" y="1071720"/>
            <a:ext cx="1460880" cy="825480"/>
          </a:xfrm>
          <a:prstGeom prst="rect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Sea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34040" y="229716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67600" y="237060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79920" y="2373480"/>
            <a:ext cx="60192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02080" y="237528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14480" y="237672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16080" y="237852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3280" y="238140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6240" y="2314440"/>
            <a:ext cx="2014200" cy="459720"/>
          </a:xfrm>
          <a:prstGeom prst="rect">
            <a:avLst/>
          </a:prstGeom>
          <a:noFill/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Down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01720" y="185436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7760" y="185580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22640" y="187020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36880" y="18604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81600" y="18622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73960" y="187812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80200" y="350244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08480" y="342900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79920" y="3505680"/>
            <a:ext cx="60192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02080" y="350712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14480" y="350856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03480" y="349740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0680" y="350064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20440" y="3305160"/>
            <a:ext cx="1788480" cy="833040"/>
          </a:xfrm>
          <a:prstGeom prst="rect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912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036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0052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8160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7396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94240" y="5492880"/>
            <a:ext cx="299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83480" y="4365360"/>
            <a:ext cx="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42000" y="547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66040" y="4386240"/>
            <a:ext cx="995400" cy="1093680"/>
          </a:xfrm>
          <a:custGeom>
            <a:avLst/>
            <a:gdLst/>
            <a:ahLst/>
            <a:rect l="l" t="t" r="r" b="b"/>
            <a:pathLst>
              <a:path w="686" h="437">
                <a:moveTo>
                  <a:pt x="0" y="437"/>
                </a:moveTo>
                <a:cubicBezTo>
                  <a:pt x="41" y="430"/>
                  <a:pt x="83" y="423"/>
                  <a:pt x="142" y="351"/>
                </a:cubicBezTo>
                <a:cubicBezTo>
                  <a:pt x="201" y="279"/>
                  <a:pt x="284" y="6"/>
                  <a:pt x="355" y="3"/>
                </a:cubicBezTo>
                <a:cubicBezTo>
                  <a:pt x="426" y="0"/>
                  <a:pt x="513" y="264"/>
                  <a:pt x="568" y="335"/>
                </a:cubicBezTo>
                <a:cubicBezTo>
                  <a:pt x="623" y="406"/>
                  <a:pt x="654" y="418"/>
                  <a:pt x="686" y="43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6280" y="588636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Probability of Precip &amp; Tem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72280" y="5867280"/>
            <a:ext cx="35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Probability of Malaria Incidence/Crop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7320" y="5470560"/>
            <a:ext cx="275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2174400" y="4343040"/>
            <a:ext cx="180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35080" y="545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1440" y="4676760"/>
            <a:ext cx="1827360" cy="781200"/>
          </a:xfrm>
          <a:custGeom>
            <a:avLst/>
            <a:gdLst/>
            <a:ahLst/>
            <a:rect l="l" t="t" r="r" b="b"/>
            <a:pathLst>
              <a:path w="686" h="437">
                <a:moveTo>
                  <a:pt x="0" y="437"/>
                </a:moveTo>
                <a:cubicBezTo>
                  <a:pt x="41" y="430"/>
                  <a:pt x="83" y="423"/>
                  <a:pt x="142" y="351"/>
                </a:cubicBezTo>
                <a:cubicBezTo>
                  <a:pt x="201" y="279"/>
                  <a:pt x="284" y="6"/>
                  <a:pt x="355" y="3"/>
                </a:cubicBezTo>
                <a:cubicBezTo>
                  <a:pt x="426" y="0"/>
                  <a:pt x="513" y="264"/>
                  <a:pt x="568" y="335"/>
                </a:cubicBezTo>
                <a:cubicBezTo>
                  <a:pt x="623" y="406"/>
                  <a:pt x="654" y="418"/>
                  <a:pt x="686" y="43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56120" y="4694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73880" y="429408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non-linear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3240" y="4435560"/>
            <a:ext cx="1443240" cy="1006560"/>
          </a:xfrm>
          <a:custGeom>
            <a:avLst/>
            <a:gdLst/>
            <a:ahLst/>
            <a:rect l="l" t="t" r="r" b="b"/>
            <a:pathLst>
              <a:path w="686" h="437">
                <a:moveTo>
                  <a:pt x="0" y="437"/>
                </a:moveTo>
                <a:cubicBezTo>
                  <a:pt x="41" y="430"/>
                  <a:pt x="83" y="423"/>
                  <a:pt x="142" y="351"/>
                </a:cubicBezTo>
                <a:cubicBezTo>
                  <a:pt x="201" y="279"/>
                  <a:pt x="284" y="6"/>
                  <a:pt x="355" y="3"/>
                </a:cubicBezTo>
                <a:cubicBezTo>
                  <a:pt x="426" y="0"/>
                  <a:pt x="513" y="264"/>
                  <a:pt x="568" y="335"/>
                </a:cubicBezTo>
                <a:cubicBezTo>
                  <a:pt x="623" y="406"/>
                  <a:pt x="654" y="418"/>
                  <a:pt x="686" y="43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1:14:38Z</dcterms:created>
  <dc:creator>palmer</dc:creator>
  <dc:description/>
  <dc:language>en-US</dc:language>
  <cp:lastModifiedBy>ecmwf</cp:lastModifiedBy>
  <dcterms:modified xsi:type="dcterms:W3CDTF">2007-06-04T05:57:35Z</dcterms:modified>
  <cp:revision>8</cp:revision>
  <dc:subject/>
  <dc:title>Slide 1</dc:title>
</cp:coreProperties>
</file>