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9AA-1EA6-4C41-AB9C-807CDC93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EDD-A385-4313-AD3B-0D0F115B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AF1-F258-40D2-9B92-F5775573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9A8-9CCF-42A8-BEEB-6676F8A6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4C25-198E-47D6-A50D-424304BC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A554-159F-44CF-AA43-6B2EC09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7655-6618-4B2C-8E23-25129B01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BED4-012E-4D61-851A-7EEAF99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BD12-7316-40D4-B1A9-5FB3DAE5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79D6-C2FC-401B-BAFC-B021A40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DF7F-6115-4907-AFDA-4795412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518-D652-4632-8638-E8922E28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618C-F5D0-4169-8601-2789A01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86B4-2B45-4C0A-92F3-BB424DA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D809-87E0-41D1-832D-37AFE23E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54F1-34CF-449E-AB8F-3F9C72FE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908-1C86-483A-9B80-834C7D47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32F-6C5B-4044-B727-7C7389EB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E9D-76CA-43A1-8317-31F57F09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700-5546-49B7-A330-031F0870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EE0-CEB5-41F7-95D6-2188AD33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FBE-B251-447E-A3CA-4CEC2F5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A1A-F1D7-428A-9F09-FF57222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59D-0655-4B13-B675-36E99D80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72800" cy="6806880"/>
            <a:chOff x="0" y="0"/>
            <a:chExt cx="9172800" cy="68068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05920" cy="624852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238880" y="380880"/>
              <a:ext cx="1524240" cy="617220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565800">
              <a:off x="7791120" y="4419720"/>
              <a:ext cx="1276200" cy="13906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18773400">
              <a:off x="7150320" y="5517720"/>
              <a:ext cx="1006200" cy="10954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40DF-010A-48B7-8CB4-0ACBB4391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266040" cy="6858000"/>
            <a:chOff x="0" y="0"/>
            <a:chExt cx="926604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8305920" cy="624852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48520" y="3581280"/>
              <a:ext cx="2895480" cy="327672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65800">
              <a:off x="7543800" y="3809520"/>
              <a:ext cx="1600200" cy="16192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773400">
              <a:off x="7054920" y="5289120"/>
              <a:ext cx="1006200" cy="10954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7BC8-AA8D-4080-9251-EB602D3DA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SO-related Seasonal Predictability in East As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lls of JMA/MRI Unified Mod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640" y="388620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T. Ose, T. Yasuda (MRI/JMA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Y. Takaya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S. Maeda, C. Kobayash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and H. Kamahori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(J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JF WP precipitation is correlated with DJF Nino3.4 SST as expect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2519280"/>
          <a:ext cx="40338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19280"/>
                    <a:ext cx="40338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700360" y="249228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99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P S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060640"/>
            <a:ext cx="4176720" cy="825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ed Lag Correlation of WP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L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4797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ino3.4 S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852640"/>
            <a:ext cx="0" cy="28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61657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From T.Ose et al.,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356000" y="1844640"/>
            <a:ext cx="4788000" cy="4089600"/>
            <a:chOff x="4356000" y="1844640"/>
            <a:chExt cx="4788000" cy="4089600"/>
          </a:xfrm>
        </p:grpSpPr>
        <p:sp>
          <p:nvSpPr>
            <p:cNvPr id="162" name=""/>
            <p:cNvSpPr/>
            <p:nvPr/>
          </p:nvSpPr>
          <p:spPr>
            <a:xfrm>
              <a:off x="4356000" y="1844640"/>
              <a:ext cx="47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JF GPCP correlation with DJF Nino3.4 SS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4427640" y="2781360"/>
              <a:ext cx="453708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084720" y="4076640"/>
              <a:ext cx="793800" cy="719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ills of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J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P Precipitation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10-160E,10-20N)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m C. Kobayashi, et al. (200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79280" y="1628640"/>
            <a:ext cx="8785440" cy="4321440"/>
            <a:chOff x="179280" y="1628640"/>
            <a:chExt cx="8785440" cy="43214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4788000" y="2708280"/>
              <a:ext cx="4032000" cy="32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539640" y="2708280"/>
              <a:ext cx="4103640" cy="32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79280" y="1628640"/>
              <a:ext cx="453708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 so Good HINDCAS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Persistent SST anomal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27640" y="1628640"/>
              <a:ext cx="453708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ood SMIP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Real SST anomal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68360" y="3213000"/>
              <a:ext cx="201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COR&lt;0.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88000" y="3213000"/>
              <a:ext cx="201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COR&gt;0.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8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Development of JMA/MRI-Coupled GCM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276200"/>
          <a:ext cx="8497800" cy="5392800"/>
        </p:xfrm>
        <a:graphic>
          <a:graphicData uri="http://schemas.openxmlformats.org/drawingml/2006/table">
            <a:tbl>
              <a:tblPr/>
              <a:tblGrid>
                <a:gridCol w="1168200"/>
                <a:gridCol w="3711600"/>
                <a:gridCol w="3618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for El Nino Predi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CG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42L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L95L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S-70N, 0-360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5°by 0.5-2.0°L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S-75N, 0-360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0°by 0.3-1.0°L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p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-h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-stress, Heat-flux Adjus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-h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-stress, Heat-fl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e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mi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MA-OD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-VAR(T,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, S  on GTS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BE-SST, S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VE/MRI.CO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i et al.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-VAR(T,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, S on GTS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BE-SST, S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tical EOF modes of T-S coup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1258920" y="692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Yasud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roved Ocean Assimilation Syste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765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8366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Yasud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440" y="1268280"/>
            <a:ext cx="8963280" cy="5545440"/>
            <a:chOff x="1440" y="1268280"/>
            <a:chExt cx="8963280" cy="55454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34920" y="1327320"/>
              <a:ext cx="4392720" cy="28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4572000" y="1327320"/>
              <a:ext cx="4392720" cy="28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4572000" y="3990960"/>
              <a:ext cx="439272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440" y="4365720"/>
              <a:ext cx="458496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me Sequences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℃-Depth (Line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mperature-Gradient (Shade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 (110W, 0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2880" y="3240000"/>
              <a:ext cx="215568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Operatio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0320" y="5897520"/>
              <a:ext cx="179604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TAO OB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9240" y="3213000"/>
              <a:ext cx="9108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Ne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000" y="1268280"/>
              <a:ext cx="4032000" cy="1729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roved NINO3.4 SST Predi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537372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持続予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43657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515772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per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465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持続予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572616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気候値予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812000" y="5371920"/>
            <a:ext cx="360360" cy="36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76500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Yasud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589720"/>
            <a:ext cx="13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44370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per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5600" y="1254240"/>
            <a:ext cx="8637480" cy="5487840"/>
            <a:chOff x="255600" y="1254240"/>
            <a:chExt cx="8637480" cy="54878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rcRect l="4764" t="23568" r="0" b="33669"/>
            <a:stretch/>
          </p:blipFill>
          <p:spPr>
            <a:xfrm>
              <a:off x="255600" y="1254240"/>
              <a:ext cx="8637480" cy="54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24000" y="3933720"/>
              <a:ext cx="1295640" cy="790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659640" y="126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70-120W, 5S-5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Five-member from 12Z the last five days in January and Ju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984-200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22year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cores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JJA and DJF after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4-month lead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CC, R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Compared with AGCM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Hindcas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from Feb.10 and Aug.10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Prescribed SST is obtained statistically based on Nino3.4 SST predicted by JMA El Nino Prediction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sonal Forecast Tests of CGCM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FSP-type Experimen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6237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672000" cy="2503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cc"/>
                </a:solidFill>
                <a:latin typeface="Arial"/>
              </a:rPr>
              <a:t>　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Improved Precipitation Skills</a:t>
            </a:r>
            <a:br>
              <a:rPr sz="3600"/>
            </a:b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Correlation (Hindcast-CMA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1844640"/>
            <a:ext cx="19432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7" descr=""/>
          <p:cNvPicPr/>
          <p:nvPr/>
        </p:nvPicPr>
        <p:blipFill>
          <a:blip r:embed="rId2"/>
          <a:stretch/>
        </p:blipFill>
        <p:spPr>
          <a:xfrm>
            <a:off x="4716360" y="4005360"/>
            <a:ext cx="3672000" cy="27115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0" y="620640"/>
            <a:ext cx="8388360" cy="6045120"/>
            <a:chOff x="0" y="620640"/>
            <a:chExt cx="8388360" cy="6045120"/>
          </a:xfrm>
        </p:grpSpPr>
        <p:pic>
          <p:nvPicPr>
            <p:cNvPr id="210" name="Picture 15" descr=""/>
            <p:cNvPicPr/>
            <p:nvPr/>
          </p:nvPicPr>
          <p:blipFill>
            <a:blip r:embed="rId3"/>
            <a:stretch/>
          </p:blipFill>
          <p:spPr>
            <a:xfrm>
              <a:off x="900000" y="4005360"/>
              <a:ext cx="3600720" cy="26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4" descr=""/>
            <p:cNvPicPr/>
            <p:nvPr/>
          </p:nvPicPr>
          <p:blipFill>
            <a:blip r:embed="rId4"/>
            <a:stretch/>
          </p:blipFill>
          <p:spPr>
            <a:xfrm>
              <a:off x="826920" y="1052640"/>
              <a:ext cx="3672000" cy="25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8" descr=""/>
            <p:cNvPicPr/>
            <p:nvPr/>
          </p:nvPicPr>
          <p:blipFill>
            <a:blip r:embed="rId5"/>
            <a:stretch/>
          </p:blipFill>
          <p:spPr>
            <a:xfrm>
              <a:off x="4716360" y="1052640"/>
              <a:ext cx="367200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547640" y="5084640"/>
              <a:ext cx="792360" cy="719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64000" y="5084640"/>
              <a:ext cx="792360" cy="719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92720" y="1844640"/>
              <a:ext cx="2087640" cy="4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620640"/>
              <a:ext cx="745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JJA from JAN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3573360"/>
              <a:ext cx="745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JF from JU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2000" y="400536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58920" y="105264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105264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48360" y="400536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184464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0360" y="522936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76360" y="1844640"/>
              <a:ext cx="2087640" cy="4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ory effect of DJF Nino3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ST in the following JJA WP Precipitation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529080" cy="245592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468360" y="1413000"/>
            <a:ext cx="8209080" cy="5302080"/>
            <a:chOff x="468360" y="1413000"/>
            <a:chExt cx="8209080" cy="530208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572000" y="1628640"/>
              <a:ext cx="3529080" cy="24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900000" y="4221000"/>
              <a:ext cx="3529080" cy="24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4572000" y="4221000"/>
              <a:ext cx="352908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68360" y="1484280"/>
              <a:ext cx="1008000" cy="459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8360" y="4221000"/>
              <a:ext cx="2124000" cy="8254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-month lead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16720" y="1413000"/>
              <a:ext cx="2160720" cy="459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-month le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77080" y="4076640"/>
              <a:ext cx="1692360" cy="459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EE-ru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80000" y="2565360"/>
              <a:ext cx="1584360" cy="504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08000" y="2492280"/>
              <a:ext cx="1584360" cy="50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79640" y="5157720"/>
              <a:ext cx="1584360" cy="504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5157720"/>
              <a:ext cx="1584360" cy="50472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ocal Precipitation-SST Relationship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 similar to OBS in CGCM, not in AGC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981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4000" y="1557360"/>
            <a:ext cx="8137440" cy="5300640"/>
            <a:chOff x="324000" y="1557360"/>
            <a:chExt cx="8137440" cy="530064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042920" y="1636560"/>
              <a:ext cx="6985080" cy="52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24000" y="1557360"/>
              <a:ext cx="8137440" cy="459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cal correlation between Precipitation and S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95640" y="2781360"/>
              <a:ext cx="1942920" cy="863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2720" y="2781360"/>
              <a:ext cx="1943280" cy="863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64000" y="5300640"/>
              <a:ext cx="1943280" cy="86364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4000" y="5300640"/>
              <a:ext cx="1943280" cy="863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800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59280" y="4437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92360" y="206064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CMA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19280" y="4437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GPC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uth A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mmer Monsoon Index (WYI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-month lead: JJA from JA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1052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8000" y="1556280"/>
            <a:ext cx="8540640" cy="5301720"/>
            <a:chOff x="108000" y="1556280"/>
            <a:chExt cx="8540640" cy="53017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4140360" y="4338720"/>
              <a:ext cx="431928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4500720" y="1557360"/>
              <a:ext cx="4147920" cy="31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250920" y="1557360"/>
              <a:ext cx="417672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4"/>
            <p:cNvSpPr/>
            <p:nvPr/>
          </p:nvSpPr>
          <p:spPr>
            <a:xfrm>
              <a:off x="4859280" y="1556280"/>
              <a:ext cx="2376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4"/>
            <p:cNvSpPr/>
            <p:nvPr/>
          </p:nvSpPr>
          <p:spPr>
            <a:xfrm>
              <a:off x="755640" y="1556280"/>
              <a:ext cx="230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5013360"/>
              <a:ext cx="4054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YI Definition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：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0-20N,40-110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Mean of U850–U2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4000" y="3284640"/>
              <a:ext cx="2327040" cy="1296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lue: Forec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d: Analysis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CC: 0.5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3280" y="3141720"/>
              <a:ext cx="2233800" cy="1439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lue: Forec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d: Analy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CC: 0.3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1280" y="36450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s of JMA Operation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5-month-lea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sonal Forecast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son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tability in East As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s of new JMA/MRI –Coupled GCM f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-month-le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asonal Forecast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5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st A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mmer Monsoon Index (DU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-month lead: JJA from JA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981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9280" y="1413000"/>
            <a:ext cx="8640720" cy="5278320"/>
            <a:chOff x="179280" y="1413000"/>
            <a:chExt cx="8640720" cy="527832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3995640" y="4221000"/>
              <a:ext cx="4286520" cy="24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4643280" y="1413000"/>
              <a:ext cx="4176720" cy="35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179280" y="1413000"/>
              <a:ext cx="4319640" cy="35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5219640" y="1483200"/>
              <a:ext cx="2087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4"/>
            <p:cNvSpPr/>
            <p:nvPr/>
          </p:nvSpPr>
          <p:spPr>
            <a:xfrm>
              <a:off x="755640" y="1483200"/>
              <a:ext cx="1944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2360" y="5013360"/>
              <a:ext cx="405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U2 Definition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：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rea Mean of U850 (5-15N,90-130E)-(22.5-32.5N,110-140E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4000" y="3284640"/>
              <a:ext cx="2327040" cy="1296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lue: Forec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d: Analysis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CC: 0.5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8000" y="3284640"/>
              <a:ext cx="2233440" cy="1439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lue: Forec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d: Analy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CC: -0.0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67280" y="378936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 Scores for Surface Air Temperature</a:t>
            </a:r>
            <a:br>
              <a:rPr sz="40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-month le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3-month Average, Positive Anomal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00720" y="2060640"/>
          <a:ext cx="4462200" cy="422280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  <a:gridCol w="2230200"/>
              </a:tblGrid>
              <a:tr h="581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JA from J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.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7.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8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.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.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0" y="1916280"/>
          <a:ext cx="4571640" cy="446508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2284920"/>
              </a:tblGrid>
              <a:tr h="719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JF from J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8.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9.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.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.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.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971640" y="126828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112536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MA Operational Three-month Forec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ws practically good skills for Japan by using the OBS-to-OBS downscal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ast 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ENSO-relat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 seasonal predictabil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a WP precipitation simply in DJF and a bit complicatedly in J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w JMA/MRI Coupled GC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rov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-month-le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diction for almost all aspects including Asia monsoon through more realistic air-sea interac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 algn="ctr">
              <a:lnSpc>
                <a:spcPct val="100000"/>
              </a:lnSpc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s of JMA Operation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ree-mon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ecast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wo-tired w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ersistent SSTA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L95L40 JMA/MRI-Unified AG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31-member Ensem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Once a 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bout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0.5-month lead-tim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indcast : 1983-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5-members Ensem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3280" y="2276640"/>
          <a:ext cx="3816360" cy="3985920"/>
        </p:xfrm>
        <a:graphic>
          <a:graphicData uri="http://schemas.openxmlformats.org/drawingml/2006/table">
            <a:tbl>
              <a:tblPr/>
              <a:tblGrid>
                <a:gridCol w="1290600"/>
                <a:gridCol w="1233720"/>
                <a:gridCol w="129204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opic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.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.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.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.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.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J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.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140360" y="1557360"/>
            <a:ext cx="4608360" cy="647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C for Positive Anoma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8172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C Home-Page http://cpd2.kishou.go.jp/tcc/products/model/hindcast/4mE/svs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indcast Skill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in Japa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after Downscaling (OBS-to-OB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2349360"/>
          <a:ext cx="8064360" cy="4162680"/>
        </p:xfrm>
        <a:graphic>
          <a:graphicData uri="http://schemas.openxmlformats.org/drawingml/2006/table">
            <a:tbl>
              <a:tblPr/>
              <a:tblGrid>
                <a:gridCol w="1655640"/>
                <a:gridCol w="1584360"/>
                <a:gridCol w="1657440"/>
                <a:gridCol w="1612800"/>
                <a:gridCol w="1554120"/>
              </a:tblGrid>
              <a:tr h="83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rthe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ste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uthe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4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2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18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26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mm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6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41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8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29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um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51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12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15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in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3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27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47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1557360"/>
            <a:ext cx="856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rrela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kill of Surface Air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3500280"/>
            <a:ext cx="4032360" cy="2233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661000"/>
            <a:ext cx="3348000" cy="1197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717920"/>
            <a:ext cx="9144000" cy="5023800"/>
            <a:chOff x="0" y="1717920"/>
            <a:chExt cx="9144000" cy="50238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641600" y="1863720"/>
              <a:ext cx="7502400" cy="48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3017880"/>
              <a:ext cx="176364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eliabil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71640" y="1717920"/>
              <a:ext cx="42480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urface Air Temperature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35640" y="1717920"/>
              <a:ext cx="331164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ecipitation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5462280"/>
              <a:ext cx="1476360" cy="8254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orecast Numb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0" y="100440"/>
            <a:ext cx="9144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Reliabilit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of JMA Tercile Forecast (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Not Hindcast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in Jap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after Statistical Downscaling (Obs -&gt; Ob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-1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the JJA seasonal forecast show good skills in Japa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1800360"/>
            <a:ext cx="9144000" cy="5231520"/>
            <a:chOff x="0" y="1800360"/>
            <a:chExt cx="9144000" cy="5231520"/>
          </a:xfrm>
        </p:grpSpPr>
        <p:grpSp>
          <p:nvGrpSpPr>
            <p:cNvPr id="115" name=""/>
            <p:cNvGrpSpPr/>
            <p:nvPr/>
          </p:nvGrpSpPr>
          <p:grpSpPr>
            <a:xfrm>
              <a:off x="0" y="1800360"/>
              <a:ext cx="9144000" cy="5231520"/>
              <a:chOff x="0" y="1800360"/>
              <a:chExt cx="9144000" cy="523152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360" y="2271600"/>
                <a:ext cx="5543640" cy="38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877080" y="2663640"/>
                <a:ext cx="180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J-Patter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800360"/>
                <a:ext cx="9144000" cy="672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bserved T850 Correlation with Western Pacific Precipitation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(130-150E,10-20N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194520" y="3155760"/>
                <a:ext cx="2949480" cy="3876120"/>
                <a:chOff x="6194520" y="3155760"/>
                <a:chExt cx="2949480" cy="3876120"/>
              </a:xfrm>
            </p:grpSpPr>
            <p:pic>
              <p:nvPicPr>
                <p:cNvPr id="1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16840" y="3155760"/>
                  <a:ext cx="2828880" cy="348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" name=""/>
                <p:cNvSpPr/>
                <p:nvPr/>
              </p:nvSpPr>
              <p:spPr>
                <a:xfrm>
                  <a:off x="6194520" y="6633000"/>
                  <a:ext cx="2949480" cy="39888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Nitta(JMSJ,1987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2987640" y="4032000"/>
              <a:ext cx="360360" cy="28872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ills of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J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P Precipitation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10-160E,10-20N)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m C. Kobayashi, et al. (200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324000" y="1628640"/>
            <a:ext cx="8640720" cy="4994280"/>
            <a:chOff x="324000" y="1628640"/>
            <a:chExt cx="8640720" cy="49942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rcRect l="0" t="0" r="9262" b="42579"/>
            <a:stretch/>
          </p:blipFill>
          <p:spPr>
            <a:xfrm>
              <a:off x="324000" y="2924280"/>
              <a:ext cx="4032000" cy="33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4356000" y="2924280"/>
              <a:ext cx="4338360" cy="3698640"/>
              <a:chOff x="4356000" y="2924280"/>
              <a:chExt cx="4338360" cy="36986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3"/>
              <a:srcRect l="13332" t="0" r="47582" b="0"/>
              <a:stretch/>
            </p:blipFill>
            <p:spPr>
              <a:xfrm>
                <a:off x="4617000" y="2924280"/>
                <a:ext cx="4077360" cy="369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703400" y="4676400"/>
                <a:ext cx="3933000" cy="205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4"/>
              <a:srcRect l="-830" t="6176" r="96807" b="0"/>
              <a:stretch/>
            </p:blipFill>
            <p:spPr>
              <a:xfrm>
                <a:off x="4356000" y="3152520"/>
                <a:ext cx="419760" cy="347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"/>
            <p:cNvSpPr/>
            <p:nvPr/>
          </p:nvSpPr>
          <p:spPr>
            <a:xfrm>
              <a:off x="539640" y="1628640"/>
              <a:ext cx="396108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ood HINDCAS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Persistent SST anomal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7640" y="1628640"/>
              <a:ext cx="453708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 SMIP?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Real SST anomal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68360" y="3284640"/>
              <a:ext cx="201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COR=0.7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88000" y="3284640"/>
              <a:ext cx="201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COR=0.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JA WP Precipitation is correlated with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J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the previous DJF and MAM Nino3.4 S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249228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1773360"/>
            <a:ext cx="9144000" cy="4718520"/>
            <a:chOff x="0" y="1773360"/>
            <a:chExt cx="9144000" cy="47185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356000" y="2565360"/>
              <a:ext cx="4608720" cy="32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50920" y="2492280"/>
              <a:ext cx="402912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042920" y="3213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P SS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205000"/>
              <a:ext cx="4282920" cy="8254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bserved Lag Correlation of WP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L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00000" y="4797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Nino3.4 S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6000" y="1773360"/>
              <a:ext cx="47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JJA GPCP correlation with the previous DJF Nino3.4 SS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6000" y="3716280"/>
              <a:ext cx="1871640" cy="649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6093000"/>
              <a:ext cx="28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Arial"/>
                </a:rPr>
                <a:t>From T.Ose et al., 200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-2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P Precipitation is important also for DJF East Asia Seasonal Forecast.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24000" y="1844640"/>
            <a:ext cx="8496000" cy="4703760"/>
            <a:chOff x="324000" y="1844640"/>
            <a:chExt cx="8496000" cy="470376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187280" y="2414520"/>
              <a:ext cx="59040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24000" y="1844640"/>
              <a:ext cx="8496000" cy="8863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Observed T850 correlation with WP Precipitation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in DJF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130-150E,5-15N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4508640"/>
              <a:ext cx="360360" cy="21564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3:17:02Z</dcterms:created>
  <dc:creator> </dc:creator>
  <dc:description/>
  <dc:language>en-US</dc:language>
  <cp:lastModifiedBy>気候２研</cp:lastModifiedBy>
  <dcterms:modified xsi:type="dcterms:W3CDTF">2007-06-04T02:38:08Z</dcterms:modified>
  <cp:revision>58</cp:revision>
  <dc:subject/>
  <dc:title>Contents</dc:title>
</cp:coreProperties>
</file>