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3479-47C8-479A-BBE4-DFBC8093A0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l Nino signal is weak. So it is a good example to study the IOD imp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imilar to 19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B3F-2241-4F25-B936-D703AA3B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376-F7C0-408F-9468-079D84C2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B29-55B3-4497-B3B9-187999D6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4F4-C1C1-4A0B-9624-71FEF317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6D9-481B-4A2B-8F02-E5C02553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EC7-25F8-43DE-BC29-2CE88C48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44A-16C6-4666-B0D2-85976B1D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78C-7C3E-4965-A230-23E42323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6D2-5E3A-4E50-975F-D9D1F555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A81-3EE7-4B96-810A-90E713CC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D05-AD0F-4D13-99BB-5321A74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F55-2B6B-4D31-B67A-564C2E7B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8EB1-8A38-403E-B14F-9A5FF73F7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019160"/>
            <a:ext cx="84247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660033"/>
                </a:solidFill>
                <a:latin typeface="Arial"/>
              </a:rPr>
              <a:t>Seasonal-to-interannual climate prediction using a fully coupled OAG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ENSO &amp; IOD prediction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3366"/>
                </a:solidFill>
                <a:latin typeface="Arial"/>
              </a:rPr>
              <a:t>Jing-Jia Luo </a:t>
            </a:r>
            <a:r>
              <a:rPr b="0" i="1" lang="ja-JP" sz="2000" spc="-1" strike="noStrike" u="sng">
                <a:solidFill>
                  <a:srgbClr val="808080"/>
                </a:solidFill>
                <a:uFillTx/>
                <a:latin typeface="Arial"/>
              </a:rPr>
              <a:t>(luo@jamstec.go.j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3366"/>
                </a:solidFill>
                <a:latin typeface="Arial"/>
              </a:rPr>
              <a:t>Sebastien Masson, Swadhin Beh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ja-JP" sz="2600" spc="-1" strike="noStrike">
                <a:solidFill>
                  <a:srgbClr val="003366"/>
                </a:solidFill>
                <a:latin typeface="Arial"/>
              </a:rPr>
              <a:t>Horifumi Sakuma, and Toshio Yamag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Climate Variations Research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Frontier Research Center for Global Change (FRCGC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JAMSTEC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46000" y="4489560"/>
            <a:ext cx="866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50004" b="0"/>
          <a:stretch/>
        </p:blipFill>
        <p:spPr>
          <a:xfrm>
            <a:off x="250920" y="826920"/>
            <a:ext cx="6553080" cy="5770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4880" y="33336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inter and spring “barri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9240" y="9079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0º-110ºE, 10ºS-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7080" y="3448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1268280"/>
            <a:ext cx="17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9-member ense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indcasts (1982-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6320" y="6453360"/>
            <a:ext cx="373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Luo et al., J. Climate, 2007, 2178-21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8360" y="344808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Predictable up to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~2 season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97800" y="1782720"/>
            <a:ext cx="1323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EP 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Sep.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 Nov.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(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 Jan. </a:t>
            </a: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(+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1 May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(+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1 Sep. 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</a:rPr>
              <a:t>(+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846000"/>
            <a:ext cx="7561440" cy="416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8720" y="1825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Prediction plu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6520" y="907920"/>
            <a:ext cx="3515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IO SST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9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11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, 1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-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2440" y="556416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Both events can be predicted at long-lead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H="1">
            <a:off x="6156360" y="5667480"/>
            <a:ext cx="7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77320" y="53172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1Mar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49080" y="182520"/>
            <a:ext cx="55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edicted SST anomaly in 2006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-member 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331120" cy="7461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59280" y="44704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nsus foreca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ose initiated from 1/12/ 2005, 1/01/2006, 1/02/2006, and 1/03/2006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7600" y="594216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Similar to the situation in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3141720"/>
            <a:ext cx="504720" cy="151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4508640"/>
            <a:ext cx="431640" cy="21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27640" y="4868640"/>
            <a:ext cx="431640" cy="108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" y="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Real time foreca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58560" y="2276640"/>
            <a:ext cx="2216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D  foreca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8-m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6000" y="321300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2720" y="3333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9000" y="48420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6160" y="6161040"/>
            <a:ext cx="1839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17575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59680" y="65134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4005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http://www.jamstec.go.jp/frcgc/research/d1/iod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684072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7280" y="18900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Initial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557360"/>
            <a:ext cx="194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ssible preconditioning for long-range prediction of 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11560" y="274680"/>
            <a:ext cx="643716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66ff"/>
                </a:solidFill>
                <a:latin typeface="Arial"/>
              </a:rPr>
              <a:t>Obs. conditions in SON2006 </a:t>
            </a:r>
            <a:r>
              <a:rPr b="0" i="1" lang="ja-JP" sz="1800" spc="-1" strike="noStrike">
                <a:solidFill>
                  <a:srgbClr val="808080"/>
                </a:solidFill>
                <a:latin typeface="Arial"/>
              </a:rPr>
              <a:t>(IOD impacts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01400" y="1938240"/>
            <a:ext cx="23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ainfall anom. (mm/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87120" y="4824360"/>
            <a:ext cx="29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-m air temperature anom. 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º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193080" cy="2860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46200" y="3664080"/>
            <a:ext cx="6194520" cy="2860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8760" y="12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3933720"/>
            <a:ext cx="936360" cy="1006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40360" y="5589720"/>
            <a:ext cx="574560" cy="57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3860640"/>
            <a:ext cx="64764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Predicted conditions in SON2006 from 1 July 200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27-member me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08680" cy="2865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47640" y="3789360"/>
            <a:ext cx="5904000" cy="2862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6200000">
            <a:off x="159840" y="1938240"/>
            <a:ext cx="23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ainfall anom. (mm/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104400" y="5007600"/>
            <a:ext cx="29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-m air temperature anom. 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º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4005360"/>
            <a:ext cx="936720" cy="1006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64764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4360" y="5877000"/>
            <a:ext cx="57636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61440" y="445788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nstant greenhouse gas forcing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750960"/>
            <a:ext cx="7848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ENSO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can be predicted out to 1-year lead and even up to 2-years ahead in some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bbe0e3"/>
                </a:solidFill>
                <a:latin typeface="Arial"/>
              </a:rPr>
              <a:t>ISOs may limit ENSO predictability in certain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bbe0e3"/>
                </a:solidFill>
                <a:latin typeface="Arial"/>
              </a:rPr>
              <a:t>The results suggest a potential predictability for decadal ENSO-like proces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400" y="17316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99736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IOD can be basically predicted up to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  <a:ea typeface="Arial"/>
              </a:rPr>
              <a:t>~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2 seasons a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Extreme IOD events </a:t>
            </a:r>
            <a:r>
              <a:rPr b="0" lang="ja-JP" sz="2400" spc="-1" strike="noStrike">
                <a:solidFill>
                  <a:srgbClr val="808080"/>
                </a:solidFill>
                <a:latin typeface="Arial"/>
              </a:rPr>
              <a:t>(and their climate impacts)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predicted at long-lead times </a:t>
            </a:r>
            <a:r>
              <a:rPr b="0" lang="ja-JP" sz="2400" spc="-1" strike="noStrike">
                <a:solidFill>
                  <a:srgbClr val="808080"/>
                </a:solidFill>
                <a:latin typeface="Arial"/>
              </a:rPr>
              <a:t>(up to 1-year lead)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Preconditioning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Tsub in the tropical southwest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                              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Indian Oc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7800" y="5300640"/>
            <a:ext cx="78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eal time forecasts at one month interva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http://www.jamstec.go.jp/frcgc/research/d1/iod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2200" y="115920"/>
            <a:ext cx="84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lobal SSTA forecasted from 1May2007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7-member us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TEX-F CG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17680" y="1371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JA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3240" y="3448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22720" y="53672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JF20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8200" y="596880"/>
            <a:ext cx="7543800" cy="2184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68200" y="2682720"/>
            <a:ext cx="7543800" cy="2186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68200" y="4773600"/>
            <a:ext cx="75438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5375160" cy="6335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32720" y="1628640"/>
            <a:ext cx="21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La Nina condition would be long-lived according to the model forec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15760" y="83664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sembl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1440" y="716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1 Sep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800" y="568476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1 Ma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1800" y="32130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1 Jan.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23240" y="189000"/>
            <a:ext cx="595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ino3.4 SS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ecast up to 2-year ahead (9-me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1713960"/>
            <a:ext cx="6197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413000"/>
            <a:ext cx="84978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ff"/>
                </a:solidFill>
                <a:latin typeface="Arial"/>
              </a:rPr>
              <a:t>1.  Model compon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AGCM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ja-JP" sz="2200" spc="-1" strike="noStrike">
                <a:solidFill>
                  <a:srgbClr val="000000"/>
                </a:solidFill>
                <a:latin typeface="Arial"/>
              </a:rPr>
              <a:t>(MPI, Germany)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  ECHAM4.6 (T106L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OGCM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ja-JP" sz="2200" spc="-1" strike="noStrike">
                <a:solidFill>
                  <a:srgbClr val="000000"/>
                </a:solidFill>
                <a:latin typeface="Arial"/>
              </a:rPr>
              <a:t>(LODYC, France)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OPA8.2 (2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x 0.5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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 L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Coupler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ja-JP" sz="2200" spc="-1" strike="noStrike">
                <a:solidFill>
                  <a:srgbClr val="000000"/>
                </a:solidFill>
                <a:latin typeface="Arial"/>
              </a:rPr>
              <a:t>(CERFACS, France)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OASIS2.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i="1" lang="ja-JP" sz="2400" spc="-1" strike="noStrike">
                <a:solidFill>
                  <a:srgbClr val="003366"/>
                </a:solidFill>
                <a:latin typeface="Arial"/>
              </a:rPr>
              <a:t>No flux correction, no sea i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ff"/>
                </a:solidFill>
                <a:latin typeface="Arial"/>
              </a:rPr>
              <a:t>2.  International collaborato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LODYC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    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OPA model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INGV (Italy)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ntonio Navarra’s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MPI-Met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ECHAM model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CERFACE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OASIS coupler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PRISM projec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24360" y="404640"/>
            <a:ext cx="6067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80"/>
                </a:solidFill>
                <a:latin typeface="Arial"/>
              </a:rPr>
              <a:t>The SINTEX-F Coupled G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(Luo et al. GRL 2003, J. Climate 2005a; Masson et al. GRL 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2200" y="595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8560" y="609300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Running on the Earth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713960"/>
            <a:ext cx="6197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6360" y="981000"/>
            <a:ext cx="8172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hree models with different coupling phys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i="1" lang="ja-JP" sz="2000" spc="-1" strike="noStrike">
                <a:solidFill>
                  <a:srgbClr val="808080"/>
                </a:solidFill>
                <a:latin typeface="Arial"/>
              </a:rPr>
              <a:t>(Each model has realistic ENSO &amp; IOD simu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sfe1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Ocean surface is solid to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|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|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 for  Tau &amp; heat fl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sfe2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Ocean surface current momentum is passed to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|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| 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) for Tau &amp; heat fl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sfe3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Ocean surface is solid to atmosphere, 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|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| 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) for T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2. Initial cond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•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660033"/>
                </a:solidFill>
                <a:latin typeface="Arial"/>
              </a:rPr>
              <a:t>1971-1981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Model spin-u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•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660033"/>
                </a:solidFill>
                <a:latin typeface="Arial"/>
              </a:rPr>
              <a:t>1982-2004: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 simple coupled SST-nudg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3. Three different restoring timescales for SST-nudg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•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y, 2 days, 3 days  (weekly NCEP Reynolds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6320" y="333360"/>
            <a:ext cx="69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9-member ensemble hindcast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526000" y="63817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8680" y="6093000"/>
            <a:ext cx="80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66ff"/>
                </a:solidFill>
                <a:uFillTx/>
                <a:latin typeface="Arial"/>
              </a:rPr>
              <a:t>Forecast: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12 months from 1st day of every month during 1982-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6360" y="189000"/>
            <a:ext cx="8351640" cy="648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000" y="1863720"/>
            <a:ext cx="177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haded area: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0720" y="109872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gt;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70880" y="38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1982-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285264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 interval is 0.1, starting from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9878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Luo et al., J. Climate, 2005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96360" y="831960"/>
            <a:ext cx="138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l Ni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6/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/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/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/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a N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4/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8/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/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/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04000" y="496080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 interval is 0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º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6983280" cy="658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1840" y="836640"/>
            <a:ext cx="11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Arial"/>
              </a:rPr>
              <a:t>NCEP o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6000" y="242100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-month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7840" y="400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6-month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5589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9-month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365040"/>
            <a:ext cx="7056360" cy="6593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35640" y="26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sembl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4160" y="35672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rs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77280" y="1119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3280" y="2919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34720" y="476100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M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10360" y="32544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ino3.4 SSTA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11320" y="6453360"/>
            <a:ext cx="34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Luo et al., J. Climate, 2007, in press</a:t>
            </a:r>
            <a:r>
              <a:rPr b="0" i="1" lang="ja-JP" sz="16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6000" y="-334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Extended ENSO predi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2720" y="54936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50720" y="35244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Each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289080"/>
            <a:ext cx="6696360" cy="6669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93080" y="146988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ST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-m air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oma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2200" y="331164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 interval is 0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º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496080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Consistent with classical ENSO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287280"/>
            <a:ext cx="6553440" cy="659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145280" y="1865160"/>
            <a:ext cx="174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ST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-m air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om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37280" y="36720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 interval is 0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º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8690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Related to decadal ENSO vari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6520" y="898560"/>
            <a:ext cx="82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ifficulties in predicting Indian Ocean Dipole (IO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compared to ENSO predi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2205000"/>
            <a:ext cx="8137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Signal is not as strong/regular as E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Chaotic and active ISOs </a:t>
            </a:r>
            <a:r>
              <a:rPr b="0" i="1" lang="ja-JP" sz="2200" spc="-1" strike="noStrike">
                <a:solidFill>
                  <a:srgbClr val="808080"/>
                </a:solidFill>
                <a:latin typeface="Arial"/>
              </a:rPr>
              <a:t>(initial conditions &amp; predic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Strong monsoon influence </a:t>
            </a:r>
            <a:r>
              <a:rPr b="0" i="1" lang="ja-JP" sz="2200" spc="-1" strike="noStrike">
                <a:solidFill>
                  <a:srgbClr val="808080"/>
                </a:solidFill>
                <a:latin typeface="Arial"/>
              </a:rPr>
              <a:t>(seasonal &amp; interannu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ENSO influen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ja-JP" sz="2200" spc="-1" strike="noStrike">
                <a:solidFill>
                  <a:srgbClr val="808080"/>
                </a:solidFill>
                <a:latin typeface="Arial"/>
              </a:rPr>
              <a:t>(interactive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Sparse subsurface observations in the Indian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Large deficiencies of coupled GCMs in simulating Indian Ocean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40:16Z</dcterms:created>
  <dc:creator>Jingjia Luo</dc:creator>
  <dc:description/>
  <dc:language>en-US</dc:language>
  <cp:lastModifiedBy>luo</cp:lastModifiedBy>
  <dcterms:modified xsi:type="dcterms:W3CDTF">2007-06-05T22:45:35Z</dcterms:modified>
  <cp:revision>1119</cp:revision>
  <dc:subject/>
  <dc:title>スライド 1</dc:title>
</cp:coreProperties>
</file>