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3780000" y="-360"/>
            <a:ext cx="2906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829800" y="72504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5"/>
          </p:nvPr>
        </p:nvSpPr>
        <p:spPr>
          <a:xfrm>
            <a:off x="0" y="9362880"/>
            <a:ext cx="2906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6"/>
          </p:nvPr>
        </p:nvSpPr>
        <p:spPr>
          <a:xfrm>
            <a:off x="3780000" y="9362880"/>
            <a:ext cx="2906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A1DD-5E2D-41E8-B4A8-77429F7B0CA0}" type="slidenum">
              <a:rPr b="1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predict one month lead to predict djf… bom skill para prever enso variability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inuir purpose para uma fra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na AM, forte bias nao é um bom modelo… erro sistematico sobre a AM…. Wet bias over south… sul da Argentina. Dry bias no sul do Brazil… diferencao de parametrizao no modelo acoplado RAS as you can see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predictabily Couple and AGCM model actual prediction predictability…  skill variavel nos varios modelos no sudeste… keeps both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cience em nordeste because parametr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30160" y="72540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1200" y="4681440"/>
            <a:ext cx="4870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42D-7541-4485-9195-62C12F8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22D-1BEB-47DF-B814-F8EBD7CD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3C3-DB43-45AD-9B19-C94C6B7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521-55B3-4871-AFEE-E3B0736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3D4-5FEB-4FE8-8E15-A95A4D4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FB3-4EC3-4D27-AAFA-2B69818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0C-4680-44C6-A93D-9B310EA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379-32EB-4109-AA7F-E3E9673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EEC-E527-4994-992B-AB8194E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55-9D5F-4E42-AED1-8833FEEF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026-455D-4669-A8C3-90CD7522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71A-3812-4140-854D-3534F2DE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1760" cy="2892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14800" y="6734160"/>
            <a:ext cx="5029200" cy="12384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4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3E2-BBFB-4D15-AA42-ECD28A4D3AC9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9.png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0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94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Lincoln M. Alves, Paulo Nobre, Luciano Pezzi, José F. Pesqu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447920"/>
            <a:ext cx="8763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Times New Roman"/>
              </a:rPr>
              <a:t>Summer rainfall forecast skill over South America derived from WCRP SMIP-2 models results.</a:t>
            </a: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00512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INSTITUTO NACIONAL DE PESQUISAS ESPACI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ENTRO DE PREVISÃO DE TEMPO E ESTUDOS CLI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136000" y="152280"/>
            <a:ext cx="703080" cy="56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434340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Verdana"/>
              </a:rPr>
              <a:t>Climate Predic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Verdana"/>
              </a:rPr>
              <a:t>lincoln@cptec.inpe.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960" y="5851440"/>
            <a:ext cx="472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WCRP Workshop on Seasonal Pre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Barcelona Spain June 4-7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6203" r="0" b="0"/>
          <a:stretch/>
        </p:blipFill>
        <p:spPr>
          <a:xfrm>
            <a:off x="2286000" y="1066680"/>
            <a:ext cx="457056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0" y="53942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5654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G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1660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PTEC’s AGCM &amp; CGCM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JF PRECIP FORECAST AC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INTERANNUAL VAR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13801" t="3106" r="16199" b="4667"/>
          <a:stretch/>
        </p:blipFill>
        <p:spPr>
          <a:xfrm>
            <a:off x="2436840" y="1371600"/>
            <a:ext cx="4268880" cy="434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INTERANNUAL VAR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3147" t="0" r="0" b="0"/>
          <a:stretch/>
        </p:blipFill>
        <p:spPr>
          <a:xfrm>
            <a:off x="152280" y="762120"/>
            <a:ext cx="3016440" cy="2577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rcRect l="13083" t="0" r="0" b="0"/>
          <a:stretch/>
        </p:blipFill>
        <p:spPr>
          <a:xfrm>
            <a:off x="4527720" y="762120"/>
            <a:ext cx="3016080" cy="2711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13083" t="0" r="0" b="0"/>
          <a:stretch/>
        </p:blipFill>
        <p:spPr>
          <a:xfrm>
            <a:off x="152280" y="3886200"/>
            <a:ext cx="3016440" cy="2711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13104" t="0" r="0" b="0"/>
          <a:stretch/>
        </p:blipFill>
        <p:spPr>
          <a:xfrm>
            <a:off x="4495680" y="3886200"/>
            <a:ext cx="3016440" cy="2719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rcRect l="0" t="0" r="84283" b="40022"/>
          <a:stretch/>
        </p:blipFill>
        <p:spPr>
          <a:xfrm>
            <a:off x="8153280" y="2362320"/>
            <a:ext cx="914400" cy="2590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3200400" y="91440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7620120" y="5073480"/>
            <a:ext cx="1206360" cy="1479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632720" y="914400"/>
            <a:ext cx="1206360" cy="147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04680" y="763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33520"/>
            <a:ext cx="838224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e models simulate the patterns of DJF precipitation climatology reasonably well, despite a general dry bias over the Amaz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common feature of all AGCMs was the higher predictability over Northern Amazon, Northeast, Southern Brazil, and northern Argentina, and low predictability over Central and SE Braz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It is not possible to point out a model with characteristics outstandingly better than the others, on the contrary, each model has strong and weak points in different reg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multi-model fcst may contribute to more skillful predictions than any single AGC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lthough a more sophisticated combination method does not necessarily result better fcst everywh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GCM presented marginally better skill over the South-SW Tropical Atlantic and the SACZ region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seasonal rainfall predictability dependent on coupled interac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OUTLINE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2193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 – A brief discussion about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he main climatological features of South America rain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I – Methodology an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II – Skill of the models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 IV – Summary and 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OVERVIEW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20" y="4905360"/>
            <a:ext cx="8458200" cy="1450080"/>
            <a:chOff x="304920" y="4905360"/>
            <a:chExt cx="8458200" cy="1450080"/>
          </a:xfrm>
        </p:grpSpPr>
        <p:sp>
          <p:nvSpPr>
            <p:cNvPr id="127" name=""/>
            <p:cNvSpPr/>
            <p:nvPr/>
          </p:nvSpPr>
          <p:spPr>
            <a:xfrm>
              <a:off x="304920" y="490536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Times New Roman"/>
                </a:rPr>
                <a:t>PURPOSE</a:t>
              </a:r>
              <a:r>
                <a:rPr b="1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438520"/>
              <a:ext cx="8305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This work analyses the forecast skill of summer (DJF) rainfall for several SMIP-2 AGCMs over South America, relative to CPTEC’s both atmospheric and coupled ocean-atmosphere GCM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2120" y="4384800"/>
            <a:ext cx="76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istribution of Climatological Precipitation for DJF and JJA (mm/d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10088" b="0"/>
          <a:stretch/>
        </p:blipFill>
        <p:spPr>
          <a:xfrm>
            <a:off x="1368360" y="838080"/>
            <a:ext cx="2279880" cy="345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70520" y="838080"/>
            <a:ext cx="2535120" cy="3459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92513" t="26471" r="-1494" b="20737"/>
          <a:stretch/>
        </p:blipFill>
        <p:spPr>
          <a:xfrm>
            <a:off x="7315200" y="847800"/>
            <a:ext cx="44784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76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ATA AND METHODOLOGY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52280" y="685800"/>
            <a:ext cx="64767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WCRP SMIP-2 prescribed_SST 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98520"/>
            <a:ext cx="746748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CPTEC AGCM</a:t>
            </a:r>
            <a:r>
              <a:rPr b="0" lang="pt-BR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Centro de Previsão de Tempo e Estudos Climáticos</a:t>
            </a:r>
            <a:r>
              <a:rPr b="0" lang="pt-BR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1.875x1.864677; Members: 5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HMC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Hydrometcentre of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IAP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Institute of Atmospheric Physics, 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8125x3.050848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KMA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Korea Meteorological Ag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MGO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Main Geophysical Observatory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MRI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Meteorological Research Institute (Jap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2.5x2.5; Members: 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SCRIPPS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: Scripps Institute of Oceanograp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  <a:ea typeface="Times New Roman"/>
              </a:rPr>
              <a:t>Resolution: 1.875x1.904129; Members: 1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CPTEC CGCM</a:t>
            </a:r>
            <a:r>
              <a:rPr b="0" lang="pt-BR" sz="1600" spc="-1" strike="noStrike">
                <a:solidFill>
                  <a:srgbClr val="9ce157"/>
                </a:solidFill>
                <a:latin typeface="Verdana"/>
              </a:rPr>
              <a:t>: </a:t>
            </a:r>
            <a:r>
              <a:rPr b="0" lang="pt-BR" sz="1600" spc="-1" strike="noStrike">
                <a:solidFill>
                  <a:srgbClr val="008000"/>
                </a:solidFill>
                <a:latin typeface="Verdana"/>
              </a:rPr>
              <a:t>Centro de Previsão de Tempo e Estudos Climátic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Resolution: 1.875x1.875; Members: 1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76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ATA AND METHODOLOGY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04920" y="7621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: [DJF 1979-1999];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2794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Data used for model evaluation: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e Global Precipitation Climatology Project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GPC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127240"/>
            <a:ext cx="868680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kill Meas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semble means are used to compare the models results with observational data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rrelation of seasonal rainfall anoma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terannual variability of observed and modeled normalized rainfall departures in several regions of South Ame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5029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he multi-model simulations are combined by two methods: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simple average and the superensemble 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(Krishnamurti, 2000, 2001a, 2001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80320" y="5978520"/>
                <a:ext cx="2111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608004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ventional Superensemble methodology is given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20" y="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DEL PRECIP. CLIMATOLOGY: DJF (mm/da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2717" r="0" b="0"/>
          <a:stretch/>
        </p:blipFill>
        <p:spPr>
          <a:xfrm>
            <a:off x="0" y="946080"/>
            <a:ext cx="1984320" cy="255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2416" r="0" b="0"/>
          <a:stretch/>
        </p:blipFill>
        <p:spPr>
          <a:xfrm>
            <a:off x="1828800" y="938160"/>
            <a:ext cx="1984320" cy="2567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0" t="3379" r="0" b="0"/>
          <a:stretch/>
        </p:blipFill>
        <p:spPr>
          <a:xfrm>
            <a:off x="3657600" y="963720"/>
            <a:ext cx="1984320" cy="254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0" t="3384" r="7841" b="0"/>
          <a:stretch/>
        </p:blipFill>
        <p:spPr>
          <a:xfrm>
            <a:off x="5486400" y="963720"/>
            <a:ext cx="1828800" cy="2539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0" t="3137" r="7677" b="0"/>
          <a:stretch/>
        </p:blipFill>
        <p:spPr>
          <a:xfrm>
            <a:off x="7311960" y="957240"/>
            <a:ext cx="1832040" cy="254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0" t="3137" r="0" b="0"/>
          <a:stretch/>
        </p:blipFill>
        <p:spPr>
          <a:xfrm>
            <a:off x="0" y="3816360"/>
            <a:ext cx="1984320" cy="2548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0" t="3379" r="10238" b="0"/>
          <a:stretch/>
        </p:blipFill>
        <p:spPr>
          <a:xfrm>
            <a:off x="1828800" y="3822840"/>
            <a:ext cx="1781280" cy="2541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38280" y="685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85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685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85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7221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581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581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3581280"/>
            <a:ext cx="1981080" cy="2783160"/>
            <a:chOff x="3657600" y="3581280"/>
            <a:chExt cx="1981080" cy="2783160"/>
          </a:xfrm>
        </p:grpSpPr>
        <p:pic>
          <p:nvPicPr>
            <p:cNvPr id="159" name="" descr=""/>
            <p:cNvPicPr/>
            <p:nvPr/>
          </p:nvPicPr>
          <p:blipFill>
            <a:blip r:embed="rId8"/>
            <a:srcRect l="0" t="3137" r="10238" b="0"/>
            <a:stretch/>
          </p:blipFill>
          <p:spPr>
            <a:xfrm>
              <a:off x="3657600" y="3816360"/>
              <a:ext cx="178128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57600" y="35812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AVE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86400" y="3581280"/>
            <a:ext cx="1984320" cy="2792520"/>
            <a:chOff x="5486400" y="3581280"/>
            <a:chExt cx="1984320" cy="2792520"/>
          </a:xfrm>
        </p:grpSpPr>
        <p:pic>
          <p:nvPicPr>
            <p:cNvPr id="162" name="" descr=""/>
            <p:cNvPicPr/>
            <p:nvPr/>
          </p:nvPicPr>
          <p:blipFill>
            <a:blip r:embed="rId9"/>
            <a:srcRect l="0" t="5871" r="0" b="0"/>
            <a:stretch/>
          </p:blipFill>
          <p:spPr>
            <a:xfrm>
              <a:off x="5486400" y="3828960"/>
              <a:ext cx="198432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5000" y="358128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TEC CGC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0"/>
          <a:srcRect l="20956" t="92178" r="24726" b="-845"/>
          <a:stretch/>
        </p:blipFill>
        <p:spPr>
          <a:xfrm>
            <a:off x="2666880" y="6400800"/>
            <a:ext cx="3967200" cy="476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315200" y="3857760"/>
            <a:ext cx="1782720" cy="2543040"/>
            <a:chOff x="7315200" y="3857760"/>
            <a:chExt cx="1782720" cy="2543040"/>
          </a:xfrm>
        </p:grpSpPr>
        <p:pic>
          <p:nvPicPr>
            <p:cNvPr id="166" name="" descr=""/>
            <p:cNvPicPr/>
            <p:nvPr/>
          </p:nvPicPr>
          <p:blipFill>
            <a:blip r:embed="rId11"/>
            <a:srcRect l="0" t="5862" r="10147" b="0"/>
            <a:stretch/>
          </p:blipFill>
          <p:spPr>
            <a:xfrm>
              <a:off x="7315200" y="3857760"/>
              <a:ext cx="178272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29680" y="3857760"/>
              <a:ext cx="1625400" cy="2514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924680" y="3581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533520" y="76320"/>
            <a:ext cx="1021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DJF MODEL’S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3389" r="0" b="0"/>
          <a:stretch/>
        </p:blipFill>
        <p:spPr>
          <a:xfrm>
            <a:off x="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3389" r="0" b="0"/>
          <a:stretch/>
        </p:blipFill>
        <p:spPr>
          <a:xfrm>
            <a:off x="182880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3389" r="0" b="0"/>
          <a:stretch/>
        </p:blipFill>
        <p:spPr>
          <a:xfrm>
            <a:off x="3657600" y="9381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0" t="3141" r="8205" b="0"/>
          <a:stretch/>
        </p:blipFill>
        <p:spPr>
          <a:xfrm>
            <a:off x="5486400" y="925560"/>
            <a:ext cx="1828800" cy="254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rcRect l="0" t="3147" r="7683" b="0"/>
          <a:stretch/>
        </p:blipFill>
        <p:spPr>
          <a:xfrm>
            <a:off x="7311960" y="932040"/>
            <a:ext cx="1832040" cy="2539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rcRect l="0" t="3147" r="0" b="0"/>
          <a:stretch/>
        </p:blipFill>
        <p:spPr>
          <a:xfrm>
            <a:off x="0" y="378288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rcRect l="0" t="3147" r="0" b="0"/>
          <a:stretch/>
        </p:blipFill>
        <p:spPr>
          <a:xfrm>
            <a:off x="1828800" y="3782880"/>
            <a:ext cx="1984320" cy="254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rcRect l="0" t="3389" r="0" b="0"/>
          <a:stretch/>
        </p:blipFill>
        <p:spPr>
          <a:xfrm>
            <a:off x="3657600" y="380988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rcRect l="0" t="3389" r="0" b="0"/>
          <a:stretch/>
        </p:blipFill>
        <p:spPr>
          <a:xfrm>
            <a:off x="5486400" y="378936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rcRect l="88544" t="26105" r="0" b="21585"/>
          <a:stretch/>
        </p:blipFill>
        <p:spPr>
          <a:xfrm>
            <a:off x="7315200" y="3852720"/>
            <a:ext cx="411120" cy="2486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8280" y="6523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65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5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01000" y="6890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548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3548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4816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3548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685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Seasonal Anomaly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2895" r="0" b="0"/>
          <a:stretch/>
        </p:blipFill>
        <p:spPr>
          <a:xfrm>
            <a:off x="152280" y="925560"/>
            <a:ext cx="1984320" cy="2554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2895" r="0" b="0"/>
          <a:stretch/>
        </p:blipFill>
        <p:spPr>
          <a:xfrm>
            <a:off x="1905120" y="925560"/>
            <a:ext cx="1984320" cy="2554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3137" r="0" b="0"/>
          <a:stretch/>
        </p:blipFill>
        <p:spPr>
          <a:xfrm>
            <a:off x="3657600" y="932040"/>
            <a:ext cx="1984320" cy="2547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3384" r="0" b="0"/>
          <a:stretch/>
        </p:blipFill>
        <p:spPr>
          <a:xfrm>
            <a:off x="5410080" y="939960"/>
            <a:ext cx="19843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rcRect l="0" t="3137" r="8961" b="0"/>
          <a:stretch/>
        </p:blipFill>
        <p:spPr>
          <a:xfrm>
            <a:off x="7162920" y="932040"/>
            <a:ext cx="1806480" cy="2547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rcRect l="0" t="3137" r="0" b="0"/>
          <a:stretch/>
        </p:blipFill>
        <p:spPr>
          <a:xfrm>
            <a:off x="152280" y="3751200"/>
            <a:ext cx="1984320" cy="2548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rcRect l="0" t="3137" r="0" b="0"/>
          <a:stretch/>
        </p:blipFill>
        <p:spPr>
          <a:xfrm>
            <a:off x="1905120" y="3751200"/>
            <a:ext cx="1984320" cy="2548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90920" y="6602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6602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6602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6602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1800" y="6969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530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524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00440" y="3524400"/>
            <a:ext cx="2031840" cy="2774880"/>
            <a:chOff x="3700440" y="3524400"/>
            <a:chExt cx="2031840" cy="2774880"/>
          </a:xfrm>
        </p:grpSpPr>
        <p:pic>
          <p:nvPicPr>
            <p:cNvPr id="205" name="" descr=""/>
            <p:cNvPicPr/>
            <p:nvPr/>
          </p:nvPicPr>
          <p:blipFill>
            <a:blip r:embed="rId8"/>
            <a:srcRect l="0" t="3379" r="0" b="0"/>
            <a:stretch/>
          </p:blipFill>
          <p:spPr>
            <a:xfrm>
              <a:off x="3700440" y="3757680"/>
              <a:ext cx="1984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751200" y="3524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PLE AVE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9"/>
          <a:srcRect l="0" t="3379" r="10238" b="0"/>
          <a:stretch/>
        </p:blipFill>
        <p:spPr>
          <a:xfrm>
            <a:off x="7236000" y="3733920"/>
            <a:ext cx="1780920" cy="2541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67480" y="3505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57960" y="3505320"/>
            <a:ext cx="1947240" cy="2921040"/>
            <a:chOff x="5457960" y="3505320"/>
            <a:chExt cx="1947240" cy="2921040"/>
          </a:xfrm>
        </p:grpSpPr>
        <p:pic>
          <p:nvPicPr>
            <p:cNvPr id="210" name="" descr=""/>
            <p:cNvPicPr/>
            <p:nvPr/>
          </p:nvPicPr>
          <p:blipFill>
            <a:blip r:embed="rId10"/>
            <a:srcRect l="6921" t="6016" r="10382" b="0"/>
            <a:stretch/>
          </p:blipFill>
          <p:spPr>
            <a:xfrm>
              <a:off x="5457960" y="3747960"/>
              <a:ext cx="182052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500440" y="3505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ERENSEM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1"/>
          <a:srcRect l="28990" t="89184" r="25002" b="164"/>
          <a:stretch/>
        </p:blipFill>
        <p:spPr>
          <a:xfrm>
            <a:off x="2895480" y="6272280"/>
            <a:ext cx="3370320" cy="58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Models minus Superensem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3320" r="0" b="0"/>
          <a:stretch/>
        </p:blipFill>
        <p:spPr>
          <a:xfrm>
            <a:off x="0" y="1190520"/>
            <a:ext cx="1984320" cy="2543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3320" r="0" b="0"/>
          <a:stretch/>
        </p:blipFill>
        <p:spPr>
          <a:xfrm>
            <a:off x="1752480" y="1190520"/>
            <a:ext cx="1984320" cy="2543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0" t="2900" r="0" b="0"/>
          <a:stretch/>
        </p:blipFill>
        <p:spPr>
          <a:xfrm>
            <a:off x="3578400" y="1179360"/>
            <a:ext cx="1984320" cy="2554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0" t="2959" r="11680" b="0"/>
          <a:stretch/>
        </p:blipFill>
        <p:spPr>
          <a:xfrm>
            <a:off x="5334120" y="1181160"/>
            <a:ext cx="1752480" cy="2552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rcRect l="0" t="3261" r="0" b="0"/>
          <a:stretch/>
        </p:blipFill>
        <p:spPr>
          <a:xfrm>
            <a:off x="7159680" y="1189080"/>
            <a:ext cx="1984320" cy="2544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rcRect l="0" t="3261" r="0" b="0"/>
          <a:stretch/>
        </p:blipFill>
        <p:spPr>
          <a:xfrm>
            <a:off x="0" y="4084560"/>
            <a:ext cx="1984320" cy="2544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rcRect l="0" t="3261" r="11680" b="0"/>
          <a:stretch/>
        </p:blipFill>
        <p:spPr>
          <a:xfrm>
            <a:off x="1814400" y="4084560"/>
            <a:ext cx="1752840" cy="2544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rcRect l="88517" t="27089" r="0" b="28991"/>
          <a:stretch/>
        </p:blipFill>
        <p:spPr>
          <a:xfrm>
            <a:off x="7315200" y="4075200"/>
            <a:ext cx="503280" cy="2547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438280" y="9144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M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69160" y="9507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3846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I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846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9"/>
          <a:srcRect l="0" t="2895" r="11680" b="0"/>
          <a:stretch/>
        </p:blipFill>
        <p:spPr>
          <a:xfrm>
            <a:off x="3581280" y="4075200"/>
            <a:ext cx="1752840" cy="2554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rcRect l="0" t="2895" r="11680" b="0"/>
          <a:stretch/>
        </p:blipFill>
        <p:spPr>
          <a:xfrm>
            <a:off x="5410080" y="4075200"/>
            <a:ext cx="1752840" cy="2554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57600" y="3846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E 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-7632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Times New Roman"/>
              </a:rPr>
              <a:t>Seasonal Anomaly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9144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A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3846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TEC CG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pe</cp:lastModifiedBy>
  <cp:lastPrinted>2005-05-26T20:20:56Z</cp:lastPrinted>
  <dcterms:modified xsi:type="dcterms:W3CDTF">2007-06-15T19:27:13Z</dcterms:modified>
  <cp:revision>1006</cp:revision>
  <dc:subject/>
  <dc:title>PowerPoint Presentation</dc:title>
</cp:coreProperties>
</file>