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691813" cy="7559675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87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14040" y="685800"/>
            <a:ext cx="48690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4496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9372600"/>
            <a:ext cx="2887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3809880" y="9372600"/>
            <a:ext cx="2887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06706-B76D-4AA3-899B-8B7EFF9969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685800"/>
            <a:ext cx="48718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DF18-BFB5-4DE0-B80A-3B00AD019B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89679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56800" y="4317120"/>
            <a:ext cx="89679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FFB9-D963-4B1D-8E8D-335BD3C7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522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800" y="431712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52200" y="431712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80C5-DE36-4C3A-8F0A-7B926645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9080" y="196056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21360" y="196056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56800" y="431712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9080" y="431712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21360" y="431712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A1BB-57AC-4CA9-ABB7-932B99E01F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56800" y="1960560"/>
            <a:ext cx="89679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FFF6-1239-4870-9DE5-4AB9F29B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89679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A325-CA04-4686-A35B-8CC69FB0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43761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2200" y="1960560"/>
            <a:ext cx="43761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6667-8CDE-4D4A-AE36-E22C40E6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7723F-6336-4170-9AAD-A9795B98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56800" y="631800"/>
            <a:ext cx="89679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AC75-7586-495E-81A3-C8E5F01F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2200" y="1960560"/>
            <a:ext cx="43761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56800" y="431712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31CDE-9D76-413B-A740-D83AD3CF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43761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2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52200" y="431712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460A-A82B-4E7C-BCA8-5089C1DB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22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56800" y="4317120"/>
            <a:ext cx="89679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A43C9-8671-40C3-AC9B-50323CA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08080" y="6591240"/>
            <a:ext cx="2070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514400" y="6516360"/>
            <a:ext cx="20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1D696-FAF4-4E71-B5E9-535A28DB4A18}" type="slidenum">
              <a:rPr b="1" lang="en-GB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0691640" cy="755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91720" y="7024680"/>
            <a:ext cx="4986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E2109-5455-4D43-AD33-5C4014D6E57F}" type="slidenum">
              <a:rPr b="1" i="1" lang="en-GB" sz="1400" spc="-1" strike="noStrike">
                <a:solidFill>
                  <a:srgbClr val="b8474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856800" y="1960560"/>
            <a:ext cx="89679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3120" y="7075440"/>
            <a:ext cx="763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b84747"/>
                </a:solidFill>
                <a:latin typeface="Arial"/>
                <a:ea typeface="Arial"/>
              </a:rPr>
              <a:t>El Niño in coupled GCMs – Eric Guilyardi – </a:t>
            </a:r>
            <a:r>
              <a:rPr b="1" i="1" lang="en-US" sz="1400" spc="-1" strike="noStrike">
                <a:solidFill>
                  <a:srgbClr val="b84747"/>
                </a:solidFill>
                <a:latin typeface="Arial"/>
                <a:ea typeface="Arial"/>
              </a:rPr>
              <a:t>TFSP Workshop,</a:t>
            </a:r>
            <a:r>
              <a:rPr b="1" i="1" lang="en-GB" sz="1400" spc="-1" strike="noStrike">
                <a:solidFill>
                  <a:srgbClr val="b84747"/>
                </a:solidFill>
                <a:latin typeface="Arial"/>
                <a:ea typeface="Arial"/>
              </a:rPr>
              <a:t> Barcelona,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8160" y="2206800"/>
            <a:ext cx="630396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Arial"/>
              </a:rPr>
              <a:t>Eric Guilyardi</a:t>
            </a:r>
            <a:br>
              <a:rPr sz="1800"/>
            </a:br>
            <a:r>
              <a:rPr b="1" i="1" lang="en-GB" sz="1800" spc="-1" strike="noStrike">
                <a:solidFill>
                  <a:srgbClr val="3333cc"/>
                </a:solidFill>
                <a:latin typeface="Arial"/>
              </a:rPr>
              <a:t>IPSL/LOCEAN, Paris &amp; Walker Institute, Univ. Reading</a:t>
            </a:r>
            <a:br>
              <a:rPr sz="1800"/>
            </a:br>
            <a:br>
              <a:rPr sz="1800"/>
            </a:br>
            <a:r>
              <a:rPr b="1" i="1" lang="en-GB" sz="1800" spc="-1" strike="noStrike">
                <a:solidFill>
                  <a:srgbClr val="3333cc"/>
                </a:solidFill>
                <a:latin typeface="Arial"/>
              </a:rPr>
              <a:t>Thanks to the “ENSO in IPCC”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768240"/>
            <a:ext cx="99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b80047"/>
                </a:solidFill>
                <a:latin typeface="Arial"/>
              </a:rPr>
              <a:t>Understanding El Niño in coupled GCMs: new persp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440" y="370512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b80047"/>
                </a:solidFill>
                <a:latin typeface="Arial"/>
              </a:rPr>
              <a:t>Out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7360" y="4114800"/>
            <a:ext cx="6759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epresentation of El Niño in coupled GC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Attributing shortcomings to model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Strategies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1036800" cy="79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381880" y="6324480"/>
            <a:ext cx="20545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10200" y="1955880"/>
            <a:ext cx="40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b80047"/>
                </a:solidFill>
                <a:latin typeface="Arial"/>
              </a:rPr>
              <a:t>Too regular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mosphere GCM </a:t>
            </a:r>
            <a:r>
              <a:rPr b="1" lang="en-US" sz="2000" spc="-1" strike="noStrike" u="sng">
                <a:solidFill>
                  <a:srgbClr val="b80047"/>
                </a:solidFill>
                <a:uFillTx/>
                <a:latin typeface="Arial"/>
              </a:rPr>
              <a:t>sets dominant 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486000" y="32976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12680" y="2211480"/>
            <a:ext cx="4751640" cy="2697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64160" y="49561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100000">
            <a:off x="1938240" y="16092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b80047"/>
                </a:solidFill>
                <a:latin typeface="Arial"/>
              </a:rPr>
              <a:t>ECHA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100000">
            <a:off x="2548800" y="1628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adA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1920" y="1143000"/>
            <a:ext cx="31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El Niño frequency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77320" y="64771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Guilyardi al. (2004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69560" y="666756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9380000">
            <a:off x="6208560" y="3773160"/>
            <a:ext cx="3938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4720" y="5299200"/>
            <a:ext cx="448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2396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b80047"/>
                </a:solidFill>
                <a:latin typeface="Arial"/>
              </a:rPr>
              <a:t>Atmosphere GCM resolution improves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l Niño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low frequency var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9380000">
            <a:off x="6738840" y="3757680"/>
            <a:ext cx="495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9380000">
            <a:off x="7562880" y="3765600"/>
            <a:ext cx="520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1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38800" y="4235400"/>
            <a:ext cx="4745160" cy="2522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Respective roles of ocean and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Role of mean state errors in El Niño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5280" y="1579680"/>
            <a:ext cx="916452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9080" indent="-10008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Numerous studies addressed this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875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Trade winds strength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(inverse relation with ENSO amplitu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875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Equatorial thermocline position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(favouring one mode rather than anoth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875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ITCZ position and "double ITCZ" bias (favouring “summer” El Ni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875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875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00080">
              <a:lnSpc>
                <a:spcPct val="13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No clear general relation in IPCC AR4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00080">
              <a:lnSpc>
                <a:spcPct val="13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00080">
              <a:lnSpc>
                <a:spcPct val="13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No general agreement on role of mean state in 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Role of mean state errors in El Niño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5280" y="1258920"/>
            <a:ext cx="954540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Linear vs. non-linear ENSO regim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Hannachi al. 2001, An &amp; Jin 2004, Yeh &amp; Kirtman 2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Guidance from simpler framework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Fit CGCM background state to I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Explain CGCM biases via ICM mechanisms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Philip &amp; van Oldenborgh 2006, Dewitte et al. 2007, Timmermann et al. 2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Issue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 relate simpler frameworks or theoretical result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oupled GCM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e.g. “H” definition or “non-linear” mechani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772400" y="1752480"/>
            <a:ext cx="2652840" cy="2065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38080" y="1905120"/>
            <a:ext cx="7010640" cy="10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In linear regime, ENSO independent of mean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Evidence that observed ENSO in non-linear regime </a:t>
            </a: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Most CGCMs are in the linear regime (skewness~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Role of annual cycle errors in El Niño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68960" y="1298520"/>
            <a:ext cx="5744880" cy="5692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79320" y="1558800"/>
            <a:ext cx="374328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6160" indent="-14616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461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912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El Niño amplitude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: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invers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relation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with seasonal cycle relative 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6160" indent="-146160">
              <a:lnSpc>
                <a:spcPct val="93000"/>
              </a:lnSpc>
              <a:tabLst>
                <a:tab algn="l" pos="0"/>
                <a:tab algn="l" pos="1461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9129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6160" indent="-146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61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912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Agrees with theory and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6160" indent="-146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61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9129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6160" indent="-1461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461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912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Large SC: more difficult to “disrupt” it into an El Ni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457880" y="2484000"/>
            <a:ext cx="351720" cy="2917800"/>
            <a:chOff x="4457880" y="2484000"/>
            <a:chExt cx="351720" cy="2917800"/>
          </a:xfrm>
        </p:grpSpPr>
        <p:sp>
          <p:nvSpPr>
            <p:cNvPr id="165" name=""/>
            <p:cNvSpPr/>
            <p:nvPr/>
          </p:nvSpPr>
          <p:spPr>
            <a:xfrm rot="16200000">
              <a:off x="3176640" y="3835080"/>
              <a:ext cx="2847960" cy="285480"/>
            </a:xfrm>
            <a:prstGeom prst="roundRect">
              <a:avLst>
                <a:gd name="adj" fmla="val 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3243600" y="3765960"/>
              <a:ext cx="284796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mplitude El Niño (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64240" y="6302520"/>
            <a:ext cx="5259240" cy="528480"/>
            <a:chOff x="4764240" y="6302520"/>
            <a:chExt cx="5259240" cy="528480"/>
          </a:xfrm>
        </p:grpSpPr>
        <p:sp>
          <p:nvSpPr>
            <p:cNvPr id="168" name=""/>
            <p:cNvSpPr/>
            <p:nvPr/>
          </p:nvSpPr>
          <p:spPr>
            <a:xfrm>
              <a:off x="4764240" y="6302520"/>
              <a:ext cx="5259240" cy="528480"/>
            </a:xfrm>
            <a:prstGeom prst="roundRect">
              <a:avLst>
                <a:gd name="adj" fmla="val 29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64240" y="6376680"/>
              <a:ext cx="52592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easonal cycle relative strength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87240" y="3924360"/>
            <a:ext cx="6316560" cy="1139760"/>
            <a:chOff x="687240" y="3924360"/>
            <a:chExt cx="6316560" cy="1139760"/>
          </a:xfrm>
        </p:grpSpPr>
        <p:sp>
          <p:nvSpPr>
            <p:cNvPr id="171" name=""/>
            <p:cNvSpPr/>
            <p:nvPr/>
          </p:nvSpPr>
          <p:spPr>
            <a:xfrm>
              <a:off x="5008320" y="3924360"/>
              <a:ext cx="1995480" cy="11397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87240" y="4402080"/>
              <a:ext cx="3989520" cy="662040"/>
              <a:chOff x="687240" y="4402080"/>
              <a:chExt cx="3989520" cy="662040"/>
            </a:xfrm>
          </p:grpSpPr>
          <p:sp>
            <p:nvSpPr>
              <p:cNvPr id="173" name=""/>
              <p:cNvSpPr/>
              <p:nvPr/>
            </p:nvSpPr>
            <p:spPr>
              <a:xfrm>
                <a:off x="687240" y="4402080"/>
                <a:ext cx="3262320" cy="650880"/>
              </a:xfrm>
              <a:prstGeom prst="roundRect">
                <a:avLst>
                  <a:gd name="adj" fmla="val 24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687240" y="4402080"/>
                <a:ext cx="3989520" cy="662040"/>
                <a:chOff x="687240" y="4402080"/>
                <a:chExt cx="3989520" cy="6620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87240" y="4402080"/>
                  <a:ext cx="2759040" cy="387360"/>
                </a:xfrm>
                <a:prstGeom prst="roundRect">
                  <a:avLst>
                    <a:gd name="adj" fmla="val 40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687240" y="4402080"/>
                  <a:ext cx="3989520" cy="662040"/>
                  <a:chOff x="687240" y="4402080"/>
                  <a:chExt cx="3989520" cy="6620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687240" y="4402080"/>
                    <a:ext cx="2759040" cy="385920"/>
                  </a:xfrm>
                  <a:prstGeom prst="roundRect">
                    <a:avLst>
                      <a:gd name="adj" fmla="val 41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687240" y="4402080"/>
                    <a:ext cx="3989520" cy="662040"/>
                    <a:chOff x="687240" y="4402080"/>
                    <a:chExt cx="3989520" cy="66204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87240" y="4402080"/>
                      <a:ext cx="2759040" cy="384120"/>
                    </a:xfrm>
                    <a:prstGeom prst="roundRect">
                      <a:avLst>
                        <a:gd name="adj" fmla="val 412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687240" y="4402080"/>
                      <a:ext cx="3989520" cy="66204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marL="160200" indent="-1602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60200"/>
                          <a:tab algn="l" pos="608040"/>
                          <a:tab algn="l" pos="1057320"/>
                          <a:tab algn="l" pos="1506600"/>
                          <a:tab algn="l" pos="1955880"/>
                          <a:tab algn="l" pos="2405160"/>
                          <a:tab algn="l" pos="2854440"/>
                          <a:tab algn="l" pos="3303720"/>
                          <a:tab algn="l" pos="3753000"/>
                          <a:tab algn="l" pos="4202280"/>
                          <a:tab algn="l" pos="4651200"/>
                          <a:tab algn="l" pos="5100480"/>
                          <a:tab algn="l" pos="5549760"/>
                          <a:tab algn="l" pos="5999040"/>
                          <a:tab algn="l" pos="6448320"/>
                          <a:tab algn="l" pos="6897600"/>
                          <a:tab algn="l" pos="7346880"/>
                          <a:tab algn="l" pos="7796160"/>
                          <a:tab algn="l" pos="8245440"/>
                          <a:tab algn="l" pos="8694720"/>
                          <a:tab algn="l" pos="9144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ess clear for models near observ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81" name=""/>
            <p:cNvSpPr/>
            <p:nvPr/>
          </p:nvSpPr>
          <p:spPr>
            <a:xfrm flipV="1">
              <a:off x="4095720" y="4602240"/>
              <a:ext cx="914400" cy="164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846680" y="6211800"/>
            <a:ext cx="5153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5080" y="6084720"/>
            <a:ext cx="5374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10160" y="6084720"/>
            <a:ext cx="43812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6480" y="6084720"/>
            <a:ext cx="5374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68920" y="6084720"/>
            <a:ext cx="43812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94200" y="6084720"/>
            <a:ext cx="5374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34000" y="6084720"/>
            <a:ext cx="5374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81720" y="6084720"/>
            <a:ext cx="5374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93920" y="134460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Guilyardi (2006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35040" y="531720"/>
            <a:ext cx="5764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b80047"/>
                </a:solidFill>
                <a:latin typeface="Arial"/>
                <a:ea typeface="Arial"/>
              </a:rPr>
              <a:t>Physical mechanis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92680" y="3968640"/>
            <a:ext cx="5432400" cy="30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09440" indent="-8388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b80047"/>
                </a:solidFill>
                <a:latin typeface="Arial"/>
                <a:ea typeface="Arial"/>
              </a:rPr>
              <a:t>Ocean response to </a:t>
            </a:r>
            <a:r>
              <a:rPr b="1" lang="en-US" sz="2800" spc="-1" strike="noStrike">
                <a:solidFill>
                  <a:srgbClr val="b80047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b80047"/>
                </a:solidFill>
                <a:latin typeface="Arial"/>
                <a:ea typeface="Arial"/>
              </a:rPr>
              <a:t>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77920" indent="-138240">
              <a:lnSpc>
                <a:spcPct val="111000"/>
              </a:lnSpc>
              <a:spcBef>
                <a:spcPts val="11"/>
              </a:spcBef>
              <a:spcAft>
                <a:spcPts val="11"/>
              </a:spcAft>
              <a:buClr>
                <a:srgbClr val="3333cc"/>
              </a:buClr>
              <a:buFont typeface="Times New Roman"/>
              <a:buChar char="•"/>
              <a:tabLst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Upwelling, mixing,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("thermocline feedback", "cold tongue dynamics")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(Meehl al. 2001, Burgers &amp; van Oldenborgh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7920" indent="-138240">
              <a:lnSpc>
                <a:spcPct val="111000"/>
              </a:lnSpc>
              <a:spcBef>
                <a:spcPts val="11"/>
              </a:spcBef>
              <a:spcAft>
                <a:spcPts val="11"/>
              </a:spcAft>
              <a:buClr>
                <a:srgbClr val="3333cc"/>
              </a:buClr>
              <a:buFont typeface="Times New Roman"/>
              <a:buChar char="•"/>
              <a:tabLst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Zonal advection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(Picaut al. 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7920" indent="-138240">
              <a:lnSpc>
                <a:spcPct val="111000"/>
              </a:lnSpc>
              <a:spcBef>
                <a:spcPts val="11"/>
              </a:spcBef>
              <a:spcAft>
                <a:spcPts val="11"/>
              </a:spcAft>
              <a:buClr>
                <a:srgbClr val="3333cc"/>
              </a:buClr>
              <a:buFont typeface="Times New Roman"/>
              <a:buChar char="•"/>
              <a:tabLst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Wave dynamics (K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77920" indent="-138240">
              <a:lnSpc>
                <a:spcPct val="111000"/>
              </a:lnSpc>
              <a:spcBef>
                <a:spcPts val="11"/>
              </a:spcBef>
              <a:spcAft>
                <a:spcPts val="11"/>
              </a:spcAft>
              <a:buClr>
                <a:srgbClr val="3333cc"/>
              </a:buClr>
              <a:buFont typeface="Times New Roman"/>
              <a:buChar char="•"/>
              <a:tabLst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Energy Dissipation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(Fedorov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440" indent="-83880">
              <a:lnSpc>
                <a:spcPct val="111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52360" y="1536840"/>
            <a:ext cx="3268800" cy="2624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66760" y="3932280"/>
            <a:ext cx="32529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93680" indent="-1508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193680"/>
                <a:tab algn="l" pos="641520"/>
                <a:tab algn="l" pos="1090440"/>
                <a:tab algn="l" pos="1539720"/>
                <a:tab algn="l" pos="1989000"/>
                <a:tab algn="l" pos="2438280"/>
                <a:tab algn="l" pos="2887560"/>
                <a:tab algn="l" pos="3336840"/>
                <a:tab algn="l" pos="3786120"/>
                <a:tab algn="l" pos="4235400"/>
                <a:tab algn="l" pos="4684680"/>
                <a:tab algn="l" pos="5133960"/>
                <a:tab algn="l" pos="5583240"/>
                <a:tab algn="l" pos="6032520"/>
                <a:tab algn="l" pos="6481800"/>
                <a:tab algn="l" pos="6931080"/>
                <a:tab algn="l" pos="7380360"/>
                <a:tab algn="l" pos="7829640"/>
                <a:tab algn="l" pos="8278920"/>
                <a:tab algn="l" pos="8728200"/>
                <a:tab algn="l" pos="9177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an Oldenborgh al.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70360" y="1414440"/>
            <a:ext cx="55436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b80047"/>
                </a:solidFill>
                <a:latin typeface="Arial"/>
                <a:ea typeface="Arial"/>
              </a:rPr>
              <a:t>Atmosphere response to S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21000"/>
              </a:lnSpc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Bjerknes SST/wind stress feedback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van Oldenborgh al. 2005, Guilyardi 2006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21000"/>
              </a:lnSpc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Meridional response of wind stress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An &amp; Wang 2000, Capotondi al. 2006, Merryfield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21000"/>
              </a:lnSpc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Radiative and cloud feedbacks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Sun al. 2006, Bony al.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4880" y="4344840"/>
            <a:ext cx="4124160" cy="20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76040" indent="-1760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216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b80047"/>
                </a:solidFill>
                <a:latin typeface="Arial"/>
                <a:ea typeface="Arial"/>
              </a:rPr>
              <a:t>Non linear process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72216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NL dynamical heating (</a:t>
            </a: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</a:t>
            </a:r>
            <a:r>
              <a:rPr b="1" lang="en-GB" sz="2400" spc="-1" strike="noStrike" baseline="-26000">
                <a:solidFill>
                  <a:srgbClr val="3333cc"/>
                </a:solidFill>
                <a:latin typeface="Comic Sans MS"/>
                <a:ea typeface="Times New Roman"/>
              </a:rPr>
              <a:t>x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T + U in phase,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An &amp; Jin 2004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72216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"Multiplicative noise" - MJO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Lengaigne al.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58920" y="358920"/>
            <a:ext cx="9702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b80047"/>
                </a:solidFill>
                <a:latin typeface="Arial"/>
                <a:ea typeface="Arial"/>
              </a:rPr>
              <a:t>The dangers of error comp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36720" y="1395360"/>
            <a:ext cx="927396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Ocean/atmosphere error compensation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HadAM3/HadOM3 amplitude El Niño = 1.0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HadAM3/OPA        amplitude El Niño = 1.8 C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but ECHAM4/OPA = 0.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Reason: HadAM3 over-reactivity to SSTA is balanced by HadOM3 much too strong dissip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Validate the components independently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and then couple th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In a coupled GCM, you get the ENSO you ge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284640" y="2514600"/>
            <a:ext cx="4259160" cy="35352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920" y="358920"/>
            <a:ext cx="97027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b80047"/>
                </a:solidFill>
                <a:latin typeface="Arial"/>
                <a:ea typeface="Arial"/>
              </a:rPr>
              <a:t>Response to climate change (IPCC AR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3040" y="1116000"/>
            <a:ext cx="9680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Model errors/differences much larger than scenario 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Dependence of ENSO on mean state = f(non linearity)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(Yeh &amp; Kirtman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565440" y="2593800"/>
            <a:ext cx="3841920" cy="3170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33920" y="5791320"/>
            <a:ext cx="3809880" cy="4572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Meridional width of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1" i="1" lang="en-GB" sz="20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276720"/>
            <a:ext cx="2871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ENSO amplitude change (pre-ind. to 2xCO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8360" y="2039760"/>
            <a:ext cx="9469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Also function of meridional response of wind stress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(Capotondi al. 2006, Merryfield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3962520"/>
            <a:ext cx="1828800" cy="1143000"/>
          </a:xfrm>
          <a:prstGeom prst="ellipse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551480" y="2819160"/>
            <a:ext cx="1468440" cy="2173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4160" y="4114800"/>
            <a:ext cx="1953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hese models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unrealistically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ENSO amplit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562720"/>
            <a:ext cx="2065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65240" indent="-138240">
              <a:lnSpc>
                <a:spcPct val="86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Merryfield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49800" y="6400800"/>
            <a:ext cx="5484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Relates to Jin (1997) recharge mechanis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398520"/>
            <a:ext cx="758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187280"/>
            <a:ext cx="9577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332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ommon El Niño errors: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6332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too large diversity of amplitude (dominates over response to scena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6332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too frequent, single-peaked, SST-type El Niño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6332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structure: westward extension, too narrow around eq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2584440"/>
            <a:ext cx="9829800" cy="19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Analysis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sugg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90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atmosphere GCM has a dominant role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strongest biases ? resolution hel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90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mean and annual cycle of wind stress too strong (SST-m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90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no clear relation between mean state and ENSO amplitude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linear regi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90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amplitude easier than frequency to relate to model err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724280"/>
            <a:ext cx="97203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1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MIP3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IPCC AR4)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models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show clear improvement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over CMP2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1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Number of new and promising approaches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(multi-model, theory-GCM bridges) and community is ready to go further and integr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457200"/>
            <a:ext cx="758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b80047"/>
                </a:solidFill>
                <a:latin typeface="Arial"/>
                <a:ea typeface="Arial"/>
              </a:rPr>
              <a:t>Strategie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9440" y="1371600"/>
            <a:ext cx="9485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77720" indent="-288720">
              <a:lnSpc>
                <a:spcPct val="12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Organised metrics towards “standard ENSO assessment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Basic diagnostics (“beyond nino3 SSTA”, based on obs.) </a:t>
            </a: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A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Then "theory-dependent" analysis by sub-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e.g. simpler model framework proposal by Pacific pa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7720" indent="-288720">
              <a:lnSpc>
                <a:spcPct val="12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oordinated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Hindcasts from “nudged” simulations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(with WGSIP-TFSP experti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Time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More IPCC-specific century-long simu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7720" indent="-288720">
              <a:lnSpc>
                <a:spcPct val="123000"/>
              </a:lnSpc>
              <a:buClr>
                <a:srgbClr val="3333cc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Active “ENSO in IPCC” group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Paris 2006, San Francisco 2007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WGCM/WGSIP/Pacific Panel coordinatio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30360" y="619200"/>
            <a:ext cx="758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El Niño errors in coupled GC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1676520"/>
            <a:ext cx="8718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marL="379440" indent="-379440">
              <a:lnSpc>
                <a:spcPct val="11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Issue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13000"/>
              </a:lnSpc>
              <a:buClr>
                <a:srgbClr val="3333cc"/>
              </a:buClr>
              <a:buFont typeface="Times New Roman"/>
              <a:buChar char="•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El Niño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13000"/>
              </a:lnSpc>
              <a:buClr>
                <a:srgbClr val="3333cc"/>
              </a:buClr>
              <a:buFont typeface="Times New Roman"/>
              <a:buChar char="•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Global climate (tropics key, teleconn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13000"/>
              </a:lnSpc>
              <a:buClr>
                <a:srgbClr val="3333cc"/>
              </a:buClr>
              <a:buFont typeface="Times New Roman"/>
              <a:buChar char="•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Seasonal forecasting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(not only tropi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13000"/>
              </a:lnSpc>
              <a:buClr>
                <a:srgbClr val="3333cc"/>
              </a:buClr>
              <a:buFont typeface="Times New Roman"/>
              <a:buChar char="•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Climate pro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1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lear progress made in IPCC-class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1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till major errors and much too divers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1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5029200"/>
            <a:ext cx="85341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1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trategies forward would benefit from a coordinated WCRP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6480" y="1190520"/>
            <a:ext cx="6034320" cy="563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8920" y="358920"/>
            <a:ext cx="9472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El Niño in coupled GCMs – mean st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7400" y="1936800"/>
            <a:ext cx="3494160" cy="47952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de winds too st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36560" y="2543040"/>
            <a:ext cx="342360" cy="2955600"/>
            <a:chOff x="736560" y="2543040"/>
            <a:chExt cx="342360" cy="2955600"/>
          </a:xfrm>
        </p:grpSpPr>
        <p:sp>
          <p:nvSpPr>
            <p:cNvPr id="68" name=""/>
            <p:cNvSpPr/>
            <p:nvPr/>
          </p:nvSpPr>
          <p:spPr>
            <a:xfrm rot="16200000">
              <a:off x="-570240" y="3910320"/>
              <a:ext cx="2895480" cy="281160"/>
            </a:xfrm>
            <a:prstGeom prst="roundRect">
              <a:avLst>
                <a:gd name="adj" fmla="val 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-538920" y="3877560"/>
              <a:ext cx="295272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Zonal Taux Niño 4 (P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746440" y="1560600"/>
            <a:ext cx="2448000" cy="283680"/>
            <a:chOff x="2746440" y="1560600"/>
            <a:chExt cx="2448000" cy="283680"/>
          </a:xfrm>
        </p:grpSpPr>
        <p:sp>
          <p:nvSpPr>
            <p:cNvPr id="71" name=""/>
            <p:cNvSpPr/>
            <p:nvPr/>
          </p:nvSpPr>
          <p:spPr>
            <a:xfrm>
              <a:off x="2746440" y="1560600"/>
              <a:ext cx="2448000" cy="279360"/>
            </a:xfrm>
            <a:prstGeom prst="roundRect">
              <a:avLst>
                <a:gd name="adj" fmla="val 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46440" y="1560600"/>
              <a:ext cx="244800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ST Niño 3 (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737400" y="2978280"/>
            <a:ext cx="3701880" cy="106020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Seasonal cycle of wi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too strong (spring relax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often miss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73760" y="6418440"/>
            <a:ext cx="1616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Guilyardi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1231920"/>
            <a:ext cx="4572000" cy="5626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8920" y="358920"/>
            <a:ext cx="9472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El Niño in coupled GCMs - amplitu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00760" y="1490760"/>
            <a:ext cx="44305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lassic metr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SST 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3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CC TAR (    ) too w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7840" y="6431040"/>
            <a:ext cx="265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AchutaRao &amp; Sperber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362720" y="2627280"/>
            <a:ext cx="252360" cy="20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367760" y="3348000"/>
            <a:ext cx="226800" cy="195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530680" y="4048200"/>
            <a:ext cx="1800" cy="59040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3880" y="4089240"/>
            <a:ext cx="2836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bserved range in Niño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98680" y="6512040"/>
            <a:ext cx="723960" cy="268200"/>
          </a:xfrm>
          <a:prstGeom prst="rect">
            <a:avLst/>
          </a:prstGeom>
          <a:noFill/>
          <a:ln w="54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90880" y="6512040"/>
            <a:ext cx="723960" cy="268200"/>
          </a:xfrm>
          <a:prstGeom prst="rect">
            <a:avLst/>
          </a:prstGeom>
          <a:noFill/>
          <a:ln w="54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60840" y="6512040"/>
            <a:ext cx="723960" cy="268200"/>
          </a:xfrm>
          <a:prstGeom prst="rect">
            <a:avLst/>
          </a:prstGeom>
          <a:noFill/>
          <a:ln w="54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2498760"/>
            <a:ext cx="3494160" cy="47952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70520" y="3181320"/>
            <a:ext cx="4218120" cy="47952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1246320"/>
            <a:ext cx="340920" cy="4600080"/>
            <a:chOff x="838080" y="1246320"/>
            <a:chExt cx="340920" cy="4600080"/>
          </a:xfrm>
        </p:grpSpPr>
        <p:sp>
          <p:nvSpPr>
            <p:cNvPr id="89" name=""/>
            <p:cNvSpPr/>
            <p:nvPr/>
          </p:nvSpPr>
          <p:spPr>
            <a:xfrm rot="16200000">
              <a:off x="-1280880" y="3420720"/>
              <a:ext cx="4544640" cy="306360"/>
            </a:xfrm>
            <a:prstGeom prst="roundRect">
              <a:avLst>
                <a:gd name="adj" fmla="val 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-1234800" y="3376800"/>
              <a:ext cx="454464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tandard Deviation SSTA (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905080" y="3205080"/>
            <a:ext cx="38412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CC AR4 (    ) large diversity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8920" y="358920"/>
            <a:ext cx="9472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El Niño in coupled GCMs - frequ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8200" y="1490760"/>
            <a:ext cx="37641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lassic metr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maximum power of Niño3 SSTA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93680" y="1457280"/>
            <a:ext cx="4176720" cy="5208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87840" y="6486480"/>
            <a:ext cx="265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AchutaRao &amp; Sperber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94400" y="4938840"/>
            <a:ext cx="4230720" cy="42228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lvl="1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IPCC TAR: too high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18080" y="2935440"/>
            <a:ext cx="4506840" cy="77292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lvl="1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CC AR4: improved towa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 freq. but still large 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El Niño in coupled GCMs – </a:t>
            </a:r>
            <a:r>
              <a:rPr b="1" lang="en-US" sz="2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b80047"/>
                </a:solidFill>
                <a:latin typeface="Arial"/>
                <a:ea typeface="Arial"/>
              </a:rPr>
              <a:t>T vs. S mo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370160"/>
            <a:ext cx="471312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-mod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(thermocline, “slow”): subsurface, west Pacific, amplitude ++, SSTA: W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E, period ~5 years (&gt; 19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5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3000"/>
              </a:lnSpc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S-mod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(SST, “rapid”): surface, central/east Pacific, weaker amplitude, E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W, 2-3 years (&lt; 19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3000"/>
              </a:lnSpc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Other modes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(“mobil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3000"/>
              </a:lnSpc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Observations: “hybrid”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3686040" cy="2503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934320" y="4011480"/>
            <a:ext cx="1018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S-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97640" y="3994200"/>
            <a:ext cx="100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T-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8360" y="4506840"/>
            <a:ext cx="907236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73160" indent="-160560">
              <a:lnSpc>
                <a:spcPct val="83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S/T- mode analysis in IPCC AR4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Guilyardi 2006)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9360">
              <a:lnSpc>
                <a:spcPct val="93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Most models are locked into an S-mod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related to too strong trade winds? cf. Fedorov and Philander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9360">
              <a:lnSpc>
                <a:spcPct val="93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Few models exhibit hybrid El Niño modes, lik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9360">
              <a:lnSpc>
                <a:spcPct val="103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[these exhibit significant El Niño change to larger amplitude (+10/40 %) in warmer (2xCO</a:t>
            </a:r>
            <a:r>
              <a:rPr b="1" lang="en-GB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and 4xCO</a:t>
            </a:r>
            <a:r>
              <a:rPr b="1" lang="en-GB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climat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914400"/>
            <a:ext cx="39621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0200" indent="-160200" algn="ctr">
              <a:lnSpc>
                <a:spcPct val="86000"/>
              </a:lnSpc>
              <a:tabLst>
                <a:tab algn="l" pos="0"/>
                <a:tab algn="l" pos="16020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  <a:ea typeface="Arial"/>
              </a:rPr>
              <a:t>Defined by lag-correlation of TNI with Niño3 SSTA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i="1" lang="en-GB" sz="1400" spc="-1" strike="noStrike">
                <a:solidFill>
                  <a:srgbClr val="3333cc"/>
                </a:solidFill>
                <a:latin typeface="Arial"/>
                <a:ea typeface="Arial"/>
              </a:rPr>
              <a:t>(Trenberth &amp; Stepaniak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530280"/>
            <a:ext cx="8839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El Niño in coupled GCMs –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523880"/>
            <a:ext cx="9525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marL="189000" indent="-189000">
              <a:lnSpc>
                <a:spcPct val="9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mplitude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models diversity much larger than observed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Frequency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progress towards low frequency/wider spectra but still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Structure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westward extension, too narrow around eq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Seasonal Phase Lock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very few models have the spring relaxation and the winter variability maxim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Modes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very few model exhibits the diversity of observed ENSO modes; most are locked into a SST-mode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coherent with too strong trade wi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8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eleconnections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ENSO much too dominant over local modes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30360" y="80028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b80047"/>
                </a:solidFill>
                <a:latin typeface="Arial"/>
                <a:ea typeface="Arial"/>
              </a:rPr>
              <a:t>Origin of modelled El Niño err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30240" y="2070000"/>
            <a:ext cx="9509040" cy="39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9540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5400"/>
                <a:tab algn="l" pos="5428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540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2300dc"/>
              </a:buClr>
              <a:buFont typeface="Times New Roman"/>
              <a:buChar char="•"/>
              <a:tabLst>
                <a:tab algn="l" pos="95400"/>
                <a:tab algn="l" pos="5428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Respective role of ocean and atmospher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540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2300dc"/>
              </a:buClr>
              <a:buFont typeface="Times New Roman"/>
              <a:buChar char="•"/>
              <a:tabLst>
                <a:tab algn="l" pos="95400"/>
                <a:tab algn="l" pos="5428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Role of mean state and annual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540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2300dc"/>
              </a:buClr>
              <a:buFont typeface="Times New Roman"/>
              <a:buChar char="•"/>
              <a:tabLst>
                <a:tab algn="l" pos="95400"/>
                <a:tab algn="l" pos="5428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Use of simpler ENSO frame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540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2300dc"/>
              </a:buClr>
              <a:buFont typeface="Times New Roman"/>
              <a:buChar char="•"/>
              <a:tabLst>
                <a:tab algn="l" pos="95400"/>
                <a:tab algn="l" pos="5428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Physical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31080" y="2546280"/>
            <a:ext cx="3403440" cy="547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dA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23840" y="2546280"/>
            <a:ext cx="2297160" cy="547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H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14440" y="3780000"/>
            <a:ext cx="4665960" cy="549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A/O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07120" y="3772080"/>
            <a:ext cx="1068480" cy="545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dO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14440" y="4452840"/>
            <a:ext cx="4665960" cy="398880"/>
            <a:chOff x="2314440" y="4452840"/>
            <a:chExt cx="4665960" cy="398880"/>
          </a:xfrm>
        </p:grpSpPr>
        <p:sp>
          <p:nvSpPr>
            <p:cNvPr id="114" name=""/>
            <p:cNvSpPr/>
            <p:nvPr/>
          </p:nvSpPr>
          <p:spPr>
            <a:xfrm>
              <a:off x="2314440" y="4819680"/>
              <a:ext cx="4665960" cy="1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98400" y="4452840"/>
              <a:ext cx="166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ame o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023840" y="3772080"/>
            <a:ext cx="1163880" cy="545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95480" y="4898880"/>
            <a:ext cx="8405640" cy="926280"/>
            <a:chOff x="1095480" y="4898880"/>
            <a:chExt cx="8405640" cy="926280"/>
          </a:xfrm>
        </p:grpSpPr>
        <p:sp>
          <p:nvSpPr>
            <p:cNvPr id="118" name=""/>
            <p:cNvSpPr/>
            <p:nvPr/>
          </p:nvSpPr>
          <p:spPr>
            <a:xfrm>
              <a:off x="6097680" y="5457960"/>
              <a:ext cx="340344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59520" y="5091120"/>
              <a:ext cx="16941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b80047"/>
                  </a:solidFill>
                  <a:latin typeface="Arial"/>
                </a:rPr>
                <a:t>Sam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b80047"/>
                  </a:solidFill>
                  <a:latin typeface="Arial"/>
                </a:rPr>
                <a:t>atmosphe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95480" y="5369040"/>
              <a:ext cx="210168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09680" y="4898880"/>
              <a:ext cx="175896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b80047"/>
                  </a:solidFill>
                  <a:latin typeface="Arial"/>
                </a:rPr>
                <a:t>Same atmosphere</a:t>
              </a:r>
              <a:r>
                <a:rPr b="1" lang="en-US" sz="20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565280" y="3214800"/>
            <a:ext cx="120600" cy="357120"/>
          </a:xfrm>
          <a:prstGeom prst="upDownArrow">
            <a:avLst>
              <a:gd name="adj1" fmla="val 50000"/>
              <a:gd name="adj2" fmla="val 58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214800"/>
            <a:ext cx="114120" cy="357120"/>
          </a:xfrm>
          <a:prstGeom prst="upDownArrow">
            <a:avLst>
              <a:gd name="adj1" fmla="val 50000"/>
              <a:gd name="adj2" fmla="val 622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3214800"/>
            <a:ext cx="115920" cy="357120"/>
          </a:xfrm>
          <a:prstGeom prst="upDownArrow">
            <a:avLst>
              <a:gd name="adj1" fmla="val 50000"/>
              <a:gd name="adj2" fmla="val 613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4960" y="3214800"/>
            <a:ext cx="120600" cy="357120"/>
          </a:xfrm>
          <a:prstGeom prst="upDownArrow">
            <a:avLst>
              <a:gd name="adj1" fmla="val 50000"/>
              <a:gd name="adj2" fmla="val 58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56520" y="3214800"/>
            <a:ext cx="118800" cy="357120"/>
          </a:xfrm>
          <a:prstGeom prst="upDownArrow">
            <a:avLst>
              <a:gd name="adj1" fmla="val 50000"/>
              <a:gd name="adj2" fmla="val 598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08960" y="3214800"/>
            <a:ext cx="117360" cy="357120"/>
          </a:xfrm>
          <a:prstGeom prst="upDownArrow">
            <a:avLst>
              <a:gd name="adj1" fmla="val 50000"/>
              <a:gd name="adj2" fmla="val 605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724960" y="3214800"/>
            <a:ext cx="115920" cy="357120"/>
          </a:xfrm>
          <a:prstGeom prst="upDownArrow">
            <a:avLst>
              <a:gd name="adj1" fmla="val 50000"/>
              <a:gd name="adj2" fmla="val 613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70160" y="2386080"/>
            <a:ext cx="3321000" cy="144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48080" y="2546280"/>
            <a:ext cx="1135080" cy="5479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H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08440" y="2546280"/>
            <a:ext cx="1136880" cy="5479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H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1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66040" y="3772080"/>
            <a:ext cx="1068480" cy="545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dO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7720" y="591660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comparison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dentify mechanisms/biases 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8920" y="6154560"/>
            <a:ext cx="914400" cy="1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42400" y="198756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fferent re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52080" y="1754280"/>
            <a:ext cx="69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NTEX                             HadOPA  HadCM3    HadC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6960" y="1198440"/>
            <a:ext cx="922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The modular approa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Respective roles of ocean and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16000" y="641520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Guilyardi al. (2004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ic Guilyardi</cp:lastModifiedBy>
  <dcterms:modified xsi:type="dcterms:W3CDTF">2007-06-07T07:09:16Z</dcterms:modified>
  <cp:revision>123</cp:revision>
  <dc:subject/>
  <dc:title>Eric Guilyardi LSCE -&gt; LOCEAN, IPSL et CGAM, Univ. Reading, UK</dc:title>
</cp:coreProperties>
</file>