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15.jpeg" ContentType="image/jpe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645275" cy="9777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645600" cy="977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885600" y="4657320"/>
            <a:ext cx="4873320" cy="464364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2840" bIns="428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Img"/>
          </p:nvPr>
        </p:nvSpPr>
        <p:spPr>
          <a:xfrm>
            <a:off x="1036800" y="847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878040" y="733320"/>
            <a:ext cx="4889520" cy="366732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885600" y="4645080"/>
            <a:ext cx="4873320" cy="440064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2840" bIns="428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k smarter, Generalized distributed data access protocols –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“give me exactly and only what I need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914400" y="6553080"/>
            <a:ext cx="8229600" cy="3049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" cy="6858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41120" y="5486400"/>
            <a:ext cx="2179800" cy="12193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80000" y="5181480"/>
            <a:ext cx="820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urier New"/>
              </a:rPr>
              <a:t>A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m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41120" y="6095880"/>
            <a:ext cx="843120" cy="22860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74600" y="601992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ae00"/>
                </a:solidFill>
                <a:latin typeface="Courier New"/>
              </a:rPr>
              <a:t>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876920" y="6553080"/>
            <a:ext cx="4200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99"/>
                </a:solidFill>
                <a:latin typeface="Courier New"/>
              </a:rPr>
              <a:t>http://www.meteo.unican.es/  </a:t>
            </a:r>
            <a:r>
              <a:rPr b="1" lang="es-ES_tradnl" sz="1400" spc="-1" strike="noStrike">
                <a:solidFill>
                  <a:srgbClr val="000099"/>
                </a:solidFill>
                <a:latin typeface="Arial"/>
              </a:rPr>
              <a:t>   </a:t>
            </a:r>
            <a:fld id="{3F880AC6-382E-4707-8148-82C5678EF272}" type="slidenum">
              <a:rPr b="1" lang="es-ES_tradnl" sz="14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hyperlink" Target="http://www.meteo.unican.es/ensembles" TargetMode="External"/><Relationship Id="rId6" Type="http://schemas.openxmlformats.org/officeDocument/2006/relationships/hyperlink" Target="http://www.meteo.unican.es/ensembles" TargetMode="External"/><Relationship Id="rId7" Type="http://schemas.openxmlformats.org/officeDocument/2006/relationships/hyperlink" Target="http://www.meteo.unican.es/ensembles" TargetMode="External"/><Relationship Id="rId8" Type="http://schemas.openxmlformats.org/officeDocument/2006/relationships/hyperlink" Target="http://www.meteo.unican.es/ensembles" TargetMode="External"/><Relationship Id="rId9" Type="http://schemas.openxmlformats.org/officeDocument/2006/relationships/hyperlink" Target="http://www.meteo.unican.es/ensembles" TargetMode="External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oleObject" Target="../embeddings/oleObject3.bin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eteo.unican.es/ensembles" TargetMode="External"/><Relationship Id="rId2" Type="http://schemas.openxmlformats.org/officeDocument/2006/relationships/image" Target="../media/image13.png"/><Relationship Id="rId3" Type="http://schemas.openxmlformats.org/officeDocument/2006/relationships/hyperlink" Target="http://www.meteo.unican.es/ensembles" TargetMode="External"/><Relationship Id="rId4" Type="http://schemas.openxmlformats.org/officeDocument/2006/relationships/hyperlink" Target="http://www.meteo.unican.es/ensembles" TargetMode="External"/><Relationship Id="rId5" Type="http://schemas.openxmlformats.org/officeDocument/2006/relationships/hyperlink" Target="http://www.meteo.unican.es/ensembles" TargetMode="External"/><Relationship Id="rId6" Type="http://schemas.openxmlformats.org/officeDocument/2006/relationships/hyperlink" Target="http://www.meteo.unican.es/ensembles" TargetMode="External"/><Relationship Id="rId7" Type="http://schemas.openxmlformats.org/officeDocument/2006/relationships/hyperlink" Target="http://www.meteo.unican.es/ensembles" TargetMode="External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" cy="6858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1120" y="5486400"/>
            <a:ext cx="2179800" cy="12193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700360" y="4437000"/>
            <a:ext cx="5237280" cy="7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000" spc="-1" strike="noStrike">
                <a:solidFill>
                  <a:srgbClr val="0033cc"/>
                </a:solidFill>
                <a:latin typeface="Arial Narrow Bold"/>
              </a:rPr>
              <a:t>Univ. Cantabria – IN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Applied Meteorology Grou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348640" y="2430360"/>
            <a:ext cx="5819400" cy="15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 u="sng">
                <a:solidFill>
                  <a:srgbClr val="0033cc"/>
                </a:solidFill>
                <a:uFillTx/>
                <a:latin typeface="Arial Narrow Bold"/>
              </a:rPr>
              <a:t>Antonio S. Cofiñ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800" spc="-1" strike="noStrike">
                <a:solidFill>
                  <a:srgbClr val="0033cc"/>
                </a:solidFill>
                <a:latin typeface="Arial"/>
                <a:ea typeface="Times New Roman"/>
              </a:rPr>
              <a:t>Daniel San-Martí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800" spc="-1" strike="noStrike">
                <a:solidFill>
                  <a:srgbClr val="0033cc"/>
                </a:solidFill>
                <a:latin typeface="Arial Narrow Bold"/>
              </a:rPr>
              <a:t>José Manuel Gutiérre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Dept. of Applied Mathematics and Computational Science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University of Cantabria, Spai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050920" y="4365720"/>
            <a:ext cx="990720" cy="9903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7308720" y="5499000"/>
            <a:ext cx="1513080" cy="10256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7596360" y="4221000"/>
            <a:ext cx="780840" cy="11908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1050840" y="5516640"/>
            <a:ext cx="1505160" cy="9144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2268360" y="6021360"/>
            <a:ext cx="525636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 u="sng">
                <a:solidFill>
                  <a:srgbClr val="fc0128"/>
                </a:solidFill>
                <a:uFillTx/>
                <a:latin typeface="Arial Narrow Bold"/>
                <a:hlinkClick r:id="rId5"/>
              </a:rPr>
              <a:t>http</a:t>
            </a:r>
            <a:r>
              <a:rPr b="0" lang="es-ES_tradnl" sz="2000" spc="-1" strike="noStrike" u="sng">
                <a:solidFill>
                  <a:srgbClr val="fc0128"/>
                </a:solidFill>
                <a:uFillTx/>
                <a:latin typeface="Arial Narrow Bold"/>
                <a:hlinkClick r:id="rId6"/>
              </a:rPr>
              <a:t>://</a:t>
            </a:r>
            <a:r>
              <a:rPr b="0" lang="es-ES_tradnl" sz="2000" spc="-1" strike="noStrike" u="sng">
                <a:solidFill>
                  <a:srgbClr val="fc0128"/>
                </a:solidFill>
                <a:uFillTx/>
                <a:latin typeface="Arial Narrow Bold"/>
                <a:hlinkClick r:id="rId7"/>
              </a:rPr>
              <a:t>www.meteo.unican.es</a:t>
            </a:r>
            <a:r>
              <a:rPr b="0" lang="es-ES_tradnl" sz="2000" spc="-1" strike="noStrike" u="sng">
                <a:solidFill>
                  <a:srgbClr val="fc0128"/>
                </a:solidFill>
                <a:uFillTx/>
                <a:latin typeface="Arial Narrow Bold"/>
                <a:hlinkClick r:id="rId8"/>
              </a:rPr>
              <a:t>/</a:t>
            </a:r>
            <a:r>
              <a:rPr b="0" lang="es-ES_tradnl" sz="2000" spc="-1" strike="noStrike" u="sng">
                <a:solidFill>
                  <a:srgbClr val="fc0128"/>
                </a:solidFill>
                <a:uFillTx/>
                <a:latin typeface="Arial Narrow Bold"/>
                <a:hlinkClick r:id="rId9"/>
              </a:rPr>
              <a:t>ensem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732200" y="6486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203640" y="6597720"/>
            <a:ext cx="5940360" cy="2602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80000" y="5181480"/>
            <a:ext cx="820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urier New"/>
              </a:rPr>
              <a:t>A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m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41120" y="6095880"/>
            <a:ext cx="843120" cy="22860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4600" y="601992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ae00"/>
                </a:solidFill>
                <a:latin typeface="Courier New"/>
              </a:rPr>
              <a:t>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403280" y="104760"/>
            <a:ext cx="7201080" cy="20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3400" spc="-1" strike="noStrike">
                <a:solidFill>
                  <a:srgbClr val="000000"/>
                </a:solidFill>
                <a:latin typeface="Arial"/>
                <a:ea typeface="Times New Roman"/>
              </a:rPr>
              <a:t>ENSEMBLES Web Portal for Seasonal Statistical Downscaling.</a:t>
            </a:r>
            <a:br>
              <a:rPr sz="3400"/>
            </a:br>
            <a:r>
              <a:rPr b="1" i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Description and De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(WCRP Seasonal Prediction Worksho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58920" y="2205000"/>
            <a:ext cx="74898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476360" y="152280"/>
            <a:ext cx="7667640" cy="457200"/>
          </a:xfrm>
          <a:prstGeom prst="rect">
            <a:avLst/>
          </a:prstGeom>
          <a:solidFill>
            <a:srgbClr val="95d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21280" y="152280"/>
            <a:ext cx="734580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200" spc="-1" strike="noStrike" u="sng">
                <a:solidFill>
                  <a:srgbClr val="000000"/>
                </a:solidFill>
                <a:uFillTx/>
                <a:latin typeface="Arial Narrow Bold"/>
              </a:rPr>
              <a:t>Downscaling Portal. </a:t>
            </a:r>
            <a:r>
              <a:rPr b="1" lang="es-ES_tradnl" sz="2200" spc="-1" strike="noStrike" u="sng">
                <a:solidFill>
                  <a:srgbClr val="000066"/>
                </a:solidFill>
                <a:uFillTx/>
                <a:latin typeface="Arial Narrow Bold"/>
              </a:rPr>
              <a:t>Local Predictions for End-Us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68160" y="0"/>
            <a:ext cx="351000" cy="5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09640" y="228600"/>
            <a:ext cx="561960" cy="304920"/>
          </a:xfrm>
          <a:custGeom>
            <a:avLst/>
            <a:gdLst>
              <a:gd name="textAreaLeft" fmla="*/ 0 w 561960"/>
              <a:gd name="textAreaRight" fmla="*/ 562320 w 56196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4897080" y="4379760"/>
            <a:ext cx="1621080" cy="1857600"/>
            <a:chOff x="4897080" y="4379760"/>
            <a:chExt cx="1621080" cy="1857600"/>
          </a:xfrm>
        </p:grpSpPr>
        <p:sp>
          <p:nvSpPr>
            <p:cNvPr id="69" name=""/>
            <p:cNvSpPr/>
            <p:nvPr/>
          </p:nvSpPr>
          <p:spPr>
            <a:xfrm>
              <a:off x="4986360" y="5116320"/>
              <a:ext cx="1531800" cy="1121040"/>
            </a:xfrm>
            <a:prstGeom prst="rightArrow">
              <a:avLst>
                <a:gd name="adj1" fmla="val 49861"/>
                <a:gd name="adj2" fmla="val 46584"/>
              </a:avLst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932360" y="5316480"/>
              <a:ext cx="1584360" cy="58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i="1" lang="es-ES_tradnl" sz="1800" spc="-1" strike="noStrike">
                  <a:solidFill>
                    <a:srgbClr val="ffffff"/>
                  </a:solidFill>
                  <a:latin typeface="Arial"/>
                </a:rPr>
                <a:t>Y</a:t>
              </a:r>
              <a:r>
                <a:rPr b="1" i="1" lang="es-ES_tradnl" sz="18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r>
                <a:rPr b="1" i="1" lang="es-ES_tradnl" sz="1600" spc="-1" strike="noStrike">
                  <a:solidFill>
                    <a:srgbClr val="ffffff"/>
                  </a:solidFill>
                  <a:latin typeface="Arial"/>
                </a:rPr>
                <a:t> = </a:t>
              </a:r>
              <a:r>
                <a:rPr b="1" i="1" lang="es-ES_tradnl" sz="1800" spc="-1" strike="noStrike">
                  <a:solidFill>
                    <a:srgbClr val="ffffff"/>
                  </a:solidFill>
                  <a:latin typeface="Arial"/>
                </a:rPr>
                <a:t>F(X</a:t>
              </a:r>
              <a:r>
                <a:rPr b="1" i="1" lang="es-ES_tradnl" sz="18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r>
                <a:rPr b="1" i="1" lang="es-ES_tradnl" sz="1800" spc="-1" strike="noStrike">
                  <a:solidFill>
                    <a:srgbClr val="ffffff"/>
                  </a:solidFill>
                  <a:latin typeface="Arial Narrow Bold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97080" y="4379760"/>
              <a:ext cx="161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800" spc="-1" strike="noStrike">
                  <a:solidFill>
                    <a:srgbClr val="000099"/>
                  </a:solidFill>
                  <a:latin typeface="Arial Narrow Bold"/>
                </a:rPr>
                <a:t>Downscaling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800" spc="-1" strike="noStrike">
                  <a:solidFill>
                    <a:srgbClr val="000099"/>
                  </a:solidFill>
                  <a:latin typeface="Arial Narrow Bold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" name=""/>
          <p:cNvSpPr/>
          <p:nvPr/>
        </p:nvSpPr>
        <p:spPr>
          <a:xfrm>
            <a:off x="1611000" y="6157800"/>
            <a:ext cx="66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99"/>
                </a:solidFill>
                <a:latin typeface="Arial Narrow Bold"/>
              </a:rPr>
              <a:t>This is the structure that we followed in the portal’s desig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960480" y="4379760"/>
            <a:ext cx="3838680" cy="1801800"/>
            <a:chOff x="960480" y="4379760"/>
            <a:chExt cx="3838680" cy="1801800"/>
          </a:xfrm>
        </p:grpSpPr>
        <p:sp>
          <p:nvSpPr>
            <p:cNvPr id="74" name=""/>
            <p:cNvSpPr/>
            <p:nvPr/>
          </p:nvSpPr>
          <p:spPr>
            <a:xfrm>
              <a:off x="4727520" y="4755960"/>
              <a:ext cx="71640" cy="1219320"/>
            </a:xfrm>
            <a:custGeom>
              <a:avLst/>
              <a:gdLst>
                <a:gd name="textAreaLeft" fmla="*/ 0 w 71640"/>
                <a:gd name="textAreaRight" fmla="*/ 25920 w 71640"/>
                <a:gd name="textAreaTop" fmla="*/ 31680 h 1219320"/>
                <a:gd name="textAreaBottom" fmla="*/ 1187640 h 1219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568600" y="4379760"/>
              <a:ext cx="1291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800" spc="-1" strike="noStrike">
                  <a:solidFill>
                    <a:srgbClr val="000099"/>
                  </a:solidFill>
                  <a:latin typeface="Arial Narrow Bold"/>
                </a:rPr>
                <a:t>Predictor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780000" y="4811760"/>
              <a:ext cx="936360" cy="72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T  </a:t>
              </a: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1000mb</a:t>
              </a:r>
              <a:br>
                <a:rPr sz="1400"/>
              </a:b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Q </a:t>
              </a: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1000mb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Z  </a:t>
              </a: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500mb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419640" y="5603760"/>
              <a:ext cx="685800" cy="574560"/>
            </a:xfrm>
            <a:prstGeom prst="rect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24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r>
                <a:rPr b="0" lang="es-ES_tradnl" sz="28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203640" y="5027400"/>
              <a:ext cx="6476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SL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960480" y="4740120"/>
            <a:ext cx="2303280" cy="14414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960480" y="4740120"/>
                      <a:ext cx="2303280" cy="1441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81" name=""/>
          <p:cNvSpPr/>
          <p:nvPr/>
        </p:nvSpPr>
        <p:spPr>
          <a:xfrm>
            <a:off x="1042920" y="692280"/>
            <a:ext cx="824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is a gap between the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global low-resolution simulation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the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high-resolu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needed for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end-users’ application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One of the solutions is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statistical downscal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1042920" y="1773360"/>
            <a:ext cx="8101080" cy="2350080"/>
            <a:chOff x="1042920" y="1773360"/>
            <a:chExt cx="8101080" cy="2350080"/>
          </a:xfrm>
        </p:grpSpPr>
        <p:grpSp>
          <p:nvGrpSpPr>
            <p:cNvPr id="83" name=""/>
            <p:cNvGrpSpPr/>
            <p:nvPr/>
          </p:nvGrpSpPr>
          <p:grpSpPr>
            <a:xfrm>
              <a:off x="1042920" y="1773360"/>
              <a:ext cx="8101080" cy="2350080"/>
              <a:chOff x="1042920" y="1773360"/>
              <a:chExt cx="8101080" cy="2350080"/>
            </a:xfrm>
          </p:grpSpPr>
          <p:sp>
            <p:nvSpPr>
              <p:cNvPr id="84" name=""/>
              <p:cNvSpPr/>
              <p:nvPr/>
            </p:nvSpPr>
            <p:spPr>
              <a:xfrm>
                <a:off x="1042920" y="1773360"/>
                <a:ext cx="5761080" cy="2350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2000" spc="-1" strike="noStrike">
                    <a:solidFill>
                      <a:srgbClr val="000099"/>
                    </a:solidFill>
                    <a:latin typeface="Arial"/>
                  </a:rPr>
                  <a:t>Example:</a:t>
                </a:r>
                <a:r>
                  <a:rPr b="0" lang="es-ES" sz="2000" spc="-1" strike="noStrike">
                    <a:solidFill>
                      <a:srgbClr val="000000"/>
                    </a:solidFill>
                    <a:latin typeface="Arial"/>
                  </a:rPr>
                  <a:t> Forecast models for electricity demand require local predictions of daily temperatures in a number of cities (local stations). (</a:t>
                </a:r>
                <a:r>
                  <a:rPr b="0" lang="es-ES" sz="1800" spc="-1" strike="noStrike">
                    <a:solidFill>
                      <a:srgbClr val="000000"/>
                    </a:solidFill>
                    <a:latin typeface="Arial"/>
                  </a:rPr>
                  <a:t>See Laurent Dubus’ Poster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2000" spc="-1" strike="noStrike">
                    <a:solidFill>
                      <a:srgbClr val="000099"/>
                    </a:solidFill>
                    <a:latin typeface="Arial"/>
                  </a:rPr>
                  <a:t>Goal:</a:t>
                </a:r>
                <a:r>
                  <a:rPr b="0" lang="es-ES" sz="2000" spc="-1" strike="noStrike">
                    <a:solidFill>
                      <a:srgbClr val="000000"/>
                    </a:solidFill>
                    <a:latin typeface="Arial"/>
                  </a:rPr>
                  <a:t> Provide predictions of </a:t>
                </a:r>
                <a:r>
                  <a:rPr b="1" lang="es-ES" sz="2000" spc="-1" strike="noStrike">
                    <a:solidFill>
                      <a:srgbClr val="fc0128"/>
                    </a:solidFill>
                    <a:latin typeface="Arial"/>
                  </a:rPr>
                  <a:t>daily local</a:t>
                </a:r>
                <a:r>
                  <a:rPr b="0" lang="es-ES" sz="2000" spc="-1" strike="noStrike">
                    <a:solidFill>
                      <a:srgbClr val="fc0128"/>
                    </a:solidFill>
                    <a:latin typeface="Arial"/>
                  </a:rPr>
                  <a:t> values for individual members for a season JJA 2007</a:t>
                </a:r>
                <a:r>
                  <a:rPr b="0" lang="es-ES" sz="2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000" spc="-1" strike="noStrike">
                    <a:solidFill>
                      <a:srgbClr val="000000"/>
                    </a:solidFill>
                    <a:latin typeface="Arial"/>
                  </a:rPr>
                  <a:t>in a suitable format (e.g., text file, or Excel file).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85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6405480" y="3357360"/>
                <a:ext cx="542880" cy="505080"/>
              </a:xfrm>
              <a:prstGeom prst="rect">
                <a:avLst/>
              </a:prstGeom>
              <a:ln w="0">
                <a:noFill/>
              </a:ln>
            </p:spPr>
          </p:pic>
          <p:graphicFrame>
            <p:nvGraphicFramePr>
              <p:cNvPr id="86" name=""/>
              <p:cNvGraphicFramePr/>
              <p:nvPr/>
            </p:nvGraphicFramePr>
            <p:xfrm>
              <a:off x="6838920" y="1914480"/>
              <a:ext cx="2305080" cy="1442880"/>
            </p:xfrm>
            <a:graphic>
              <a:graphicData uri="http://schemas.openxmlformats.org/presentationml/2006/ole">
                <p:oleObj r:id="rId4" spid="">
                  <p:embed/>
                  <p:pic>
                    <p:nvPicPr>
                      <p:cNvPr id="87" name="" descr=""/>
                      <p:cNvPicPr/>
                      <p:nvPr/>
                    </p:nvPicPr>
                    <p:blipFill>
                      <a:blip r:embed="rId5"/>
                      <a:stretch/>
                    </p:blipFill>
                    <p:spPr>
                      <a:xfrm>
                        <a:off x="6838920" y="1914480"/>
                        <a:ext cx="2305080" cy="14428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pic>
          <p:nvPicPr>
            <p:cNvPr id="88" name="" descr=""/>
            <p:cNvPicPr/>
            <p:nvPr/>
          </p:nvPicPr>
          <p:blipFill>
            <a:blip r:embed="rId6"/>
            <a:stretch/>
          </p:blipFill>
          <p:spPr>
            <a:xfrm>
              <a:off x="6877080" y="1930320"/>
              <a:ext cx="479520" cy="647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9" name=""/>
          <p:cNvGrpSpPr/>
          <p:nvPr/>
        </p:nvGrpSpPr>
        <p:grpSpPr>
          <a:xfrm>
            <a:off x="6305400" y="3429000"/>
            <a:ext cx="3380040" cy="2754360"/>
            <a:chOff x="6305400" y="3429000"/>
            <a:chExt cx="3380040" cy="2754360"/>
          </a:xfrm>
        </p:grpSpPr>
        <p:grpSp>
          <p:nvGrpSpPr>
            <p:cNvPr id="90" name=""/>
            <p:cNvGrpSpPr/>
            <p:nvPr/>
          </p:nvGrpSpPr>
          <p:grpSpPr>
            <a:xfrm>
              <a:off x="6305400" y="4379760"/>
              <a:ext cx="3380040" cy="1803600"/>
              <a:chOff x="6305400" y="4379760"/>
              <a:chExt cx="3380040" cy="1803600"/>
            </a:xfrm>
          </p:grpSpPr>
          <p:sp>
            <p:nvSpPr>
              <p:cNvPr id="91" name=""/>
              <p:cNvSpPr/>
              <p:nvPr/>
            </p:nvSpPr>
            <p:spPr>
              <a:xfrm>
                <a:off x="6305400" y="4888080"/>
                <a:ext cx="1617840" cy="45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br>
                  <a:rPr sz="1200"/>
                </a:br>
                <a:r>
                  <a:rPr b="1" i="1" lang="es-ES_tradnl" sz="1200" spc="-1" strike="noStrike">
                    <a:solidFill>
                      <a:srgbClr val="000000"/>
                    </a:solidFill>
                    <a:latin typeface="Arial"/>
                  </a:rPr>
                  <a:t>Temperatur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6531120" y="5592600"/>
                <a:ext cx="685800" cy="574560"/>
              </a:xfrm>
              <a:prstGeom prst="rect">
                <a:avLst/>
              </a:prstGeom>
              <a:solidFill>
                <a:srgbClr val="8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s-ES_tradnl" sz="2400" spc="-1" strike="noStrike">
                    <a:solidFill>
                      <a:srgbClr val="ffffff"/>
                    </a:solidFill>
                    <a:latin typeface="Arial"/>
                  </a:rPr>
                  <a:t>Y</a:t>
                </a:r>
                <a:r>
                  <a:rPr b="0" lang="es-ES_tradnl" sz="2800" spc="-1" strike="noStrike" baseline="-25000">
                    <a:solidFill>
                      <a:srgbClr val="ffffff"/>
                    </a:solidFill>
                    <a:latin typeface="Arial"/>
                  </a:rPr>
                  <a:t>n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444440" y="4379760"/>
                <a:ext cx="1471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" sz="1800" spc="-1" strike="noStrike">
                    <a:solidFill>
                      <a:srgbClr val="000099"/>
                    </a:solidFill>
                    <a:latin typeface="Arial Narrow Bold"/>
                  </a:rPr>
                  <a:t>Predictand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94" name=""/>
              <p:cNvGraphicFramePr/>
              <p:nvPr/>
            </p:nvGraphicFramePr>
            <p:xfrm>
              <a:off x="7380360" y="4740120"/>
              <a:ext cx="2305080" cy="144324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95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7380360" y="4740120"/>
                        <a:ext cx="2305080" cy="1443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96" name=""/>
            <p:cNvSpPr/>
            <p:nvPr/>
          </p:nvSpPr>
          <p:spPr>
            <a:xfrm>
              <a:off x="7667640" y="3429000"/>
              <a:ext cx="936720" cy="1008000"/>
            </a:xfrm>
            <a:prstGeom prst="downArrow">
              <a:avLst>
                <a:gd name="adj1" fmla="val 49833"/>
                <a:gd name="adj2" fmla="val 50113"/>
              </a:avLst>
            </a:prstGeom>
            <a:solidFill>
              <a:srgbClr val="000066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1612080" y="4005360"/>
            <a:ext cx="580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 Narrow Bold"/>
              </a:rPr>
              <a:t>The portal helps with the Downscaling Workflow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476360" y="152280"/>
            <a:ext cx="7667640" cy="457200"/>
          </a:xfrm>
          <a:prstGeom prst="rect">
            <a:avLst/>
          </a:prstGeom>
          <a:solidFill>
            <a:srgbClr val="95d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389960" y="152280"/>
            <a:ext cx="521820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200" spc="-1" strike="noStrike" u="sng">
                <a:solidFill>
                  <a:srgbClr val="000000"/>
                </a:solidFill>
                <a:uFillTx/>
                <a:latin typeface="Arial Narrow Bold"/>
              </a:rPr>
              <a:t>Data Available in the Portal (</a:t>
            </a:r>
            <a:r>
              <a:rPr b="1" lang="es-ES_tradnl" sz="2200" spc="-1" strike="noStrike" u="sng">
                <a:solidFill>
                  <a:srgbClr val="000066"/>
                </a:solidFill>
                <a:uFillTx/>
                <a:latin typeface="Arial Narrow Bold"/>
              </a:rPr>
              <a:t>so far!!</a:t>
            </a:r>
            <a:r>
              <a:rPr b="1" lang="es-ES_tradnl" sz="2200" spc="-1" strike="noStrike" u="sng">
                <a:solidFill>
                  <a:srgbClr val="000000"/>
                </a:solidFill>
                <a:uFillTx/>
                <a:latin typeface="Arial Narrow Bold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68160" y="0"/>
            <a:ext cx="351000" cy="5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09640" y="228600"/>
            <a:ext cx="561960" cy="304920"/>
          </a:xfrm>
          <a:custGeom>
            <a:avLst/>
            <a:gdLst>
              <a:gd name="textAreaLeft" fmla="*/ 0 w 561960"/>
              <a:gd name="textAreaRight" fmla="*/ 562320 w 56196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1258920" y="2421000"/>
            <a:ext cx="7488360" cy="3463920"/>
            <a:chOff x="1258920" y="2421000"/>
            <a:chExt cx="7488360" cy="346392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1619280" y="3357720"/>
              <a:ext cx="3093840" cy="2125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2"/>
            <a:stretch/>
          </p:blipFill>
          <p:spPr>
            <a:xfrm>
              <a:off x="5097600" y="3502080"/>
              <a:ext cx="3219480" cy="201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1620720" y="5516640"/>
              <a:ext cx="201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800" spc="-1" strike="noStrike">
                  <a:solidFill>
                    <a:srgbClr val="000000"/>
                  </a:solidFill>
                  <a:latin typeface="Arial Narrow Bold"/>
                </a:rPr>
                <a:t>MARS-Stat Dat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00720" y="5516640"/>
              <a:ext cx="180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800" spc="-1" strike="noStrike">
                  <a:solidFill>
                    <a:srgbClr val="000000"/>
                  </a:solidFill>
                  <a:latin typeface="Arial Narrow Bold"/>
                </a:rPr>
                <a:t>ECA Dat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258920" y="2421000"/>
              <a:ext cx="7488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99"/>
                  </a:solidFill>
                  <a:latin typeface="Arial Narrow Bold"/>
                </a:rPr>
                <a:t>Observations: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9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99"/>
                  </a:solidFill>
                  <a:latin typeface="Arial Narrow Bold"/>
                </a:rPr>
                <a:t>0.5x0.5 grid over Europe provided by JR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9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99"/>
                  </a:solidFill>
                  <a:latin typeface="Arial Narrow Bold"/>
                </a:rPr>
                <a:t>1000 local points provided by ECA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9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" name=""/>
          <p:cNvSpPr/>
          <p:nvPr/>
        </p:nvSpPr>
        <p:spPr>
          <a:xfrm>
            <a:off x="1403280" y="907920"/>
            <a:ext cx="237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 Narrow Bold"/>
              </a:rPr>
              <a:t>Reanalysis:</a:t>
            </a:r>
            <a:r>
              <a:rPr b="1" lang="es-ES" sz="1800" spc="-1" strike="noStrike">
                <a:solidFill>
                  <a:srgbClr val="000000"/>
                </a:solidFill>
                <a:latin typeface="Arial Narrow Bold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 Narrow Bold"/>
              </a:rPr>
              <a:t>ERA40 </a:t>
            </a:r>
            <a:r>
              <a:rPr b="1" lang="es-ES" sz="1400" spc="-1" strike="noStrike">
                <a:solidFill>
                  <a:srgbClr val="000000"/>
                </a:solidFill>
                <a:latin typeface="Arial Narrow Bold"/>
              </a:rPr>
              <a:t>(1957-2002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 Narrow Bold"/>
              </a:rPr>
              <a:t>NCEP </a:t>
            </a:r>
            <a:r>
              <a:rPr b="1" lang="es-ES" sz="1400" spc="-1" strike="noStrike">
                <a:solidFill>
                  <a:srgbClr val="000000"/>
                </a:solidFill>
                <a:latin typeface="Arial Narrow Bold"/>
              </a:rPr>
              <a:t>(1948-200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 Narrow Bold"/>
              </a:rPr>
              <a:t>JRA25 </a:t>
            </a:r>
            <a:r>
              <a:rPr b="1" lang="es-ES" sz="1400" spc="-1" strike="noStrike">
                <a:solidFill>
                  <a:srgbClr val="000000"/>
                </a:solidFill>
                <a:latin typeface="Arial Narrow Bold"/>
              </a:rPr>
              <a:t>(1979-2006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924360" y="907920"/>
            <a:ext cx="5040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c0128"/>
                </a:solidFill>
                <a:latin typeface="Arial Narrow Bold"/>
              </a:rPr>
              <a:t>Seasonal Hindcasts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c012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c0128"/>
                </a:solidFill>
                <a:latin typeface="Arial Narrow Bold"/>
              </a:rPr>
              <a:t>DEMETER </a:t>
            </a:r>
            <a:r>
              <a:rPr b="1" lang="es-ES" sz="1400" spc="-1" strike="noStrike">
                <a:solidFill>
                  <a:srgbClr val="fc0128"/>
                </a:solidFill>
                <a:latin typeface="Arial Narrow Bold"/>
              </a:rPr>
              <a:t>(1958-2001, 7 models, 9 member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c012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c0128"/>
                </a:solidFill>
                <a:latin typeface="Arial Narrow Bold"/>
              </a:rPr>
              <a:t>ENSEMBLES S1 </a:t>
            </a:r>
            <a:r>
              <a:rPr b="1" lang="es-ES" sz="1400" spc="-1" strike="noStrike">
                <a:solidFill>
                  <a:srgbClr val="fc0128"/>
                </a:solidFill>
                <a:latin typeface="Arial Narrow Bold"/>
              </a:rPr>
              <a:t>(1991-2001, 3 model, 9 member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c012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c0128"/>
                </a:solidFill>
                <a:latin typeface="Arial Narrow Bold"/>
              </a:rPr>
              <a:t>INM/RCA 0.5 </a:t>
            </a:r>
            <a:r>
              <a:rPr b="1" lang="es-ES" sz="1400" spc="-1" strike="noStrike">
                <a:solidFill>
                  <a:srgbClr val="fc0128"/>
                </a:solidFill>
                <a:latin typeface="Arial Narrow Bold"/>
              </a:rPr>
              <a:t>(1991-2001, 1 model, 9 members</a:t>
            </a:r>
            <a:r>
              <a:rPr b="1" lang="es-ES" sz="1800" spc="-1" strike="noStrike">
                <a:solidFill>
                  <a:srgbClr val="fc0128"/>
                </a:solidFill>
                <a:latin typeface="Arial Narrow Bold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c012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c0128"/>
                </a:solidFill>
                <a:latin typeface="Arial Narrow Bold"/>
              </a:rPr>
              <a:t>ECMWF System2 </a:t>
            </a:r>
            <a:r>
              <a:rPr b="1" lang="es-ES" sz="1400" spc="-1" strike="noStrike">
                <a:solidFill>
                  <a:srgbClr val="fc0128"/>
                </a:solidFill>
                <a:latin typeface="Arial Narrow Bold"/>
              </a:rPr>
              <a:t>(1987-2006, 5-40 member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107000" y="6093000"/>
            <a:ext cx="650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99"/>
                </a:solidFill>
                <a:latin typeface="Arial Narrow Bold"/>
              </a:rPr>
              <a:t>Datasets uploaded by users (private). e.g. </a:t>
            </a:r>
            <a:r>
              <a:rPr b="1" i="1" lang="es-ES" sz="1800" spc="-1" strike="noStrike">
                <a:solidFill>
                  <a:srgbClr val="000000"/>
                </a:solidFill>
                <a:latin typeface="Arial Narrow Bold"/>
              </a:rPr>
              <a:t>EDF datase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900000" y="1268280"/>
            <a:ext cx="27432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Local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405080" y="2187720"/>
            <a:ext cx="1742760" cy="1096920"/>
          </a:xfrm>
          <a:prstGeom prst="roundRect">
            <a:avLst>
              <a:gd name="adj" fmla="val 16667"/>
            </a:avLst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362240" y="5084640"/>
            <a:ext cx="1836720" cy="1224000"/>
          </a:xfrm>
          <a:prstGeom prst="can">
            <a:avLst>
              <a:gd name="adj" fmla="val 25000"/>
            </a:avLst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loca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545840" y="2792880"/>
            <a:ext cx="1451520" cy="439200"/>
          </a:xfrm>
          <a:prstGeom prst="roundRect">
            <a:avLst>
              <a:gd name="adj" fmla="val 16667"/>
            </a:avLst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CDF li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336680" y="2276640"/>
            <a:ext cx="1849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owns. Por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276640" y="3357720"/>
            <a:ext cx="0" cy="16556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315160" y="3430440"/>
            <a:ext cx="10296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ca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476360" y="152280"/>
            <a:ext cx="7667640" cy="457200"/>
          </a:xfrm>
          <a:prstGeom prst="rect">
            <a:avLst/>
          </a:prstGeom>
          <a:solidFill>
            <a:srgbClr val="95d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8160" y="0"/>
            <a:ext cx="351000" cy="5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09640" y="228600"/>
            <a:ext cx="561960" cy="304920"/>
          </a:xfrm>
          <a:custGeom>
            <a:avLst/>
            <a:gdLst>
              <a:gd name="textAreaLeft" fmla="*/ 0 w 561960"/>
              <a:gd name="textAreaRight" fmla="*/ 562320 w 56196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443240" y="152280"/>
            <a:ext cx="496836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200" spc="-1" strike="noStrike" u="sng">
                <a:solidFill>
                  <a:srgbClr val="000000"/>
                </a:solidFill>
                <a:uFillTx/>
                <a:latin typeface="Arial Narrow Bold"/>
              </a:rPr>
              <a:t>Distributed Data Access. </a:t>
            </a:r>
            <a:r>
              <a:rPr b="1" lang="es-ES_tradnl" sz="2200" spc="-1" strike="noStrike" u="sng">
                <a:solidFill>
                  <a:srgbClr val="000066"/>
                </a:solidFill>
                <a:uFillTx/>
                <a:latin typeface="Arial Narrow Bold"/>
              </a:rPr>
              <a:t>OpenDA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3192480" y="765000"/>
            <a:ext cx="2735280" cy="256392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3276720" y="3573360"/>
            <a:ext cx="2347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 Narrow Bold"/>
              </a:rPr>
              <a:t>Testbed: ENSEMBLES s2d data provider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 Narrow Bold"/>
              </a:rPr>
              <a:t>(F. Doblas-Rey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3276720" y="1341360"/>
            <a:ext cx="5868720" cy="4967280"/>
            <a:chOff x="3276720" y="1341360"/>
            <a:chExt cx="5868720" cy="4967280"/>
          </a:xfrm>
        </p:grpSpPr>
        <p:sp>
          <p:nvSpPr>
            <p:cNvPr id="125" name=""/>
            <p:cNvSpPr/>
            <p:nvPr/>
          </p:nvSpPr>
          <p:spPr>
            <a:xfrm>
              <a:off x="5975280" y="2165400"/>
              <a:ext cx="2403720" cy="1096920"/>
            </a:xfrm>
            <a:prstGeom prst="roundRect">
              <a:avLst>
                <a:gd name="adj" fmla="val 16667"/>
              </a:avLst>
            </a:prstGeom>
            <a:solidFill>
              <a:srgbClr val="99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088680" y="2770560"/>
              <a:ext cx="2134080" cy="439200"/>
            </a:xfrm>
            <a:prstGeom prst="roundRect">
              <a:avLst>
                <a:gd name="adj" fmla="val 16667"/>
              </a:avLst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OpenDAP Cli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282000" y="2239920"/>
              <a:ext cx="184932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Downs. Port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155000" y="3270240"/>
              <a:ext cx="0" cy="1066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638680" y="3346560"/>
              <a:ext cx="134172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OpenDA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Vi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http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988960" y="4362840"/>
              <a:ext cx="2338200" cy="439200"/>
            </a:xfrm>
            <a:prstGeom prst="roundRect">
              <a:avLst>
                <a:gd name="adj" fmla="val 16667"/>
              </a:avLst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OpenDAP Serve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Cloud"/>
            <p:cNvSpPr/>
            <p:nvPr/>
          </p:nvSpPr>
          <p:spPr>
            <a:xfrm>
              <a:off x="6735600" y="3498840"/>
              <a:ext cx="2084400" cy="561960"/>
            </a:xfrm>
            <a:prstGeom prst="pie">
              <a:avLst/>
            </a:prstGeom>
            <a:solidFill>
              <a:srgbClr val="8080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Tahoma"/>
                </a:rPr>
                <a:t>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470560" y="1341360"/>
              <a:ext cx="352908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istributed-data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219640" y="5084640"/>
              <a:ext cx="1260360" cy="1224000"/>
            </a:xfrm>
            <a:prstGeom prst="can">
              <a:avLst>
                <a:gd name="adj" fmla="val 25000"/>
              </a:avLst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Dat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(</a:t>
              </a:r>
              <a:r>
                <a:rPr b="0" lang="en-US" sz="2000" spc="-1" strike="noStrike">
                  <a:solidFill>
                    <a:srgbClr val="fc0128"/>
                  </a:solidFill>
                  <a:latin typeface="Tahoma"/>
                </a:rPr>
                <a:t>ECMWF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554880" y="5084640"/>
              <a:ext cx="1260360" cy="1224000"/>
            </a:xfrm>
            <a:prstGeom prst="can">
              <a:avLst>
                <a:gd name="adj" fmla="val 25000"/>
              </a:avLst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Dat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(</a:t>
              </a:r>
              <a:r>
                <a:rPr b="0" lang="en-US" sz="2000" spc="-1" strike="noStrike">
                  <a:solidFill>
                    <a:srgbClr val="fc0128"/>
                  </a:solidFill>
                  <a:latin typeface="Tahoma"/>
                </a:rPr>
                <a:t>NCEP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885080" y="5084640"/>
              <a:ext cx="1260360" cy="1224000"/>
            </a:xfrm>
            <a:prstGeom prst="can">
              <a:avLst>
                <a:gd name="adj" fmla="val 25000"/>
              </a:avLst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Dat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(other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6" name=""/>
            <p:cNvGrpSpPr/>
            <p:nvPr/>
          </p:nvGrpSpPr>
          <p:grpSpPr>
            <a:xfrm>
              <a:off x="5830920" y="4797360"/>
              <a:ext cx="1008000" cy="360000"/>
              <a:chOff x="5830920" y="4797360"/>
              <a:chExt cx="1008000" cy="360000"/>
            </a:xfrm>
          </p:grpSpPr>
          <p:sp>
            <p:nvSpPr>
              <p:cNvPr id="137" name=""/>
              <p:cNvSpPr/>
              <p:nvPr/>
            </p:nvSpPr>
            <p:spPr>
              <a:xfrm flipV="1">
                <a:off x="5830920" y="5013000"/>
                <a:ext cx="0" cy="144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5830920" y="5013360"/>
                <a:ext cx="10080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 flipV="1">
                <a:off x="6838920" y="4797360"/>
                <a:ext cx="0" cy="216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0" name=""/>
            <p:cNvGrpSpPr/>
            <p:nvPr/>
          </p:nvGrpSpPr>
          <p:grpSpPr>
            <a:xfrm>
              <a:off x="7488360" y="4797360"/>
              <a:ext cx="1008000" cy="360000"/>
              <a:chOff x="7488360" y="4797360"/>
              <a:chExt cx="1008000" cy="360000"/>
            </a:xfrm>
          </p:grpSpPr>
          <p:sp>
            <p:nvSpPr>
              <p:cNvPr id="141" name=""/>
              <p:cNvSpPr/>
              <p:nvPr/>
            </p:nvSpPr>
            <p:spPr>
              <a:xfrm flipV="1">
                <a:off x="8496360" y="5013000"/>
                <a:ext cx="0" cy="144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 flipH="1">
                <a:off x="7488360" y="5013360"/>
                <a:ext cx="10080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 flipV="1">
                <a:off x="7488360" y="4797360"/>
                <a:ext cx="0" cy="216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4" name=""/>
            <p:cNvSpPr/>
            <p:nvPr/>
          </p:nvSpPr>
          <p:spPr>
            <a:xfrm flipV="1">
              <a:off x="7199280" y="4797360"/>
              <a:ext cx="0" cy="432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276720" y="5661000"/>
              <a:ext cx="2017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 Narrow Bold"/>
                </a:rPr>
                <a:t>Data Provider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1476360" y="152280"/>
            <a:ext cx="7667640" cy="457200"/>
          </a:xfrm>
          <a:prstGeom prst="rect">
            <a:avLst/>
          </a:prstGeom>
          <a:solidFill>
            <a:srgbClr val="95d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438560" y="152280"/>
            <a:ext cx="325548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 Narrow Bold"/>
              </a:rPr>
              <a:t>Downscaling Method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68160" y="0"/>
            <a:ext cx="351000" cy="5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809640" y="228600"/>
            <a:ext cx="561960" cy="304920"/>
          </a:xfrm>
          <a:custGeom>
            <a:avLst/>
            <a:gdLst>
              <a:gd name="textAreaLeft" fmla="*/ 0 w 561960"/>
              <a:gd name="textAreaRight" fmla="*/ 562320 w 56196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971640" y="692280"/>
            <a:ext cx="817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 Bold"/>
              </a:rPr>
              <a:t>One of the main goals of the portal is including AS MANY </a:t>
            </a:r>
            <a:r>
              <a:rPr b="1" lang="en-US" sz="2000" spc="-1" strike="noStrike">
                <a:solidFill>
                  <a:srgbClr val="000099"/>
                </a:solidFill>
                <a:latin typeface="Arial Narrow Bold"/>
              </a:rPr>
              <a:t>downscaling methods</a:t>
            </a:r>
            <a:r>
              <a:rPr b="0" lang="en-US" sz="2000" spc="-1" strike="noStrike">
                <a:solidFill>
                  <a:srgbClr val="000000"/>
                </a:solidFill>
                <a:latin typeface="Arial Narrow Bold"/>
              </a:rPr>
              <a:t> AS POSSIB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042920" y="1557360"/>
            <a:ext cx="2448000" cy="195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 Narrow Bold"/>
              </a:rPr>
              <a:t>Weather </a:t>
            </a:r>
            <a:br>
              <a:rPr sz="2000"/>
            </a:b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 Narrow Bold"/>
              </a:rPr>
              <a:t>Typ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 Bold"/>
              </a:rPr>
              <a:t>Analog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 Bold"/>
              </a:rPr>
              <a:t>K-Mea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 Bold"/>
              </a:rPr>
              <a:t>Self Org. ma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726000" y="1557360"/>
            <a:ext cx="2573280" cy="195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 Narrow Bold"/>
              </a:rPr>
              <a:t>Regression Metho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 Bold"/>
              </a:rPr>
              <a:t>Linea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 Bold"/>
              </a:rPr>
              <a:t>Neural Ne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 Bold"/>
              </a:rPr>
              <a:t>C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551640" y="1557360"/>
            <a:ext cx="2340000" cy="195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 Narrow Bold"/>
              </a:rPr>
              <a:t>Weather Genera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 Bold"/>
              </a:rPr>
              <a:t>Markov Chai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 Bold"/>
              </a:rPr>
              <a:t>Stochastic Mod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 Bold"/>
              </a:rPr>
              <a:t>Bayesian Ne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1042920" y="3573360"/>
            <a:ext cx="4724640" cy="290520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5796000" y="4221000"/>
            <a:ext cx="3132000" cy="15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 Bold"/>
              </a:rPr>
              <a:t>Perfect-Prog </a:t>
            </a:r>
            <a:r>
              <a:rPr b="0" lang="en-US" sz="2000" spc="-1" strike="noStrike">
                <a:solidFill>
                  <a:srgbClr val="000099"/>
                </a:solidFill>
                <a:latin typeface="Arial Narrow Bold"/>
              </a:rPr>
              <a:t>validation</a:t>
            </a:r>
            <a:r>
              <a:rPr b="0" lang="en-US" sz="2000" spc="-1" strike="noStrike">
                <a:solidFill>
                  <a:srgbClr val="000000"/>
                </a:solidFill>
                <a:latin typeface="Arial Narrow Bold"/>
              </a:rPr>
              <a:t> using reanalysis dat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 Bold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Arial Narrow Bold"/>
              </a:rPr>
              <a:t>Error estimation associated with the downscaling method</a:t>
            </a:r>
            <a:r>
              <a:rPr b="0" lang="en-US" sz="2000" spc="-1" strike="noStrike">
                <a:solidFill>
                  <a:srgbClr val="000000"/>
                </a:solidFill>
                <a:latin typeface="Arial Narrow Bold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476360" y="152280"/>
            <a:ext cx="7667640" cy="457200"/>
          </a:xfrm>
          <a:prstGeom prst="rect">
            <a:avLst/>
          </a:prstGeom>
          <a:solidFill>
            <a:srgbClr val="95d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527480" y="152280"/>
            <a:ext cx="201492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 u="sng">
                <a:solidFill>
                  <a:srgbClr val="fc0128"/>
                </a:solidFill>
                <a:uFillTx/>
                <a:latin typeface="Arial Narrow Bold"/>
              </a:rPr>
              <a:t>LIVE DEMO !!!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68160" y="0"/>
            <a:ext cx="351000" cy="5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09640" y="228600"/>
            <a:ext cx="561960" cy="304920"/>
          </a:xfrm>
          <a:custGeom>
            <a:avLst/>
            <a:gdLst>
              <a:gd name="textAreaLeft" fmla="*/ 0 w 561960"/>
              <a:gd name="textAreaRight" fmla="*/ 562320 w 56196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195640" y="1197000"/>
            <a:ext cx="5538600" cy="527508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2028240" y="620640"/>
            <a:ext cx="5916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fc0128"/>
                </a:solidFill>
                <a:uFillTx/>
                <a:latin typeface="Arial Narrow Bold"/>
                <a:hlinkClick r:id="rId3"/>
              </a:rPr>
              <a:t>http</a:t>
            </a:r>
            <a:r>
              <a:rPr b="0" lang="es-ES" sz="2400" spc="-1" strike="noStrike" u="sng">
                <a:solidFill>
                  <a:srgbClr val="fc0128"/>
                </a:solidFill>
                <a:uFillTx/>
                <a:latin typeface="Arial Narrow Bold"/>
                <a:hlinkClick r:id="rId4"/>
              </a:rPr>
              <a:t>://</a:t>
            </a:r>
            <a:r>
              <a:rPr b="0" lang="es-ES" sz="2400" spc="-1" strike="noStrike" u="sng">
                <a:solidFill>
                  <a:srgbClr val="fc0128"/>
                </a:solidFill>
                <a:uFillTx/>
                <a:latin typeface="Arial Narrow Bold"/>
                <a:hlinkClick r:id="rId5"/>
              </a:rPr>
              <a:t>www.meteo.unican.es</a:t>
            </a:r>
            <a:r>
              <a:rPr b="0" lang="es-ES" sz="2400" spc="-1" strike="noStrike" u="sng">
                <a:solidFill>
                  <a:srgbClr val="fc0128"/>
                </a:solidFill>
                <a:uFillTx/>
                <a:latin typeface="Arial Narrow Bold"/>
                <a:hlinkClick r:id="rId6"/>
              </a:rPr>
              <a:t>/</a:t>
            </a:r>
            <a:r>
              <a:rPr b="0" lang="es-ES" sz="2400" spc="-1" strike="noStrike" u="sng">
                <a:solidFill>
                  <a:srgbClr val="fc0128"/>
                </a:solidFill>
                <a:uFillTx/>
                <a:latin typeface="Arial Narrow Bold"/>
                <a:hlinkClick r:id="rId7"/>
              </a:rPr>
              <a:t>ensem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546200" y="620640"/>
            <a:ext cx="7418520" cy="46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03040" indent="-20304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A first operational version of the portal would be released in September 2007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03040" indent="-203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03040" indent="-20304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Open to the research community (preserving restrictions from data providers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03040" indent="-20304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03040" indent="-20304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Look for users and data providers to extend the portal to other world regio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03040" indent="-20304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03040" indent="-20304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alibration of Mode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03040" indent="-20304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03040" indent="-20304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The GRID technology will </a:t>
            </a:r>
            <a:br>
              <a:rPr sz="2000"/>
            </a:b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provide access to </a:t>
            </a:r>
            <a:br>
              <a:rPr sz="2000"/>
            </a:b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distributed resources </a:t>
            </a:r>
            <a:br>
              <a:rPr sz="2000"/>
            </a:b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allowing to share compute</a:t>
            </a:r>
            <a:br>
              <a:rPr sz="2000"/>
            </a:b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and storage resourc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476360" y="152280"/>
            <a:ext cx="7667640" cy="457200"/>
          </a:xfrm>
          <a:prstGeom prst="rect">
            <a:avLst/>
          </a:prstGeom>
          <a:solidFill>
            <a:srgbClr val="95d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68160" y="0"/>
            <a:ext cx="351000" cy="5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09640" y="228600"/>
            <a:ext cx="561960" cy="304920"/>
          </a:xfrm>
          <a:custGeom>
            <a:avLst/>
            <a:gdLst>
              <a:gd name="textAreaLeft" fmla="*/ 0 w 561960"/>
              <a:gd name="textAreaRight" fmla="*/ 562320 w 56196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436760" y="152280"/>
            <a:ext cx="187164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200" spc="-1" strike="noStrike" u="sng">
                <a:solidFill>
                  <a:srgbClr val="000000"/>
                </a:solidFill>
                <a:uFillTx/>
                <a:latin typeface="Arial Narrow Bold"/>
              </a:rPr>
              <a:t>Near Futu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1403280" y="5300640"/>
            <a:ext cx="2016360" cy="85572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5076720" y="3174840"/>
            <a:ext cx="4067280" cy="291816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2124000" y="6165720"/>
            <a:ext cx="62658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430200" indent="-324000">
              <a:lnSpc>
                <a:spcPct val="90000"/>
              </a:lnSpc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E-infrastructure shared Between Europe and Latin Amer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5T23:33:59Z</dcterms:created>
  <dc:creator>pepe</dc:creator>
  <dc:description/>
  <dc:language>en-US</dc:language>
  <cp:lastModifiedBy>Antonio S. Cofiño Gonzalez</cp:lastModifiedBy>
  <cp:lastPrinted>2000-02-10T14:47:33Z</cp:lastPrinted>
  <dcterms:modified xsi:type="dcterms:W3CDTF">2007-06-06T08:48:00Z</dcterms:modified>
  <cp:revision>475</cp:revision>
  <dc:subject/>
  <dc:title>Sin título de diapositiva</dc:title>
</cp:coreProperties>
</file>