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473-B1D7-46D4-8BEC-C02EE3DF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808-6C73-4037-B2EC-E0490F70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494-B5A7-40A6-B1BA-4536DA6B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A1A-3133-40B8-9D1C-034C830C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C59-CBE4-47D1-9983-89FA0C44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1A8F-67C6-472F-B314-2296A4B4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3788-274F-4711-83F6-D46529AA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81B-3A4B-47A0-B4A5-BEC5C76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AA2-B148-432D-8BD3-7A01077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D622-69FE-414F-A6D8-2C757DB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47C6-080F-46E8-ABDF-C24C6C4C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F53-CB88-46B0-A80D-B0725F4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49EF-CF4B-42E5-8406-5BE9740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7875-CA88-4662-B036-089FD32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3377-583B-4109-B89E-105BAF6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072A-BBC0-4F76-8019-4F5AF3DC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FD3F-5367-4A24-886B-586A87C0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0898-C634-4AD6-97E1-BDA43EAC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CA3D-1416-41DF-B4B8-FA344616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0E8F-BEE8-4DD7-8CF9-488BAA4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01FA-7EF3-46B8-969F-D080F711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AD11-3F6B-483E-A12E-9817215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C4B-D27E-42FC-93A0-F6EBA14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CE1F-3B54-4D82-9309-5823039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0E41-801A-4A81-900D-126B85E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07FF-37AF-4182-AC27-CAF9ED4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6E3B-E612-42BD-B7B4-CD2D5A9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1812-8C18-4383-AA3F-4FE31378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9DCC-66A2-47A3-BDFD-A563C7E4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577E-B724-42D5-A164-71D28CDD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5E7D-68DA-469D-A615-058F5AF6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F9B0-FF9D-460E-8AB6-5FACFDD5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149C-215D-4993-A8F7-8D22D92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483-7673-4D0C-ACC4-529B2EA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C41F-7C80-4EC6-8100-0AD63854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0A2A-DA9C-4681-A25E-E3F8AEF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B69E-1D0B-49CD-86D5-936A589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A511-1487-40D0-92F7-1E2F69A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8E1A-BA9A-48AB-B402-4BA74E2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AA4D-A44E-4958-83E7-4A04981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636F-00E1-45E4-9AD1-E1572F14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36CE-399F-4E91-A50D-2EA19A71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4458-33C6-435A-899F-F3C11BCC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9337-20C2-4A78-85F6-095DC8EF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735-660A-4FDF-9375-50DEDE42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62EF-B5B1-42F1-8471-734F2366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746E-447F-43B7-AAE4-1ED10D0A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E331-0B27-4AB5-9408-76DDDB5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693B-9CE5-4D3D-87B0-5A5DCAD3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AFC9-2EB5-4633-87A1-F4C18763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AD36-41B3-42FB-A21A-0E884BF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D3F6-BBF7-4281-B3BA-9D202574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4D2B-89C4-4917-88C9-932A038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5933-B76B-4DDC-B730-BC693E7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EECC-1650-4A44-9F37-9527FA7C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9BA-F1C8-4E15-8FF5-6D6FA2E2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A170-177E-403A-B9EB-AE94D87B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56F0-17F0-43B7-AD5D-28C4A705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BC74-37B2-489A-9BA5-6BD5150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5CCB-F585-4DD1-9B0A-3C978DDC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2094-3881-4F49-9B69-BCF8BD2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5F7A-2042-4F89-9FE1-07275E1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AC2AD-A047-41F8-9D14-601175B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F52B9-137A-4DDD-8ED0-62D2369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3FCE-B893-44F7-B11B-CA6A983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BB67-B989-4925-9C64-9F40248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24B-DE9E-4FFA-8F11-A292F43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70BA-6768-4FE3-B260-0452B57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B6CE-89B2-44C5-AF5E-95BCBFB4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7ABE-253F-43AD-BC04-A2847899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2981-6DEF-49F9-BFCB-0E66C28B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3C494-E2B1-41BA-9948-90CB2067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EE25-B3EF-4850-986E-43433F2E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219C-34AB-478B-8907-91D2AD7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C735-BB33-4759-AE2F-8233D68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9C83-6FBA-4155-8E31-EB61E7E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E4BDD-2CD6-40C4-ACBC-9B437EA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83A-D254-4AF2-8459-6430B6C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7BEF-D71F-4ADE-A87A-F2C58B1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41E2-DB00-4752-9558-83A30BE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C7AA-C561-459A-BC95-926A01FA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E45D1-BE33-4577-8342-56C57AA0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ED01-BDDE-4F0A-9014-B2D1171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003-C8FC-4480-9695-D0C8324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3EE-3F99-4811-AB36-5911C99B51F4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750-AA49-4533-8FB2-6D5876FA1FF1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7 Elipse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7 Elipse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8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42E-B256-40DD-8489-9A9CB24B98E7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29BB-C05E-4E32-8120-C7CF773FCCA6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7 Elipse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7 Elipse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8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B55D-E7F8-4F47-AD39-AAFCEB6BBB81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E421-8DA1-479D-B1A9-35A63AB2B197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B4E-45C5-4C5E-8EAF-772613AAC6D4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F14-B2D6-4FD3-AAFE-17D1ED241A82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5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B02-7A3F-4E54-B90D-3C5B7F85A088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AC26-C63C-4AB6-BD58-084301EDD6E7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0E0A-43BC-4AE8-855D-630F31782DAB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347-7E2B-45AC-B619-C9E5BC7A7784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Rectángulo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7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8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9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EF6-D384-4C7E-8E88-2F8C74B69902}" type="datetime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65F-BA72-4B27-840C-F41886EDCAC6}" type="slidenum">
              <a:rPr b="0" lang="es-A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FP datab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Updates since April 2014 and the future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ubtítulo 2"/>
          <p:cNvSpPr/>
          <p:nvPr/>
        </p:nvSpPr>
        <p:spPr>
          <a:xfrm>
            <a:off x="1357200" y="3643200"/>
            <a:ext cx="70326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0e04"/>
                </a:solidFill>
                <a:latin typeface="Gill Sans MT"/>
              </a:rPr>
              <a:t>Ramiro Saurr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Centro de Investigaciones del Mar y la Atmósfera – Universidad de Buenos Aires, CONICET. UMI3351-CNRS-CONICET-UB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Departamento de Ciencias de la Atmósfera y los Océanos (FCEN, UBA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20e04"/>
                </a:solidFill>
                <a:latin typeface="Gill Sans MT"/>
              </a:rPr>
              <a:t>Argentina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320e04"/>
                </a:solidFill>
                <a:latin typeface="Gill Sans MT"/>
              </a:rPr>
              <a:t>with significant input from María Inés Ortiz de Zárate (CIMA) and Pierre-Antoine Bretonniere (IC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50440" y="-360"/>
            <a:ext cx="7083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New us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50440" y="976320"/>
            <a:ext cx="708372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ichi University of Edu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onnam National University (South Korea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mate System Analysis Group (CSAG), University of Cape Town, S. Afri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vision of Climate Research, Tokyo Universi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stitute of Atmospheric Physics, Chinese Academ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AMSTEC, Japan Agency for Marine-Earth Science an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apan Meteorological Agenc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IST, National Institute of Advanced Industrial Science an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uhr-University Bochum, German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outh African Weather Servi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FC Rutherford Appleton Laborato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kyo Marine Research Institu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 University of Toky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dad Nacional Agraria – La Mol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ty of Buenos Aires/CONIC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ty of Venice/CMCC, Bolog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versidad Nacional de la Patagonia – San Juan Bosc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1285920" y="2000160"/>
            <a:ext cx="7673760" cy="3500640"/>
          </a:xfrm>
          <a:prstGeom prst="rect">
            <a:avLst/>
          </a:prstGeom>
          <a:ln w="0">
            <a:noFill/>
          </a:ln>
        </p:spPr>
      </p:pic>
      <p:sp>
        <p:nvSpPr>
          <p:cNvPr id="353" name="Marcador de contenido 3"/>
          <p:cNvSpPr/>
          <p:nvPr/>
        </p:nvSpPr>
        <p:spPr>
          <a:xfrm>
            <a:off x="1428840" y="487440"/>
            <a:ext cx="70833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7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lready some papers published using data from the CHFP database 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ángulo 4" descr=""/>
          <p:cNvPicPr/>
          <p:nvPr/>
        </p:nvPicPr>
        <p:blipFill>
          <a:blip r:embed="rId2"/>
          <a:stretch/>
        </p:blipFill>
        <p:spPr>
          <a:xfrm>
            <a:off x="2657520" y="2962440"/>
            <a:ext cx="3828960" cy="933120"/>
          </a:xfrm>
          <a:prstGeom prst="rect">
            <a:avLst/>
          </a:prstGeom>
          <a:ln w="0">
            <a:noFill/>
          </a:ln>
        </p:spPr>
      </p:pic>
      <p:sp>
        <p:nvSpPr>
          <p:cNvPr id="355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ítulo 1"/>
          <p:cNvSpPr/>
          <p:nvPr/>
        </p:nvSpPr>
        <p:spPr>
          <a:xfrm>
            <a:off x="1327320" y="287280"/>
            <a:ext cx="7494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572314"/>
                </a:solidFill>
                <a:latin typeface="Gill Sans MT"/>
              </a:rPr>
              <a:t>Available models at present: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809800" y="1071720"/>
          <a:ext cx="3048120" cy="519084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RP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CCma-CanCM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CCma-CanC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M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MAM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CMWF-S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loSea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MA/MRI-CG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38GloSe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85GloSea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ROC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PI-ESM-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upda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1520" y="16711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PI-ESM-LR is switching to MPI-ESM-MR (increased resolution), period 1981-2011,  start dates May and November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HMC (Hydrometeorological Centre of Russia) is providing outputs from their model, RHMC SL-AV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CCma-CanCM3 and CCCma-CanCM4 add start dates 2009 and 2010 (in progress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Recent upda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EMBLES data: already at CIMA. We have had some issues related to storage capacity (circa 7 T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s being converted to the SPECS format and will be completed soon. These files will also be part of CHFP by early 2016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300" spc="-1" strike="noStrike">
                <a:solidFill>
                  <a:srgbClr val="572314"/>
                </a:solidFill>
                <a:latin typeface="Gill Sans MT"/>
              </a:rPr>
              <a:t>CHFP files tod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7 Imagen" descr="Summary_2015setpt_ATM_MM.jpg"/>
          <p:cNvPicPr/>
          <p:nvPr/>
        </p:nvPicPr>
        <p:blipFill>
          <a:blip r:embed="rId2"/>
          <a:srcRect l="0" t="0" r="0" b="50005"/>
          <a:stretch/>
        </p:blipFill>
        <p:spPr>
          <a:xfrm>
            <a:off x="466560" y="1928880"/>
            <a:ext cx="8210880" cy="3429000"/>
          </a:xfrm>
          <a:prstGeom prst="rect">
            <a:avLst/>
          </a:prstGeom>
          <a:ln w="0">
            <a:noFill/>
          </a:ln>
        </p:spPr>
      </p:pic>
      <p:sp>
        <p:nvSpPr>
          <p:cNvPr id="334" name="CuadroTexto 3"/>
          <p:cNvSpPr/>
          <p:nvPr/>
        </p:nvSpPr>
        <p:spPr>
          <a:xfrm>
            <a:off x="2001960" y="132408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Surface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CuadroTexto 3"/>
          <p:cNvSpPr/>
          <p:nvPr/>
        </p:nvSpPr>
        <p:spPr>
          <a:xfrm>
            <a:off x="2001960" y="103824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Upper air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7 Imagen" descr="Summary_2015setpt_ATM_MM.jpg"/>
          <p:cNvPicPr/>
          <p:nvPr/>
        </p:nvPicPr>
        <p:blipFill>
          <a:blip r:embed="rId2"/>
          <a:srcRect l="0" t="50005" r="0" b="0"/>
          <a:stretch/>
        </p:blipFill>
        <p:spPr>
          <a:xfrm>
            <a:off x="466560" y="1785960"/>
            <a:ext cx="821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6 Imagen" descr="Summary_2015setpt_ATM_DD.jpg"/>
          <p:cNvPicPr/>
          <p:nvPr/>
        </p:nvPicPr>
        <p:blipFill>
          <a:blip r:embed="rId2"/>
          <a:stretch/>
        </p:blipFill>
        <p:spPr>
          <a:xfrm>
            <a:off x="1071720" y="1420920"/>
            <a:ext cx="7786440" cy="4016160"/>
          </a:xfrm>
          <a:prstGeom prst="rect">
            <a:avLst/>
          </a:prstGeom>
          <a:ln w="0">
            <a:noFill/>
          </a:ln>
        </p:spPr>
      </p:pic>
      <p:sp>
        <p:nvSpPr>
          <p:cNvPr id="340" name="CuadroTexto 3"/>
          <p:cNvSpPr/>
          <p:nvPr/>
        </p:nvSpPr>
        <p:spPr>
          <a:xfrm>
            <a:off x="2001960" y="857160"/>
            <a:ext cx="51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Surface and upper air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dai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6 Imagen" descr="Summary_2015setpt_OCN.jpg"/>
          <p:cNvPicPr/>
          <p:nvPr/>
        </p:nvPicPr>
        <p:blipFill>
          <a:blip r:embed="rId2"/>
          <a:stretch/>
        </p:blipFill>
        <p:spPr>
          <a:xfrm>
            <a:off x="571680" y="1285920"/>
            <a:ext cx="8001000" cy="5357880"/>
          </a:xfrm>
          <a:prstGeom prst="rect">
            <a:avLst/>
          </a:prstGeom>
          <a:ln w="0">
            <a:noFill/>
          </a:ln>
        </p:spPr>
      </p:pic>
      <p:sp>
        <p:nvSpPr>
          <p:cNvPr id="343" name="CuadroTexto 3"/>
          <p:cNvSpPr/>
          <p:nvPr/>
        </p:nvSpPr>
        <p:spPr>
          <a:xfrm>
            <a:off x="2001960" y="78588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Ocean (</a:t>
            </a:r>
            <a:r>
              <a:rPr b="1" lang="es-AR" sz="2400" spc="-1" strike="noStrike">
                <a:solidFill>
                  <a:srgbClr val="ff0000"/>
                </a:solidFill>
                <a:latin typeface="Gill Sans MT"/>
              </a:rPr>
              <a:t>monthly + daily</a:t>
            </a: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3240" y="171360"/>
            <a:ext cx="3462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572314"/>
                </a:solidFill>
                <a:latin typeface="Gill Sans MT"/>
              </a:rPr>
              <a:t>Some statistic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Marcador de pie de página 4"/>
          <p:cNvSpPr/>
          <p:nvPr/>
        </p:nvSpPr>
        <p:spPr>
          <a:xfrm>
            <a:off x="1943280" y="628668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17th WGSIP Meeting,  SHMI, Norrköping,, Sweden. 13 and 14 September 2015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8 CuadroTexto"/>
          <p:cNvSpPr/>
          <p:nvPr/>
        </p:nvSpPr>
        <p:spPr>
          <a:xfrm>
            <a:off x="1071720" y="100008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We had 59 users registered in February 2014. Now we have 93 (+34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ill Sans MT"/>
              </a:rPr>
              <a:t>However, the amount of activity has been lower so far this year compared to 2014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9 Imagen" descr="awstats_2014.jpg"/>
          <p:cNvPicPr/>
          <p:nvPr/>
        </p:nvPicPr>
        <p:blipFill>
          <a:blip r:embed="rId2"/>
          <a:srcRect l="22658" t="36833" r="21877" b="0"/>
          <a:stretch/>
        </p:blipFill>
        <p:spPr>
          <a:xfrm>
            <a:off x="28440" y="2571840"/>
            <a:ext cx="4543560" cy="3682800"/>
          </a:xfrm>
          <a:prstGeom prst="rect">
            <a:avLst/>
          </a:prstGeom>
          <a:ln w="0">
            <a:noFill/>
          </a:ln>
        </p:spPr>
      </p:pic>
      <p:pic>
        <p:nvPicPr>
          <p:cNvPr id="348" name="10 Imagen" descr="awstats_2015.jpg"/>
          <p:cNvPicPr/>
          <p:nvPr/>
        </p:nvPicPr>
        <p:blipFill>
          <a:blip r:embed="rId3"/>
          <a:srcRect l="23438" t="36570" r="22658" b="0"/>
          <a:stretch/>
        </p:blipFill>
        <p:spPr>
          <a:xfrm>
            <a:off x="4572000" y="2543040"/>
            <a:ext cx="4383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0T22:21:20Z</dcterms:created>
  <dc:creator>Ramiro</dc:creator>
  <dc:description/>
  <dc:language>en-US</dc:language>
  <cp:lastModifiedBy>Catherine Michaut</cp:lastModifiedBy>
  <dcterms:modified xsi:type="dcterms:W3CDTF">2015-10-01T08:59:37Z</dcterms:modified>
  <cp:revision>15</cp:revision>
  <dc:subject/>
  <dc:title>Diapositiva 1</dc:title>
</cp:coreProperties>
</file>