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AB5-AEF3-4A65-AD6E-7DD2BA33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064-4D35-4861-86B7-615C7D1C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7A2-0E15-451E-BB57-486A047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267-205E-4410-8377-F475027F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2DD-2E2E-4629-866A-35621ACC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21A1-68B8-434C-848F-31FA62D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67DF-390B-42EA-B3F6-5BF92D29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50E6-AC62-4017-BE90-6C425BB7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BA3-AF36-439B-847C-4394B5DD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A5B2-E128-4B6E-B3FF-529BCF9C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44A-5D8A-489B-8508-9F44451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F6D-8FA4-4947-BEAC-4A9842C5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7F2-65E6-49CA-AB4D-AB6047D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9C6-44D2-4FA1-9959-2E1A81A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7A19-2331-4A78-A0A8-C20ACD3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4DE-BCD6-4DEB-B792-5EC3726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E9C-816B-4126-AE5B-9999626D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A6E5-A8B2-48F4-93DD-933B745E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5BC9-2F7F-4F32-B51D-5C5C40B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489E-0231-40E1-A456-73A2CF9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8B2C-FF70-482E-8E7D-58E3F138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6FBA-715F-498A-B913-4BD7177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CF3-FB28-4997-BF96-AF5186F8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2170-E85A-4537-BC3F-10EB009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DA345-17A6-4B1A-9F49-A248D40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CBDA-26FC-40FD-9968-12371559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0043-96B7-4567-9E31-ABEA83E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9603-90B5-4E70-A977-70885F2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3D24-A761-448B-B80B-083D3D26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BC2E-793F-4B9A-B422-38D72F8A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0733-4644-4B4E-B43D-29065AB7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4BE4-267F-494B-9857-8F98E5BE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1299-77F5-4424-9E17-E6375C74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3B0-1650-4A5A-89D7-E0BCAB0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E664-2D81-4500-8AB7-CFD2E3A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1DB8-764D-46F9-A28A-20DA116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175E-8B42-4CED-A45D-4D97281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915E-D34F-47DC-BF00-5E76870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CB26-BA11-4071-A7B8-CDB320B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F4F9-D641-4560-9A37-EE7565F2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4CEE-DBDE-4011-A419-DFCBF04D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8378-4AC0-412E-B63C-3D682CC7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80C4-8853-4F33-A598-87CBDD4A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FF2F-3B16-4E4A-8258-0812E3BE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D79-BA3E-4A29-934A-B61EAD8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72AE-E7D9-48CD-93F2-DF1F81E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7BAF-5C55-4BD0-B4F6-33DFDB9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27EC-B6AE-40B3-AF7C-6EDD63D8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BCF3-509C-4494-AB3B-73D41ED6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8712-6C79-4D0E-AF3F-C0C25A76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C572-4BB0-4119-AF51-EB8D5F0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7712-768C-414D-A968-CAB54BC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5B6D-2074-4DE6-B4EE-FBFC2B5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228B-1343-4F53-A50A-9867F10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F755-0762-407B-AC7B-A800D33C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67A-66F4-4B30-ACDD-AE23BAA8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5090-D2EB-4511-AE5E-6AD76873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C1DC-F013-4089-B8BC-E9350E0A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0D85-EAC8-44AD-B56C-AA1BEE0A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204E4-29D9-4FC6-8833-A87AF9E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C28B2-EBE3-403B-AAC8-F523F34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DD45-9272-4942-9787-D94F77A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E15C-CC9A-4FC2-BF24-45BF256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8AAD-8BD1-4A95-A445-589FF90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7359-7644-4F44-B530-D1BD8DC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D479-7116-400C-AA28-9A6DC6B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71A-D7F0-4143-8C02-B00808B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6997-4730-4397-B254-23EED20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7967-3DA4-494F-ABAA-4A32464F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0876-1B78-4C64-975B-53150ED7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9AF1-DE17-4AAB-A0E9-615B915A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9C02-4C78-4580-B114-E19FE9FC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BD00-E52D-4379-81AF-018F455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5B729-29A6-4F7B-BFC7-B94AD79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712B-4D1D-49BF-AF36-01C8AAD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F8EF3-E58E-4938-A0B7-3A89AAD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DC71-59BC-4216-822B-ACFF6F0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4D6-E253-4299-A766-1479EB3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025E-F775-4BCE-BE39-A76D88E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2F85-4F8C-46A6-9E53-2063094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F8453-E29F-4139-AAD8-BAC70C1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850CA-F75A-4A68-A65D-7F4FE5DE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BC14-2AB1-42FC-870F-B831C815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C9B-7885-4880-848B-A3097D9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D0B-FBEF-44BD-9B06-FE55DC4FD827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D1E-33F6-4075-A6F7-C6F562D22506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7 Elipse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7 Elipse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8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76C4-6281-4A50-8386-FCD879818D83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5A5-8FE6-457B-B7FA-78D135A6E72E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7 Elipse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7 Elipse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8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2F8-6A9A-4045-B5B6-682D4B935F64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CC7A-D3E5-4B9C-82FD-71F0DE127D7E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C21-82E5-44D1-93B9-BF2BA5B323D9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085F-CC95-4BCD-A0AF-D9DF8618488A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5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1C1-D950-455D-BA17-77A57AC18A47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D47-974D-4F75-B233-60D2EA566C43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4D3-5AF2-4F2D-8DE0-45C39F54B876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9439-21DB-4D63-8865-EB0068261A93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Rectángulo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7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8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9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F47-11DA-48E4-891D-D382F4DD87C0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AD38-E111-4CB3-A92C-6ECB7E48C415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FP datab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Updates since April 2014 and the future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357200" y="3643200"/>
            <a:ext cx="70326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0e04"/>
                </a:solidFill>
                <a:latin typeface="Gill Sans MT"/>
              </a:rPr>
              <a:t>Ramiro Saurr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Centro de Investigaciones del Mar y la Atmósfera – Universidad de Buenos Aires, CONICET. UMI3351-CNRS-CONICET-UB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Departamento de Ciencias de la Atmósfera y los Océanos (FCEN, UBA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Argentina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320e04"/>
                </a:solidFill>
                <a:latin typeface="Gill Sans MT"/>
              </a:rPr>
              <a:t>with significant input from María Inés Ortiz de Zárate (CIMA) and Pierre-Antoine Bretonniere (IC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50440" y="-360"/>
            <a:ext cx="7083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New us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50440" y="976320"/>
            <a:ext cx="708372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ichi University of Edu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onnam National University (South Korea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mate System Analysis Group (CSAG), University of Cape Town, S. Afri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vision of Climate Research, Tokyo Univers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itute of Atmospheric Physics, Chinese Academ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AMSTEC, Japan Agency for Marine-Earth Science an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apan Meteorological Agenc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IST, National Institute of Advanced Industrial Science an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uhr-University Bochum, German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uth African Weather Servi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FC Rutherford Appleton Laborato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kyo Marine Research Institu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University of Tok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dad Nacional Agraria – La Mol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ty of Buenos Aires/CONIC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ty of Venice/CMCC, Bolog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dad Nacional de la Patagonia – San Juan Bosc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1285920" y="2000160"/>
            <a:ext cx="7673760" cy="3500640"/>
          </a:xfrm>
          <a:prstGeom prst="rect">
            <a:avLst/>
          </a:prstGeom>
          <a:ln w="0">
            <a:noFill/>
          </a:ln>
        </p:spPr>
      </p:pic>
      <p:sp>
        <p:nvSpPr>
          <p:cNvPr id="353" name="Marcador de contenido 3"/>
          <p:cNvSpPr/>
          <p:nvPr/>
        </p:nvSpPr>
        <p:spPr>
          <a:xfrm>
            <a:off x="1428840" y="487440"/>
            <a:ext cx="70833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7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lready some papers published using data from the CHFP database 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ángulo 4" descr=""/>
          <p:cNvPicPr/>
          <p:nvPr/>
        </p:nvPicPr>
        <p:blipFill>
          <a:blip r:embed="rId2"/>
          <a:stretch/>
        </p:blipFill>
        <p:spPr>
          <a:xfrm>
            <a:off x="2657520" y="2962440"/>
            <a:ext cx="3828960" cy="933120"/>
          </a:xfrm>
          <a:prstGeom prst="rect">
            <a:avLst/>
          </a:prstGeom>
          <a:ln w="0">
            <a:noFill/>
          </a:ln>
        </p:spPr>
      </p:pic>
      <p:sp>
        <p:nvSpPr>
          <p:cNvPr id="355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ítulo 1"/>
          <p:cNvSpPr/>
          <p:nvPr/>
        </p:nvSpPr>
        <p:spPr>
          <a:xfrm>
            <a:off x="1327320" y="287280"/>
            <a:ext cx="7494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572314"/>
                </a:solidFill>
                <a:latin typeface="Gill Sans MT"/>
              </a:rPr>
              <a:t>Available models at present: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809800" y="1071720"/>
          <a:ext cx="3048120" cy="51908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P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CCma-CanC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CCma-CanC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M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MAM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CMWF-S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loSea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MA/MRI-CG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38GloSe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85GloSe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ROC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PI-ESM-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upda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1520" y="16711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PI-ESM-LR is switching to MPI-ESM-MR (increased resolution), period 1981-2011,  start dates May and November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HMC (Hydrometeorological Centre of Russia) is providing outputs from their model, RHMC SL-AV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CCma-CanCM3 and CCCma-CanCM4 add start dates 2009 and 2010 (in progress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Recent upda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EMBLES data: already at CIMA. We have had some issues related to storage capacity (circa 7 T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s being converted to the SPECS format and will be completed soon. These files will also be part of CHFP by early 2016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CHFP files tod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7 Imagen" descr="Summary_2015setpt_ATM_MM.jpg"/>
          <p:cNvPicPr/>
          <p:nvPr/>
        </p:nvPicPr>
        <p:blipFill>
          <a:blip r:embed="rId2"/>
          <a:srcRect l="0" t="0" r="0" b="50005"/>
          <a:stretch/>
        </p:blipFill>
        <p:spPr>
          <a:xfrm>
            <a:off x="466560" y="1928880"/>
            <a:ext cx="8210880" cy="3429000"/>
          </a:xfrm>
          <a:prstGeom prst="rect">
            <a:avLst/>
          </a:prstGeom>
          <a:ln w="0">
            <a:noFill/>
          </a:ln>
        </p:spPr>
      </p:pic>
      <p:sp>
        <p:nvSpPr>
          <p:cNvPr id="334" name="CuadroTexto 3"/>
          <p:cNvSpPr/>
          <p:nvPr/>
        </p:nvSpPr>
        <p:spPr>
          <a:xfrm>
            <a:off x="2001960" y="132408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Surface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CuadroTexto 3"/>
          <p:cNvSpPr/>
          <p:nvPr/>
        </p:nvSpPr>
        <p:spPr>
          <a:xfrm>
            <a:off x="2001960" y="103824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Upper air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7 Imagen" descr="Summary_2015setpt_ATM_MM.jpg"/>
          <p:cNvPicPr/>
          <p:nvPr/>
        </p:nvPicPr>
        <p:blipFill>
          <a:blip r:embed="rId2"/>
          <a:srcRect l="0" t="50005" r="0" b="0"/>
          <a:stretch/>
        </p:blipFill>
        <p:spPr>
          <a:xfrm>
            <a:off x="466560" y="1785960"/>
            <a:ext cx="821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6 Imagen" descr="Summary_2015setpt_ATM_DD.jpg"/>
          <p:cNvPicPr/>
          <p:nvPr/>
        </p:nvPicPr>
        <p:blipFill>
          <a:blip r:embed="rId2"/>
          <a:stretch/>
        </p:blipFill>
        <p:spPr>
          <a:xfrm>
            <a:off x="1071720" y="1420920"/>
            <a:ext cx="7786440" cy="4016160"/>
          </a:xfrm>
          <a:prstGeom prst="rect">
            <a:avLst/>
          </a:prstGeom>
          <a:ln w="0">
            <a:noFill/>
          </a:ln>
        </p:spPr>
      </p:pic>
      <p:sp>
        <p:nvSpPr>
          <p:cNvPr id="340" name="CuadroTexto 3"/>
          <p:cNvSpPr/>
          <p:nvPr/>
        </p:nvSpPr>
        <p:spPr>
          <a:xfrm>
            <a:off x="2001960" y="857160"/>
            <a:ext cx="51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Surface and upper air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dai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6 Imagen" descr="Summary_2015setpt_OCN.jpg"/>
          <p:cNvPicPr/>
          <p:nvPr/>
        </p:nvPicPr>
        <p:blipFill>
          <a:blip r:embed="rId2"/>
          <a:stretch/>
        </p:blipFill>
        <p:spPr>
          <a:xfrm>
            <a:off x="571680" y="1285920"/>
            <a:ext cx="8001000" cy="5357880"/>
          </a:xfrm>
          <a:prstGeom prst="rect">
            <a:avLst/>
          </a:prstGeom>
          <a:ln w="0">
            <a:noFill/>
          </a:ln>
        </p:spPr>
      </p:pic>
      <p:sp>
        <p:nvSpPr>
          <p:cNvPr id="343" name="CuadroTexto 3"/>
          <p:cNvSpPr/>
          <p:nvPr/>
        </p:nvSpPr>
        <p:spPr>
          <a:xfrm>
            <a:off x="2001960" y="78588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Ocean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 + dai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3240" y="171360"/>
            <a:ext cx="3462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572314"/>
                </a:solidFill>
                <a:latin typeface="Gill Sans MT"/>
              </a:rPr>
              <a:t>Some statistic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8 CuadroTexto"/>
          <p:cNvSpPr/>
          <p:nvPr/>
        </p:nvSpPr>
        <p:spPr>
          <a:xfrm>
            <a:off x="1071720" y="100008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We had 59 users registered in February 2014. Now we have 93 (+34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However, the amount of activity has been lower so far this year compared to 2014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9 Imagen" descr="awstats_2014.jpg"/>
          <p:cNvPicPr/>
          <p:nvPr/>
        </p:nvPicPr>
        <p:blipFill>
          <a:blip r:embed="rId2"/>
          <a:srcRect l="22658" t="36833" r="21877" b="0"/>
          <a:stretch/>
        </p:blipFill>
        <p:spPr>
          <a:xfrm>
            <a:off x="28440" y="2571840"/>
            <a:ext cx="4543560" cy="3682800"/>
          </a:xfrm>
          <a:prstGeom prst="rect">
            <a:avLst/>
          </a:prstGeom>
          <a:ln w="0">
            <a:noFill/>
          </a:ln>
        </p:spPr>
      </p:pic>
      <p:pic>
        <p:nvPicPr>
          <p:cNvPr id="348" name="10 Imagen" descr="awstats_2015.jpg"/>
          <p:cNvPicPr/>
          <p:nvPr/>
        </p:nvPicPr>
        <p:blipFill>
          <a:blip r:embed="rId3"/>
          <a:srcRect l="23438" t="36570" r="22658" b="0"/>
          <a:stretch/>
        </p:blipFill>
        <p:spPr>
          <a:xfrm>
            <a:off x="4572000" y="2543040"/>
            <a:ext cx="4383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22:21:20Z</dcterms:created>
  <dc:creator>Ramiro</dc:creator>
  <dc:description/>
  <dc:language>en-US</dc:language>
  <cp:lastModifiedBy>Catherine Michaut</cp:lastModifiedBy>
  <dcterms:modified xsi:type="dcterms:W3CDTF">2015-10-01T08:59:37Z</dcterms:modified>
  <cp:revision>15</cp:revision>
  <dc:subject/>
  <dc:title>Diapositiva 1</dc:title>
</cp:coreProperties>
</file>