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6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6360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6480" y="698040"/>
            <a:ext cx="464472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6360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FB73D0-AF8F-4066-BDAA-C95CAA7E69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2E6247-F53F-410F-B8A3-ABD1A81E5B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Long year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; core period from mid-2017 to mid-2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Example 1: Intensive observing periods: (i) more observations needed in general, additional value having them in the sa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i) snapshot for higher-quality REANALYSIS (ERA-YOPP) -&gt; useful for verification, process understanding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ii) enables judgement upon value of certain obs for forecasting (OSEs, ie data denial experi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v) aligned with planned MOSAiC campaign (where Polarstern drifts through Arc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ample 2: Dedicated model experiments: OSSEs / OSEs; in NWP context OSSEs are common practice for satellite planning; autonomous gliders under sea ice could be a target in the context of YO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ample 3: Verification effort: baseline skill comparison between current operational 7-day sea-ice forecasts (US Navy; Env. Can.; MyOcean (Europe)) currently being discu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66D5A6-4A70-4405-9C9D-59AF0EFB97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already mentioned ab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embers from all realms on board of steering group; related to idea of "seemless predictio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st compiled with existing data sets that need to be exploited; new (obs AND sim) shall be generated, GT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inly via link to Polar Space Task Group (successor of IPY-Space Task Gro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keholders = "parties interested in success of project"; e.g. northern communities, indigenous people, private sector,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mmer schools, webinars, collab. with APECS / website info, collab. with Polar Educators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urope, NSF/ONR/NOAA (Thomas Jung recently in Washington); maybe there will be calls which explicitly mention of PPP/YO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70064C-D0B0-4938-87FE-71569AD9CA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4A9965-0254-4FAE-A19C-2182870E22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wo aspects that reflect a change of WWR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vironmental prediction, not just weather, e.g. sea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yond the medium range -&gt; bridge to WC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ind of legacy of both (i) the International Polar Year (IPY; 2007/2008) though more focussed on prediction and (ii) THe Observing system Research and Predictability Experiment (THORP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part from carrying on momentum from IPY and THORPEX, why PPP? -&gt;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l. inf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ctober 2009: CAS recommends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establishment of a THORPEX Polar Research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vember 2010: EC-PORS formulates plans for GIPPS, of which PPP is the component up to seasonal and PCPI is the component beyond sea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AE26D6-B822-4262-B5DB-EB6543167F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Here only conventional data, but also true for satellite data and ocean data (Argo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Obs. Difficulties: Harsh environment, sea ice prevents Argos, weak thermal and optical contrast between ice and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57FFD1-C2E3-4B5E-92A5-CF8AE3BABC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left figure shows that current forecasts of year-to-year fluctuations of the September sea-ice extent from 1st July have virtually no s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right figure, based on ensemble-simulations in the "perfect-model" framework, indicate that such predictions could in principle be much more skil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92D9D5-79BB-44CC-9667-B5802F0DBB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th opportunities come ris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agine oil s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how sinking ship (2007 off 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proved environmental predictions urgently needed to meet this growing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l. Info: LLOYDS is a think tank associated with big insurance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A12D2B-2180-4960-B97B-8959136A90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th opportunities come ris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agine oil s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how sinking ship (2007 off 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proved environmental predictions urgently needed to meet this growing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l. Info: LLOYDS is a think tank associated with big insurance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61E101-B879-4CBE-833B-93D28F81497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these experiments (atmosphere-only), the atmosphere was nudged towards the actual evolution (reanalysis) only around the North Pole (solid cir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lours show the percentage forecast error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ror strongly reduced in the Arctic (which is trivial because of the nudging there), but error reductions are also found in mid latitudes, in particular over the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te that this is a conceptual upper limit of the effect because actual improvement of polar forecasts will never be as good as nudging towards the actual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F0D16C-22BF-43D7-BBF1-B9048D54170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st concise summary is the mission statement -&gt; now more concrete: make substantial progress in thes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t very different from lower latitudes, but aspects within subjects quite different (as seen in previous slid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a ice one of main focusses (environmental forecas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mphasis on COUPLED system (incl. data assimilation), ensemble methods: (sufficient spread? Pert. Methods focused on lower latitudes, e.g. moist convection, barocl. instability,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EC7683-9DAF-4DA2-9666-AF3E0D0731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6480" y="69840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already mentioned ab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embers from all realms on board of steering group; related to idea of "seemless predictio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st compiled with existing data sets that need to be exploited; new (obs AND sim) shall be generated, GT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inly via link to Polar Space Task Group (successor of IPY-Space Task Gro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keholders = "parties interested in success of project"; e.g. northern communities, indigenous people, private sector,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mmer schools, webinars, collab. with APECS / website info, collab. with Polar Educators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urope, NSF/ONR/NOAA (Thomas Jung recently in Washington); maybe there will be calls which explicitly mention of PPP/YO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39639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365464-E265-45FD-940B-38A971ECB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AA7F-DD4F-4488-863B-82D4C521C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6CAA-1E16-4C1E-83EF-FA7E191B7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48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D52B-9523-4C09-A474-AF166C717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352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352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4835-904F-4592-82CC-14282526E9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4509-835A-49FB-8B85-AC7E33A4C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C082-AA1F-4827-8B87-A54AC3FBE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2EBC-0AC2-4189-AE42-E6113BDD3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EB7C-F525-4789-8455-C5472C3DC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D3D1-6F83-44A8-9D46-D7A225E99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E35B-34F7-4245-9784-EB1540450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484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5318-EB33-4AF7-991C-FCCF7A331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484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9952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3496-1C9A-4236-B52D-94F92916D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HORPEX WMO"/>
          <p:cNvPicPr/>
          <p:nvPr/>
        </p:nvPicPr>
        <p:blipFill>
          <a:blip r:embed="rId2"/>
          <a:stretch/>
        </p:blipFill>
        <p:spPr>
          <a:xfrm>
            <a:off x="0" y="0"/>
            <a:ext cx="3435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77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57440" indent="-285840">
              <a:spcBef>
                <a:spcPts val="601"/>
              </a:spcBef>
              <a:buClr>
                <a:srgbClr val="077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4" marL="2114640" indent="-285840">
              <a:spcBef>
                <a:spcPts val="601"/>
              </a:spcBef>
              <a:buClr>
                <a:srgbClr val="077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5" marL="21146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6" marL="21146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47676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385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F1E0-5AE1-41DC-8DFF-89B2FB7C18E4}" type="slidenum">
              <a:rPr b="0" lang="en-US" sz="1200" spc="-1" strike="noStrike">
                <a:solidFill>
                  <a:srgbClr val="2b385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5131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43577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43577f"/>
                </a:solidFill>
                <a:latin typeface="Verdana"/>
                <a:ea typeface="Arial"/>
              </a:rPr>
              <a:t>(IPO September 2008)3rd Session -- CAS Management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"/>
          <p:cNvSpPr/>
          <p:nvPr/>
        </p:nvSpPr>
        <p:spPr>
          <a:xfrm rot="16200000">
            <a:off x="-531720" y="5446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W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17520" cy="1289160"/>
          </a:xfrm>
          <a:prstGeom prst="rect">
            <a:avLst/>
          </a:prstGeom>
          <a:ln w="0">
            <a:noFill/>
          </a:ln>
        </p:spPr>
      </p:pic>
      <p:sp>
        <p:nvSpPr>
          <p:cNvPr id="7" name="TextBox 9"/>
          <p:cNvSpPr/>
          <p:nvPr/>
        </p:nvSpPr>
        <p:spPr>
          <a:xfrm rot="16200000">
            <a:off x="-387000" y="5392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ild 4" descr=""/>
          <p:cNvPicPr/>
          <p:nvPr/>
        </p:nvPicPr>
        <p:blipFill>
          <a:blip r:embed="rId1"/>
          <a:stretch/>
        </p:blipFill>
        <p:spPr>
          <a:xfrm>
            <a:off x="609480" y="0"/>
            <a:ext cx="8543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The Polar Prediction Project</a:t>
            </a:r>
            <a:br>
              <a:rPr sz="3600"/>
            </a:b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the</a:t>
            </a:r>
            <a:br>
              <a:rPr sz="24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Year of Polar Predic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46479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isco Doblas-Rey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behalf of the PPP steering group and IC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CREA, IC3, BSC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GSIP17, Norrköping 14 September 201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6553080" y="64771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393B-21D5-457A-A83A-DEF0B787E089}" type="slidenum">
              <a:rPr b="0" lang="en-US" sz="1200" spc="-1" strike="noStrike">
                <a:solidFill>
                  <a:srgbClr val="2b385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feld 1"/>
          <p:cNvSpPr/>
          <p:nvPr/>
        </p:nvSpPr>
        <p:spPr>
          <a:xfrm rot="16200000">
            <a:off x="7815600" y="321228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oto: G. Dieckmann, AW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</a:rPr>
              <a:t>Year of Polar Predic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Group 56" descr=""/>
          <p:cNvPicPr/>
          <p:nvPr/>
        </p:nvPicPr>
        <p:blipFill>
          <a:blip r:embed="rId1"/>
          <a:stretch/>
        </p:blipFill>
        <p:spPr>
          <a:xfrm>
            <a:off x="5297400" y="901800"/>
            <a:ext cx="2109960" cy="56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YOPP_phases_figures_new_v1.pdf"/>
          <p:cNvPicPr/>
          <p:nvPr/>
        </p:nvPicPr>
        <p:blipFill>
          <a:blip r:embed="rId2"/>
          <a:stretch/>
        </p:blipFill>
        <p:spPr>
          <a:xfrm>
            <a:off x="838080" y="1447920"/>
            <a:ext cx="8077320" cy="5155920"/>
          </a:xfrm>
          <a:prstGeom prst="rect">
            <a:avLst/>
          </a:prstGeom>
          <a:ln w="0">
            <a:noFill/>
          </a:ln>
        </p:spPr>
      </p:pic>
      <p:pic>
        <p:nvPicPr>
          <p:cNvPr id="111" name="Bild 7" descr="YOPP_LOGO.pdf"/>
          <p:cNvPicPr/>
          <p:nvPr/>
        </p:nvPicPr>
        <p:blipFill>
          <a:blip r:embed="rId3"/>
          <a:stretch/>
        </p:blipFill>
        <p:spPr>
          <a:xfrm>
            <a:off x="8077320" y="152280"/>
            <a:ext cx="8380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S2S and P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feld 6"/>
          <p:cNvSpPr/>
          <p:nvPr/>
        </p:nvSpPr>
        <p:spPr>
          <a:xfrm>
            <a:off x="-1103400" y="1219320"/>
            <a:ext cx="1197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meetings already took 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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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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1" lang="de-DE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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Arial"/>
              </a:rPr>
              <a:t>Organization of PPP-related event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5" name="Gruppierung 23"/>
          <p:cNvGrpSpPr/>
          <p:nvPr/>
        </p:nvGrpSpPr>
        <p:grpSpPr>
          <a:xfrm>
            <a:off x="838080" y="4267080"/>
            <a:ext cx="4419720" cy="2362320"/>
            <a:chOff x="838080" y="4267080"/>
            <a:chExt cx="4419720" cy="2362320"/>
          </a:xfrm>
        </p:grpSpPr>
        <p:sp>
          <p:nvSpPr>
            <p:cNvPr id="116" name="Rechteck 26"/>
            <p:cNvSpPr/>
            <p:nvPr/>
          </p:nvSpPr>
          <p:spPr>
            <a:xfrm>
              <a:off x="838080" y="4332240"/>
              <a:ext cx="4419720" cy="2297160"/>
            </a:xfrm>
            <a:prstGeom prst="rect">
              <a:avLst/>
            </a:prstGeom>
            <a:solidFill>
              <a:srgbClr val="12bfff">
                <a:alpha val="10000"/>
              </a:srgbClr>
            </a:solidFill>
            <a:ln w="9360">
              <a:solidFill>
                <a:srgbClr val="7f7f7f"/>
              </a:solidFill>
              <a:round/>
            </a:ln>
            <a:effectLst>
              <a:outerShdw dist="37950" dir="2584682" blurRad="0" rotWithShape="0">
                <a:srgbClr val="595959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" name="Textfeld 36" descr=""/>
            <p:cNvPicPr/>
            <p:nvPr/>
          </p:nvPicPr>
          <p:blipFill>
            <a:blip r:embed="rId1"/>
            <a:stretch/>
          </p:blipFill>
          <p:spPr>
            <a:xfrm>
              <a:off x="4914000" y="4267080"/>
              <a:ext cx="338760" cy="148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Bild 37" descr="NeilGordon_140409_8932_ASSW Stakeholder Panel Discussion 1.jpg"/>
            <p:cNvPicPr/>
            <p:nvPr/>
          </p:nvPicPr>
          <p:blipFill>
            <a:blip r:embed="rId2"/>
            <a:stretch/>
          </p:blipFill>
          <p:spPr>
            <a:xfrm>
              <a:off x="905040" y="4361760"/>
              <a:ext cx="4023000" cy="218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uppierung 39"/>
          <p:cNvGrpSpPr/>
          <p:nvPr/>
        </p:nvGrpSpPr>
        <p:grpSpPr>
          <a:xfrm>
            <a:off x="4267080" y="4267080"/>
            <a:ext cx="4419720" cy="2362320"/>
            <a:chOff x="4267080" y="4267080"/>
            <a:chExt cx="4419720" cy="2362320"/>
          </a:xfrm>
        </p:grpSpPr>
        <p:sp>
          <p:nvSpPr>
            <p:cNvPr id="120" name="Rechteck 40"/>
            <p:cNvSpPr/>
            <p:nvPr/>
          </p:nvSpPr>
          <p:spPr>
            <a:xfrm>
              <a:off x="4301640" y="4267080"/>
              <a:ext cx="4385160" cy="2362320"/>
            </a:xfrm>
            <a:prstGeom prst="rect">
              <a:avLst/>
            </a:prstGeom>
            <a:solidFill>
              <a:srgbClr val="12bfff">
                <a:alpha val="10000"/>
              </a:srgbClr>
            </a:solidFill>
            <a:ln w="9360">
              <a:solidFill>
                <a:srgbClr val="7f7f7f"/>
              </a:solidFill>
              <a:round/>
            </a:ln>
            <a:effectLst>
              <a:outerShdw dist="37950" dir="2584682" blurRad="0" rotWithShape="0">
                <a:srgbClr val="595959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Bild 41" descr="NeilGordon_140409_8952_Helsinki ASSW Town Hall Panel.jpg"/>
            <p:cNvPicPr/>
            <p:nvPr/>
          </p:nvPicPr>
          <p:blipFill>
            <a:blip r:embed="rId3"/>
            <a:stretch/>
          </p:blipFill>
          <p:spPr>
            <a:xfrm>
              <a:off x="4721040" y="4315680"/>
              <a:ext cx="3879000" cy="223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Textfeld 42" descr=""/>
            <p:cNvPicPr/>
            <p:nvPr/>
          </p:nvPicPr>
          <p:blipFill>
            <a:blip r:embed="rId4"/>
            <a:stretch/>
          </p:blipFill>
          <p:spPr>
            <a:xfrm>
              <a:off x="4267080" y="4858200"/>
              <a:ext cx="41076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itel 1"/>
          <p:cNvSpPr/>
          <p:nvPr/>
        </p:nvSpPr>
        <p:spPr>
          <a:xfrm rot="16200000">
            <a:off x="8115120" y="544788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262626"/>
                </a:solidFill>
                <a:latin typeface="Arial"/>
                <a:ea typeface="Times New Roman"/>
              </a:rPr>
              <a:t>Photos by N. Gor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uppierung 53"/>
          <p:cNvGrpSpPr/>
          <p:nvPr/>
        </p:nvGrpSpPr>
        <p:grpSpPr>
          <a:xfrm>
            <a:off x="304920" y="1752480"/>
            <a:ext cx="4343400" cy="2362320"/>
            <a:chOff x="304920" y="1752480"/>
            <a:chExt cx="4343400" cy="2362320"/>
          </a:xfrm>
        </p:grpSpPr>
        <p:sp>
          <p:nvSpPr>
            <p:cNvPr id="126" name="Rechteck 54"/>
            <p:cNvSpPr/>
            <p:nvPr/>
          </p:nvSpPr>
          <p:spPr>
            <a:xfrm>
              <a:off x="304920" y="1752480"/>
              <a:ext cx="4343400" cy="2320560"/>
            </a:xfrm>
            <a:prstGeom prst="rect">
              <a:avLst/>
            </a:prstGeom>
            <a:solidFill>
              <a:srgbClr val="12bfff">
                <a:alpha val="10000"/>
              </a:srgbClr>
            </a:solidFill>
            <a:ln w="9360">
              <a:solidFill>
                <a:srgbClr val="7f7f7f"/>
              </a:solidFill>
              <a:round/>
            </a:ln>
            <a:effectLst>
              <a:outerShdw dist="37950" dir="2584682" blurRad="0" rotWithShape="0">
                <a:srgbClr val="595959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Bild 55" descr="NeilGordon_131003_2690_SG4 Discussions.jpg"/>
            <p:cNvPicPr/>
            <p:nvPr/>
          </p:nvPicPr>
          <p:blipFill>
            <a:blip r:embed="rId5"/>
            <a:stretch/>
          </p:blipFill>
          <p:spPr>
            <a:xfrm>
              <a:off x="680400" y="1809360"/>
              <a:ext cx="3894480" cy="22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Textfeld 56" descr=""/>
            <p:cNvPicPr/>
            <p:nvPr/>
          </p:nvPicPr>
          <p:blipFill>
            <a:blip r:embed="rId6"/>
            <a:stretch/>
          </p:blipFill>
          <p:spPr>
            <a:xfrm>
              <a:off x="311400" y="2701440"/>
              <a:ext cx="348120" cy="141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uppierung 57"/>
          <p:cNvGrpSpPr/>
          <p:nvPr/>
        </p:nvGrpSpPr>
        <p:grpSpPr>
          <a:xfrm>
            <a:off x="4952880" y="1752480"/>
            <a:ext cx="4749840" cy="2362320"/>
            <a:chOff x="4952880" y="1752480"/>
            <a:chExt cx="4749840" cy="2362320"/>
          </a:xfrm>
        </p:grpSpPr>
        <p:sp>
          <p:nvSpPr>
            <p:cNvPr id="130" name="Rechteck 58"/>
            <p:cNvSpPr/>
            <p:nvPr/>
          </p:nvSpPr>
          <p:spPr>
            <a:xfrm>
              <a:off x="4952880" y="1791360"/>
              <a:ext cx="4726800" cy="2323440"/>
            </a:xfrm>
            <a:prstGeom prst="rect">
              <a:avLst/>
            </a:prstGeom>
            <a:solidFill>
              <a:srgbClr val="12bfff">
                <a:alpha val="10000"/>
              </a:srgbClr>
            </a:solidFill>
            <a:ln w="9360">
              <a:solidFill>
                <a:srgbClr val="7f7f7f"/>
              </a:solidFill>
              <a:round/>
            </a:ln>
            <a:effectLst>
              <a:outerShdw dist="37950" dir="2584682" blurRad="0" rotWithShape="0">
                <a:srgbClr val="595959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Bild 59" descr="NeilGordon_131002_2685_SG4 - Matt Shupe at Science Session.jpg"/>
            <p:cNvPicPr/>
            <p:nvPr/>
          </p:nvPicPr>
          <p:blipFill>
            <a:blip r:embed="rId7"/>
            <a:stretch/>
          </p:blipFill>
          <p:spPr>
            <a:xfrm>
              <a:off x="5025960" y="1896120"/>
              <a:ext cx="4283280" cy="21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Textfeld 60" descr=""/>
            <p:cNvPicPr/>
            <p:nvPr/>
          </p:nvPicPr>
          <p:blipFill>
            <a:blip r:embed="rId8"/>
            <a:stretch/>
          </p:blipFill>
          <p:spPr>
            <a:xfrm>
              <a:off x="9324720" y="1752480"/>
              <a:ext cx="378000" cy="227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uppierung 20"/>
          <p:cNvGrpSpPr/>
          <p:nvPr/>
        </p:nvGrpSpPr>
        <p:grpSpPr>
          <a:xfrm>
            <a:off x="-914400" y="2057400"/>
            <a:ext cx="10667880" cy="3892680"/>
            <a:chOff x="-914400" y="2057400"/>
            <a:chExt cx="10667880" cy="3892680"/>
          </a:xfrm>
        </p:grpSpPr>
        <p:pic>
          <p:nvPicPr>
            <p:cNvPr id="134" name="Bild 22" descr="NeilGordon_141211_1242_5050_Barcelona Linkages Group Photo.jpg"/>
            <p:cNvPicPr/>
            <p:nvPr/>
          </p:nvPicPr>
          <p:blipFill>
            <a:blip r:embed="rId9"/>
            <a:stretch/>
          </p:blipFill>
          <p:spPr>
            <a:xfrm>
              <a:off x="1295280" y="2133360"/>
              <a:ext cx="7010280" cy="38167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35" name="Titel 1"/>
            <p:cNvSpPr/>
            <p:nvPr/>
          </p:nvSpPr>
          <p:spPr>
            <a:xfrm>
              <a:off x="3886200" y="2057400"/>
              <a:ext cx="5867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orksh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"Polar-lower lat. linkages"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itel 1"/>
            <p:cNvSpPr/>
            <p:nvPr/>
          </p:nvSpPr>
          <p:spPr>
            <a:xfrm>
              <a:off x="-914400" y="2057400"/>
              <a:ext cx="5867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arcelo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ec. 20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itel 1"/>
          <p:cNvSpPr/>
          <p:nvPr/>
        </p:nvSpPr>
        <p:spPr>
          <a:xfrm>
            <a:off x="1447920" y="53341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++ slides and audios available at polarprediction.net ++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14040" y="25909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404040"/>
                </a:solidFill>
                <a:latin typeface="Arial"/>
              </a:rPr>
              <a:t>Promote cooperative international research enabling development of improved weather and environmental prediction services for the polar regions, on time scales from hourly to seasona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PPP mission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</a:rPr>
              <a:t>Why?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Textfeld 4"/>
          <p:cNvSpPr/>
          <p:nvPr/>
        </p:nvSpPr>
        <p:spPr>
          <a:xfrm>
            <a:off x="1208880" y="990720"/>
            <a:ext cx="68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Significant gaps in the polar observ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82000" cy="3733920"/>
          </a:xfrm>
          <a:prstGeom prst="rect">
            <a:avLst/>
          </a:prstGeom>
          <a:ln w="0">
            <a:noFill/>
          </a:ln>
        </p:spPr>
      </p:pic>
      <p:sp>
        <p:nvSpPr>
          <p:cNvPr id="61" name="Textfeld 7"/>
          <p:cNvSpPr/>
          <p:nvPr/>
        </p:nvSpPr>
        <p:spPr>
          <a:xfrm>
            <a:off x="914400" y="5952960"/>
            <a:ext cx="7467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</a:rPr>
              <a:t>Polar data coverage of conventional observations in the ECMWF operational analysis on 1 January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feld 8"/>
          <p:cNvSpPr/>
          <p:nvPr/>
        </p:nvSpPr>
        <p:spPr>
          <a:xfrm>
            <a:off x="923040" y="5486400"/>
            <a:ext cx="45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Synop,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IREP</a:t>
            </a: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8000"/>
                </a:solidFill>
                <a:latin typeface="Arial"/>
              </a:rPr>
              <a:t>DRIBU</a:t>
            </a: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TEMP</a:t>
            </a: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PILOT</a:t>
            </a:r>
            <a:r>
              <a:rPr b="1" lang="de-DE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feld 5"/>
          <p:cNvSpPr/>
          <p:nvPr/>
        </p:nvSpPr>
        <p:spPr>
          <a:xfrm>
            <a:off x="6584400" y="6473880"/>
            <a:ext cx="27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. Bauer (ECMW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feld 3"/>
          <p:cNvSpPr/>
          <p:nvPr/>
        </p:nvSpPr>
        <p:spPr>
          <a:xfrm>
            <a:off x="1676520" y="182880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040"/>
                </a:solidFill>
                <a:latin typeface="Arial"/>
              </a:rPr>
              <a:t>Potential versus realized seasonal sea-ice forecasting sk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feld 5"/>
          <p:cNvSpPr/>
          <p:nvPr/>
        </p:nvSpPr>
        <p:spPr>
          <a:xfrm>
            <a:off x="5029200" y="5867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ietsche et al. 2014 </a:t>
            </a:r>
            <a:r>
              <a:rPr b="0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(modifi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Bild 10" descr="Stroeve2014_SIOts.png"/>
          <p:cNvPicPr/>
          <p:nvPr/>
        </p:nvPicPr>
        <p:blipFill>
          <a:blip r:embed="rId1"/>
          <a:srcRect l="6863" t="0" r="0" b="0"/>
          <a:stretch/>
        </p:blipFill>
        <p:spPr>
          <a:xfrm>
            <a:off x="1701720" y="2895480"/>
            <a:ext cx="2408400" cy="3505320"/>
          </a:xfrm>
          <a:prstGeom prst="rect">
            <a:avLst/>
          </a:prstGeom>
          <a:ln w="0">
            <a:noFill/>
          </a:ln>
        </p:spPr>
      </p:pic>
      <p:sp>
        <p:nvSpPr>
          <p:cNvPr id="68" name="Textfeld 5"/>
          <p:cNvSpPr/>
          <p:nvPr/>
        </p:nvSpPr>
        <p:spPr>
          <a:xfrm>
            <a:off x="1600200" y="6477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troeve et al. 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feld 3"/>
          <p:cNvSpPr/>
          <p:nvPr/>
        </p:nvSpPr>
        <p:spPr>
          <a:xfrm>
            <a:off x="1143000" y="2514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04040"/>
                </a:solidFill>
                <a:latin typeface="Arial"/>
              </a:rPr>
              <a:t>SIPN Sea Ice Outl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Bild 14" descr="allmodels_RMSEandACC_alllindetr.pdf"/>
          <p:cNvPicPr/>
          <p:nvPr/>
        </p:nvPicPr>
        <p:blipFill>
          <a:blip r:embed="rId2"/>
          <a:srcRect l="14724" t="37189" r="50820" b="27888"/>
          <a:stretch/>
        </p:blipFill>
        <p:spPr>
          <a:xfrm>
            <a:off x="4800600" y="2971800"/>
            <a:ext cx="3697200" cy="2895480"/>
          </a:xfrm>
          <a:prstGeom prst="rect">
            <a:avLst/>
          </a:prstGeom>
          <a:ln w="0">
            <a:noFill/>
          </a:ln>
        </p:spPr>
      </p:pic>
      <p:sp>
        <p:nvSpPr>
          <p:cNvPr id="71" name="Textfeld 3"/>
          <p:cNvSpPr/>
          <p:nvPr/>
        </p:nvSpPr>
        <p:spPr>
          <a:xfrm>
            <a:off x="914400" y="548640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initialized 1st Ju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feld 3"/>
          <p:cNvSpPr/>
          <p:nvPr/>
        </p:nvSpPr>
        <p:spPr>
          <a:xfrm rot="16200000">
            <a:off x="-90000" y="443376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September sea-ice extent (10</a:t>
            </a:r>
            <a:r>
              <a:rPr b="0" lang="de-DE" sz="1200" spc="-1" strike="noStrike" baseline="30000">
                <a:solidFill>
                  <a:srgbClr val="40404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 km</a:t>
            </a:r>
            <a:r>
              <a:rPr b="0" lang="de-DE" sz="1200" spc="-1" strike="noStrike" baseline="30000">
                <a:solidFill>
                  <a:srgbClr val="40404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" name="Gerade Verbindung mit Pfeil 8"/>
          <p:cNvCxnSpPr/>
          <p:nvPr/>
        </p:nvCxnSpPr>
        <p:spPr>
          <a:xfrm>
            <a:off x="5562360" y="28195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Gerade Verbindung mit Pfeil 23"/>
          <p:cNvCxnSpPr/>
          <p:nvPr/>
        </p:nvCxnSpPr>
        <p:spPr>
          <a:xfrm flipV="1">
            <a:off x="5562360" y="5257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Gerade Verbindung mit Pfeil 25"/>
          <p:cNvCxnSpPr/>
          <p:nvPr/>
        </p:nvCxnSpPr>
        <p:spPr>
          <a:xfrm>
            <a:off x="5562360" y="2971440"/>
            <a:ext cx="108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Textfeld 3"/>
          <p:cNvSpPr/>
          <p:nvPr/>
        </p:nvSpPr>
        <p:spPr>
          <a:xfrm>
            <a:off x="3886200" y="251460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Sept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feld 19"/>
          <p:cNvSpPr/>
          <p:nvPr/>
        </p:nvSpPr>
        <p:spPr>
          <a:xfrm>
            <a:off x="2266200" y="99072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&amp; 2. result in deficient foreca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feld 4"/>
          <p:cNvSpPr/>
          <p:nvPr/>
        </p:nvSpPr>
        <p:spPr>
          <a:xfrm>
            <a:off x="3420000" y="99072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Arctic o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Bild 18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276360" cy="4638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990720" y="2344680"/>
            <a:ext cx="394488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ome statements from the rep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e Arctic is likely to attract substantial investment over the coming decade ($100 b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e environmental consequen-ces of disasters in the Arctic are likely to be worse than in other reg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ignificant knowledge gaps across the Arctic need to be closed urgen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Bild 1" descr="MSexplorer_sinking.png"/>
          <p:cNvPicPr/>
          <p:nvPr/>
        </p:nvPicPr>
        <p:blipFill>
          <a:blip r:embed="rId2"/>
          <a:stretch/>
        </p:blipFill>
        <p:spPr>
          <a:xfrm>
            <a:off x="5638680" y="3962520"/>
            <a:ext cx="33498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feld 5"/>
          <p:cNvSpPr/>
          <p:nvPr/>
        </p:nvSpPr>
        <p:spPr>
          <a:xfrm>
            <a:off x="5486400" y="652464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hoto by Chilean Navy/Reu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feld 4"/>
          <p:cNvSpPr/>
          <p:nvPr/>
        </p:nvSpPr>
        <p:spPr>
          <a:xfrm>
            <a:off x="2386080" y="9907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Antarctic Logistics and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990720" y="2057400"/>
            <a:ext cx="394488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ntarctica is a harsh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Logistical support for research is expensive – more accurate predictions are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ypical cost is USD100k if a flight from NZ to McMurdo Station has to turn around because of unforecast poor weather at McMur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urist expeditions are vulnerable to weather and 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76720" cy="2192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ship_AP81448311294.jpg"/>
          <p:cNvPicPr/>
          <p:nvPr/>
        </p:nvPicPr>
        <p:blipFill>
          <a:blip r:embed="rId2"/>
          <a:stretch/>
        </p:blipFill>
        <p:spPr>
          <a:xfrm>
            <a:off x="5486400" y="3962520"/>
            <a:ext cx="3276720" cy="18493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5410080" y="5791320"/>
            <a:ext cx="34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hoto: Andrew Peacock / www.footloosefotograph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hteck 21"/>
          <p:cNvSpPr/>
          <p:nvPr/>
        </p:nvSpPr>
        <p:spPr>
          <a:xfrm>
            <a:off x="685800" y="1219320"/>
            <a:ext cx="8458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feld 4"/>
          <p:cNvSpPr/>
          <p:nvPr/>
        </p:nvSpPr>
        <p:spPr>
          <a:xfrm>
            <a:off x="2090160" y="990720"/>
            <a:ext cx="51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DE" sz="2400" spc="-1" strike="noStrike">
                <a:solidFill>
                  <a:srgbClr val="262626"/>
                </a:solidFill>
                <a:latin typeface="Arial"/>
              </a:rPr>
              <a:t>Potential for advanced predi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Arial"/>
              </a:rPr>
              <a:t>in middle latit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uppierung 7"/>
          <p:cNvGrpSpPr/>
          <p:nvPr/>
        </p:nvGrpSpPr>
        <p:grpSpPr>
          <a:xfrm>
            <a:off x="704880" y="2362320"/>
            <a:ext cx="8343720" cy="4266720"/>
            <a:chOff x="704880" y="2362320"/>
            <a:chExt cx="8343720" cy="4266720"/>
          </a:xfrm>
        </p:grpSpPr>
        <p:grpSp>
          <p:nvGrpSpPr>
            <p:cNvPr id="94" name="Gruppierung 8"/>
            <p:cNvGrpSpPr/>
            <p:nvPr/>
          </p:nvGrpSpPr>
          <p:grpSpPr>
            <a:xfrm>
              <a:off x="704880" y="2362320"/>
              <a:ext cx="8343720" cy="3638160"/>
              <a:chOff x="704880" y="2362320"/>
              <a:chExt cx="8343720" cy="3638160"/>
            </a:xfrm>
          </p:grpSpPr>
          <p:pic>
            <p:nvPicPr>
              <p:cNvPr id="95" name="Bild 10" descr="rms_maps.png"/>
              <p:cNvPicPr/>
              <p:nvPr/>
            </p:nvPicPr>
            <p:blipFill>
              <a:blip r:embed="rId1"/>
              <a:stretch/>
            </p:blipFill>
            <p:spPr>
              <a:xfrm>
                <a:off x="5790960" y="2937600"/>
                <a:ext cx="2631600" cy="251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Bild 11" descr="rms_maps.png"/>
              <p:cNvPicPr/>
              <p:nvPr/>
            </p:nvPicPr>
            <p:blipFill>
              <a:blip r:embed="rId2"/>
              <a:stretch/>
            </p:blipFill>
            <p:spPr>
              <a:xfrm>
                <a:off x="704880" y="2905560"/>
                <a:ext cx="2647800" cy="252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Bild 12" descr="rms_maps.png"/>
              <p:cNvPicPr/>
              <p:nvPr/>
            </p:nvPicPr>
            <p:blipFill>
              <a:blip r:embed="rId3"/>
              <a:stretch/>
            </p:blipFill>
            <p:spPr>
              <a:xfrm>
                <a:off x="3316680" y="2884680"/>
                <a:ext cx="2549880" cy="256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Bild 13" descr="rms_maps.png"/>
              <p:cNvPicPr/>
              <p:nvPr/>
            </p:nvPicPr>
            <p:blipFill>
              <a:blip r:embed="rId4"/>
              <a:stretch/>
            </p:blipFill>
            <p:spPr>
              <a:xfrm>
                <a:off x="8457480" y="2362320"/>
                <a:ext cx="591120" cy="363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Textfeld 14"/>
              <p:cNvSpPr/>
              <p:nvPr/>
            </p:nvSpPr>
            <p:spPr>
              <a:xfrm>
                <a:off x="1606680" y="2537640"/>
                <a:ext cx="9014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ay 1-5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Textfeld 15"/>
              <p:cNvSpPr/>
              <p:nvPr/>
            </p:nvSpPr>
            <p:spPr>
              <a:xfrm>
                <a:off x="4140360" y="2537640"/>
                <a:ext cx="10144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ay 6-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feld 16"/>
              <p:cNvSpPr/>
              <p:nvPr/>
            </p:nvSpPr>
            <p:spPr>
              <a:xfrm>
                <a:off x="6554520" y="2537640"/>
                <a:ext cx="11271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ay 11-3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Textfeld 9"/>
            <p:cNvSpPr/>
            <p:nvPr/>
          </p:nvSpPr>
          <p:spPr>
            <a:xfrm>
              <a:off x="853200" y="6321960"/>
              <a:ext cx="325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404040"/>
                  </a:solidFill>
                  <a:latin typeface="Arial"/>
                </a:rPr>
                <a:t>Jung et al. (2014), Geophys. Res. Let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feld 20"/>
          <p:cNvSpPr/>
          <p:nvPr/>
        </p:nvSpPr>
        <p:spPr>
          <a:xfrm>
            <a:off x="5730480" y="632448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7f7f7f"/>
                </a:solidFill>
                <a:latin typeface="Arial"/>
              </a:rPr>
              <a:t>Source: PPP Implementation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W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" descr="PPP_Goals.pdf"/>
          <p:cNvPicPr/>
          <p:nvPr/>
        </p:nvPicPr>
        <p:blipFill>
          <a:blip r:embed="rId1"/>
          <a:stretch/>
        </p:blipFill>
        <p:spPr>
          <a:xfrm>
            <a:off x="1219320" y="838080"/>
            <a:ext cx="7483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el 1"/>
          <p:cNvSpPr/>
          <p:nvPr/>
        </p:nvSpPr>
        <p:spPr>
          <a:xfrm>
            <a:off x="914400" y="152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04040"/>
                </a:solidFill>
                <a:latin typeface="Arial"/>
                <a:ea typeface="Times New Roman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feld 6"/>
          <p:cNvSpPr/>
          <p:nvPr/>
        </p:nvSpPr>
        <p:spPr>
          <a:xfrm>
            <a:off x="1210680" y="1219320"/>
            <a:ext cx="7316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Strong Linkages with Other Initia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ngthen Linkages Between Academi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Institutions and Operational Cen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and Exploit Special Research Data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Link with Space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Promote Interaction and Communication Between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and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Foster Education and Outr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★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Zapf Dingbats"/>
              </a:rPr>
              <a:t>Link with Funding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01:56Z</dcterms:created>
  <dc:creator>David Burridge</dc:creator>
  <dc:description/>
  <dc:language>en-US</dc:language>
  <cp:lastModifiedBy>Catherine Michaut</cp:lastModifiedBy>
  <cp:lastPrinted>2012-04-11T07:16:48Z</cp:lastPrinted>
  <dcterms:modified xsi:type="dcterms:W3CDTF">2015-10-01T08:35:02Z</dcterms:modified>
  <cp:revision>1205</cp:revision>
  <dc:subject>EC presentation</dc:subject>
  <dc:title>TIGGE - June 2008</dc:title>
</cp:coreProperties>
</file>