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jpeg" ContentType="image/jpeg"/>
  <Override PartName="/ppt/media/image25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10.wmf" ContentType="image/x-wmf"/>
  <Override PartName="/ppt/media/image2.png" ContentType="image/png"/>
  <Override PartName="/ppt/media/image32.png" ContentType="image/png"/>
  <Override PartName="/ppt/media/image7.png" ContentType="image/png"/>
  <Override PartName="/ppt/media/image15.wmf" ContentType="image/x-wmf"/>
  <Override PartName="/ppt/media/image30.png" ContentType="image/png"/>
  <Override PartName="/ppt/media/image37.jpeg" ContentType="image/jpeg"/>
  <Override PartName="/ppt/media/image13.png" ContentType="image/png"/>
  <Override PartName="/ppt/media/image36.wmf" ContentType="image/x-wmf"/>
  <Override PartName="/ppt/media/image40.png" ContentType="image/png"/>
  <Override PartName="/ppt/media/image12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8.jpeg" ContentType="image/jpeg"/>
  <Override PartName="/ppt/media/image8.png" ContentType="image/png"/>
  <Override PartName="/ppt/media/image39.jpeg" ContentType="image/jpeg"/>
  <Override PartName="/ppt/media/image5.png" ContentType="image/png"/>
  <Override PartName="/ppt/media/image3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0D3D-1A6C-4CF7-97C9-404BBD28AF5A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F42A-E7B7-4406-A4E1-AFEDD7FEAE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3887640" y="792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3887640" y="8707320"/>
            <a:ext cx="2970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0" y="8707320"/>
            <a:ext cx="2970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0" y="792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:a 40-50% förbättring med ”perfekt progno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Upp till 20% förbättring genom förbättrad kalibrering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3887640" y="792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3887640" y="8707320"/>
            <a:ext cx="2970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0" y="8707320"/>
            <a:ext cx="2970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0" y="792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:a 40-50% förbättring med ”perfekt progno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Upp till 20% förbättring genom förbättrad kalibrering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3887640" y="792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3887640" y="8707320"/>
            <a:ext cx="2970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0" y="8707320"/>
            <a:ext cx="2970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0" y="792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:a 40-50% förbättring med ”perfekt progno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Upp till 20% förbättring genom förbättrad kalibrering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A14B1C7-0F32-45DF-990D-5A78E8B66D4B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2EC0FC1-1467-4060-82BE-20E0743DA9CC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B9262F3-1A06-46EF-AF55-05824C3E681A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124115D-C124-41DD-BDEA-9847D45BB260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887640" y="792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"/>
          <p:cNvSpPr/>
          <p:nvPr/>
        </p:nvSpPr>
        <p:spPr>
          <a:xfrm>
            <a:off x="3887640" y="8707320"/>
            <a:ext cx="2970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0" y="8707320"/>
            <a:ext cx="2970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"/>
          <p:cNvSpPr/>
          <p:nvPr/>
        </p:nvSpPr>
        <p:spPr>
          <a:xfrm>
            <a:off x="0" y="792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a 40-50% förbättring med ”perfekt progno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 till 20% förbättring genom förbättrad kalibrering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3887640" y="792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3887640" y="8707320"/>
            <a:ext cx="2970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0" y="8707320"/>
            <a:ext cx="2970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5"/>
          <p:cNvSpPr/>
          <p:nvPr/>
        </p:nvSpPr>
        <p:spPr>
          <a:xfrm>
            <a:off x="0" y="792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:a 40-50% förbättring med ”perfekt progno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Upp till 20% förbättring genom förbättrad kalibrering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FD4DE-1B90-42BE-BDB5-2BAFD806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B2EAF-3E84-4114-9DB8-4E09BFD5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F5140-701A-4487-B1B6-0055A967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79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948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79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948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ED7D0-0DA0-4907-82E9-761A3564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F84E4-CD6A-471F-AF64-73436055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2A2F6-AFC5-49E8-BDEA-E25648C6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C98F7-3334-4F59-91C0-F2595BE7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122C0-E773-4EE5-98E7-36CFB335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E4DF6-DF3E-483A-81B7-F85B723F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6720" y="828360"/>
            <a:ext cx="76345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1016E-908D-4FDF-9C4E-F361DDF4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10D0B-169A-4DB5-A0E6-623449B1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EE583-421B-4F60-9015-784F5A61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0BD6A-F85D-490D-A3C1-EC7EEF7D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6EB2B-660B-439D-ADF8-F8FE25B3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02980-B22C-442B-BE45-E8CF655D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B2660-8B97-4A9D-A9AD-1C19066D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379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1948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379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1948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563F2-AF07-4830-AE1F-DC20E729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21368-8DB0-4167-A515-53756EB3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EBC9C-C5A5-4FA2-B8DF-5A77C2B6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BDD597-2147-497C-AC29-8DB4CC61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1BADBD-BFA6-4E87-A9BE-B0F930B3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FE0B17-1A80-4C22-9D0F-FFD4CA46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B9198-01D5-4B73-BA7B-A7BDA010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56720" y="828360"/>
            <a:ext cx="76345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17C201-1955-4E44-A54D-99E9CF81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6F41C-9B68-496F-B7FA-F4D8AE34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78A7D-4566-417B-B1B2-D9FCDD91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3825F3-CACD-4B0B-9F5B-27C99CF6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CF8EF-992A-4897-9AB7-8194CD21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67DCF-618F-4FD0-988F-93612974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379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1948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567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379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1948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1A50A9-36A8-4958-8DF4-3739D68E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9F3217-5627-4A03-B0BB-922DEBC8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9B5D9A-8AAD-4C9F-8C09-2E4D4B9F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0F6C10-5F12-40B5-B27E-7DF90794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DE212-A439-4A1D-B83F-7696587D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F7025C-CB05-439D-9E6B-C1BE2363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67FAEB-B712-4385-B52D-A4F885DC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56720" y="828360"/>
            <a:ext cx="76345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87E2C8-D286-4B1A-9B9F-CBF094F7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E3A7F4-3939-448B-813D-D4E20E8D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747750-EA42-45F0-9EE8-D9CADC07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40DDE0-3B1D-4FDD-A3BB-2244C62D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108444-B67F-459F-9C31-D388F4B4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72129C-8932-432D-ACB0-2DE79FD7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379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1948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567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379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1948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CDFA54-BE58-44CE-ADB5-2B306F4B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C71E9-3F5A-4417-B788-28A12FD7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756720" y="828360"/>
            <a:ext cx="76345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6720" y="828360"/>
            <a:ext cx="76345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6E17F-ED1E-4A26-9FAF-3AB0DE5E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379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1948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7567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379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1948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756720" y="828360"/>
            <a:ext cx="76345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FC9E4-7506-4F59-922B-DA6AB5EC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79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1948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567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79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1948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756720" y="828360"/>
            <a:ext cx="76345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234C8-0828-4AE1-82C6-E2AF02D4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79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1948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567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79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1948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9F13D-6883-4813-8C94-E9DB544F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756720" y="828360"/>
            <a:ext cx="76345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379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1948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7567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379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1948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31640" y="568440"/>
            <a:ext cx="685800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7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ABA3-2F6D-4DC3-A682-D00A3AF0A8F2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431640" y="698400"/>
            <a:ext cx="8278920" cy="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0" descr="SMHI Logotype_svart_new"/>
          <p:cNvPicPr/>
          <p:nvPr/>
        </p:nvPicPr>
        <p:blipFill>
          <a:blip r:embed="rId2"/>
          <a:stretch/>
        </p:blipFill>
        <p:spPr>
          <a:xfrm>
            <a:off x="7783560" y="290520"/>
            <a:ext cx="914400" cy="3668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31280" y="431640"/>
            <a:ext cx="2133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7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1817-6447-4040-8E83-786C24A1F254}" type="datetime">
              <a:rPr b="0" lang="sv-SE" sz="700" spc="-1" strike="noStrike">
                <a:solidFill>
                  <a:srgbClr val="000000"/>
                </a:solidFill>
                <a:latin typeface="Arial Black"/>
              </a:rPr>
              <a:t>26-07-31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431640" y="568440"/>
            <a:ext cx="685800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7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700" spc="-1" strike="noStrike">
                <a:solidFill>
                  <a:srgbClr val="000000"/>
                </a:solidFill>
                <a:latin typeface="Arial Black"/>
              </a:rPr>
              <a:t>Exempel på sidhuvud - ÅÅÅÅ MM DD (Välj Visa, Sidhuvud sidfot för att ändr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7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A0FB-C36F-4ADA-805A-F9857148F6B1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31640" y="698400"/>
            <a:ext cx="8278920" cy="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SMHI Logotype_svart_new"/>
          <p:cNvPicPr/>
          <p:nvPr/>
        </p:nvPicPr>
        <p:blipFill>
          <a:blip r:embed="rId2"/>
          <a:stretch/>
        </p:blipFill>
        <p:spPr>
          <a:xfrm>
            <a:off x="7783560" y="290520"/>
            <a:ext cx="914400" cy="366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dt" idx="6"/>
          </p:nvPr>
        </p:nvSpPr>
        <p:spPr>
          <a:xfrm>
            <a:off x="431280" y="431640"/>
            <a:ext cx="2133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7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FC75-6C2C-448B-869E-F727DB7F9684}" type="datetime">
              <a:rPr b="0" lang="sv-SE" sz="700" spc="-1" strike="noStrike">
                <a:solidFill>
                  <a:srgbClr val="000000"/>
                </a:solidFill>
                <a:latin typeface="Arial Black"/>
              </a:rPr>
              <a:t>26-07-31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431640" y="568440"/>
            <a:ext cx="685800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7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700" spc="-1" strike="noStrike">
                <a:solidFill>
                  <a:srgbClr val="000000"/>
                </a:solidFill>
                <a:latin typeface="Arial Black"/>
              </a:rPr>
              <a:t>Exempel på sidhuvud - ÅÅÅÅ MM DD (Välj Visa, Sidhuvud sidfot för att ändr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7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F0A1-A9F2-42C2-9EA3-82D6039B375E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431640" y="698400"/>
            <a:ext cx="8278920" cy="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SMHI Logotype_svart_new"/>
          <p:cNvPicPr/>
          <p:nvPr/>
        </p:nvPicPr>
        <p:blipFill>
          <a:blip r:embed="rId2"/>
          <a:stretch/>
        </p:blipFill>
        <p:spPr>
          <a:xfrm>
            <a:off x="7783560" y="290520"/>
            <a:ext cx="914400" cy="366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5"/>
          <p:cNvSpPr>
            <a:spLocks noGrp="1"/>
          </p:cNvSpPr>
          <p:nvPr>
            <p:ph type="dt" idx="9"/>
          </p:nvPr>
        </p:nvSpPr>
        <p:spPr>
          <a:xfrm>
            <a:off x="431280" y="431640"/>
            <a:ext cx="2133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7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60DD-50A2-4347-8A61-9C7965D3FB2B}" type="datetime">
              <a:rPr b="0" lang="sv-SE" sz="700" spc="-1" strike="noStrike">
                <a:solidFill>
                  <a:srgbClr val="000000"/>
                </a:solidFill>
                <a:latin typeface="Arial Black"/>
              </a:rPr>
              <a:t>26-07-31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10"/>
          </p:nvPr>
        </p:nvSpPr>
        <p:spPr>
          <a:xfrm>
            <a:off x="431640" y="568440"/>
            <a:ext cx="685800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7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700" spc="-1" strike="noStrike">
                <a:solidFill>
                  <a:srgbClr val="000000"/>
                </a:solidFill>
                <a:latin typeface="Arial Black"/>
              </a:rPr>
              <a:t>Exempel på sidhuvud - ÅÅÅÅ MM DD (Välj Visa, Sidhuvud sidfot för att ändr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1"/>
          </p:nvPr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7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470A-269C-45E2-9FC7-018EDF0291C3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31640" y="698400"/>
            <a:ext cx="8278920" cy="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SMHI Logotype_svart_new"/>
          <p:cNvPicPr/>
          <p:nvPr/>
        </p:nvPicPr>
        <p:blipFill>
          <a:blip r:embed="rId2"/>
          <a:stretch/>
        </p:blipFill>
        <p:spPr>
          <a:xfrm>
            <a:off x="7783560" y="290520"/>
            <a:ext cx="914400" cy="3668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5"/>
          <p:cNvSpPr>
            <a:spLocks noGrp="1"/>
          </p:cNvSpPr>
          <p:nvPr>
            <p:ph type="dt" idx="12"/>
          </p:nvPr>
        </p:nvSpPr>
        <p:spPr>
          <a:xfrm>
            <a:off x="431280" y="431640"/>
            <a:ext cx="2133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7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51E3-2CC9-4190-A069-D4C43CA5427E}" type="datetime">
              <a:rPr b="0" lang="sv-SE" sz="700" spc="-1" strike="noStrike">
                <a:solidFill>
                  <a:srgbClr val="000000"/>
                </a:solidFill>
                <a:latin typeface="Arial Black"/>
              </a:rPr>
              <a:t>26-07-31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ront_white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SMHI Logotype_svart_new"/>
          <p:cNvPicPr/>
          <p:nvPr/>
        </p:nvPicPr>
        <p:blipFill>
          <a:blip r:embed="rId3"/>
          <a:stretch/>
        </p:blipFill>
        <p:spPr>
          <a:xfrm>
            <a:off x="7624800" y="293760"/>
            <a:ext cx="1185840" cy="476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4" descr="fro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SMHI Logotype_white_new"/>
          <p:cNvPicPr/>
          <p:nvPr/>
        </p:nvPicPr>
        <p:blipFill>
          <a:blip r:embed="rId3"/>
          <a:stretch/>
        </p:blipFill>
        <p:spPr>
          <a:xfrm>
            <a:off x="7620120" y="293760"/>
            <a:ext cx="1190520" cy="477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3" descr="front_white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SMHI Logotype_svart_new"/>
          <p:cNvPicPr/>
          <p:nvPr/>
        </p:nvPicPr>
        <p:blipFill>
          <a:blip r:embed="rId3"/>
          <a:stretch/>
        </p:blipFill>
        <p:spPr>
          <a:xfrm>
            <a:off x="7624800" y="293760"/>
            <a:ext cx="1185840" cy="476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3" descr="front_white"/>
          <p:cNvPicPr/>
          <p:nvPr/>
        </p:nvPicPr>
        <p:blipFill>
          <a:blip r:embed="rId4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SMHI Logotype_svart_new"/>
          <p:cNvPicPr/>
          <p:nvPr/>
        </p:nvPicPr>
        <p:blipFill>
          <a:blip r:embed="rId5"/>
          <a:stretch/>
        </p:blipFill>
        <p:spPr>
          <a:xfrm>
            <a:off x="7624800" y="293760"/>
            <a:ext cx="1185840" cy="4762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4" descr="fro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SMHI Logotype_white_new"/>
          <p:cNvPicPr/>
          <p:nvPr/>
        </p:nvPicPr>
        <p:blipFill>
          <a:blip r:embed="rId3"/>
          <a:stretch/>
        </p:blipFill>
        <p:spPr>
          <a:xfrm>
            <a:off x="7620120" y="293760"/>
            <a:ext cx="1190520" cy="4777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18760" y="2962080"/>
            <a:ext cx="82263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Black"/>
              </a:rPr>
              <a:t>Using S2D data to predict spring flood volumes in selected Swedish river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539640" y="4436640"/>
            <a:ext cx="8213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 Black"/>
              </a:rPr>
              <a:t>Kean Fo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6"/>
          <p:cNvSpPr/>
          <p:nvPr/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F2F1-878A-442A-A076-BD87B21CEB58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609480" y="2057040"/>
            <a:ext cx="7772400" cy="41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censed us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End-user has full control over forecasts i.e. frequency of forecasts, lead-time, model setup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Driving data is provided by SM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End-user can use other data sources i.e. their own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Once a year SMHI and the end-users meet to discuss model performance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65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H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3604-4C98-4916-B01E-558B7713F857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65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H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56720" y="1722240"/>
            <a:ext cx="7634520" cy="4485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D:\forecast_regions.png"/>
          <p:cNvPicPr/>
          <p:nvPr/>
        </p:nvPicPr>
        <p:blipFill>
          <a:blip r:embed="rId2"/>
          <a:stretch/>
        </p:blipFill>
        <p:spPr>
          <a:xfrm>
            <a:off x="755640" y="1560600"/>
            <a:ext cx="7632720" cy="48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FF99-FDB1-4BC0-9717-89EC34EAAFA4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0240" y="1055160"/>
            <a:ext cx="410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e Ångerman Rive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6" name="Picture 3" descr="14-1_justerad"/>
          <p:cNvPicPr/>
          <p:nvPr/>
        </p:nvPicPr>
        <p:blipFill>
          <a:blip r:embed="rId1"/>
          <a:stretch/>
        </p:blipFill>
        <p:spPr>
          <a:xfrm>
            <a:off x="4284720" y="806400"/>
            <a:ext cx="4392720" cy="574992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4"/>
          <p:cNvSpPr/>
          <p:nvPr/>
        </p:nvSpPr>
        <p:spPr>
          <a:xfrm>
            <a:off x="755640" y="2565360"/>
            <a:ext cx="333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The hydropower system of the river Ångermanäl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5"/>
          <p:cNvSpPr/>
          <p:nvPr/>
        </p:nvSpPr>
        <p:spPr>
          <a:xfrm>
            <a:off x="7188120" y="1154160"/>
            <a:ext cx="1111320" cy="520560"/>
          </a:xfrm>
          <a:prstGeom prst="ellipse">
            <a:avLst/>
          </a:prstGeom>
          <a:noFill/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7" descr="stalon-pano"/>
          <p:cNvPicPr/>
          <p:nvPr/>
        </p:nvPicPr>
        <p:blipFill>
          <a:blip r:embed="rId2"/>
          <a:stretch/>
        </p:blipFill>
        <p:spPr>
          <a:xfrm>
            <a:off x="569880" y="4167360"/>
            <a:ext cx="3478320" cy="148716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757080" y="828720"/>
            <a:ext cx="763452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Black"/>
              </a:rPr>
              <a:t>I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6"/>
          <p:cNvSpPr/>
          <p:nvPr/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29A2-B13D-45D6-8514-423DAFAA322B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609480" y="2057040"/>
            <a:ext cx="7772400" cy="41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SMHI and Lund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ELFORSK/HUVA - seasoanal forecast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EUPORIAS - improvements to model chain and demonstration prototype (Ångerman ri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PECS - test meteorological seasonal forecasts in an operational context (Ångerman Riv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Ai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Improve forecast perform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Reduce impact of future climat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n forecast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Improve how forecasts are pres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65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Black"/>
              </a:rPr>
              <a:t>Ongoing Researc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692280" y="6902280"/>
            <a:ext cx="19098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165240" y="665280"/>
            <a:ext cx="76341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Reduced ensembl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29"/>
          <p:cNvSpPr/>
          <p:nvPr/>
        </p:nvSpPr>
        <p:spPr>
          <a:xfrm rot="2338800">
            <a:off x="1617480" y="4989600"/>
            <a:ext cx="1176120" cy="38088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6" descr="Hbvgra"/>
          <p:cNvPicPr/>
          <p:nvPr/>
        </p:nvPicPr>
        <p:blipFill>
          <a:blip r:embed="rId1"/>
          <a:stretch/>
        </p:blipFill>
        <p:spPr>
          <a:xfrm>
            <a:off x="3213000" y="4027320"/>
            <a:ext cx="2278080" cy="2729160"/>
          </a:xfrm>
          <a:prstGeom prst="rect">
            <a:avLst/>
          </a:prstGeom>
          <a:ln w="0">
            <a:noFill/>
          </a:ln>
        </p:spPr>
      </p:pic>
      <p:sp>
        <p:nvSpPr>
          <p:cNvPr id="418" name="AutoShape 29"/>
          <p:cNvSpPr/>
          <p:nvPr/>
        </p:nvSpPr>
        <p:spPr>
          <a:xfrm rot="19349400">
            <a:off x="5816520" y="4981320"/>
            <a:ext cx="1176480" cy="38088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3397320" y="3263760"/>
            <a:ext cx="19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6662880" y="1916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2"/>
          <a:stretch/>
        </p:blipFill>
        <p:spPr>
          <a:xfrm>
            <a:off x="5880240" y="2379600"/>
            <a:ext cx="3163680" cy="169704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10"/>
          <p:cNvSpPr/>
          <p:nvPr/>
        </p:nvSpPr>
        <p:spPr>
          <a:xfrm>
            <a:off x="252360" y="1944720"/>
            <a:ext cx="22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istorical time 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ounded Rectangle 15"/>
          <p:cNvSpPr/>
          <p:nvPr/>
        </p:nvSpPr>
        <p:spPr>
          <a:xfrm>
            <a:off x="252360" y="2386080"/>
            <a:ext cx="2273400" cy="2246400"/>
          </a:xfrm>
          <a:prstGeom prst="roundRect">
            <a:avLst>
              <a:gd name="adj" fmla="val 16667"/>
            </a:avLst>
          </a:prstGeom>
          <a:solidFill>
            <a:srgbClr val="fdeb1b"/>
          </a:solidFill>
          <a:ln w="25560">
            <a:solidFill>
              <a:srgbClr val="baa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6"/>
          <p:cNvSpPr/>
          <p:nvPr/>
        </p:nvSpPr>
        <p:spPr>
          <a:xfrm>
            <a:off x="252360" y="2558880"/>
            <a:ext cx="24638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7f3"/>
                </a:solidFill>
                <a:latin typeface="Arial"/>
              </a:rPr>
              <a:t>1961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0" lang="en-US" sz="1200" spc="-1" strike="noStrike">
                <a:solidFill>
                  <a:srgbClr val="f8f7f3"/>
                </a:solidFill>
                <a:latin typeface="Arial"/>
              </a:rPr>
              <a:t>, 1963, 1964, 1965, 1966, 1967, 1968, 1969, 1970, 1971, 1972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1973, 1974</a:t>
            </a:r>
            <a:r>
              <a:rPr b="0" lang="en-US" sz="1200" spc="-1" strike="noStrike">
                <a:solidFill>
                  <a:srgbClr val="f8f7f3"/>
                </a:solidFill>
                <a:latin typeface="Arial"/>
              </a:rPr>
              <a:t>, 1975, 1976, 1977, 1978, 1979, 1980, 1981, 1982, 1983, 1984, 1985, 1986, </a:t>
            </a:r>
            <a:r>
              <a:rPr b="1" lang="en-US" sz="1200" spc="-1" strike="noStrike">
                <a:solidFill>
                  <a:srgbClr val="f8f7f3"/>
                </a:solidFill>
                <a:latin typeface="Arial"/>
              </a:rPr>
              <a:t>1987</a:t>
            </a:r>
            <a:r>
              <a:rPr b="0" lang="en-US" sz="1200" spc="-1" strike="noStrike">
                <a:solidFill>
                  <a:srgbClr val="f8f7f3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8f7f3"/>
                </a:solidFill>
                <a:latin typeface="Arial"/>
              </a:rPr>
              <a:t>1988, 1989, 1990, 1991, 1992, 1993, 1994, 1995, 1996, 1997, 1998, 1999, 2000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f8f7f3"/>
                </a:solidFill>
                <a:latin typeface="Arial"/>
              </a:rPr>
              <a:t>2002, 2003, 2004, 2005, 2006, 2007, 2008,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2009, 2010</a:t>
            </a:r>
            <a:r>
              <a:rPr b="0" lang="en-US" sz="1200" spc="-1" strike="noStrike">
                <a:solidFill>
                  <a:srgbClr val="f8f7f3"/>
                </a:solidFill>
                <a:latin typeface="Arial"/>
              </a:rPr>
              <a:t>,        </a:t>
            </a:r>
            <a:r>
              <a:rPr b="0" lang="en-US" sz="1200" spc="-1" strike="noStrike">
                <a:solidFill>
                  <a:srgbClr val="f8f7f3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8f7f3"/>
                </a:solidFill>
                <a:latin typeface="Arial"/>
              </a:rPr>
              <a:t>2011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31"/>
          <p:cNvSpPr/>
          <p:nvPr/>
        </p:nvSpPr>
        <p:spPr>
          <a:xfrm>
            <a:off x="228600" y="1990800"/>
            <a:ext cx="8642520" cy="32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leconnection Climate Indic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 all years with comparable TCI comb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n HBV with reduced 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8" descr="\\winfs\a001733\Documents\nao_correlation_map.gif"/>
          <p:cNvPicPr/>
          <p:nvPr/>
        </p:nvPicPr>
        <p:blipFill>
          <a:blip r:embed="rId1"/>
          <a:stretch/>
        </p:blipFill>
        <p:spPr>
          <a:xfrm>
            <a:off x="3925800" y="1830240"/>
            <a:ext cx="4726080" cy="221940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2"/>
          <p:cNvSpPr/>
          <p:nvPr/>
        </p:nvSpPr>
        <p:spPr>
          <a:xfrm>
            <a:off x="692280" y="6978600"/>
            <a:ext cx="1909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8280" y="76464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Black"/>
              </a:rPr>
              <a:t>Reduced</a:t>
            </a: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 Black"/>
              </a:rPr>
              <a:t>ensemble</a:t>
            </a: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lang="en-GB" sz="2600" spc="-1" strike="noStrike">
                <a:solidFill>
                  <a:srgbClr val="000000"/>
                </a:solidFill>
                <a:latin typeface="Arial Black"/>
              </a:rPr>
              <a:t>TCI method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0" y="233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4"/>
          <p:cNvSpPr/>
          <p:nvPr/>
        </p:nvSpPr>
        <p:spPr>
          <a:xfrm>
            <a:off x="996840" y="5734080"/>
            <a:ext cx="1605240" cy="1027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na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2887560" y="5975280"/>
            <a:ext cx="1182960" cy="569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0"/>
          <p:cNvSpPr/>
          <p:nvPr/>
        </p:nvSpPr>
        <p:spPr>
          <a:xfrm>
            <a:off x="4475160" y="5734080"/>
            <a:ext cx="2241720" cy="1019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pring f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ume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j-Jun-J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4"/>
          <p:cNvSpPr/>
          <p:nvPr/>
        </p:nvSpPr>
        <p:spPr>
          <a:xfrm>
            <a:off x="4014720" y="6254640"/>
            <a:ext cx="581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8"/>
          <p:cNvSpPr/>
          <p:nvPr/>
        </p:nvSpPr>
        <p:spPr>
          <a:xfrm>
            <a:off x="2428920" y="6242040"/>
            <a:ext cx="581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738360" y="7048440"/>
            <a:ext cx="19094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3201840" y="7048440"/>
            <a:ext cx="283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31280" y="76464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Reduced ensemble: CP method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46080" y="24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1"/>
          <p:cNvSpPr/>
          <p:nvPr/>
        </p:nvSpPr>
        <p:spPr>
          <a:xfrm>
            <a:off x="274680" y="2060640"/>
            <a:ext cx="8642160" cy="25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Circulaion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ily MS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zzy-rule based 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dentify years with similar CP combinations (analogue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un HBV with reduced 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9" descr=""/>
          <p:cNvPicPr/>
          <p:nvPr/>
        </p:nvPicPr>
        <p:blipFill>
          <a:blip r:embed="rId1"/>
          <a:stretch/>
        </p:blipFill>
        <p:spPr>
          <a:xfrm>
            <a:off x="5551560" y="2060640"/>
            <a:ext cx="3365280" cy="2122560"/>
          </a:xfrm>
          <a:prstGeom prst="rect">
            <a:avLst/>
          </a:prstGeom>
          <a:ln w="0">
            <a:noFill/>
          </a:ln>
        </p:spPr>
      </p:pic>
      <p:sp>
        <p:nvSpPr>
          <p:cNvPr id="441" name="AutoShape 4"/>
          <p:cNvSpPr/>
          <p:nvPr/>
        </p:nvSpPr>
        <p:spPr>
          <a:xfrm>
            <a:off x="1042920" y="5327640"/>
            <a:ext cx="1604880" cy="1027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na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7"/>
          <p:cNvSpPr/>
          <p:nvPr/>
        </p:nvSpPr>
        <p:spPr>
          <a:xfrm>
            <a:off x="2933640" y="5568840"/>
            <a:ext cx="1182600" cy="569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0"/>
          <p:cNvSpPr/>
          <p:nvPr/>
        </p:nvSpPr>
        <p:spPr>
          <a:xfrm>
            <a:off x="4521240" y="5327640"/>
            <a:ext cx="2241360" cy="1019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pring f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ume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j-Jun-J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"/>
          <p:cNvSpPr/>
          <p:nvPr/>
        </p:nvSpPr>
        <p:spPr>
          <a:xfrm>
            <a:off x="4060800" y="5848200"/>
            <a:ext cx="581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8"/>
          <p:cNvSpPr/>
          <p:nvPr/>
        </p:nvSpPr>
        <p:spPr>
          <a:xfrm>
            <a:off x="2475000" y="5835600"/>
            <a:ext cx="581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692280" y="6902280"/>
            <a:ext cx="19098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431640" y="836640"/>
            <a:ext cx="76345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Seasonal NWP based forecas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29"/>
          <p:cNvSpPr/>
          <p:nvPr/>
        </p:nvSpPr>
        <p:spPr>
          <a:xfrm rot="2338800">
            <a:off x="1617480" y="4989600"/>
            <a:ext cx="1176120" cy="38088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6" descr="Hbvgra"/>
          <p:cNvPicPr/>
          <p:nvPr/>
        </p:nvPicPr>
        <p:blipFill>
          <a:blip r:embed="rId1"/>
          <a:stretch/>
        </p:blipFill>
        <p:spPr>
          <a:xfrm>
            <a:off x="3213000" y="4027320"/>
            <a:ext cx="2278080" cy="272916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29"/>
          <p:cNvSpPr/>
          <p:nvPr/>
        </p:nvSpPr>
        <p:spPr>
          <a:xfrm rot="19349400">
            <a:off x="5816520" y="4981320"/>
            <a:ext cx="1176480" cy="38088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3397320" y="3263760"/>
            <a:ext cx="19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6662880" y="1916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2"/>
          <a:stretch/>
        </p:blipFill>
        <p:spPr>
          <a:xfrm>
            <a:off x="5880240" y="2379600"/>
            <a:ext cx="3163680" cy="169704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10"/>
          <p:cNvSpPr/>
          <p:nvPr/>
        </p:nvSpPr>
        <p:spPr>
          <a:xfrm>
            <a:off x="509760" y="1947960"/>
            <a:ext cx="22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W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8" descr="global_temp"/>
          <p:cNvPicPr/>
          <p:nvPr/>
        </p:nvPicPr>
        <p:blipFill>
          <a:blip r:embed="rId3"/>
          <a:srcRect l="19687" t="4686" r="15484" b="7626"/>
          <a:stretch/>
        </p:blipFill>
        <p:spPr>
          <a:xfrm>
            <a:off x="977760" y="2387520"/>
            <a:ext cx="1824120" cy="1752840"/>
          </a:xfrm>
          <a:prstGeom prst="rect">
            <a:avLst/>
          </a:prstGeom>
          <a:ln w="0">
            <a:noFill/>
          </a:ln>
        </p:spPr>
      </p:pic>
      <p:grpSp>
        <p:nvGrpSpPr>
          <p:cNvPr id="456" name="Group 16"/>
          <p:cNvGrpSpPr/>
          <p:nvPr/>
        </p:nvGrpSpPr>
        <p:grpSpPr>
          <a:xfrm>
            <a:off x="277920" y="3263760"/>
            <a:ext cx="1068120" cy="1577160"/>
            <a:chOff x="277920" y="3263760"/>
            <a:chExt cx="1068120" cy="1577160"/>
          </a:xfrm>
        </p:grpSpPr>
        <p:pic>
          <p:nvPicPr>
            <p:cNvPr id="457" name="Picture 19" descr="regional_grid"/>
            <p:cNvPicPr/>
            <p:nvPr/>
          </p:nvPicPr>
          <p:blipFill>
            <a:blip r:embed="rId4"/>
            <a:stretch/>
          </p:blipFill>
          <p:spPr>
            <a:xfrm>
              <a:off x="277920" y="3263760"/>
              <a:ext cx="1068120" cy="12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20"/>
            <p:cNvSpPr/>
            <p:nvPr/>
          </p:nvSpPr>
          <p:spPr>
            <a:xfrm>
              <a:off x="363960" y="4533840"/>
              <a:ext cx="88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~100 k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961920" y="6237360"/>
            <a:ext cx="1909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3425760" y="6237360"/>
            <a:ext cx="283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4520" y="77580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ECMWF forecasts in HBV: method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27000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1"/>
          <p:cNvSpPr/>
          <p:nvPr/>
        </p:nvSpPr>
        <p:spPr>
          <a:xfrm>
            <a:off x="498600" y="2025720"/>
            <a:ext cx="8642160" cy="25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CMWF seasonal fore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1 ensembl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ily P and 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→ Bias correction and remapping to HBV gri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un HBV with ECMWF 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1419120" y="5145120"/>
            <a:ext cx="1605240" cy="1027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CM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 och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7"/>
          <p:cNvSpPr/>
          <p:nvPr/>
        </p:nvSpPr>
        <p:spPr>
          <a:xfrm>
            <a:off x="3309840" y="5386320"/>
            <a:ext cx="1182960" cy="569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0"/>
          <p:cNvSpPr/>
          <p:nvPr/>
        </p:nvSpPr>
        <p:spPr>
          <a:xfrm>
            <a:off x="4897440" y="5145120"/>
            <a:ext cx="2241720" cy="1019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pring f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ume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j-Jun-J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4"/>
          <p:cNvSpPr/>
          <p:nvPr/>
        </p:nvSpPr>
        <p:spPr>
          <a:xfrm>
            <a:off x="4437000" y="5665680"/>
            <a:ext cx="581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8"/>
          <p:cNvSpPr/>
          <p:nvPr/>
        </p:nvSpPr>
        <p:spPr>
          <a:xfrm>
            <a:off x="2851200" y="5653080"/>
            <a:ext cx="581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692280" y="6902280"/>
            <a:ext cx="19098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431640" y="677880"/>
            <a:ext cx="76345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Statistical downscaling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9"/>
          <p:cNvSpPr/>
          <p:nvPr/>
        </p:nvSpPr>
        <p:spPr>
          <a:xfrm rot="2338800">
            <a:off x="1617480" y="4989600"/>
            <a:ext cx="1176120" cy="38088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9"/>
          <p:cNvSpPr/>
          <p:nvPr/>
        </p:nvSpPr>
        <p:spPr>
          <a:xfrm rot="19349400">
            <a:off x="5816520" y="4981320"/>
            <a:ext cx="1176480" cy="38088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6662880" y="1916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0"/>
          <p:cNvSpPr/>
          <p:nvPr/>
        </p:nvSpPr>
        <p:spPr>
          <a:xfrm>
            <a:off x="509760" y="1947960"/>
            <a:ext cx="22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W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global_temp"/>
          <p:cNvPicPr/>
          <p:nvPr/>
        </p:nvPicPr>
        <p:blipFill>
          <a:blip r:embed="rId1"/>
          <a:srcRect l="19687" t="4686" r="15484" b="7626"/>
          <a:stretch/>
        </p:blipFill>
        <p:spPr>
          <a:xfrm>
            <a:off x="977760" y="2387520"/>
            <a:ext cx="1824120" cy="1752840"/>
          </a:xfrm>
          <a:prstGeom prst="rect">
            <a:avLst/>
          </a:prstGeom>
          <a:ln w="0">
            <a:noFill/>
          </a:ln>
        </p:spPr>
      </p:pic>
      <p:grpSp>
        <p:nvGrpSpPr>
          <p:cNvPr id="476" name="Group 16"/>
          <p:cNvGrpSpPr/>
          <p:nvPr/>
        </p:nvGrpSpPr>
        <p:grpSpPr>
          <a:xfrm>
            <a:off x="277920" y="3263760"/>
            <a:ext cx="1068120" cy="1577160"/>
            <a:chOff x="277920" y="3263760"/>
            <a:chExt cx="1068120" cy="1577160"/>
          </a:xfrm>
        </p:grpSpPr>
        <p:pic>
          <p:nvPicPr>
            <p:cNvPr id="477" name="Picture 19" descr="regional_grid"/>
            <p:cNvPicPr/>
            <p:nvPr/>
          </p:nvPicPr>
          <p:blipFill>
            <a:blip r:embed="rId2"/>
            <a:stretch/>
          </p:blipFill>
          <p:spPr>
            <a:xfrm>
              <a:off x="277920" y="3263760"/>
              <a:ext cx="1068120" cy="12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Text Box 20"/>
            <p:cNvSpPr/>
            <p:nvPr/>
          </p:nvSpPr>
          <p:spPr>
            <a:xfrm>
              <a:off x="363960" y="4533840"/>
              <a:ext cx="88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~100 k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Text Box 10"/>
          <p:cNvSpPr/>
          <p:nvPr/>
        </p:nvSpPr>
        <p:spPr>
          <a:xfrm>
            <a:off x="3416400" y="3909960"/>
            <a:ext cx="19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V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3" descr="C:\Users\a001733\Pictures\svd1.png"/>
          <p:cNvPicPr/>
          <p:nvPr/>
        </p:nvPicPr>
        <p:blipFill>
          <a:blip r:embed="rId3"/>
          <a:stretch/>
        </p:blipFill>
        <p:spPr>
          <a:xfrm>
            <a:off x="1467000" y="5181480"/>
            <a:ext cx="5806800" cy="1019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5" descr="C:\Users\a001733\Pictures\Computer for Colleges and Careers.png"/>
          <p:cNvPicPr/>
          <p:nvPr/>
        </p:nvPicPr>
        <p:blipFill>
          <a:blip r:embed="rId4"/>
          <a:stretch/>
        </p:blipFill>
        <p:spPr>
          <a:xfrm>
            <a:off x="2755800" y="4543560"/>
            <a:ext cx="3229200" cy="23684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" descr=""/>
          <p:cNvPicPr/>
          <p:nvPr/>
        </p:nvPicPr>
        <p:blipFill>
          <a:blip r:embed="rId5"/>
          <a:srcRect l="8809" t="6796" r="6955" b="9131"/>
          <a:stretch/>
        </p:blipFill>
        <p:spPr>
          <a:xfrm>
            <a:off x="6012000" y="2286000"/>
            <a:ext cx="294768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F851-47B5-4762-9F42-322B06E8BA3E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Porjus idag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45" name="Picture 3" descr="IMG_1102"/>
          <p:cNvPicPr/>
          <p:nvPr/>
        </p:nvPicPr>
        <p:blipFill>
          <a:blip r:embed="rId1"/>
          <a:stretch/>
        </p:blipFill>
        <p:spPr>
          <a:xfrm>
            <a:off x="468360" y="873000"/>
            <a:ext cx="8244000" cy="591192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4"/>
          <p:cNvSpPr/>
          <p:nvPr/>
        </p:nvSpPr>
        <p:spPr>
          <a:xfrm>
            <a:off x="5880960" y="981000"/>
            <a:ext cx="270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Hydropower w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the driving fo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76345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tmospheric variables predictors from NWP (ECMW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ressure fiel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emperature/radiation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Moisture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Observed Seasonal dischage volu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235080" y="677520"/>
            <a:ext cx="76341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Black"/>
              </a:rPr>
              <a:t>Statistical downscaling: </a:t>
            </a: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method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85" name="Group 1"/>
          <p:cNvGrpSpPr/>
          <p:nvPr/>
        </p:nvGrpSpPr>
        <p:grpSpPr>
          <a:xfrm>
            <a:off x="1041480" y="5402160"/>
            <a:ext cx="6608520" cy="1027080"/>
            <a:chOff x="1041480" y="5402160"/>
            <a:chExt cx="6608520" cy="1027080"/>
          </a:xfrm>
        </p:grpSpPr>
        <p:sp>
          <p:nvSpPr>
            <p:cNvPr id="486" name="AutoShape 4"/>
            <p:cNvSpPr/>
            <p:nvPr/>
          </p:nvSpPr>
          <p:spPr>
            <a:xfrm>
              <a:off x="1041480" y="5402160"/>
              <a:ext cx="2370600" cy="1027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In Dece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GCM forec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Jan-Feb-Mar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7"/>
            <p:cNvSpPr/>
            <p:nvPr/>
          </p:nvSpPr>
          <p:spPr>
            <a:xfrm>
              <a:off x="3698640" y="5644440"/>
              <a:ext cx="1182240" cy="5702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SV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10"/>
            <p:cNvSpPr/>
            <p:nvPr/>
          </p:nvSpPr>
          <p:spPr>
            <a:xfrm>
              <a:off x="5285160" y="5402160"/>
              <a:ext cx="2364840" cy="1019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Forec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spring flood volume   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May-Jun-J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14"/>
            <p:cNvSpPr/>
            <p:nvPr/>
          </p:nvSpPr>
          <p:spPr>
            <a:xfrm>
              <a:off x="4825440" y="5923080"/>
              <a:ext cx="58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18"/>
            <p:cNvSpPr/>
            <p:nvPr/>
          </p:nvSpPr>
          <p:spPr>
            <a:xfrm>
              <a:off x="3239280" y="5910840"/>
              <a:ext cx="58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Black"/>
              </a:rPr>
              <a:t>Schematic of the Multi-model prototype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2" name="Rectangle 19"/>
          <p:cNvSpPr/>
          <p:nvPr/>
        </p:nvSpPr>
        <p:spPr>
          <a:xfrm>
            <a:off x="2182680" y="6545160"/>
            <a:ext cx="2826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21"/>
          <p:cNvGrpSpPr/>
          <p:nvPr/>
        </p:nvGrpSpPr>
        <p:grpSpPr>
          <a:xfrm>
            <a:off x="241200" y="3384720"/>
            <a:ext cx="8661600" cy="2415960"/>
            <a:chOff x="241200" y="3384720"/>
            <a:chExt cx="8661600" cy="2415960"/>
          </a:xfrm>
        </p:grpSpPr>
        <p:pic>
          <p:nvPicPr>
            <p:cNvPr id="494" name="Picture 29" descr="Hbvgra"/>
            <p:cNvPicPr/>
            <p:nvPr/>
          </p:nvPicPr>
          <p:blipFill>
            <a:blip r:embed="rId1"/>
            <a:stretch/>
          </p:blipFill>
          <p:spPr>
            <a:xfrm>
              <a:off x="2610360" y="3384720"/>
              <a:ext cx="1237320" cy="140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95" name="Picture 30" descr=""/>
            <p:cNvPicPr/>
            <p:nvPr/>
          </p:nvPicPr>
          <p:blipFill>
            <a:blip r:embed="rId2"/>
            <a:stretch/>
          </p:blipFill>
          <p:spPr>
            <a:xfrm>
              <a:off x="6523560" y="3682080"/>
              <a:ext cx="2379240" cy="166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31" descr="C:\Users\a001733\Pictures\Computer for Colleges and Careers.png"/>
            <p:cNvPicPr/>
            <p:nvPr/>
          </p:nvPicPr>
          <p:blipFill>
            <a:blip r:embed="rId3"/>
            <a:stretch/>
          </p:blipFill>
          <p:spPr>
            <a:xfrm>
              <a:off x="2610360" y="4944960"/>
              <a:ext cx="1237320" cy="855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97" name="AutoShape 29"/>
            <p:cNvSpPr/>
            <p:nvPr/>
          </p:nvSpPr>
          <p:spPr>
            <a:xfrm>
              <a:off x="6019200" y="4423320"/>
              <a:ext cx="430560" cy="176400"/>
            </a:xfrm>
            <a:prstGeom prst="pie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33"/>
            <p:cNvSpPr/>
            <p:nvPr/>
          </p:nvSpPr>
          <p:spPr>
            <a:xfrm>
              <a:off x="241200" y="3384720"/>
              <a:ext cx="1703880" cy="432000"/>
            </a:xfrm>
            <a:prstGeom prst="rect">
              <a:avLst/>
            </a:prstGeom>
            <a:solidFill>
              <a:srgbClr val="3b9cdf"/>
            </a:solidFill>
            <a:ln w="25560">
              <a:solidFill>
                <a:srgbClr val="2971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Climatological ensem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34"/>
            <p:cNvSpPr/>
            <p:nvPr/>
          </p:nvSpPr>
          <p:spPr>
            <a:xfrm>
              <a:off x="248760" y="3964320"/>
              <a:ext cx="1703880" cy="579600"/>
            </a:xfrm>
            <a:prstGeom prst="rect">
              <a:avLst/>
            </a:prstGeom>
            <a:solidFill>
              <a:srgbClr val="3b9cdf"/>
            </a:solidFill>
            <a:ln w="25560">
              <a:solidFill>
                <a:srgbClr val="2971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Reducerad climatological ensem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35"/>
            <p:cNvSpPr/>
            <p:nvPr/>
          </p:nvSpPr>
          <p:spPr>
            <a:xfrm>
              <a:off x="248760" y="4699800"/>
              <a:ext cx="1703880" cy="432000"/>
            </a:xfrm>
            <a:prstGeom prst="rect">
              <a:avLst/>
            </a:prstGeom>
            <a:solidFill>
              <a:srgbClr val="3b9cdf"/>
            </a:solidFill>
            <a:ln w="25560">
              <a:solidFill>
                <a:srgbClr val="2971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S2D ensem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36"/>
            <p:cNvSpPr/>
            <p:nvPr/>
          </p:nvSpPr>
          <p:spPr>
            <a:xfrm>
              <a:off x="241200" y="5368680"/>
              <a:ext cx="1703880" cy="432000"/>
            </a:xfrm>
            <a:prstGeom prst="rect">
              <a:avLst/>
            </a:prstGeom>
            <a:solidFill>
              <a:srgbClr val="3b9cdf"/>
            </a:solidFill>
            <a:ln w="25560">
              <a:solidFill>
                <a:srgbClr val="2971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Snow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29"/>
            <p:cNvSpPr/>
            <p:nvPr/>
          </p:nvSpPr>
          <p:spPr>
            <a:xfrm rot="1587600">
              <a:off x="3974760" y="3637800"/>
              <a:ext cx="538920" cy="217440"/>
            </a:xfrm>
            <a:prstGeom prst="pie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38"/>
            <p:cNvSpPr/>
            <p:nvPr/>
          </p:nvSpPr>
          <p:spPr>
            <a:xfrm>
              <a:off x="4537080" y="3816720"/>
              <a:ext cx="1415520" cy="1526400"/>
            </a:xfrm>
            <a:prstGeom prst="rect">
              <a:avLst/>
            </a:prstGeom>
            <a:solidFill>
              <a:srgbClr val="3b9cdf"/>
            </a:solidFill>
            <a:ln w="25560">
              <a:solidFill>
                <a:srgbClr val="2971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Weighted Multi-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29"/>
            <p:cNvSpPr/>
            <p:nvPr/>
          </p:nvSpPr>
          <p:spPr>
            <a:xfrm>
              <a:off x="2037240" y="3529440"/>
              <a:ext cx="430560" cy="176400"/>
            </a:xfrm>
            <a:prstGeom prst="pie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29"/>
            <p:cNvSpPr/>
            <p:nvPr/>
          </p:nvSpPr>
          <p:spPr>
            <a:xfrm>
              <a:off x="2054520" y="4165920"/>
              <a:ext cx="430560" cy="176400"/>
            </a:xfrm>
            <a:prstGeom prst="pie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29"/>
            <p:cNvSpPr/>
            <p:nvPr/>
          </p:nvSpPr>
          <p:spPr>
            <a:xfrm rot="20663400">
              <a:off x="2054160" y="4673520"/>
              <a:ext cx="430560" cy="176400"/>
            </a:xfrm>
            <a:prstGeom prst="pie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29"/>
            <p:cNvSpPr/>
            <p:nvPr/>
          </p:nvSpPr>
          <p:spPr>
            <a:xfrm>
              <a:off x="2037240" y="5422320"/>
              <a:ext cx="430560" cy="176400"/>
            </a:xfrm>
            <a:prstGeom prst="pie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29"/>
            <p:cNvSpPr/>
            <p:nvPr/>
          </p:nvSpPr>
          <p:spPr>
            <a:xfrm rot="999600">
              <a:off x="2041920" y="4955400"/>
              <a:ext cx="430560" cy="176400"/>
            </a:xfrm>
            <a:prstGeom prst="pie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TextBox 45"/>
          <p:cNvSpPr/>
          <p:nvPr/>
        </p:nvSpPr>
        <p:spPr>
          <a:xfrm>
            <a:off x="2430720" y="3106800"/>
            <a:ext cx="159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Hydrological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46"/>
          <p:cNvSpPr/>
          <p:nvPr/>
        </p:nvSpPr>
        <p:spPr>
          <a:xfrm>
            <a:off x="2529720" y="580068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Statistical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9"/>
          <p:cNvSpPr/>
          <p:nvPr/>
        </p:nvSpPr>
        <p:spPr>
          <a:xfrm rot="1587600">
            <a:off x="3975120" y="4056120"/>
            <a:ext cx="538200" cy="218880"/>
          </a:xfrm>
          <a:prstGeom prst="pie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29"/>
          <p:cNvSpPr/>
          <p:nvPr/>
        </p:nvSpPr>
        <p:spPr>
          <a:xfrm rot="1587600">
            <a:off x="3975120" y="4435560"/>
            <a:ext cx="538200" cy="217440"/>
          </a:xfrm>
          <a:prstGeom prst="pie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29"/>
          <p:cNvSpPr/>
          <p:nvPr/>
        </p:nvSpPr>
        <p:spPr>
          <a:xfrm rot="19338000">
            <a:off x="3974760" y="5401800"/>
            <a:ext cx="538200" cy="217440"/>
          </a:xfrm>
          <a:prstGeom prst="pie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29"/>
          <p:cNvSpPr/>
          <p:nvPr/>
        </p:nvSpPr>
        <p:spPr>
          <a:xfrm rot="19338000">
            <a:off x="3974760" y="5038200"/>
            <a:ext cx="538200" cy="217800"/>
          </a:xfrm>
          <a:prstGeom prst="pie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532720" cy="444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6" name="Rectangle 4"/>
          <p:cNvSpPr/>
          <p:nvPr/>
        </p:nvSpPr>
        <p:spPr>
          <a:xfrm>
            <a:off x="235080" y="677880"/>
            <a:ext cx="76341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Multi-Model Forecast examp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235080" y="677880"/>
            <a:ext cx="76341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Multi-Model Forecast examp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1160" cy="434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35080" y="677520"/>
            <a:ext cx="76341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Forecast example: Initialised 1Jan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431640" y="1844640"/>
            <a:ext cx="8280720" cy="42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8024760" cy="44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35080" y="677520"/>
            <a:ext cx="76341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Forecast example: Initialised 1Jan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35080" y="677520"/>
            <a:ext cx="76341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Forecast example: Initialised 1Apr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431640" y="2097000"/>
            <a:ext cx="8020080" cy="413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527040" y="2060640"/>
            <a:ext cx="8037360" cy="440532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4"/>
          <p:cNvSpPr/>
          <p:nvPr/>
        </p:nvSpPr>
        <p:spPr>
          <a:xfrm>
            <a:off x="235080" y="677880"/>
            <a:ext cx="76341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Forecast example: Initialised 1Ap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9"/>
          <p:cNvSpPr/>
          <p:nvPr/>
        </p:nvSpPr>
        <p:spPr>
          <a:xfrm>
            <a:off x="-284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7736040" cy="610236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4"/>
          <p:cNvSpPr/>
          <p:nvPr/>
        </p:nvSpPr>
        <p:spPr>
          <a:xfrm>
            <a:off x="395280" y="868320"/>
            <a:ext cx="7570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Preliminary find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41" descr=""/>
          <p:cNvPicPr/>
          <p:nvPr/>
        </p:nvPicPr>
        <p:blipFill>
          <a:blip r:embed="rId1"/>
          <a:stretch/>
        </p:blipFill>
        <p:spPr>
          <a:xfrm>
            <a:off x="34920" y="1052640"/>
            <a:ext cx="9105840" cy="568944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2"/>
          <p:cNvSpPr/>
          <p:nvPr/>
        </p:nvSpPr>
        <p:spPr>
          <a:xfrm>
            <a:off x="509760" y="189000"/>
            <a:ext cx="58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sonal hydrological forecasting s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12" descr="SubID_8307235_skill_KGEbeta_vs_Month_and_LeadTime.jpg"/>
          <p:cNvPicPr/>
          <p:nvPr/>
        </p:nvPicPr>
        <p:blipFill>
          <a:blip r:embed="rId2"/>
          <a:stretch/>
        </p:blipFill>
        <p:spPr>
          <a:xfrm>
            <a:off x="5364000" y="1052640"/>
            <a:ext cx="1919520" cy="14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3" name="Picture 20" descr="SubID_9503374_skill_KGEbeta_vs_Month_and_LeadTime.jpg"/>
          <p:cNvPicPr/>
          <p:nvPr/>
        </p:nvPicPr>
        <p:blipFill>
          <a:blip r:embed="rId3"/>
          <a:stretch/>
        </p:blipFill>
        <p:spPr>
          <a:xfrm>
            <a:off x="779400" y="1268280"/>
            <a:ext cx="1920960" cy="14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4" name="Straight Connector 22"/>
          <p:cNvSpPr/>
          <p:nvPr/>
        </p:nvSpPr>
        <p:spPr>
          <a:xfrm flipV="1">
            <a:off x="4535640" y="1052640"/>
            <a:ext cx="828360" cy="57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traight Connector 24"/>
          <p:cNvSpPr/>
          <p:nvPr/>
        </p:nvSpPr>
        <p:spPr>
          <a:xfrm>
            <a:off x="4572000" y="1989000"/>
            <a:ext cx="720720" cy="503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traight Connector 25"/>
          <p:cNvSpPr/>
          <p:nvPr/>
        </p:nvSpPr>
        <p:spPr>
          <a:xfrm>
            <a:off x="755640" y="2708280"/>
            <a:ext cx="360360" cy="649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traight Connector 28"/>
          <p:cNvSpPr/>
          <p:nvPr/>
        </p:nvSpPr>
        <p:spPr>
          <a:xfrm flipH="1">
            <a:off x="2195640" y="2708280"/>
            <a:ext cx="504720" cy="576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2" descr="SubID_9780453_skill_KGEbeta_vs_Month_and_LeadTime.jpg"/>
          <p:cNvPicPr/>
          <p:nvPr/>
        </p:nvPicPr>
        <p:blipFill>
          <a:blip r:embed="rId4"/>
          <a:stretch/>
        </p:blipFill>
        <p:spPr>
          <a:xfrm>
            <a:off x="2556000" y="5229360"/>
            <a:ext cx="1919160" cy="14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9" name="Straight Connector 38"/>
          <p:cNvSpPr/>
          <p:nvPr/>
        </p:nvSpPr>
        <p:spPr>
          <a:xfrm flipH="1">
            <a:off x="2555640" y="4292640"/>
            <a:ext cx="215640" cy="936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traight Connector 48"/>
          <p:cNvSpPr/>
          <p:nvPr/>
        </p:nvSpPr>
        <p:spPr>
          <a:xfrm>
            <a:off x="3492360" y="4365720"/>
            <a:ext cx="1008360" cy="863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0"/>
          <p:cNvSpPr/>
          <p:nvPr/>
        </p:nvSpPr>
        <p:spPr>
          <a:xfrm>
            <a:off x="3708360" y="1628640"/>
            <a:ext cx="1440000" cy="360360"/>
          </a:xfrm>
          <a:prstGeom prst="rect">
            <a:avLst/>
          </a:prstGeom>
          <a:gradFill rotWithShape="0">
            <a:gsLst>
              <a:gs pos="0">
                <a:srgbClr val="ffff00">
                  <a:alpha val="26274"/>
                </a:srgbClr>
              </a:gs>
              <a:gs pos="100000">
                <a:srgbClr val="d5c400">
                  <a:alpha val="26274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1"/>
          <p:cNvSpPr/>
          <p:nvPr/>
        </p:nvSpPr>
        <p:spPr>
          <a:xfrm>
            <a:off x="1116000" y="3284640"/>
            <a:ext cx="863640" cy="360360"/>
          </a:xfrm>
          <a:prstGeom prst="rect">
            <a:avLst/>
          </a:prstGeom>
          <a:gradFill rotWithShape="0">
            <a:gsLst>
              <a:gs pos="0">
                <a:srgbClr val="ffff00">
                  <a:alpha val="26274"/>
                </a:srgbClr>
              </a:gs>
              <a:gs pos="100000">
                <a:srgbClr val="d5c400">
                  <a:alpha val="26274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2"/>
          <p:cNvSpPr/>
          <p:nvPr/>
        </p:nvSpPr>
        <p:spPr>
          <a:xfrm>
            <a:off x="2916360" y="4005360"/>
            <a:ext cx="576000" cy="360360"/>
          </a:xfrm>
          <a:prstGeom prst="rect">
            <a:avLst/>
          </a:prstGeom>
          <a:gradFill rotWithShape="0">
            <a:gsLst>
              <a:gs pos="0">
                <a:srgbClr val="ffff00">
                  <a:alpha val="26274"/>
                </a:srgbClr>
              </a:gs>
              <a:gs pos="100000">
                <a:srgbClr val="d5c400">
                  <a:alpha val="26274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0D84-7EE0-4479-9FEB-B6AC01E15C01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609480" y="2057040"/>
            <a:ext cx="7772400" cy="41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eden is the biggest hydropower producer in the EU and the 10th biggest worldwide (IEA 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ydroelectric capacity 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6 781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 of total installed capacity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2.7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 of total renewable capacity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7.8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nual production (last 10 years) 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73 TW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x. 45% of the country’s total consumed electr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65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Black"/>
              </a:rPr>
              <a:t>Background - Hydropower in Swed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31"/>
          <p:cNvSpPr/>
          <p:nvPr/>
        </p:nvSpPr>
        <p:spPr>
          <a:xfrm>
            <a:off x="250920" y="2205000"/>
            <a:ext cx="864216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Climatological spring flood forecasts are difficult to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or single rivers and forecast dates, a reduction of the forecast error by up to 30% points are attainable by circulation pattern analysis or statistical down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By a weighted multi-model, an overall reduction in forecasted error by almost 10% points are attai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692280" y="6237360"/>
            <a:ext cx="1909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156120" y="6237360"/>
            <a:ext cx="2831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95280" y="867960"/>
            <a:ext cx="757080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Preliminary findings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8" name="Rectangle 9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3" descr=""/>
          <p:cNvPicPr/>
          <p:nvPr/>
        </p:nvPicPr>
        <p:blipFill>
          <a:blip r:embed="rId1"/>
          <a:stretch/>
        </p:blipFill>
        <p:spPr>
          <a:xfrm>
            <a:off x="1481040" y="1247760"/>
            <a:ext cx="6181920" cy="41227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"/>
          <p:cNvPicPr/>
          <p:nvPr/>
        </p:nvPicPr>
        <p:blipFill>
          <a:blip r:embed="rId2"/>
          <a:stretch/>
        </p:blipFill>
        <p:spPr>
          <a:xfrm>
            <a:off x="8010360" y="5638680"/>
            <a:ext cx="11336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2352-B439-4CF2-82AC-55C78A1E639D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09480" y="2057040"/>
            <a:ext cx="7772400" cy="41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hort range forecasts, up to 10 days 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a meteorological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valuable at high flows (flood warnings), and for short term reservoir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ng range forecasts, 1 to 6 months 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matological forecast based on historical precipitation and temperature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valuable for water resources planning and operation of reservo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65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Black"/>
              </a:rPr>
              <a:t>Hydrologic Forecas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692280" y="6902280"/>
            <a:ext cx="19098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165240" y="665280"/>
            <a:ext cx="76341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Climatological ensembl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201600" y="1782720"/>
            <a:ext cx="22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istorical time 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9"/>
          <p:cNvSpPr/>
          <p:nvPr/>
        </p:nvSpPr>
        <p:spPr>
          <a:xfrm rot="2338800">
            <a:off x="1617480" y="4989600"/>
            <a:ext cx="1176120" cy="38088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6" descr="Hbvgra"/>
          <p:cNvPicPr/>
          <p:nvPr/>
        </p:nvPicPr>
        <p:blipFill>
          <a:blip r:embed="rId1"/>
          <a:stretch/>
        </p:blipFill>
        <p:spPr>
          <a:xfrm>
            <a:off x="3213000" y="4027320"/>
            <a:ext cx="2278080" cy="272916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29"/>
          <p:cNvSpPr/>
          <p:nvPr/>
        </p:nvSpPr>
        <p:spPr>
          <a:xfrm rot="19349400">
            <a:off x="5816520" y="4981320"/>
            <a:ext cx="1176480" cy="38088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3397320" y="3263760"/>
            <a:ext cx="19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6662880" y="1916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ounded Rectangle 11"/>
          <p:cNvSpPr/>
          <p:nvPr/>
        </p:nvSpPr>
        <p:spPr>
          <a:xfrm>
            <a:off x="209520" y="2252520"/>
            <a:ext cx="2273400" cy="2246400"/>
          </a:xfrm>
          <a:prstGeom prst="roundRect">
            <a:avLst>
              <a:gd name="adj" fmla="val 16667"/>
            </a:avLst>
          </a:prstGeom>
          <a:solidFill>
            <a:srgbClr val="fdeb1b"/>
          </a:solidFill>
          <a:ln w="25560">
            <a:solidFill>
              <a:srgbClr val="baa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2"/>
          <p:cNvSpPr/>
          <p:nvPr/>
        </p:nvSpPr>
        <p:spPr>
          <a:xfrm>
            <a:off x="209520" y="2374920"/>
            <a:ext cx="22734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1, 1962, 1963, 1964, 1965, 1966, 1967, 1968, 1969, 1970, 1971, 1972, 1973, 1974, 1975, 1976, 1977, 1978, 1979, 1980, 1981, 1982, 1983, 1984, 1985, 1986, 1987, 1988, 1989, 1990, 1991, 1992, 1993, 1994, 1995, 1996, 1997, 1998, 1999, 2000, 2001, 2002, 2003, 2004, 2005, 2006, 2007, 2008, 2009, 2010,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1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5880240" y="2379600"/>
            <a:ext cx="31636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6"/>
          <p:cNvSpPr/>
          <p:nvPr/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98FC-0579-4FBE-AC88-8BCAFB3E7C6B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74760" y="46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Long-range forecast, 0201 - 0731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1"/>
          <a:stretch/>
        </p:blipFill>
        <p:spPr>
          <a:xfrm>
            <a:off x="950760" y="1630440"/>
            <a:ext cx="3278520" cy="21049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"/>
          <p:cNvPicPr/>
          <p:nvPr/>
        </p:nvPicPr>
        <p:blipFill>
          <a:blip r:embed="rId2"/>
          <a:stretch/>
        </p:blipFill>
        <p:spPr>
          <a:xfrm>
            <a:off x="806400" y="3900600"/>
            <a:ext cx="4276800" cy="240804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5"/>
          <p:cNvSpPr/>
          <p:nvPr/>
        </p:nvSpPr>
        <p:spPr>
          <a:xfrm>
            <a:off x="4890960" y="17305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1338480" y="1589040"/>
            <a:ext cx="211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simulated discharge (m</a:t>
            </a:r>
            <a:r>
              <a:rPr b="1" lang="sv-SE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324440" y="4146480"/>
            <a:ext cx="217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accumulated runoff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(86400 m</a:t>
            </a:r>
            <a:r>
              <a:rPr b="1" lang="sv-SE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, 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4818240" y="1946160"/>
            <a:ext cx="2973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Simulations made for February to July with precipitation and temperature series from many different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5270400" y="4468680"/>
            <a:ext cx="311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A statistical analysis is made to estimate the probable runoff volume over the forecast peri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6"/>
          <p:cNvSpPr/>
          <p:nvPr/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3640-2E73-4E31-8A37-E7DCE4CDAA32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6348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Long-range forecasts</a:t>
            </a:r>
            <a:br>
              <a:rPr sz="2600"/>
            </a:br>
            <a:r>
              <a:rPr b="0" lang="sv-SE" sz="1700" spc="-1" strike="noStrike">
                <a:solidFill>
                  <a:srgbClr val="000000"/>
                </a:solidFill>
                <a:latin typeface="Arial Black"/>
              </a:rPr>
              <a:t>the importance of the initial conditions</a:t>
            </a:r>
            <a:endParaRPr b="0" lang="en-US" sz="17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590400" y="1854360"/>
            <a:ext cx="3429000" cy="154116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4"/>
          <p:cNvSpPr/>
          <p:nvPr/>
        </p:nvSpPr>
        <p:spPr>
          <a:xfrm>
            <a:off x="879480" y="1638360"/>
            <a:ext cx="22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now water equivalent (m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2"/>
          <a:stretch/>
        </p:blipFill>
        <p:spPr>
          <a:xfrm>
            <a:off x="374760" y="4013280"/>
            <a:ext cx="4276440" cy="240804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6"/>
          <p:cNvSpPr/>
          <p:nvPr/>
        </p:nvSpPr>
        <p:spPr>
          <a:xfrm>
            <a:off x="892440" y="4259160"/>
            <a:ext cx="217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accumulated runoff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(86400 m</a:t>
            </a:r>
            <a:r>
              <a:rPr b="1" lang="sv-SE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, 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"/>
          <p:cNvPicPr/>
          <p:nvPr/>
        </p:nvPicPr>
        <p:blipFill>
          <a:blip r:embed="rId3"/>
          <a:stretch/>
        </p:blipFill>
        <p:spPr>
          <a:xfrm>
            <a:off x="4859280" y="4221000"/>
            <a:ext cx="3633840" cy="219888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8"/>
          <p:cNvSpPr/>
          <p:nvPr/>
        </p:nvSpPr>
        <p:spPr>
          <a:xfrm>
            <a:off x="5293080" y="4221000"/>
            <a:ext cx="217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accumulated runoff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(86400 m</a:t>
            </a:r>
            <a:r>
              <a:rPr b="1" lang="sv-SE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, 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612000" y="3754440"/>
            <a:ext cx="371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ff"/>
                </a:solidFill>
                <a:latin typeface="Comic Sans MS"/>
              </a:rPr>
              <a:t>Forecast made from 1989-02-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4952520" y="3726000"/>
            <a:ext cx="371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ff"/>
                </a:solidFill>
                <a:latin typeface="Comic Sans MS"/>
              </a:rPr>
              <a:t>Forecast made from 1996-02-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 Black"/>
              </a:rPr>
              <a:t>IHMS – Integrated Hydrological Monitoring System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tshållare för bildnummer 3"/>
          <p:cNvSpPr/>
          <p:nvPr/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9307-D937-4B15-853E-D545DD28713D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785880" y="1895400"/>
            <a:ext cx="6437160" cy="3619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3564000" y="3597120"/>
            <a:ext cx="5256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692280" y="6237360"/>
            <a:ext cx="1909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3156120" y="6237360"/>
            <a:ext cx="2831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7840" y="777600"/>
            <a:ext cx="76341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000000"/>
                </a:solidFill>
                <a:latin typeface="Arial Black"/>
              </a:rPr>
              <a:t>Climatologic ensemble</a:t>
            </a: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: Limitations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692280" y="2489040"/>
          <a:ext cx="6269040" cy="39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489040"/>
                    <a:ext cx="626904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Text Box 10"/>
          <p:cNvSpPr/>
          <p:nvPr/>
        </p:nvSpPr>
        <p:spPr>
          <a:xfrm>
            <a:off x="484200" y="1595520"/>
            <a:ext cx="8642160" cy="9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indent="-17604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Climatologic ensemble </a:t>
            </a:r>
            <a:r>
              <a:rPr b="0" lang="sv-S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Seasonal forecast evolution </a:t>
            </a:r>
            <a:r>
              <a:rPr b="0" lang="sv-SE" sz="1800" spc="-1" strike="noStrike" u="sng">
                <a:solidFill>
                  <a:srgbClr val="000000"/>
                </a:solidFill>
                <a:uFillTx/>
                <a:latin typeface="Arial"/>
              </a:rPr>
              <a:t>follows the climatology of the driving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notable improvement in performance over the last 25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2"/>
          <p:cNvSpPr/>
          <p:nvPr/>
        </p:nvSpPr>
        <p:spPr>
          <a:xfrm>
            <a:off x="1190520" y="3294000"/>
            <a:ext cx="58341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traight Connector 10"/>
          <p:cNvSpPr/>
          <p:nvPr/>
        </p:nvSpPr>
        <p:spPr>
          <a:xfrm>
            <a:off x="1190520" y="5595840"/>
            <a:ext cx="58341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749160" y="6499080"/>
            <a:ext cx="158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Arheimer et al.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4T20:54:03Z</dcterms:created>
  <dc:creator>Kean Foster</dc:creator>
  <dc:description/>
  <dc:language>en-US</dc:language>
  <cp:lastModifiedBy>Catherine Michaut</cp:lastModifiedBy>
  <dcterms:modified xsi:type="dcterms:W3CDTF">2015-10-01T08:40:32Z</dcterms:modified>
  <cp:revision>31</cp:revision>
  <dc:subject/>
  <dc:title>Seasonal Hydrologic Forecasts for the Hydropower Industry</dc:title>
</cp:coreProperties>
</file>