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jpeg" ContentType="image/jpeg"/>
  <Override PartName="/ppt/media/image25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10.wmf" ContentType="image/x-wmf"/>
  <Override PartName="/ppt/media/image2.png" ContentType="image/png"/>
  <Override PartName="/ppt/media/image32.png" ContentType="image/png"/>
  <Override PartName="/ppt/media/image7.png" ContentType="image/png"/>
  <Override PartName="/ppt/media/image15.wmf" ContentType="image/x-wmf"/>
  <Override PartName="/ppt/media/image30.png" ContentType="image/png"/>
  <Override PartName="/ppt/media/image37.jpeg" ContentType="image/jpeg"/>
  <Override PartName="/ppt/media/image13.png" ContentType="image/png"/>
  <Override PartName="/ppt/media/image36.wmf" ContentType="image/x-wmf"/>
  <Override PartName="/ppt/media/image40.png" ContentType="image/png"/>
  <Override PartName="/ppt/media/image12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8.jpeg" ContentType="image/jpeg"/>
  <Override PartName="/ppt/media/image8.png" ContentType="image/png"/>
  <Override PartName="/ppt/media/image39.jpeg" ContentType="image/jpeg"/>
  <Override PartName="/ppt/media/image5.png" ContentType="image/png"/>
  <Override PartName="/ppt/media/image3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E7A7-30B9-43BF-ACC8-F61CE5DB3259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1950-8464-4E37-950A-393185C4E9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3887640" y="792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3887640" y="8707320"/>
            <a:ext cx="2970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0" y="8707320"/>
            <a:ext cx="2970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0" y="792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:a 40-50% förbättring med ”perfekt progno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Upp till 20% förbättring genom förbättrad kalibrering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3887640" y="792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3887640" y="8707320"/>
            <a:ext cx="2970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0" y="8707320"/>
            <a:ext cx="2970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0" y="792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:a 40-50% förbättring med ”perfekt progno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Upp till 20% förbättring genom förbättrad kalibrering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3887640" y="792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3887640" y="8707320"/>
            <a:ext cx="2970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0" y="8707320"/>
            <a:ext cx="2970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0" y="792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:a 40-50% förbättring med ”perfekt progno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Upp till 20% förbättring genom förbättrad kalibrering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BD596B9-3941-4D6F-98A2-F5A5168A9D85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D17211B-E5C7-4476-AA44-13FDE09E92E9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7DBC8A0-D5DF-48D3-B7DE-C10FB4C135F5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92CA416-74C1-494B-BB88-8C6FE14BBDED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887640" y="792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"/>
          <p:cNvSpPr/>
          <p:nvPr/>
        </p:nvSpPr>
        <p:spPr>
          <a:xfrm>
            <a:off x="3887640" y="8707320"/>
            <a:ext cx="2970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0" y="8707320"/>
            <a:ext cx="2970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"/>
          <p:cNvSpPr/>
          <p:nvPr/>
        </p:nvSpPr>
        <p:spPr>
          <a:xfrm>
            <a:off x="0" y="792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a 40-50% förbättring med ”perfekt progno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 till 20% förbättring genom förbättrad kalibrering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3887640" y="792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3887640" y="8707320"/>
            <a:ext cx="2970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0" y="8707320"/>
            <a:ext cx="2970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5"/>
          <p:cNvSpPr/>
          <p:nvPr/>
        </p:nvSpPr>
        <p:spPr>
          <a:xfrm>
            <a:off x="0" y="792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:a 40-50% förbättring med ”perfekt progno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Upp till 20% förbättring genom förbättrad kalibrering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2F49B-4A2D-4496-ABC8-580ABB40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51F55-B4E9-45EA-977F-F1846DBC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38E73-BBB3-45BD-827C-00F8A187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79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948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79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948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0E6EE-520C-4692-A434-AE742385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5D94F-C347-43FD-8430-C9B4893E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BCCC9-3748-42B9-A3F8-512518FB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474A7-01B5-4ABB-B784-FA1249A0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61BD5-2B96-456F-A41B-715FB376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1DEC2-E8B0-4983-978C-E07880A3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6720" y="828360"/>
            <a:ext cx="76345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48914-B064-49E8-A7D8-07DE03E3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704E6-C33D-45E7-9F75-AB2C0DE3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B17E1-B961-4A18-8CF2-35C4BA7E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47F71-AC6E-4DA9-9C6D-37B6AF8C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E3068-08AC-418D-A11A-65E11F52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34A57-FAA3-4A3B-9B7F-D8BB5C16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11505-280A-4DFC-B9B0-656F096E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379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1948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379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1948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41E1C-A27D-4DFF-BE42-CE322FB9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03735-E8BA-4EC3-B335-3FFCB035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3D19A-B4FD-4958-98C7-917290C2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11F320-A38B-42F6-8D15-51F12A5A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52FC3-E0D4-4FCE-9072-37396D37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D028AB-9D5D-4D6C-B96F-04DC7090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0599A-859F-4077-A004-B2C6D649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56720" y="828360"/>
            <a:ext cx="76345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FD6535-6CDC-490E-AC0B-0A14C464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9C217-5C35-4792-9999-B71B483E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1A8F9-95C8-4B83-B0D9-23D881BD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3AC51-7127-4E01-A9E3-A623C338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4DD91-6D10-4C26-A4CC-CA3C1AC6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0B946-2E3A-45CD-A1E9-06373EA2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379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1948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567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379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1948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D1368-5C97-43E2-B7D0-B6BB6170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57970B-73CF-4224-BBEE-53468879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95FF83-6BFC-42B8-A7C3-91A31B34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5AF061-E113-4B4A-9173-3C807587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F7DDC-56E4-4255-9E58-8EF9D233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BCA5FD-27C8-49CB-87CC-878C9787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EF210E-80B3-4BA3-A81E-88EEF5E1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56720" y="828360"/>
            <a:ext cx="76345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3672EA-7AF1-4827-B032-7065F72C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EACDCC-9BBE-4622-BFFA-44CDC7FF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87F286-F263-4ECA-B14D-70CB1106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648410-BDD3-4C76-99EF-CA7CD6A3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ACED83-6C0A-4540-AFC5-16F36BAA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ED531A-21E9-4096-987F-9723E9ED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379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1948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567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379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1948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239292-EE4D-4BE9-A730-CF44DB18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A0CEC-CC15-4FB9-99EC-352E1B29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756720" y="828360"/>
            <a:ext cx="76345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6720" y="828360"/>
            <a:ext cx="76345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8B203-F084-479E-BFB7-8BC57EA6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379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1948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7567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379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1948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756720" y="828360"/>
            <a:ext cx="76345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E268D-37ED-4241-82C6-A5168508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79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1948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567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79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1948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756720" y="828360"/>
            <a:ext cx="76345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AA7BD-C1C7-49E9-866A-52D6E89E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79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1948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567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79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1948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0F9AC-BF48-4AAF-AA3F-86FEE7DE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756720" y="828360"/>
            <a:ext cx="763452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756720" y="4065480"/>
            <a:ext cx="763452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200" y="172224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5672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69200" y="4065480"/>
            <a:ext cx="372564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567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3792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19480" y="172224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7567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3792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19480" y="4065480"/>
            <a:ext cx="2458080" cy="21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31640" y="568440"/>
            <a:ext cx="685800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7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EAE2-540A-49B3-AC11-03998D1943F5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431640" y="698400"/>
            <a:ext cx="8278920" cy="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0" descr="SMHI Logotype_svart_new"/>
          <p:cNvPicPr/>
          <p:nvPr/>
        </p:nvPicPr>
        <p:blipFill>
          <a:blip r:embed="rId2"/>
          <a:stretch/>
        </p:blipFill>
        <p:spPr>
          <a:xfrm>
            <a:off x="7783560" y="290520"/>
            <a:ext cx="914400" cy="3668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31280" y="431640"/>
            <a:ext cx="2133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7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1399-24AC-4876-8B71-36E27CD12092}" type="datetime">
              <a:rPr b="0" lang="sv-SE" sz="700" spc="-1" strike="noStrike">
                <a:solidFill>
                  <a:srgbClr val="000000"/>
                </a:solidFill>
                <a:latin typeface="Arial Black"/>
              </a:rPr>
              <a:t>26-07-29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431640" y="568440"/>
            <a:ext cx="685800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7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700" spc="-1" strike="noStrike">
                <a:solidFill>
                  <a:srgbClr val="000000"/>
                </a:solidFill>
                <a:latin typeface="Arial Black"/>
              </a:rPr>
              <a:t>Exempel på sidhuvud - ÅÅÅÅ MM DD (Välj Visa, Sidhuvud sidfot för att ändr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7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1995-6C78-40B3-AA2A-8A1C8B843D1D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31640" y="698400"/>
            <a:ext cx="8278920" cy="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SMHI Logotype_svart_new"/>
          <p:cNvPicPr/>
          <p:nvPr/>
        </p:nvPicPr>
        <p:blipFill>
          <a:blip r:embed="rId2"/>
          <a:stretch/>
        </p:blipFill>
        <p:spPr>
          <a:xfrm>
            <a:off x="7783560" y="290520"/>
            <a:ext cx="914400" cy="366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dt" idx="6"/>
          </p:nvPr>
        </p:nvSpPr>
        <p:spPr>
          <a:xfrm>
            <a:off x="431280" y="431640"/>
            <a:ext cx="2133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7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FEA7-31CE-4E3E-B5FB-FC559E473F90}" type="datetime">
              <a:rPr b="0" lang="sv-SE" sz="700" spc="-1" strike="noStrike">
                <a:solidFill>
                  <a:srgbClr val="000000"/>
                </a:solidFill>
                <a:latin typeface="Arial Black"/>
              </a:rPr>
              <a:t>26-07-29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431640" y="568440"/>
            <a:ext cx="685800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7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700" spc="-1" strike="noStrike">
                <a:solidFill>
                  <a:srgbClr val="000000"/>
                </a:solidFill>
                <a:latin typeface="Arial Black"/>
              </a:rPr>
              <a:t>Exempel på sidhuvud - ÅÅÅÅ MM DD (Välj Visa, Sidhuvud sidfot för att ändr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7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3707-35B3-47B7-8094-160027504510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431640" y="698400"/>
            <a:ext cx="8278920" cy="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SMHI Logotype_svart_new"/>
          <p:cNvPicPr/>
          <p:nvPr/>
        </p:nvPicPr>
        <p:blipFill>
          <a:blip r:embed="rId2"/>
          <a:stretch/>
        </p:blipFill>
        <p:spPr>
          <a:xfrm>
            <a:off x="7783560" y="290520"/>
            <a:ext cx="914400" cy="366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5"/>
          <p:cNvSpPr>
            <a:spLocks noGrp="1"/>
          </p:cNvSpPr>
          <p:nvPr>
            <p:ph type="dt" idx="9"/>
          </p:nvPr>
        </p:nvSpPr>
        <p:spPr>
          <a:xfrm>
            <a:off x="431280" y="431640"/>
            <a:ext cx="2133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7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920E-93BD-4743-8816-E680B4B56988}" type="datetime">
              <a:rPr b="0" lang="sv-SE" sz="700" spc="-1" strike="noStrike">
                <a:solidFill>
                  <a:srgbClr val="000000"/>
                </a:solidFill>
                <a:latin typeface="Arial Black"/>
              </a:rPr>
              <a:t>26-07-29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10"/>
          </p:nvPr>
        </p:nvSpPr>
        <p:spPr>
          <a:xfrm>
            <a:off x="431640" y="568440"/>
            <a:ext cx="685800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7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700" spc="-1" strike="noStrike">
                <a:solidFill>
                  <a:srgbClr val="000000"/>
                </a:solidFill>
                <a:latin typeface="Arial Black"/>
              </a:rPr>
              <a:t>Exempel på sidhuvud - ÅÅÅÅ MM DD (Välj Visa, Sidhuvud sidfot för att ändr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1"/>
          </p:nvPr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7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EDF8-D71C-44CE-AC70-72BFCDA3E25F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31640" y="698400"/>
            <a:ext cx="8278920" cy="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SMHI Logotype_svart_new"/>
          <p:cNvPicPr/>
          <p:nvPr/>
        </p:nvPicPr>
        <p:blipFill>
          <a:blip r:embed="rId2"/>
          <a:stretch/>
        </p:blipFill>
        <p:spPr>
          <a:xfrm>
            <a:off x="7783560" y="290520"/>
            <a:ext cx="914400" cy="3668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5"/>
          <p:cNvSpPr>
            <a:spLocks noGrp="1"/>
          </p:cNvSpPr>
          <p:nvPr>
            <p:ph type="dt" idx="12"/>
          </p:nvPr>
        </p:nvSpPr>
        <p:spPr>
          <a:xfrm>
            <a:off x="431280" y="431640"/>
            <a:ext cx="2133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7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95CA-A206-4E44-9766-F8A7DFCEF714}" type="datetime">
              <a:rPr b="0" lang="sv-SE" sz="700" spc="-1" strike="noStrike">
                <a:solidFill>
                  <a:srgbClr val="000000"/>
                </a:solidFill>
                <a:latin typeface="Arial Black"/>
              </a:rPr>
              <a:t>26-07-29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ront_white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SMHI Logotype_svart_new"/>
          <p:cNvPicPr/>
          <p:nvPr/>
        </p:nvPicPr>
        <p:blipFill>
          <a:blip r:embed="rId3"/>
          <a:stretch/>
        </p:blipFill>
        <p:spPr>
          <a:xfrm>
            <a:off x="7624800" y="293760"/>
            <a:ext cx="1185840" cy="476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4" descr="fro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SMHI Logotype_white_new"/>
          <p:cNvPicPr/>
          <p:nvPr/>
        </p:nvPicPr>
        <p:blipFill>
          <a:blip r:embed="rId3"/>
          <a:stretch/>
        </p:blipFill>
        <p:spPr>
          <a:xfrm>
            <a:off x="7620120" y="293760"/>
            <a:ext cx="1190520" cy="477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3" descr="front_white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SMHI Logotype_svart_new"/>
          <p:cNvPicPr/>
          <p:nvPr/>
        </p:nvPicPr>
        <p:blipFill>
          <a:blip r:embed="rId3"/>
          <a:stretch/>
        </p:blipFill>
        <p:spPr>
          <a:xfrm>
            <a:off x="7624800" y="293760"/>
            <a:ext cx="1185840" cy="476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3" descr="front_white"/>
          <p:cNvPicPr/>
          <p:nvPr/>
        </p:nvPicPr>
        <p:blipFill>
          <a:blip r:embed="rId4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SMHI Logotype_svart_new"/>
          <p:cNvPicPr/>
          <p:nvPr/>
        </p:nvPicPr>
        <p:blipFill>
          <a:blip r:embed="rId5"/>
          <a:stretch/>
        </p:blipFill>
        <p:spPr>
          <a:xfrm>
            <a:off x="7624800" y="293760"/>
            <a:ext cx="1185840" cy="4762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4" descr="fro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SMHI Logotype_white_new"/>
          <p:cNvPicPr/>
          <p:nvPr/>
        </p:nvPicPr>
        <p:blipFill>
          <a:blip r:embed="rId3"/>
          <a:stretch/>
        </p:blipFill>
        <p:spPr>
          <a:xfrm>
            <a:off x="7620120" y="293760"/>
            <a:ext cx="1190520" cy="4777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56720" y="1722240"/>
            <a:ext cx="7634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18760" y="2962080"/>
            <a:ext cx="82263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Black"/>
              </a:rPr>
              <a:t>Using S2D data to predict spring flood volumes in selected Swedish river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539640" y="4436640"/>
            <a:ext cx="8213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 Black"/>
              </a:rPr>
              <a:t>Kean Fo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6"/>
          <p:cNvSpPr/>
          <p:nvPr/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30F9-5D74-42AB-9B9A-09D6E2187C9C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609480" y="2057040"/>
            <a:ext cx="7772400" cy="41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censed us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End-user has full control over forecasts i.e. frequency of forecasts, lead-time, model setup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Driving data is provided by SM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End-user can use other data sources i.e. their own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Once a year SMHI and the end-users meet to discuss model performance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65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H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1485-3085-4BF6-BE68-EA2478042E68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65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H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56720" y="1722240"/>
            <a:ext cx="7634520" cy="4485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D:\forecast_regions.png"/>
          <p:cNvPicPr/>
          <p:nvPr/>
        </p:nvPicPr>
        <p:blipFill>
          <a:blip r:embed="rId2"/>
          <a:stretch/>
        </p:blipFill>
        <p:spPr>
          <a:xfrm>
            <a:off x="755640" y="1560600"/>
            <a:ext cx="7632720" cy="48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D723-470D-4B3B-B84B-A12D3FEA4F46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0240" y="1055160"/>
            <a:ext cx="410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e Ångerman Rive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6" name="Picture 3" descr="14-1_justerad"/>
          <p:cNvPicPr/>
          <p:nvPr/>
        </p:nvPicPr>
        <p:blipFill>
          <a:blip r:embed="rId1"/>
          <a:stretch/>
        </p:blipFill>
        <p:spPr>
          <a:xfrm>
            <a:off x="4284720" y="806400"/>
            <a:ext cx="4392720" cy="574992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4"/>
          <p:cNvSpPr/>
          <p:nvPr/>
        </p:nvSpPr>
        <p:spPr>
          <a:xfrm>
            <a:off x="755640" y="2565360"/>
            <a:ext cx="333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The hydropower system of the river Ångermanäl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5"/>
          <p:cNvSpPr/>
          <p:nvPr/>
        </p:nvSpPr>
        <p:spPr>
          <a:xfrm>
            <a:off x="7188120" y="1154160"/>
            <a:ext cx="1111320" cy="520560"/>
          </a:xfrm>
          <a:prstGeom prst="ellipse">
            <a:avLst/>
          </a:prstGeom>
          <a:noFill/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7" descr="stalon-pano"/>
          <p:cNvPicPr/>
          <p:nvPr/>
        </p:nvPicPr>
        <p:blipFill>
          <a:blip r:embed="rId2"/>
          <a:stretch/>
        </p:blipFill>
        <p:spPr>
          <a:xfrm>
            <a:off x="569880" y="4167360"/>
            <a:ext cx="3478320" cy="148716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757080" y="828720"/>
            <a:ext cx="763452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Black"/>
              </a:rPr>
              <a:t>I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6"/>
          <p:cNvSpPr/>
          <p:nvPr/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941A-18FC-4116-965A-5EB86FA52891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609480" y="2057040"/>
            <a:ext cx="7772400" cy="41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SMHI and Lund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ELFORSK/HUVA - seasoanal forecast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EUPORIAS - improvements to model chain and demonstration prototype (Ångerman ri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PECS - test meteorological seasonal forecasts in an operational context (Ångerman Riv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Ai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Improve forecast perform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Reduce impact of future climat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n forecast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Improve how forecasts are pres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65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Black"/>
              </a:rPr>
              <a:t>Ongoing Researc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692280" y="6902280"/>
            <a:ext cx="19098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165240" y="665280"/>
            <a:ext cx="76341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Reduced ensembl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29"/>
          <p:cNvSpPr/>
          <p:nvPr/>
        </p:nvSpPr>
        <p:spPr>
          <a:xfrm rot="2338800">
            <a:off x="1617480" y="4989600"/>
            <a:ext cx="1176120" cy="38088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6" descr="Hbvgra"/>
          <p:cNvPicPr/>
          <p:nvPr/>
        </p:nvPicPr>
        <p:blipFill>
          <a:blip r:embed="rId1"/>
          <a:stretch/>
        </p:blipFill>
        <p:spPr>
          <a:xfrm>
            <a:off x="3213000" y="4027320"/>
            <a:ext cx="2278080" cy="2729160"/>
          </a:xfrm>
          <a:prstGeom prst="rect">
            <a:avLst/>
          </a:prstGeom>
          <a:ln w="0">
            <a:noFill/>
          </a:ln>
        </p:spPr>
      </p:pic>
      <p:sp>
        <p:nvSpPr>
          <p:cNvPr id="418" name="AutoShape 29"/>
          <p:cNvSpPr/>
          <p:nvPr/>
        </p:nvSpPr>
        <p:spPr>
          <a:xfrm rot="19349400">
            <a:off x="5816520" y="4981320"/>
            <a:ext cx="1176480" cy="38088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3397320" y="3263760"/>
            <a:ext cx="19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6662880" y="1916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2"/>
          <a:stretch/>
        </p:blipFill>
        <p:spPr>
          <a:xfrm>
            <a:off x="5880240" y="2379600"/>
            <a:ext cx="3163680" cy="169704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10"/>
          <p:cNvSpPr/>
          <p:nvPr/>
        </p:nvSpPr>
        <p:spPr>
          <a:xfrm>
            <a:off x="252360" y="1944720"/>
            <a:ext cx="22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istorical time 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ounded Rectangle 15"/>
          <p:cNvSpPr/>
          <p:nvPr/>
        </p:nvSpPr>
        <p:spPr>
          <a:xfrm>
            <a:off x="252360" y="2386080"/>
            <a:ext cx="2273400" cy="2246400"/>
          </a:xfrm>
          <a:prstGeom prst="roundRect">
            <a:avLst>
              <a:gd name="adj" fmla="val 16667"/>
            </a:avLst>
          </a:prstGeom>
          <a:solidFill>
            <a:srgbClr val="fdeb1b"/>
          </a:solidFill>
          <a:ln w="25560">
            <a:solidFill>
              <a:srgbClr val="baa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6"/>
          <p:cNvSpPr/>
          <p:nvPr/>
        </p:nvSpPr>
        <p:spPr>
          <a:xfrm>
            <a:off x="252360" y="2558880"/>
            <a:ext cx="24638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7f3"/>
                </a:solidFill>
                <a:latin typeface="Arial"/>
              </a:rPr>
              <a:t>1961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0" lang="en-US" sz="1200" spc="-1" strike="noStrike">
                <a:solidFill>
                  <a:srgbClr val="f8f7f3"/>
                </a:solidFill>
                <a:latin typeface="Arial"/>
              </a:rPr>
              <a:t>, 1963, 1964, 1965, 1966, 1967, 1968, 1969, 1970, 1971, 1972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1973, 1974</a:t>
            </a:r>
            <a:r>
              <a:rPr b="0" lang="en-US" sz="1200" spc="-1" strike="noStrike">
                <a:solidFill>
                  <a:srgbClr val="f8f7f3"/>
                </a:solidFill>
                <a:latin typeface="Arial"/>
              </a:rPr>
              <a:t>, 1975, 1976, 1977, 1978, 1979, 1980, 1981, 1982, 1983, 1984, 1985, 1986, </a:t>
            </a:r>
            <a:r>
              <a:rPr b="1" lang="en-US" sz="1200" spc="-1" strike="noStrike">
                <a:solidFill>
                  <a:srgbClr val="f8f7f3"/>
                </a:solidFill>
                <a:latin typeface="Arial"/>
              </a:rPr>
              <a:t>1987</a:t>
            </a:r>
            <a:r>
              <a:rPr b="0" lang="en-US" sz="1200" spc="-1" strike="noStrike">
                <a:solidFill>
                  <a:srgbClr val="f8f7f3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8f7f3"/>
                </a:solidFill>
                <a:latin typeface="Arial"/>
              </a:rPr>
              <a:t>1988, 1989, 1990, 1991, 1992, 1993, 1994, 1995, 1996, 1997, 1998, 1999, 2000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f8f7f3"/>
                </a:solidFill>
                <a:latin typeface="Arial"/>
              </a:rPr>
              <a:t>2002, 2003, 2004, 2005, 2006, 2007, 2008,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2009, 2010</a:t>
            </a:r>
            <a:r>
              <a:rPr b="0" lang="en-US" sz="1200" spc="-1" strike="noStrike">
                <a:solidFill>
                  <a:srgbClr val="f8f7f3"/>
                </a:solidFill>
                <a:latin typeface="Arial"/>
              </a:rPr>
              <a:t>,        </a:t>
            </a:r>
            <a:r>
              <a:rPr b="0" lang="en-US" sz="1200" spc="-1" strike="noStrike">
                <a:solidFill>
                  <a:srgbClr val="f8f7f3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8f7f3"/>
                </a:solidFill>
                <a:latin typeface="Arial"/>
              </a:rPr>
              <a:t>2011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31"/>
          <p:cNvSpPr/>
          <p:nvPr/>
        </p:nvSpPr>
        <p:spPr>
          <a:xfrm>
            <a:off x="228600" y="1990800"/>
            <a:ext cx="8642520" cy="32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leconnection Climate Indic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 all years with comparable TCI comb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n HBV with reduced 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8" descr="\\winfs\a001733\Documents\nao_correlation_map.gif"/>
          <p:cNvPicPr/>
          <p:nvPr/>
        </p:nvPicPr>
        <p:blipFill>
          <a:blip r:embed="rId1"/>
          <a:stretch/>
        </p:blipFill>
        <p:spPr>
          <a:xfrm>
            <a:off x="3925800" y="1830240"/>
            <a:ext cx="4726080" cy="221940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2"/>
          <p:cNvSpPr/>
          <p:nvPr/>
        </p:nvSpPr>
        <p:spPr>
          <a:xfrm>
            <a:off x="692280" y="6978600"/>
            <a:ext cx="1909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8280" y="76464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Black"/>
              </a:rPr>
              <a:t>Reduced</a:t>
            </a: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 Black"/>
              </a:rPr>
              <a:t>ensemble</a:t>
            </a: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lang="en-GB" sz="2600" spc="-1" strike="noStrike">
                <a:solidFill>
                  <a:srgbClr val="000000"/>
                </a:solidFill>
                <a:latin typeface="Arial Black"/>
              </a:rPr>
              <a:t>TCI method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0" y="233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4"/>
          <p:cNvSpPr/>
          <p:nvPr/>
        </p:nvSpPr>
        <p:spPr>
          <a:xfrm>
            <a:off x="996840" y="5734080"/>
            <a:ext cx="1605240" cy="1027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na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2887560" y="5975280"/>
            <a:ext cx="1182960" cy="569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0"/>
          <p:cNvSpPr/>
          <p:nvPr/>
        </p:nvSpPr>
        <p:spPr>
          <a:xfrm>
            <a:off x="4475160" y="5734080"/>
            <a:ext cx="2241720" cy="1019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pring f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ume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j-Jun-J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4"/>
          <p:cNvSpPr/>
          <p:nvPr/>
        </p:nvSpPr>
        <p:spPr>
          <a:xfrm>
            <a:off x="4014720" y="6254640"/>
            <a:ext cx="581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8"/>
          <p:cNvSpPr/>
          <p:nvPr/>
        </p:nvSpPr>
        <p:spPr>
          <a:xfrm>
            <a:off x="2428920" y="6242040"/>
            <a:ext cx="581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738360" y="7048440"/>
            <a:ext cx="19094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3201840" y="7048440"/>
            <a:ext cx="283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31280" y="76464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Reduced ensemble: CP method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46080" y="24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1"/>
          <p:cNvSpPr/>
          <p:nvPr/>
        </p:nvSpPr>
        <p:spPr>
          <a:xfrm>
            <a:off x="274680" y="2060640"/>
            <a:ext cx="8642160" cy="25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Circulaion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ily MS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zzy-rule based 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dentify years with similar CP combinations (analogue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un HBV with reduced 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9" descr=""/>
          <p:cNvPicPr/>
          <p:nvPr/>
        </p:nvPicPr>
        <p:blipFill>
          <a:blip r:embed="rId1"/>
          <a:stretch/>
        </p:blipFill>
        <p:spPr>
          <a:xfrm>
            <a:off x="5551560" y="2060640"/>
            <a:ext cx="3365280" cy="2122560"/>
          </a:xfrm>
          <a:prstGeom prst="rect">
            <a:avLst/>
          </a:prstGeom>
          <a:ln w="0">
            <a:noFill/>
          </a:ln>
        </p:spPr>
      </p:pic>
      <p:sp>
        <p:nvSpPr>
          <p:cNvPr id="441" name="AutoShape 4"/>
          <p:cNvSpPr/>
          <p:nvPr/>
        </p:nvSpPr>
        <p:spPr>
          <a:xfrm>
            <a:off x="1042920" y="5327640"/>
            <a:ext cx="1604880" cy="1027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na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7"/>
          <p:cNvSpPr/>
          <p:nvPr/>
        </p:nvSpPr>
        <p:spPr>
          <a:xfrm>
            <a:off x="2933640" y="5568840"/>
            <a:ext cx="1182600" cy="569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0"/>
          <p:cNvSpPr/>
          <p:nvPr/>
        </p:nvSpPr>
        <p:spPr>
          <a:xfrm>
            <a:off x="4521240" y="5327640"/>
            <a:ext cx="2241360" cy="1019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pring f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ume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j-Jun-J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"/>
          <p:cNvSpPr/>
          <p:nvPr/>
        </p:nvSpPr>
        <p:spPr>
          <a:xfrm>
            <a:off x="4060800" y="5848200"/>
            <a:ext cx="581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8"/>
          <p:cNvSpPr/>
          <p:nvPr/>
        </p:nvSpPr>
        <p:spPr>
          <a:xfrm>
            <a:off x="2475000" y="5835600"/>
            <a:ext cx="581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692280" y="6902280"/>
            <a:ext cx="19098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431640" y="836640"/>
            <a:ext cx="76345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Seasonal NWP based forecas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29"/>
          <p:cNvSpPr/>
          <p:nvPr/>
        </p:nvSpPr>
        <p:spPr>
          <a:xfrm rot="2338800">
            <a:off x="1617480" y="4989600"/>
            <a:ext cx="1176120" cy="38088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6" descr="Hbvgra"/>
          <p:cNvPicPr/>
          <p:nvPr/>
        </p:nvPicPr>
        <p:blipFill>
          <a:blip r:embed="rId1"/>
          <a:stretch/>
        </p:blipFill>
        <p:spPr>
          <a:xfrm>
            <a:off x="3213000" y="4027320"/>
            <a:ext cx="2278080" cy="272916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29"/>
          <p:cNvSpPr/>
          <p:nvPr/>
        </p:nvSpPr>
        <p:spPr>
          <a:xfrm rot="19349400">
            <a:off x="5816520" y="4981320"/>
            <a:ext cx="1176480" cy="38088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3397320" y="3263760"/>
            <a:ext cx="19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6662880" y="1916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2"/>
          <a:stretch/>
        </p:blipFill>
        <p:spPr>
          <a:xfrm>
            <a:off x="5880240" y="2379600"/>
            <a:ext cx="3163680" cy="169704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10"/>
          <p:cNvSpPr/>
          <p:nvPr/>
        </p:nvSpPr>
        <p:spPr>
          <a:xfrm>
            <a:off x="509760" y="1947960"/>
            <a:ext cx="22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W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8" descr="global_temp"/>
          <p:cNvPicPr/>
          <p:nvPr/>
        </p:nvPicPr>
        <p:blipFill>
          <a:blip r:embed="rId3"/>
          <a:srcRect l="19687" t="4686" r="15484" b="7626"/>
          <a:stretch/>
        </p:blipFill>
        <p:spPr>
          <a:xfrm>
            <a:off x="977760" y="2387520"/>
            <a:ext cx="1824120" cy="1752840"/>
          </a:xfrm>
          <a:prstGeom prst="rect">
            <a:avLst/>
          </a:prstGeom>
          <a:ln w="0">
            <a:noFill/>
          </a:ln>
        </p:spPr>
      </p:pic>
      <p:grpSp>
        <p:nvGrpSpPr>
          <p:cNvPr id="456" name="Group 16"/>
          <p:cNvGrpSpPr/>
          <p:nvPr/>
        </p:nvGrpSpPr>
        <p:grpSpPr>
          <a:xfrm>
            <a:off x="277920" y="3263760"/>
            <a:ext cx="1068120" cy="1577160"/>
            <a:chOff x="277920" y="3263760"/>
            <a:chExt cx="1068120" cy="1577160"/>
          </a:xfrm>
        </p:grpSpPr>
        <p:pic>
          <p:nvPicPr>
            <p:cNvPr id="457" name="Picture 19" descr="regional_grid"/>
            <p:cNvPicPr/>
            <p:nvPr/>
          </p:nvPicPr>
          <p:blipFill>
            <a:blip r:embed="rId4"/>
            <a:stretch/>
          </p:blipFill>
          <p:spPr>
            <a:xfrm>
              <a:off x="277920" y="3263760"/>
              <a:ext cx="1068120" cy="12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20"/>
            <p:cNvSpPr/>
            <p:nvPr/>
          </p:nvSpPr>
          <p:spPr>
            <a:xfrm>
              <a:off x="363960" y="4533840"/>
              <a:ext cx="88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~100 k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961920" y="6237360"/>
            <a:ext cx="1909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3425760" y="6237360"/>
            <a:ext cx="283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4520" y="77580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ECMWF forecasts in HBV: method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27000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1"/>
          <p:cNvSpPr/>
          <p:nvPr/>
        </p:nvSpPr>
        <p:spPr>
          <a:xfrm>
            <a:off x="498600" y="2025720"/>
            <a:ext cx="8642160" cy="25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CMWF seasonal fore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1 ensembl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ily P and 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→ Bias correction and remapping to HBV gri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un HBV with ECMWF 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1419120" y="5145120"/>
            <a:ext cx="1605240" cy="1027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CM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 och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7"/>
          <p:cNvSpPr/>
          <p:nvPr/>
        </p:nvSpPr>
        <p:spPr>
          <a:xfrm>
            <a:off x="3309840" y="5386320"/>
            <a:ext cx="1182960" cy="569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0"/>
          <p:cNvSpPr/>
          <p:nvPr/>
        </p:nvSpPr>
        <p:spPr>
          <a:xfrm>
            <a:off x="4897440" y="5145120"/>
            <a:ext cx="2241720" cy="1019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pring f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lume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j-Jun-J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4"/>
          <p:cNvSpPr/>
          <p:nvPr/>
        </p:nvSpPr>
        <p:spPr>
          <a:xfrm>
            <a:off x="4437000" y="5665680"/>
            <a:ext cx="581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8"/>
          <p:cNvSpPr/>
          <p:nvPr/>
        </p:nvSpPr>
        <p:spPr>
          <a:xfrm>
            <a:off x="2851200" y="5653080"/>
            <a:ext cx="581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692280" y="6902280"/>
            <a:ext cx="19098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431640" y="677880"/>
            <a:ext cx="76345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Statistical downscaling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9"/>
          <p:cNvSpPr/>
          <p:nvPr/>
        </p:nvSpPr>
        <p:spPr>
          <a:xfrm rot="2338800">
            <a:off x="1617480" y="4989600"/>
            <a:ext cx="1176120" cy="38088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9"/>
          <p:cNvSpPr/>
          <p:nvPr/>
        </p:nvSpPr>
        <p:spPr>
          <a:xfrm rot="19349400">
            <a:off x="5816520" y="4981320"/>
            <a:ext cx="1176480" cy="38088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6662880" y="1916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0"/>
          <p:cNvSpPr/>
          <p:nvPr/>
        </p:nvSpPr>
        <p:spPr>
          <a:xfrm>
            <a:off x="509760" y="1947960"/>
            <a:ext cx="22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W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global_temp"/>
          <p:cNvPicPr/>
          <p:nvPr/>
        </p:nvPicPr>
        <p:blipFill>
          <a:blip r:embed="rId1"/>
          <a:srcRect l="19687" t="4686" r="15484" b="7626"/>
          <a:stretch/>
        </p:blipFill>
        <p:spPr>
          <a:xfrm>
            <a:off x="977760" y="2387520"/>
            <a:ext cx="1824120" cy="1752840"/>
          </a:xfrm>
          <a:prstGeom prst="rect">
            <a:avLst/>
          </a:prstGeom>
          <a:ln w="0">
            <a:noFill/>
          </a:ln>
        </p:spPr>
      </p:pic>
      <p:grpSp>
        <p:nvGrpSpPr>
          <p:cNvPr id="476" name="Group 16"/>
          <p:cNvGrpSpPr/>
          <p:nvPr/>
        </p:nvGrpSpPr>
        <p:grpSpPr>
          <a:xfrm>
            <a:off x="277920" y="3263760"/>
            <a:ext cx="1068120" cy="1577160"/>
            <a:chOff x="277920" y="3263760"/>
            <a:chExt cx="1068120" cy="1577160"/>
          </a:xfrm>
        </p:grpSpPr>
        <p:pic>
          <p:nvPicPr>
            <p:cNvPr id="477" name="Picture 19" descr="regional_grid"/>
            <p:cNvPicPr/>
            <p:nvPr/>
          </p:nvPicPr>
          <p:blipFill>
            <a:blip r:embed="rId2"/>
            <a:stretch/>
          </p:blipFill>
          <p:spPr>
            <a:xfrm>
              <a:off x="277920" y="3263760"/>
              <a:ext cx="1068120" cy="12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Text Box 20"/>
            <p:cNvSpPr/>
            <p:nvPr/>
          </p:nvSpPr>
          <p:spPr>
            <a:xfrm>
              <a:off x="363960" y="4533840"/>
              <a:ext cx="88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~100 k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Text Box 10"/>
          <p:cNvSpPr/>
          <p:nvPr/>
        </p:nvSpPr>
        <p:spPr>
          <a:xfrm>
            <a:off x="3416400" y="3909960"/>
            <a:ext cx="19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V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3" descr="C:\Users\a001733\Pictures\svd1.png"/>
          <p:cNvPicPr/>
          <p:nvPr/>
        </p:nvPicPr>
        <p:blipFill>
          <a:blip r:embed="rId3"/>
          <a:stretch/>
        </p:blipFill>
        <p:spPr>
          <a:xfrm>
            <a:off x="1467000" y="5181480"/>
            <a:ext cx="5806800" cy="1019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5" descr="C:\Users\a001733\Pictures\Computer for Colleges and Careers.png"/>
          <p:cNvPicPr/>
          <p:nvPr/>
        </p:nvPicPr>
        <p:blipFill>
          <a:blip r:embed="rId4"/>
          <a:stretch/>
        </p:blipFill>
        <p:spPr>
          <a:xfrm>
            <a:off x="2755800" y="4543560"/>
            <a:ext cx="3229200" cy="23684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" descr=""/>
          <p:cNvPicPr/>
          <p:nvPr/>
        </p:nvPicPr>
        <p:blipFill>
          <a:blip r:embed="rId5"/>
          <a:srcRect l="8809" t="6796" r="6955" b="9131"/>
          <a:stretch/>
        </p:blipFill>
        <p:spPr>
          <a:xfrm>
            <a:off x="6012000" y="2286000"/>
            <a:ext cx="294768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7AB4-A6A9-48DF-B519-B4AED3585A2D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Porjus idag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45" name="Picture 3" descr="IMG_1102"/>
          <p:cNvPicPr/>
          <p:nvPr/>
        </p:nvPicPr>
        <p:blipFill>
          <a:blip r:embed="rId1"/>
          <a:stretch/>
        </p:blipFill>
        <p:spPr>
          <a:xfrm>
            <a:off x="468360" y="873000"/>
            <a:ext cx="8244000" cy="591192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4"/>
          <p:cNvSpPr/>
          <p:nvPr/>
        </p:nvSpPr>
        <p:spPr>
          <a:xfrm>
            <a:off x="5880960" y="981000"/>
            <a:ext cx="270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Hydropower w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the driving fo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76345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tmospheric variables predictors from NWP (ECMW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ressure fiel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emperature/radiation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41280"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Moisture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Observed Seasonal dischage volu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235080" y="677520"/>
            <a:ext cx="76341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Black"/>
              </a:rPr>
              <a:t>Statistical downscaling: </a:t>
            </a: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method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85" name="Group 1"/>
          <p:cNvGrpSpPr/>
          <p:nvPr/>
        </p:nvGrpSpPr>
        <p:grpSpPr>
          <a:xfrm>
            <a:off x="1041480" y="5402160"/>
            <a:ext cx="6608520" cy="1027080"/>
            <a:chOff x="1041480" y="5402160"/>
            <a:chExt cx="6608520" cy="1027080"/>
          </a:xfrm>
        </p:grpSpPr>
        <p:sp>
          <p:nvSpPr>
            <p:cNvPr id="486" name="AutoShape 4"/>
            <p:cNvSpPr/>
            <p:nvPr/>
          </p:nvSpPr>
          <p:spPr>
            <a:xfrm>
              <a:off x="1041480" y="5402160"/>
              <a:ext cx="2370600" cy="1027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In Dece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GCM forec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Jan-Feb-Mar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7"/>
            <p:cNvSpPr/>
            <p:nvPr/>
          </p:nvSpPr>
          <p:spPr>
            <a:xfrm>
              <a:off x="3698640" y="5644440"/>
              <a:ext cx="1182240" cy="5702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SV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10"/>
            <p:cNvSpPr/>
            <p:nvPr/>
          </p:nvSpPr>
          <p:spPr>
            <a:xfrm>
              <a:off x="5285160" y="5402160"/>
              <a:ext cx="2364840" cy="1019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Forec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spring flood volume   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May-Jun-J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14"/>
            <p:cNvSpPr/>
            <p:nvPr/>
          </p:nvSpPr>
          <p:spPr>
            <a:xfrm>
              <a:off x="4825440" y="5923080"/>
              <a:ext cx="58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18"/>
            <p:cNvSpPr/>
            <p:nvPr/>
          </p:nvSpPr>
          <p:spPr>
            <a:xfrm>
              <a:off x="3239280" y="5910840"/>
              <a:ext cx="580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Black"/>
              </a:rPr>
              <a:t>Schematic of the Multi-model prototype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2" name="Rectangle 19"/>
          <p:cNvSpPr/>
          <p:nvPr/>
        </p:nvSpPr>
        <p:spPr>
          <a:xfrm>
            <a:off x="2182680" y="6545160"/>
            <a:ext cx="2826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21"/>
          <p:cNvGrpSpPr/>
          <p:nvPr/>
        </p:nvGrpSpPr>
        <p:grpSpPr>
          <a:xfrm>
            <a:off x="241200" y="3384720"/>
            <a:ext cx="8661600" cy="2415960"/>
            <a:chOff x="241200" y="3384720"/>
            <a:chExt cx="8661600" cy="2415960"/>
          </a:xfrm>
        </p:grpSpPr>
        <p:pic>
          <p:nvPicPr>
            <p:cNvPr id="494" name="Picture 29" descr="Hbvgra"/>
            <p:cNvPicPr/>
            <p:nvPr/>
          </p:nvPicPr>
          <p:blipFill>
            <a:blip r:embed="rId1"/>
            <a:stretch/>
          </p:blipFill>
          <p:spPr>
            <a:xfrm>
              <a:off x="2610360" y="3384720"/>
              <a:ext cx="1237320" cy="140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95" name="Picture 30" descr=""/>
            <p:cNvPicPr/>
            <p:nvPr/>
          </p:nvPicPr>
          <p:blipFill>
            <a:blip r:embed="rId2"/>
            <a:stretch/>
          </p:blipFill>
          <p:spPr>
            <a:xfrm>
              <a:off x="6523560" y="3682080"/>
              <a:ext cx="2379240" cy="166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31" descr="C:\Users\a001733\Pictures\Computer for Colleges and Careers.png"/>
            <p:cNvPicPr/>
            <p:nvPr/>
          </p:nvPicPr>
          <p:blipFill>
            <a:blip r:embed="rId3"/>
            <a:stretch/>
          </p:blipFill>
          <p:spPr>
            <a:xfrm>
              <a:off x="2610360" y="4944960"/>
              <a:ext cx="1237320" cy="855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97" name="AutoShape 29"/>
            <p:cNvSpPr/>
            <p:nvPr/>
          </p:nvSpPr>
          <p:spPr>
            <a:xfrm>
              <a:off x="6019200" y="4423320"/>
              <a:ext cx="430560" cy="176400"/>
            </a:xfrm>
            <a:prstGeom prst="pie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33"/>
            <p:cNvSpPr/>
            <p:nvPr/>
          </p:nvSpPr>
          <p:spPr>
            <a:xfrm>
              <a:off x="241200" y="3384720"/>
              <a:ext cx="1703880" cy="432000"/>
            </a:xfrm>
            <a:prstGeom prst="rect">
              <a:avLst/>
            </a:prstGeom>
            <a:solidFill>
              <a:srgbClr val="3b9cdf"/>
            </a:solidFill>
            <a:ln w="25560">
              <a:solidFill>
                <a:srgbClr val="2971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Climatological ensem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34"/>
            <p:cNvSpPr/>
            <p:nvPr/>
          </p:nvSpPr>
          <p:spPr>
            <a:xfrm>
              <a:off x="248760" y="3964320"/>
              <a:ext cx="1703880" cy="579600"/>
            </a:xfrm>
            <a:prstGeom prst="rect">
              <a:avLst/>
            </a:prstGeom>
            <a:solidFill>
              <a:srgbClr val="3b9cdf"/>
            </a:solidFill>
            <a:ln w="25560">
              <a:solidFill>
                <a:srgbClr val="2971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Reducerad climatological ensem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35"/>
            <p:cNvSpPr/>
            <p:nvPr/>
          </p:nvSpPr>
          <p:spPr>
            <a:xfrm>
              <a:off x="248760" y="4699800"/>
              <a:ext cx="1703880" cy="432000"/>
            </a:xfrm>
            <a:prstGeom prst="rect">
              <a:avLst/>
            </a:prstGeom>
            <a:solidFill>
              <a:srgbClr val="3b9cdf"/>
            </a:solidFill>
            <a:ln w="25560">
              <a:solidFill>
                <a:srgbClr val="2971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S2D ensem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36"/>
            <p:cNvSpPr/>
            <p:nvPr/>
          </p:nvSpPr>
          <p:spPr>
            <a:xfrm>
              <a:off x="241200" y="5368680"/>
              <a:ext cx="1703880" cy="432000"/>
            </a:xfrm>
            <a:prstGeom prst="rect">
              <a:avLst/>
            </a:prstGeom>
            <a:solidFill>
              <a:srgbClr val="3b9cdf"/>
            </a:solidFill>
            <a:ln w="25560">
              <a:solidFill>
                <a:srgbClr val="2971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Snow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29"/>
            <p:cNvSpPr/>
            <p:nvPr/>
          </p:nvSpPr>
          <p:spPr>
            <a:xfrm rot="1587600">
              <a:off x="3974760" y="3637800"/>
              <a:ext cx="538920" cy="217440"/>
            </a:xfrm>
            <a:prstGeom prst="pie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38"/>
            <p:cNvSpPr/>
            <p:nvPr/>
          </p:nvSpPr>
          <p:spPr>
            <a:xfrm>
              <a:off x="4537080" y="3816720"/>
              <a:ext cx="1415520" cy="1526400"/>
            </a:xfrm>
            <a:prstGeom prst="rect">
              <a:avLst/>
            </a:prstGeom>
            <a:solidFill>
              <a:srgbClr val="3b9cdf"/>
            </a:solidFill>
            <a:ln w="25560">
              <a:solidFill>
                <a:srgbClr val="2971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ffffff"/>
                  </a:solidFill>
                  <a:latin typeface="Arial"/>
                </a:rPr>
                <a:t>Weighted Multi-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29"/>
            <p:cNvSpPr/>
            <p:nvPr/>
          </p:nvSpPr>
          <p:spPr>
            <a:xfrm>
              <a:off x="2037240" y="3529440"/>
              <a:ext cx="430560" cy="176400"/>
            </a:xfrm>
            <a:prstGeom prst="pie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29"/>
            <p:cNvSpPr/>
            <p:nvPr/>
          </p:nvSpPr>
          <p:spPr>
            <a:xfrm>
              <a:off x="2054520" y="4165920"/>
              <a:ext cx="430560" cy="176400"/>
            </a:xfrm>
            <a:prstGeom prst="pie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29"/>
            <p:cNvSpPr/>
            <p:nvPr/>
          </p:nvSpPr>
          <p:spPr>
            <a:xfrm rot="20663400">
              <a:off x="2054160" y="4673520"/>
              <a:ext cx="430560" cy="176400"/>
            </a:xfrm>
            <a:prstGeom prst="pie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29"/>
            <p:cNvSpPr/>
            <p:nvPr/>
          </p:nvSpPr>
          <p:spPr>
            <a:xfrm>
              <a:off x="2037240" y="5422320"/>
              <a:ext cx="430560" cy="176400"/>
            </a:xfrm>
            <a:prstGeom prst="pie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29"/>
            <p:cNvSpPr/>
            <p:nvPr/>
          </p:nvSpPr>
          <p:spPr>
            <a:xfrm rot="999600">
              <a:off x="2041920" y="4955400"/>
              <a:ext cx="430560" cy="176400"/>
            </a:xfrm>
            <a:prstGeom prst="pie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TextBox 45"/>
          <p:cNvSpPr/>
          <p:nvPr/>
        </p:nvSpPr>
        <p:spPr>
          <a:xfrm>
            <a:off x="2430720" y="3106800"/>
            <a:ext cx="159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Hydrological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46"/>
          <p:cNvSpPr/>
          <p:nvPr/>
        </p:nvSpPr>
        <p:spPr>
          <a:xfrm>
            <a:off x="2529720" y="580068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Statistical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9"/>
          <p:cNvSpPr/>
          <p:nvPr/>
        </p:nvSpPr>
        <p:spPr>
          <a:xfrm rot="1587600">
            <a:off x="3975120" y="4056120"/>
            <a:ext cx="538200" cy="218880"/>
          </a:xfrm>
          <a:prstGeom prst="pie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29"/>
          <p:cNvSpPr/>
          <p:nvPr/>
        </p:nvSpPr>
        <p:spPr>
          <a:xfrm rot="1587600">
            <a:off x="3975120" y="4435560"/>
            <a:ext cx="538200" cy="217440"/>
          </a:xfrm>
          <a:prstGeom prst="pie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29"/>
          <p:cNvSpPr/>
          <p:nvPr/>
        </p:nvSpPr>
        <p:spPr>
          <a:xfrm rot="19338000">
            <a:off x="3974760" y="5401800"/>
            <a:ext cx="538200" cy="217440"/>
          </a:xfrm>
          <a:prstGeom prst="pie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29"/>
          <p:cNvSpPr/>
          <p:nvPr/>
        </p:nvSpPr>
        <p:spPr>
          <a:xfrm rot="19338000">
            <a:off x="3974760" y="5038200"/>
            <a:ext cx="538200" cy="217800"/>
          </a:xfrm>
          <a:prstGeom prst="pie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532720" cy="444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6" name="Rectangle 4"/>
          <p:cNvSpPr/>
          <p:nvPr/>
        </p:nvSpPr>
        <p:spPr>
          <a:xfrm>
            <a:off x="235080" y="677880"/>
            <a:ext cx="76341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Multi-Model Forecast examp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235080" y="677880"/>
            <a:ext cx="76341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Multi-Model Forecast examp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1160" cy="434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35080" y="677520"/>
            <a:ext cx="76341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Forecast example: Initialised 1Jan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431640" y="1844640"/>
            <a:ext cx="8280720" cy="42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8024760" cy="44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35080" y="677520"/>
            <a:ext cx="76341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Forecast example: Initialised 1Jan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35080" y="677520"/>
            <a:ext cx="76341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Forecast example: Initialised 1Apr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431640" y="2097000"/>
            <a:ext cx="8020080" cy="413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527040" y="2060640"/>
            <a:ext cx="8037360" cy="440532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4"/>
          <p:cNvSpPr/>
          <p:nvPr/>
        </p:nvSpPr>
        <p:spPr>
          <a:xfrm>
            <a:off x="235080" y="677880"/>
            <a:ext cx="76341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Forecast example: Initialised 1Ap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9"/>
          <p:cNvSpPr/>
          <p:nvPr/>
        </p:nvSpPr>
        <p:spPr>
          <a:xfrm>
            <a:off x="-284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7736040" cy="610236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4"/>
          <p:cNvSpPr/>
          <p:nvPr/>
        </p:nvSpPr>
        <p:spPr>
          <a:xfrm>
            <a:off x="395280" y="868320"/>
            <a:ext cx="7570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Preliminary find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41" descr=""/>
          <p:cNvPicPr/>
          <p:nvPr/>
        </p:nvPicPr>
        <p:blipFill>
          <a:blip r:embed="rId1"/>
          <a:stretch/>
        </p:blipFill>
        <p:spPr>
          <a:xfrm>
            <a:off x="34920" y="1052640"/>
            <a:ext cx="9105840" cy="568944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2"/>
          <p:cNvSpPr/>
          <p:nvPr/>
        </p:nvSpPr>
        <p:spPr>
          <a:xfrm>
            <a:off x="509760" y="189000"/>
            <a:ext cx="58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sonal hydrological forecasting s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12" descr="SubID_8307235_skill_KGEbeta_vs_Month_and_LeadTime.jpg"/>
          <p:cNvPicPr/>
          <p:nvPr/>
        </p:nvPicPr>
        <p:blipFill>
          <a:blip r:embed="rId2"/>
          <a:stretch/>
        </p:blipFill>
        <p:spPr>
          <a:xfrm>
            <a:off x="5364000" y="1052640"/>
            <a:ext cx="1919520" cy="14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3" name="Picture 20" descr="SubID_9503374_skill_KGEbeta_vs_Month_and_LeadTime.jpg"/>
          <p:cNvPicPr/>
          <p:nvPr/>
        </p:nvPicPr>
        <p:blipFill>
          <a:blip r:embed="rId3"/>
          <a:stretch/>
        </p:blipFill>
        <p:spPr>
          <a:xfrm>
            <a:off x="779400" y="1268280"/>
            <a:ext cx="1920960" cy="14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4" name="Straight Connector 22"/>
          <p:cNvSpPr/>
          <p:nvPr/>
        </p:nvSpPr>
        <p:spPr>
          <a:xfrm flipV="1">
            <a:off x="4535640" y="1052640"/>
            <a:ext cx="828360" cy="57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traight Connector 24"/>
          <p:cNvSpPr/>
          <p:nvPr/>
        </p:nvSpPr>
        <p:spPr>
          <a:xfrm>
            <a:off x="4572000" y="1989000"/>
            <a:ext cx="720720" cy="503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traight Connector 25"/>
          <p:cNvSpPr/>
          <p:nvPr/>
        </p:nvSpPr>
        <p:spPr>
          <a:xfrm>
            <a:off x="755640" y="2708280"/>
            <a:ext cx="360360" cy="649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traight Connector 28"/>
          <p:cNvSpPr/>
          <p:nvPr/>
        </p:nvSpPr>
        <p:spPr>
          <a:xfrm flipH="1">
            <a:off x="2195640" y="2708280"/>
            <a:ext cx="504720" cy="576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2" descr="SubID_9780453_skill_KGEbeta_vs_Month_and_LeadTime.jpg"/>
          <p:cNvPicPr/>
          <p:nvPr/>
        </p:nvPicPr>
        <p:blipFill>
          <a:blip r:embed="rId4"/>
          <a:stretch/>
        </p:blipFill>
        <p:spPr>
          <a:xfrm>
            <a:off x="2556000" y="5229360"/>
            <a:ext cx="1919160" cy="14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9" name="Straight Connector 38"/>
          <p:cNvSpPr/>
          <p:nvPr/>
        </p:nvSpPr>
        <p:spPr>
          <a:xfrm flipH="1">
            <a:off x="2555640" y="4292640"/>
            <a:ext cx="215640" cy="936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traight Connector 48"/>
          <p:cNvSpPr/>
          <p:nvPr/>
        </p:nvSpPr>
        <p:spPr>
          <a:xfrm>
            <a:off x="3492360" y="4365720"/>
            <a:ext cx="1008360" cy="863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0"/>
          <p:cNvSpPr/>
          <p:nvPr/>
        </p:nvSpPr>
        <p:spPr>
          <a:xfrm>
            <a:off x="3708360" y="1628640"/>
            <a:ext cx="1440000" cy="360360"/>
          </a:xfrm>
          <a:prstGeom prst="rect">
            <a:avLst/>
          </a:prstGeom>
          <a:gradFill rotWithShape="0">
            <a:gsLst>
              <a:gs pos="0">
                <a:srgbClr val="ffff00">
                  <a:alpha val="26274"/>
                </a:srgbClr>
              </a:gs>
              <a:gs pos="100000">
                <a:srgbClr val="d5c400">
                  <a:alpha val="26274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1"/>
          <p:cNvSpPr/>
          <p:nvPr/>
        </p:nvSpPr>
        <p:spPr>
          <a:xfrm>
            <a:off x="1116000" y="3284640"/>
            <a:ext cx="863640" cy="360360"/>
          </a:xfrm>
          <a:prstGeom prst="rect">
            <a:avLst/>
          </a:prstGeom>
          <a:gradFill rotWithShape="0">
            <a:gsLst>
              <a:gs pos="0">
                <a:srgbClr val="ffff00">
                  <a:alpha val="26274"/>
                </a:srgbClr>
              </a:gs>
              <a:gs pos="100000">
                <a:srgbClr val="d5c400">
                  <a:alpha val="26274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2"/>
          <p:cNvSpPr/>
          <p:nvPr/>
        </p:nvSpPr>
        <p:spPr>
          <a:xfrm>
            <a:off x="2916360" y="4005360"/>
            <a:ext cx="576000" cy="360360"/>
          </a:xfrm>
          <a:prstGeom prst="rect">
            <a:avLst/>
          </a:prstGeom>
          <a:gradFill rotWithShape="0">
            <a:gsLst>
              <a:gs pos="0">
                <a:srgbClr val="ffff00">
                  <a:alpha val="26274"/>
                </a:srgbClr>
              </a:gs>
              <a:gs pos="100000">
                <a:srgbClr val="d5c400">
                  <a:alpha val="26274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2478-AFF4-4479-8295-AB6EF2F85B44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609480" y="2057040"/>
            <a:ext cx="7772400" cy="41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eden is the biggest hydropower producer in the EU and the 10th biggest worldwide (IEA 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ydroelectric capacity 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6 781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 of total installed capacity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2.7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 of total renewable capacity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7.8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nual production (last 10 years) 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73 TW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x. 45% of the country’s total consumed electr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65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Black"/>
              </a:rPr>
              <a:t>Background - Hydropower in Swed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31"/>
          <p:cNvSpPr/>
          <p:nvPr/>
        </p:nvSpPr>
        <p:spPr>
          <a:xfrm>
            <a:off x="250920" y="2205000"/>
            <a:ext cx="864216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Climatological spring flood forecasts are difficult to b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or single rivers and forecast dates, a reduction of the forecast error by up to 30% points are attainable by circulation pattern analysis or statistical down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By a weighted multi-model, an overall reduction in forecasted error by almost 10% points are attai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692280" y="6237360"/>
            <a:ext cx="1909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156120" y="6237360"/>
            <a:ext cx="2831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95280" y="867960"/>
            <a:ext cx="757080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Preliminary findings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8" name="Rectangle 9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3" descr=""/>
          <p:cNvPicPr/>
          <p:nvPr/>
        </p:nvPicPr>
        <p:blipFill>
          <a:blip r:embed="rId1"/>
          <a:stretch/>
        </p:blipFill>
        <p:spPr>
          <a:xfrm>
            <a:off x="1481040" y="1247760"/>
            <a:ext cx="6181920" cy="41227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"/>
          <p:cNvPicPr/>
          <p:nvPr/>
        </p:nvPicPr>
        <p:blipFill>
          <a:blip r:embed="rId2"/>
          <a:stretch/>
        </p:blipFill>
        <p:spPr>
          <a:xfrm>
            <a:off x="8010360" y="5638680"/>
            <a:ext cx="11336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B2DD-D506-4A97-803D-67EC47CA7BB1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09480" y="2057040"/>
            <a:ext cx="7772400" cy="41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hort range forecasts, up to 10 days 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a meteorological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valuable at high flows (flood warnings), and for short term reservoir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ng range forecasts, 1 to 6 months 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matological forecast based on historical precipitation and temperature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valuable for water resources planning and operation of reservo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65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Black"/>
              </a:rPr>
              <a:t>Hydrologic Forecas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692280" y="6902280"/>
            <a:ext cx="19098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165240" y="665280"/>
            <a:ext cx="76341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Climatological ensembl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201600" y="1782720"/>
            <a:ext cx="22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istorical time 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9"/>
          <p:cNvSpPr/>
          <p:nvPr/>
        </p:nvSpPr>
        <p:spPr>
          <a:xfrm rot="2338800">
            <a:off x="1617480" y="4989600"/>
            <a:ext cx="1176120" cy="38088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6" descr="Hbvgra"/>
          <p:cNvPicPr/>
          <p:nvPr/>
        </p:nvPicPr>
        <p:blipFill>
          <a:blip r:embed="rId1"/>
          <a:stretch/>
        </p:blipFill>
        <p:spPr>
          <a:xfrm>
            <a:off x="3213000" y="4027320"/>
            <a:ext cx="2278080" cy="272916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29"/>
          <p:cNvSpPr/>
          <p:nvPr/>
        </p:nvSpPr>
        <p:spPr>
          <a:xfrm rot="19349400">
            <a:off x="5816520" y="4981320"/>
            <a:ext cx="1176480" cy="38088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3397320" y="3263760"/>
            <a:ext cx="19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6662880" y="1916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ounded Rectangle 11"/>
          <p:cNvSpPr/>
          <p:nvPr/>
        </p:nvSpPr>
        <p:spPr>
          <a:xfrm>
            <a:off x="209520" y="2252520"/>
            <a:ext cx="2273400" cy="2246400"/>
          </a:xfrm>
          <a:prstGeom prst="roundRect">
            <a:avLst>
              <a:gd name="adj" fmla="val 16667"/>
            </a:avLst>
          </a:prstGeom>
          <a:solidFill>
            <a:srgbClr val="fdeb1b"/>
          </a:solidFill>
          <a:ln w="25560">
            <a:solidFill>
              <a:srgbClr val="baa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2"/>
          <p:cNvSpPr/>
          <p:nvPr/>
        </p:nvSpPr>
        <p:spPr>
          <a:xfrm>
            <a:off x="209520" y="2374920"/>
            <a:ext cx="22734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1, 1962, 1963, 1964, 1965, 1966, 1967, 1968, 1969, 1970, 1971, 1972, 1973, 1974, 1975, 1976, 1977, 1978, 1979, 1980, 1981, 1982, 1983, 1984, 1985, 1986, 1987, 1988, 1989, 1990, 1991, 1992, 1993, 1994, 1995, 1996, 1997, 1998, 1999, 2000, 2001, 2002, 2003, 2004, 2005, 2006, 2007, 2008, 2009, 2010,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1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5880240" y="2379600"/>
            <a:ext cx="31636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6"/>
          <p:cNvSpPr/>
          <p:nvPr/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D788-5989-4DA2-837C-AF0A28E69A89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74760" y="46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Long-range forecast, 0201 - 0731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1"/>
          <a:stretch/>
        </p:blipFill>
        <p:spPr>
          <a:xfrm>
            <a:off x="950760" y="1630440"/>
            <a:ext cx="3278520" cy="21049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"/>
          <p:cNvPicPr/>
          <p:nvPr/>
        </p:nvPicPr>
        <p:blipFill>
          <a:blip r:embed="rId2"/>
          <a:stretch/>
        </p:blipFill>
        <p:spPr>
          <a:xfrm>
            <a:off x="806400" y="3900600"/>
            <a:ext cx="4276800" cy="240804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5"/>
          <p:cNvSpPr/>
          <p:nvPr/>
        </p:nvSpPr>
        <p:spPr>
          <a:xfrm>
            <a:off x="4890960" y="17305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1338480" y="1589040"/>
            <a:ext cx="211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simulated discharge (m</a:t>
            </a:r>
            <a:r>
              <a:rPr b="1" lang="sv-SE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324440" y="4146480"/>
            <a:ext cx="217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accumulated runoff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(86400 m</a:t>
            </a:r>
            <a:r>
              <a:rPr b="1" lang="sv-SE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, 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4818240" y="1946160"/>
            <a:ext cx="2973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Simulations made for February to July with precipitation and temperature series from many different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5270400" y="4468680"/>
            <a:ext cx="311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A statistical analysis is made to estimate the probable runoff volume over the forecast peri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6"/>
          <p:cNvSpPr/>
          <p:nvPr/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4FB7-CB5E-49B3-A6FB-2025BAF71AE9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6348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Long-range forecasts</a:t>
            </a:r>
            <a:br>
              <a:rPr sz="2600"/>
            </a:br>
            <a:r>
              <a:rPr b="0" lang="sv-SE" sz="1700" spc="-1" strike="noStrike">
                <a:solidFill>
                  <a:srgbClr val="000000"/>
                </a:solidFill>
                <a:latin typeface="Arial Black"/>
              </a:rPr>
              <a:t>the importance of the initial conditions</a:t>
            </a:r>
            <a:endParaRPr b="0" lang="en-US" sz="17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590400" y="1854360"/>
            <a:ext cx="3429000" cy="154116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4"/>
          <p:cNvSpPr/>
          <p:nvPr/>
        </p:nvSpPr>
        <p:spPr>
          <a:xfrm>
            <a:off x="879480" y="1638360"/>
            <a:ext cx="22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now water equivalent (m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2"/>
          <a:stretch/>
        </p:blipFill>
        <p:spPr>
          <a:xfrm>
            <a:off x="374760" y="4013280"/>
            <a:ext cx="4276440" cy="240804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6"/>
          <p:cNvSpPr/>
          <p:nvPr/>
        </p:nvSpPr>
        <p:spPr>
          <a:xfrm>
            <a:off x="892440" y="4259160"/>
            <a:ext cx="217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accumulated runoff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(86400 m</a:t>
            </a:r>
            <a:r>
              <a:rPr b="1" lang="sv-SE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, 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"/>
          <p:cNvPicPr/>
          <p:nvPr/>
        </p:nvPicPr>
        <p:blipFill>
          <a:blip r:embed="rId3"/>
          <a:stretch/>
        </p:blipFill>
        <p:spPr>
          <a:xfrm>
            <a:off x="4859280" y="4221000"/>
            <a:ext cx="3633840" cy="219888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8"/>
          <p:cNvSpPr/>
          <p:nvPr/>
        </p:nvSpPr>
        <p:spPr>
          <a:xfrm>
            <a:off x="5293080" y="4221000"/>
            <a:ext cx="217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accumulated runoff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(86400 m</a:t>
            </a:r>
            <a:r>
              <a:rPr b="1" lang="sv-SE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, 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612000" y="3754440"/>
            <a:ext cx="371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ff"/>
                </a:solidFill>
                <a:latin typeface="Comic Sans MS"/>
              </a:rPr>
              <a:t>Forecast made from 1989-02-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4952520" y="3726000"/>
            <a:ext cx="371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ff"/>
                </a:solidFill>
                <a:latin typeface="Comic Sans MS"/>
              </a:rPr>
              <a:t>Forecast made from 1996-02-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56720" y="828360"/>
            <a:ext cx="76345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 Black"/>
              </a:rPr>
              <a:t>IHMS – Integrated Hydrological Monitoring System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tshållare för bildnummer 3"/>
          <p:cNvSpPr/>
          <p:nvPr/>
        </p:nvSpPr>
        <p:spPr>
          <a:xfrm>
            <a:off x="8234280" y="6548400"/>
            <a:ext cx="511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6B0C-583C-4991-8CEE-D87BAB97895C}" type="slidenum">
              <a:rPr b="0" lang="sv-SE" sz="7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785880" y="1895400"/>
            <a:ext cx="6437160" cy="3619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3564000" y="3597120"/>
            <a:ext cx="5256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692280" y="6237360"/>
            <a:ext cx="1909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3156120" y="6237360"/>
            <a:ext cx="2831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7840" y="777600"/>
            <a:ext cx="76341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000000"/>
                </a:solidFill>
                <a:latin typeface="Arial Black"/>
              </a:rPr>
              <a:t>Climatologic ensemble</a:t>
            </a:r>
            <a:r>
              <a:rPr b="0" lang="sv-SE" sz="2600" spc="-1" strike="noStrike">
                <a:solidFill>
                  <a:srgbClr val="000000"/>
                </a:solidFill>
                <a:latin typeface="Arial Black"/>
              </a:rPr>
              <a:t>: Limitations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692280" y="2489040"/>
          <a:ext cx="6269040" cy="39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489040"/>
                    <a:ext cx="626904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Text Box 10"/>
          <p:cNvSpPr/>
          <p:nvPr/>
        </p:nvSpPr>
        <p:spPr>
          <a:xfrm>
            <a:off x="484200" y="1595520"/>
            <a:ext cx="8642160" cy="9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indent="-17604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Climatologic ensemble </a:t>
            </a:r>
            <a:r>
              <a:rPr b="0" lang="sv-S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Seasonal forecast evolution </a:t>
            </a:r>
            <a:r>
              <a:rPr b="0" lang="sv-SE" sz="1800" spc="-1" strike="noStrike" u="sng">
                <a:solidFill>
                  <a:srgbClr val="000000"/>
                </a:solidFill>
                <a:uFillTx/>
                <a:latin typeface="Arial"/>
              </a:rPr>
              <a:t>follows the climatology of the driving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notable improvement in performance over the last 25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2"/>
          <p:cNvSpPr/>
          <p:nvPr/>
        </p:nvSpPr>
        <p:spPr>
          <a:xfrm>
            <a:off x="1190520" y="3294000"/>
            <a:ext cx="58341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traight Connector 10"/>
          <p:cNvSpPr/>
          <p:nvPr/>
        </p:nvSpPr>
        <p:spPr>
          <a:xfrm>
            <a:off x="1190520" y="5595840"/>
            <a:ext cx="58341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749160" y="6499080"/>
            <a:ext cx="158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Arheimer et al.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4T20:54:03Z</dcterms:created>
  <dc:creator>Kean Foster</dc:creator>
  <dc:description/>
  <dc:language>en-US</dc:language>
  <cp:lastModifiedBy>Catherine Michaut</cp:lastModifiedBy>
  <dcterms:modified xsi:type="dcterms:W3CDTF">2015-10-01T08:40:32Z</dcterms:modified>
  <cp:revision>31</cp:revision>
  <dc:subject/>
  <dc:title>Seasonal Hydrologic Forecasts for the Hydropower Industry</dc:title>
</cp:coreProperties>
</file>