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18300" cy="985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2400" spc="-1" strike="noStrike">
                <a:solidFill>
                  <a:srgbClr val="000000"/>
                </a:solidFill>
                <a:latin typeface="Chica Mono"/>
              </a:rPr>
              <a:t>Click to move the slide</a:t>
            </a: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A7CA04-9D5C-4D48-92F6-C9F47D236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us and where we are from. Work looking at biases and drifts in climate models. Part of SPECS and PREFACE – two EU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4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DE1200-F37C-4CDF-A22E-1722EEDFBF1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p 2 starts now. Look at timings and use scientific logic to build up the chain of caus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ST error develops on the equator, pushing the ITCZ northw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13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48C8FA-AD0D-409C-8614-03013DDBD54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look at long—time plots for more clues. Small selection here. Area of interest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ST error in the western Pacific is separate to the error in the east. Takes 10 days to become signific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nd stress error leads this, linked via latent cooling in the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lso have a clue to the source of the error – coupling has no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ntinue to talk about the windier/calmer sides if there is tim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14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687456-EBE6-4F90-A535-3E777090011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ok at the atmosphere. See that the easterly error spans the lower trop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some point, we feed back the findings to the modellers, who may have a better clue as to what process might be causing this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ing the wind error is likely to fix the SST error and hence ITCZ drift – a step 3 wind restoring experiment could answer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not, we can carry on investig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5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C94B52-D602-48DB-8F8E-90E93C17DA3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ary: advocate the new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’s been applied to many models – five in Vanni`ere ’12, one in Vanni`ere ‘14 and one in our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nd that the same SST error in different models isn’t caused by the same thing – a key new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 through our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16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710A70-C2B3-46F2-B7FE-59F597C29A1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ion points – could this become a new standard protocol for model err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studies are doing different things – working together like this, we could find out much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ethod is flexible and any suggestions of reviews/improvements are encour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willing to share expert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7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E19072-1418-4C31-A91E-085C149D452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different projects, but both have elements looking at improving seasonal-to-decadal forecas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1980s, we have made great steps – now we can predict El Ni~no month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progress is limited by biases in our models that aren’t going away – see CMIP3 vs CMIP5 (annual mean erro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sldNum" idx="5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DDA43B-9A35-44A9-95BB-DB73E7DFD7C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? Look in more detail on the equator, and on a daily sc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—time plot; SST errors in colour, significance contour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: classic SST error derived from errors in upwe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parate error developing in the west – not just an extension of the error from the e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18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1E5C2B-3021-4B9C-AF13-329184555DA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’s causing that? Look at wind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type of plot as before – easterly errors in pink and westerly errors in 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se of wind error after 10 days, tailing off by 40 days. Same location and timing as SST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 eastern error is different – no wind stress error here, just a response later to coo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19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A8842D-EE74-482D-B555-FE2FE4F8E2D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 up the plots and look for the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two western Pacific boxes on the equator, divided by 165deg (windier in the east, calmer in the ea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ast is dominated by easterly trade wi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st is calmer, with a sometimes easterly flow. (The case on average through February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ly zonal wind stress error occurs in both regions, although only really affects the magnitude in the e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ives an excess latent cooling through evaporation, which cools the sea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0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04D24B-06D9-4C5A-945B-3A73F61B78C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we doing? Drift analys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y fixing the SSTs may correct the error, but it’s not the best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, we track the error back to its source – ideally, the first process that causes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ok at an error, build a few hypotheses on what could be causing it, look at that variable, then on to the next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 example here – error in A caused by B, not C, which is in turn caused by F, then on to the next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ssence, we are repeatedly asking the question “WHY?”. Like ki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1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064C8B-D146-43F8-B2BD-987231A986D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ary of the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ess wind causes wind in the east to strengthen but wind in the west to merely reve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onger winds in the east cause excess eva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nt cooling from the ocean cools the 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22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871055-CB37-4102-8A92-434F26237B4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oling shifts the warmest SSTs away from the equ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oves the ITCZ northw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6BBD14-F5CE-4848-9111-61325A7F4C4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biases/drifts are a limiting factor to forecast ski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the three biases. Note that ECMWF System 3 is an outlier here with no cold tongue – most other models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6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AE39B2-06F4-488A-BDFD-36091DA18ED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to address: systematic biases in climate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enty years of improvements, yet errors re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se are systematic –the same in many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sh towards use of climate models in seasonal foreca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identify and stamp out these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ic error – cold tongue. A problem if we want to forecast ENS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4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DC3DC4-8A5C-440C-BB2E-1C5D3002065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solutions. Model climatology is not the same as observed climatology. Result is a climatological drift (green l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correction methods – show ani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7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D66C73-B6D0-4B1C-A439-D6E6BAA0698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ward plan: two options. Continue to improve correction methods, or act to remove errors. The first method can only go so far – the removal of errors is the best long-term plan. But it is only now starting to be tack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ies have used seasonal hindcasts, and there is Transpose-AMIP, but no systematic appro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8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6D864A-278E-43E8-8CE5-28F5B6D0CC9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til recently! Vanni`ere ‘14 approach, which can be used to identify the root cause of an SST bias in a model. Any model, any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’s a bit like detective work – finding clues is the order of th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 through the five st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9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F17B10-2DEE-477E-BF7E-ABFB4781F80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et of four types of simulation are needed, although more can be used if available for extra c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ctly how the simulations are initialised depends on the bias in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now show steps 1 and 2 in action in our own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0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BE7DC9-C918-4FFD-8BD7-1E7F122313F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use System 4 (not System 3 as earlier – the cold tongue bias is back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teps 1 and 2, we have coupled and uncoupled hindcast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11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989747-77D7-4A60-8F49-EC9F61B9AF0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27320" cy="36954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2120" y="4681080"/>
            <a:ext cx="5373720" cy="4435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this is a quick trip through the resul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p 1: identify the bias. Here, we look at ITCZ location – indeed, not an SST bias. We show that the method can be applied to other error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ues: northward drift in ITCZ in all seasons, whether coupled or not. Difference in drift with coupling, so an SST error is likely to be invol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12"/>
          </p:nvPr>
        </p:nvSpPr>
        <p:spPr>
          <a:xfrm>
            <a:off x="3805200" y="9360360"/>
            <a:ext cx="2911320" cy="4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33A130-4BEF-4886-980B-35783398074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11280" y="377172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0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8968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844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1128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8968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844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7640" y="188640"/>
            <a:ext cx="698472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11280" y="377172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8968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8440" y="126828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1128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8968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8440" y="3771720"/>
            <a:ext cx="2550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547640" y="188640"/>
            <a:ext cx="6984720" cy="23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0280" y="377172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268280"/>
            <a:ext cx="38653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71720"/>
            <a:ext cx="79214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4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 hidden="1"/>
          <p:cNvSpPr/>
          <p:nvPr/>
        </p:nvSpPr>
        <p:spPr>
          <a:xfrm>
            <a:off x="0" y="616536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" name="Text Box 9" hidden="1"/>
          <p:cNvSpPr/>
          <p:nvPr/>
        </p:nvSpPr>
        <p:spPr>
          <a:xfrm>
            <a:off x="0" y="18900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" name="Rectangle 15" hidden="1"/>
          <p:cNvSpPr/>
          <p:nvPr/>
        </p:nvSpPr>
        <p:spPr>
          <a:xfrm>
            <a:off x="0" y="0"/>
            <a:ext cx="1547280" cy="112428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" name="TextBox 16" hidden="1"/>
          <p:cNvSpPr/>
          <p:nvPr/>
        </p:nvSpPr>
        <p:spPr>
          <a:xfrm>
            <a:off x="0" y="692640"/>
            <a:ext cx="15472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C286478F-2652-48DA-B019-63F8E492DF92}" type="datetime5">
              <a:rPr b="0" lang="en-GB" sz="2000" spc="-1" strike="noStrike">
                <a:solidFill>
                  <a:schemeClr val="accent1"/>
                </a:solidFill>
                <a:latin typeface="Chica Mono"/>
              </a:rPr>
              <a:t>29 Jul 2026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Box 1" hidden="1"/>
          <p:cNvSpPr/>
          <p:nvPr/>
        </p:nvSpPr>
        <p:spPr>
          <a:xfrm>
            <a:off x="8388360" y="6165360"/>
            <a:ext cx="75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3C668734-0E9A-46CB-8EC8-A9714E1DF53E}" type="slidenum">
              <a:rPr b="0" lang="en-GB" sz="2400" spc="-1" strike="noStrike">
                <a:solidFill>
                  <a:srgbClr val="ffffff"/>
                </a:solidFill>
                <a:latin typeface="Chica Mono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Box 17" hidden="1"/>
          <p:cNvSpPr/>
          <p:nvPr/>
        </p:nvSpPr>
        <p:spPr>
          <a:xfrm>
            <a:off x="25920" y="0"/>
            <a:ext cx="1547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4800" spc="-1" strike="noStrike">
                <a:solidFill>
                  <a:schemeClr val="accent1"/>
                </a:solidFill>
                <a:latin typeface="Chica Mono"/>
              </a:rPr>
              <a:t>&gt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7960" y="1268280"/>
            <a:ext cx="7947360" cy="934920"/>
          </a:xfrm>
          <a:prstGeom prst="rect">
            <a:avLst/>
          </a:prstGeom>
          <a:noFill/>
          <a:ln w="1908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1"/>
                </a:solidFill>
                <a:latin typeface="Chica Mono"/>
              </a:rPr>
              <a:t>Presentation Title</a:t>
            </a:r>
            <a:endParaRPr b="0" lang="en-GB" sz="4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18900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0" y="616536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9" name="TextBox 16"/>
          <p:cNvSpPr/>
          <p:nvPr/>
        </p:nvSpPr>
        <p:spPr>
          <a:xfrm>
            <a:off x="8648640" y="6109560"/>
            <a:ext cx="16761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055B8C7F-A207-475D-A2B4-30CB44520ED1}" type="slidenum">
              <a:rPr b="0" lang="en-GB" sz="2400" spc="-1" strike="noStrike">
                <a:solidFill>
                  <a:srgbClr val="ffffff"/>
                </a:solidFill>
                <a:latin typeface="Chica Mono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11280" y="2277000"/>
            <a:ext cx="794736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chemeClr val="accent1"/>
                </a:solidFill>
                <a:latin typeface="Chica Mono"/>
              </a:rPr>
              <a:t>Presentation Subtitle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0" y="188640"/>
            <a:ext cx="9143640" cy="43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Seminar/Conference Title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0" y="2925000"/>
            <a:ext cx="914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hica Mono"/>
              </a:rPr>
              <a:t>Picture can go here.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11280" y="4365000"/>
            <a:ext cx="7921440" cy="172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hica Mono"/>
              </a:rPr>
              <a:t>Presenter’s Name and Affiliation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4" name="TextBox 9"/>
          <p:cNvSpPr/>
          <p:nvPr/>
        </p:nvSpPr>
        <p:spPr>
          <a:xfrm>
            <a:off x="8388360" y="6165360"/>
            <a:ext cx="75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C78F8812-1218-460E-BAB3-3B0162CC765F}" type="slidenum">
              <a:rPr b="0" lang="en-GB" sz="2400" spc="-1" strike="noStrike">
                <a:solidFill>
                  <a:srgbClr val="ffffff"/>
                </a:solidFill>
                <a:latin typeface="Chica Mono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4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0" y="616536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0" y="189000"/>
            <a:ext cx="9143640" cy="46116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0" y="0"/>
            <a:ext cx="1547280" cy="112428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0" y="692640"/>
            <a:ext cx="15472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9ADB4764-03B1-4B69-BB89-676831A15ECF}" type="datetime5">
              <a:rPr b="0" lang="en-GB" sz="2000" spc="-1" strike="noStrike">
                <a:solidFill>
                  <a:schemeClr val="accent1"/>
                </a:solidFill>
                <a:latin typeface="Chica Mono"/>
              </a:rPr>
              <a:t>29 Jul 2026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8388360" y="6165360"/>
            <a:ext cx="7552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A3D419A4-3770-4C57-ADA8-A059EB6495E5}" type="slidenum">
              <a:rPr b="0" lang="en-GB" sz="2400" spc="-1" strike="noStrike">
                <a:solidFill>
                  <a:srgbClr val="ffffff"/>
                </a:solidFill>
                <a:latin typeface="Chica Mono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25920" y="0"/>
            <a:ext cx="1547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4800" spc="-1" strike="noStrike">
                <a:solidFill>
                  <a:schemeClr val="accent1"/>
                </a:solidFill>
                <a:latin typeface="Chica Mono"/>
              </a:rPr>
              <a:t>&gt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chemeClr val="accent1"/>
                </a:solidFill>
                <a:latin typeface="Chica Mono"/>
              </a:rPr>
              <a:t>Slide title</a:t>
            </a: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Chica Mono"/>
              </a:rPr>
              <a:t>Content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Chica Mono"/>
              </a:rPr>
              <a:t>Second level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Chica Mono"/>
              </a:rPr>
              <a:t>Third level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Chica Mono"/>
              </a:rPr>
              <a:t>Fourth level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Chica Mono"/>
              </a:rPr>
              <a:t>Fifth level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1"/>
                </a:solidFill>
                <a:latin typeface="Chica Mono"/>
              </a:rPr>
              <a:t>Slide subtitle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7960" y="1268280"/>
            <a:ext cx="7947360" cy="934920"/>
          </a:xfrm>
          <a:prstGeom prst="rect">
            <a:avLst/>
          </a:prstGeom>
          <a:noFill/>
          <a:ln w="1908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chemeClr val="accent1"/>
                </a:solidFill>
                <a:latin typeface="Chica Mono"/>
              </a:rPr>
              <a:t>Biases in Seasonal Forecasts</a:t>
            </a:r>
            <a:endParaRPr b="0" lang="en-GB" sz="40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061000"/>
            <a:ext cx="794736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chemeClr val="accent1"/>
                </a:solidFill>
                <a:latin typeface="Chica Mono"/>
              </a:rPr>
              <a:t>and a new approach to finding their root cause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188640"/>
            <a:ext cx="9143640" cy="43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CRP Working Group on Seasonal to Interannual Predictions – 14 September 2015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pic>
        <p:nvPicPr>
          <p:cNvPr id="105" name="Picture Placeholder 5" descr=""/>
          <p:cNvPicPr/>
          <p:nvPr/>
        </p:nvPicPr>
        <p:blipFill>
          <a:blip r:embed="rId1"/>
          <a:srcRect l="0" t="33931" r="0" b="33931"/>
          <a:stretch/>
        </p:blipFill>
        <p:spPr>
          <a:xfrm>
            <a:off x="0" y="2925000"/>
            <a:ext cx="9143640" cy="1295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1280" y="4307400"/>
            <a:ext cx="7921440" cy="172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Jon Shonk </a:t>
            </a:r>
            <a:r>
              <a:rPr b="0" lang="en-GB" sz="1200" spc="-1" strike="noStrike">
                <a:solidFill>
                  <a:srgbClr val="00ffff"/>
                </a:solidFill>
                <a:latin typeface="Chica Mono"/>
              </a:rPr>
              <a:t>(NCAS/University of Reading)</a:t>
            </a:r>
            <a:endParaRPr b="0" lang="en-GB" sz="12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Eric Guilyardi </a:t>
            </a:r>
            <a:r>
              <a:rPr b="0" lang="en-GB" sz="1200" spc="-1" strike="noStrike">
                <a:solidFill>
                  <a:srgbClr val="00ffff"/>
                </a:solidFill>
                <a:latin typeface="Chica Mono"/>
              </a:rPr>
              <a:t>(NCAS/University of Reading; LOCEAN/IPSL)</a:t>
            </a:r>
            <a:endParaRPr b="0" lang="en-GB" sz="12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Steve Woolnough </a:t>
            </a:r>
            <a:r>
              <a:rPr b="0" lang="en-GB" sz="1200" spc="-1" strike="noStrike">
                <a:solidFill>
                  <a:srgbClr val="00ffff"/>
                </a:solidFill>
                <a:latin typeface="Chica Mono"/>
              </a:rPr>
              <a:t>(NCAS/University of Reading)</a:t>
            </a:r>
            <a:endParaRPr b="0" lang="en-GB" sz="12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GB" sz="12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"/>
          <p:cNvPicPr/>
          <p:nvPr/>
        </p:nvPicPr>
        <p:blipFill>
          <a:blip r:embed="rId1"/>
          <a:stretch/>
        </p:blipFill>
        <p:spPr>
          <a:xfrm>
            <a:off x="4604760" y="1917360"/>
            <a:ext cx="4451040" cy="4103640"/>
          </a:xfrm>
          <a:prstGeom prst="rect">
            <a:avLst/>
          </a:prstGeom>
          <a:ln w="38100">
            <a:solidFill>
              <a:srgbClr val="0000ff"/>
            </a:solidFill>
            <a:round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Zonally averaged sea-surface temperature from 125° to 175° longitude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y Does the ITCZ Drift Northward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611280" y="2061000"/>
            <a:ext cx="393552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OISSTv2 observations (black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Hindcasts for M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One-month coupled hindcasts, starting in May (blu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Four-month coupled hindcasts, starting in February (gree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0" descr=""/>
          <p:cNvPicPr/>
          <p:nvPr/>
        </p:nvPicPr>
        <p:blipFill>
          <a:blip r:embed="rId2"/>
          <a:srcRect l="49049" t="11219" r="8544" b="71085"/>
          <a:stretch/>
        </p:blipFill>
        <p:spPr>
          <a:xfrm>
            <a:off x="6876360" y="4797000"/>
            <a:ext cx="1812600" cy="756360"/>
          </a:xfrm>
          <a:prstGeom prst="rect">
            <a:avLst/>
          </a:prstGeom>
          <a:ln w="38100">
            <a:noFill/>
          </a:ln>
        </p:spPr>
      </p:pic>
      <p:sp>
        <p:nvSpPr>
          <p:cNvPr id="213" name="TextBox 4"/>
          <p:cNvSpPr/>
          <p:nvPr/>
        </p:nvSpPr>
        <p:spPr>
          <a:xfrm>
            <a:off x="611280" y="4437000"/>
            <a:ext cx="3744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A strong cooling develops on the  equator, which reverses the sea-surface temperature gradient, pushing the ITCZ away from the equ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Up Arrow 13"/>
          <p:cNvSpPr/>
          <p:nvPr/>
        </p:nvSpPr>
        <p:spPr>
          <a:xfrm rot="10800000">
            <a:off x="4647600" y="2558880"/>
            <a:ext cx="401400" cy="359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15" name="Up Arrow 12"/>
          <p:cNvSpPr/>
          <p:nvPr/>
        </p:nvSpPr>
        <p:spPr>
          <a:xfrm rot="5400000">
            <a:off x="5428080" y="2759400"/>
            <a:ext cx="401400" cy="719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396036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hica Mono"/>
              </a:rPr>
              <a:t>Longitude—time plots of error in SST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Chica Mono"/>
              </a:rPr>
              <a:t>(/ °C) and zonal wind stress (/ N 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Chica Mono"/>
              </a:rPr>
              <a:t>-2</a:t>
            </a:r>
            <a:r>
              <a:rPr b="0" lang="en-GB" sz="1800" spc="-1" strike="noStrike">
                <a:solidFill>
                  <a:srgbClr val="ffffff"/>
                </a:solidFill>
                <a:latin typeface="Chica Mono"/>
              </a:rPr>
              <a:t>).</a:t>
            </a: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Start dates: February.</a:t>
            </a: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Significance contour as before.</a:t>
            </a: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Chica Mono"/>
              </a:rPr>
              <a:t>Reds: too warm; blues: too cold; pinks: too easterly; greens: too westerly.</a:t>
            </a: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y Is There a Wind Stress Error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grpSp>
        <p:nvGrpSpPr>
          <p:cNvPr id="219" name="Group 21"/>
          <p:cNvGrpSpPr/>
          <p:nvPr/>
        </p:nvGrpSpPr>
        <p:grpSpPr>
          <a:xfrm>
            <a:off x="107640" y="3573000"/>
            <a:ext cx="8928720" cy="3240000"/>
            <a:chOff x="107640" y="3573000"/>
            <a:chExt cx="8928720" cy="3240000"/>
          </a:xfrm>
        </p:grpSpPr>
        <p:sp>
          <p:nvSpPr>
            <p:cNvPr id="220" name="Rectangle 20"/>
            <p:cNvSpPr/>
            <p:nvPr/>
          </p:nvSpPr>
          <p:spPr>
            <a:xfrm>
              <a:off x="107640" y="3573000"/>
              <a:ext cx="8928720" cy="324000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grpSp>
          <p:nvGrpSpPr>
            <p:cNvPr id="221" name="Group 16"/>
            <p:cNvGrpSpPr/>
            <p:nvPr/>
          </p:nvGrpSpPr>
          <p:grpSpPr>
            <a:xfrm>
              <a:off x="151200" y="3789000"/>
              <a:ext cx="8825400" cy="2951640"/>
              <a:chOff x="151200" y="3789000"/>
              <a:chExt cx="8825400" cy="2951640"/>
            </a:xfrm>
          </p:grpSpPr>
          <p:pic>
            <p:nvPicPr>
              <p:cNvPr id="222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689800" y="3789000"/>
                <a:ext cx="3286800" cy="29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835000" y="3789000"/>
                <a:ext cx="3286800" cy="29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1" descr=""/>
              <p:cNvPicPr/>
              <p:nvPr/>
            </p:nvPicPr>
            <p:blipFill>
              <a:blip r:embed="rId3"/>
              <a:srcRect l="0" t="0" r="5256" b="0"/>
              <a:stretch/>
            </p:blipFill>
            <p:spPr>
              <a:xfrm>
                <a:off x="197640" y="3789000"/>
                <a:ext cx="3074040" cy="295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TextBox 12"/>
              <p:cNvSpPr/>
              <p:nvPr/>
            </p:nvSpPr>
            <p:spPr>
              <a:xfrm>
                <a:off x="1241280" y="6393960"/>
                <a:ext cx="11858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longitu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Box 13"/>
              <p:cNvSpPr/>
              <p:nvPr/>
            </p:nvSpPr>
            <p:spPr>
              <a:xfrm rot="16200000">
                <a:off x="-686880" y="5032080"/>
                <a:ext cx="2009520" cy="3330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time into forecast / 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4"/>
              <p:cNvSpPr/>
              <p:nvPr/>
            </p:nvSpPr>
            <p:spPr>
              <a:xfrm>
                <a:off x="3833280" y="6399360"/>
                <a:ext cx="11858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longitu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Box 15"/>
              <p:cNvSpPr/>
              <p:nvPr/>
            </p:nvSpPr>
            <p:spPr>
              <a:xfrm>
                <a:off x="6713640" y="6381360"/>
                <a:ext cx="115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longitu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TextBox 19"/>
          <p:cNvSpPr/>
          <p:nvPr/>
        </p:nvSpPr>
        <p:spPr>
          <a:xfrm>
            <a:off x="4572000" y="1268280"/>
            <a:ext cx="3960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chemeClr val="accent1"/>
                </a:solidFill>
                <a:latin typeface="Chica Mono"/>
              </a:rPr>
              <a:t>The SST error in the western Pacific develops separat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chemeClr val="accent1"/>
                </a:solidFill>
                <a:latin typeface="Chica Mono"/>
              </a:rPr>
              <a:t>Errors in zonal wind stress are the likely cause of these via latent coo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chemeClr val="accent1"/>
                </a:solidFill>
                <a:latin typeface="Chica Mono"/>
              </a:rPr>
              <a:t>There is a very small coupling effect on the wind stress err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le 22"/>
          <p:cNvSpPr/>
          <p:nvPr/>
        </p:nvSpPr>
        <p:spPr>
          <a:xfrm flipH="1">
            <a:off x="6372360" y="4293000"/>
            <a:ext cx="779760" cy="201600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31" name="Rounded Rectangle 26"/>
          <p:cNvSpPr/>
          <p:nvPr/>
        </p:nvSpPr>
        <p:spPr>
          <a:xfrm flipH="1">
            <a:off x="3564000" y="4293000"/>
            <a:ext cx="779760" cy="201600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32" name="Rounded Rectangle 30"/>
          <p:cNvSpPr/>
          <p:nvPr/>
        </p:nvSpPr>
        <p:spPr>
          <a:xfrm flipH="1">
            <a:off x="899640" y="4281480"/>
            <a:ext cx="779760" cy="201600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683640" y="3673080"/>
            <a:ext cx="216000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ST error (coup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3204000" y="3660480"/>
            <a:ext cx="296496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nd stress error (uncoup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5"/>
          <p:cNvSpPr/>
          <p:nvPr/>
        </p:nvSpPr>
        <p:spPr>
          <a:xfrm>
            <a:off x="6156000" y="3660480"/>
            <a:ext cx="273600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nd stress error (coup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8000" y="1268280"/>
            <a:ext cx="338436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Zonal wind errors with height at different times in the forecast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tart dates: February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Pinks: too easterly; greens: too westerly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verage over latitude range -5° to 5°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at Is Wrong in the Atmosphere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148000" y="4293000"/>
            <a:ext cx="3384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The easterly burst of anomalous wind extends deep into the atmosphere and corresponds to a westerly error alof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tretch/>
        </p:blipFill>
        <p:spPr>
          <a:xfrm>
            <a:off x="107640" y="1412640"/>
            <a:ext cx="4948920" cy="4796640"/>
          </a:xfrm>
          <a:prstGeom prst="rect">
            <a:avLst/>
          </a:prstGeom>
          <a:ln w="0">
            <a:solidFill>
              <a:srgbClr val="0000ff"/>
            </a:solidFill>
          </a:ln>
        </p:spPr>
      </p:pic>
      <p:pic>
        <p:nvPicPr>
          <p:cNvPr id="241" name="Picture 3" descr=""/>
          <p:cNvPicPr/>
          <p:nvPr/>
        </p:nvPicPr>
        <p:blipFill>
          <a:blip r:embed="rId2"/>
          <a:srcRect l="647" t="1512" r="764" b="0"/>
          <a:stretch/>
        </p:blipFill>
        <p:spPr>
          <a:xfrm>
            <a:off x="155160" y="1456920"/>
            <a:ext cx="4866120" cy="45385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8"/>
          <p:cNvSpPr/>
          <p:nvPr/>
        </p:nvSpPr>
        <p:spPr>
          <a:xfrm>
            <a:off x="2018160" y="5902920"/>
            <a:ext cx="74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Here, we advocate a new systematic approach to identifying the root cause of biases in climate models, using the initial drift of initialised hindcast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Vannière et al (2014) have shown that the cold tongue SST bias has roots in different processes in different model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In the ECMWF System 4 model, we used the method to find that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drift in the ITCZ in the western Pacific is caused by a cold bias in the sea surface at the equator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is is, in turn, driven by surface wind stresses that are too strong, mediated by excess latent cooling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wind stress error comes from wind errors in the atmosphere component of the model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Summary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propose that this approach could become a standard method of identifying the root cause of biases in models and addressing them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uch a systematic approach can prompt targeted model developments to actual fix SST biases rather than the current “hope for the best” approach during the development phase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is strategy can be extended to biases in other fields – the full potential of the approach still needs to be explored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are happy to share experience with groups interested in trying it – WGSIP, together with WGCM, could sponsor the approach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Discussion Points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To get this far, we have iteratively found answers for steps 1 and 2 – the source of the ITCZ drift is the error in zonal wind in the atmosphere, acting via the sea-surface temperature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could now proceed further with step 2 by trying to identify the process that is causing this wind error to develop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Alternatively, we could perform a modified version of step 3 – perform a nudging experiment and compare with the hindcasts, but nudging the winds rather than the sea-surface temperature field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have already identified that the error is in the atmospheric component of the model, so step 4 would not show anything new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Next Steps...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(Not sure what sort of thing to put here – something to discuss?)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Possible Future Collaborations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In combination, finding answers to these should be enough evidence to point towards the cause of a model bias. 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In the last few decades, we have made much progress in our ability to forecast the El Niño Southern Oscillati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However, our progress is being limited by systematic biases in climate model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Progress in ENSO Prediction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611280" y="6198120"/>
            <a:ext cx="626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chemeClr val="accent1"/>
                </a:solidFill>
                <a:latin typeface="Chica Mono"/>
              </a:rPr>
              <a:t>Figure courtesy of Benoît Vanniè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22"/>
          <p:cNvGrpSpPr/>
          <p:nvPr/>
        </p:nvGrpSpPr>
        <p:grpSpPr>
          <a:xfrm>
            <a:off x="89640" y="3212640"/>
            <a:ext cx="8964000" cy="2880000"/>
            <a:chOff x="89640" y="3212640"/>
            <a:chExt cx="8964000" cy="2880000"/>
          </a:xfrm>
        </p:grpSpPr>
        <p:grpSp>
          <p:nvGrpSpPr>
            <p:cNvPr id="112" name="Group 8"/>
            <p:cNvGrpSpPr/>
            <p:nvPr/>
          </p:nvGrpSpPr>
          <p:grpSpPr>
            <a:xfrm>
              <a:off x="89640" y="3212640"/>
              <a:ext cx="8964000" cy="2880000"/>
              <a:chOff x="89640" y="3212640"/>
              <a:chExt cx="8964000" cy="2880000"/>
            </a:xfrm>
          </p:grpSpPr>
          <p:sp>
            <p:nvSpPr>
              <p:cNvPr id="113" name="Rectangle 7"/>
              <p:cNvSpPr/>
              <p:nvPr/>
            </p:nvSpPr>
            <p:spPr>
              <a:xfrm>
                <a:off x="89640" y="3212640"/>
                <a:ext cx="8964000" cy="2880000"/>
              </a:xfrm>
              <a:prstGeom prst="rect">
                <a:avLst/>
              </a:prstGeom>
              <a:solidFill>
                <a:schemeClr val="bg1"/>
              </a:solidFill>
              <a:ln w="127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pic>
            <p:nvPicPr>
              <p:cNvPr id="114" name="Picture 9" descr="BlogSSTbiases"/>
              <p:cNvPicPr/>
              <p:nvPr/>
            </p:nvPicPr>
            <p:blipFill>
              <a:blip r:embed="rId1"/>
              <a:srcRect l="0" t="0" r="25615" b="66235"/>
              <a:stretch/>
            </p:blipFill>
            <p:spPr>
              <a:xfrm>
                <a:off x="641520" y="3445920"/>
                <a:ext cx="4113000" cy="249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2" descr="BlogSSTbiases"/>
              <p:cNvPicPr/>
              <p:nvPr/>
            </p:nvPicPr>
            <p:blipFill>
              <a:blip r:embed="rId2"/>
              <a:srcRect l="85049" t="33164" r="3432" b="27846"/>
              <a:stretch/>
            </p:blipFill>
            <p:spPr>
              <a:xfrm>
                <a:off x="179640" y="3576960"/>
                <a:ext cx="553680" cy="250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13" descr="BlogSSTbiases"/>
              <p:cNvPicPr/>
              <p:nvPr/>
            </p:nvPicPr>
            <p:blipFill>
              <a:blip r:embed="rId3"/>
              <a:srcRect l="0" t="33765" r="23824" b="33793"/>
              <a:stretch/>
            </p:blipFill>
            <p:spPr>
              <a:xfrm>
                <a:off x="4761000" y="3539880"/>
                <a:ext cx="4190760" cy="2420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" name="TextBox 21"/>
            <p:cNvSpPr/>
            <p:nvPr/>
          </p:nvSpPr>
          <p:spPr>
            <a:xfrm>
              <a:off x="1609200" y="3450600"/>
              <a:ext cx="265896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MIP3 (2006 – 20 mode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3"/>
            <p:cNvSpPr/>
            <p:nvPr/>
          </p:nvSpPr>
          <p:spPr>
            <a:xfrm>
              <a:off x="5669640" y="3450600"/>
              <a:ext cx="265896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MIP5 (2013 – 21 mode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24"/>
            <p:cNvSpPr/>
            <p:nvPr/>
          </p:nvSpPr>
          <p:spPr>
            <a:xfrm>
              <a:off x="185760" y="3285000"/>
              <a:ext cx="1106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ST err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Rounded Rectangle 17"/>
          <p:cNvSpPr/>
          <p:nvPr/>
        </p:nvSpPr>
        <p:spPr>
          <a:xfrm flipH="1">
            <a:off x="2410920" y="4581000"/>
            <a:ext cx="1439640" cy="43164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21" name="Rounded Rectangle 20"/>
          <p:cNvSpPr/>
          <p:nvPr/>
        </p:nvSpPr>
        <p:spPr>
          <a:xfrm flipH="1">
            <a:off x="6515640" y="4581000"/>
            <a:ext cx="1439640" cy="43164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1"/>
                </a:solidFill>
                <a:latin typeface="Chica Mono"/>
              </a:rPr>
              <a:t>STEP 1. 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Identify what the errors are, and examine whether the error is caused by the atmosphere or ocean part of the model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need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 long, fully coupled simulation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n atmosphere-only simulation (with SST prescribed)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n ocean-only simulation (with atmospheric forcings prescribed)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Longitude—time plot of error in sea-surface temperature: ECMWF System 4 minus OISSTv2. Units are °C. (Could cut slides 11 and 12.)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y Does the Sea Cool on the Equator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5076000" y="2133000"/>
            <a:ext cx="33120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tart dates: Febru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Reds: too warm; blues: too co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Red contour: signific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verage over latitude range -2° to 2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10"/>
          <p:cNvGrpSpPr/>
          <p:nvPr/>
        </p:nvGrpSpPr>
        <p:grpSpPr>
          <a:xfrm>
            <a:off x="179640" y="2133000"/>
            <a:ext cx="4762440" cy="4292640"/>
            <a:chOff x="179640" y="2133000"/>
            <a:chExt cx="4762440" cy="4292640"/>
          </a:xfrm>
        </p:grpSpPr>
        <p:pic>
          <p:nvPicPr>
            <p:cNvPr id="272" name="Picture 7" descr=""/>
            <p:cNvPicPr/>
            <p:nvPr/>
          </p:nvPicPr>
          <p:blipFill>
            <a:blip r:embed="rId1"/>
            <a:stretch/>
          </p:blipFill>
          <p:spPr>
            <a:xfrm>
              <a:off x="179640" y="2133000"/>
              <a:ext cx="4762440" cy="4292640"/>
            </a:xfrm>
            <a:prstGeom prst="rect">
              <a:avLst/>
            </a:prstGeom>
            <a:ln w="38100">
              <a:solidFill>
                <a:srgbClr val="0000ff"/>
              </a:solidFill>
              <a:round/>
            </a:ln>
          </p:spPr>
        </p:pic>
        <p:sp>
          <p:nvSpPr>
            <p:cNvPr id="273" name="TextBox 8"/>
            <p:cNvSpPr/>
            <p:nvPr/>
          </p:nvSpPr>
          <p:spPr>
            <a:xfrm>
              <a:off x="1730520" y="5922000"/>
              <a:ext cx="1103040" cy="363960"/>
            </a:xfrm>
            <a:prstGeom prst="rect">
              <a:avLst/>
            </a:prstGeom>
            <a:solidFill>
              <a:schemeClr val="bg1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ng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9"/>
            <p:cNvSpPr/>
            <p:nvPr/>
          </p:nvSpPr>
          <p:spPr>
            <a:xfrm rot="16200000">
              <a:off x="-699480" y="4000680"/>
              <a:ext cx="2237400" cy="363960"/>
            </a:xfrm>
            <a:prstGeom prst="rect">
              <a:avLst/>
            </a:prstGeom>
            <a:solidFill>
              <a:schemeClr val="bg1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 into forecast /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1"/>
          <p:cNvSpPr/>
          <p:nvPr/>
        </p:nvSpPr>
        <p:spPr>
          <a:xfrm>
            <a:off x="5076000" y="4293000"/>
            <a:ext cx="3456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A significant cooling error develops in the western Pacific that is independent of the cooling error to the e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oup 13"/>
          <p:cNvGrpSpPr/>
          <p:nvPr/>
        </p:nvGrpSpPr>
        <p:grpSpPr>
          <a:xfrm>
            <a:off x="1547640" y="2421000"/>
            <a:ext cx="3528360" cy="3384000"/>
            <a:chOff x="1547640" y="2421000"/>
            <a:chExt cx="3528360" cy="3384000"/>
          </a:xfrm>
        </p:grpSpPr>
        <p:sp>
          <p:nvSpPr>
            <p:cNvPr id="277" name="Rounded Rectangle 3"/>
            <p:cNvSpPr/>
            <p:nvPr/>
          </p:nvSpPr>
          <p:spPr>
            <a:xfrm>
              <a:off x="1547640" y="2421000"/>
              <a:ext cx="791640" cy="3384000"/>
            </a:xfrm>
            <a:prstGeom prst="roundRect">
              <a:avLst>
                <a:gd name="adj" fmla="val 16667"/>
              </a:avLst>
            </a:prstGeom>
            <a:noFill/>
            <a:ln w="5715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cxnSp>
          <p:nvCxnSpPr>
            <p:cNvPr id="278" name="Straight Connector 12"/>
            <p:cNvCxnSpPr>
              <a:stCxn id="275" idx="1"/>
              <a:endCxn id="277" idx="3"/>
            </p:cNvCxnSpPr>
            <p:nvPr/>
          </p:nvCxnSpPr>
          <p:spPr>
            <a:xfrm flipH="1" flipV="1">
              <a:off x="2339640" y="4113000"/>
              <a:ext cx="2736720" cy="842040"/>
            </a:xfrm>
            <a:prstGeom prst="straightConnector1">
              <a:avLst/>
            </a:prstGeom>
            <a:ln w="38100">
              <a:solidFill>
                <a:srgbClr val="0000ff"/>
              </a:solidFill>
              <a:round/>
            </a:ln>
          </p:spPr>
        </p:cxnSp>
      </p:grp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Longitude—time plot of error in sea-surface temperature: ECMWF System 4 minus OISSTv2. Units are N 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hica Mono"/>
              </a:rPr>
              <a:t>-2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y Does the Sea Cool on the Equator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639000" y="2277000"/>
            <a:ext cx="35629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tart dates: Febru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Pinks: too easterly; greens: too wester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Red contour: signific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verage over latitude range -2° to 2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639000" y="4437000"/>
            <a:ext cx="3284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There is a pulse of excess easterly wind stress that peaks after ten days, before fading ag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4421160" y="1989000"/>
            <a:ext cx="4722480" cy="4240800"/>
            <a:chOff x="4421160" y="1989000"/>
            <a:chExt cx="4722480" cy="4240800"/>
          </a:xfrm>
        </p:grpSpPr>
        <p:pic>
          <p:nvPicPr>
            <p:cNvPr id="285" name="Picture 5" descr=""/>
            <p:cNvPicPr/>
            <p:nvPr/>
          </p:nvPicPr>
          <p:blipFill>
            <a:blip r:embed="rId1"/>
            <a:stretch/>
          </p:blipFill>
          <p:spPr>
            <a:xfrm>
              <a:off x="4421160" y="1989000"/>
              <a:ext cx="4722480" cy="4240800"/>
            </a:xfrm>
            <a:prstGeom prst="rect">
              <a:avLst/>
            </a:prstGeom>
            <a:ln w="28575">
              <a:solidFill>
                <a:srgbClr val="0000ff"/>
              </a:solidFill>
              <a:round/>
            </a:ln>
          </p:spPr>
        </p:pic>
        <p:sp>
          <p:nvSpPr>
            <p:cNvPr id="286" name="TextBox 9"/>
            <p:cNvSpPr/>
            <p:nvPr/>
          </p:nvSpPr>
          <p:spPr>
            <a:xfrm>
              <a:off x="5939280" y="5762520"/>
              <a:ext cx="1103040" cy="363960"/>
            </a:xfrm>
            <a:prstGeom prst="rect">
              <a:avLst/>
            </a:prstGeom>
            <a:solidFill>
              <a:schemeClr val="bg1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ng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0"/>
            <p:cNvSpPr/>
            <p:nvPr/>
          </p:nvSpPr>
          <p:spPr>
            <a:xfrm rot="16200000">
              <a:off x="3509280" y="3841560"/>
              <a:ext cx="2237400" cy="363960"/>
            </a:xfrm>
            <a:prstGeom prst="rect">
              <a:avLst/>
            </a:prstGeom>
            <a:solidFill>
              <a:schemeClr val="bg1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 into forecast /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2"/>
          <p:cNvGrpSpPr/>
          <p:nvPr/>
        </p:nvGrpSpPr>
        <p:grpSpPr>
          <a:xfrm>
            <a:off x="3923640" y="2997000"/>
            <a:ext cx="2591640" cy="2808000"/>
            <a:chOff x="3923640" y="2997000"/>
            <a:chExt cx="2591640" cy="2808000"/>
          </a:xfrm>
        </p:grpSpPr>
        <p:sp>
          <p:nvSpPr>
            <p:cNvPr id="289" name="Rounded Rectangle 13"/>
            <p:cNvSpPr/>
            <p:nvPr/>
          </p:nvSpPr>
          <p:spPr>
            <a:xfrm flipH="1">
              <a:off x="5435280" y="2997000"/>
              <a:ext cx="1079640" cy="2808000"/>
            </a:xfrm>
            <a:prstGeom prst="roundRect">
              <a:avLst>
                <a:gd name="adj" fmla="val 16667"/>
              </a:avLst>
            </a:prstGeom>
            <a:noFill/>
            <a:ln w="5715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cxnSp>
          <p:nvCxnSpPr>
            <p:cNvPr id="290" name="Straight Connector 14"/>
            <p:cNvCxnSpPr>
              <a:stCxn id="283" idx="3"/>
              <a:endCxn id="289" idx="3"/>
            </p:cNvCxnSpPr>
            <p:nvPr/>
          </p:nvCxnSpPr>
          <p:spPr>
            <a:xfrm flipV="1">
              <a:off x="3923640" y="4401000"/>
              <a:ext cx="1512720" cy="698040"/>
            </a:xfrm>
            <a:prstGeom prst="straightConnector1">
              <a:avLst/>
            </a:prstGeom>
            <a:ln w="38100">
              <a:solidFill>
                <a:srgbClr val="0000ff"/>
              </a:solidFill>
              <a:round/>
            </a:ln>
          </p:spPr>
        </p:cxnSp>
      </p:grpSp>
      <p:sp>
        <p:nvSpPr>
          <p:cNvPr id="291" name="TextBox 15"/>
          <p:cNvSpPr/>
          <p:nvPr/>
        </p:nvSpPr>
        <p:spPr>
          <a:xfrm>
            <a:off x="2075760" y="5352120"/>
            <a:ext cx="906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Chica Mono"/>
              </a:rPr>
              <a:t>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39000" y="1268280"/>
            <a:ext cx="34286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Averages of variables over whole boxes on the equator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st box: longitude 120° to 165°; latitude -2° to 2°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East box: longitude 165° to 210°; latitude -2° to 2°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Black: observati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Red: coupled model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Blue: uncoupled model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tart date: February; years 1996 to 2009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What Links the Errors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grpSp>
        <p:nvGrpSpPr>
          <p:cNvPr id="295" name="Group 17"/>
          <p:cNvGrpSpPr/>
          <p:nvPr/>
        </p:nvGrpSpPr>
        <p:grpSpPr>
          <a:xfrm>
            <a:off x="4320360" y="188640"/>
            <a:ext cx="5003640" cy="5976360"/>
            <a:chOff x="4320360" y="188640"/>
            <a:chExt cx="5003640" cy="5976360"/>
          </a:xfrm>
        </p:grpSpPr>
        <p:grpSp>
          <p:nvGrpSpPr>
            <p:cNvPr id="296" name="Group 16"/>
            <p:cNvGrpSpPr/>
            <p:nvPr/>
          </p:nvGrpSpPr>
          <p:grpSpPr>
            <a:xfrm>
              <a:off x="4320360" y="188640"/>
              <a:ext cx="5003640" cy="5976360"/>
              <a:chOff x="4320360" y="188640"/>
              <a:chExt cx="5003640" cy="5976360"/>
            </a:xfrm>
          </p:grpSpPr>
          <p:sp>
            <p:nvSpPr>
              <p:cNvPr id="297" name="Rectangle 27"/>
              <p:cNvSpPr/>
              <p:nvPr/>
            </p:nvSpPr>
            <p:spPr>
              <a:xfrm>
                <a:off x="5054760" y="188640"/>
                <a:ext cx="4269240" cy="5976360"/>
              </a:xfrm>
              <a:prstGeom prst="rect">
                <a:avLst/>
              </a:prstGeom>
              <a:solidFill>
                <a:schemeClr val="bg1"/>
              </a:solidFill>
              <a:ln w="5715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pic>
            <p:nvPicPr>
              <p:cNvPr id="298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7020360" y="324360"/>
                <a:ext cx="2205360" cy="55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151240" y="315720"/>
                <a:ext cx="2214360" cy="55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Rectangle 36"/>
              <p:cNvSpPr/>
              <p:nvPr/>
            </p:nvSpPr>
            <p:spPr>
              <a:xfrm>
                <a:off x="7305120" y="824400"/>
                <a:ext cx="210240" cy="684360"/>
              </a:xfrm>
              <a:prstGeom prst="rect">
                <a:avLst/>
              </a:prstGeom>
              <a:solidFill>
                <a:schemeClr val="bg1"/>
              </a:solidFill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sp>
            <p:nvSpPr>
              <p:cNvPr id="301" name="Rectangle 37"/>
              <p:cNvSpPr/>
              <p:nvPr/>
            </p:nvSpPr>
            <p:spPr>
              <a:xfrm>
                <a:off x="7237080" y="2586960"/>
                <a:ext cx="203040" cy="413280"/>
              </a:xfrm>
              <a:prstGeom prst="rect">
                <a:avLst/>
              </a:prstGeom>
              <a:solidFill>
                <a:schemeClr val="bg1"/>
              </a:solidFill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sp>
            <p:nvSpPr>
              <p:cNvPr id="302" name="Rectangle 6"/>
              <p:cNvSpPr/>
              <p:nvPr/>
            </p:nvSpPr>
            <p:spPr>
              <a:xfrm>
                <a:off x="5190480" y="1476360"/>
                <a:ext cx="270720" cy="4268880"/>
              </a:xfrm>
              <a:prstGeom prst="rect">
                <a:avLst/>
              </a:prstGeom>
              <a:solidFill>
                <a:schemeClr val="bg1"/>
              </a:solidFill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sp>
            <p:nvSpPr>
              <p:cNvPr id="303" name="Rectangle 33"/>
              <p:cNvSpPr/>
              <p:nvPr/>
            </p:nvSpPr>
            <p:spPr>
              <a:xfrm>
                <a:off x="5325840" y="459720"/>
                <a:ext cx="270720" cy="1097640"/>
              </a:xfrm>
              <a:prstGeom prst="rect">
                <a:avLst/>
              </a:prstGeom>
              <a:solidFill>
                <a:schemeClr val="bg1"/>
              </a:solidFill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sp>
            <p:nvSpPr>
              <p:cNvPr id="304" name="TextBox 4"/>
              <p:cNvSpPr/>
              <p:nvPr/>
            </p:nvSpPr>
            <p:spPr>
              <a:xfrm>
                <a:off x="4536360" y="2086200"/>
                <a:ext cx="1127880" cy="7290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zonal wind stress /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N m</a:t>
                </a:r>
                <a:r>
                  <a:rPr b="0" lang="en-GB" sz="1400" spc="-1" strike="noStrike" baseline="30000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29"/>
              <p:cNvSpPr/>
              <p:nvPr/>
            </p:nvSpPr>
            <p:spPr>
              <a:xfrm>
                <a:off x="4320360" y="3373920"/>
                <a:ext cx="1208520" cy="7290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wind stress magnitude / N m</a:t>
                </a:r>
                <a:r>
                  <a:rPr b="0" lang="en-GB" sz="1400" spc="-1" strike="noStrike" baseline="30000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30"/>
              <p:cNvSpPr/>
              <p:nvPr/>
            </p:nvSpPr>
            <p:spPr>
              <a:xfrm>
                <a:off x="4392360" y="4865040"/>
                <a:ext cx="1000800" cy="94212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latent heat flux  / W m</a:t>
                </a:r>
                <a:r>
                  <a:rPr b="0" lang="en-GB" sz="1400" spc="-1" strike="noStrike" baseline="30000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Box 32"/>
              <p:cNvSpPr/>
              <p:nvPr/>
            </p:nvSpPr>
            <p:spPr>
              <a:xfrm>
                <a:off x="5004000" y="332640"/>
                <a:ext cx="696960" cy="5158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SST 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°C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4"/>
              <p:cNvSpPr/>
              <p:nvPr/>
            </p:nvSpPr>
            <p:spPr>
              <a:xfrm>
                <a:off x="7238520" y="4886640"/>
                <a:ext cx="135360" cy="789840"/>
              </a:xfrm>
              <a:prstGeom prst="rect">
                <a:avLst/>
              </a:prstGeom>
              <a:solidFill>
                <a:schemeClr val="bg1"/>
              </a:solidFill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ffff"/>
                  </a:solidFill>
                  <a:latin typeface="Chica Mono"/>
                </a:endParaRPr>
              </a:p>
            </p:txBody>
          </p:sp>
          <p:sp>
            <p:nvSpPr>
              <p:cNvPr id="309" name="TextBox 34"/>
              <p:cNvSpPr/>
              <p:nvPr/>
            </p:nvSpPr>
            <p:spPr>
              <a:xfrm>
                <a:off x="5800320" y="256320"/>
                <a:ext cx="1490760" cy="30276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WEST BOX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35"/>
              <p:cNvSpPr/>
              <p:nvPr/>
            </p:nvSpPr>
            <p:spPr>
              <a:xfrm>
                <a:off x="7630200" y="256320"/>
                <a:ext cx="1490760" cy="30276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EAST BOX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TextBox 38"/>
            <p:cNvSpPr/>
            <p:nvPr/>
          </p:nvSpPr>
          <p:spPr>
            <a:xfrm>
              <a:off x="6120720" y="580464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ime into forecast /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1"/>
                </a:solidFill>
                <a:latin typeface="Chica Mono"/>
              </a:rPr>
              <a:t>STEP 2. 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Examine the model variables and deduce the order in which they drift into error and, using scientific logic, determine a chain of causality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need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hindcasts, on a seasonal to decadal scale. 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1"/>
                </a:solidFill>
                <a:latin typeface="Chica Mono"/>
              </a:rPr>
              <a:t>STEP 3. 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Identify the effect on the error of the sea-surface temperature error, and determine whether the error is sourced locally or remotely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need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fully coupled hindcasts from Step 2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further fully coupled hindcasts, but with sea-surface temperature in the erroneous region restored to observation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1"/>
                </a:solidFill>
                <a:latin typeface="Chica Mono"/>
              </a:rPr>
              <a:t>STEP 4. 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Examine the effect of the ocean by forcing a short ocean-only simulation with atmospheric forcing applied in different way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need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n ocean-only simulation that uses the atmospheric fluxes directly from the model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n ocean-only simulation that calculates the fluxes empirically from model fields. 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1"/>
                </a:solidFill>
                <a:latin typeface="Chica Mono"/>
              </a:rPr>
              <a:t>STEP 5.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Using all of the evidence, identify the root cause of the bia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The key question here is: “WHY?”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identify the root cause of the error by analysing the chain of events in the climate model that lead to the development of these error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Approach: Drift Analysis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grpSp>
        <p:nvGrpSpPr>
          <p:cNvPr id="324" name="Group 26"/>
          <p:cNvGrpSpPr/>
          <p:nvPr/>
        </p:nvGrpSpPr>
        <p:grpSpPr>
          <a:xfrm>
            <a:off x="477000" y="3072600"/>
            <a:ext cx="4242600" cy="968040"/>
            <a:chOff x="477000" y="3072600"/>
            <a:chExt cx="4242600" cy="968040"/>
          </a:xfrm>
        </p:grpSpPr>
        <p:grpSp>
          <p:nvGrpSpPr>
            <p:cNvPr id="325" name="Group 8"/>
            <p:cNvGrpSpPr/>
            <p:nvPr/>
          </p:nvGrpSpPr>
          <p:grpSpPr>
            <a:xfrm>
              <a:off x="747360" y="3176280"/>
              <a:ext cx="3546360" cy="864360"/>
              <a:chOff x="747360" y="3176280"/>
              <a:chExt cx="3546360" cy="864360"/>
            </a:xfrm>
          </p:grpSpPr>
          <p:cxnSp>
            <p:nvCxnSpPr>
              <p:cNvPr id="326" name="Straight Arrow Connector 5"/>
              <p:cNvCxnSpPr/>
              <p:nvPr/>
            </p:nvCxnSpPr>
            <p:spPr>
              <a:xfrm flipV="1">
                <a:off x="883800" y="3176280"/>
                <a:ext cx="360" cy="86472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27" name="Straight Arrow Connector 7"/>
              <p:cNvCxnSpPr/>
              <p:nvPr/>
            </p:nvCxnSpPr>
            <p:spPr>
              <a:xfrm>
                <a:off x="747360" y="358308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28" name="TextBox 19"/>
            <p:cNvSpPr/>
            <p:nvPr/>
          </p:nvSpPr>
          <p:spPr>
            <a:xfrm>
              <a:off x="4002120" y="353664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Box 23"/>
            <p:cNvSpPr/>
            <p:nvPr/>
          </p:nvSpPr>
          <p:spPr>
            <a:xfrm>
              <a:off x="477000" y="3072600"/>
              <a:ext cx="3229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27"/>
          <p:cNvGrpSpPr/>
          <p:nvPr/>
        </p:nvGrpSpPr>
        <p:grpSpPr>
          <a:xfrm>
            <a:off x="473040" y="4112640"/>
            <a:ext cx="4236840" cy="936000"/>
            <a:chOff x="473040" y="4112640"/>
            <a:chExt cx="4236840" cy="936000"/>
          </a:xfrm>
        </p:grpSpPr>
        <p:grpSp>
          <p:nvGrpSpPr>
            <p:cNvPr id="331" name="Group 10"/>
            <p:cNvGrpSpPr/>
            <p:nvPr/>
          </p:nvGrpSpPr>
          <p:grpSpPr>
            <a:xfrm>
              <a:off x="747360" y="4184640"/>
              <a:ext cx="3546360" cy="864000"/>
              <a:chOff x="747360" y="4184640"/>
              <a:chExt cx="3546360" cy="864000"/>
            </a:xfrm>
          </p:grpSpPr>
          <p:cxnSp>
            <p:nvCxnSpPr>
              <p:cNvPr id="332" name="Straight Arrow Connector 11"/>
              <p:cNvCxnSpPr/>
              <p:nvPr/>
            </p:nvCxnSpPr>
            <p:spPr>
              <a:xfrm flipV="1">
                <a:off x="883800" y="4184640"/>
                <a:ext cx="360" cy="864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33" name="Straight Arrow Connector 12"/>
              <p:cNvCxnSpPr/>
              <p:nvPr/>
            </p:nvCxnSpPr>
            <p:spPr>
              <a:xfrm>
                <a:off x="747360" y="459108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34" name="TextBox 20"/>
            <p:cNvSpPr/>
            <p:nvPr/>
          </p:nvSpPr>
          <p:spPr>
            <a:xfrm>
              <a:off x="3992400" y="457668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Box 24"/>
            <p:cNvSpPr/>
            <p:nvPr/>
          </p:nvSpPr>
          <p:spPr>
            <a:xfrm>
              <a:off x="473040" y="4112640"/>
              <a:ext cx="3319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28"/>
          <p:cNvGrpSpPr/>
          <p:nvPr/>
        </p:nvGrpSpPr>
        <p:grpSpPr>
          <a:xfrm>
            <a:off x="471240" y="5088960"/>
            <a:ext cx="4238640" cy="967680"/>
            <a:chOff x="471240" y="5088960"/>
            <a:chExt cx="4238640" cy="967680"/>
          </a:xfrm>
        </p:grpSpPr>
        <p:grpSp>
          <p:nvGrpSpPr>
            <p:cNvPr id="337" name="Group 14"/>
            <p:cNvGrpSpPr/>
            <p:nvPr/>
          </p:nvGrpSpPr>
          <p:grpSpPr>
            <a:xfrm>
              <a:off x="747360" y="5192640"/>
              <a:ext cx="3546360" cy="864000"/>
              <a:chOff x="747360" y="5192640"/>
              <a:chExt cx="3546360" cy="864000"/>
            </a:xfrm>
          </p:grpSpPr>
          <p:cxnSp>
            <p:nvCxnSpPr>
              <p:cNvPr id="338" name="Straight Arrow Connector 15"/>
              <p:cNvCxnSpPr/>
              <p:nvPr/>
            </p:nvCxnSpPr>
            <p:spPr>
              <a:xfrm flipV="1">
                <a:off x="883800" y="5192640"/>
                <a:ext cx="360" cy="864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39" name="Straight Arrow Connector 16"/>
              <p:cNvCxnSpPr/>
              <p:nvPr/>
            </p:nvCxnSpPr>
            <p:spPr>
              <a:xfrm>
                <a:off x="747360" y="559944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40" name="TextBox 22"/>
            <p:cNvSpPr/>
            <p:nvPr/>
          </p:nvSpPr>
          <p:spPr>
            <a:xfrm>
              <a:off x="3992400" y="555300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Box 25"/>
            <p:cNvSpPr/>
            <p:nvPr/>
          </p:nvSpPr>
          <p:spPr>
            <a:xfrm>
              <a:off x="471240" y="5088960"/>
              <a:ext cx="329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Freeform 9"/>
          <p:cNvSpPr/>
          <p:nvPr/>
        </p:nvSpPr>
        <p:spPr>
          <a:xfrm>
            <a:off x="899640" y="3501000"/>
            <a:ext cx="3312000" cy="451440"/>
          </a:xfrm>
          <a:custGeom>
            <a:avLst/>
            <a:gdLst>
              <a:gd name="textAreaLeft" fmla="*/ 0 w 3312000"/>
              <a:gd name="textAreaRight" fmla="*/ 3312360 w 3312000"/>
              <a:gd name="textAreaTop" fmla="*/ 0 h 451440"/>
              <a:gd name="textAreaBottom" fmla="*/ 451800 h 451440"/>
            </a:gdLst>
            <a:ahLst/>
            <a:rect l="textAreaLeft" t="textAreaTop" r="textAreaRight" b="textAreaBottom"/>
            <a:pathLst>
              <a:path w="5343525" h="640082">
                <a:moveTo>
                  <a:pt x="0" y="30482"/>
                </a:moveTo>
                <a:cubicBezTo>
                  <a:pt x="52387" y="12226"/>
                  <a:pt x="104775" y="-6030"/>
                  <a:pt x="171450" y="1907"/>
                </a:cubicBezTo>
                <a:cubicBezTo>
                  <a:pt x="238125" y="9844"/>
                  <a:pt x="322263" y="65407"/>
                  <a:pt x="400050" y="78107"/>
                </a:cubicBezTo>
                <a:cubicBezTo>
                  <a:pt x="477838" y="90807"/>
                  <a:pt x="546100" y="86044"/>
                  <a:pt x="638175" y="78107"/>
                </a:cubicBezTo>
                <a:cubicBezTo>
                  <a:pt x="730250" y="70170"/>
                  <a:pt x="877888" y="27307"/>
                  <a:pt x="952500" y="30482"/>
                </a:cubicBezTo>
                <a:cubicBezTo>
                  <a:pt x="1027112" y="33657"/>
                  <a:pt x="1035050" y="95570"/>
                  <a:pt x="1085850" y="97157"/>
                </a:cubicBezTo>
                <a:cubicBezTo>
                  <a:pt x="1136650" y="98745"/>
                  <a:pt x="1149350" y="35245"/>
                  <a:pt x="1257300" y="40007"/>
                </a:cubicBezTo>
                <a:cubicBezTo>
                  <a:pt x="1365250" y="44769"/>
                  <a:pt x="1544637" y="101919"/>
                  <a:pt x="1733550" y="125732"/>
                </a:cubicBezTo>
                <a:cubicBezTo>
                  <a:pt x="1922463" y="149545"/>
                  <a:pt x="2173288" y="138432"/>
                  <a:pt x="2390775" y="182882"/>
                </a:cubicBezTo>
                <a:cubicBezTo>
                  <a:pt x="2608263" y="227332"/>
                  <a:pt x="2765425" y="340045"/>
                  <a:pt x="3038475" y="392432"/>
                </a:cubicBezTo>
                <a:cubicBezTo>
                  <a:pt x="3311525" y="444819"/>
                  <a:pt x="4029075" y="497207"/>
                  <a:pt x="4029075" y="497207"/>
                </a:cubicBezTo>
                <a:lnTo>
                  <a:pt x="5343525" y="640082"/>
                </a:lnTo>
              </a:path>
            </a:pathLst>
          </a:custGeom>
          <a:noFill/>
          <a:ln w="571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43" name="Freeform 13"/>
          <p:cNvSpPr/>
          <p:nvPr/>
        </p:nvSpPr>
        <p:spPr>
          <a:xfrm>
            <a:off x="899640" y="4221000"/>
            <a:ext cx="3312000" cy="527040"/>
          </a:xfrm>
          <a:custGeom>
            <a:avLst/>
            <a:gdLst>
              <a:gd name="textAreaLeft" fmla="*/ 0 w 3312000"/>
              <a:gd name="textAreaRight" fmla="*/ 3312360 w 33120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5295900" h="747352">
                <a:moveTo>
                  <a:pt x="0" y="560793"/>
                </a:moveTo>
                <a:lnTo>
                  <a:pt x="342900" y="541743"/>
                </a:lnTo>
                <a:cubicBezTo>
                  <a:pt x="479425" y="509993"/>
                  <a:pt x="682625" y="390930"/>
                  <a:pt x="819150" y="370293"/>
                </a:cubicBezTo>
                <a:cubicBezTo>
                  <a:pt x="955675" y="349656"/>
                  <a:pt x="1011238" y="425855"/>
                  <a:pt x="1162050" y="417918"/>
                </a:cubicBezTo>
                <a:cubicBezTo>
                  <a:pt x="1312862" y="409981"/>
                  <a:pt x="1558925" y="386168"/>
                  <a:pt x="1724025" y="322668"/>
                </a:cubicBezTo>
                <a:cubicBezTo>
                  <a:pt x="1889125" y="259168"/>
                  <a:pt x="2005013" y="84543"/>
                  <a:pt x="2152650" y="36918"/>
                </a:cubicBezTo>
                <a:cubicBezTo>
                  <a:pt x="2300287" y="-10707"/>
                  <a:pt x="2462213" y="-13882"/>
                  <a:pt x="2609850" y="36918"/>
                </a:cubicBezTo>
                <a:cubicBezTo>
                  <a:pt x="2757488" y="87718"/>
                  <a:pt x="2862263" y="295681"/>
                  <a:pt x="3038475" y="341718"/>
                </a:cubicBezTo>
                <a:cubicBezTo>
                  <a:pt x="3214687" y="387755"/>
                  <a:pt x="3459162" y="302030"/>
                  <a:pt x="3667125" y="313143"/>
                </a:cubicBezTo>
                <a:cubicBezTo>
                  <a:pt x="3875088" y="324256"/>
                  <a:pt x="4075113" y="340131"/>
                  <a:pt x="4286250" y="408393"/>
                </a:cubicBezTo>
                <a:cubicBezTo>
                  <a:pt x="4497387" y="476655"/>
                  <a:pt x="4765675" y="673506"/>
                  <a:pt x="4933950" y="722718"/>
                </a:cubicBezTo>
                <a:cubicBezTo>
                  <a:pt x="5102225" y="771931"/>
                  <a:pt x="5199062" y="737799"/>
                  <a:pt x="5295900" y="703668"/>
                </a:cubicBezTo>
              </a:path>
            </a:pathLst>
          </a:custGeom>
          <a:noFill/>
          <a:ln w="5715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44" name="Freeform 18"/>
          <p:cNvSpPr/>
          <p:nvPr/>
        </p:nvSpPr>
        <p:spPr>
          <a:xfrm>
            <a:off x="899640" y="5301360"/>
            <a:ext cx="3312000" cy="550800"/>
          </a:xfrm>
          <a:custGeom>
            <a:avLst/>
            <a:gdLst>
              <a:gd name="textAreaLeft" fmla="*/ 0 w 3312000"/>
              <a:gd name="textAreaRight" fmla="*/ 3312360 w 33120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5210175" h="780729">
                <a:moveTo>
                  <a:pt x="0" y="646562"/>
                </a:moveTo>
                <a:cubicBezTo>
                  <a:pt x="146844" y="501305"/>
                  <a:pt x="293688" y="356049"/>
                  <a:pt x="419100" y="313187"/>
                </a:cubicBezTo>
                <a:cubicBezTo>
                  <a:pt x="544512" y="270325"/>
                  <a:pt x="665163" y="390974"/>
                  <a:pt x="752475" y="389387"/>
                </a:cubicBezTo>
                <a:cubicBezTo>
                  <a:pt x="839787" y="387800"/>
                  <a:pt x="855663" y="367162"/>
                  <a:pt x="942975" y="303662"/>
                </a:cubicBezTo>
                <a:cubicBezTo>
                  <a:pt x="1030287" y="240162"/>
                  <a:pt x="1181100" y="40137"/>
                  <a:pt x="1276350" y="8387"/>
                </a:cubicBezTo>
                <a:cubicBezTo>
                  <a:pt x="1371600" y="-23363"/>
                  <a:pt x="1438275" y="40137"/>
                  <a:pt x="1514475" y="113162"/>
                </a:cubicBezTo>
                <a:cubicBezTo>
                  <a:pt x="1590675" y="186187"/>
                  <a:pt x="1654175" y="425900"/>
                  <a:pt x="1733550" y="446537"/>
                </a:cubicBezTo>
                <a:cubicBezTo>
                  <a:pt x="1812925" y="467174"/>
                  <a:pt x="1908175" y="248099"/>
                  <a:pt x="1990725" y="236987"/>
                </a:cubicBezTo>
                <a:cubicBezTo>
                  <a:pt x="2073275" y="225875"/>
                  <a:pt x="2141538" y="333825"/>
                  <a:pt x="2228850" y="379862"/>
                </a:cubicBezTo>
                <a:cubicBezTo>
                  <a:pt x="2316162" y="425899"/>
                  <a:pt x="2419350" y="505275"/>
                  <a:pt x="2514600" y="513212"/>
                </a:cubicBezTo>
                <a:cubicBezTo>
                  <a:pt x="2609850" y="521149"/>
                  <a:pt x="2684463" y="411612"/>
                  <a:pt x="2800350" y="427487"/>
                </a:cubicBezTo>
                <a:cubicBezTo>
                  <a:pt x="2916238" y="443362"/>
                  <a:pt x="3052763" y="581474"/>
                  <a:pt x="3209925" y="608462"/>
                </a:cubicBezTo>
                <a:cubicBezTo>
                  <a:pt x="3367088" y="635449"/>
                  <a:pt x="3567113" y="570362"/>
                  <a:pt x="3743325" y="589412"/>
                </a:cubicBezTo>
                <a:cubicBezTo>
                  <a:pt x="3919538" y="608462"/>
                  <a:pt x="4129087" y="691012"/>
                  <a:pt x="4267200" y="722762"/>
                </a:cubicBezTo>
                <a:cubicBezTo>
                  <a:pt x="4405313" y="754512"/>
                  <a:pt x="4464050" y="786262"/>
                  <a:pt x="4572000" y="779912"/>
                </a:cubicBezTo>
                <a:cubicBezTo>
                  <a:pt x="4679950" y="773562"/>
                  <a:pt x="4808538" y="686249"/>
                  <a:pt x="4914900" y="684662"/>
                </a:cubicBezTo>
                <a:cubicBezTo>
                  <a:pt x="5021262" y="683075"/>
                  <a:pt x="5210175" y="770387"/>
                  <a:pt x="5210175" y="770387"/>
                </a:cubicBezTo>
              </a:path>
            </a:pathLst>
          </a:custGeom>
          <a:noFill/>
          <a:ln w="5715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grpSp>
        <p:nvGrpSpPr>
          <p:cNvPr id="345" name="Group 29"/>
          <p:cNvGrpSpPr/>
          <p:nvPr/>
        </p:nvGrpSpPr>
        <p:grpSpPr>
          <a:xfrm>
            <a:off x="4582080" y="3036960"/>
            <a:ext cx="4197240" cy="968040"/>
            <a:chOff x="4582080" y="3036960"/>
            <a:chExt cx="4197240" cy="968040"/>
          </a:xfrm>
        </p:grpSpPr>
        <p:grpSp>
          <p:nvGrpSpPr>
            <p:cNvPr id="346" name="Group 30"/>
            <p:cNvGrpSpPr/>
            <p:nvPr/>
          </p:nvGrpSpPr>
          <p:grpSpPr>
            <a:xfrm>
              <a:off x="4807080" y="3141000"/>
              <a:ext cx="3546360" cy="864000"/>
              <a:chOff x="4807080" y="3141000"/>
              <a:chExt cx="3546360" cy="864000"/>
            </a:xfrm>
          </p:grpSpPr>
          <p:cxnSp>
            <p:nvCxnSpPr>
              <p:cNvPr id="347" name="Straight Arrow Connector 33"/>
              <p:cNvCxnSpPr/>
              <p:nvPr/>
            </p:nvCxnSpPr>
            <p:spPr>
              <a:xfrm flipV="1">
                <a:off x="4943520" y="3141000"/>
                <a:ext cx="360" cy="864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48" name="Straight Arrow Connector 34"/>
              <p:cNvCxnSpPr/>
              <p:nvPr/>
            </p:nvCxnSpPr>
            <p:spPr>
              <a:xfrm>
                <a:off x="4807080" y="354744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49" name="TextBox 31"/>
            <p:cNvSpPr/>
            <p:nvPr/>
          </p:nvSpPr>
          <p:spPr>
            <a:xfrm>
              <a:off x="8061840" y="350100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TextBox 32"/>
            <p:cNvSpPr/>
            <p:nvPr/>
          </p:nvSpPr>
          <p:spPr>
            <a:xfrm>
              <a:off x="4582080" y="3036960"/>
              <a:ext cx="3488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Group 35"/>
          <p:cNvGrpSpPr/>
          <p:nvPr/>
        </p:nvGrpSpPr>
        <p:grpSpPr>
          <a:xfrm>
            <a:off x="4594680" y="4077000"/>
            <a:ext cx="4174920" cy="936000"/>
            <a:chOff x="4594680" y="4077000"/>
            <a:chExt cx="4174920" cy="936000"/>
          </a:xfrm>
        </p:grpSpPr>
        <p:grpSp>
          <p:nvGrpSpPr>
            <p:cNvPr id="352" name="Group 36"/>
            <p:cNvGrpSpPr/>
            <p:nvPr/>
          </p:nvGrpSpPr>
          <p:grpSpPr>
            <a:xfrm>
              <a:off x="4807080" y="4149000"/>
              <a:ext cx="3546360" cy="864000"/>
              <a:chOff x="4807080" y="4149000"/>
              <a:chExt cx="3546360" cy="864000"/>
            </a:xfrm>
          </p:grpSpPr>
          <p:cxnSp>
            <p:nvCxnSpPr>
              <p:cNvPr id="353" name="Straight Arrow Connector 39"/>
              <p:cNvCxnSpPr/>
              <p:nvPr/>
            </p:nvCxnSpPr>
            <p:spPr>
              <a:xfrm flipV="1">
                <a:off x="4943520" y="4149000"/>
                <a:ext cx="360" cy="864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54" name="Straight Arrow Connector 40"/>
              <p:cNvCxnSpPr/>
              <p:nvPr/>
            </p:nvCxnSpPr>
            <p:spPr>
              <a:xfrm>
                <a:off x="4807080" y="455580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55" name="TextBox 37"/>
            <p:cNvSpPr/>
            <p:nvPr/>
          </p:nvSpPr>
          <p:spPr>
            <a:xfrm>
              <a:off x="8052120" y="454104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Box 38"/>
            <p:cNvSpPr/>
            <p:nvPr/>
          </p:nvSpPr>
          <p:spPr>
            <a:xfrm>
              <a:off x="4594680" y="4077000"/>
              <a:ext cx="3106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41"/>
          <p:cNvGrpSpPr/>
          <p:nvPr/>
        </p:nvGrpSpPr>
        <p:grpSpPr>
          <a:xfrm>
            <a:off x="4598640" y="5053320"/>
            <a:ext cx="4170960" cy="968040"/>
            <a:chOff x="4598640" y="5053320"/>
            <a:chExt cx="4170960" cy="968040"/>
          </a:xfrm>
        </p:grpSpPr>
        <p:grpSp>
          <p:nvGrpSpPr>
            <p:cNvPr id="358" name="Group 42"/>
            <p:cNvGrpSpPr/>
            <p:nvPr/>
          </p:nvGrpSpPr>
          <p:grpSpPr>
            <a:xfrm>
              <a:off x="4807080" y="5157000"/>
              <a:ext cx="3546360" cy="864360"/>
              <a:chOff x="4807080" y="5157000"/>
              <a:chExt cx="3546360" cy="864360"/>
            </a:xfrm>
          </p:grpSpPr>
          <p:cxnSp>
            <p:nvCxnSpPr>
              <p:cNvPr id="359" name="Straight Arrow Connector 45"/>
              <p:cNvCxnSpPr/>
              <p:nvPr/>
            </p:nvCxnSpPr>
            <p:spPr>
              <a:xfrm flipV="1">
                <a:off x="4943520" y="5157000"/>
                <a:ext cx="360" cy="86472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  <p:cxnSp>
            <p:nvCxnSpPr>
              <p:cNvPr id="360" name="Straight Arrow Connector 46"/>
              <p:cNvCxnSpPr/>
              <p:nvPr/>
            </p:nvCxnSpPr>
            <p:spPr>
              <a:xfrm>
                <a:off x="4807080" y="5563800"/>
                <a:ext cx="3546720" cy="360"/>
              </a:xfrm>
              <a:prstGeom prst="straightConnector1">
                <a:avLst/>
              </a:prstGeom>
              <a:ln w="38100">
                <a:solidFill>
                  <a:srgbClr val="ffffff"/>
                </a:solidFill>
                <a:round/>
                <a:tailEnd len="med" type="triangle" w="med"/>
              </a:ln>
            </p:spPr>
          </p:cxnSp>
        </p:grpSp>
        <p:sp>
          <p:nvSpPr>
            <p:cNvPr id="361" name="TextBox 43"/>
            <p:cNvSpPr/>
            <p:nvPr/>
          </p:nvSpPr>
          <p:spPr>
            <a:xfrm>
              <a:off x="8052120" y="5517360"/>
              <a:ext cx="717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2000" spc="-1" strike="noStrike">
                  <a:solidFill>
                    <a:srgbClr val="00ffff"/>
                  </a:solidFill>
                  <a:latin typeface="Chica Mono"/>
                </a:rPr>
                <a:t>ti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Box 44"/>
            <p:cNvSpPr/>
            <p:nvPr/>
          </p:nvSpPr>
          <p:spPr>
            <a:xfrm>
              <a:off x="4598640" y="5053320"/>
              <a:ext cx="3016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GB" sz="2000" spc="-1" strike="noStrike">
                  <a:solidFill>
                    <a:srgbClr val="00ffff"/>
                  </a:solidFill>
                  <a:latin typeface="Chica Mono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Freeform 4"/>
          <p:cNvSpPr/>
          <p:nvPr/>
        </p:nvSpPr>
        <p:spPr>
          <a:xfrm>
            <a:off x="4943520" y="3530880"/>
            <a:ext cx="3257280" cy="105480"/>
          </a:xfrm>
          <a:custGeom>
            <a:avLst/>
            <a:gdLst>
              <a:gd name="textAreaLeft" fmla="*/ 0 w 3257280"/>
              <a:gd name="textAreaRight" fmla="*/ 3257640 w 3257280"/>
              <a:gd name="textAreaTop" fmla="*/ 0 h 105480"/>
              <a:gd name="textAreaBottom" fmla="*/ 105840 h 105480"/>
            </a:gdLst>
            <a:ahLst/>
            <a:rect l="textAreaLeft" t="textAreaTop" r="textAreaRight" b="textAreaBottom"/>
            <a:pathLst>
              <a:path w="3257550" h="105985">
                <a:moveTo>
                  <a:pt x="0" y="74412"/>
                </a:moveTo>
                <a:cubicBezTo>
                  <a:pt x="103981" y="55362"/>
                  <a:pt x="207963" y="36312"/>
                  <a:pt x="347663" y="41074"/>
                </a:cubicBezTo>
                <a:cubicBezTo>
                  <a:pt x="487363" y="45836"/>
                  <a:pt x="704056" y="95843"/>
                  <a:pt x="838200" y="102987"/>
                </a:cubicBezTo>
                <a:cubicBezTo>
                  <a:pt x="972344" y="110131"/>
                  <a:pt x="996950" y="83937"/>
                  <a:pt x="1152525" y="83937"/>
                </a:cubicBezTo>
                <a:cubicBezTo>
                  <a:pt x="1308100" y="83937"/>
                  <a:pt x="1527175" y="115687"/>
                  <a:pt x="1771650" y="102987"/>
                </a:cubicBezTo>
                <a:cubicBezTo>
                  <a:pt x="2016125" y="90287"/>
                  <a:pt x="2371725" y="22818"/>
                  <a:pt x="2619375" y="7737"/>
                </a:cubicBezTo>
                <a:cubicBezTo>
                  <a:pt x="2867025" y="-7344"/>
                  <a:pt x="3062287" y="2577"/>
                  <a:pt x="3257550" y="12499"/>
                </a:cubicBezTo>
              </a:path>
            </a:pathLst>
          </a:custGeom>
          <a:noFill/>
          <a:ln w="5715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64" name="Freeform 17"/>
          <p:cNvSpPr/>
          <p:nvPr/>
        </p:nvSpPr>
        <p:spPr>
          <a:xfrm>
            <a:off x="4943520" y="4203000"/>
            <a:ext cx="3257280" cy="892440"/>
          </a:xfrm>
          <a:custGeom>
            <a:avLst/>
            <a:gdLst>
              <a:gd name="textAreaLeft" fmla="*/ 0 w 3257280"/>
              <a:gd name="textAreaRight" fmla="*/ 3257640 w 325728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3257550" h="892876">
                <a:moveTo>
                  <a:pt x="0" y="354649"/>
                </a:moveTo>
                <a:cubicBezTo>
                  <a:pt x="28972" y="409814"/>
                  <a:pt x="57944" y="464980"/>
                  <a:pt x="90488" y="440374"/>
                </a:cubicBezTo>
                <a:cubicBezTo>
                  <a:pt x="123032" y="415768"/>
                  <a:pt x="168275" y="231617"/>
                  <a:pt x="195263" y="207011"/>
                </a:cubicBezTo>
                <a:cubicBezTo>
                  <a:pt x="222251" y="182405"/>
                  <a:pt x="225426" y="260986"/>
                  <a:pt x="252413" y="292736"/>
                </a:cubicBezTo>
                <a:cubicBezTo>
                  <a:pt x="279400" y="324486"/>
                  <a:pt x="323851" y="405448"/>
                  <a:pt x="357188" y="397511"/>
                </a:cubicBezTo>
                <a:cubicBezTo>
                  <a:pt x="390525" y="389574"/>
                  <a:pt x="419101" y="203836"/>
                  <a:pt x="452438" y="245111"/>
                </a:cubicBezTo>
                <a:cubicBezTo>
                  <a:pt x="485775" y="286386"/>
                  <a:pt x="527844" y="617380"/>
                  <a:pt x="557213" y="645161"/>
                </a:cubicBezTo>
                <a:cubicBezTo>
                  <a:pt x="586582" y="672942"/>
                  <a:pt x="604838" y="503080"/>
                  <a:pt x="628650" y="411799"/>
                </a:cubicBezTo>
                <a:cubicBezTo>
                  <a:pt x="652462" y="320518"/>
                  <a:pt x="676275" y="95886"/>
                  <a:pt x="700088" y="97474"/>
                </a:cubicBezTo>
                <a:cubicBezTo>
                  <a:pt x="723901" y="99062"/>
                  <a:pt x="737394" y="368937"/>
                  <a:pt x="771525" y="421324"/>
                </a:cubicBezTo>
                <a:cubicBezTo>
                  <a:pt x="805656" y="473711"/>
                  <a:pt x="862013" y="443549"/>
                  <a:pt x="904875" y="411799"/>
                </a:cubicBezTo>
                <a:cubicBezTo>
                  <a:pt x="947737" y="380049"/>
                  <a:pt x="989806" y="218124"/>
                  <a:pt x="1028700" y="230824"/>
                </a:cubicBezTo>
                <a:cubicBezTo>
                  <a:pt x="1067594" y="243524"/>
                  <a:pt x="1106488" y="518161"/>
                  <a:pt x="1138238" y="487999"/>
                </a:cubicBezTo>
                <a:cubicBezTo>
                  <a:pt x="1169988" y="457837"/>
                  <a:pt x="1199356" y="-15238"/>
                  <a:pt x="1219200" y="49849"/>
                </a:cubicBezTo>
                <a:cubicBezTo>
                  <a:pt x="1239044" y="114936"/>
                  <a:pt x="1238250" y="811849"/>
                  <a:pt x="1257300" y="878524"/>
                </a:cubicBezTo>
                <a:cubicBezTo>
                  <a:pt x="1276350" y="945199"/>
                  <a:pt x="1299369" y="558643"/>
                  <a:pt x="1333500" y="449899"/>
                </a:cubicBezTo>
                <a:cubicBezTo>
                  <a:pt x="1367631" y="341155"/>
                  <a:pt x="1425576" y="218917"/>
                  <a:pt x="1462088" y="226061"/>
                </a:cubicBezTo>
                <a:cubicBezTo>
                  <a:pt x="1498601" y="233205"/>
                  <a:pt x="1512094" y="486411"/>
                  <a:pt x="1552575" y="492761"/>
                </a:cubicBezTo>
                <a:cubicBezTo>
                  <a:pt x="1593056" y="499111"/>
                  <a:pt x="1652588" y="322898"/>
                  <a:pt x="1704975" y="264161"/>
                </a:cubicBezTo>
                <a:cubicBezTo>
                  <a:pt x="1757362" y="205424"/>
                  <a:pt x="1818481" y="95092"/>
                  <a:pt x="1866900" y="140336"/>
                </a:cubicBezTo>
                <a:cubicBezTo>
                  <a:pt x="1915319" y="185580"/>
                  <a:pt x="1962151" y="515780"/>
                  <a:pt x="1995488" y="535624"/>
                </a:cubicBezTo>
                <a:cubicBezTo>
                  <a:pt x="2028825" y="555468"/>
                  <a:pt x="2043906" y="199868"/>
                  <a:pt x="2066925" y="259399"/>
                </a:cubicBezTo>
                <a:cubicBezTo>
                  <a:pt x="2089944" y="318930"/>
                  <a:pt x="2111375" y="899955"/>
                  <a:pt x="2133600" y="892811"/>
                </a:cubicBezTo>
                <a:cubicBezTo>
                  <a:pt x="2155825" y="885667"/>
                  <a:pt x="2177256" y="281623"/>
                  <a:pt x="2200275" y="216536"/>
                </a:cubicBezTo>
                <a:cubicBezTo>
                  <a:pt x="2223294" y="151449"/>
                  <a:pt x="2233613" y="538005"/>
                  <a:pt x="2271713" y="502286"/>
                </a:cubicBezTo>
                <a:cubicBezTo>
                  <a:pt x="2309813" y="466567"/>
                  <a:pt x="2385219" y="-37463"/>
                  <a:pt x="2428875" y="2224"/>
                </a:cubicBezTo>
                <a:cubicBezTo>
                  <a:pt x="2472531" y="41911"/>
                  <a:pt x="2498725" y="670561"/>
                  <a:pt x="2533650" y="740411"/>
                </a:cubicBezTo>
                <a:cubicBezTo>
                  <a:pt x="2568575" y="810261"/>
                  <a:pt x="2602706" y="432437"/>
                  <a:pt x="2638425" y="421324"/>
                </a:cubicBezTo>
                <a:cubicBezTo>
                  <a:pt x="2674144" y="410212"/>
                  <a:pt x="2715419" y="728505"/>
                  <a:pt x="2747963" y="673736"/>
                </a:cubicBezTo>
                <a:cubicBezTo>
                  <a:pt x="2780507" y="618967"/>
                  <a:pt x="2805907" y="127636"/>
                  <a:pt x="2833688" y="92711"/>
                </a:cubicBezTo>
                <a:cubicBezTo>
                  <a:pt x="2861469" y="57786"/>
                  <a:pt x="2881313" y="436405"/>
                  <a:pt x="2914650" y="464186"/>
                </a:cubicBezTo>
                <a:cubicBezTo>
                  <a:pt x="2947987" y="491967"/>
                  <a:pt x="2994026" y="239555"/>
                  <a:pt x="3033713" y="259399"/>
                </a:cubicBezTo>
                <a:cubicBezTo>
                  <a:pt x="3073400" y="279243"/>
                  <a:pt x="3115469" y="567374"/>
                  <a:pt x="3152775" y="583249"/>
                </a:cubicBezTo>
                <a:cubicBezTo>
                  <a:pt x="3190081" y="599124"/>
                  <a:pt x="3223815" y="476886"/>
                  <a:pt x="3257550" y="354649"/>
                </a:cubicBezTo>
              </a:path>
            </a:pathLst>
          </a:custGeom>
          <a:noFill/>
          <a:ln w="5715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365" name="Freeform 21"/>
          <p:cNvSpPr/>
          <p:nvPr/>
        </p:nvSpPr>
        <p:spPr>
          <a:xfrm>
            <a:off x="4948200" y="5572080"/>
            <a:ext cx="3242880" cy="537120"/>
          </a:xfrm>
          <a:custGeom>
            <a:avLst/>
            <a:gdLst>
              <a:gd name="textAreaLeft" fmla="*/ 0 w 3242880"/>
              <a:gd name="textAreaRight" fmla="*/ 3243240 w 3242880"/>
              <a:gd name="textAreaTop" fmla="*/ 0 h 537120"/>
              <a:gd name="textAreaBottom" fmla="*/ 537480 h 537120"/>
            </a:gdLst>
            <a:ahLst/>
            <a:rect l="textAreaLeft" t="textAreaTop" r="textAreaRight" b="textAreaBottom"/>
            <a:pathLst>
              <a:path w="3243262" h="537489">
                <a:moveTo>
                  <a:pt x="0" y="55"/>
                </a:moveTo>
                <a:cubicBezTo>
                  <a:pt x="77787" y="-342"/>
                  <a:pt x="155575" y="-738"/>
                  <a:pt x="242887" y="81018"/>
                </a:cubicBezTo>
                <a:cubicBezTo>
                  <a:pt x="330200" y="162774"/>
                  <a:pt x="414338" y="421537"/>
                  <a:pt x="523875" y="490593"/>
                </a:cubicBezTo>
                <a:cubicBezTo>
                  <a:pt x="633412" y="559649"/>
                  <a:pt x="796131" y="488211"/>
                  <a:pt x="900112" y="495355"/>
                </a:cubicBezTo>
                <a:cubicBezTo>
                  <a:pt x="1004093" y="502499"/>
                  <a:pt x="1050131" y="551711"/>
                  <a:pt x="1147762" y="533455"/>
                </a:cubicBezTo>
                <a:cubicBezTo>
                  <a:pt x="1245393" y="515199"/>
                  <a:pt x="1368425" y="458049"/>
                  <a:pt x="1485900" y="385818"/>
                </a:cubicBezTo>
                <a:cubicBezTo>
                  <a:pt x="1603375" y="313587"/>
                  <a:pt x="1686718" y="126262"/>
                  <a:pt x="1852612" y="100068"/>
                </a:cubicBezTo>
                <a:cubicBezTo>
                  <a:pt x="2018506" y="73874"/>
                  <a:pt x="2249487" y="234211"/>
                  <a:pt x="2481262" y="228655"/>
                </a:cubicBezTo>
                <a:cubicBezTo>
                  <a:pt x="2713037" y="223099"/>
                  <a:pt x="2978149" y="144914"/>
                  <a:pt x="3243262" y="66730"/>
                </a:cubicBezTo>
              </a:path>
            </a:pathLst>
          </a:custGeom>
          <a:noFill/>
          <a:ln w="57150">
            <a:solidFill>
              <a:srgbClr val="800080">
                <a:lumMod val="60000"/>
                <a:lumOff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have analysed hindcast data from the ECMWF System 4 model in an attempt to identify the source of the bias that shifts the ITCZ to the north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Our next step is to examine the atmospheric wind fields in more detail and trace the error back further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SUMMARY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187640" y="4149000"/>
            <a:ext cx="3240000" cy="647640"/>
          </a:xfrm>
          <a:prstGeom prst="rect">
            <a:avLst/>
          </a:prstGeom>
          <a:solidFill>
            <a:schemeClr val="bg2"/>
          </a:solidFill>
          <a:ln w="5715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4716000" y="4149000"/>
            <a:ext cx="3240000" cy="647640"/>
          </a:xfrm>
          <a:prstGeom prst="rect">
            <a:avLst/>
          </a:prstGeom>
          <a:solidFill>
            <a:schemeClr val="bg2"/>
          </a:solidFill>
          <a:ln w="5715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856800" y="3645000"/>
            <a:ext cx="726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12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4199760" y="3645000"/>
            <a:ext cx="726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165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7704000" y="3645000"/>
            <a:ext cx="726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21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ight Arrow 10"/>
          <p:cNvSpPr/>
          <p:nvPr/>
        </p:nvSpPr>
        <p:spPr>
          <a:xfrm>
            <a:off x="2627640" y="3501000"/>
            <a:ext cx="43164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5" name="Left Arrow 11"/>
          <p:cNvSpPr/>
          <p:nvPr/>
        </p:nvSpPr>
        <p:spPr>
          <a:xfrm>
            <a:off x="5436000" y="3501000"/>
            <a:ext cx="151164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chemeClr val="accent5">
              <a:lumMod val="60000"/>
              <a:lumOff val="40000"/>
            </a:schemeClr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6" name="Left Arrow 12"/>
          <p:cNvSpPr/>
          <p:nvPr/>
        </p:nvSpPr>
        <p:spPr>
          <a:xfrm>
            <a:off x="3438000" y="2277000"/>
            <a:ext cx="2268000" cy="1007640"/>
          </a:xfrm>
          <a:prstGeom prst="leftArrow">
            <a:avLst>
              <a:gd name="adj1" fmla="val 50000"/>
              <a:gd name="adj2" fmla="val 50000"/>
            </a:avLst>
          </a:prstGeom>
          <a:solidFill>
            <a:schemeClr val="accent5">
              <a:lumMod val="60000"/>
              <a:lumOff val="40000"/>
            </a:schemeClr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7" name="Left Arrow 13"/>
          <p:cNvSpPr/>
          <p:nvPr/>
        </p:nvSpPr>
        <p:spPr>
          <a:xfrm>
            <a:off x="4932000" y="3501000"/>
            <a:ext cx="266400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chemeClr val="accent5">
              <a:lumMod val="60000"/>
              <a:lumOff val="40000"/>
            </a:schemeClr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78" name="Left Arrow 14"/>
          <p:cNvSpPr/>
          <p:nvPr/>
        </p:nvSpPr>
        <p:spPr>
          <a:xfrm>
            <a:off x="2483640" y="3501000"/>
            <a:ext cx="575640" cy="431640"/>
          </a:xfrm>
          <a:prstGeom prst="leftArrow">
            <a:avLst>
              <a:gd name="adj1" fmla="val 50000"/>
              <a:gd name="adj2" fmla="val 50000"/>
            </a:avLst>
          </a:prstGeom>
          <a:solidFill>
            <a:schemeClr val="accent5">
              <a:lumMod val="60000"/>
              <a:lumOff val="40000"/>
            </a:schemeClr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grpSp>
        <p:nvGrpSpPr>
          <p:cNvPr id="379" name="Group 21"/>
          <p:cNvGrpSpPr/>
          <p:nvPr/>
        </p:nvGrpSpPr>
        <p:grpSpPr>
          <a:xfrm>
            <a:off x="5220000" y="2924640"/>
            <a:ext cx="2304000" cy="1224360"/>
            <a:chOff x="5220000" y="2924640"/>
            <a:chExt cx="2304000" cy="1224360"/>
          </a:xfrm>
        </p:grpSpPr>
        <p:cxnSp>
          <p:nvCxnSpPr>
            <p:cNvPr id="380" name="Straight Arrow Connector 16"/>
            <p:cNvCxnSpPr/>
            <p:nvPr/>
          </p:nvCxnSpPr>
          <p:spPr>
            <a:xfrm flipV="1">
              <a:off x="5220000" y="2924640"/>
              <a:ext cx="360" cy="1224720"/>
            </a:xfrm>
            <a:prstGeom prst="straightConnector1">
              <a:avLst/>
            </a:prstGeom>
            <a:ln w="76200">
              <a:solidFill>
                <a:srgbClr val="00ffff"/>
              </a:solidFill>
              <a:prstDash val="sysDot"/>
              <a:round/>
              <a:tailEnd len="med" type="triangle" w="med"/>
            </a:ln>
          </p:spPr>
        </p:cxnSp>
        <p:cxnSp>
          <p:nvCxnSpPr>
            <p:cNvPr id="381" name="Straight Arrow Connector 17"/>
            <p:cNvCxnSpPr/>
            <p:nvPr/>
          </p:nvCxnSpPr>
          <p:spPr>
            <a:xfrm flipV="1">
              <a:off x="5796000" y="2924640"/>
              <a:ext cx="360" cy="1224720"/>
            </a:xfrm>
            <a:prstGeom prst="straightConnector1">
              <a:avLst/>
            </a:prstGeom>
            <a:ln w="76200">
              <a:solidFill>
                <a:srgbClr val="00ffff"/>
              </a:solidFill>
              <a:prstDash val="sysDot"/>
              <a:round/>
              <a:tailEnd len="med" type="triangle" w="med"/>
            </a:ln>
          </p:spPr>
        </p:cxnSp>
        <p:cxnSp>
          <p:nvCxnSpPr>
            <p:cNvPr id="382" name="Straight Arrow Connector 18"/>
            <p:cNvCxnSpPr/>
            <p:nvPr/>
          </p:nvCxnSpPr>
          <p:spPr>
            <a:xfrm flipV="1">
              <a:off x="6372000" y="2924640"/>
              <a:ext cx="360" cy="1224720"/>
            </a:xfrm>
            <a:prstGeom prst="straightConnector1">
              <a:avLst/>
            </a:prstGeom>
            <a:ln w="76200">
              <a:solidFill>
                <a:srgbClr val="00ffff"/>
              </a:solidFill>
              <a:prstDash val="sysDot"/>
              <a:round/>
              <a:tailEnd len="med" type="triangle" w="med"/>
            </a:ln>
          </p:spPr>
        </p:cxnSp>
        <p:cxnSp>
          <p:nvCxnSpPr>
            <p:cNvPr id="383" name="Straight Arrow Connector 19"/>
            <p:cNvCxnSpPr/>
            <p:nvPr/>
          </p:nvCxnSpPr>
          <p:spPr>
            <a:xfrm flipV="1">
              <a:off x="6948000" y="2924640"/>
              <a:ext cx="360" cy="1224720"/>
            </a:xfrm>
            <a:prstGeom prst="straightConnector1">
              <a:avLst/>
            </a:prstGeom>
            <a:ln w="76200">
              <a:solidFill>
                <a:srgbClr val="00ffff"/>
              </a:solidFill>
              <a:prstDash val="sysDot"/>
              <a:round/>
              <a:tailEnd len="med" type="triangle" w="med"/>
            </a:ln>
          </p:spPr>
        </p:cxnSp>
        <p:cxnSp>
          <p:nvCxnSpPr>
            <p:cNvPr id="384" name="Straight Arrow Connector 20"/>
            <p:cNvCxnSpPr/>
            <p:nvPr/>
          </p:nvCxnSpPr>
          <p:spPr>
            <a:xfrm flipV="1">
              <a:off x="7524000" y="2924640"/>
              <a:ext cx="360" cy="1224720"/>
            </a:xfrm>
            <a:prstGeom prst="straightConnector1">
              <a:avLst/>
            </a:prstGeom>
            <a:ln w="76200">
              <a:solidFill>
                <a:srgbClr val="00ffff"/>
              </a:solidFill>
              <a:prstDash val="sysDot"/>
              <a:round/>
              <a:tailEnd len="med" type="triangle" w="med"/>
            </a:ln>
          </p:spPr>
        </p:cxnSp>
      </p:grpSp>
      <p:sp>
        <p:nvSpPr>
          <p:cNvPr id="385" name="Rectangle 22"/>
          <p:cNvSpPr/>
          <p:nvPr/>
        </p:nvSpPr>
        <p:spPr>
          <a:xfrm>
            <a:off x="4716000" y="4149000"/>
            <a:ext cx="3240000" cy="647640"/>
          </a:xfrm>
          <a:prstGeom prst="rect">
            <a:avLst/>
          </a:prstGeom>
          <a:solidFill>
            <a:schemeClr val="accent6"/>
          </a:solidFill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386" name="TextBox 23"/>
          <p:cNvSpPr/>
          <p:nvPr/>
        </p:nvSpPr>
        <p:spPr>
          <a:xfrm>
            <a:off x="537840" y="3357000"/>
            <a:ext cx="1327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long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24"/>
          <p:cNvSpPr/>
          <p:nvPr/>
        </p:nvSpPr>
        <p:spPr>
          <a:xfrm>
            <a:off x="50400" y="4221000"/>
            <a:ext cx="1121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hica Mono"/>
              </a:rPr>
              <a:t>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25"/>
          <p:cNvSpPr/>
          <p:nvPr/>
        </p:nvSpPr>
        <p:spPr>
          <a:xfrm>
            <a:off x="7974360" y="4221000"/>
            <a:ext cx="1023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hica Mono"/>
              </a:rPr>
              <a:t>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We have analysed hindcast data from the ECMWF System 4 model in an attempt to identify the source of the bias that shifts the ITCZ to the north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Our next step is to examine the atmospheric wind fields in more detail and trace the error back further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SUMMARY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2115000" y="3789000"/>
            <a:ext cx="434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4281840" y="3789000"/>
            <a:ext cx="580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1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6505200" y="3789000"/>
            <a:ext cx="580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2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7"/>
          <p:cNvGrpSpPr/>
          <p:nvPr/>
        </p:nvGrpSpPr>
        <p:grpSpPr>
          <a:xfrm>
            <a:off x="2051640" y="1989000"/>
            <a:ext cx="2015640" cy="2592000"/>
            <a:chOff x="2051640" y="1989000"/>
            <a:chExt cx="2015640" cy="2592000"/>
          </a:xfrm>
        </p:grpSpPr>
        <p:cxnSp>
          <p:nvCxnSpPr>
            <p:cNvPr id="396" name="Straight Connector 13"/>
            <p:cNvCxnSpPr/>
            <p:nvPr/>
          </p:nvCxnSpPr>
          <p:spPr>
            <a:xfrm flipH="1">
              <a:off x="2699640" y="3573000"/>
              <a:ext cx="144360" cy="1008360"/>
            </a:xfrm>
            <a:prstGeom prst="straightConnector1">
              <a:avLst/>
            </a:prstGeom>
            <a:ln w="38100">
              <a:solidFill>
                <a:srgbClr val="00ffff"/>
              </a:solidFill>
              <a:prstDash val="sysDash"/>
              <a:round/>
            </a:ln>
          </p:spPr>
        </p:cxnSp>
        <p:cxnSp>
          <p:nvCxnSpPr>
            <p:cNvPr id="397" name="Straight Connector 14"/>
            <p:cNvCxnSpPr/>
            <p:nvPr/>
          </p:nvCxnSpPr>
          <p:spPr>
            <a:xfrm flipH="1">
              <a:off x="2915640" y="3573000"/>
              <a:ext cx="144360" cy="1008360"/>
            </a:xfrm>
            <a:prstGeom prst="straightConnector1">
              <a:avLst/>
            </a:prstGeom>
            <a:ln w="38100">
              <a:solidFill>
                <a:srgbClr val="00ffff"/>
              </a:solidFill>
              <a:prstDash val="sysDash"/>
              <a:round/>
            </a:ln>
          </p:spPr>
        </p:cxnSp>
        <p:cxnSp>
          <p:nvCxnSpPr>
            <p:cNvPr id="398" name="Straight Connector 15"/>
            <p:cNvCxnSpPr/>
            <p:nvPr/>
          </p:nvCxnSpPr>
          <p:spPr>
            <a:xfrm flipH="1">
              <a:off x="3131640" y="3573000"/>
              <a:ext cx="144360" cy="1008360"/>
            </a:xfrm>
            <a:prstGeom prst="straightConnector1">
              <a:avLst/>
            </a:prstGeom>
            <a:ln w="38100">
              <a:solidFill>
                <a:srgbClr val="00ffff"/>
              </a:solidFill>
              <a:prstDash val="sysDash"/>
              <a:round/>
            </a:ln>
          </p:spPr>
        </p:cxnSp>
        <p:cxnSp>
          <p:nvCxnSpPr>
            <p:cNvPr id="399" name="Straight Connector 16"/>
            <p:cNvCxnSpPr/>
            <p:nvPr/>
          </p:nvCxnSpPr>
          <p:spPr>
            <a:xfrm flipH="1">
              <a:off x="3347640" y="3573000"/>
              <a:ext cx="144360" cy="1008360"/>
            </a:xfrm>
            <a:prstGeom prst="straightConnector1">
              <a:avLst/>
            </a:prstGeom>
            <a:ln w="38100">
              <a:solidFill>
                <a:srgbClr val="00ffff"/>
              </a:solidFill>
              <a:prstDash val="sysDash"/>
              <a:round/>
            </a:ln>
          </p:spPr>
        </p:cxnSp>
        <p:sp>
          <p:nvSpPr>
            <p:cNvPr id="400" name="Cloud 8"/>
            <p:cNvSpPr/>
            <p:nvPr/>
          </p:nvSpPr>
          <p:spPr>
            <a:xfrm>
              <a:off x="2267640" y="2709000"/>
              <a:ext cx="1367640" cy="791640"/>
            </a:xfrm>
            <a:prstGeom prst="cloud">
              <a:avLst/>
            </a:prstGeom>
            <a:solidFill>
              <a:schemeClr val="bg1">
                <a:lumMod val="50000"/>
              </a:schemeClr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sp>
          <p:nvSpPr>
            <p:cNvPr id="401" name="Cloud 9"/>
            <p:cNvSpPr/>
            <p:nvPr/>
          </p:nvSpPr>
          <p:spPr>
            <a:xfrm>
              <a:off x="2483640" y="2997000"/>
              <a:ext cx="1367640" cy="791640"/>
            </a:xfrm>
            <a:prstGeom prst="cloud">
              <a:avLst/>
            </a:prstGeom>
            <a:solidFill>
              <a:schemeClr val="bg1">
                <a:lumMod val="50000"/>
              </a:schemeClr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sp>
          <p:nvSpPr>
            <p:cNvPr id="402" name="Cloud 10"/>
            <p:cNvSpPr/>
            <p:nvPr/>
          </p:nvSpPr>
          <p:spPr>
            <a:xfrm>
              <a:off x="2699640" y="2205000"/>
              <a:ext cx="1367640" cy="791640"/>
            </a:xfrm>
            <a:prstGeom prst="cloud">
              <a:avLst/>
            </a:prstGeom>
            <a:solidFill>
              <a:schemeClr val="bg1">
                <a:lumMod val="50000"/>
              </a:schemeClr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sp>
          <p:nvSpPr>
            <p:cNvPr id="403" name="Cloud 11"/>
            <p:cNvSpPr/>
            <p:nvPr/>
          </p:nvSpPr>
          <p:spPr>
            <a:xfrm>
              <a:off x="2051640" y="1989000"/>
              <a:ext cx="1367640" cy="791640"/>
            </a:xfrm>
            <a:prstGeom prst="cloud">
              <a:avLst/>
            </a:prstGeom>
            <a:solidFill>
              <a:schemeClr val="bg1">
                <a:lumMod val="50000"/>
              </a:schemeClr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</p:grpSp>
      <p:sp>
        <p:nvSpPr>
          <p:cNvPr id="404" name="Rectangle 4"/>
          <p:cNvSpPr/>
          <p:nvPr/>
        </p:nvSpPr>
        <p:spPr>
          <a:xfrm>
            <a:off x="2357640" y="4365000"/>
            <a:ext cx="4428000" cy="6476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lin ang="0"/>
          </a:gra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2357640" y="4365000"/>
            <a:ext cx="4428000" cy="6476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lin ang="0"/>
          </a:gra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406" name="TextBox 19"/>
          <p:cNvSpPr/>
          <p:nvPr/>
        </p:nvSpPr>
        <p:spPr>
          <a:xfrm>
            <a:off x="1223280" y="3501000"/>
            <a:ext cx="1094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20"/>
          <p:cNvSpPr/>
          <p:nvPr/>
        </p:nvSpPr>
        <p:spPr>
          <a:xfrm>
            <a:off x="951840" y="4437000"/>
            <a:ext cx="1401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hica Mono"/>
              </a:rPr>
              <a:t>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21"/>
          <p:cNvSpPr/>
          <p:nvPr/>
        </p:nvSpPr>
        <p:spPr>
          <a:xfrm>
            <a:off x="6685920" y="443700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hica Mono"/>
              </a:rPr>
              <a:t>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08663 4.81481E-006 E">
                                      <p:cBhvr>
                                        <p:cTn id="30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4"/>
          <p:cNvGrpSpPr/>
          <p:nvPr/>
        </p:nvGrpSpPr>
        <p:grpSpPr>
          <a:xfrm>
            <a:off x="4212000" y="2133000"/>
            <a:ext cx="4896360" cy="3888000"/>
            <a:chOff x="4212000" y="2133000"/>
            <a:chExt cx="4896360" cy="3888000"/>
          </a:xfrm>
        </p:grpSpPr>
        <p:sp>
          <p:nvSpPr>
            <p:cNvPr id="123" name="Rectangle 13"/>
            <p:cNvSpPr/>
            <p:nvPr/>
          </p:nvSpPr>
          <p:spPr>
            <a:xfrm>
              <a:off x="4212000" y="2133000"/>
              <a:ext cx="4896360" cy="388800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pic>
          <p:nvPicPr>
            <p:cNvPr id="124" name="Picture 5" descr=""/>
            <p:cNvPicPr/>
            <p:nvPr/>
          </p:nvPicPr>
          <p:blipFill>
            <a:blip r:embed="rId1"/>
            <a:srcRect l="0" t="0" r="0" b="6642"/>
            <a:stretch/>
          </p:blipFill>
          <p:spPr>
            <a:xfrm>
              <a:off x="4284000" y="2342880"/>
              <a:ext cx="4773600" cy="3635640"/>
            </a:xfrm>
            <a:prstGeom prst="rect">
              <a:avLst/>
            </a:prstGeom>
            <a:ln w="12700">
              <a:solidFill>
                <a:srgbClr val="ffffff"/>
              </a:solidFill>
              <a:round/>
            </a:ln>
          </p:spPr>
        </p:pic>
        <p:sp>
          <p:nvSpPr>
            <p:cNvPr id="125" name="TextBox 12"/>
            <p:cNvSpPr/>
            <p:nvPr/>
          </p:nvSpPr>
          <p:spPr>
            <a:xfrm>
              <a:off x="4578480" y="2205000"/>
              <a:ext cx="180432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CMWF (System 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8"/>
            <p:cNvSpPr/>
            <p:nvPr/>
          </p:nvSpPr>
          <p:spPr>
            <a:xfrm>
              <a:off x="6885360" y="2205000"/>
              <a:ext cx="139716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FM-GEOM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19"/>
            <p:cNvSpPr/>
            <p:nvPr/>
          </p:nvSpPr>
          <p:spPr>
            <a:xfrm>
              <a:off x="4572720" y="3429000"/>
              <a:ext cx="133776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eo-Fr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20"/>
            <p:cNvSpPr/>
            <p:nvPr/>
          </p:nvSpPr>
          <p:spPr>
            <a:xfrm>
              <a:off x="6877080" y="3429000"/>
              <a:ext cx="129528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 Office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1"/>
            <p:cNvSpPr/>
            <p:nvPr/>
          </p:nvSpPr>
          <p:spPr>
            <a:xfrm>
              <a:off x="4578480" y="4634280"/>
              <a:ext cx="120816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MCC-ING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2"/>
            <p:cNvSpPr/>
            <p:nvPr/>
          </p:nvSpPr>
          <p:spPr>
            <a:xfrm>
              <a:off x="6883560" y="4634280"/>
              <a:ext cx="13194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Observ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The potential forecasting skill that we can achieve in the equatorial Pacific is being limited by these systematic biase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Progress in ENSO Prediction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1187640" y="5097960"/>
            <a:ext cx="2808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chemeClr val="accent1"/>
                </a:solidFill>
                <a:latin typeface="Chica Mono"/>
              </a:rPr>
              <a:t>Maps of SST error in five different models. (Figure 2 from Vannière et al, 2012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644040" y="2277000"/>
            <a:ext cx="35676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main biases in the Pacific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 cold tongue that is too stro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 warm error off the coast of South Americ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 tendency for models to develop a “double ITCZ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0"/>
          <p:cNvSpPr/>
          <p:nvPr/>
        </p:nvSpPr>
        <p:spPr>
          <a:xfrm flipH="1">
            <a:off x="7365240" y="2781000"/>
            <a:ext cx="1135440" cy="35964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37" name="Rounded Rectangle 16"/>
          <p:cNvSpPr/>
          <p:nvPr/>
        </p:nvSpPr>
        <p:spPr>
          <a:xfrm flipH="1">
            <a:off x="6083280" y="3933000"/>
            <a:ext cx="503640" cy="50364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0000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Systematic biases still exist in climate models, which are a problem if we are to use the models for seasonal and decadal forecasting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classic error is the “cold tongue” error in sea-surface temperature in the equatorial Pacific Ocea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Problem: Systematic Biases in Climate Models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0" y="3213000"/>
            <a:ext cx="5817960" cy="3528000"/>
          </a:xfrm>
          <a:prstGeom prst="rect">
            <a:avLst/>
          </a:prstGeom>
          <a:ln w="0">
            <a:solidFill>
              <a:srgbClr val="0000ff"/>
            </a:solidFill>
          </a:ln>
        </p:spPr>
      </p:pic>
      <p:sp>
        <p:nvSpPr>
          <p:cNvPr id="413" name="TextBox 4"/>
          <p:cNvSpPr/>
          <p:nvPr/>
        </p:nvSpPr>
        <p:spPr>
          <a:xfrm>
            <a:off x="5940000" y="3357000"/>
            <a:ext cx="259236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Bias in SST in the ECMWF model after 7 month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Hindcasts starting on 01 Febru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veraged over years 1996 to 2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5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The problems arise when the model climatology does not match the observed climatology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Present Solutions to the Problem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3563640" y="2348640"/>
            <a:ext cx="4698360" cy="3240360"/>
            <a:chOff x="3563640" y="2348640"/>
            <a:chExt cx="4698360" cy="3240360"/>
          </a:xfrm>
        </p:grpSpPr>
        <p:cxnSp>
          <p:nvCxnSpPr>
            <p:cNvPr id="142" name="Straight Arrow Connector 8"/>
            <p:cNvCxnSpPr/>
            <p:nvPr/>
          </p:nvCxnSpPr>
          <p:spPr>
            <a:xfrm flipV="1">
              <a:off x="3744360" y="2348640"/>
              <a:ext cx="360" cy="324072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43" name="Straight Arrow Connector 9"/>
            <p:cNvCxnSpPr/>
            <p:nvPr/>
          </p:nvCxnSpPr>
          <p:spPr>
            <a:xfrm>
              <a:off x="3563640" y="5238000"/>
              <a:ext cx="4698720" cy="36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</p:grpSp>
      <p:sp>
        <p:nvSpPr>
          <p:cNvPr id="144" name="Freeform 10"/>
          <p:cNvSpPr/>
          <p:nvPr/>
        </p:nvSpPr>
        <p:spPr>
          <a:xfrm>
            <a:off x="3740040" y="2781000"/>
            <a:ext cx="4397040" cy="649800"/>
          </a:xfrm>
          <a:custGeom>
            <a:avLst/>
            <a:gdLst>
              <a:gd name="textAreaLeft" fmla="*/ 0 w 4397040"/>
              <a:gd name="textAreaRight" fmla="*/ 4397400 w 4397040"/>
              <a:gd name="textAreaTop" fmla="*/ 0 h 649800"/>
              <a:gd name="textAreaBottom" fmla="*/ 650160 h 649800"/>
            </a:gdLst>
            <a:ahLst/>
            <a:rect l="textAreaLeft" t="textAreaTop" r="textAreaRight" b="textAreaBottom"/>
            <a:pathLst>
              <a:path w="3925613" h="779650">
                <a:moveTo>
                  <a:pt x="0" y="369482"/>
                </a:moveTo>
                <a:cubicBezTo>
                  <a:pt x="495300" y="164530"/>
                  <a:pt x="990600" y="-40422"/>
                  <a:pt x="1497724" y="6875"/>
                </a:cubicBezTo>
                <a:cubicBezTo>
                  <a:pt x="2004848" y="54172"/>
                  <a:pt x="2638096" y="524510"/>
                  <a:pt x="3042744" y="653262"/>
                </a:cubicBezTo>
                <a:cubicBezTo>
                  <a:pt x="3447392" y="782014"/>
                  <a:pt x="3686502" y="780700"/>
                  <a:pt x="3925613" y="779386"/>
                </a:cubicBezTo>
              </a:path>
            </a:pathLst>
          </a:custGeom>
          <a:noFill/>
          <a:ln w="57150">
            <a:solidFill>
              <a:srgbClr val="ff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45" name="Freeform 11"/>
          <p:cNvSpPr/>
          <p:nvPr/>
        </p:nvSpPr>
        <p:spPr>
          <a:xfrm>
            <a:off x="3740040" y="4077000"/>
            <a:ext cx="4397040" cy="649800"/>
          </a:xfrm>
          <a:custGeom>
            <a:avLst/>
            <a:gdLst>
              <a:gd name="textAreaLeft" fmla="*/ 0 w 4397040"/>
              <a:gd name="textAreaRight" fmla="*/ 4397400 w 4397040"/>
              <a:gd name="textAreaTop" fmla="*/ 0 h 649800"/>
              <a:gd name="textAreaBottom" fmla="*/ 650160 h 649800"/>
            </a:gdLst>
            <a:ahLst/>
            <a:rect l="textAreaLeft" t="textAreaTop" r="textAreaRight" b="textAreaBottom"/>
            <a:pathLst>
              <a:path w="3925613" h="779650">
                <a:moveTo>
                  <a:pt x="0" y="369482"/>
                </a:moveTo>
                <a:cubicBezTo>
                  <a:pt x="495300" y="164530"/>
                  <a:pt x="990600" y="-40422"/>
                  <a:pt x="1497724" y="6875"/>
                </a:cubicBezTo>
                <a:cubicBezTo>
                  <a:pt x="2004848" y="54172"/>
                  <a:pt x="2638096" y="524510"/>
                  <a:pt x="3042744" y="653262"/>
                </a:cubicBezTo>
                <a:cubicBezTo>
                  <a:pt x="3447392" y="782014"/>
                  <a:pt x="3686502" y="780700"/>
                  <a:pt x="3925613" y="779386"/>
                </a:cubicBezTo>
              </a:path>
            </a:pathLst>
          </a:custGeom>
          <a:noFill/>
          <a:ln w="57150">
            <a:solidFill>
              <a:srgbClr val="ff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8226360" y="3213000"/>
            <a:ext cx="612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o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8188560" y="4509000"/>
            <a:ext cx="93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3"/>
                </a:solidFill>
                <a:latin typeface="Chica Mono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6"/>
          <p:cNvSpPr/>
          <p:nvPr/>
        </p:nvSpPr>
        <p:spPr>
          <a:xfrm>
            <a:off x="3636000" y="4293000"/>
            <a:ext cx="215640" cy="215640"/>
          </a:xfrm>
          <a:prstGeom prst="ellipse">
            <a:avLst/>
          </a:prstGeom>
          <a:solidFill>
            <a:schemeClr val="accent3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49" name="Freeform 19"/>
          <p:cNvSpPr/>
          <p:nvPr/>
        </p:nvSpPr>
        <p:spPr>
          <a:xfrm>
            <a:off x="3857760" y="2658600"/>
            <a:ext cx="4219200" cy="2219400"/>
          </a:xfrm>
          <a:custGeom>
            <a:avLst/>
            <a:gdLst>
              <a:gd name="textAreaLeft" fmla="*/ 0 w 4219200"/>
              <a:gd name="textAreaRight" fmla="*/ 4219560 w 421920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219575" h="2219863">
                <a:moveTo>
                  <a:pt x="0" y="0"/>
                </a:moveTo>
                <a:cubicBezTo>
                  <a:pt x="78581" y="92869"/>
                  <a:pt x="157163" y="185738"/>
                  <a:pt x="228600" y="190500"/>
                </a:cubicBezTo>
                <a:cubicBezTo>
                  <a:pt x="300038" y="195263"/>
                  <a:pt x="366712" y="50800"/>
                  <a:pt x="428625" y="28575"/>
                </a:cubicBezTo>
                <a:cubicBezTo>
                  <a:pt x="490538" y="6350"/>
                  <a:pt x="549275" y="17463"/>
                  <a:pt x="600075" y="57150"/>
                </a:cubicBezTo>
                <a:cubicBezTo>
                  <a:pt x="650875" y="96837"/>
                  <a:pt x="690563" y="273050"/>
                  <a:pt x="733425" y="266700"/>
                </a:cubicBezTo>
                <a:cubicBezTo>
                  <a:pt x="776287" y="260350"/>
                  <a:pt x="808037" y="-26988"/>
                  <a:pt x="857250" y="19050"/>
                </a:cubicBezTo>
                <a:cubicBezTo>
                  <a:pt x="906463" y="65088"/>
                  <a:pt x="984250" y="490538"/>
                  <a:pt x="1028700" y="542925"/>
                </a:cubicBezTo>
                <a:cubicBezTo>
                  <a:pt x="1073150" y="595312"/>
                  <a:pt x="1084263" y="385763"/>
                  <a:pt x="1123950" y="333375"/>
                </a:cubicBezTo>
                <a:cubicBezTo>
                  <a:pt x="1163638" y="280988"/>
                  <a:pt x="1227138" y="212725"/>
                  <a:pt x="1266825" y="228600"/>
                </a:cubicBezTo>
                <a:cubicBezTo>
                  <a:pt x="1306512" y="244475"/>
                  <a:pt x="1323975" y="323850"/>
                  <a:pt x="1362075" y="428625"/>
                </a:cubicBezTo>
                <a:cubicBezTo>
                  <a:pt x="1400175" y="533400"/>
                  <a:pt x="1452563" y="822325"/>
                  <a:pt x="1495425" y="857250"/>
                </a:cubicBezTo>
                <a:cubicBezTo>
                  <a:pt x="1538287" y="892175"/>
                  <a:pt x="1576388" y="658812"/>
                  <a:pt x="1619250" y="638175"/>
                </a:cubicBezTo>
                <a:cubicBezTo>
                  <a:pt x="1662112" y="617538"/>
                  <a:pt x="1717675" y="660400"/>
                  <a:pt x="1752600" y="733425"/>
                </a:cubicBezTo>
                <a:cubicBezTo>
                  <a:pt x="1787525" y="806450"/>
                  <a:pt x="1797050" y="965200"/>
                  <a:pt x="1828800" y="1076325"/>
                </a:cubicBezTo>
                <a:cubicBezTo>
                  <a:pt x="1860550" y="1187450"/>
                  <a:pt x="1905000" y="1408112"/>
                  <a:pt x="1943100" y="1400175"/>
                </a:cubicBezTo>
                <a:cubicBezTo>
                  <a:pt x="1981200" y="1392238"/>
                  <a:pt x="2019300" y="1041400"/>
                  <a:pt x="2057400" y="1028700"/>
                </a:cubicBezTo>
                <a:cubicBezTo>
                  <a:pt x="2095500" y="1016000"/>
                  <a:pt x="2133600" y="1246188"/>
                  <a:pt x="2171700" y="1323975"/>
                </a:cubicBezTo>
                <a:cubicBezTo>
                  <a:pt x="2209800" y="1401763"/>
                  <a:pt x="2244725" y="1501775"/>
                  <a:pt x="2286000" y="1495425"/>
                </a:cubicBezTo>
                <a:cubicBezTo>
                  <a:pt x="2327275" y="1489075"/>
                  <a:pt x="2386013" y="1212850"/>
                  <a:pt x="2419350" y="1285875"/>
                </a:cubicBezTo>
                <a:cubicBezTo>
                  <a:pt x="2452687" y="1358900"/>
                  <a:pt x="2443163" y="1868488"/>
                  <a:pt x="2486025" y="1933575"/>
                </a:cubicBezTo>
                <a:cubicBezTo>
                  <a:pt x="2528887" y="1998662"/>
                  <a:pt x="2625725" y="1674813"/>
                  <a:pt x="2676525" y="1676400"/>
                </a:cubicBezTo>
                <a:cubicBezTo>
                  <a:pt x="2727325" y="1677988"/>
                  <a:pt x="2746375" y="1884363"/>
                  <a:pt x="2790825" y="1943100"/>
                </a:cubicBezTo>
                <a:cubicBezTo>
                  <a:pt x="2835275" y="2001837"/>
                  <a:pt x="2884488" y="2065337"/>
                  <a:pt x="2943225" y="2028825"/>
                </a:cubicBezTo>
                <a:cubicBezTo>
                  <a:pt x="3001962" y="1992313"/>
                  <a:pt x="3101975" y="1728787"/>
                  <a:pt x="3143250" y="1724025"/>
                </a:cubicBezTo>
                <a:cubicBezTo>
                  <a:pt x="3184525" y="1719263"/>
                  <a:pt x="3152775" y="1981200"/>
                  <a:pt x="3190875" y="2000250"/>
                </a:cubicBezTo>
                <a:cubicBezTo>
                  <a:pt x="3228975" y="2019300"/>
                  <a:pt x="3305175" y="1811338"/>
                  <a:pt x="3371850" y="1838325"/>
                </a:cubicBezTo>
                <a:cubicBezTo>
                  <a:pt x="3438525" y="1865313"/>
                  <a:pt x="3519488" y="2162175"/>
                  <a:pt x="3590925" y="2162175"/>
                </a:cubicBezTo>
                <a:cubicBezTo>
                  <a:pt x="3662362" y="2162175"/>
                  <a:pt x="3736975" y="1828800"/>
                  <a:pt x="3800475" y="1838325"/>
                </a:cubicBezTo>
                <a:cubicBezTo>
                  <a:pt x="3863975" y="1847850"/>
                  <a:pt x="3902075" y="2208213"/>
                  <a:pt x="3971925" y="2219325"/>
                </a:cubicBezTo>
                <a:cubicBezTo>
                  <a:pt x="4041775" y="2230437"/>
                  <a:pt x="4130675" y="2067718"/>
                  <a:pt x="4219575" y="1905000"/>
                </a:cubicBezTo>
              </a:path>
            </a:pathLst>
          </a:custGeom>
          <a:noFill/>
          <a:ln w="5715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50" name="Freeform 21"/>
          <p:cNvSpPr/>
          <p:nvPr/>
        </p:nvSpPr>
        <p:spPr>
          <a:xfrm>
            <a:off x="3781440" y="2965680"/>
            <a:ext cx="4314600" cy="1692720"/>
          </a:xfrm>
          <a:custGeom>
            <a:avLst/>
            <a:gdLst>
              <a:gd name="textAreaLeft" fmla="*/ 0 w 4314600"/>
              <a:gd name="textAreaRight" fmla="*/ 4314960 w 4314600"/>
              <a:gd name="textAreaTop" fmla="*/ 0 h 1692720"/>
              <a:gd name="textAreaBottom" fmla="*/ 1693080 h 1692720"/>
            </a:gdLst>
            <a:ahLst/>
            <a:rect l="textAreaLeft" t="textAreaTop" r="textAreaRight" b="textAreaBottom"/>
            <a:pathLst>
              <a:path w="4314825" h="1693054">
                <a:moveTo>
                  <a:pt x="0" y="150004"/>
                </a:moveTo>
                <a:cubicBezTo>
                  <a:pt x="420687" y="30941"/>
                  <a:pt x="841375" y="-88121"/>
                  <a:pt x="1304925" y="92854"/>
                </a:cubicBezTo>
                <a:cubicBezTo>
                  <a:pt x="1768475" y="273829"/>
                  <a:pt x="2279650" y="969154"/>
                  <a:pt x="2781300" y="1235854"/>
                </a:cubicBezTo>
                <a:cubicBezTo>
                  <a:pt x="3282950" y="1502554"/>
                  <a:pt x="3798887" y="1597804"/>
                  <a:pt x="4314825" y="1693054"/>
                </a:cubicBezTo>
              </a:path>
            </a:pathLst>
          </a:custGeom>
          <a:noFill/>
          <a:ln w="5715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51" name="Up Arrow 22"/>
          <p:cNvSpPr/>
          <p:nvPr/>
        </p:nvSpPr>
        <p:spPr>
          <a:xfrm>
            <a:off x="7380360" y="3573000"/>
            <a:ext cx="287640" cy="863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52" name="Up Arrow 23"/>
          <p:cNvSpPr/>
          <p:nvPr/>
        </p:nvSpPr>
        <p:spPr>
          <a:xfrm>
            <a:off x="6732360" y="3429000"/>
            <a:ext cx="287640" cy="791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3636000" y="3861000"/>
            <a:ext cx="215640" cy="648000"/>
            <a:chOff x="3636000" y="3861000"/>
            <a:chExt cx="215640" cy="648000"/>
          </a:xfrm>
        </p:grpSpPr>
        <p:sp>
          <p:nvSpPr>
            <p:cNvPr id="154" name="Oval 24"/>
            <p:cNvSpPr/>
            <p:nvPr/>
          </p:nvSpPr>
          <p:spPr>
            <a:xfrm>
              <a:off x="3636000" y="3861000"/>
              <a:ext cx="215640" cy="215640"/>
            </a:xfrm>
            <a:prstGeom prst="ellipse">
              <a:avLst/>
            </a:prstGeom>
            <a:solidFill>
              <a:schemeClr val="tx1"/>
            </a:solidFill>
            <a:ln w="5715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cxnSp>
          <p:nvCxnSpPr>
            <p:cNvPr id="155" name="Straight Connector 25"/>
            <p:cNvCxnSpPr>
              <a:stCxn id="154" idx="4"/>
              <a:endCxn id="148" idx="4"/>
            </p:cNvCxnSpPr>
            <p:nvPr/>
          </p:nvCxnSpPr>
          <p:spPr>
            <a:xfrm>
              <a:off x="3743640" y="4077000"/>
              <a:ext cx="360" cy="432360"/>
            </a:xfrm>
            <a:prstGeom prst="straightConnector1">
              <a:avLst/>
            </a:prstGeom>
            <a:ln w="57150">
              <a:solidFill>
                <a:srgbClr val="ff8000"/>
              </a:solidFill>
              <a:round/>
            </a:ln>
          </p:spPr>
        </p:cxnSp>
      </p:grpSp>
      <p:sp>
        <p:nvSpPr>
          <p:cNvPr id="156" name="Freeform 29"/>
          <p:cNvSpPr/>
          <p:nvPr/>
        </p:nvSpPr>
        <p:spPr>
          <a:xfrm>
            <a:off x="3848040" y="3911400"/>
            <a:ext cx="4228920" cy="1061280"/>
          </a:xfrm>
          <a:custGeom>
            <a:avLst/>
            <a:gdLst>
              <a:gd name="textAreaLeft" fmla="*/ 0 w 4228920"/>
              <a:gd name="textAreaRight" fmla="*/ 4229280 w 4228920"/>
              <a:gd name="textAreaTop" fmla="*/ 0 h 1061280"/>
              <a:gd name="textAreaBottom" fmla="*/ 1061640 h 1061280"/>
            </a:gdLst>
            <a:ahLst/>
            <a:rect l="textAreaLeft" t="textAreaTop" r="textAreaRight" b="textAreaBottom"/>
            <a:pathLst>
              <a:path w="4229100" h="1061776">
                <a:moveTo>
                  <a:pt x="0" y="80701"/>
                </a:moveTo>
                <a:cubicBezTo>
                  <a:pt x="91281" y="144201"/>
                  <a:pt x="182563" y="207701"/>
                  <a:pt x="257175" y="195001"/>
                </a:cubicBezTo>
                <a:cubicBezTo>
                  <a:pt x="331787" y="182301"/>
                  <a:pt x="374650" y="-33599"/>
                  <a:pt x="447675" y="4501"/>
                </a:cubicBezTo>
                <a:cubicBezTo>
                  <a:pt x="520700" y="42601"/>
                  <a:pt x="630238" y="396614"/>
                  <a:pt x="695325" y="423601"/>
                </a:cubicBezTo>
                <a:cubicBezTo>
                  <a:pt x="760412" y="450588"/>
                  <a:pt x="781050" y="147376"/>
                  <a:pt x="838200" y="166426"/>
                </a:cubicBezTo>
                <a:cubicBezTo>
                  <a:pt x="895350" y="185476"/>
                  <a:pt x="974725" y="561713"/>
                  <a:pt x="1038225" y="537901"/>
                </a:cubicBezTo>
                <a:cubicBezTo>
                  <a:pt x="1101725" y="514089"/>
                  <a:pt x="1146175" y="55301"/>
                  <a:pt x="1219200" y="23551"/>
                </a:cubicBezTo>
                <a:cubicBezTo>
                  <a:pt x="1292225" y="-8199"/>
                  <a:pt x="1392238" y="287076"/>
                  <a:pt x="1476375" y="347401"/>
                </a:cubicBezTo>
                <a:cubicBezTo>
                  <a:pt x="1560512" y="407726"/>
                  <a:pt x="1658938" y="423601"/>
                  <a:pt x="1724025" y="385501"/>
                </a:cubicBezTo>
                <a:cubicBezTo>
                  <a:pt x="1789112" y="347401"/>
                  <a:pt x="1816100" y="71176"/>
                  <a:pt x="1866900" y="118801"/>
                </a:cubicBezTo>
                <a:cubicBezTo>
                  <a:pt x="1917700" y="166426"/>
                  <a:pt x="1968500" y="649026"/>
                  <a:pt x="2028825" y="671251"/>
                </a:cubicBezTo>
                <a:cubicBezTo>
                  <a:pt x="2089150" y="693476"/>
                  <a:pt x="2163762" y="233101"/>
                  <a:pt x="2228850" y="252151"/>
                </a:cubicBezTo>
                <a:cubicBezTo>
                  <a:pt x="2293938" y="271201"/>
                  <a:pt x="2362200" y="753801"/>
                  <a:pt x="2419350" y="785551"/>
                </a:cubicBezTo>
                <a:cubicBezTo>
                  <a:pt x="2476500" y="817301"/>
                  <a:pt x="2520950" y="461701"/>
                  <a:pt x="2571750" y="442651"/>
                </a:cubicBezTo>
                <a:cubicBezTo>
                  <a:pt x="2622550" y="423601"/>
                  <a:pt x="2670175" y="656964"/>
                  <a:pt x="2724150" y="671251"/>
                </a:cubicBezTo>
                <a:cubicBezTo>
                  <a:pt x="2778125" y="685539"/>
                  <a:pt x="2827338" y="495039"/>
                  <a:pt x="2895600" y="528376"/>
                </a:cubicBezTo>
                <a:cubicBezTo>
                  <a:pt x="2963862" y="561713"/>
                  <a:pt x="3049588" y="895088"/>
                  <a:pt x="3133725" y="871276"/>
                </a:cubicBezTo>
                <a:cubicBezTo>
                  <a:pt x="3217862" y="847464"/>
                  <a:pt x="3311525" y="423601"/>
                  <a:pt x="3400425" y="385501"/>
                </a:cubicBezTo>
                <a:cubicBezTo>
                  <a:pt x="3489325" y="347401"/>
                  <a:pt x="3576637" y="617276"/>
                  <a:pt x="3667125" y="642676"/>
                </a:cubicBezTo>
                <a:cubicBezTo>
                  <a:pt x="3757613" y="668076"/>
                  <a:pt x="3849688" y="468051"/>
                  <a:pt x="3943350" y="537901"/>
                </a:cubicBezTo>
                <a:cubicBezTo>
                  <a:pt x="4037013" y="607751"/>
                  <a:pt x="4229100" y="1061776"/>
                  <a:pt x="4229100" y="1061776"/>
                </a:cubicBezTo>
              </a:path>
            </a:pathLst>
          </a:custGeom>
          <a:noFill/>
          <a:ln w="5715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sp>
        <p:nvSpPr>
          <p:cNvPr id="157" name="Up Arrow 30"/>
          <p:cNvSpPr/>
          <p:nvPr/>
        </p:nvSpPr>
        <p:spPr>
          <a:xfrm>
            <a:off x="5868000" y="3069000"/>
            <a:ext cx="287640" cy="863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3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58" name="Up Arrow 31"/>
          <p:cNvSpPr/>
          <p:nvPr/>
        </p:nvSpPr>
        <p:spPr>
          <a:xfrm>
            <a:off x="4428000" y="3141000"/>
            <a:ext cx="287640" cy="791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3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59" name="Up Arrow 32"/>
          <p:cNvSpPr/>
          <p:nvPr/>
        </p:nvSpPr>
        <p:spPr>
          <a:xfrm>
            <a:off x="7020360" y="3501000"/>
            <a:ext cx="287640" cy="863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3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160" name="TextBox 33"/>
          <p:cNvSpPr/>
          <p:nvPr/>
        </p:nvSpPr>
        <p:spPr>
          <a:xfrm>
            <a:off x="611280" y="2235600"/>
            <a:ext cx="288036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ree methods can be used to account for these model biases, which involve initialising the model in different way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full initialis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nomaly initialis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flux corre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48040" y="2468160"/>
            <a:ext cx="4266720" cy="1134000"/>
          </a:xfrm>
          <a:custGeom>
            <a:avLst/>
            <a:gdLst>
              <a:gd name="textAreaLeft" fmla="*/ 0 w 4266720"/>
              <a:gd name="textAreaRight" fmla="*/ 4267080 w 4266720"/>
              <a:gd name="textAreaTop" fmla="*/ 0 h 1134000"/>
              <a:gd name="textAreaBottom" fmla="*/ 1134360 h 1134000"/>
            </a:gdLst>
            <a:ahLst/>
            <a:rect l="textAreaLeft" t="textAreaTop" r="textAreaRight" b="textAreaBottom"/>
            <a:pathLst>
              <a:path w="4267200" h="1134212">
                <a:moveTo>
                  <a:pt x="0" y="190529"/>
                </a:moveTo>
                <a:cubicBezTo>
                  <a:pt x="65087" y="311179"/>
                  <a:pt x="130175" y="431829"/>
                  <a:pt x="219075" y="428654"/>
                </a:cubicBezTo>
                <a:cubicBezTo>
                  <a:pt x="307975" y="425479"/>
                  <a:pt x="444500" y="168304"/>
                  <a:pt x="533400" y="171479"/>
                </a:cubicBezTo>
                <a:cubicBezTo>
                  <a:pt x="622300" y="174654"/>
                  <a:pt x="687388" y="461991"/>
                  <a:pt x="752475" y="447704"/>
                </a:cubicBezTo>
                <a:cubicBezTo>
                  <a:pt x="817562" y="433417"/>
                  <a:pt x="868363" y="88929"/>
                  <a:pt x="923925" y="85754"/>
                </a:cubicBezTo>
                <a:cubicBezTo>
                  <a:pt x="979487" y="82579"/>
                  <a:pt x="1016000" y="423892"/>
                  <a:pt x="1085850" y="428654"/>
                </a:cubicBezTo>
                <a:cubicBezTo>
                  <a:pt x="1155700" y="433417"/>
                  <a:pt x="1254125" y="87341"/>
                  <a:pt x="1343025" y="114329"/>
                </a:cubicBezTo>
                <a:cubicBezTo>
                  <a:pt x="1431925" y="141316"/>
                  <a:pt x="1546225" y="609629"/>
                  <a:pt x="1619250" y="590579"/>
                </a:cubicBezTo>
                <a:cubicBezTo>
                  <a:pt x="1692275" y="571529"/>
                  <a:pt x="1730375" y="-4733"/>
                  <a:pt x="1781175" y="29"/>
                </a:cubicBezTo>
                <a:cubicBezTo>
                  <a:pt x="1831975" y="4791"/>
                  <a:pt x="1871663" y="566767"/>
                  <a:pt x="1924050" y="619154"/>
                </a:cubicBezTo>
                <a:cubicBezTo>
                  <a:pt x="1976437" y="671541"/>
                  <a:pt x="2041525" y="327054"/>
                  <a:pt x="2095500" y="314354"/>
                </a:cubicBezTo>
                <a:cubicBezTo>
                  <a:pt x="2149475" y="301654"/>
                  <a:pt x="2192338" y="520729"/>
                  <a:pt x="2247900" y="542954"/>
                </a:cubicBezTo>
                <a:cubicBezTo>
                  <a:pt x="2303462" y="565179"/>
                  <a:pt x="2381250" y="406429"/>
                  <a:pt x="2428875" y="447704"/>
                </a:cubicBezTo>
                <a:cubicBezTo>
                  <a:pt x="2476500" y="488979"/>
                  <a:pt x="2489200" y="750917"/>
                  <a:pt x="2533650" y="790604"/>
                </a:cubicBezTo>
                <a:cubicBezTo>
                  <a:pt x="2578100" y="830292"/>
                  <a:pt x="2638425" y="655667"/>
                  <a:pt x="2695575" y="685829"/>
                </a:cubicBezTo>
                <a:cubicBezTo>
                  <a:pt x="2752725" y="715991"/>
                  <a:pt x="2792413" y="995391"/>
                  <a:pt x="2876550" y="971579"/>
                </a:cubicBezTo>
                <a:cubicBezTo>
                  <a:pt x="2960687" y="947767"/>
                  <a:pt x="3114675" y="577879"/>
                  <a:pt x="3200400" y="542954"/>
                </a:cubicBezTo>
                <a:cubicBezTo>
                  <a:pt x="3286125" y="508029"/>
                  <a:pt x="3327400" y="742979"/>
                  <a:pt x="3390900" y="762029"/>
                </a:cubicBezTo>
                <a:cubicBezTo>
                  <a:pt x="3454400" y="781079"/>
                  <a:pt x="3486150" y="595342"/>
                  <a:pt x="3581400" y="657254"/>
                </a:cubicBezTo>
                <a:cubicBezTo>
                  <a:pt x="3676650" y="719166"/>
                  <a:pt x="3878263" y="1114454"/>
                  <a:pt x="3962400" y="1133504"/>
                </a:cubicBezTo>
                <a:cubicBezTo>
                  <a:pt x="4046537" y="1152554"/>
                  <a:pt x="4035425" y="781079"/>
                  <a:pt x="4086225" y="771554"/>
                </a:cubicBezTo>
                <a:cubicBezTo>
                  <a:pt x="4137025" y="762029"/>
                  <a:pt x="4202112" y="919191"/>
                  <a:pt x="4267200" y="1076354"/>
                </a:cubicBezTo>
              </a:path>
            </a:pathLst>
          </a:custGeom>
          <a:noFill/>
          <a:ln w="571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Chica Mono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3636000" y="2565000"/>
            <a:ext cx="215640" cy="647640"/>
            <a:chOff x="3636000" y="2565000"/>
            <a:chExt cx="215640" cy="647640"/>
          </a:xfrm>
        </p:grpSpPr>
        <p:sp>
          <p:nvSpPr>
            <p:cNvPr id="163" name="Oval 14"/>
            <p:cNvSpPr/>
            <p:nvPr/>
          </p:nvSpPr>
          <p:spPr>
            <a:xfrm>
              <a:off x="3636000" y="2565000"/>
              <a:ext cx="215640" cy="215640"/>
            </a:xfrm>
            <a:prstGeom prst="ellipse">
              <a:avLst/>
            </a:prstGeom>
            <a:solidFill>
              <a:schemeClr val="tx1"/>
            </a:solidFill>
            <a:ln w="5715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cxnSp>
          <p:nvCxnSpPr>
            <p:cNvPr id="164" name="Straight Connector 18"/>
            <p:cNvCxnSpPr>
              <a:stCxn id="163" idx="4"/>
              <a:endCxn id="165" idx="4"/>
            </p:cNvCxnSpPr>
            <p:nvPr/>
          </p:nvCxnSpPr>
          <p:spPr>
            <a:xfrm>
              <a:off x="3743640" y="2780640"/>
              <a:ext cx="360" cy="432360"/>
            </a:xfrm>
            <a:prstGeom prst="straightConnector1">
              <a:avLst/>
            </a:prstGeom>
            <a:ln w="57150">
              <a:solidFill>
                <a:srgbClr val="00ff00"/>
              </a:solidFill>
              <a:round/>
            </a:ln>
          </p:spPr>
        </p:cxnSp>
      </p:grpSp>
      <p:sp>
        <p:nvSpPr>
          <p:cNvPr id="165" name="Oval 15"/>
          <p:cNvSpPr/>
          <p:nvPr/>
        </p:nvSpPr>
        <p:spPr>
          <a:xfrm>
            <a:off x="3636000" y="2997000"/>
            <a:ext cx="215640" cy="215640"/>
          </a:xfrm>
          <a:prstGeom prst="ellipse">
            <a:avLst/>
          </a:prstGeom>
          <a:solidFill>
            <a:schemeClr val="accent1"/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grpSp>
        <p:nvGrpSpPr>
          <p:cNvPr id="166" name="Group 26"/>
          <p:cNvGrpSpPr/>
          <p:nvPr/>
        </p:nvGrpSpPr>
        <p:grpSpPr>
          <a:xfrm>
            <a:off x="4283640" y="2132640"/>
            <a:ext cx="3672720" cy="1250640"/>
            <a:chOff x="4283640" y="2132640"/>
            <a:chExt cx="3672720" cy="1250640"/>
          </a:xfrm>
        </p:grpSpPr>
        <p:cxnSp>
          <p:nvCxnSpPr>
            <p:cNvPr id="167" name="Straight Arrow Connector 20"/>
            <p:cNvCxnSpPr/>
            <p:nvPr/>
          </p:nvCxnSpPr>
          <p:spPr>
            <a:xfrm flipV="1">
              <a:off x="4283640" y="234864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68" name="Straight Arrow Connector 36"/>
            <p:cNvCxnSpPr/>
            <p:nvPr/>
          </p:nvCxnSpPr>
          <p:spPr>
            <a:xfrm flipV="1">
              <a:off x="4785480" y="225036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69" name="Straight Arrow Connector 37"/>
            <p:cNvCxnSpPr/>
            <p:nvPr/>
          </p:nvCxnSpPr>
          <p:spPr>
            <a:xfrm flipV="1">
              <a:off x="5238360" y="227664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0" name="Straight Arrow Connector 38"/>
            <p:cNvCxnSpPr/>
            <p:nvPr/>
          </p:nvCxnSpPr>
          <p:spPr>
            <a:xfrm flipV="1">
              <a:off x="5616000" y="213264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1" name="Straight Arrow Connector 39"/>
            <p:cNvCxnSpPr/>
            <p:nvPr/>
          </p:nvCxnSpPr>
          <p:spPr>
            <a:xfrm flipV="1">
              <a:off x="5918040" y="246636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2" name="Straight Arrow Connector 40"/>
            <p:cNvCxnSpPr/>
            <p:nvPr/>
          </p:nvCxnSpPr>
          <p:spPr>
            <a:xfrm flipV="1">
              <a:off x="6295320" y="261036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3" name="Straight Arrow Connector 41"/>
            <p:cNvCxnSpPr/>
            <p:nvPr/>
          </p:nvCxnSpPr>
          <p:spPr>
            <a:xfrm flipV="1">
              <a:off x="6597360" y="289836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4" name="Straight Arrow Connector 42"/>
            <p:cNvCxnSpPr/>
            <p:nvPr/>
          </p:nvCxnSpPr>
          <p:spPr>
            <a:xfrm flipV="1">
              <a:off x="6974640" y="275436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5" name="Straight Arrow Connector 43"/>
            <p:cNvCxnSpPr/>
            <p:nvPr/>
          </p:nvCxnSpPr>
          <p:spPr>
            <a:xfrm flipV="1">
              <a:off x="7352280" y="278064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6" name="Straight Arrow Connector 44"/>
            <p:cNvCxnSpPr/>
            <p:nvPr/>
          </p:nvCxnSpPr>
          <p:spPr>
            <a:xfrm flipV="1">
              <a:off x="7654320" y="3068640"/>
              <a:ext cx="360" cy="3150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77" name="Straight Arrow Connector 45"/>
            <p:cNvCxnSpPr/>
            <p:nvPr/>
          </p:nvCxnSpPr>
          <p:spPr>
            <a:xfrm flipV="1">
              <a:off x="7956360" y="2924640"/>
              <a:ext cx="360" cy="31464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</p:cxnSp>
      </p:grpSp>
      <p:sp>
        <p:nvSpPr>
          <p:cNvPr id="178" name="TextBox 49"/>
          <p:cNvSpPr/>
          <p:nvPr/>
        </p:nvSpPr>
        <p:spPr>
          <a:xfrm>
            <a:off x="7787880" y="5301360"/>
            <a:ext cx="717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50"/>
          <p:cNvSpPr/>
          <p:nvPr/>
        </p:nvSpPr>
        <p:spPr>
          <a:xfrm>
            <a:off x="3347280" y="2205000"/>
            <a:ext cx="313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2000" spc="-1" strike="noStrike">
                <a:solidFill>
                  <a:srgbClr val="00ffff"/>
                </a:solidFill>
                <a:latin typeface="Chica Mono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46"/>
          <p:cNvSpPr/>
          <p:nvPr/>
        </p:nvSpPr>
        <p:spPr>
          <a:xfrm>
            <a:off x="8240040" y="4221000"/>
            <a:ext cx="685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2"/>
                </a:solidFill>
                <a:latin typeface="Chica Mono"/>
              </a:rPr>
              <a:t>dri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2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2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To proceed, we have two options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continue to develop better and more sophisticated bias correction methods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attempt to eliminate the biases by finding out what process causes them to develop in the first place. 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Past studies have used data from seasonal hindcasts to investigate various aspects of bias development in climate model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The Transpose-AMIP method, which involves running a climate model set up in weather forecast mode, aims to identify the “fast” errors that develop in the course of the first few days of simulati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But there is no systematic approach to bias identificati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Strategies for Progress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Vannière et al (2014) proposed a systematic approach to investigate the root cause of an SST bias in a climate model. The approach has five step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Chica Mono"/>
              <a:buAutoNum type="arabicPeriod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Identify the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location and seasonality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 of the SST bias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Chica Mono"/>
              <a:buAutoNum type="arabicPeriod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Examine the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time scales 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over which errors develop in different variables and link them together to build a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chain of causality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Chica Mono"/>
              <a:buAutoNum type="arabicPeriod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Find whether the origin of the bias is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local or remote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Chica Mono"/>
              <a:buAutoNum type="arabicPeriod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Determine if an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atmospheric field or an oceanic field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 is at fault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Chica Mono"/>
              <a:buAutoNum type="arabicPeriod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Investigate whether the error is caused by the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direct effect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 of that field, or by </a:t>
            </a: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coupled feedbacks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Following all these steps should allow the root cause of the bias to be identified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Each step needs specific types of model simulati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ethod of Vannière et al (2014)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graphicFrame>
        <p:nvGraphicFramePr>
          <p:cNvPr id="190" name="Table 4"/>
          <p:cNvGraphicFramePr/>
          <p:nvPr/>
        </p:nvGraphicFramePr>
        <p:xfrm>
          <a:off x="611280" y="1989000"/>
          <a:ext cx="7921440" cy="5067000"/>
        </p:xfrm>
        <a:graphic>
          <a:graphicData uri="http://schemas.openxmlformats.org/drawingml/2006/table">
            <a:tbl>
              <a:tblPr/>
              <a:tblGrid>
                <a:gridCol w="2160360"/>
                <a:gridCol w="576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St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Associated Experi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anchor="ctr">
                      <a:noAutofit/>
                    </a:bodyPr>
                    <a:p>
                      <a:pPr marL="268200" indent="-2682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1.  </a:t>
                      </a: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Location and seasonalit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ff"/>
                        </a:buClr>
                        <a:buFont typeface="Arial"/>
                        <a:buChar char="•"/>
                      </a:pP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Historical or control experim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06960">
                <a:tc>
                  <a:txBody>
                    <a:bodyPr anchor="ctr">
                      <a:noAutofit/>
                    </a:bodyPr>
                    <a:p>
                      <a:pPr marL="268200" indent="-2682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2. </a:t>
                      </a: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Chain of causalit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ff"/>
                        </a:buClr>
                        <a:buFont typeface="Arial"/>
                        <a:buChar char="•"/>
                      </a:pP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Seasonal-to-decadal hindcas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06960">
                <a:tc>
                  <a:txBody>
                    <a:bodyPr anchor="ctr">
                      <a:noAutofit/>
                    </a:bodyPr>
                    <a:p>
                      <a:pPr marL="268200" indent="-2682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3. </a:t>
                      </a: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Local or remote origi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ff"/>
                        </a:buClr>
                        <a:buFont typeface="Arial"/>
                        <a:buChar char="•"/>
                      </a:pP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Experiments with regional restoring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06960">
                <a:tc>
                  <a:txBody>
                    <a:bodyPr anchor="ctr">
                      <a:noAutofit/>
                    </a:bodyPr>
                    <a:p>
                      <a:pPr marL="268200" indent="-2682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4. </a:t>
                      </a: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Atmosphere or ocean field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ff"/>
                        </a:buClr>
                        <a:buFont typeface="Arial"/>
                        <a:buChar char="•"/>
                      </a:pP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Ocean-only forced experimen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06960">
                <a:tc>
                  <a:txBody>
                    <a:bodyPr anchor="ctr">
                      <a:noAutofit/>
                    </a:bodyPr>
                    <a:p>
                      <a:pPr marL="268200" indent="-2682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chemeClr val="accent1"/>
                          </a:solidFill>
                          <a:latin typeface="Chica Mono"/>
                        </a:rPr>
                        <a:t>5. </a:t>
                      </a: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Effect of coupling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ff"/>
                        </a:buClr>
                        <a:buFont typeface="Arial"/>
                        <a:buChar char="•"/>
                      </a:pPr>
                      <a:r>
                        <a:rPr b="0" lang="en-GB" sz="2000" spc="-1" strike="noStrike">
                          <a:solidFill>
                            <a:srgbClr val="00ffff"/>
                          </a:solidFill>
                          <a:latin typeface="Chica Mono"/>
                        </a:rPr>
                        <a:t>Ocean-only forced experimen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Now we show the method in action, looking at the ECMWF’s System 4 model – currently in operational use for long-range forecasting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We have: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“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coupled” hindcasts (fully operational with interactive ocean)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“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uncoupled” hindcasts (sea-surface temperatures prescribed)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hindcast data from 1996 to 2009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eight ensemble members from each hindcast;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“</a:t>
            </a: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observational” data for comparison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So far, we have followed the first two steps of the approach. We are currently working with the ECMWF and hope to proceed to step 3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Model and Data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0" y="2349000"/>
            <a:ext cx="5148360" cy="4148640"/>
          </a:xfrm>
          <a:prstGeom prst="rect">
            <a:avLst/>
          </a:prstGeom>
          <a:ln w="38100">
            <a:solidFill>
              <a:srgbClr val="0000ff"/>
            </a:solidFill>
            <a:round/>
          </a:ln>
        </p:spPr>
      </p:pic>
      <p:grpSp>
        <p:nvGrpSpPr>
          <p:cNvPr id="195" name="Group 11"/>
          <p:cNvGrpSpPr/>
          <p:nvPr/>
        </p:nvGrpSpPr>
        <p:grpSpPr>
          <a:xfrm>
            <a:off x="-5653080" y="1700640"/>
            <a:ext cx="5147640" cy="4113720"/>
            <a:chOff x="-5653080" y="1700640"/>
            <a:chExt cx="5147640" cy="4113720"/>
          </a:xfrm>
        </p:grpSpPr>
        <p:sp>
          <p:nvSpPr>
            <p:cNvPr id="196" name="Rectangle 10"/>
            <p:cNvSpPr/>
            <p:nvPr/>
          </p:nvSpPr>
          <p:spPr>
            <a:xfrm>
              <a:off x="-5653080" y="1710360"/>
              <a:ext cx="5147640" cy="4104000"/>
            </a:xfrm>
            <a:prstGeom prst="rect">
              <a:avLst/>
            </a:prstGeom>
            <a:solidFill>
              <a:schemeClr val="bg1"/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ffff"/>
                </a:solidFill>
                <a:latin typeface="Chica Mono"/>
              </a:endParaRPr>
            </a:p>
          </p:txBody>
        </p:sp>
        <p:pic>
          <p:nvPicPr>
            <p:cNvPr id="197" name="Picture 9" descr=""/>
            <p:cNvPicPr/>
            <p:nvPr/>
          </p:nvPicPr>
          <p:blipFill>
            <a:blip r:embed="rId2"/>
            <a:stretch/>
          </p:blipFill>
          <p:spPr>
            <a:xfrm>
              <a:off x="-5641560" y="1700640"/>
              <a:ext cx="5126760" cy="411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84720" cy="502920"/>
          </a:xfrm>
          <a:prstGeom prst="rect">
            <a:avLst/>
          </a:prstGeom>
          <a:noFill/>
          <a:ln w="572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GB" sz="2400" spc="-1" strike="noStrike">
              <a:solidFill>
                <a:schemeClr val="accent1"/>
              </a:solidFill>
              <a:latin typeface="Chica Mon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79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hica Mono"/>
              </a:rPr>
              <a:t>Latitude of the ITCZ in the tropical western Pacific Ocean, between longitudes 125° to 175°.</a:t>
            </a:r>
            <a:endParaRPr b="0" lang="en-GB" sz="20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763640" y="765000"/>
            <a:ext cx="676872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hica Mono"/>
              </a:rPr>
              <a:t>Question: Why Does the ITCZ Drift Northward?</a:t>
            </a:r>
            <a:endParaRPr b="0" lang="en-GB" sz="2400" spc="-1" strike="noStrike">
              <a:solidFill>
                <a:srgbClr val="ffffff"/>
              </a:solidFill>
              <a:latin typeface="Chica Mono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5436000" y="5005800"/>
            <a:ext cx="309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chemeClr val="accent1"/>
                </a:solidFill>
                <a:latin typeface="Chica Mono"/>
              </a:rPr>
              <a:t>The ITCZ drifts to the north in all seasons, whether coupled or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5292000" y="2133000"/>
            <a:ext cx="32403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Black lines: observed location from TRM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Coloured lines: model lo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Colour indicates start date (see legen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buClr>
                <a:srgbClr val="00ffff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ffff"/>
                </a:solidFill>
                <a:latin typeface="Chica Mono"/>
              </a:rPr>
              <a:t>Actual locations (top); location errors (bot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Up Arrow 7"/>
          <p:cNvSpPr/>
          <p:nvPr/>
        </p:nvSpPr>
        <p:spPr>
          <a:xfrm>
            <a:off x="3132000" y="2997000"/>
            <a:ext cx="215640" cy="215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04" name="Up Arrow 20"/>
          <p:cNvSpPr/>
          <p:nvPr/>
        </p:nvSpPr>
        <p:spPr>
          <a:xfrm>
            <a:off x="683640" y="2853000"/>
            <a:ext cx="215640" cy="287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05" name="Up Arrow 22"/>
          <p:cNvSpPr/>
          <p:nvPr/>
        </p:nvSpPr>
        <p:spPr>
          <a:xfrm>
            <a:off x="3708000" y="5445360"/>
            <a:ext cx="215640" cy="215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  <p:sp>
        <p:nvSpPr>
          <p:cNvPr id="206" name="Up Arrow 23"/>
          <p:cNvSpPr/>
          <p:nvPr/>
        </p:nvSpPr>
        <p:spPr>
          <a:xfrm>
            <a:off x="1115640" y="5157360"/>
            <a:ext cx="215640" cy="503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ffff"/>
              </a:solidFill>
              <a:latin typeface="Chica Mono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Default Design">
  <a:themeElements>
    <a:clrScheme name="INTROMET">
      <a:dk1>
        <a:srgbClr val="000000"/>
      </a:dk1>
      <a:lt1>
        <a:srgbClr val="ffffff"/>
      </a:lt1>
      <a:dk2>
        <a:srgbClr val="000040"/>
      </a:dk2>
      <a:lt2>
        <a:srgbClr val="00ffff"/>
      </a:lt2>
      <a:accent1>
        <a:srgbClr val="ffff00"/>
      </a:accent1>
      <a:accent2>
        <a:srgbClr val="00ff00"/>
      </a:accent2>
      <a:accent3>
        <a:srgbClr val="ff8000"/>
      </a:accent3>
      <a:accent4>
        <a:srgbClr val="007200"/>
      </a:accent4>
      <a:accent5>
        <a:srgbClr val="800080"/>
      </a:accent5>
      <a:accent6>
        <a:srgbClr val="0000ff"/>
      </a:accent6>
      <a:hlink>
        <a:srgbClr val="ff0000"/>
      </a:hlink>
      <a:folHlink>
        <a:srgbClr val="ff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INTROMET">
      <a:dk1>
        <a:srgbClr val="000000"/>
      </a:dk1>
      <a:lt1>
        <a:srgbClr val="ffffff"/>
      </a:lt1>
      <a:dk2>
        <a:srgbClr val="000040"/>
      </a:dk2>
      <a:lt2>
        <a:srgbClr val="00ffff"/>
      </a:lt2>
      <a:accent1>
        <a:srgbClr val="ffff00"/>
      </a:accent1>
      <a:accent2>
        <a:srgbClr val="00ff00"/>
      </a:accent2>
      <a:accent3>
        <a:srgbClr val="ff8000"/>
      </a:accent3>
      <a:accent4>
        <a:srgbClr val="007200"/>
      </a:accent4>
      <a:accent5>
        <a:srgbClr val="800080"/>
      </a:accent5>
      <a:accent6>
        <a:srgbClr val="0000ff"/>
      </a:accent6>
      <a:hlink>
        <a:srgbClr val="ff0000"/>
      </a:hlink>
      <a:folHlink>
        <a:srgbClr val="ff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40"/>
      </a:dk2>
      <a:lt2>
        <a:srgbClr val="00ffff"/>
      </a:lt2>
      <a:accent1>
        <a:srgbClr val="ffff00"/>
      </a:accent1>
      <a:accent2>
        <a:srgbClr val="00ff00"/>
      </a:accent2>
      <a:accent3>
        <a:srgbClr val="ff8000"/>
      </a:accent3>
      <a:accent4>
        <a:srgbClr val="007200"/>
      </a:accent4>
      <a:accent5>
        <a:srgbClr val="800080"/>
      </a:accent5>
      <a:accent6>
        <a:srgbClr val="0000ff"/>
      </a:accent6>
      <a:hlink>
        <a:srgbClr val="ff0000"/>
      </a:hlink>
      <a:folHlink>
        <a:srgbClr val="ff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9</TotalTime>
  <Application>LibreOffice/7.4.7.2$Linux_X86_64 LibreOffice_project/40$Build-2</Application>
  <AppVersion>15.0000</AppVersion>
  <Words>3511</Words>
  <Paragraphs>364</Paragraphs>
  <Company>University of Reading Meteorology Departmen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1T08:48:26Z</dcterms:created>
  <dc:creator>Bob The Pheasant</dc:creator>
  <dc:description/>
  <dc:language>en-US</dc:language>
  <cp:lastModifiedBy>Catherine Michaut</cp:lastModifiedBy>
  <cp:lastPrinted>2015-06-10T15:35:38Z</cp:lastPrinted>
  <dcterms:modified xsi:type="dcterms:W3CDTF">2015-10-01T08:48:54Z</dcterms:modified>
  <cp:revision>8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Présentation à l'écran (4:3)</vt:lpwstr>
  </property>
  <property fmtid="{D5CDD505-2E9C-101B-9397-08002B2CF9AE}" pid="4" name="Slides">
    <vt:r8>30</vt:r8>
  </property>
</Properties>
</file>