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47A9-1583-41D3-B715-2DB621E8F38B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2E04-E1E9-4D8D-9687-9577D281AD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1624-F827-40B4-A6BF-C6B4C7CAA0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DCC4-D7B0-45E4-A243-1ED3A8730A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9E60-58B3-4D3D-BD94-340B7E4814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r development of observations, extension of ERA-interim with operational analyses, new hydrological dataset, new stratospheric warming i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924B-A480-449B-834A-2B62C5A55D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8607-026C-48F4-98D3-2ADAF25A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A52D-E5AA-49C4-A569-E73546D7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721-13F9-4555-ACDD-AF426848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70F0-B172-4177-ABBE-EDD22E17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15C-A471-488C-8DE8-021CDAC3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57B-72C8-4226-A209-F787FC6B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895A-B0EF-4064-BFA3-F13A656A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6308-E7BE-4282-8F33-2AE7731B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9F2F-F2CC-4C28-A4F7-E468A7E0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3CC9-A802-4B8E-8DEE-26D7364D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8A3-9F5A-4885-A002-8F15B5E5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F410-128E-4DE6-95FE-06D6F3FF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EAAC-0745-4871-AA2C-63DDB41E993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07FB-0CC9-40FA-B5F3-028D04A174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eter.stott@metoffice.gov.uk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EUropean CLimate and weather Events: Interpretation and At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684360" y="4646520"/>
            <a:ext cx="475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eter Stot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et Office Hadley Cent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eter.stott@metoffice.gov.u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8058240" y="6100920"/>
            <a:ext cx="1050840" cy="712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GREEN-EUCLEIA.png"/>
          <p:cNvPicPr/>
          <p:nvPr/>
        </p:nvPicPr>
        <p:blipFill>
          <a:blip r:embed="rId3"/>
          <a:stretch/>
        </p:blipFill>
        <p:spPr>
          <a:xfrm>
            <a:off x="395280" y="333360"/>
            <a:ext cx="82486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© Crown copyright   Met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349200"/>
            <a:ext cx="7667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UCLEIA</a:t>
            </a:r>
            <a:br>
              <a:rPr sz="4000"/>
            </a:br>
            <a:r>
              <a:rPr b="1" lang="en-GB" sz="1700" spc="-1" strike="noStrike">
                <a:solidFill>
                  <a:srgbClr val="c0504d"/>
                </a:solidFill>
                <a:latin typeface="Calibri"/>
              </a:rPr>
              <a:t>EU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ropean </a:t>
            </a:r>
            <a:r>
              <a:rPr b="1" lang="en-GB" sz="1700" spc="-1" strike="noStrike">
                <a:solidFill>
                  <a:srgbClr val="c0504d"/>
                </a:solidFill>
                <a:latin typeface="Calibri"/>
              </a:rPr>
              <a:t>CL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imate and weather </a:t>
            </a:r>
            <a:r>
              <a:rPr b="1" lang="en-GB" sz="1700" spc="-1" strike="noStrike">
                <a:solidFill>
                  <a:srgbClr val="c0504d"/>
                </a:solidFill>
                <a:latin typeface="Calibri"/>
              </a:rPr>
              <a:t>E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vents: </a:t>
            </a:r>
            <a:r>
              <a:rPr b="1" lang="en-GB" sz="1700" spc="-1" strike="noStrike">
                <a:solidFill>
                  <a:srgbClr val="c0504d"/>
                </a:solidFill>
                <a:latin typeface="Calibri"/>
              </a:rPr>
              <a:t>I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nterpretation and </a:t>
            </a:r>
            <a:r>
              <a:rPr b="1" lang="en-GB" sz="1700" spc="-1" strike="noStrike">
                <a:solidFill>
                  <a:srgbClr val="c0504d"/>
                </a:solidFill>
                <a:latin typeface="Calibri"/>
              </a:rPr>
              <a:t>A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tribution</a:t>
            </a:r>
            <a:br>
              <a:rPr sz="1700"/>
            </a:br>
            <a:br>
              <a:rPr sz="1700"/>
            </a:b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Started January 20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0920" y="1773360"/>
            <a:ext cx="8785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alibri"/>
              </a:rPr>
              <a:t>EUCLEIA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3 year project under the FP7-SPACE Call, that brings together 11 European partners with an outstanding scientific profile in climate researc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9999"/>
                </a:solidFill>
                <a:latin typeface="Calibri"/>
              </a:rPr>
              <a:t>The project aims to develop a quasi-operational attribution system, well calibrated on a set of test cases for European extreme weather, that will provide to targeted groups of users, well verified, well understood assessments on the extent to which certain weather-related risks have changed due to human influences on clima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Calibri"/>
              </a:rPr>
              <a:t>TEST CAS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Heat wa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ld spe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rough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loo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torm sur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20000"/>
              </a:lnSpc>
              <a:buClr>
                <a:srgbClr val="000000"/>
              </a:buClr>
              <a:buFont typeface="Calibri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fig01.gif"/>
          <p:cNvPicPr/>
          <p:nvPr/>
        </p:nvPicPr>
        <p:blipFill>
          <a:blip r:embed="rId1"/>
          <a:stretch/>
        </p:blipFill>
        <p:spPr>
          <a:xfrm>
            <a:off x="2050920" y="5059440"/>
            <a:ext cx="1914480" cy="1393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fig03.gif"/>
          <p:cNvPicPr/>
          <p:nvPr/>
        </p:nvPicPr>
        <p:blipFill>
          <a:blip r:embed="rId2"/>
          <a:stretch/>
        </p:blipFill>
        <p:spPr>
          <a:xfrm>
            <a:off x="5651640" y="5492880"/>
            <a:ext cx="1207800" cy="1176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fig02.gif"/>
          <p:cNvPicPr/>
          <p:nvPr/>
        </p:nvPicPr>
        <p:blipFill>
          <a:blip r:embed="rId3"/>
          <a:stretch/>
        </p:blipFill>
        <p:spPr>
          <a:xfrm>
            <a:off x="4067280" y="4221000"/>
            <a:ext cx="1584360" cy="1528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fig05.gif"/>
          <p:cNvPicPr/>
          <p:nvPr/>
        </p:nvPicPr>
        <p:blipFill>
          <a:blip r:embed="rId4"/>
          <a:stretch/>
        </p:blipFill>
        <p:spPr>
          <a:xfrm>
            <a:off x="7667640" y="5516640"/>
            <a:ext cx="108108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fig04.gif"/>
          <p:cNvPicPr/>
          <p:nvPr/>
        </p:nvPicPr>
        <p:blipFill>
          <a:blip r:embed="rId5"/>
          <a:stretch/>
        </p:blipFill>
        <p:spPr>
          <a:xfrm>
            <a:off x="6588000" y="4005360"/>
            <a:ext cx="1600200" cy="1438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eucleia_logo.gif"/>
          <p:cNvPicPr/>
          <p:nvPr/>
        </p:nvPicPr>
        <p:blipFill>
          <a:blip r:embed="rId6"/>
          <a:stretch/>
        </p:blipFill>
        <p:spPr>
          <a:xfrm>
            <a:off x="7804080" y="0"/>
            <a:ext cx="13399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© Crown copyright   Met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Group 20" descr=""/>
          <p:cNvPicPr/>
          <p:nvPr/>
        </p:nvPicPr>
        <p:blipFill>
          <a:blip r:embed="rId1"/>
          <a:stretch/>
        </p:blipFill>
        <p:spPr>
          <a:xfrm>
            <a:off x="3524400" y="1352520"/>
            <a:ext cx="5626080" cy="5511960"/>
          </a:xfrm>
          <a:prstGeom prst="rect">
            <a:avLst/>
          </a:prstGeom>
          <a:ln w="0">
            <a:noFill/>
          </a:ln>
        </p:spPr>
      </p:pic>
      <p:sp>
        <p:nvSpPr>
          <p:cNvPr id="63" name="TextBox 21"/>
          <p:cNvSpPr/>
          <p:nvPr/>
        </p:nvSpPr>
        <p:spPr>
          <a:xfrm>
            <a:off x="0" y="1768320"/>
            <a:ext cx="349236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Calibri"/>
              </a:rPr>
              <a:t>WP3 (Pete Walton, Oxfor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takeholder User Pan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Calibri"/>
              </a:rPr>
              <a:t>WP4 (Hans von Storch, HZ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takeholder Eng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Calibri"/>
              </a:rPr>
              <a:t>WP5 (Myles Allen, Oxfor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ethodologies / Framing Iss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Calibri"/>
              </a:rPr>
              <a:t>WP6 (Robert Vautard, CNRS CE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valuation &amp; Diagnostic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Calibri"/>
              </a:rPr>
              <a:t>WP7 (Geert Jan van Oldenborgh, KNMI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argeted Test Ca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Calibri"/>
              </a:rPr>
              <a:t>WP8 (Nikos Christidis, Met Offic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ear-real time attribution 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9" descr="eucleia_logo.gif"/>
          <p:cNvPicPr/>
          <p:nvPr/>
        </p:nvPicPr>
        <p:blipFill>
          <a:blip r:embed="rId2"/>
          <a:stretch/>
        </p:blipFill>
        <p:spPr>
          <a:xfrm>
            <a:off x="250920" y="260280"/>
            <a:ext cx="2160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© Crown copyright   Met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50920" y="1773360"/>
            <a:ext cx="8785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20000"/>
              </a:lnSpc>
              <a:buClr>
                <a:srgbClr val="333399"/>
              </a:buClr>
              <a:buFont typeface="Calibri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fig01.gif"/>
          <p:cNvPicPr/>
          <p:nvPr/>
        </p:nvPicPr>
        <p:blipFill>
          <a:blip r:embed="rId1"/>
          <a:stretch/>
        </p:blipFill>
        <p:spPr>
          <a:xfrm>
            <a:off x="179280" y="5084640"/>
            <a:ext cx="1914480" cy="13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fig03.gif"/>
          <p:cNvPicPr/>
          <p:nvPr/>
        </p:nvPicPr>
        <p:blipFill>
          <a:blip r:embed="rId2"/>
          <a:stretch/>
        </p:blipFill>
        <p:spPr>
          <a:xfrm>
            <a:off x="2556000" y="5229360"/>
            <a:ext cx="1207800" cy="1176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fig02.gif"/>
          <p:cNvPicPr/>
          <p:nvPr/>
        </p:nvPicPr>
        <p:blipFill>
          <a:blip r:embed="rId3"/>
          <a:stretch/>
        </p:blipFill>
        <p:spPr>
          <a:xfrm>
            <a:off x="4140360" y="4869000"/>
            <a:ext cx="1584000" cy="1528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fig05.gif"/>
          <p:cNvPicPr/>
          <p:nvPr/>
        </p:nvPicPr>
        <p:blipFill>
          <a:blip r:embed="rId4"/>
          <a:stretch/>
        </p:blipFill>
        <p:spPr>
          <a:xfrm>
            <a:off x="7667640" y="5084640"/>
            <a:ext cx="1081080" cy="1047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fig04.gif"/>
          <p:cNvPicPr/>
          <p:nvPr/>
        </p:nvPicPr>
        <p:blipFill>
          <a:blip r:embed="rId5"/>
          <a:stretch/>
        </p:blipFill>
        <p:spPr>
          <a:xfrm>
            <a:off x="5940360" y="4869000"/>
            <a:ext cx="1600200" cy="14382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3203640" y="404640"/>
            <a:ext cx="4687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504d"/>
                </a:solidFill>
                <a:latin typeface="Calibri"/>
              </a:rPr>
              <a:t>Objec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63640" y="1557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rive requirements from targeted user grou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velop methods for event attribution including development of experimental designs and clear ways of fr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dentify key processes driving extreme events and develop methodologies for representing level of confidence in attribution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monstrate the utility of the attribution system on a set of test cases of European weather and climate extre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liver quasi-operational attribution assessments on a range of timescales in the aftermath of extreme ev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3" descr="eucleia_logo.gif"/>
          <p:cNvPicPr/>
          <p:nvPr/>
        </p:nvPicPr>
        <p:blipFill>
          <a:blip r:embed="rId6"/>
          <a:stretch/>
        </p:blipFill>
        <p:spPr>
          <a:xfrm>
            <a:off x="250920" y="260280"/>
            <a:ext cx="2160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ghlights of work so f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bstantial input to BAMS annual reports explaining extreme events of previous year from a climate persp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0 out of 34 papers submitted to 2015 edition involving EUCLEIA in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gnificant contribution to capacity building through editorship, IDAG, 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r perspectives much better understood (WP3, WP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depth studies of Paris and Baltic Sea region stakeholders (D4.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nderstanding of wider stakeholder needs (D3.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key component of project in its pre-operational phase is to test developing capability to assess specific weather and climate events (WP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K temperatures 2014 (Fast trac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K stormy winter 2013/14 (Targett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eucleia_logo.gif"/>
          <p:cNvPicPr/>
          <p:nvPr/>
        </p:nvPicPr>
        <p:blipFill>
          <a:blip r:embed="rId1"/>
          <a:stretch/>
        </p:blipFill>
        <p:spPr>
          <a:xfrm>
            <a:off x="250920" y="260280"/>
            <a:ext cx="2160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ghlights of work so f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velopment of observational basis (WP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Understanding of observational requirements (D6.1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Development of observational indic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velopment of methodology for assessing robustness of attribution assessments (WP6; D6.5, MS6, MS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wo papers submitted to peer-reviewed publications concerning quantifying reliability of attribution results (Bellprat et al, Lott and St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Evaluation of mechanisms for temperature extremes in Europe(Kreuger et al, 2015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totype quasi-operational attribution modelling system developed (WP8, MS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60km resolution HadGEM3-A mod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Supplemented with fast-track metho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ccessful General 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Held in Paris during Our Common Future Conferen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Substantial contribution to Attribution of Extremes session at Our Common Futur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eucleia_logo.gif"/>
          <p:cNvPicPr/>
          <p:nvPr/>
        </p:nvPicPr>
        <p:blipFill>
          <a:blip r:embed="rId1"/>
          <a:stretch/>
        </p:blipFill>
        <p:spPr>
          <a:xfrm>
            <a:off x="250920" y="260280"/>
            <a:ext cx="2160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10:27:16Z</dcterms:created>
  <dc:creator>nikos.christidis</dc:creator>
  <dc:description/>
  <dc:language>en-US</dc:language>
  <cp:lastModifiedBy>Catherine Michaut</cp:lastModifiedBy>
  <dcterms:modified xsi:type="dcterms:W3CDTF">2015-10-01T08:38:36Z</dcterms:modified>
  <cp:revision>124</cp:revision>
  <dc:subject/>
  <dc:title>Slide 1</dc:title>
</cp:coreProperties>
</file>