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5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  <a:defRPr b="0" lang="es-E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fld id="{34D5E149-9C95-405D-8C29-254C3D6415F4}" type="datetime">
              <a:rPr b="0" lang="es-ES" sz="1300" spc="-1" strike="noStrike">
                <a:solidFill>
                  <a:srgbClr val="000000"/>
                </a:solidFill>
                <a:latin typeface="Calibri"/>
              </a:rPr>
              <a:t>31/07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6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7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  <a:defRPr b="0" lang="es-E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fld id="{886861FC-E093-479E-9B0E-1904075D91B0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fld id="{0A0B3C26-86F3-46BE-8510-FD6CF0378978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6CE4A-31E9-404F-BBD1-35623C8FD0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859140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1080" y="3808080"/>
            <a:ext cx="859140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60892-A035-4C16-8274-E81815851C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352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1080" y="380808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3520" y="380808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A53C1-5CC4-40EF-8E1E-EC30750275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75920" y="138600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81120" y="138600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1080" y="380808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75920" y="380808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81120" y="380808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BAFE5-392D-4CFB-95BE-67885404E0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71080" y="1386000"/>
            <a:ext cx="8591400" cy="463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859140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419256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3520" y="1386000"/>
            <a:ext cx="419256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51960" y="279360"/>
            <a:ext cx="786132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386000"/>
            <a:ext cx="419256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71080" y="380808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1080" y="1386000"/>
            <a:ext cx="8591400" cy="463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A6464-A488-4EF4-BB9C-0029D0E009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419256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3520" y="380808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52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71080" y="3808080"/>
            <a:ext cx="859140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859140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71080" y="3808080"/>
            <a:ext cx="859140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352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71080" y="380808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3520" y="380808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75920" y="138600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81120" y="138600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71080" y="380808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75920" y="380808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81120" y="380808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EFD467-77B0-4881-9CAC-650D8DBCA44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71080" y="1386000"/>
            <a:ext cx="8591400" cy="463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4090BD-1986-4796-9DD2-C4FE27EB295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859140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142E03-40E6-416D-989F-E1F5DA4A31E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419256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520" y="1386000"/>
            <a:ext cx="419256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006260-A7ED-4CF3-9A0B-AE27CE5DEF0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65EE63-4260-4945-A0EB-A6CCD1012C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859140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403D7-785A-413D-8443-C2C81A5D173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51960" y="279360"/>
            <a:ext cx="786132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16108A-CBFA-4C2D-AE88-138840CDF2D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520" y="1386000"/>
            <a:ext cx="419256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271080" y="380808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301332-A71B-4563-8846-F5C11088EEE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419256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52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3520" y="380808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872571-4CC5-437E-98A6-EF7C0955ECB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352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71080" y="3808080"/>
            <a:ext cx="859140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42228B-115C-4F07-B3C0-67D26846FCD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859140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271080" y="3808080"/>
            <a:ext cx="859140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29A9EA-A53D-4A76-9756-AD528CFA9FF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352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71080" y="380808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3520" y="380808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D14CA9-2C0F-4E7B-A9EC-C1A45320BF2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175920" y="138600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81120" y="138600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271080" y="380808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175920" y="380808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81120" y="380808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C92FF4-9A8C-4F47-83A5-8373B3A577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419256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386000"/>
            <a:ext cx="419256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6DC40-7949-4902-B88A-7078164B2C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49372-4FA8-42A2-8982-904D9FF7E4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1960" y="279360"/>
            <a:ext cx="786132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9F74F-FE22-4017-A9A0-E1DD5B8A80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520" y="1386000"/>
            <a:ext cx="419256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1080" y="380808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42D1F-A2CC-493E-A25F-4C80B0BFA7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419256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3520" y="380808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E8CF7-951D-4E5B-A8A8-4FE3F81F9F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352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1080" y="3808080"/>
            <a:ext cx="859140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90E9F-989D-4C4A-ADA9-56E1A54C42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4680" y="6207120"/>
            <a:ext cx="2047680" cy="658800"/>
          </a:xfrm>
          <a:custGeom>
            <a:avLst/>
            <a:gdLst/>
            <a:ahLst/>
            <a:rect l="l" t="t" r="r" b="b"/>
            <a:pathLst>
              <a:path w="2045036" h="1824142">
                <a:moveTo>
                  <a:pt x="2382" y="1807368"/>
                </a:moveTo>
                <a:lnTo>
                  <a:pt x="0" y="0"/>
                </a:lnTo>
                <a:lnTo>
                  <a:pt x="1086491" y="2"/>
                </a:lnTo>
                <a:lnTo>
                  <a:pt x="2045036" y="1824142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4680" y="6207120"/>
            <a:ext cx="9145440" cy="65880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403018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71080" y="1386000"/>
            <a:ext cx="859140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SzPct val="15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1955880" y="6362280"/>
            <a:ext cx="6286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PECS: Climate Predictions for Climate Services   CCCS Meeting 28 November 20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8474400" y="6348960"/>
            <a:ext cx="35640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483502-A805-43B6-B003-03FC17740F59}" type="slidenum"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1" descr="SPECS Logo Final Proposal_without text"/>
          <p:cNvPicPr/>
          <p:nvPr/>
        </p:nvPicPr>
        <p:blipFill>
          <a:blip r:embed="rId2"/>
          <a:stretch/>
        </p:blipFill>
        <p:spPr>
          <a:xfrm>
            <a:off x="58680" y="250920"/>
            <a:ext cx="1706760" cy="5572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4" descr="images"/>
          <p:cNvPicPr/>
          <p:nvPr/>
        </p:nvPicPr>
        <p:blipFill>
          <a:blip r:embed="rId3"/>
          <a:stretch/>
        </p:blipFill>
        <p:spPr>
          <a:xfrm>
            <a:off x="8211960" y="184320"/>
            <a:ext cx="906480" cy="61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6"/>
          <p:cNvSpPr/>
          <p:nvPr/>
        </p:nvSpPr>
        <p:spPr>
          <a:xfrm>
            <a:off x="0" y="2647800"/>
            <a:ext cx="357336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Forma libre 11"/>
          <p:cNvSpPr/>
          <p:nvPr/>
        </p:nvSpPr>
        <p:spPr>
          <a:xfrm>
            <a:off x="3008160" y="5952960"/>
            <a:ext cx="6039000" cy="808200"/>
          </a:xfrm>
          <a:custGeom>
            <a:avLst/>
            <a:gdLst/>
            <a:ahLst/>
            <a:rect l="l" t="t" r="r" b="b"/>
            <a:pathLst>
              <a:path w="5932705" h="613440">
                <a:moveTo>
                  <a:pt x="653873" y="613440"/>
                </a:moveTo>
                <a:lnTo>
                  <a:pt x="5932705" y="613440"/>
                </a:lnTo>
                <a:lnTo>
                  <a:pt x="5932705" y="0"/>
                </a:lnTo>
                <a:lnTo>
                  <a:pt x="0" y="0"/>
                </a:lnTo>
                <a:lnTo>
                  <a:pt x="653873" y="6134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7" name="Imagen 17" descr="IC3_Logo_Vector.png"/>
          <p:cNvPicPr/>
          <p:nvPr/>
        </p:nvPicPr>
        <p:blipFill>
          <a:blip r:embed="rId2"/>
          <a:stretch/>
        </p:blipFill>
        <p:spPr>
          <a:xfrm>
            <a:off x="7899480" y="5952960"/>
            <a:ext cx="1198440" cy="8082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271080" y="1386000"/>
            <a:ext cx="859140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SzPct val="15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ight Triangle 16"/>
          <p:cNvSpPr/>
          <p:nvPr/>
        </p:nvSpPr>
        <p:spPr>
          <a:xfrm>
            <a:off x="0" y="2647800"/>
            <a:ext cx="357336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Right Triangle 17"/>
          <p:cNvSpPr/>
          <p:nvPr/>
        </p:nvSpPr>
        <p:spPr>
          <a:xfrm rot="5400000">
            <a:off x="434160" y="-434160"/>
            <a:ext cx="6858000" cy="772632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271080" y="1386000"/>
            <a:ext cx="859140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SzPct val="15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3"/>
          </p:nvPr>
        </p:nvSpPr>
        <p:spPr>
          <a:xfrm>
            <a:off x="3032280" y="6284520"/>
            <a:ext cx="5209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0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434342"/>
                </a:solidFill>
                <a:latin typeface="Times New Roman"/>
              </a:rPr>
              <a:t>SPECS: Climate Predictions for Climate Services</a:t>
            </a:r>
            <a:r>
              <a:rPr b="0" lang="en-US" sz="1000" spc="-1" strike="noStrike">
                <a:solidFill>
                  <a:srgbClr val="434342"/>
                </a:solidFill>
                <a:latin typeface="Times New Roman"/>
              </a:rPr>
              <a:t>   CCCS Meeting 29 November 20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4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120849-1A33-408D-B1E0-9CB6B828868A}" type="slidenum">
              <a:rPr b="0" lang="es-ES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climate4impact.eu/" TargetMode="External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4"/>
          <p:cNvSpPr/>
          <p:nvPr/>
        </p:nvSpPr>
        <p:spPr>
          <a:xfrm>
            <a:off x="4572000" y="991080"/>
            <a:ext cx="4475160" cy="22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0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SPEC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mate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Prediction for Climate Service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6" name="Picture 6" descr="SPECS Logo Final Proposal"/>
          <p:cNvPicPr/>
          <p:nvPr/>
        </p:nvPicPr>
        <p:blipFill>
          <a:blip r:embed="rId1"/>
          <a:stretch/>
        </p:blipFill>
        <p:spPr>
          <a:xfrm>
            <a:off x="3456000" y="5919840"/>
            <a:ext cx="1684440" cy="774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iCrea_Pantone verd rgb"/>
          <p:cNvPicPr/>
          <p:nvPr/>
        </p:nvPicPr>
        <p:blipFill>
          <a:blip r:embed="rId2"/>
          <a:srcRect l="12951" t="0" r="12951" b="40404"/>
          <a:stretch/>
        </p:blipFill>
        <p:spPr>
          <a:xfrm>
            <a:off x="6897600" y="6170760"/>
            <a:ext cx="1036800" cy="3204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12"/>
          <p:cNvSpPr/>
          <p:nvPr/>
        </p:nvSpPr>
        <p:spPr>
          <a:xfrm>
            <a:off x="2843280" y="4372920"/>
            <a:ext cx="6262560" cy="14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0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.J. Doblas-Reyes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ICREA, IC3 and BSC-CNS, Barcelona, Spai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9" name="Picture 7" descr="logo_BSC2"/>
          <p:cNvPicPr/>
          <p:nvPr/>
        </p:nvPicPr>
        <p:blipFill>
          <a:blip r:embed="rId3"/>
          <a:srcRect l="0" t="0" r="23921" b="50080"/>
          <a:stretch/>
        </p:blipFill>
        <p:spPr>
          <a:xfrm>
            <a:off x="5900760" y="5969160"/>
            <a:ext cx="91764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vice-driven foreca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Text Box 1"/>
          <p:cNvSpPr/>
          <p:nvPr/>
        </p:nvSpPr>
        <p:spPr>
          <a:xfrm>
            <a:off x="34920" y="898560"/>
            <a:ext cx="9053640" cy="13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spAutoFit/>
          </a:bodyPr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liability diagrams of initialised MME for left) basin-wide ACE and centre) U.S. ACE and right) uninitalised MME U.S. ACE 1-5 year forecasts for anomalies above the mean over 1961-2009. Statistically significant values are in bold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-204120" y="5840280"/>
            <a:ext cx="2445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7280" indent="-2872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ron et al. (2015)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10" name="1 Imagen" descr=""/>
          <p:cNvPicPr/>
          <p:nvPr/>
        </p:nvPicPr>
        <p:blipFill>
          <a:blip r:embed="rId1"/>
          <a:stretch/>
        </p:blipFill>
        <p:spPr>
          <a:xfrm>
            <a:off x="272880" y="3029040"/>
            <a:ext cx="5840640" cy="2498760"/>
          </a:xfrm>
          <a:prstGeom prst="rect">
            <a:avLst/>
          </a:prstGeom>
          <a:ln w="0">
            <a:noFill/>
          </a:ln>
        </p:spPr>
      </p:pic>
      <p:pic>
        <p:nvPicPr>
          <p:cNvPr id="211" name="5 Imagen" descr=""/>
          <p:cNvPicPr/>
          <p:nvPr/>
        </p:nvPicPr>
        <p:blipFill>
          <a:blip r:embed="rId2"/>
          <a:stretch/>
        </p:blipFill>
        <p:spPr>
          <a:xfrm>
            <a:off x="5973840" y="3097080"/>
            <a:ext cx="2927160" cy="2468520"/>
          </a:xfrm>
          <a:prstGeom prst="rect">
            <a:avLst/>
          </a:prstGeom>
          <a:ln w="0">
            <a:noFill/>
          </a:ln>
        </p:spPr>
      </p:pic>
      <p:sp>
        <p:nvSpPr>
          <p:cNvPr id="212" name="Slide Number Placeholder 5"/>
          <p:cNvSpPr/>
          <p:nvPr/>
        </p:nvSpPr>
        <p:spPr>
          <a:xfrm>
            <a:off x="8400960" y="6275520"/>
            <a:ext cx="50328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6487E6-03B5-40EE-BEFB-F91CBB605DDF}" type="slidenum">
              <a:rPr b="0" lang="es-ES" sz="16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Footer Placeholder 4"/>
          <p:cNvSpPr/>
          <p:nvPr/>
        </p:nvSpPr>
        <p:spPr>
          <a:xfrm>
            <a:off x="1955880" y="6362640"/>
            <a:ext cx="628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Century Gothic"/>
              </a:rPr>
              <a:t>SPECS: Climate Predictions for Climate Services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, 14 September 2015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5"/>
          <p:cNvSpPr/>
          <p:nvPr/>
        </p:nvSpPr>
        <p:spPr>
          <a:xfrm>
            <a:off x="8400960" y="6275520"/>
            <a:ext cx="50328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415574-63F8-4EF9-A646-DB29EF17CD80}" type="slidenum">
              <a:rPr b="0" lang="es-ES" sz="16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3920" y="863640"/>
            <a:ext cx="9060120" cy="550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76200" indent="0"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entralised data repository at BADC with files using a convention building on both CMIP5 and CHFP and that is expected to become the basis for CMIP6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76200" indent="0"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ta published on the ESG after quality control reachable by other SPECS-related services (ECOMS UDG, Climate Explorer, etc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76200" indent="0"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ltiple sensitivity experiments and NMME data availabl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365040" y="253800"/>
            <a:ext cx="83757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ata disse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7" name="Picture 5" descr="33"/>
          <p:cNvPicPr/>
          <p:nvPr/>
        </p:nvPicPr>
        <p:blipFill>
          <a:blip r:embed="rId1"/>
          <a:srcRect l="11116" t="19143" r="11116" b="10939"/>
          <a:stretch/>
        </p:blipFill>
        <p:spPr>
          <a:xfrm>
            <a:off x="1046160" y="2881440"/>
            <a:ext cx="7050240" cy="3220920"/>
          </a:xfrm>
          <a:prstGeom prst="rect">
            <a:avLst/>
          </a:prstGeom>
          <a:ln w="0">
            <a:noFill/>
          </a:ln>
        </p:spPr>
      </p:pic>
      <p:sp>
        <p:nvSpPr>
          <p:cNvPr id="218" name="Footer Placeholder 4"/>
          <p:cNvSpPr/>
          <p:nvPr/>
        </p:nvSpPr>
        <p:spPr>
          <a:xfrm>
            <a:off x="1955880" y="6362640"/>
            <a:ext cx="628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Century Gothic"/>
              </a:rPr>
              <a:t>SPECS: Climate Predictions for Climate Services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, 14 September 2015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5"/>
          <p:cNvSpPr/>
          <p:nvPr/>
        </p:nvSpPr>
        <p:spPr>
          <a:xfrm>
            <a:off x="8400960" y="6275520"/>
            <a:ext cx="50328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C8284C-574E-4320-8255-8A6B69A4B3A1}" type="slidenum">
              <a:rPr b="0" lang="es-ES" sz="16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3920" y="863640"/>
            <a:ext cx="9060120" cy="550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76200" indent="0"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SPECS data are now visible from the Climate4impact portal </a:t>
            </a:r>
            <a:r>
              <a:rPr b="0" lang="en-US" sz="1800" spc="-1" strike="noStrike" u="sng">
                <a:solidFill>
                  <a:srgbClr val="5f5f5f"/>
                </a:solidFill>
                <a:uFillTx/>
                <a:latin typeface="Verdana"/>
                <a:hlinkClick r:id="rId1"/>
              </a:rPr>
              <a:t>http://climate4impact.eu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76200" indent="0"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ts of work still missing: e.g. use cases and processing demonstration video for climate predic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365040" y="253800"/>
            <a:ext cx="83757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ownstream servi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1 Imagen" descr=""/>
          <p:cNvPicPr/>
          <p:nvPr/>
        </p:nvPicPr>
        <p:blipFill>
          <a:blip r:embed="rId2"/>
          <a:stretch/>
        </p:blipFill>
        <p:spPr>
          <a:xfrm>
            <a:off x="895320" y="2160720"/>
            <a:ext cx="7373880" cy="3990960"/>
          </a:xfrm>
          <a:prstGeom prst="rect">
            <a:avLst/>
          </a:prstGeom>
          <a:ln w="0">
            <a:noFill/>
          </a:ln>
        </p:spPr>
      </p:pic>
      <p:sp>
        <p:nvSpPr>
          <p:cNvPr id="223" name="Footer Placeholder 4"/>
          <p:cNvSpPr/>
          <p:nvPr/>
        </p:nvSpPr>
        <p:spPr>
          <a:xfrm>
            <a:off x="1955880" y="6362640"/>
            <a:ext cx="628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Century Gothic"/>
              </a:rPr>
              <a:t>SPECS: Climate Predictions for Climate Services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, 14 September 2015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5"/>
          <p:cNvSpPr/>
          <p:nvPr/>
        </p:nvSpPr>
        <p:spPr>
          <a:xfrm>
            <a:off x="8400960" y="6275520"/>
            <a:ext cx="50328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B755C7-28A5-4EB0-BBCF-C8412CB8F7CA}" type="slidenum">
              <a:rPr b="0" lang="es-ES" sz="16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65040" y="253800"/>
            <a:ext cx="83757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mmon tools for ver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Picture 5" descr="00"/>
          <p:cNvPicPr/>
          <p:nvPr/>
        </p:nvPicPr>
        <p:blipFill>
          <a:blip r:embed="rId1"/>
          <a:srcRect l="20920" t="22564" r="2324" b="2821"/>
          <a:stretch/>
        </p:blipFill>
        <p:spPr>
          <a:xfrm>
            <a:off x="1274760" y="831960"/>
            <a:ext cx="6541920" cy="5240160"/>
          </a:xfrm>
          <a:prstGeom prst="rect">
            <a:avLst/>
          </a:prstGeom>
          <a:ln w="0">
            <a:noFill/>
          </a:ln>
        </p:spPr>
      </p:pic>
      <p:sp>
        <p:nvSpPr>
          <p:cNvPr id="227" name="Footer Placeholder 4"/>
          <p:cNvSpPr/>
          <p:nvPr/>
        </p:nvSpPr>
        <p:spPr>
          <a:xfrm>
            <a:off x="1955880" y="6362640"/>
            <a:ext cx="628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Century Gothic"/>
              </a:rPr>
              <a:t>SPECS: Climate Predictions for Climate Services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, 14 September 2015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5"/>
          <p:cNvSpPr/>
          <p:nvPr/>
        </p:nvSpPr>
        <p:spPr>
          <a:xfrm>
            <a:off x="8400960" y="6275520"/>
            <a:ext cx="50328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A482CC-8B45-43E3-ADFC-F90832F25D7D}" type="slidenum">
              <a:rPr b="0" lang="es-ES" sz="16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3920" y="863640"/>
            <a:ext cx="9060120" cy="550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series of fact sheets has been started (available from the SPECS web site). Common vocabulary with EUPORIAS, targeting a wide audience, mimicking some material already existing to explain what climate change i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title"/>
          </p:nvPr>
        </p:nvSpPr>
        <p:spPr>
          <a:xfrm>
            <a:off x="365040" y="253800"/>
            <a:ext cx="83757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act shee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1 Imagen" descr=""/>
          <p:cNvPicPr/>
          <p:nvPr/>
        </p:nvPicPr>
        <p:blipFill>
          <a:blip r:embed="rId1"/>
          <a:stretch/>
        </p:blipFill>
        <p:spPr>
          <a:xfrm>
            <a:off x="1884240" y="1833480"/>
            <a:ext cx="5372280" cy="4324320"/>
          </a:xfrm>
          <a:prstGeom prst="rect">
            <a:avLst/>
          </a:prstGeom>
          <a:ln w="0">
            <a:noFill/>
          </a:ln>
        </p:spPr>
      </p:pic>
      <p:sp>
        <p:nvSpPr>
          <p:cNvPr id="232" name="Footer Placeholder 4"/>
          <p:cNvSpPr/>
          <p:nvPr/>
        </p:nvSpPr>
        <p:spPr>
          <a:xfrm>
            <a:off x="1955880" y="6362640"/>
            <a:ext cx="628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Century Gothic"/>
              </a:rPr>
              <a:t>SPECS: Climate Predictions for Climate Services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, 14 September 2015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5"/>
          <p:cNvSpPr/>
          <p:nvPr/>
        </p:nvSpPr>
        <p:spPr>
          <a:xfrm>
            <a:off x="8400960" y="6275520"/>
            <a:ext cx="50328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525ACA-1094-441F-B086-AFA315C4A306}" type="slidenum">
              <a:rPr b="0" lang="es-ES" sz="16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7360" y="209160"/>
            <a:ext cx="83757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limate predi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0000" y="907920"/>
            <a:ext cx="8580240" cy="544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ogression from initial-value problems with weather forecasting at one end and multi-decadal to century projections as a forced boundary condition problem at the other, with climate prediction (</a:t>
            </a: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sub-seasonal, seasonal and decadal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) in the middle. Prediction involves initialization and systematic comparison with a </a:t>
            </a: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simultaneou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referenc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-211680" y="5840280"/>
            <a:ext cx="37209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7280" indent="-2872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dapted from Meehl et al. (2009)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22120" y="2889360"/>
            <a:ext cx="8686800" cy="2898720"/>
            <a:chOff x="222120" y="2889360"/>
            <a:chExt cx="8686800" cy="2898720"/>
          </a:xfrm>
        </p:grpSpPr>
        <p:sp>
          <p:nvSpPr>
            <p:cNvPr id="145" name="Rectangle 6"/>
            <p:cNvSpPr/>
            <p:nvPr/>
          </p:nvSpPr>
          <p:spPr>
            <a:xfrm>
              <a:off x="1526760" y="2935440"/>
              <a:ext cx="4635720" cy="28526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Rectangle 7"/>
            <p:cNvSpPr/>
            <p:nvPr/>
          </p:nvSpPr>
          <p:spPr>
            <a:xfrm>
              <a:off x="266400" y="4284720"/>
              <a:ext cx="8056440" cy="720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797b7e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Rectangle 8"/>
            <p:cNvSpPr/>
            <p:nvPr/>
          </p:nvSpPr>
          <p:spPr>
            <a:xfrm rot="10800000">
              <a:off x="1166400" y="5049360"/>
              <a:ext cx="7516800" cy="720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797b7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Line 9"/>
            <p:cNvSpPr/>
            <p:nvPr/>
          </p:nvSpPr>
          <p:spPr>
            <a:xfrm>
              <a:off x="266400" y="3970440"/>
              <a:ext cx="8507520" cy="44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9" name="Text Box 10"/>
            <p:cNvSpPr/>
            <p:nvPr/>
          </p:nvSpPr>
          <p:spPr>
            <a:xfrm>
              <a:off x="312480" y="4464000"/>
              <a:ext cx="252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Verdana"/>
                </a:rPr>
                <a:t>Initial-value driven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0" name="Text Box 11"/>
            <p:cNvSpPr/>
            <p:nvPr/>
          </p:nvSpPr>
          <p:spPr>
            <a:xfrm>
              <a:off x="5036760" y="5275440"/>
              <a:ext cx="35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Verdana"/>
                </a:rPr>
                <a:t>Boundary-condition driven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1" name="Text Box 12"/>
            <p:cNvSpPr/>
            <p:nvPr/>
          </p:nvSpPr>
          <p:spPr>
            <a:xfrm>
              <a:off x="7650000" y="4059360"/>
              <a:ext cx="125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Verdana"/>
                </a:rPr>
                <a:t>Time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2" name="Text Box 13"/>
            <p:cNvSpPr/>
            <p:nvPr/>
          </p:nvSpPr>
          <p:spPr>
            <a:xfrm>
              <a:off x="222120" y="3340080"/>
              <a:ext cx="1258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Verdana"/>
                </a:rPr>
                <a:t>Weather forecasts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3" name="Text Box 14"/>
            <p:cNvSpPr/>
            <p:nvPr/>
          </p:nvSpPr>
          <p:spPr>
            <a:xfrm>
              <a:off x="1572840" y="2889360"/>
              <a:ext cx="23846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Verdana"/>
                </a:rPr>
                <a:t>Subseasonal to seasonal forecasts (2 weeks-18 months)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4" name="Text Box 15"/>
            <p:cNvSpPr/>
            <p:nvPr/>
          </p:nvSpPr>
          <p:spPr>
            <a:xfrm>
              <a:off x="3958920" y="3114720"/>
              <a:ext cx="22496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Verdana"/>
                </a:rPr>
                <a:t>Decadal forecasts (18 months-30 years)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5" name="Text Box 16"/>
            <p:cNvSpPr/>
            <p:nvPr/>
          </p:nvSpPr>
          <p:spPr>
            <a:xfrm>
              <a:off x="6252840" y="3384720"/>
              <a:ext cx="224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Verdana"/>
                </a:rPr>
                <a:t>Climate-change projections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56" name="Footer Placeholder 4"/>
          <p:cNvSpPr/>
          <p:nvPr/>
        </p:nvSpPr>
        <p:spPr>
          <a:xfrm>
            <a:off x="1955880" y="6362640"/>
            <a:ext cx="628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Century Gothic"/>
              </a:rPr>
              <a:t>SPECS: Climate Predictions for Climate Services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, 14 September 2015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4"/>
          <p:cNvSpPr/>
          <p:nvPr/>
        </p:nvSpPr>
        <p:spPr>
          <a:xfrm>
            <a:off x="58680" y="914400"/>
            <a:ext cx="9029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Global mean near-surface air temperature over the ocean (one-year running mean applied) from CMIP5 hindcasts. Each system is shown with a different colour. NCEP and ERA40/Int used as reference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f96a1b"/>
                </a:solidFill>
                <a:latin typeface="Verdana"/>
              </a:rPr>
              <a:t>Examples of shock, drift and large systematic error can be found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58" name="Picture 5" descr="figure_AR5_11_5_final"/>
          <p:cNvPicPr/>
          <p:nvPr/>
        </p:nvPicPr>
        <p:blipFill>
          <a:blip r:embed="rId1"/>
          <a:srcRect l="0" t="3415" r="0" b="47820"/>
          <a:stretch/>
        </p:blipFill>
        <p:spPr>
          <a:xfrm>
            <a:off x="1933560" y="2279520"/>
            <a:ext cx="5264280" cy="3935520"/>
          </a:xfrm>
          <a:prstGeom prst="rect">
            <a:avLst/>
          </a:prstGeom>
          <a:ln w="0">
            <a:noFill/>
          </a:ln>
        </p:spPr>
      </p:pic>
      <p:sp>
        <p:nvSpPr>
          <p:cNvPr id="159" name="Title 2"/>
          <p:cNvSpPr/>
          <p:nvPr/>
        </p:nvSpPr>
        <p:spPr>
          <a:xfrm>
            <a:off x="65232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cadal forecast quality CMIP5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-232560" y="5880240"/>
            <a:ext cx="27943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7280" indent="-2872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PCC AR5 WGI (2013)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cxnSp>
        <p:nvCxnSpPr>
          <p:cNvPr id="161" name="2 Conector recto de flecha"/>
          <p:cNvCxnSpPr/>
          <p:nvPr/>
        </p:nvCxnSpPr>
        <p:spPr>
          <a:xfrm>
            <a:off x="2646000" y="3131640"/>
            <a:ext cx="370440" cy="1080"/>
          </a:xfrm>
          <a:prstGeom prst="straightConnector1">
            <a:avLst/>
          </a:prstGeom>
          <a:ln w="38160">
            <a:solidFill>
              <a:srgbClr val="76787b"/>
            </a:solidFill>
            <a:miter/>
            <a:headEnd len="med" type="arrow" w="med"/>
            <a:tailEnd len="med" type="arrow" w="med"/>
          </a:ln>
        </p:spPr>
      </p:cxnSp>
      <p:sp>
        <p:nvSpPr>
          <p:cNvPr id="162" name="4 CuadroTexto"/>
          <p:cNvSpPr/>
          <p:nvPr/>
        </p:nvSpPr>
        <p:spPr>
          <a:xfrm>
            <a:off x="2492280" y="2795760"/>
            <a:ext cx="65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2-5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Slide Number Placeholder 5"/>
          <p:cNvSpPr/>
          <p:nvPr/>
        </p:nvSpPr>
        <p:spPr>
          <a:xfrm>
            <a:off x="8400960" y="6275520"/>
            <a:ext cx="50328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41452C-230E-4FF2-94AE-4F6E48969663}" type="slidenum">
              <a:rPr b="0" lang="es-ES" sz="16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Footer Placeholder 4"/>
          <p:cNvSpPr/>
          <p:nvPr/>
        </p:nvSpPr>
        <p:spPr>
          <a:xfrm>
            <a:off x="1955880" y="6362640"/>
            <a:ext cx="628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Century Gothic"/>
              </a:rPr>
              <a:t>SPECS: Climate Predictions for Climate Services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, 14 September 2015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5"/>
          <p:cNvSpPr/>
          <p:nvPr/>
        </p:nvSpPr>
        <p:spPr>
          <a:xfrm>
            <a:off x="8400960" y="6275520"/>
            <a:ext cx="50328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BFCB18-D8A7-48AE-9667-FB7DFF12012C}" type="slidenum">
              <a:rPr b="0" lang="es-ES" sz="16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3468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PECS motiv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7080" y="863640"/>
            <a:ext cx="88488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Wha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to produce quasi-operational and actionable local climate inform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Why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need information with improved forecast quality, a focus on extreme climate events and enhanced communication and services for RCOFs, NHMSs and a wide range of public and private stakehold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How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with a new generation of reliable European climate forecast systems, including initialised ESMs, efficient regionalisation tools and combination methods, and an enhanced dissemination and communication protoc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Wher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over land, focus on Europe, Africa, South Amer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When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seasonal-to-decadal time scales over the longest possible observational perio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http://www.specs-fp7.e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Footer Placeholder 4"/>
          <p:cNvSpPr/>
          <p:nvPr/>
        </p:nvSpPr>
        <p:spPr>
          <a:xfrm>
            <a:off x="1955880" y="6362640"/>
            <a:ext cx="628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Century Gothic"/>
              </a:rPr>
              <a:t>SPECS: Climate Predictions for Climate Services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, 14 September 2015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8400960" y="6275520"/>
            <a:ext cx="50328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DD54BD-D222-45D7-867C-7DA58141E5F1}" type="slidenum">
              <a:rPr b="0" lang="es-ES" sz="16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3468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PECS: Overall strateg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1" name="Picture 3" descr="1"/>
          <p:cNvPicPr/>
          <p:nvPr/>
        </p:nvPicPr>
        <p:blipFill>
          <a:blip r:embed="rId1"/>
          <a:srcRect l="8301" t="14173" r="9684" b="7349"/>
          <a:stretch/>
        </p:blipFill>
        <p:spPr>
          <a:xfrm>
            <a:off x="44280" y="1241280"/>
            <a:ext cx="9061560" cy="495144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3"/>
          <p:cNvSpPr/>
          <p:nvPr/>
        </p:nvSpPr>
        <p:spPr>
          <a:xfrm>
            <a:off x="131760" y="896760"/>
            <a:ext cx="8872560" cy="51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Links to EUPORIAS/NACLIM, but also IS-ENES2, PREFACE, EUCLEIA, CLIPC, …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Text Box 9"/>
          <p:cNvSpPr/>
          <p:nvPr/>
        </p:nvSpPr>
        <p:spPr>
          <a:xfrm rot="19714800">
            <a:off x="189720" y="2789640"/>
            <a:ext cx="8531280" cy="10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000" anchor="b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ff0000"/>
                </a:solidFill>
                <a:latin typeface="Century Gothic"/>
              </a:rPr>
              <a:t>Climate data is not climate information</a:t>
            </a:r>
            <a:endParaRPr b="0" lang="en-US" sz="3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Footer Placeholder 4"/>
          <p:cNvSpPr/>
          <p:nvPr/>
        </p:nvSpPr>
        <p:spPr>
          <a:xfrm>
            <a:off x="1955880" y="6362640"/>
            <a:ext cx="628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Century Gothic"/>
              </a:rPr>
              <a:t>SPECS: Climate Predictions for Climate Services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, 14 September 2015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5"/>
          <p:cNvSpPr/>
          <p:nvPr/>
        </p:nvSpPr>
        <p:spPr>
          <a:xfrm>
            <a:off x="8400960" y="6275520"/>
            <a:ext cx="50328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4C9FD9-2762-4118-9977-20EC6951A173}" type="slidenum">
              <a:rPr b="0" lang="es-ES" sz="16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3920" y="863640"/>
            <a:ext cx="4178520" cy="550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pirical forecasts of one-month lead temperature (right panel) and precipitation using a wide range of observed predicto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365040" y="253800"/>
            <a:ext cx="83757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Generalised empirical foreca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-264600" y="5880240"/>
            <a:ext cx="2367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7280" indent="-2872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den et al. (2015)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9" name="Footer Placeholder 4"/>
          <p:cNvSpPr/>
          <p:nvPr/>
        </p:nvSpPr>
        <p:spPr>
          <a:xfrm>
            <a:off x="1955880" y="6362640"/>
            <a:ext cx="628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Century Gothic"/>
              </a:rPr>
              <a:t>SPECS: Climate Predictions for Climate Services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, 14 September 2015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80" name="Picture 1" descr=""/>
          <p:cNvPicPr/>
          <p:nvPr/>
        </p:nvPicPr>
        <p:blipFill>
          <a:blip r:embed="rId1"/>
          <a:stretch/>
        </p:blipFill>
        <p:spPr>
          <a:xfrm>
            <a:off x="17640" y="3890880"/>
            <a:ext cx="4294080" cy="19717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"/>
          <p:cNvPicPr/>
          <p:nvPr/>
        </p:nvPicPr>
        <p:blipFill>
          <a:blip r:embed="rId2"/>
          <a:stretch/>
        </p:blipFill>
        <p:spPr>
          <a:xfrm>
            <a:off x="4222800" y="1095480"/>
            <a:ext cx="4867200" cy="506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5"/>
          <p:cNvSpPr/>
          <p:nvPr/>
        </p:nvSpPr>
        <p:spPr>
          <a:xfrm>
            <a:off x="8400960" y="6275520"/>
            <a:ext cx="50328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8A3C8D-2554-4363-B1DC-D3564133C385}" type="slidenum">
              <a:rPr b="0" lang="es-ES" sz="16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3920" y="863640"/>
            <a:ext cx="9060120" cy="550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-year average SST over the North Atlantic (80ºW-10ºW,40ºN-60ºN) of (black) 20CR, (green) the assimilation simulation, (red) the 2-5 year MPI extended hindcasts and (blue) the uninitialzed run. The extended period improves the robustness of the resul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365040" y="253800"/>
            <a:ext cx="83757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arting before 196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5" name="1 Imagen" descr=""/>
          <p:cNvPicPr/>
          <p:nvPr/>
        </p:nvPicPr>
        <p:blipFill>
          <a:blip r:embed="rId1"/>
          <a:stretch/>
        </p:blipFill>
        <p:spPr>
          <a:xfrm>
            <a:off x="871560" y="2214720"/>
            <a:ext cx="7400880" cy="386712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4"/>
          <p:cNvSpPr/>
          <p:nvPr/>
        </p:nvSpPr>
        <p:spPr>
          <a:xfrm>
            <a:off x="-263880" y="5880240"/>
            <a:ext cx="2446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7280" indent="-2872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üller et al. (2014)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7" name="Footer Placeholder 4"/>
          <p:cNvSpPr/>
          <p:nvPr/>
        </p:nvSpPr>
        <p:spPr>
          <a:xfrm>
            <a:off x="1955880" y="6362640"/>
            <a:ext cx="628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Century Gothic"/>
              </a:rPr>
              <a:t>SPECS: Climate Predictions for Climate Services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, 14 September 2015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3920" y="863640"/>
            <a:ext cx="9060120" cy="550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NRM-CM’s correlation for ensemble-mean predictions of DJF (one-month lead time) tropical precipitation, Northern Hemisphere Z500 and NAO as a function of the ensemble size. Red lines for 90% confidence interval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365040" y="253800"/>
            <a:ext cx="83757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 shortcuts: ensemble siz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Picture 9" descr="annuel2014b-figa"/>
          <p:cNvPicPr/>
          <p:nvPr/>
        </p:nvPicPr>
        <p:blipFill>
          <a:blip r:embed="rId1"/>
          <a:stretch/>
        </p:blipFill>
        <p:spPr>
          <a:xfrm>
            <a:off x="384120" y="1714680"/>
            <a:ext cx="8345520" cy="427032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4"/>
          <p:cNvSpPr/>
          <p:nvPr/>
        </p:nvSpPr>
        <p:spPr>
          <a:xfrm>
            <a:off x="-289440" y="5894280"/>
            <a:ext cx="30870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7280" indent="-2872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. Déqué (Météo-France)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8400960" y="6275520"/>
            <a:ext cx="50328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FBB206-0885-4D39-8D4A-BCFA8E31A0ED}" type="slidenum">
              <a:rPr b="0" lang="es-ES" sz="16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Footer Placeholder 4"/>
          <p:cNvSpPr/>
          <p:nvPr/>
        </p:nvSpPr>
        <p:spPr>
          <a:xfrm>
            <a:off x="1955880" y="6362640"/>
            <a:ext cx="628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Century Gothic"/>
              </a:rPr>
              <a:t>SPECS: Climate Predictions for Climate Services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, 14 September 2015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3"/>
          <p:cNvSpPr/>
          <p:nvPr/>
        </p:nvSpPr>
        <p:spPr>
          <a:xfrm>
            <a:off x="365040" y="254160"/>
            <a:ext cx="8375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ruptions and prediction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44280" y="863640"/>
            <a:ext cx="9060120" cy="55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C-Earth2.3 simulations of volcanic aerosol impact for Pinatubo. Five-member ensembles initialised on the 1 November 1990.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No consistent treatment of volcanic aerosol and ozone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96" name="Image 3" descr="plot_ano_ta50_i03i_global_mean.png"/>
          <p:cNvPicPr/>
          <p:nvPr/>
        </p:nvPicPr>
        <p:blipFill>
          <a:blip r:embed="rId1"/>
          <a:stretch/>
        </p:blipFill>
        <p:spPr>
          <a:xfrm>
            <a:off x="2328840" y="1762200"/>
            <a:ext cx="3282840" cy="2278080"/>
          </a:xfrm>
          <a:prstGeom prst="rect">
            <a:avLst/>
          </a:prstGeom>
          <a:ln w="0">
            <a:noFill/>
          </a:ln>
        </p:spPr>
      </p:pic>
      <p:pic>
        <p:nvPicPr>
          <p:cNvPr id="197" name="Image 4" descr="plot_ano_ta50_i00k_global_mean.png"/>
          <p:cNvPicPr/>
          <p:nvPr/>
        </p:nvPicPr>
        <p:blipFill>
          <a:blip r:embed="rId2"/>
          <a:stretch/>
        </p:blipFill>
        <p:spPr>
          <a:xfrm>
            <a:off x="5735520" y="1733400"/>
            <a:ext cx="3286080" cy="2279880"/>
          </a:xfrm>
          <a:prstGeom prst="rect">
            <a:avLst/>
          </a:prstGeom>
          <a:ln w="0">
            <a:noFill/>
          </a:ln>
        </p:spPr>
      </p:pic>
      <p:pic>
        <p:nvPicPr>
          <p:cNvPr id="198" name="Image 16" descr="plot_ano_tas_i00k_global_mean.png"/>
          <p:cNvPicPr/>
          <p:nvPr/>
        </p:nvPicPr>
        <p:blipFill>
          <a:blip r:embed="rId3"/>
          <a:stretch/>
        </p:blipFill>
        <p:spPr>
          <a:xfrm>
            <a:off x="5746680" y="3889440"/>
            <a:ext cx="3286080" cy="2279520"/>
          </a:xfrm>
          <a:prstGeom prst="rect">
            <a:avLst/>
          </a:prstGeom>
          <a:ln w="0">
            <a:noFill/>
          </a:ln>
        </p:spPr>
      </p:pic>
      <p:pic>
        <p:nvPicPr>
          <p:cNvPr id="199" name="Image 17" descr="plot_ano_tas_i03i_global_mean.png"/>
          <p:cNvPicPr/>
          <p:nvPr/>
        </p:nvPicPr>
        <p:blipFill>
          <a:blip r:embed="rId4"/>
          <a:stretch/>
        </p:blipFill>
        <p:spPr>
          <a:xfrm>
            <a:off x="2309760" y="3900600"/>
            <a:ext cx="3286080" cy="227952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12"/>
          <p:cNvSpPr/>
          <p:nvPr/>
        </p:nvSpPr>
        <p:spPr>
          <a:xfrm>
            <a:off x="-9360" y="5872320"/>
            <a:ext cx="23796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spAutoFit/>
          </a:bodyPr>
          <a:p>
            <a:pPr>
              <a:lnSpc>
                <a:spcPct val="104000"/>
              </a:lnSpc>
              <a:spcBef>
                <a:spcPts val="1001"/>
              </a:spcBef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. Ménégoz (IC3)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1" name="Text Box 9"/>
          <p:cNvSpPr/>
          <p:nvPr/>
        </p:nvSpPr>
        <p:spPr>
          <a:xfrm>
            <a:off x="463680" y="2617920"/>
            <a:ext cx="158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50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52560" y="4654440"/>
            <a:ext cx="244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Near-surface air temperature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3375000" y="1889280"/>
            <a:ext cx="234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without volcanic aeroso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7273800" y="1876320"/>
            <a:ext cx="174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with volcanic aeroso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Slide Number Placeholder 5"/>
          <p:cNvSpPr/>
          <p:nvPr/>
        </p:nvSpPr>
        <p:spPr>
          <a:xfrm>
            <a:off x="8400960" y="6275520"/>
            <a:ext cx="50328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F2BCE4-067E-4216-AD60-0FF4634EABA9}" type="slidenum">
              <a:rPr b="0" lang="es-ES" sz="16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6" name="Footer Placeholder 4"/>
          <p:cNvSpPr/>
          <p:nvPr/>
        </p:nvSpPr>
        <p:spPr>
          <a:xfrm>
            <a:off x="1955880" y="6362640"/>
            <a:ext cx="628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Century Gothic"/>
              </a:rPr>
              <a:t>SPECS: Climate Predictions for Climate Services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, 14 September 2015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7T13:45:56Z</dcterms:created>
  <dc:creator>Franziska Ewald de Aceves</dc:creator>
  <dc:description/>
  <dc:language>en-US</dc:language>
  <cp:lastModifiedBy>bscuser</cp:lastModifiedBy>
  <dcterms:modified xsi:type="dcterms:W3CDTF">2015-09-20T14:15:21Z</dcterms:modified>
  <cp:revision>456</cp:revision>
  <dc:subject/>
  <dc:title>Presentación de PowerPoint</dc:title>
</cp:coreProperties>
</file>