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8E15A575-C9E4-46AA-BAE1-4132A2D409D5}" type="datetime">
              <a:rPr b="0" lang="es-ES" sz="13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1F983F48-4C42-4FEA-A6DE-8853DA633FD6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EC11A961-0B19-4B35-B72F-35A33194F0B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925F-4198-494C-A04F-3E6EA63C4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08350-06CF-4DFD-9E7A-C611237CA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1280A-BC94-4004-A2AB-E0C42E00C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D408-F33D-4D80-919B-516E8FE89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C34B-6A7E-44DC-92B4-DF8E64BD8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7A8A3-0126-40F3-B8B9-946D9193F6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2C02B-14B4-408C-B715-02F76262C4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9C4C1-897F-4D80-9A71-EC8909AEB5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EE993-6661-43F0-B12F-E5FD80005F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1AEC6-DE74-4AB1-87F3-D4C4B67FC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A897-62B3-4182-9D8E-88411CC8B3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7E3EE-A448-4206-83DF-60D80482CA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D1766-D27A-4832-90DB-F882EB5721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98367-C6C1-46F6-92C0-7D9B24A49A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7BB87-148C-4183-B68A-7310C91212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AED4D-078B-40A5-8A55-3476104C87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62303-9052-4315-BA0C-3D6CE5E694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FA601-8948-490C-B023-811CF9474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1385-C8B5-4141-9552-1CAB1944F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F909-9508-4970-AB54-11DC077DC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1AA9-2E2D-41A8-9B9F-1A1E4A4F7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371F-DD9F-4C43-93E1-A44B74E4D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C63C-DB2D-4388-995A-B3516BD75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D5D5-0A5E-43D2-9E22-724DEC6A6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4680" y="6207120"/>
            <a:ext cx="2047680" cy="658800"/>
          </a:xfrm>
          <a:custGeom>
            <a:avLst/>
            <a:gdLst/>
            <a:ahLst/>
            <a:rect l="l" t="t" r="r" b="b"/>
            <a:pathLst>
              <a:path w="2045036" h="1824142">
                <a:moveTo>
                  <a:pt x="2382" y="1807368"/>
                </a:moveTo>
                <a:lnTo>
                  <a:pt x="0" y="0"/>
                </a:lnTo>
                <a:lnTo>
                  <a:pt x="1086491" y="2"/>
                </a:lnTo>
                <a:lnTo>
                  <a:pt x="2045036" y="1824142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4680" y="6207120"/>
            <a:ext cx="9145440" cy="65880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403018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55880" y="6362280"/>
            <a:ext cx="6286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ECS: Climate Predictions for Climate Services   CCCS Meeting 28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474400" y="6348960"/>
            <a:ext cx="35640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E4A14-7A16-4C23-B786-EDCFDB3EC525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PECS Logo Final Proposal_without text"/>
          <p:cNvPicPr/>
          <p:nvPr/>
        </p:nvPicPr>
        <p:blipFill>
          <a:blip r:embed="rId2"/>
          <a:stretch/>
        </p:blipFill>
        <p:spPr>
          <a:xfrm>
            <a:off x="58680" y="250920"/>
            <a:ext cx="1706760" cy="557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images"/>
          <p:cNvPicPr/>
          <p:nvPr/>
        </p:nvPicPr>
        <p:blipFill>
          <a:blip r:embed="rId3"/>
          <a:stretch/>
        </p:blipFill>
        <p:spPr>
          <a:xfrm>
            <a:off x="8211960" y="184320"/>
            <a:ext cx="9064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Forma libre 11"/>
          <p:cNvSpPr/>
          <p:nvPr/>
        </p:nvSpPr>
        <p:spPr>
          <a:xfrm>
            <a:off x="3008160" y="5952960"/>
            <a:ext cx="6039000" cy="808200"/>
          </a:xfrm>
          <a:custGeom>
            <a:avLst/>
            <a:gdLst/>
            <a:ahLst/>
            <a:rect l="l" t="t" r="r" b="b"/>
            <a:pathLst>
              <a:path w="5932705" h="613440">
                <a:moveTo>
                  <a:pt x="653873" y="613440"/>
                </a:moveTo>
                <a:lnTo>
                  <a:pt x="5932705" y="613440"/>
                </a:lnTo>
                <a:lnTo>
                  <a:pt x="5932705" y="0"/>
                </a:lnTo>
                <a:lnTo>
                  <a:pt x="0" y="0"/>
                </a:lnTo>
                <a:lnTo>
                  <a:pt x="653873" y="6134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Imagen 17" descr="IC3_Logo_Vector.png"/>
          <p:cNvPicPr/>
          <p:nvPr/>
        </p:nvPicPr>
        <p:blipFill>
          <a:blip r:embed="rId2"/>
          <a:stretch/>
        </p:blipFill>
        <p:spPr>
          <a:xfrm>
            <a:off x="7899480" y="5952960"/>
            <a:ext cx="1198440" cy="808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ight Triangle 1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ight Triangle 17"/>
          <p:cNvSpPr/>
          <p:nvPr/>
        </p:nvSpPr>
        <p:spPr>
          <a:xfrm rot="5400000">
            <a:off x="434160" y="-434160"/>
            <a:ext cx="6858000" cy="772632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3032280" y="6284520"/>
            <a:ext cx="520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34342"/>
                </a:solidFill>
                <a:latin typeface="Times New Roman"/>
              </a:rPr>
              <a:t>SPECS: Climate Predictions for Climate Services</a:t>
            </a: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   CCCS Meeting 29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CBF4E-36AF-40DF-A9A9-654E5274FF5E}" type="slidenum">
              <a:rPr b="0" lang="es-E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limate4impact.eu/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572000" y="991080"/>
            <a:ext cx="4475160" cy="22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PEC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ediction for Climate Servic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6" name="Picture 6" descr="SPECS Logo Final Proposal"/>
          <p:cNvPicPr/>
          <p:nvPr/>
        </p:nvPicPr>
        <p:blipFill>
          <a:blip r:embed="rId1"/>
          <a:stretch/>
        </p:blipFill>
        <p:spPr>
          <a:xfrm>
            <a:off x="3456000" y="5919840"/>
            <a:ext cx="1684440" cy="77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Crea_Pantone verd rgb"/>
          <p:cNvPicPr/>
          <p:nvPr/>
        </p:nvPicPr>
        <p:blipFill>
          <a:blip r:embed="rId2"/>
          <a:srcRect l="12951" t="0" r="12951" b="40404"/>
          <a:stretch/>
        </p:blipFill>
        <p:spPr>
          <a:xfrm>
            <a:off x="6897600" y="6170760"/>
            <a:ext cx="1036800" cy="320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2843280" y="4372920"/>
            <a:ext cx="62625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J. Doblas-Rey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CREA, IC3 and BSC-CNS, Barcelona, Spai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" name="Picture 7" descr="logo_BSC2"/>
          <p:cNvPicPr/>
          <p:nvPr/>
        </p:nvPicPr>
        <p:blipFill>
          <a:blip r:embed="rId3"/>
          <a:srcRect l="0" t="0" r="23921" b="50080"/>
          <a:stretch/>
        </p:blipFill>
        <p:spPr>
          <a:xfrm>
            <a:off x="5900760" y="5969160"/>
            <a:ext cx="9176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-driven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34920" y="898560"/>
            <a:ext cx="905364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ability diagrams of initialised MME for left) basin-wide ACE and centre) U.S. ACE and right) uninitalised MME U.S. ACE 1-5 year forecasts for anomalies above the mean over 1961-2009. Statistically significant values are in bol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-204120" y="5840280"/>
            <a:ext cx="2445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on et al. (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0" name="1 Imagen" descr=""/>
          <p:cNvPicPr/>
          <p:nvPr/>
        </p:nvPicPr>
        <p:blipFill>
          <a:blip r:embed="rId1"/>
          <a:stretch/>
        </p:blipFill>
        <p:spPr>
          <a:xfrm>
            <a:off x="272880" y="3029040"/>
            <a:ext cx="5840640" cy="2498760"/>
          </a:xfrm>
          <a:prstGeom prst="rect">
            <a:avLst/>
          </a:prstGeom>
          <a:ln w="0">
            <a:noFill/>
          </a:ln>
        </p:spPr>
      </p:pic>
      <p:pic>
        <p:nvPicPr>
          <p:cNvPr id="211" name="5 Imagen" descr=""/>
          <p:cNvPicPr/>
          <p:nvPr/>
        </p:nvPicPr>
        <p:blipFill>
          <a:blip r:embed="rId2"/>
          <a:stretch/>
        </p:blipFill>
        <p:spPr>
          <a:xfrm>
            <a:off x="5973840" y="3097080"/>
            <a:ext cx="2927160" cy="246852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1935F-9621-4B12-A10E-C49DF08AD890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451D2-2888-4B27-98AE-813C17BDCA8E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ised data repository at BADC with files using a convention building on both CMIP5 and CHFP and that is expected to become the basis for CMIP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ublished on the ESG after quality control reachable by other SPECS-related services (ECOMS UDG, Climate Explorer, et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sensitivity experiments and NMME data avail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disse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33"/>
          <p:cNvPicPr/>
          <p:nvPr/>
        </p:nvPicPr>
        <p:blipFill>
          <a:blip r:embed="rId1"/>
          <a:srcRect l="11116" t="19143" r="11116" b="10939"/>
          <a:stretch/>
        </p:blipFill>
        <p:spPr>
          <a:xfrm>
            <a:off x="1046160" y="2881440"/>
            <a:ext cx="7050240" cy="3220920"/>
          </a:xfrm>
          <a:prstGeom prst="rect">
            <a:avLst/>
          </a:prstGeom>
          <a:ln w="0">
            <a:noFill/>
          </a:ln>
        </p:spPr>
      </p:pic>
      <p:sp>
        <p:nvSpPr>
          <p:cNvPr id="21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DE58D-2128-4F5F-BCC2-31729A11C350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CS data are now visible from the Climate4impact portal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Verdana"/>
                <a:hlinkClick r:id="rId1"/>
              </a:rPr>
              <a:t>http://climate4impact.e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ts of work still missing: e.g. use cases and processing demonstration video for climate predi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ownstream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1 Imagen" descr=""/>
          <p:cNvPicPr/>
          <p:nvPr/>
        </p:nvPicPr>
        <p:blipFill>
          <a:blip r:embed="rId2"/>
          <a:stretch/>
        </p:blipFill>
        <p:spPr>
          <a:xfrm>
            <a:off x="895320" y="2160720"/>
            <a:ext cx="7373880" cy="39909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581DF-0511-4A1E-98D5-ACEC21FFB76C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on tools for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00"/>
          <p:cNvPicPr/>
          <p:nvPr/>
        </p:nvPicPr>
        <p:blipFill>
          <a:blip r:embed="rId1"/>
          <a:srcRect l="20920" t="22564" r="2324" b="2821"/>
          <a:stretch/>
        </p:blipFill>
        <p:spPr>
          <a:xfrm>
            <a:off x="1274760" y="831960"/>
            <a:ext cx="6541920" cy="524016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4AC52-58AD-41B6-8FF8-FA1B70936EA7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eries of fact sheets has been started (available from the SPECS web site). Common vocabulary with EUPORIAS, targeting a wide audience, mimicking some material already existing to explain what climate change 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ct 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1 Imagen" descr=""/>
          <p:cNvPicPr/>
          <p:nvPr/>
        </p:nvPicPr>
        <p:blipFill>
          <a:blip r:embed="rId1"/>
          <a:stretch/>
        </p:blipFill>
        <p:spPr>
          <a:xfrm>
            <a:off x="1884240" y="1833480"/>
            <a:ext cx="5372280" cy="4324320"/>
          </a:xfrm>
          <a:prstGeom prst="rect">
            <a:avLst/>
          </a:prstGeom>
          <a:ln w="0">
            <a:noFill/>
          </a:ln>
        </p:spPr>
      </p:pic>
      <p:sp>
        <p:nvSpPr>
          <p:cNvPr id="232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46C25-2E29-45BD-99B5-445DED8C7B41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7360" y="20916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imate pred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0000" y="907920"/>
            <a:ext cx="8580240" cy="544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ession from initial-value problems with weather forecasting at one end and multi-decadal to century projections as a forced boundary condition problem at the other, with climate prediction (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ub-seasonal, seasonal and decad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in the middle. Prediction involves initialization and systematic comparison with a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imultaneou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fer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-211680" y="5840280"/>
            <a:ext cx="3720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apted from Meehl et al. (2009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22120" y="2889360"/>
            <a:ext cx="8686800" cy="2898720"/>
            <a:chOff x="222120" y="2889360"/>
            <a:chExt cx="8686800" cy="2898720"/>
          </a:xfrm>
        </p:grpSpPr>
        <p:sp>
          <p:nvSpPr>
            <p:cNvPr id="145" name="Rectangle 6"/>
            <p:cNvSpPr/>
            <p:nvPr/>
          </p:nvSpPr>
          <p:spPr>
            <a:xfrm>
              <a:off x="1526760" y="2935440"/>
              <a:ext cx="4635720" cy="2852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66400" y="4284720"/>
              <a:ext cx="805644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 rot="10800000">
              <a:off x="1166400" y="5049360"/>
              <a:ext cx="751680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>
              <a:off x="266400" y="3970440"/>
              <a:ext cx="8507520" cy="4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312480" y="446400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</a:rPr>
                <a:t>Initial-value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5036760" y="527544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</a:rPr>
                <a:t>Boundary-condition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7650000" y="405936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222120" y="3340080"/>
              <a:ext cx="1258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Weather forecast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1572840" y="2889360"/>
              <a:ext cx="2384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Subseasonal to seasonal forecasts (2 weeks-18 month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3958920" y="3114720"/>
              <a:ext cx="224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Decadal forecasts (18 months-30 year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6252840" y="3384720"/>
              <a:ext cx="224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Climate-change projection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6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58680" y="914400"/>
            <a:ext cx="902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mean near-surface air temperature over the ocean (one-year running mean applied) from CMIP5 hindcasts. Each system is shown with a different colour. NCEP and ERA40/Int used as referenc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96a1b"/>
                </a:solidFill>
                <a:latin typeface="Verdana"/>
              </a:rPr>
              <a:t>Examples of shock, drift and large systematic error can be foun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8" name="Picture 5" descr="figure_AR5_11_5_final"/>
          <p:cNvPicPr/>
          <p:nvPr/>
        </p:nvPicPr>
        <p:blipFill>
          <a:blip r:embed="rId1"/>
          <a:srcRect l="0" t="3415" r="0" b="47820"/>
          <a:stretch/>
        </p:blipFill>
        <p:spPr>
          <a:xfrm>
            <a:off x="1933560" y="2279520"/>
            <a:ext cx="5264280" cy="3935520"/>
          </a:xfrm>
          <a:prstGeom prst="rect">
            <a:avLst/>
          </a:prstGeom>
          <a:ln w="0">
            <a:noFill/>
          </a:ln>
        </p:spPr>
      </p:pic>
      <p:sp>
        <p:nvSpPr>
          <p:cNvPr id="159" name="Title 2"/>
          <p:cNvSpPr/>
          <p:nvPr/>
        </p:nvSpPr>
        <p:spPr>
          <a:xfrm>
            <a:off x="65232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adal forecast quality CMIP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-232560" y="5880240"/>
            <a:ext cx="279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PCC AR5 WGI (2013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61" name="2 Conector recto de flecha"/>
          <p:cNvCxnSpPr/>
          <p:nvPr/>
        </p:nvCxnSpPr>
        <p:spPr>
          <a:xfrm>
            <a:off x="2646000" y="3131640"/>
            <a:ext cx="370440" cy="1080"/>
          </a:xfrm>
          <a:prstGeom prst="straightConnector1">
            <a:avLst/>
          </a:prstGeom>
          <a:ln w="38160">
            <a:solidFill>
              <a:srgbClr val="76787b"/>
            </a:solidFill>
            <a:miter/>
            <a:headEnd len="med" type="arrow" w="med"/>
            <a:tailEnd len="med" type="arrow" w="med"/>
          </a:ln>
        </p:spPr>
      </p:cxnSp>
      <p:sp>
        <p:nvSpPr>
          <p:cNvPr id="162" name="4 CuadroTexto"/>
          <p:cNvSpPr/>
          <p:nvPr/>
        </p:nvSpPr>
        <p:spPr>
          <a:xfrm>
            <a:off x="2492280" y="27957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-5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4E8E8-F543-4E74-A2D5-CBDBE10BC264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0294F-06C6-4554-833B-92C3F7BB6404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 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a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o produce quasi-operational and actionable local climat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need information with improved forecast quality, a focus on extreme climate events and enhanced communication and services for RCOFs, NHMSs and a wide range of public and private stakehol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How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with a new generation of reliable European climate forecast systems, including initialised ESMs, efficient regionalisation tools and combination methods, and an enhanced dissemination and communication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over land, focus on Europe, Africa, South Ame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easonal-to-decadal time scales over the longest possible observational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ttp://www.specs-fp7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64B47-B97B-486D-A91F-154F8EA9190E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: Overall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3" descr="1"/>
          <p:cNvPicPr/>
          <p:nvPr/>
        </p:nvPicPr>
        <p:blipFill>
          <a:blip r:embed="rId1"/>
          <a:srcRect l="8301" t="14173" r="9684" b="7349"/>
          <a:stretch/>
        </p:blipFill>
        <p:spPr>
          <a:xfrm>
            <a:off x="44280" y="1241280"/>
            <a:ext cx="9061560" cy="4951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31760" y="896760"/>
            <a:ext cx="8872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nks to EUPORIAS/NACLIM, but also IS-ENES2, PREFACE, EUCLEIA, CLIPC,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Text Box 9"/>
          <p:cNvSpPr/>
          <p:nvPr/>
        </p:nvSpPr>
        <p:spPr>
          <a:xfrm rot="19714800">
            <a:off x="189720" y="2789640"/>
            <a:ext cx="8531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Century Gothic"/>
              </a:rPr>
              <a:t>Climate data is not climate information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45BB7-734E-46DA-B0E9-ACAF228B4867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41785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irical forecasts of one-month lead temperature (right panel) and precipitation using a wide range of observed predi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alised empirical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-264600" y="5880240"/>
            <a:ext cx="236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den et al. (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17640" y="3890880"/>
            <a:ext cx="4294080" cy="1971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4222800" y="1095480"/>
            <a:ext cx="486720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B74D1-D548-4288-AC0B-3CCB48BEDB71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-year average SST over the North Atlantic (80ºW-10ºW,40ºN-60ºN) of (black) 20CR, (green) the assimilation simulation, (red) the 2-5 year MPI extended hindcasts and (blue) the uninitialzed run. The extended period improves the robustness of the resul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rting before 196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1 Imagen" descr=""/>
          <p:cNvPicPr/>
          <p:nvPr/>
        </p:nvPicPr>
        <p:blipFill>
          <a:blip r:embed="rId1"/>
          <a:stretch/>
        </p:blipFill>
        <p:spPr>
          <a:xfrm>
            <a:off x="871560" y="2214720"/>
            <a:ext cx="7400880" cy="38671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-263880" y="5880240"/>
            <a:ext cx="2446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üller et al. (2014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NRM-CM’s correlation for ensemble-mean predictions of DJF (one-month lead time) tropical precipitation, Northern Hemisphere Z500 and NAO as a function of the ensemble size. Red lines for 90% confidence interv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shortcuts: ensemble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9" descr="annuel2014b-figa"/>
          <p:cNvPicPr/>
          <p:nvPr/>
        </p:nvPicPr>
        <p:blipFill>
          <a:blip r:embed="rId1"/>
          <a:stretch/>
        </p:blipFill>
        <p:spPr>
          <a:xfrm>
            <a:off x="384120" y="1714680"/>
            <a:ext cx="8345520" cy="42703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-289440" y="5894280"/>
            <a:ext cx="3087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. Déqué (Météo-France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4AEBC-D969-4E5E-BF77-B30E13150C4C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365040" y="254160"/>
            <a:ext cx="837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ruptions and predicti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428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C-Earth2.3 simulations of volcanic aerosol impact for Pinatubo. Five-member ensembles initialised on the 1 November 1990.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No consistent treatment of volcanic aerosol and ozon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6" name="Image 3" descr="plot_ano_ta50_i03i_global_mean.png"/>
          <p:cNvPicPr/>
          <p:nvPr/>
        </p:nvPicPr>
        <p:blipFill>
          <a:blip r:embed="rId1"/>
          <a:stretch/>
        </p:blipFill>
        <p:spPr>
          <a:xfrm>
            <a:off x="2328840" y="1762200"/>
            <a:ext cx="3282840" cy="2278080"/>
          </a:xfrm>
          <a:prstGeom prst="rect">
            <a:avLst/>
          </a:prstGeom>
          <a:ln w="0">
            <a:noFill/>
          </a:ln>
        </p:spPr>
      </p:pic>
      <p:pic>
        <p:nvPicPr>
          <p:cNvPr id="197" name="Image 4" descr="plot_ano_ta50_i00k_global_mean.png"/>
          <p:cNvPicPr/>
          <p:nvPr/>
        </p:nvPicPr>
        <p:blipFill>
          <a:blip r:embed="rId2"/>
          <a:stretch/>
        </p:blipFill>
        <p:spPr>
          <a:xfrm>
            <a:off x="5735520" y="1733400"/>
            <a:ext cx="3286080" cy="2279880"/>
          </a:xfrm>
          <a:prstGeom prst="rect">
            <a:avLst/>
          </a:prstGeom>
          <a:ln w="0">
            <a:noFill/>
          </a:ln>
        </p:spPr>
      </p:pic>
      <p:pic>
        <p:nvPicPr>
          <p:cNvPr id="198" name="Image 16" descr="plot_ano_tas_i00k_global_mean.png"/>
          <p:cNvPicPr/>
          <p:nvPr/>
        </p:nvPicPr>
        <p:blipFill>
          <a:blip r:embed="rId3"/>
          <a:stretch/>
        </p:blipFill>
        <p:spPr>
          <a:xfrm>
            <a:off x="5746680" y="3889440"/>
            <a:ext cx="3286080" cy="2279520"/>
          </a:xfrm>
          <a:prstGeom prst="rect">
            <a:avLst/>
          </a:prstGeom>
          <a:ln w="0">
            <a:noFill/>
          </a:ln>
        </p:spPr>
      </p:pic>
      <p:pic>
        <p:nvPicPr>
          <p:cNvPr id="199" name="Image 17" descr="plot_ano_tas_i03i_global_mean.png"/>
          <p:cNvPicPr/>
          <p:nvPr/>
        </p:nvPicPr>
        <p:blipFill>
          <a:blip r:embed="rId4"/>
          <a:stretch/>
        </p:blipFill>
        <p:spPr>
          <a:xfrm>
            <a:off x="2309760" y="3900600"/>
            <a:ext cx="3286080" cy="22795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2"/>
          <p:cNvSpPr/>
          <p:nvPr/>
        </p:nvSpPr>
        <p:spPr>
          <a:xfrm>
            <a:off x="-9360" y="5872320"/>
            <a:ext cx="2379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. Ménégoz (IC3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63680" y="261792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50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2560" y="4654440"/>
            <a:ext cx="24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ear-surface air temperat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375000" y="1889280"/>
            <a:ext cx="23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ithout volcanic aeroso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7273800" y="1876320"/>
            <a:ext cx="17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ith volcanic aeroso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A9E3B-15E0-4B12-915E-F6FF67750F20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3:45:56Z</dcterms:created>
  <dc:creator>Franziska Ewald de Aceves</dc:creator>
  <dc:description/>
  <dc:language>en-US</dc:language>
  <cp:lastModifiedBy>bscuser</cp:lastModifiedBy>
  <dcterms:modified xsi:type="dcterms:W3CDTF">2015-09-20T14:15:21Z</dcterms:modified>
  <cp:revision>456</cp:revision>
  <dc:subject/>
  <dc:title>Presentación de PowerPoint</dc:title>
</cp:coreProperties>
</file>