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8963-7ABD-4D5A-BB6F-41102531C1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6799-621B-48C8-B172-5C45E2D3B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F482-14FD-4415-829C-12BCA8416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DF16-F11A-4E6F-A21B-12B6E2D4E7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32A5-428A-4D02-AC12-2738A5204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A2C5-D9A3-465D-846C-97BBF4DC71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595C-92C5-463A-8D04-D9C54217F5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DEFD-A2CF-4C65-8B1D-B127BA9845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BD8F-66AE-4927-87FE-BA3B9EF900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8CEB-6A51-47D4-BDF2-83E3709AEB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4011-5EC2-4178-A254-DDAAC43005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576F-E6E7-4E74-882C-DCF1F9D54C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A9D3-C314-4D07-9426-38AB1A9250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3547-8786-4D38-A6A6-CC099A18E1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F2F4-F4F1-4F2D-81B2-AC3DCCB9F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7DC5-EC9A-4B1D-A646-96CB694DDD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80B0-F4AA-44A0-9F30-1A78D0BD3F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C0C3-40A4-48CA-8B93-1DCDCD095E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B919-E373-4E7A-8E72-112A53EDE1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6EA8-0A7B-45AD-87CE-39AFD8A7E2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A701-0206-4F1F-9DEA-C41F48899E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D5BC-8245-4152-9AE9-7940A3A26B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F875-317F-4893-B4DE-366238D7F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8EED-E82A-446E-B5AF-2F3C6EFDF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ECMWF_Master_Logo_RGB_nostrap.png"/>
          <p:cNvPicPr/>
          <p:nvPr/>
        </p:nvPicPr>
        <p:blipFill>
          <a:blip r:embed="rId3"/>
          <a:stretch/>
        </p:blipFill>
        <p:spPr>
          <a:xfrm>
            <a:off x="1620720" y="5985000"/>
            <a:ext cx="2135160" cy="366480"/>
          </a:xfrm>
          <a:prstGeom prst="rect">
            <a:avLst/>
          </a:prstGeom>
          <a:ln w="0">
            <a:noFill/>
          </a:ln>
        </p:spPr>
      </p:pic>
      <p:sp>
        <p:nvSpPr>
          <p:cNvPr id="39" name="Date Placeholder 10"/>
          <p:cNvSpPr/>
          <p:nvPr/>
        </p:nvSpPr>
        <p:spPr>
          <a:xfrm>
            <a:off x="5837400" y="5985000"/>
            <a:ext cx="1687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64e83"/>
                </a:solidFill>
                <a:latin typeface="Arial"/>
              </a:rPr>
              <a:t>© ECMWF </a:t>
            </a:r>
            <a:fld id="{BFEB73E1-E990-40BC-9BD1-F64056AE87B8}" type="datetime3">
              <a:rPr b="0" lang="en-US" sz="900" spc="-1" strike="noStrike">
                <a:solidFill>
                  <a:srgbClr val="064e83"/>
                </a:solidFill>
                <a:latin typeface="Arial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11"/>
          <p:cNvSpPr/>
          <p:nvPr/>
        </p:nvSpPr>
        <p:spPr>
          <a:xfrm>
            <a:off x="2962440" y="6308640"/>
            <a:ext cx="34448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64e83"/>
                </a:solidFill>
                <a:latin typeface="Arial"/>
              </a:rPr>
              <a:t>EUROPEAN CENTRE FOR MEDIUM-RANGE WEATHER FORECA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ECMWF_Master_Logo_RGB_nostrap.png"/>
          <p:cNvPicPr/>
          <p:nvPr/>
        </p:nvPicPr>
        <p:blipFill>
          <a:blip r:embed="rId3"/>
          <a:stretch/>
        </p:blipFill>
        <p:spPr>
          <a:xfrm>
            <a:off x="1620720" y="6308640"/>
            <a:ext cx="1341720" cy="230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ldNum" idx="1"/>
          </p:nvPr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064e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E767C-1F1C-4C0F-8E18-9E793F341B37}" type="slidenum">
              <a:rPr b="1" lang="en-US" sz="900" spc="-1" strike="noStrike">
                <a:solidFill>
                  <a:srgbClr val="064e8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PowerPoint_strip2.png"/>
          <p:cNvPicPr/>
          <p:nvPr/>
        </p:nvPicPr>
        <p:blipFill>
          <a:blip r:embed="rId2"/>
          <a:stretch/>
        </p:blipFill>
        <p:spPr>
          <a:xfrm>
            <a:off x="0" y="0"/>
            <a:ext cx="1825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1"/>
          <p:cNvSpPr/>
          <p:nvPr/>
        </p:nvSpPr>
        <p:spPr>
          <a:xfrm>
            <a:off x="2152800" y="6308640"/>
            <a:ext cx="3443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64e83"/>
                </a:solidFill>
                <a:latin typeface="Arial"/>
              </a:rPr>
              <a:t>EUROPEAN CENTRE FOR MEDIUM-RANGE WEATHER FORECA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ECMWF_Master_Logo_RGB_nostrap.png"/>
          <p:cNvPicPr/>
          <p:nvPr/>
        </p:nvPicPr>
        <p:blipFill>
          <a:blip r:embed="rId3"/>
          <a:stretch/>
        </p:blipFill>
        <p:spPr>
          <a:xfrm>
            <a:off x="809640" y="6308640"/>
            <a:ext cx="1343160" cy="230400"/>
          </a:xfrm>
          <a:prstGeom prst="rect">
            <a:avLst/>
          </a:prstGeom>
          <a:ln w="0">
            <a:noFill/>
          </a:ln>
        </p:spPr>
      </p:pic>
      <p:sp>
        <p:nvSpPr>
          <p:cNvPr id="121" name="Date Placeholder 10"/>
          <p:cNvSpPr/>
          <p:nvPr/>
        </p:nvSpPr>
        <p:spPr>
          <a:xfrm>
            <a:off x="6424560" y="6308640"/>
            <a:ext cx="11001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ctober 29, 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Num" idx="2"/>
          </p:nvPr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064e8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7198A-84AB-40E5-84D2-263347685285}" type="slidenum">
              <a:rPr b="1" lang="en-US" sz="900" spc="-1" strike="noStrike">
                <a:solidFill>
                  <a:srgbClr val="064e8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0960" y="2462040"/>
            <a:ext cx="803268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64e83"/>
                </a:solidFill>
                <a:latin typeface="Arial"/>
              </a:rPr>
              <a:t>Subseasonal forecast data exchang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64e83"/>
                </a:solidFill>
                <a:latin typeface="Arial"/>
              </a:rPr>
              <a:t>with LC-LRFMME: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6D0F9-1AF8-43EF-884A-BC0ED62F956F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5560" y="360000"/>
            <a:ext cx="851508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64e83"/>
                </a:solidFill>
                <a:latin typeface="Arial"/>
              </a:rPr>
              <a:t>WMO CBS infrastructure for climate predictio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3CAB5-F4B6-4A3D-BE32-E58DDFA67398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85920" y="1379520"/>
            <a:ext cx="851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WMO-designated Global Producing Centres (GPC) for long-range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d procedures/standards in delivery of global long-range forecasts (e.g. products, timeliness, verification/validation info,system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Lead Centres, facilitating user access to GPC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/display of forecast products: Lead Centre for Long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Multi-Model Ensembles (LC-LRFMME) – jointly oper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A/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/display of verification products: Lead Centre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Verification System for Long-range Forecasts (LC-SVSL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ly operated by BoM/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 of GPCs and LCs are widely used in NMHSs, RCOFs (Regional Climate Outlook Forum), and RCCs (Regional Climate Cent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5560" y="360000"/>
            <a:ext cx="851508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64e83"/>
                </a:solidFill>
                <a:latin typeface="Arial"/>
              </a:rPr>
              <a:t>Subseasonal forecast exchange with LC-LRF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3120" y="1031760"/>
            <a:ext cx="8075520" cy="52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XVI WMO congress (2011) requested the LC_LRFMME to explore the possibility of extending its role to include the sub-seasonal predi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BS/CCl ET on operational predictions from sub-seasonal to long time scales (ET-OPLSL) recognized the need to coordinate with the WWRP-THORPEX-WCRP research project S2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February 2014 the S2S steering group discussed the possibility of making use of the S2S research archive to develop a real-time multi-model pilot display at the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as agreed that the operational centres participating in the S2S project would send their real-time forecasts to ECMWF , and ECMWF would impose the agreed 3-week delay on public release of the forecasts, but allow LC-LRFMME access to an agreed subset of the data for use in preparing a display of real-time forecast on their web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6th May the S2S data portal was opened and since than ECMWF has supported the exchange of  (selected) real time data to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54C4F-BB38-4B8E-ABFA-E1E8DE968506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28120" y="759960"/>
            <a:ext cx="780588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MWF provide the infrastructure for the real-time exchange, the availability of data depend on the participating cent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ve centres (ECMWF, Exeter, Washington, Seoul, and Tokyo)  have agreed to the data transfer from the S2S archive to LC-LRFMME without 3-week de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C-LRFMME is taking the responsibility to access only the data provided by the participating cent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ta exchange include:  SST, T2m, precipitation, u200, v200, u850, OL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display is ready for review the LC-LRFMME will initially only allow access for GPCs; ET-OPSLS will then decide on ac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ts val="2200"/>
              </a:lnSpc>
              <a:spcBef>
                <a:spcPts val="1100"/>
              </a:spcBef>
              <a:buClr>
                <a:srgbClr val="064e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part of the S2S monitoring, ECMWF is also constructing S2S multi-model products (not in real-time) and it is interested in exchanging experience and opportunities for collaboration with the LC-LRFM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524720" y="6308640"/>
            <a:ext cx="16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E2B64-3D27-4333-BB5D-EA167017AF23}" type="slidenum">
              <a:rPr b="1" lang="en-US" sz="900" spc="-1" strike="noStrike">
                <a:solidFill>
                  <a:srgbClr val="064e8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6:41:47Z</dcterms:created>
  <dc:creator>Laura Ferranti</dc:creator>
  <dc:description/>
  <dc:language>en-US</dc:language>
  <cp:lastModifiedBy>Catherine Michaut</cp:lastModifiedBy>
  <cp:lastPrinted>2014-11-19T12:15:44Z</cp:lastPrinted>
  <dcterms:modified xsi:type="dcterms:W3CDTF">2015-10-01T08:42:50Z</dcterms:modified>
  <cp:revision>19</cp:revision>
  <dc:subject/>
  <dc:title>PowerPoint Presentation</dc:title>
</cp:coreProperties>
</file>