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E406-52F5-4BEF-A942-65F41555E8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6577-2256-4CF2-9AA7-56881BEF1E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FB04-1730-44BC-AF2A-588BFF785A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151B-D5E5-447F-B488-10D63B69CC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F767-7BAF-4917-84C8-01A544409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FA94-D4CF-41F1-AE47-5D53EA2E6F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B9F6-0B81-47E3-8779-19E9E8E9FB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6AB5-A1CA-4EE5-A45C-97BE0D2C9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E5A2-94DE-4988-9694-8830FBA448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D18F-0CED-4F73-B30F-E1155EC04D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BE9E-4A51-44BB-B69C-A060134350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A0A-DBC1-4316-BC4D-D9A8681428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4E76-0F0E-41FC-9D77-8A440A9E1A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59EA-E382-4E19-9A08-F10832FD41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236A-B404-44A6-939B-3021611DC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0FD5-4E34-4A6C-859A-FEBBC2BB7E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4DF5-2480-40DC-A8B1-41927AD013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143F-869F-476C-A3B6-2BCA58A7D5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2BAE-46A0-4662-9E09-09D87B76C2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09DD-2279-4EA9-89E5-B5056FC1AD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24A2-9014-4390-A7BF-F4D793ABAF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01EB-79CD-465F-8E60-84BD0C6016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F4BB-347F-473C-9170-033888F803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A1A2-41AA-43AF-873C-4A6C0511A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ECMWF_Master_Logo_RGB_nostrap.png"/>
          <p:cNvPicPr/>
          <p:nvPr/>
        </p:nvPicPr>
        <p:blipFill>
          <a:blip r:embed="rId3"/>
          <a:stretch/>
        </p:blipFill>
        <p:spPr>
          <a:xfrm>
            <a:off x="1620720" y="5985000"/>
            <a:ext cx="2135160" cy="366480"/>
          </a:xfrm>
          <a:prstGeom prst="rect">
            <a:avLst/>
          </a:prstGeom>
          <a:ln w="0">
            <a:noFill/>
          </a:ln>
        </p:spPr>
      </p:pic>
      <p:sp>
        <p:nvSpPr>
          <p:cNvPr id="39" name="Date Placeholder 10"/>
          <p:cNvSpPr/>
          <p:nvPr/>
        </p:nvSpPr>
        <p:spPr>
          <a:xfrm>
            <a:off x="5837400" y="5985000"/>
            <a:ext cx="1687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64e83"/>
                </a:solidFill>
                <a:latin typeface="Arial"/>
              </a:rPr>
              <a:t>© ECMWF </a:t>
            </a:r>
            <a:fld id="{7B154CE9-9A1B-4E19-AB13-34EB310989EB}" type="datetime3">
              <a:rPr b="0" lang="en-US" sz="900" spc="-1" strike="noStrike">
                <a:solidFill>
                  <a:srgbClr val="064e83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11"/>
          <p:cNvSpPr/>
          <p:nvPr/>
        </p:nvSpPr>
        <p:spPr>
          <a:xfrm>
            <a:off x="2962440" y="6308640"/>
            <a:ext cx="34448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64e83"/>
                </a:solidFill>
                <a:latin typeface="Arial"/>
              </a:rPr>
              <a:t>EUROPEAN CENTRE FOR MEDIUM-RANGE WEATHER FORECA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ECMWF_Master_Logo_RGB_nostrap.png"/>
          <p:cNvPicPr/>
          <p:nvPr/>
        </p:nvPicPr>
        <p:blipFill>
          <a:blip r:embed="rId3"/>
          <a:stretch/>
        </p:blipFill>
        <p:spPr>
          <a:xfrm>
            <a:off x="1620720" y="6308640"/>
            <a:ext cx="1341720" cy="230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ldNum" idx="1"/>
          </p:nvPr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064e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A2748-25C0-4368-A8BE-B4907E9A59BF}" type="slidenum">
              <a:rPr b="1" lang="en-US" sz="900" spc="-1" strike="noStrike">
                <a:solidFill>
                  <a:srgbClr val="064e8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1"/>
          <p:cNvSpPr/>
          <p:nvPr/>
        </p:nvSpPr>
        <p:spPr>
          <a:xfrm>
            <a:off x="2152800" y="6308640"/>
            <a:ext cx="3443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64e83"/>
                </a:solidFill>
                <a:latin typeface="Arial"/>
              </a:rPr>
              <a:t>EUROPEAN CENTRE FOR MEDIUM-RANGE WEATHER FORECA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ECMWF_Master_Logo_RGB_nostrap.png"/>
          <p:cNvPicPr/>
          <p:nvPr/>
        </p:nvPicPr>
        <p:blipFill>
          <a:blip r:embed="rId3"/>
          <a:stretch/>
        </p:blipFill>
        <p:spPr>
          <a:xfrm>
            <a:off x="809640" y="6308640"/>
            <a:ext cx="1343160" cy="230400"/>
          </a:xfrm>
          <a:prstGeom prst="rect">
            <a:avLst/>
          </a:prstGeom>
          <a:ln w="0">
            <a:noFill/>
          </a:ln>
        </p:spPr>
      </p:pic>
      <p:sp>
        <p:nvSpPr>
          <p:cNvPr id="121" name="Date Placeholder 10"/>
          <p:cNvSpPr/>
          <p:nvPr/>
        </p:nvSpPr>
        <p:spPr>
          <a:xfrm>
            <a:off x="6424560" y="6308640"/>
            <a:ext cx="11001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29,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Num" idx="2"/>
          </p:nvPr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064e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C3021-BFB2-44F2-9409-5588336EECA0}" type="slidenum">
              <a:rPr b="1" lang="en-US" sz="900" spc="-1" strike="noStrike">
                <a:solidFill>
                  <a:srgbClr val="064e8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0960" y="2462040"/>
            <a:ext cx="803268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64e83"/>
                </a:solidFill>
                <a:latin typeface="Arial"/>
              </a:rPr>
              <a:t>Subseasonal forecast data exchang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64e83"/>
                </a:solidFill>
                <a:latin typeface="Arial"/>
              </a:rPr>
              <a:t>with LC-LRFMME: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878C9-D219-48DF-9410-A5F80ECE7878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5560" y="360000"/>
            <a:ext cx="851508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64e83"/>
                </a:solidFill>
                <a:latin typeface="Arial"/>
              </a:rPr>
              <a:t>WMO CBS infrastructure for climate predictio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29EB3-59E9-410D-BB09-61B251CA803E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85920" y="1379520"/>
            <a:ext cx="851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WMO-designated Global Producing Centres (GPC) for long-range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d procedures/standards in delivery of global long-range forecasts (e.g. products, timeliness, verification/validation info,system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Lead Centres, facilitating user access to GPC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/display of forecast products: Lead Centre for Long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Multi-Model Ensembles (LC-LRFMME) – jointly oper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A/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/display of verification products: Lead Cent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Verification System for Long-range Forecasts (LC-SVSL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ly operated by BoM/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 of GPCs and LCs are widely used in NMHSs, RCOFs (Regional Climate Outlook Forum), and RCCs (Regional Climate Cent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5560" y="360000"/>
            <a:ext cx="851508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64e83"/>
                </a:solidFill>
                <a:latin typeface="Arial"/>
              </a:rPr>
              <a:t>Subseasonal forecast exchange with LC-LRF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3120" y="1031760"/>
            <a:ext cx="8075520" cy="52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XVI WMO congress (2011) requested the LC_LRFMME to explore the possibility of extending its role to include the sub-seasonal predi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BS/CCl ET on operational predictions from sub-seasonal to long time scales (ET-OPLSL) recognized the need to coordinate with the WWRP-THORPEX-WCRP research project S2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February 2014 the S2S steering group discussed the possibility of making use of the S2S research archive to develop a real-time multi-model pilot display at the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as agreed that the operational centres participating in the S2S project would send their real-time forecasts to ECMWF , and ECMWF would impose the agreed 3-week delay on public release of the forecasts, but allow LC-LRFMME access to an agreed subset of the data for use in preparing a display of real-time forecast on their web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6th May the S2S data portal was opened and since than ECMWF has supported the exchange of  (selected) real time data to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D661B-0B7C-4DA7-9CD2-379DF89FB208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28120" y="759960"/>
            <a:ext cx="780588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MWF provide the infrastructure for the real-time exchange, the availability of data depend on the participating cent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centres (ECMWF, Exeter, Washington, Seoul, and Tokyo)  have agreed to the data transfer from the S2S archive to LC-LRFMME without 3-week de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C-LRFMME is taking the responsibility to access only the data provided by the participating cent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ta exchange include:  SST, T2m, precipitation, u200, v200, u850, OL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display is ready for review the LC-LRFMME will initially only allow access for GPCs; ET-OPSLS will then decide on ac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part of the S2S monitoring, ECMWF is also constructing S2S multi-model products (not in real-time) and it is interested in exchanging experience and opportunities for collaboration with the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73F75-65B4-4167-9FF7-BEAABBA28F86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6:41:47Z</dcterms:created>
  <dc:creator>Laura Ferranti</dc:creator>
  <dc:description/>
  <dc:language>en-US</dc:language>
  <cp:lastModifiedBy>Catherine Michaut</cp:lastModifiedBy>
  <cp:lastPrinted>2014-11-19T12:15:44Z</cp:lastPrinted>
  <dcterms:modified xsi:type="dcterms:W3CDTF">2015-10-01T08:42:50Z</dcterms:modified>
  <cp:revision>19</cp:revision>
  <dc:subject/>
  <dc:title>PowerPoint Presentation</dc:title>
</cp:coreProperties>
</file>