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85248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2C1FD5-9B96-4199-84E4-4AC90A864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529E14-A52E-4920-9169-D62A7E65F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я за все 4 сезона. Изменения для зимнего периода в Т2м – положи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217-8FEE-49F7-8585-564014FF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7F6-06B5-4EED-8E95-7DC63330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F29-F125-43DC-97A3-0D015C45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902-626A-4659-9E3A-A4614F4E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FC20-4BC0-4027-BC91-D6D55EE4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07F-EBC4-420B-92E9-AA69B11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B96-CB63-4360-ADD0-1261B27D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4059-7445-434C-9EAF-E5D5759A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3F1-52ED-4004-B0DB-C879017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2D9C-834B-461D-A902-2434D04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EEFE-5C70-4190-9B25-7E5DDAC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029-558B-4A83-827D-42392C0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34CF-5D55-45C9-A5A4-422A940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F553-2FC9-4177-8200-553B25D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9797-0EB6-41B2-A506-5F7AF91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D91C-74F9-4E64-A118-27E642ED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9697-1D51-4D7C-80D7-3524D0EC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AB13-3F80-41C2-876C-C5B3D596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7096-D570-47C0-8A9E-3769F8C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4CB3-EBF6-4BD6-B67E-A1862B74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D1A6-DFF5-4977-B099-87FBDB2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A2D0-C810-4F9A-BEF1-198DE2A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3F4-4FCD-4A2D-88EC-E3A7F978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AD06-DEC5-4232-8216-104646E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8B9F-7F94-4CD0-9C39-4D9C943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15F7-3E76-4A46-8DBF-C73E3BA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9053-4F72-4E3F-A432-16B053D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9C08-7303-458C-A5EC-C4CB6D3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ACDD-1E98-4348-9B28-DB6DE44C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32D0-094E-4279-9142-24D942EF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5254-3009-463B-AF54-B9D082D4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B424-2F77-45AC-AAFA-587AD937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C0EB-95A8-4F9E-9EE5-024E7012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E13-614D-4F99-820D-1A0DA1E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4779-BD9B-4B6C-91C9-554333B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7138-783F-4B02-8D99-782F10B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D146-5468-48ED-8CF0-9D6C38A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1181-A28A-489A-B236-32CEAF5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B304-6A2E-4BF0-9942-9053334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37DA-1585-4E91-8573-FB1C9CA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AB49-9097-4962-9B1F-FB415F6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6A63-E4EE-4F30-9A0B-98F75905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3E73-19F6-424C-9353-A8C29A6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3CC3-F27A-4717-BFBF-1DF0379D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AEA-B70C-4858-9FFD-A5CAB8F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D622-DB6F-418C-8FD0-B0FAD620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90C0-B9CD-4BAC-9964-793D36E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9329-908A-428A-9F9B-C5877BF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F073-8475-4AFE-B7F6-1CC9333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B971-CECB-44E3-84C8-95726608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CA9D-135E-4100-AB25-CC9C013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972A-A5E7-4923-B029-F96B8A2C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6481-1219-4640-868F-FF88DE4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B003-D894-4B25-AF92-FEA011E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BB50-0A89-425E-B415-0F1404F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07A-6865-4427-B15D-12871092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EB4A-D539-422E-80E8-3A5DDFC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094-AFF4-436B-8349-BBD6F38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16D-3AF5-42B7-B757-190B00A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9C7-A870-4778-B8DC-0B69023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F87-54C0-49B9-AE71-A149BA11A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6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D69B-9EAB-40CF-BDEE-A7F2720A0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50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3BF-BBE6-4532-AC64-3CE1181DF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94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B96F-09CE-436E-8477-85D9029E3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38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77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80" name="Picture 8" descr="заставка"/>
            <p:cNvPicPr/>
            <p:nvPr/>
          </p:nvPicPr>
          <p:blipFill>
            <a:blip r:embed="rId4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эмблемма"/>
            <p:cNvPicPr/>
            <p:nvPr/>
          </p:nvPicPr>
          <p:blipFill>
            <a:blip r:embed="rId5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AF4F-8C03-472B-A1F5-54864CAEF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24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8800"/>
                </a:solidFill>
                <a:latin typeface="Tahoma"/>
              </a:rPr>
              <a:t>Update on seasonal forecast system based on SL-AV model at Hydrometcentre of Russia. Decadal prediction plans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00000" y="3212640"/>
            <a:ext cx="806472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.A. Tolstykh (2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.B.Kiktev (1), R.B. Zaripov (1), E.N.Kruglova (1), I.A.Kulikova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drometcentre of Russia (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itute of Numerical Matematics Russian Academy of Sciences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4" descr="emblemaHMC"/>
          <p:cNvPicPr/>
          <p:nvPr/>
        </p:nvPicPr>
        <p:blipFill>
          <a:blip r:embed="rId1"/>
          <a:stretch/>
        </p:blipFill>
        <p:spPr>
          <a:xfrm>
            <a:off x="7740720" y="5508720"/>
            <a:ext cx="1403280" cy="134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8800"/>
                </a:solidFill>
                <a:latin typeface="Tahoma"/>
              </a:rPr>
              <a:t>Thank you for attention!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56" name="Picture 4" descr="emblemaHMC"/>
          <p:cNvPicPr/>
          <p:nvPr/>
        </p:nvPicPr>
        <p:blipFill>
          <a:blip r:embed="rId1"/>
          <a:stretch/>
        </p:blipFill>
        <p:spPr>
          <a:xfrm>
            <a:off x="7885080" y="5646600"/>
            <a:ext cx="1258920" cy="1211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sonal forecast system at HMC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s for running decadal forecasts at INM 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8800"/>
                </a:solidFill>
                <a:latin typeface="Tahoma"/>
              </a:rPr>
              <a:t>Seasonal version of SL-AV mode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2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mi-implicit semi-Lagrangian vorticity-divergence dynamical core of own development (Tolstykh 2010), mostly ALADIN/LACE parameteriz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urrent version: Resolution 1.4x1.125 degrees lon/lat, 28 levels. Described in (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Tolstykh et al, Izvestia RAN, Ser. PhA&amp;O, 2010) with updates in (Tolstykh et al Izvestia RAN, 20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rification of seasonal forecasts (also for MGO (St.Petersbourg)  forecasts) http://neacc.meteoinfo.ru/verificationfore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Running forecast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d0-63: 1.1x1.4 L28 once a week, 20 member ensemble initialized on 00Z every Wednesday forced py persisted SST anomalies (mean for 2 weeks) from NCEP (Reynolds SST OI v2). Perturbation from a breeding cycle. Re-forecast suite with 10 members spanning 30 years (1981-2010) run in real-time.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m0-4: Forecast suite is the same as d0-63, but forecast lead time is 4 months. Runs on the last Wednesday of a month. Re-forecast suite with 10 members spanning 30 years (1981-2010) 00Z and 12Z 26-30 of each month (24-28 for February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put to APCC, WMO LC LRF multi-model ensemble. Forecasts are also available at North Eurasia Climate Centre site (neacc.meteoinfo.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emblemaHMC"/>
          <p:cNvPicPr/>
          <p:nvPr/>
        </p:nvPicPr>
        <p:blipFill>
          <a:blip r:embed="rId1"/>
          <a:stretch/>
        </p:blipFill>
        <p:spPr>
          <a:xfrm>
            <a:off x="7956720" y="5716440"/>
            <a:ext cx="1187280" cy="1141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82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Scores and forecasts at NEACC sit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43" name="Picture 5" descr="There are not data!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562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900000" y="1628640"/>
            <a:ext cx="33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kill scores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A - ROC Score Above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N - ROC Score Near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B - ROC Score Below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 - sign consistency coefficient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CC - anomaly correlation coefficient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MSE - root mean square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187280" y="56707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lots from WMO LC are also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Activities since 16</a:t>
            </a:r>
            <a:r>
              <a:rPr b="0" lang="en-US" sz="4400" spc="-1" strike="noStrike" baseline="30000">
                <a:solidFill>
                  <a:srgbClr val="827f4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sessio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557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ACC site (forecasts, diagnostics – scores, indices,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lementing CHFP and S2S output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w snow albedo parameterization in SL-AV, cloudiness retu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ving from NCEP2 to ERA Interim data for hindca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o fast transition to new technology -&gt; serious bug in operational seasonal forecasts in Janu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rrected by the end of Febru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644"/>
                </a:solidFill>
                <a:latin typeface="Arial"/>
                <a:ea typeface="Arial"/>
              </a:rPr>
              <a:t>Comparison of hindcasts errors for 2011 and 2014 versions. 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RMSE averaged over 4 seasons and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28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year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(1983-2010)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for H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500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(dam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 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MSLP (hPa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T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850, Т2м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H200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dam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with respect to reanalysi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.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20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- (9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- 2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 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20 –  (2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-9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TR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(20S-20N)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971640" y="1268280"/>
          <a:ext cx="817236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817236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New version of the mode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accurate  SW and LW radiation parameterization(CLIRAD SW + RRTM LW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AL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RO-0 microphy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creased horizontal resolution (0.72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°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x0.9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°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lat-l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mising preliminary results (especially in dynamics), poor precip so far,  tuning is under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Plans for decadal forecasts at INM RA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71280" y="1196640"/>
            <a:ext cx="8101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MCM5 with impr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higher model top, better stratosphere resoluti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new cloudiness and condensation parameterizatio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aerosols descri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wo resolutions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`Optimistic’:  Atm. 2˚x1.5˚L73, Oc. 0.5˚x0.25˚L40 (twice higher ocean horizontal resolution than in CMIP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tm. 2˚x1.5˚L21, Oc. 1˚x0.5˚L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pends on computer resources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9:57:16Z</dcterms:created>
  <dc:creator>Овчинников</dc:creator>
  <dc:description/>
  <dc:language>en-US</dc:language>
  <cp:lastModifiedBy>misha</cp:lastModifiedBy>
  <cp:lastPrinted>2004-12-29T10:32:53Z</cp:lastPrinted>
  <dcterms:modified xsi:type="dcterms:W3CDTF">2015-09-22T13:29:12Z</dcterms:modified>
  <cp:revision>627</cp:revision>
  <dc:subject/>
  <dc:title>Глобальная сеть приземных наблюдений Всемирной службы пог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