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dt" idx="16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Img"/>
          </p:nvPr>
        </p:nvSpPr>
        <p:spPr>
          <a:xfrm>
            <a:off x="852480" y="74268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ftr" idx="17"/>
          </p:nvPr>
        </p:nvSpPr>
        <p:spPr>
          <a:xfrm>
            <a:off x="0" y="942984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 type="sldNum" idx="18"/>
          </p:nvPr>
        </p:nvSpPr>
        <p:spPr>
          <a:xfrm>
            <a:off x="3778200" y="942984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7DDA992-3B8F-400E-A62B-F6370EA9A8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778200" y="942984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8CFA4E5-2560-43F4-AEB6-9ECFFB2849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85248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я за все 4 сезона. Изменения для зимнего периода в Т2м – положитель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3276-E11A-49FD-A45C-2C067E694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395D-97B7-46ED-AFDE-5AFCE6AAE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8CDA-46EA-4043-9947-38550AAA7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B395-C74A-4E2E-B8C4-0C731865D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B3F1C-79A3-4DC1-8CA1-C48DB5785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9EB70-1B32-40D6-B976-0FE075F71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E48E3-50C3-44CA-9A23-70FBA1534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34454-7BBF-4231-BEF6-0A39950B3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AC7FB-4BE2-4825-BBCF-624B424C9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232B9-9361-4B83-BA1F-B60DD4D25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04A81-CBF7-415D-B83A-F3792AACF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2DF0-1655-4F9A-95C8-431DFA573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6D1C7-522D-4F8B-9F8D-72C15D82C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9FB51-62D3-46B2-91D5-DC03546A7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4792F-6D3C-4344-BE13-004E04178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33FF4-05FF-4B69-B697-0E0269962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8B055-329B-4ECD-8CEE-1AE043B42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03F84-65FF-4C24-ACA5-A881C80D7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0566A-0692-4B2B-A227-A99474FD5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1D842-B8E3-4233-8F8D-2B8C91103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F9116-458F-46DC-8AE4-2E80284A0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57770-258D-4572-9B54-CD1F6E9F9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0BFC-3EE5-4BE1-B0BD-88B9411AF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A54B9-F11D-49F7-A703-3DFB68A19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36449-B0D8-48E0-AB6C-73A34A931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C43F4-A6F3-47E1-BFE5-1EFC96094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08A41-A3CA-44F4-9A42-9B24FE5CA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69FD6-4771-4866-B7A7-9A7734AE8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2A56B-51DF-4C20-A0BD-96ED6322D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271B3-21E4-40C2-BC21-B38D400B9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DB9ECE-C47D-4D95-ADA1-7671C2C70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7F477-1A7F-4BFA-B9BA-648B86E45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A3B9F-6B81-480C-92AC-102D5E2EE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0494-6D57-42DA-9F29-826E6C026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42EA7-DC7B-4A44-B148-6C8723079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69405-7B70-4CF1-9848-EF40BEB5D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E3A2C-BBEB-4C85-BC82-FE4AFA5C3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5FE86-534E-4B53-85FA-338124637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223CC-C33D-4971-A983-738CCF9AC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7CADE-C91C-4612-8DA0-5B2002C71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63EF6-FB6C-4BC7-8F82-D329C41F0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D9CE9-84C0-4BEF-B452-14D3D9D37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684AF-1EAC-4558-A4F3-FEB9232D8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4E0665-9D06-443C-BD2F-EA8DCCD70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AF3E-8C2D-4BFF-B1AF-621F80A3B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76BF3-3E49-434B-8BCA-CB761261C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4FBCA8-EE0F-4255-AB75-6122341B1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23C484-03AF-4B3C-ABFD-0CAD6D91C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2C6A8C-E15E-4D77-9EAD-A3FA081C4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318CB8-61E9-4D73-AED4-C59675BD5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EADA84-CF65-4F11-BFAA-78379A69B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0C6B4E-E1CB-4E99-A5EC-89E0BF3E1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37CED1-F01A-4292-9ADF-FCDF3017F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7A4698-4664-4F2F-84DD-298A37D01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FD5355-BD71-4ECA-B8E1-85085EB0D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7835-7936-4E81-B979-762A95940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DC14EB-FC57-42DF-B323-CF4CB7613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7BAD-8047-4090-8811-D8732E368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E4DF-6738-4D38-96C8-DD233B25B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DE7D-ADBF-4850-9A6A-AC7407855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d6dd"/>
            </a:gs>
            <a:gs pos="100000">
              <a:srgbClr val="f0ef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67558-90C1-4DE9-9C7F-38C2B4B092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73080" y="115920"/>
            <a:ext cx="1027080" cy="6626160"/>
            <a:chOff x="73080" y="115920"/>
            <a:chExt cx="1027080" cy="6626160"/>
          </a:xfrm>
        </p:grpSpPr>
        <p:pic>
          <p:nvPicPr>
            <p:cNvPr id="6" name="Picture 8" descr="заставка"/>
            <p:cNvPicPr/>
            <p:nvPr/>
          </p:nvPicPr>
          <p:blipFill>
            <a:blip r:embed="rId2"/>
            <a:stretch/>
          </p:blipFill>
          <p:spPr>
            <a:xfrm>
              <a:off x="215640" y="115920"/>
              <a:ext cx="719640" cy="662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9" descr="эмблемма"/>
            <p:cNvPicPr/>
            <p:nvPr/>
          </p:nvPicPr>
          <p:blipFill>
            <a:blip r:embed="rId3"/>
            <a:stretch/>
          </p:blipFill>
          <p:spPr>
            <a:xfrm>
              <a:off x="73080" y="5589720"/>
              <a:ext cx="1027080" cy="105084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d6dd"/>
            </a:gs>
            <a:gs pos="100000">
              <a:srgbClr val="f0ef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4DC04-FF15-4C89-B591-E77B937766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" name="Group 7"/>
          <p:cNvGrpSpPr/>
          <p:nvPr/>
        </p:nvGrpSpPr>
        <p:grpSpPr>
          <a:xfrm>
            <a:off x="73080" y="115920"/>
            <a:ext cx="1027080" cy="6626160"/>
            <a:chOff x="73080" y="115920"/>
            <a:chExt cx="1027080" cy="6626160"/>
          </a:xfrm>
        </p:grpSpPr>
        <p:pic>
          <p:nvPicPr>
            <p:cNvPr id="50" name="Picture 8" descr="заставка"/>
            <p:cNvPicPr/>
            <p:nvPr/>
          </p:nvPicPr>
          <p:blipFill>
            <a:blip r:embed="rId2"/>
            <a:stretch/>
          </p:blipFill>
          <p:spPr>
            <a:xfrm>
              <a:off x="215640" y="115920"/>
              <a:ext cx="719640" cy="662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9" descr="эмблемма"/>
            <p:cNvPicPr/>
            <p:nvPr/>
          </p:nvPicPr>
          <p:blipFill>
            <a:blip r:embed="rId3"/>
            <a:stretch/>
          </p:blipFill>
          <p:spPr>
            <a:xfrm>
              <a:off x="73080" y="5589720"/>
              <a:ext cx="1027080" cy="105084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d6dd"/>
            </a:gs>
            <a:gs pos="100000">
              <a:srgbClr val="f0ef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3E793-8FB6-4D8D-8BFA-B6DEAA5B65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3" name="Group 7"/>
          <p:cNvGrpSpPr/>
          <p:nvPr/>
        </p:nvGrpSpPr>
        <p:grpSpPr>
          <a:xfrm>
            <a:off x="73080" y="115920"/>
            <a:ext cx="1027080" cy="6626160"/>
            <a:chOff x="73080" y="115920"/>
            <a:chExt cx="1027080" cy="6626160"/>
          </a:xfrm>
        </p:grpSpPr>
        <p:pic>
          <p:nvPicPr>
            <p:cNvPr id="94" name="Picture 8" descr="заставка"/>
            <p:cNvPicPr/>
            <p:nvPr/>
          </p:nvPicPr>
          <p:blipFill>
            <a:blip r:embed="rId2"/>
            <a:stretch/>
          </p:blipFill>
          <p:spPr>
            <a:xfrm>
              <a:off x="215640" y="115920"/>
              <a:ext cx="719640" cy="662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Picture 9" descr="эмблемма"/>
            <p:cNvPicPr/>
            <p:nvPr/>
          </p:nvPicPr>
          <p:blipFill>
            <a:blip r:embed="rId3"/>
            <a:stretch/>
          </p:blipFill>
          <p:spPr>
            <a:xfrm>
              <a:off x="73080" y="5589720"/>
              <a:ext cx="1027080" cy="105084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d6dd"/>
            </a:gs>
            <a:gs pos="100000">
              <a:srgbClr val="f0ef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15687-2FF5-4F76-B974-76074A07F8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7" name="Group 7"/>
          <p:cNvGrpSpPr/>
          <p:nvPr/>
        </p:nvGrpSpPr>
        <p:grpSpPr>
          <a:xfrm>
            <a:off x="73080" y="115920"/>
            <a:ext cx="1027080" cy="6626160"/>
            <a:chOff x="73080" y="115920"/>
            <a:chExt cx="1027080" cy="6626160"/>
          </a:xfrm>
        </p:grpSpPr>
        <p:pic>
          <p:nvPicPr>
            <p:cNvPr id="138" name="Picture 8" descr="заставка"/>
            <p:cNvPicPr/>
            <p:nvPr/>
          </p:nvPicPr>
          <p:blipFill>
            <a:blip r:embed="rId2"/>
            <a:stretch/>
          </p:blipFill>
          <p:spPr>
            <a:xfrm>
              <a:off x="215640" y="115920"/>
              <a:ext cx="719640" cy="662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9" descr="эмблемма"/>
            <p:cNvPicPr/>
            <p:nvPr/>
          </p:nvPicPr>
          <p:blipFill>
            <a:blip r:embed="rId3"/>
            <a:stretch/>
          </p:blipFill>
          <p:spPr>
            <a:xfrm>
              <a:off x="73080" y="5589720"/>
              <a:ext cx="1027080" cy="105084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d6dd"/>
            </a:gs>
            <a:gs pos="100000">
              <a:srgbClr val="f0ef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7"/>
          <p:cNvGrpSpPr/>
          <p:nvPr/>
        </p:nvGrpSpPr>
        <p:grpSpPr>
          <a:xfrm>
            <a:off x="73080" y="115920"/>
            <a:ext cx="1027080" cy="6626160"/>
            <a:chOff x="73080" y="115920"/>
            <a:chExt cx="1027080" cy="6626160"/>
          </a:xfrm>
        </p:grpSpPr>
        <p:pic>
          <p:nvPicPr>
            <p:cNvPr id="177" name="Picture 8" descr="заставка"/>
            <p:cNvPicPr/>
            <p:nvPr/>
          </p:nvPicPr>
          <p:blipFill>
            <a:blip r:embed="rId2"/>
            <a:stretch/>
          </p:blipFill>
          <p:spPr>
            <a:xfrm>
              <a:off x="215640" y="115920"/>
              <a:ext cx="719640" cy="662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Picture 9" descr="эмблемма"/>
            <p:cNvPicPr/>
            <p:nvPr/>
          </p:nvPicPr>
          <p:blipFill>
            <a:blip r:embed="rId3"/>
            <a:stretch/>
          </p:blipFill>
          <p:spPr>
            <a:xfrm>
              <a:off x="73080" y="5589720"/>
              <a:ext cx="1027080" cy="1050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9" name="Group 7"/>
          <p:cNvGrpSpPr/>
          <p:nvPr/>
        </p:nvGrpSpPr>
        <p:grpSpPr>
          <a:xfrm>
            <a:off x="73080" y="115920"/>
            <a:ext cx="1027080" cy="6626160"/>
            <a:chOff x="73080" y="115920"/>
            <a:chExt cx="1027080" cy="6626160"/>
          </a:xfrm>
        </p:grpSpPr>
        <p:pic>
          <p:nvPicPr>
            <p:cNvPr id="180" name="Picture 8" descr="заставка"/>
            <p:cNvPicPr/>
            <p:nvPr/>
          </p:nvPicPr>
          <p:blipFill>
            <a:blip r:embed="rId4"/>
            <a:stretch/>
          </p:blipFill>
          <p:spPr>
            <a:xfrm>
              <a:off x="215640" y="115920"/>
              <a:ext cx="719640" cy="662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Picture 9" descr="эмблемма"/>
            <p:cNvPicPr/>
            <p:nvPr/>
          </p:nvPicPr>
          <p:blipFill>
            <a:blip r:embed="rId5"/>
            <a:stretch/>
          </p:blipFill>
          <p:spPr>
            <a:xfrm>
              <a:off x="73080" y="5589720"/>
              <a:ext cx="1027080" cy="1050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37DCC-9A0B-43D1-8D8E-2D13498161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58560" y="549360"/>
            <a:ext cx="7885080" cy="24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8800"/>
                </a:solidFill>
                <a:latin typeface="Tahoma"/>
              </a:rPr>
              <a:t>Update on seasonal forecast system based on SL-AV model at Hydrometcentre of Russia. Decadal prediction plans.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900000" y="3212640"/>
            <a:ext cx="8064720" cy="36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.A. Tolstykh (2,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.B.Kiktev (1), R.B. Zaripov (1), E.N.Kruglova (1), I.A.Kulikova (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Hydrometcentre of Russia (1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nstitute of Numerical Matematics Russian Academy of Sciences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20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2" name="Picture 4" descr="emblemaHMC"/>
          <p:cNvPicPr/>
          <p:nvPr/>
        </p:nvPicPr>
        <p:blipFill>
          <a:blip r:embed="rId1"/>
          <a:stretch/>
        </p:blipFill>
        <p:spPr>
          <a:xfrm>
            <a:off x="7740720" y="5508720"/>
            <a:ext cx="1403280" cy="13492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309680" cy="13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8800"/>
                </a:solidFill>
                <a:latin typeface="Tahoma"/>
              </a:rPr>
              <a:t>Thank you for attention!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pic>
        <p:nvPicPr>
          <p:cNvPr id="256" name="Picture 4" descr="emblemaHMC"/>
          <p:cNvPicPr/>
          <p:nvPr/>
        </p:nvPicPr>
        <p:blipFill>
          <a:blip r:embed="rId1"/>
          <a:stretch/>
        </p:blipFill>
        <p:spPr>
          <a:xfrm>
            <a:off x="7885080" y="5646600"/>
            <a:ext cx="1258920" cy="12114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309680" cy="13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Plan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asonal forecast system at HMC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ns for running decadal forecasts at INM R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8800"/>
                </a:solidFill>
                <a:latin typeface="Tahoma"/>
              </a:rPr>
              <a:t>Seasonal version of SL-AV model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82440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mi-implicit semi-Lagrangian vorticity-divergence dynamical core of own development (Tolstykh 2010), mostly ALADIN/LACE parameteriz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urrent version: Resolution 1.4x1.125 degrees lon/lat, 28 levels. Described in (</a:t>
            </a:r>
            <a:r>
              <a:rPr b="0" i="1" lang="en-US" sz="2400" spc="-1" strike="noStrike">
                <a:solidFill>
                  <a:srgbClr val="000066"/>
                </a:solidFill>
                <a:latin typeface="Tahoma"/>
              </a:rPr>
              <a:t>Tolstykh et al, Izvestia RAN, Ser. PhA&amp;O, 2010) with updates in (Tolstykh et al Izvestia RAN, 201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Verification of seasonal forecasts (also for MGO (St.Petersbourg)  forecasts) http://neacc.meteoinfo.ru/verificationfore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Running forecasts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d0-63: 1.1x1.4 L28 once a week, 20 member ensemble initialized on 00Z every Wednesday forced py persisted SST anomalies (mean for 2 weeks) from NCEP (Reynolds SST OI v2). Perturbation from a breeding cycle. Re-forecast suite with 10 members spanning 30 years (1981-2010) run in real-time. </a:t>
            </a:r>
            <a:br>
              <a:rPr sz="2400"/>
            </a:b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m0-4: Forecast suite is the same as d0-63, but forecast lead time is 4 months. Runs on the last Wednesday of a month. Re-forecast suite with 10 members spanning 30 years (1981-2010) 00Z and 12Z 26-30 of each month (24-28 for February)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Input to APCC, WMO LC LRF multi-model ensemble. Forecasts are also available at North Eurasia Climate Centre site (neacc.meteoinfo.ru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0" name="Picture 4" descr="emblemaHMC"/>
          <p:cNvPicPr/>
          <p:nvPr/>
        </p:nvPicPr>
        <p:blipFill>
          <a:blip r:embed="rId1"/>
          <a:stretch/>
        </p:blipFill>
        <p:spPr>
          <a:xfrm>
            <a:off x="7956720" y="5716440"/>
            <a:ext cx="1187280" cy="11415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187280" cy="11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382752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Tahoma"/>
              </a:rPr>
              <a:t>Scores and forecasts at NEACC site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pic>
        <p:nvPicPr>
          <p:cNvPr id="243" name="Picture 5" descr="There are not data!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656280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6"/>
          <p:cNvSpPr/>
          <p:nvPr/>
        </p:nvSpPr>
        <p:spPr>
          <a:xfrm>
            <a:off x="900000" y="1628640"/>
            <a:ext cx="3384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kill scores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ROC_A - ROC Score Above Normal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ROC_N - ROC Score Near Normal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ROC_B - ROC Score Below Normal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RO - sign consistency coefficient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ACC - anomaly correlation coefficient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RMSE - root mean square 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Text Box 7"/>
          <p:cNvSpPr/>
          <p:nvPr/>
        </p:nvSpPr>
        <p:spPr>
          <a:xfrm>
            <a:off x="1187280" y="5670720"/>
            <a:ext cx="295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plots from WMO LC are also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Activities since 16</a:t>
            </a:r>
            <a:r>
              <a:rPr b="0" lang="en-US" sz="4400" spc="-1" strike="noStrike" baseline="30000">
                <a:solidFill>
                  <a:srgbClr val="827f4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 session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914400" y="1557360"/>
            <a:ext cx="822960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NEACC site (forecasts, diagnostics – scores, indices,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Implementing CHFP and S2S output standard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New snow albedo parameterization in SL-AV, cloudiness retun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Moving from NCEP2 to ERA Interim data for hindcas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Too fast transition to new technology -&gt; serious bug in operational seasonal forecasts in Januar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Corrected by the end of Febru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845964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66644"/>
                </a:solidFill>
                <a:latin typeface="Arial"/>
                <a:ea typeface="Arial"/>
              </a:rPr>
              <a:t>Comparison of hindcasts errors for 2011 and 2014 versions.  </a:t>
            </a:r>
            <a:r>
              <a:rPr b="0" lang="en-US" sz="2000" spc="-1" strike="noStrike">
                <a:solidFill>
                  <a:srgbClr val="c66644"/>
                </a:solidFill>
                <a:latin typeface="Arial"/>
                <a:ea typeface="Arial"/>
              </a:rPr>
              <a:t>RMSE averaged over 4 seasons and</a:t>
            </a:r>
            <a:r>
              <a:rPr b="0" lang="ru-RU" sz="2000" spc="-1" strike="noStrike">
                <a:solidFill>
                  <a:srgbClr val="c66644"/>
                </a:solidFill>
                <a:latin typeface="Arial"/>
                <a:ea typeface="Arial"/>
              </a:rPr>
              <a:t> 28 </a:t>
            </a:r>
            <a:r>
              <a:rPr b="0" lang="en-US" sz="2000" spc="-1" strike="noStrike">
                <a:solidFill>
                  <a:srgbClr val="c66644"/>
                </a:solidFill>
                <a:latin typeface="Arial"/>
                <a:ea typeface="Arial"/>
              </a:rPr>
              <a:t>years</a:t>
            </a:r>
            <a:r>
              <a:rPr b="0" lang="ru-RU" sz="2000" spc="-1" strike="noStrike">
                <a:solidFill>
                  <a:srgbClr val="c66644"/>
                </a:solidFill>
                <a:latin typeface="Arial"/>
                <a:ea typeface="Arial"/>
              </a:rPr>
              <a:t> (1983-2010), </a:t>
            </a:r>
            <a:r>
              <a:rPr b="0" lang="en-US" sz="2000" spc="-1" strike="noStrike">
                <a:solidFill>
                  <a:srgbClr val="c66644"/>
                </a:solidFill>
                <a:latin typeface="Arial"/>
                <a:ea typeface="Arial"/>
              </a:rPr>
              <a:t> for H</a:t>
            </a:r>
            <a:r>
              <a:rPr b="0" lang="ru-RU" sz="2000" spc="-1" strike="noStrike">
                <a:solidFill>
                  <a:srgbClr val="c66644"/>
                </a:solidFill>
                <a:latin typeface="Arial"/>
                <a:ea typeface="Arial"/>
              </a:rPr>
              <a:t>500</a:t>
            </a:r>
            <a:r>
              <a:rPr b="0" lang="en-US" sz="2000" spc="-1" strike="noStrike">
                <a:solidFill>
                  <a:srgbClr val="c66644"/>
                </a:solidFill>
                <a:latin typeface="Arial"/>
                <a:ea typeface="Arial"/>
              </a:rPr>
              <a:t>(dam</a:t>
            </a:r>
            <a:r>
              <a:rPr b="0" lang="ru-RU" sz="2000" spc="-1" strike="noStrike">
                <a:solidFill>
                  <a:srgbClr val="c66644"/>
                </a:solidFill>
                <a:latin typeface="Arial"/>
                <a:ea typeface="Arial"/>
              </a:rPr>
              <a:t>) , </a:t>
            </a:r>
            <a:r>
              <a:rPr b="0" lang="en-US" sz="2000" spc="-1" strike="noStrike">
                <a:solidFill>
                  <a:srgbClr val="c66644"/>
                </a:solidFill>
                <a:latin typeface="Arial"/>
                <a:ea typeface="Arial"/>
              </a:rPr>
              <a:t>MSLP (hPa</a:t>
            </a:r>
            <a:r>
              <a:rPr b="0" lang="ru-RU" sz="2000" spc="-1" strike="noStrike">
                <a:solidFill>
                  <a:srgbClr val="c66644"/>
                </a:solidFill>
                <a:latin typeface="Arial"/>
                <a:ea typeface="Arial"/>
              </a:rPr>
              <a:t>), </a:t>
            </a:r>
            <a:r>
              <a:rPr b="0" lang="en-US" sz="2000" spc="-1" strike="noStrike">
                <a:solidFill>
                  <a:srgbClr val="c66644"/>
                </a:solidFill>
                <a:latin typeface="Arial"/>
                <a:ea typeface="Arial"/>
              </a:rPr>
              <a:t>T</a:t>
            </a:r>
            <a:r>
              <a:rPr b="0" lang="ru-RU" sz="2000" spc="-1" strike="noStrike">
                <a:solidFill>
                  <a:srgbClr val="c66644"/>
                </a:solidFill>
                <a:latin typeface="Arial"/>
                <a:ea typeface="Arial"/>
              </a:rPr>
              <a:t>850, Т2м, </a:t>
            </a:r>
            <a:r>
              <a:rPr b="0" lang="en-US" sz="2000" spc="-1" strike="noStrike">
                <a:solidFill>
                  <a:srgbClr val="c66644"/>
                </a:solidFill>
                <a:latin typeface="Arial"/>
                <a:ea typeface="Arial"/>
              </a:rPr>
              <a:t>H200</a:t>
            </a:r>
            <a:r>
              <a:rPr b="0" lang="ru-RU" sz="2000" spc="-1" strike="noStrike">
                <a:solidFill>
                  <a:srgbClr val="c66644"/>
                </a:solidFill>
                <a:latin typeface="Arial"/>
                <a:ea typeface="Arial"/>
              </a:rPr>
              <a:t> (</a:t>
            </a:r>
            <a:r>
              <a:rPr b="0" lang="en-US" sz="2000" spc="-1" strike="noStrike">
                <a:solidFill>
                  <a:srgbClr val="c66644"/>
                </a:solidFill>
                <a:latin typeface="Arial"/>
                <a:ea typeface="Arial"/>
              </a:rPr>
              <a:t>dam</a:t>
            </a:r>
            <a:r>
              <a:rPr b="0" lang="ru-RU" sz="2000" spc="-1" strike="noStrike">
                <a:solidFill>
                  <a:srgbClr val="c66644"/>
                </a:solidFill>
                <a:latin typeface="Arial"/>
                <a:ea typeface="Arial"/>
              </a:rPr>
              <a:t>)</a:t>
            </a:r>
            <a:r>
              <a:rPr b="0" lang="en-US" sz="2000" spc="-1" strike="noStrike">
                <a:solidFill>
                  <a:srgbClr val="c66644"/>
                </a:solidFill>
                <a:latin typeface="Arial"/>
                <a:ea typeface="Arial"/>
              </a:rPr>
              <a:t> with respect to reanalysis</a:t>
            </a:r>
            <a:r>
              <a:rPr b="0" lang="ru-RU" sz="2000" spc="-1" strike="noStrike">
                <a:solidFill>
                  <a:srgbClr val="c66644"/>
                </a:solidFill>
                <a:latin typeface="Arial"/>
                <a:ea typeface="Arial"/>
              </a:rPr>
              <a:t> . </a:t>
            </a:r>
            <a:r>
              <a:rPr b="0" lang="en-US" sz="2000" spc="-1" strike="noStrike">
                <a:solidFill>
                  <a:srgbClr val="c66644"/>
                </a:solidFill>
                <a:latin typeface="Arial"/>
                <a:ea typeface="Arial"/>
              </a:rPr>
              <a:t>S</a:t>
            </a:r>
            <a:r>
              <a:rPr b="0" lang="ru-RU" sz="2000" spc="-1" strike="noStrike">
                <a:solidFill>
                  <a:srgbClr val="c66644"/>
                </a:solidFill>
                <a:latin typeface="Arial"/>
                <a:ea typeface="Arial"/>
              </a:rPr>
              <a:t>20</a:t>
            </a:r>
            <a:r>
              <a:rPr b="0" lang="en-US" sz="2000" spc="-1" strike="noStrike">
                <a:solidFill>
                  <a:srgbClr val="c66644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c66644"/>
                </a:solidFill>
                <a:latin typeface="Arial"/>
                <a:ea typeface="Arial"/>
              </a:rPr>
              <a:t>- (90</a:t>
            </a:r>
            <a:r>
              <a:rPr b="0" lang="ru-RU" sz="2000" spc="-1" strike="noStrike">
                <a:solidFill>
                  <a:srgbClr val="c66644"/>
                </a:solidFill>
                <a:latin typeface="Symbol"/>
                <a:ea typeface="Symbol"/>
              </a:rPr>
              <a:t></a:t>
            </a:r>
            <a:r>
              <a:rPr b="0" lang="ru-RU" sz="2000" spc="-1" strike="noStrike">
                <a:solidFill>
                  <a:srgbClr val="c66644"/>
                </a:solidFill>
                <a:latin typeface="Arial"/>
                <a:ea typeface="Arial"/>
              </a:rPr>
              <a:t> - 20</a:t>
            </a:r>
            <a:r>
              <a:rPr b="0" lang="ru-RU" sz="2000" spc="-1" strike="noStrike">
                <a:solidFill>
                  <a:srgbClr val="c66644"/>
                </a:solidFill>
                <a:latin typeface="Symbol"/>
                <a:ea typeface="Symbol"/>
              </a:rPr>
              <a:t></a:t>
            </a:r>
            <a:r>
              <a:rPr b="0" lang="ru-RU" sz="2000" spc="-1" strike="noStrike">
                <a:solidFill>
                  <a:srgbClr val="c66644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c66644"/>
                </a:solidFill>
                <a:latin typeface="Arial"/>
                <a:ea typeface="Arial"/>
              </a:rPr>
              <a:t>S</a:t>
            </a:r>
            <a:r>
              <a:rPr b="0" lang="ru-RU" sz="2000" spc="-1" strike="noStrike">
                <a:solidFill>
                  <a:srgbClr val="c66644"/>
                </a:solidFill>
                <a:latin typeface="Arial"/>
                <a:ea typeface="Arial"/>
              </a:rPr>
              <a:t>),  </a:t>
            </a:r>
            <a:r>
              <a:rPr b="0" lang="en-US" sz="2000" spc="-1" strike="noStrike">
                <a:solidFill>
                  <a:srgbClr val="c66644"/>
                </a:solidFill>
                <a:latin typeface="Arial"/>
                <a:ea typeface="Arial"/>
              </a:rPr>
              <a:t>N</a:t>
            </a:r>
            <a:r>
              <a:rPr b="0" lang="ru-RU" sz="2000" spc="-1" strike="noStrike">
                <a:solidFill>
                  <a:srgbClr val="c66644"/>
                </a:solidFill>
                <a:latin typeface="Arial"/>
                <a:ea typeface="Arial"/>
              </a:rPr>
              <a:t>20 –  (20</a:t>
            </a:r>
            <a:r>
              <a:rPr b="0" lang="ru-RU" sz="2000" spc="-1" strike="noStrike">
                <a:solidFill>
                  <a:srgbClr val="c66644"/>
                </a:solidFill>
                <a:latin typeface="Symbol"/>
                <a:ea typeface="Symbol"/>
              </a:rPr>
              <a:t></a:t>
            </a:r>
            <a:r>
              <a:rPr b="0" lang="ru-RU" sz="2000" spc="-1" strike="noStrike">
                <a:solidFill>
                  <a:srgbClr val="c66644"/>
                </a:solidFill>
                <a:latin typeface="Arial"/>
                <a:ea typeface="Arial"/>
              </a:rPr>
              <a:t>-90</a:t>
            </a:r>
            <a:r>
              <a:rPr b="0" lang="ru-RU" sz="2000" spc="-1" strike="noStrike">
                <a:solidFill>
                  <a:srgbClr val="c66644"/>
                </a:solidFill>
                <a:latin typeface="Symbol"/>
                <a:ea typeface="Symbol"/>
              </a:rPr>
              <a:t></a:t>
            </a:r>
            <a:r>
              <a:rPr b="0" lang="ru-RU" sz="2000" spc="-1" strike="noStrike">
                <a:solidFill>
                  <a:srgbClr val="c66644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c66644"/>
                </a:solidFill>
                <a:latin typeface="Arial"/>
                <a:ea typeface="Arial"/>
              </a:rPr>
              <a:t>N</a:t>
            </a:r>
            <a:r>
              <a:rPr b="0" lang="ru-RU" sz="2000" spc="-1" strike="noStrike">
                <a:solidFill>
                  <a:srgbClr val="c66644"/>
                </a:solidFill>
                <a:latin typeface="Arial"/>
                <a:ea typeface="Arial"/>
              </a:rPr>
              <a:t>),</a:t>
            </a:r>
            <a:r>
              <a:rPr b="0" lang="en-US" sz="2000" spc="-1" strike="noStrike">
                <a:solidFill>
                  <a:srgbClr val="c66644"/>
                </a:solidFill>
                <a:latin typeface="Arial"/>
                <a:ea typeface="Arial"/>
              </a:rPr>
              <a:t> TR</a:t>
            </a:r>
            <a:r>
              <a:rPr b="0" lang="ru-RU" sz="2000" spc="-1" strike="noStrike">
                <a:solidFill>
                  <a:srgbClr val="c66644"/>
                </a:solidFill>
                <a:latin typeface="Arial"/>
                <a:ea typeface="Arial"/>
              </a:rPr>
              <a:t> – </a:t>
            </a:r>
            <a:r>
              <a:rPr b="0" lang="en-US" sz="2000" spc="-1" strike="noStrike">
                <a:solidFill>
                  <a:srgbClr val="c66644"/>
                </a:solidFill>
                <a:latin typeface="Arial"/>
                <a:ea typeface="Arial"/>
              </a:rPr>
              <a:t>(20S-20N)</a:t>
            </a:r>
            <a:r>
              <a:rPr b="0" lang="ru-RU" sz="2000" spc="-1" strike="noStrike">
                <a:solidFill>
                  <a:srgbClr val="c66644"/>
                </a:solidFill>
                <a:latin typeface="Arial"/>
                <a:ea typeface="Arial"/>
              </a:rPr>
              <a:t>.  </a:t>
            </a:r>
            <a:endParaRPr b="0" lang="en-US" sz="2000" spc="-1" strike="noStrike">
              <a:solidFill>
                <a:srgbClr val="827f4c"/>
              </a:solidFill>
              <a:latin typeface="Tahoma"/>
            </a:endParaRPr>
          </a:p>
        </p:txBody>
      </p:sp>
      <p:graphicFrame>
        <p:nvGraphicFramePr>
          <p:cNvPr id="249" name="Object 3"/>
          <p:cNvGraphicFramePr/>
          <p:nvPr/>
        </p:nvGraphicFramePr>
        <p:xfrm>
          <a:off x="971640" y="1268280"/>
          <a:ext cx="8172360" cy="558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268280"/>
                    <a:ext cx="8172360" cy="558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New version of the model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More accurate  SW and LW radiation parameterization(CLIRAD SW + RRTM LW)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Tahoma"/>
              </a:rPr>
              <a:t>AL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ARO-0 microphy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Increased horizontal resolution (0.72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Tahoma"/>
              </a:rPr>
              <a:t>°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x0.9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Tahoma"/>
              </a:rPr>
              <a:t>°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 lat-lo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Promising preliminary results (especially in dynamics), poor precip so far,  tuning is underw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Plans for decadal forecasts at INM RAS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971280" y="1196640"/>
            <a:ext cx="810108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INMCM5 with improv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- higher model top, better stratosphere resoluti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- new cloudiness and condensation parameterizations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- aerosols descrip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Two resolutions consider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`Optimistic’:  Atm. 2˚x1.5˚L73, Oc. 0.5˚x0.25˚L40 (twice higher ocean horizontal resolution than in CMIP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Atm. 2˚x1.5˚L21, Oc. 1˚x0.5˚L4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Depends on computer resources 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7T19:57:16Z</dcterms:created>
  <dc:creator>Овчинников</dc:creator>
  <dc:description/>
  <dc:language>en-US</dc:language>
  <cp:lastModifiedBy>misha</cp:lastModifiedBy>
  <cp:lastPrinted>2004-12-29T10:32:53Z</cp:lastPrinted>
  <dcterms:modified xsi:type="dcterms:W3CDTF">2015-09-22T13:29:12Z</dcterms:modified>
  <cp:revision>627</cp:revision>
  <dc:subject/>
  <dc:title>Глобальная сеть приземных наблюдений Всемирной службы погод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