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C564-A336-410C-BFD4-AE8ADD6CB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B1A9-F74E-4323-A4E1-CDDB7BFF05D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5F5BC-4288-4D3A-9120-3BDFAF4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680E2-D2C3-4FB1-A4C8-590CA43E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79B08-165D-46B6-9C7F-7D4F1B66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25AB2-3A37-4FD2-B0BB-36CA252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E249A-5E9F-495D-A738-20B69FF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C694A-37BE-4564-A8FD-300A18DA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22BC9-1C7A-4AAB-864F-3E791143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739E7-C33D-49D7-A708-7BAF82AE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25647-3864-440E-B3EA-252B945B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1AF7C-6F85-4380-877E-AA9EADD0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A9AB-1DF8-40FF-81BA-5AFBAB27C00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152A7-F2DD-4DC6-81E4-388940F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0F97F-A7D3-43B0-9696-76A4259B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BA718-F328-4416-90E7-8223D35E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ED4BB-4159-4592-B62F-90887644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6EBB3-1D24-470A-AB33-A3282A1A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63EA4-0B0C-41A5-8D9D-56EB3BF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681B3-A322-442D-9F78-10DD27B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E0A86-4930-48F3-9363-66E90885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DFD7A-4915-4373-9051-9498B3E7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F1D80-997A-43F6-A491-DCAD4B3C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559D-5D53-4DAC-9883-8640BF43987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A7963-859E-43B3-B834-6D4D1527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42464B-8BAC-47BB-8DE4-2F2BBA34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E5390B-D108-4FC2-B5FD-E6C79AD9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33BB00-C1AB-4073-8147-7E3405E6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F3BDAD-5DAA-468F-9B45-F0A1E373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B64141-ED87-4C71-B69D-A6F45223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0B6583-FA1D-4FF6-A61C-A149DE40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F69A16-7DB6-4D4A-8CA1-358D2C67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4CA18C-4D7C-44E7-9193-304CC96D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9D3CB8-2A23-4F86-95F7-9CDC103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98519-8D4A-4211-89DE-834E4BE1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440952-7575-460C-8988-66880978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10453F-B972-455A-9CB8-E1BF518C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F78452-49A4-46BD-9602-8A8F27C5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EE62D-CDBC-404F-ABB7-2928F0C4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22E7D-45C9-4CB2-8281-3002CB5A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21FC1-0766-4F0C-AD2C-05ED4C57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F68D4-BF89-475E-AFC2-CC44BD94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0A2AC-0B61-4A8A-95FC-B67A94D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EA96E-DC72-4F35-A957-74E92FA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AB331-1841-4B20-AAD3-56FF070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7D388-5C2D-4F07-BB0B-C9896C98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23A09-375B-4998-A012-A9D8A6FE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4429A-660E-44E6-88ED-82D1EC0D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A9033-1B13-43C6-8B28-C0E61FEB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B3724-775D-4A7B-928F-A59A76F4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B1C3F-0541-490D-8D72-35610F4B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B982B-5900-4AF2-B867-2CB3A488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CF88A-FD56-47E6-BF7F-B4E3C0CA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880C6-D5AC-4354-BED0-71A265DE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9CA21-7478-44A6-A8F4-04F29F76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98A4C-5A3D-47B0-88AA-BADDA390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A27B-F74F-4E39-8F8C-6C03062EF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EF71F-40AC-4A40-90E8-4BA84819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3AA18-ECD5-4463-A483-88C81B2C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8BB3E-71C1-4F53-8E29-E14E12BE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9CCF0-1BA3-4B29-9862-92BFB551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9396F-3A40-40C2-8CEC-09B00345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CC72E-D393-4421-A99E-67FA0A62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2D792-4F92-45ED-B155-B73DA5F1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7F6E6-EC7C-4026-B99B-7588DAD2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FCFF4-F361-45AA-95C8-5051CC78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91EC8-1FAE-46EB-BB9A-B176BFC9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36E4-6113-4CB7-A04A-C0F6542BEB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302B26-38BC-4A99-8A4D-B32C3B8B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822F6-7386-4F74-BE3E-DDC8CAE6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7CAFD-AE47-442C-ABDD-03FEB8C0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CE776-9C43-449A-9A3A-6338333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93D05-5188-4D7E-99E0-CAA1BA05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B7213-0AC8-455D-8D2A-15DF1083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E198F-CB27-4133-8338-E107F803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B4D76-E499-4A3A-9D5B-4A67B2D6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94423-56B0-450E-A50E-8220D1F8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5ABAC-7DFD-441A-AEA0-DD548AE0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18CD-3504-4808-B28A-16A43E0525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F51BF-F0E6-4ABC-84DE-961DFD0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C81D2-8FE0-48D6-AC35-914939E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4996A3-5A42-455A-AF75-3F3628EE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AF016-568B-438E-B766-7DE66A6B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DC65A-6BFA-4238-B6A7-F0D17DD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A91E15-0448-4E9F-9F71-5B0C57E0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B81A5-AA65-43E4-8EC3-7D693814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E6EE2-860C-49D7-9CC7-5C7307E4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860A4-4521-4436-8859-0BBB2910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135E7B-CFDF-41AE-841A-88D54025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EDE7-3BA9-4523-947D-867C33E35E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0BA3B5-7F78-4A18-89CD-71917CC8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E30873-B102-45A0-AA5E-54953628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12E53A-7E7B-4742-8390-D91E72D7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F9A72C-1513-4302-9C72-78F7DC23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A1C31-17AA-49FC-BF19-5A775274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3746A-57F7-4D87-888E-7544E71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F60F2B-6123-4D3F-80F4-E67EE63A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7C88A-A54B-4188-9C22-66FBB19D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9108D1-F689-4B2F-BD27-804E53E6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D0E73-05B7-4BD9-9CE6-C9370DA5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D359-8BEE-4421-8A1A-BC16E60E64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CC7BC-3C38-48E8-810F-631B6C63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2DDA25-7AC5-48A2-AC5E-17BFA89D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1024F5-43DD-42F8-9D22-B5D7B8C5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B52EC8-70F6-40E4-AF71-1BCA62E1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98F33E-1CB6-4B14-9488-CB2795F5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433A5A-9085-429A-88D4-F65B8F90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21E19E-4D3E-4641-9453-22C9CA06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1AFD40-2CA9-4639-82D9-AC4FBC9C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5500F1-76FC-4CF5-9D6B-F50FE25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86F38F-34E8-4995-A4F4-4A20ECEC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E1D4-245E-4491-9ED5-357F875321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3DBC66-648A-49B0-9D58-73EF1A66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A74F3C-773D-461A-A200-74ADBA7E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2CC37E-911D-4874-BA58-2E5D479F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6DCF80-33BD-427B-9E4E-8CAC09A5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9BA2A1-6BDD-4461-B3A1-092E76FB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5FA2AA-9584-4137-9EC4-F45507F9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D74878-4F6A-417A-8230-0B125AA5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B1BB0D-AD3F-4ABF-92B5-54BD3349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86EADB-1BF5-476E-8318-8422EFD9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F4007A-AF5E-497A-BE84-7CA1B04F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D871-7A98-4582-B38F-42B8775939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6AE587-B2B7-4A96-9B85-12A3DCB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BC8A5C-F703-4A83-A753-24DDD0D7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73B59C-2BB6-4B12-8DA9-38E1B280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94633-79F1-46BB-B032-9557B339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36344E-E52C-40A6-8965-1E47EE67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1BEAA7-AE88-4F0F-9D39-C7F4B6FB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37EE89-B906-4E40-968A-B77DD0B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9CED9F-9C0D-4ACD-97F6-57E501E3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CA9F5D-3760-45C2-BB33-9C71CA8D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8B04EA-7655-441A-ACDA-45CB7723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7729-2735-4EB1-94D1-FA32421195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D2A67F-937B-480A-9A9F-427CD44C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5AE423-FE8F-4C2C-81F9-21E39138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10BC1B-30AF-46B7-8525-E92FC3A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C2FD34-3D46-4FA1-9EFF-A97F67A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CDCD2D-1047-44B0-AC81-38930A31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6AD694-F95B-4B32-9696-0BBAD57B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91CD4F-DF15-441C-BEC7-EE81D1CB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B9AA6-C9E0-4D3A-A322-75C66F90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EBC42-0AF6-4FE0-97E9-AD3784B3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130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48E76-A376-42AA-A7D8-1ED4364F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70C2-2FB8-477D-BF8B-12EBB15FA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9EB9-E876-4951-9822-4D456BB9D17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7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29E5-5A2B-458F-9041-2C11A0298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2B44-3F14-4834-9806-D267045B76C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0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ACCE-7807-4420-9535-9D68B37AF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472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D812-069D-434A-8E01-8B9F4A8CA66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3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CD6-081E-4DEA-AF2B-D597640CF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550E-3F80-44DF-B474-F65611A8470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BED6-59DF-41EF-BE78-9CFADDC9C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2104-7C53-4174-AE19-00E4BF8830E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323F-82E5-487F-85BB-5860FF31C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F9F6-A46E-4408-9B3D-3078073D58E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8B90-234C-4951-9579-D10935A86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9DEC-3EF9-4156-A960-25C7F06A6C8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2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CCBD-A04D-474C-92F0-708A89782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B9A1-349C-4852-A0ED-FF24E7000BD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1F58-CC58-4B9E-AC08-965B45FFE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BE64-032B-4946-B3FC-8B46E569C12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8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27E5-7C38-4F25-8F08-D354624CC2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3D75-7FD1-44AD-ADEE-4A613C5B672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1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DF09-E9EB-4E76-A999-3F1B63BF5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0" y="60958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3"/>
          <p:cNvSpPr/>
          <p:nvPr/>
        </p:nvSpPr>
        <p:spPr>
          <a:xfrm>
            <a:off x="57780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an Tompkins – tompkins@ictp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DD50-8401-4987-9863-9F3E01C3FD7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4"/>
          </p:nvPr>
        </p:nvSpPr>
        <p:spPr>
          <a:xfrm>
            <a:off x="761760" y="646128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9394-89FF-430B-86C1-71881D800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Institute Update: ICT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Meeting and training ev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impacts on foo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HYMET, Niamey, Niger – one week Sept 2015, ICTP-AGRHYMET co-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son co-lecturing - Climate information, S2S and seasonal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TP-CLIVAR workshop on decadal variability and predic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VAR and WCRP co-spo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16-24 at IC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Institute Update: ICT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Meeting and training ev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2S training scho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P Nov 23-Dec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WF/IRI (Robertson, Vit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P funding with WMO funding support for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in the use of the ECMWF S2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016: Summer school on climate system prediction and the deliverable of actionable regional climate S2S and seasonal in Dak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by ANAC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funding from ICTP – needs cofunding or co-scheduling with next WGSIP meeting to make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om Ousmane on Monda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648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Institute Update: ICT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Climate and health prediction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ganda malaria seasonal pred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ll analysis conducted using sentinel and district health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 in some districts at predicting outbreak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 data series and staff turn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lot in 2016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STEC – malaria forecasting in South Afr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t in 2015 to install malaria model on JAMSTE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new JAMSTEC database in 20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tential upcoming projects concerning seasonal health risk prediction in Senegal, Bhutan (Swiss TPH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ing with Madeleine Thomson in IRI on uncertainties in climate-health predi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936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Institute Update: ICT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Articles</a:t>
            </a:r>
            <a:endParaRPr b="0" lang="en-US" sz="3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seasonal prediction of malaria published in JA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 on Ugandan system unde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FP for Nature Data on hold at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8:27:02Z</dcterms:created>
  <dc:creator>Adrian Tompkins</dc:creator>
  <dc:description/>
  <dc:language>en-US</dc:language>
  <cp:lastModifiedBy>Catherine Michaut</cp:lastModifiedBy>
  <dcterms:modified xsi:type="dcterms:W3CDTF">2015-10-01T09:58:59Z</dcterms:modified>
  <cp:revision>812</cp:revision>
  <dc:subject/>
  <dc:title>Slide 1</dc:title>
</cp:coreProperties>
</file>