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ECAF-4BC7-4B74-B19D-3FFEE3924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1758-D581-4C7D-B463-644C2A39C81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3B9F7-6426-4ABA-80BF-70E183DB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CB064-97FA-4DE3-8326-8785B339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063AA9-A6AC-438D-A410-21E112F2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75B77-D047-4D09-BE27-CC373E29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C1591-FCDB-475F-8A27-6FD47778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76FCD-7603-44CD-B132-70739A43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71DF61-BA32-478D-A2EC-E8F80CF3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104ED3-F3E8-416E-8588-EABF822B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590D7-733B-4002-8F43-1312822D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CF22B9-F7B3-4277-9CEA-28334DA8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16DC-1A17-4369-8BB1-708C4FC42CA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8C8FE2-167E-4BF6-AB3E-BD1591B8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3393C-25F7-445D-812A-C8D794DF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E6000-3733-41EF-9166-574BF6AC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FF923A-0849-4B7B-AB30-D87768BA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31150-DDA5-4121-989D-029BF036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DBA90-7D4B-492B-99DA-DCDB181E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89E34-0AFB-48C7-8B29-6DC152F2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6A99E9-59FB-4298-9DC1-FBBA6DAF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3C9ECF-CC9C-4328-B5CB-D8C1F20A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E1F96-376C-41FA-A7BB-2830041F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12F1-72EC-4B04-8EFF-68D1B6906DE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3C286-A622-4759-A539-DE9002DE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8CBDA5-AA21-4E86-9D28-1E612003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06B695-0806-4D86-BE65-DF3A07BF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68378D-5E2E-49F0-BC2E-07799721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286EE3-402D-468A-8E26-326415C5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9463DB-37AB-4B9C-9171-4692A258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C915EE-50AF-44BF-B7C2-6D1025C2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F5A61F-910D-47E8-8B87-B1B59A33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9E7D85-7243-4324-BD10-F7B01D20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46141F-10C2-448A-9653-DD5B5353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9D60B-C034-4424-96D7-4D228412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2AD8E7-EB0E-4719-BD26-6CCC1902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249B41-4F97-4014-88E7-84AF0FBB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AF6881-757E-4138-A521-09F9F378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77279-4121-42DE-B3F5-D42369FA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31429-8373-4386-9E06-E0E725DA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C6060-BEC3-4D41-A0CB-93764016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FB602-FBA0-4B85-BD49-89B2C9B7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39C56-46A0-4FF4-9604-8FC0C64D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CC11E-F8AF-4395-90A3-20161579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81FE3-6B41-4468-8ADF-BF7DAE2E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96169-72F3-49C9-82D4-37AF28F0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9DCA87-2CC8-4A92-AB23-6F4269F6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697AF-B3AF-418D-9BF7-18924BF8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94FF63-DF2C-4CC9-A6A8-89567897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49588-6C27-4E9D-B486-3013BF75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973F5F-4C85-485F-9F01-DED5BC6F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E1804-808A-45B2-8D09-12134AEE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75832-30FE-4218-8149-D1E9C33D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E9A29-04C4-49FB-98F2-7B90FA78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5812C-F2A5-4492-AD69-3CA69C07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27B53-500D-4293-8FD7-62C008E2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5201-49BB-40DD-8F03-589B5F177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63375-3C12-4CE8-B9C6-6C15AE26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F346C-91FE-4044-9AB5-9F468819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9AEB2-A8C0-42F3-A986-4F3A5E63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D6668-0231-499E-9BD6-0AA4BA0D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FD822-1A41-4248-BBEE-D83734A5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EC8B71-D72B-4EEA-A80F-2E4086D5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B118C1-52A1-43DF-8ADD-82D1797C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070389-713A-475B-A968-0C347782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5C4BBE-212F-403A-B5B6-EA628441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1B497B-26C7-4DED-90E4-E14167C1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1DFC-230F-47B4-A456-468BD5879E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4ED5E4-B1E6-4C1C-9A65-A9F340A2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28BDB9-286B-4083-BE5C-9F2D006B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06040D-4480-48AB-BAA7-294477E5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46B835-66A1-444D-9240-75125B67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9C004E-12B3-44F4-A921-9A763006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D00600-A938-4A9A-AF78-6185736A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CE3547-925C-42A8-8DBF-2DA78EA6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6D498A-09F4-4D0D-848E-F36D6F99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D50CCC-B8F0-426D-94CF-495E2137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AA9CBB-9576-4593-B778-121F05BF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0957-1896-4956-B9A3-54AC5C8D65A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B8D0E6-0C44-44A7-A7A6-891057C8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2594A7-D8A7-4DE5-BD8F-F123B1C1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157AD5-FC16-4ADA-B998-DFCE8FC0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5387FD-927F-4E0F-8FB7-9B60CD6B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0D19F8-3F93-4DB8-80D5-C0ED1C47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518BA1-C470-44AE-B595-804259F2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82EF80-E3D5-4D9D-A0D6-A6B1021F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A2DC74-5279-4FC3-8A62-FDBCD681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92412A-502E-4DF5-9343-868264BF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5BBA5F-682A-4062-9134-05EBAD94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8136-2A95-4C6D-A664-CE8B5D47500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D90DF8-9DDA-4045-A217-22CD4C96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BB0AB9-24E5-4E2A-BA5A-2A16B0F8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26822A-2411-49FD-BE64-6D2901EB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72E272-8AD3-423C-95FF-DCD2D6E7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F7A87C-19EE-4FE7-B96B-5782DBCD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A71E1B-C75A-498C-AD4F-6487D1C1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BDB41B-FF10-416A-B089-E550190C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C3DFB2-B783-4981-9E05-C5043AF2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1254A2-DDF0-409E-8B49-D62696BD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9D3DCA-8A7B-4827-BA3E-23E91F39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B730-B1F4-45DB-B187-E42EAD3BD7C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E0E502-5954-4F68-8299-E9DCFC1D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F8B563-F0EE-4C37-9998-DD0D4672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3196E1-2730-434B-A84E-3EC0C909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2EE5D6-9AAB-498F-B30F-6258F2D4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DF9A12-6142-43D3-9F58-3379CFFC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17982E-A88B-4D63-B91D-C813E60E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37667D-D439-4244-A121-B10A9DCC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1A3F88-8A50-4F71-8E7D-D94103AA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2FFB14-C4B5-4B8F-97AF-7D71B02A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5DD376-28D0-4F94-B811-E908197B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0D1A-4215-41D5-A6D2-1F77848135D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D58E98-B64C-41EB-86CF-C73F6AD9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E1BB72-2BDE-4607-8DBB-A08A880D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03111D-613F-4108-9D28-B4F04091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26CBCA-778A-4F94-8102-AAADB300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942ED3-704F-4C0E-A9D6-791495B6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6DB283-55ED-46DF-9B3B-AC3DD294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4369BF-CD01-4960-877A-367123C1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B46F58-9F2C-4444-A2F3-D2EC2561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31BA25-427B-46E4-A110-78C950D1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0B48BC-F1D0-483B-938C-7D437E0B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E520A-2CE6-4C70-BD80-D757CE8C47C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93B77D-84C5-45B5-B83C-78A4ADFB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8A6C86-9C8D-4859-A5CB-740FC45D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07CA8E-5902-4B2E-86DB-5AEDBDFF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22829D-B40E-4670-9EDC-DE5AEAB8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6412F7-8FE8-49B3-9249-C72362BA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960198-0D8B-4A1F-8634-24288583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748AFE-ECB4-41A4-9E94-B0ABC557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E1A969-9F9E-44A9-A443-12BDB80F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302578-F881-4ED8-B66B-98CCEE12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04F8FB-8C26-41CF-8B57-33D6D9C5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AA5F-6C5D-4D79-A46D-542C49A99BD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8890F9-5FF1-4CA0-B660-9BAFD5E2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088BD4-C92E-4700-9EDD-B6CE5ED8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F6945E-23D4-46EF-95AE-8AE35661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206191-3D8F-4E03-A840-B1C6E147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D48E3C-70D6-46C7-B00C-0B37ECA9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AD2FAC-4775-4F57-97D7-2DFBEAEB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EEE6BF-BB86-4350-AAF1-739866F4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0CE1B-BF69-4F06-80DF-2D9F2977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3D1D0-A299-4C51-A512-D38CA514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F6DCA-FC62-42C3-8A46-D1E1F5EA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8739-AB92-4269-A160-6D65E4B7EA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D223-B5E2-4D24-93BC-B4C0B18E613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7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8F23-597B-4C74-A0F5-873F15CA2D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429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11C5-9F8F-43FC-AD46-A33D9EA152D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0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20C5-9501-43EE-8547-A187C1DF06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472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6F6A-C521-41B8-9DCC-0D2F3E514BC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3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4245-C56D-4B26-8F49-B9B8C62324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1AAD-812E-48CF-9963-D8290EA12F6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7BEA-B076-4519-A75B-4003C8BC71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E5FE-948A-4C24-BCB0-7587F56E66D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BE64-6819-404D-8801-F8BDBB0B97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D64E-4826-4BDA-A4BC-FA1BDF131C0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9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3698-2434-4783-A5F0-A59A3450C9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7489-D98A-45D4-9A67-B5BC742ED0C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2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E6F6-3F2D-4FAB-8297-BCA5781FB9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FF8C-3F77-429D-A0AF-06D8254E4D9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5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A6DE-C8E2-4FF4-A057-172E15EBB0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5893-9661-4389-8F35-86C7A4DB8B1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8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0480-A492-4B1B-9F2F-31E35106D9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300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3A65-9479-4110-B189-FAED47A7E96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1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CD24-5656-4DB5-9920-5D8DD860FC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09A6-D7AA-4768-8B83-4BEBC043606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4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B8F7-C137-4296-91D8-480FB2592F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Institute Update: ICT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Meeting and training even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 impacts on foo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HYMET, Niamey, Niger – one week Sept 2015, ICTP-AGRHYMET co-fu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son co-lecturing - Climate information, S2S and seasonal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TP-CLIVAR workshop on decadal variability and predic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VAR and WCRP co-sponso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16-24 at IC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Institute Update: ICT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Meeting and training even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2S training scho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TP Nov 23-Dec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MWF/IRI (Robertson, Vit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TP funding with WMO funding support for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in the use of the ECMWF S2S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016: Summer school on climate system prediction and the deliverable of actionable regional climate S2S and seasonal in Dak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ed by ANAC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funding from ICTP – needs cofunding or co-scheduling with next WGSIP meeting to make sustai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om Ousmane on Monda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648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Institute Update: ICT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mate and health prediction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ganda malaria seasonal predi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ll analysis conducted using sentinel and district health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 in some districts at predicting outbreak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 data series and staff turno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lot in 2016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STEC – malaria forecasting in South Afr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it in 2015 to install malaria model on JAMSTEC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new JAMSTEC database in 201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tential upcoming projects concerning seasonal health risk prediction in Senegal, Bhutan (Swiss TPH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orking with Madeleine Thomson in IRI on uncertainties in climate-health predi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936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Institute Update: ICT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Articles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seasonal prediction of malaria published in JA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le on Ugandan system under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FP for Nature Data on hold at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08:27:02Z</dcterms:created>
  <dc:creator>Adrian Tompkins</dc:creator>
  <dc:description/>
  <dc:language>en-US</dc:language>
  <cp:lastModifiedBy>Catherine Michaut</cp:lastModifiedBy>
  <dcterms:modified xsi:type="dcterms:W3CDTF">2015-10-01T09:58:59Z</dcterms:modified>
  <cp:revision>812</cp:revision>
  <dc:subject/>
  <dc:title>Slide 1</dc:title>
</cp:coreProperties>
</file>