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D1D-6F05-4F58-BEFF-A2CB8EF16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8C5A-989D-4F6A-980B-C4D77A028AF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BFC-A85F-4B2F-B310-D8C7A13F65B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5522-0623-40E9-9883-8030638DBEA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B536-5127-4B69-83EE-D8585F11A6F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255-166A-4B4D-B320-C437D497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32B-7D1E-4829-991F-DE7545ED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E48-3CAB-4CCE-A1C4-01434BAD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4DE-240D-43C7-8066-A68F8D6E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59E-1194-4584-85C3-BA88B7F5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B30-301C-4C80-9920-5EEE673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C8C-AF7D-4A02-8021-BA4496D1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97F-B504-4206-A217-6D0BED6D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1B3-6D10-447B-8310-A4141C3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4F8-59E7-4838-A2BD-5068862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89A-5802-4544-9D71-7232F04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E67-5934-40B2-841F-AD6ED9A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60EF-E265-4036-9351-2B975C1E9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838080" y="1447920"/>
            <a:ext cx="7785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Environment Canada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97200"/>
                </a:solidFill>
                <a:latin typeface="Arial"/>
                <a:ea typeface="Arial"/>
              </a:rPr>
              <a:t>GPC Mont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61880" y="5803920"/>
            <a:ext cx="26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7200"/>
                </a:solidFill>
                <a:latin typeface="Arial"/>
                <a:ea typeface="Arial"/>
              </a:rPr>
              <a:t>WGSIP 17, 13 Septem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727640" y="3429000"/>
            <a:ext cx="6133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7200"/>
                </a:solidFill>
                <a:latin typeface="Arial"/>
                <a:ea typeface="Arial"/>
              </a:rPr>
              <a:t>Bill Merryfiel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adian Centre for Climate Modelling and Analysis (CCC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7200"/>
                </a:solidFill>
                <a:latin typeface="Arial"/>
                <a:ea typeface="Arial"/>
              </a:rPr>
              <a:t>with contributions from colleagues at CCCma and CM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242080" y="28195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research and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Product development – s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152280" y="68580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now water equivalent (SWE) relatively predictable due to    (i) tendency for SWE anomalies to persist through snow season and (ii) skill in predicting climate, particularly ENSO in certain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0" t="0" r="0" b="54043"/>
          <a:stretch/>
        </p:blipFill>
        <p:spPr>
          <a:xfrm>
            <a:off x="3048120" y="4376880"/>
            <a:ext cx="6067440" cy="2412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4292640" y="403848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 u="sng">
                <a:solidFill>
                  <a:srgbClr val="0000cc"/>
                </a:solidFill>
                <a:uFillTx/>
                <a:latin typeface="Calibri"/>
              </a:rPr>
              <a:t>N Hemisphere mean anomaly corre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35440" y="4754520"/>
            <a:ext cx="271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Best:    </a:t>
            </a:r>
            <a:r>
              <a:rPr b="0" lang="en-CA" sz="1600" spc="-1" strike="noStrike">
                <a:solidFill>
                  <a:srgbClr val="0000cc"/>
                </a:solidFill>
                <a:latin typeface="Arial"/>
                <a:ea typeface="Arial"/>
              </a:rPr>
              <a:t>B5 (Mudryk et al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Good:   </a:t>
            </a:r>
            <a:r>
              <a:rPr b="0" lang="en-CA" sz="1600" spc="-1" strike="noStrike">
                <a:solidFill>
                  <a:srgbClr val="00ccff"/>
                </a:solidFill>
                <a:latin typeface="Arial"/>
                <a:ea typeface="Arial"/>
              </a:rPr>
              <a:t>M (MER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CA" sz="1600" spc="-1" strike="noStrike">
                <a:solidFill>
                  <a:srgbClr val="ff0000"/>
                </a:solidFill>
                <a:latin typeface="Arial"/>
                <a:ea typeface="Arial"/>
              </a:rPr>
              <a:t>EI-L (ERA-Int La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orse:  </a:t>
            </a:r>
            <a:r>
              <a:rPr b="0" lang="en-CA" sz="1600" spc="-1" strike="noStrike">
                <a:solidFill>
                  <a:srgbClr val="ff3399"/>
                </a:solidFill>
                <a:latin typeface="Arial"/>
                <a:ea typeface="Arial"/>
              </a:rPr>
              <a:t>M-L (MERRA La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CA" sz="1600" spc="-1" strike="noStrike">
                <a:solidFill>
                  <a:srgbClr val="339933"/>
                </a:solidFill>
                <a:latin typeface="Arial"/>
                <a:ea typeface="Arial"/>
              </a:rPr>
              <a:t>EI (ERA-I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152280" y="2438280"/>
            <a:ext cx="4457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erification scores improved by using blend of 5 SWE analyses developed by Mudryk et al. (J . Hydromet.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rcRect l="-808" t="-2469" r="6797" b="29984"/>
          <a:stretch/>
        </p:blipFill>
        <p:spPr>
          <a:xfrm>
            <a:off x="5197320" y="1898640"/>
            <a:ext cx="3600720" cy="1655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01000" y="207504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3"/>
          <a:srcRect l="37638" t="0" r="-6063" b="0"/>
          <a:stretch/>
        </p:blipFill>
        <p:spPr>
          <a:xfrm>
            <a:off x="4788000" y="1905120"/>
            <a:ext cx="43164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15"/>
          <p:cNvSpPr/>
          <p:nvPr/>
        </p:nvSpPr>
        <p:spPr>
          <a:xfrm>
            <a:off x="5251320" y="1928880"/>
            <a:ext cx="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17"/>
          <p:cNvSpPr/>
          <p:nvPr/>
        </p:nvSpPr>
        <p:spPr>
          <a:xfrm>
            <a:off x="5867280" y="20750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"/>
          <p:cNvSpPr/>
          <p:nvPr/>
        </p:nvSpPr>
        <p:spPr>
          <a:xfrm>
            <a:off x="5867280" y="2286000"/>
            <a:ext cx="685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6541560" y="1871640"/>
            <a:ext cx="21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potential predic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6542280" y="20970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69696"/>
                </a:solidFill>
                <a:latin typeface="Arial"/>
                <a:ea typeface="Arial"/>
              </a:rPr>
              <a:t>anomaly persist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002360" y="2432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Mission Ridge,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5081040" y="35053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5584680" y="35053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J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6099480" y="35053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6694920" y="35053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7287840" y="35053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7804440" y="35053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Fe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8338680" y="35053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pr+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Straight Arrow Connector 2047"/>
          <p:cNvCxnSpPr/>
          <p:nvPr/>
        </p:nvCxnSpPr>
        <p:spPr>
          <a:xfrm>
            <a:off x="3733560" y="2019240"/>
            <a:ext cx="991080" cy="2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34"/>
          <p:cNvCxnSpPr/>
          <p:nvPr/>
        </p:nvCxnSpPr>
        <p:spPr>
          <a:xfrm>
            <a:off x="2362320" y="4038480"/>
            <a:ext cx="915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39"/>
          <p:cNvSpPr/>
          <p:nvPr/>
        </p:nvSpPr>
        <p:spPr>
          <a:xfrm>
            <a:off x="82080" y="653112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Sospedra-Alfonso et al. in pre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Model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152280" y="762120"/>
            <a:ext cx="8915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ew model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GE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being evaluated for inclusion in CanS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Atm: GEM NWP model 1.4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, 79 levels, top at 0.075 h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Ocn: NEMO/ORCA1, 50 levels, C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Init:   perturbed ERA-Int for atm, ORA-S4 for oc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First-month skill over land &gt; CanCM3/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Nino3.4 skill &gt; CanCM3, &lt; CanCM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ENSO variability very sensitive to deep convection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152280" y="3687840"/>
            <a:ext cx="8915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CCma has started to evaluat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nESM4.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for prediction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Terrestrial &amp; ocean ecosystem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Improved atm &amp; ocean physic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1860480" y="50896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97200"/>
                </a:solidFill>
                <a:latin typeface="Arial"/>
                <a:ea typeface="Arial"/>
              </a:rPr>
              <a:t>Sur</a:t>
            </a:r>
            <a:r>
              <a:rPr b="1" lang="en-US" sz="1800" spc="-1" strike="noStrike">
                <a:solidFill>
                  <a:srgbClr val="397200"/>
                </a:solidFill>
                <a:latin typeface="Arial"/>
                <a:ea typeface="Arial"/>
              </a:rPr>
              <a:t>fa</a:t>
            </a:r>
            <a:r>
              <a:rPr b="1" lang="en-CA" sz="1800" spc="-1" strike="noStrike">
                <a:solidFill>
                  <a:srgbClr val="397200"/>
                </a:solidFill>
                <a:latin typeface="Arial"/>
                <a:ea typeface="Arial"/>
              </a:rPr>
              <a:t>ce chlorophyll in assimilating CanESM4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665360" y="5504040"/>
            <a:ext cx="5726160" cy="11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52200"/>
            <a:ext cx="84582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97200"/>
                </a:solidFill>
                <a:latin typeface="Arial"/>
                <a:ea typeface="Arial"/>
              </a:rPr>
              <a:t>Experimental downscaling of CanSIPS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743040" y="600120"/>
            <a:ext cx="825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DEX North America grid  (0.44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/50 km or 0.22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/25 km resolu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ed from downscaled assimilation ru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run concurrently with global forec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tential to become operational if added value is demonst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dcasts under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515880" y="6435720"/>
            <a:ext cx="85852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938160" y="2508120"/>
            <a:ext cx="390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CanCM4 global 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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x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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300k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(forecast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414680" y="2522520"/>
            <a:ext cx="48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CanRCM4 regional 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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x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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25k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(assimilating r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781280" y="2171880"/>
            <a:ext cx="5770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January climatological precip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rcRect l="0" t="4864" r="0" b="-1113"/>
          <a:stretch/>
        </p:blipFill>
        <p:spPr>
          <a:xfrm>
            <a:off x="1014480" y="3078000"/>
            <a:ext cx="3740040" cy="3513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rcRect l="0" t="91887" r="0" b="225"/>
          <a:stretch/>
        </p:blipFill>
        <p:spPr>
          <a:xfrm>
            <a:off x="4919760" y="6265800"/>
            <a:ext cx="3740040" cy="289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2106720" y="65102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m/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964120" y="650556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m/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3"/>
          <a:srcRect l="0" t="1558" r="0" b="9297"/>
          <a:stretch/>
        </p:blipFill>
        <p:spPr>
          <a:xfrm>
            <a:off x="4903920" y="3110040"/>
            <a:ext cx="3733560" cy="31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3733920" y="5257800"/>
            <a:ext cx="1957320" cy="1389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3799800" y="6613560"/>
            <a:ext cx="193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ttp://prism.oregonstate.ed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72000" y="3589200"/>
            <a:ext cx="4495680" cy="319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Monsoon I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76320" y="681120"/>
            <a:ext cx="899136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97200"/>
                </a:solidFill>
                <a:uFillTx/>
                <a:latin typeface="Arial"/>
                <a:ea typeface="WenQuanYi Micro Hei"/>
              </a:rPr>
              <a:t>Pacific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stern North Pacific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NPMI = U850 (5ºN -15ºN, 90ºE-130ºE) – U850 (22.5ºN - 32.5ºN, 110ºE-140º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., and Z. Fan, 1999: Choice of South Asian summer monsoon indices. Bull. Amer. Meteor. Soc., 80, 629–6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ustralian Summer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USMI = U850 averaged over 5ºS-15ºS, 110ºE-13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Kajikawa, Y., B. Wang and J. Yang, 2010: A multi-time scale Australian monsoon index, Int. J. Climatol, 30, 1114-1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Asia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AMI= V850-V200 averaged over 10ºN -30ºN, 70ºE-11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Goswami, B. N., B. Krishnamurthy, and H. Annama lai, 1999: A broad-scale circulation index for interannual variabilit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Indian summer monsoon.  Quart. J. Roy.. Meteorol. Soc., 125, 611-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ast Asian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ASMI= U850(22.5°–32.5°N, 110°–140°E) - U850 (5°–15°N, 90°–130°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in, Zhiwei Wu, Jianping Li, Jian Liu, Chih-Pei Chang, Yihui Ding, Guoxiong Wu, 2008: How to Measure the Strengt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East Asian Summer Monsoon. J. Climate, 21, 4449–4463. doi: http://dx.doi.org/10.1175/2008JCLI218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97200"/>
                </a:solidFill>
                <a:uFillTx/>
                <a:latin typeface="Arial"/>
                <a:ea typeface="WenQuanYi Micro Hei"/>
              </a:rPr>
              <a:t>India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Indian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MI=U850(5ºN -15ºN, 40ºE-80ºE) – U850(20ºN -30ºN, 70ºE-90º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., R. Wu, and K-M. Lau, 2001: Interannual variabilit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sian summer monsoon: Contrast between the Indian and we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rth Pacific–East Asian monsoons. J. Climate, 14, 4073–40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bster-Yang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YMI=U850-U200 averaged over 0-20ºN, 40ºE-11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bster, P. J., and S. Yang, 1992: Monsoon and ENSO: Selec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teractive systems. Quart. J. Roy.  Meteor. Soc., 118, 877-92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6"/>
          <p:cNvCxnSpPr/>
          <p:nvPr/>
        </p:nvCxnSpPr>
        <p:spPr>
          <a:xfrm>
            <a:off x="2062080" y="4157280"/>
            <a:ext cx="2743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63" name="TextBox 7"/>
          <p:cNvSpPr/>
          <p:nvPr/>
        </p:nvSpPr>
        <p:spPr>
          <a:xfrm>
            <a:off x="3077280" y="386856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cc"/>
                </a:solidFill>
                <a:latin typeface="Arial"/>
                <a:ea typeface="Arial"/>
              </a:rPr>
              <a:t>from Ma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4"/>
          <p:cNvSpPr/>
          <p:nvPr/>
        </p:nvSpPr>
        <p:spPr>
          <a:xfrm>
            <a:off x="838080" y="5715000"/>
            <a:ext cx="8056800" cy="1055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397200"/>
                </a:solidFill>
                <a:latin typeface="Arial"/>
                <a:ea typeface="Arial"/>
              </a:rPr>
              <a:t>CanSIPS Explor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28600" y="698400"/>
            <a:ext cx="89154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d and maintained at CCCma by Slava Kha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 all monthly, seasonal hind/forecasts + verifications 1979-present + sk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ibrated probabilistic forecast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(maps &amp; local PDFs) for many variables, regions, ind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380880" y="1790640"/>
            <a:ext cx="8229600" cy="392580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7"/>
          <p:cNvCxnSpPr/>
          <p:nvPr/>
        </p:nvCxnSpPr>
        <p:spPr>
          <a:xfrm>
            <a:off x="3778200" y="3785760"/>
            <a:ext cx="1620000" cy="23580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9" name="TextBox 9"/>
          <p:cNvSpPr/>
          <p:nvPr/>
        </p:nvSpPr>
        <p:spPr>
          <a:xfrm>
            <a:off x="1031760" y="571500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cccma.ec.gc.ca/cgi-bin/data/seasonal_forecast/sf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999720" y="6121440"/>
            <a:ext cx="2329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name: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cccmas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password:  </a:t>
            </a:r>
            <a:r>
              <a:rPr b="1" lang="en-CA" sz="1600" spc="-1" strike="noStrike">
                <a:solidFill>
                  <a:srgbClr val="ff0000"/>
                </a:solidFill>
                <a:latin typeface="Arial"/>
                <a:ea typeface="Arial"/>
              </a:rPr>
              <a:t>seasfor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3692160" y="6004080"/>
            <a:ext cx="39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f2_da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14"/>
          <p:cNvCxnSpPr/>
          <p:nvPr/>
        </p:nvCxnSpPr>
        <p:spPr>
          <a:xfrm flipV="1">
            <a:off x="7232400" y="6303240"/>
            <a:ext cx="1080" cy="229320"/>
          </a:xfrm>
          <a:prstGeom prst="straightConnector1">
            <a:avLst/>
          </a:prstGeom>
          <a:ln w="19080">
            <a:solidFill>
              <a:srgbClr val="397200"/>
            </a:solidFill>
            <a:miter/>
            <a:tailEnd len="med" type="arrow" w="med"/>
          </a:ln>
        </p:spPr>
      </p:cxnSp>
      <p:sp>
        <p:nvSpPr>
          <p:cNvPr id="173" name="TextBox 19"/>
          <p:cNvSpPr/>
          <p:nvPr/>
        </p:nvSpPr>
        <p:spPr>
          <a:xfrm>
            <a:off x="5244120" y="6494400"/>
            <a:ext cx="32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Daily N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-day, monthly &amp; seasonal fore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>
            <a:off x="7143120" y="5884560"/>
            <a:ext cx="253080" cy="1080"/>
          </a:xfrm>
          <a:prstGeom prst="straightConnector1">
            <a:avLst/>
          </a:prstGeom>
          <a:ln w="19080">
            <a:solidFill>
              <a:srgbClr val="397200"/>
            </a:solidFill>
            <a:miter/>
            <a:tailEnd len="med" type="arrow" w="med"/>
          </a:ln>
        </p:spPr>
      </p:cxnSp>
      <p:sp>
        <p:nvSpPr>
          <p:cNvPr id="175" name="TextBox 26"/>
          <p:cNvSpPr/>
          <p:nvPr/>
        </p:nvSpPr>
        <p:spPr>
          <a:xfrm>
            <a:off x="7356960" y="57326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Monthly 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to 12 m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nSIPS_xfer_to_ops"/>
          <p:cNvPicPr/>
          <p:nvPr/>
        </p:nvPicPr>
        <p:blipFill>
          <a:blip r:embed="rId1"/>
          <a:stretch/>
        </p:blipFill>
        <p:spPr>
          <a:xfrm>
            <a:off x="5848200" y="1039680"/>
            <a:ext cx="3289320" cy="254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539640" y="210960"/>
            <a:ext cx="84376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 Unicode MS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359080"/>
            <a:ext cx="8352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t CCC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 at CMC since Dec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dels CanCM3/4, 10 ensemble members 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ndcast verification period = 1981-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cast range = 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casts initialized at the start of every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0440" y="6437160"/>
            <a:ext cx="867708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166000" y="645336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rryfield et al.,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on. Wea. Rev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. (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1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171880" y="0"/>
            <a:ext cx="67435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rcRect l="0" t="0" r="40323" b="0"/>
          <a:stretch/>
        </p:blipFill>
        <p:spPr>
          <a:xfrm>
            <a:off x="0" y="0"/>
            <a:ext cx="18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191120" y="146844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52280" y="1468440"/>
            <a:ext cx="4267440" cy="2800440"/>
          </a:xfrm>
          <a:prstGeom prst="rect">
            <a:avLst/>
          </a:prstGeom>
          <a:ln w="0">
            <a:noFill/>
          </a:ln>
        </p:spPr>
      </p:pic>
      <p:sp>
        <p:nvSpPr>
          <p:cNvPr id="62" name="CustomShape 2"/>
          <p:cNvSpPr/>
          <p:nvPr/>
        </p:nvSpPr>
        <p:spPr>
          <a:xfrm>
            <a:off x="1461960" y="1085760"/>
            <a:ext cx="246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SIPS from Sep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stomShape 3"/>
          <p:cNvSpPr/>
          <p:nvPr/>
        </p:nvSpPr>
        <p:spPr>
          <a:xfrm>
            <a:off x="5280120" y="1085760"/>
            <a:ext cx="246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SIPS from Sep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0120" y="2363760"/>
            <a:ext cx="7850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5"/>
          <p:cNvSpPr/>
          <p:nvPr/>
        </p:nvSpPr>
        <p:spPr>
          <a:xfrm>
            <a:off x="642960" y="2120760"/>
            <a:ext cx="78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457200" y="7632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El Niño fore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62120" y="52578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likely won’t quite beat 1997-98 event, although plumes do overl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5289840" cy="4086000"/>
          </a:xfrm>
          <a:prstGeom prst="rect">
            <a:avLst/>
          </a:prstGeom>
          <a:ln w="0">
            <a:noFill/>
          </a:ln>
        </p:spPr>
      </p:pic>
      <p:sp>
        <p:nvSpPr>
          <p:cNvPr id="69" name="Line 1"/>
          <p:cNvSpPr/>
          <p:nvPr/>
        </p:nvSpPr>
        <p:spPr>
          <a:xfrm flipV="1">
            <a:off x="609480" y="3367080"/>
            <a:ext cx="4699080" cy="7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2"/>
          <p:cNvSpPr/>
          <p:nvPr/>
        </p:nvSpPr>
        <p:spPr>
          <a:xfrm flipV="1">
            <a:off x="609480" y="3569760"/>
            <a:ext cx="4707000" cy="1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"/>
          <p:cNvSpPr/>
          <p:nvPr/>
        </p:nvSpPr>
        <p:spPr>
          <a:xfrm>
            <a:off x="609480" y="3486240"/>
            <a:ext cx="47167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3259080"/>
            <a:ext cx="4732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2" descr=""/>
          <p:cNvPicPr/>
          <p:nvPr/>
        </p:nvPicPr>
        <p:blipFill>
          <a:blip r:embed="rId2"/>
          <a:stretch/>
        </p:blipFill>
        <p:spPr>
          <a:xfrm>
            <a:off x="6095880" y="76320"/>
            <a:ext cx="265752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3"/>
          <a:stretch/>
        </p:blipFill>
        <p:spPr>
          <a:xfrm>
            <a:off x="5943600" y="178596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"/>
          <p:cNvPicPr/>
          <p:nvPr/>
        </p:nvPicPr>
        <p:blipFill>
          <a:blip r:embed="rId4"/>
          <a:stretch/>
        </p:blipFill>
        <p:spPr>
          <a:xfrm>
            <a:off x="6249960" y="3505320"/>
            <a:ext cx="2665440" cy="191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"/>
          <p:cNvPicPr/>
          <p:nvPr/>
        </p:nvPicPr>
        <p:blipFill>
          <a:blip r:embed="rId5"/>
          <a:stretch/>
        </p:blipFill>
        <p:spPr>
          <a:xfrm>
            <a:off x="6066000" y="5164200"/>
            <a:ext cx="2865240" cy="1879560"/>
          </a:xfrm>
          <a:prstGeom prst="rect">
            <a:avLst/>
          </a:prstGeom>
          <a:ln w="0">
            <a:noFill/>
          </a:ln>
        </p:spPr>
      </p:pic>
      <p:cxnSp>
        <p:nvCxnSpPr>
          <p:cNvPr id="77" name="CustomShape 5"/>
          <p:cNvCxnSpPr/>
          <p:nvPr/>
        </p:nvCxnSpPr>
        <p:spPr>
          <a:xfrm flipH="1">
            <a:off x="5290920" y="1523880"/>
            <a:ext cx="775440" cy="1735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stomShape 6"/>
          <p:cNvCxnSpPr/>
          <p:nvPr/>
        </p:nvCxnSpPr>
        <p:spPr>
          <a:xfrm flipH="1">
            <a:off x="5307840" y="2909880"/>
            <a:ext cx="723240" cy="473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stomShape 7"/>
          <p:cNvCxnSpPr/>
          <p:nvPr/>
        </p:nvCxnSpPr>
        <p:spPr>
          <a:xfrm flipH="1" flipV="1">
            <a:off x="5282640" y="3459960"/>
            <a:ext cx="889560" cy="7563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CustomShape 8"/>
          <p:cNvCxnSpPr/>
          <p:nvPr/>
        </p:nvCxnSpPr>
        <p:spPr>
          <a:xfrm flipH="1" flipV="1">
            <a:off x="5303520" y="3595320"/>
            <a:ext cx="946800" cy="2170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CustomShape 9"/>
          <p:cNvSpPr/>
          <p:nvPr/>
        </p:nvSpPr>
        <p:spPr>
          <a:xfrm>
            <a:off x="304920" y="125280"/>
            <a:ext cx="4978440" cy="822600"/>
          </a:xfrm>
          <a:prstGeom prst="rect">
            <a:avLst/>
          </a:prstGeom>
          <a:solidFill>
            <a:srgbClr val="ebf1de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200"/>
                </a:solidFill>
                <a:latin typeface="Arial"/>
              </a:rPr>
              <a:t>When did this El Nino become predict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stomShape 10"/>
          <p:cNvSpPr/>
          <p:nvPr/>
        </p:nvSpPr>
        <p:spPr>
          <a:xfrm rot="17609400">
            <a:off x="5289480" y="2153880"/>
            <a:ext cx="59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stomShape 11"/>
          <p:cNvSpPr/>
          <p:nvPr/>
        </p:nvSpPr>
        <p:spPr>
          <a:xfrm rot="19598400">
            <a:off x="5370120" y="2846520"/>
            <a:ext cx="601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stomShape 12"/>
          <p:cNvSpPr/>
          <p:nvPr/>
        </p:nvSpPr>
        <p:spPr>
          <a:xfrm rot="2459400">
            <a:off x="5635800" y="3593880"/>
            <a:ext cx="396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stomShape 13"/>
          <p:cNvSpPr/>
          <p:nvPr/>
        </p:nvSpPr>
        <p:spPr>
          <a:xfrm rot="4018800">
            <a:off x="5686920" y="4372920"/>
            <a:ext cx="395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8760" y="46080"/>
            <a:ext cx="4648320" cy="444600"/>
          </a:xfrm>
          <a:prstGeom prst="rect">
            <a:avLst/>
          </a:prstGeom>
          <a:solidFill>
            <a:srgbClr val="ebf1de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7200"/>
                </a:solidFill>
                <a:latin typeface="Arial"/>
                <a:ea typeface="Arial"/>
              </a:rPr>
              <a:t>2015 El Niño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4978800" y="763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2m, Precip, SST </a:t>
            </a: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om Sep 20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4600" y="838080"/>
            <a:ext cx="4397400" cy="257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670280" y="838080"/>
            <a:ext cx="4397400" cy="257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71400" y="3068640"/>
            <a:ext cx="345924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5159520" y="3063960"/>
            <a:ext cx="346068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6"/>
          <p:cNvSpPr/>
          <p:nvPr/>
        </p:nvSpPr>
        <p:spPr>
          <a:xfrm>
            <a:off x="1381680" y="523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2m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5728320" y="533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Precip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9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97400" cy="260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"/>
          <p:cNvPicPr/>
          <p:nvPr/>
        </p:nvPicPr>
        <p:blipFill>
          <a:blip r:embed="rId6"/>
          <a:stretch/>
        </p:blipFill>
        <p:spPr>
          <a:xfrm>
            <a:off x="4659480" y="3886200"/>
            <a:ext cx="4397040" cy="2606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39"/>
          <p:cNvSpPr/>
          <p:nvPr/>
        </p:nvSpPr>
        <p:spPr>
          <a:xfrm>
            <a:off x="1188000" y="356724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ST anom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5524920" y="35640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ST anom, JJA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Product development – climate i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152280" y="1066680"/>
            <a:ext cx="8915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 Expert Team on Operational Predictions from Sub-seasonal to Long-Time Scales (ET-OPSLS) in their March 2014 meeting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ly recommended for GPCs running coupled-model systems”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and disseminate predictions of many climate indices, with tropical SST indices as a starting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956200" y="2322360"/>
            <a:ext cx="3111480" cy="2129040"/>
          </a:xfrm>
          <a:prstGeom prst="rect">
            <a:avLst/>
          </a:prstGeom>
          <a:ln w="0">
            <a:noFill/>
          </a:ln>
        </p:spPr>
      </p:pic>
      <p:sp>
        <p:nvSpPr>
          <p:cNvPr id="101" name="CustomShape 1"/>
          <p:cNvSpPr/>
          <p:nvPr/>
        </p:nvSpPr>
        <p:spPr>
          <a:xfrm>
            <a:off x="101520" y="366840"/>
            <a:ext cx="88902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Pacific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1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9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 - 8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, 1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 - 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150°W - 90°W, 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 - 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160°E - 150°W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3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 170°W - 120°W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5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l Niño Modoki Index (EM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MI = SSTA(165E-140W, 10S-10N)-0.5*SSTA (110W-70W, 15S-5N)-0.5*SSTA (125E-145E, 10S-20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cific Decadal Oscillation Index (PD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leading principal component of monthly sea surface temper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nomalies in the North Pacific Ocean poleward of 2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Atlantic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rth Atlantic Tropical SST index(NA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40°W - 20°W, 5°N - 20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Atlantic Tropical SST index(SAT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15°W - 5°E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ASI = NAT – 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Tropical Northern Atlantic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N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55°W - 15°W, 5°N -2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5. Tropical Southern Atlantic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S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30°W - 10°E, 20°S – E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6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ropical Atlantic Dipole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A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NA – TS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Indian Ocean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stern Tropical Indian Ocean SST index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WTIO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50°E - 70°E, 10°S - 10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eastern Tropical Indian Ocean SST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SE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90°E - 110°E, 10°S - 0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Western Indian Ocean SST index(SW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31°E - 45°E, 32°S - 25°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dian Ocean Dipole Mode Index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IO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WTIO - SE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rcRect l="453178" t="0" r="558013" b="0"/>
          <a:stretch/>
        </p:blipFill>
        <p:spPr>
          <a:xfrm>
            <a:off x="6886440" y="4467240"/>
            <a:ext cx="2051280" cy="225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rcRect l="442103" t="0" r="719167" b="0"/>
          <a:stretch/>
        </p:blipFill>
        <p:spPr>
          <a:xfrm>
            <a:off x="4532400" y="4937040"/>
            <a:ext cx="2376360" cy="1822680"/>
          </a:xfrm>
          <a:prstGeom prst="rect">
            <a:avLst/>
          </a:prstGeom>
          <a:ln w="0">
            <a:noFill/>
          </a:ln>
        </p:spPr>
      </p:pic>
      <p:sp>
        <p:nvSpPr>
          <p:cNvPr id="104" name="CustomShape 2"/>
          <p:cNvSpPr/>
          <p:nvPr/>
        </p:nvSpPr>
        <p:spPr>
          <a:xfrm>
            <a:off x="5486400" y="711360"/>
            <a:ext cx="28195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highly recommended indices are 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ustomShape 3"/>
          <p:cNvSpPr/>
          <p:nvPr/>
        </p:nvSpPr>
        <p:spPr>
          <a:xfrm>
            <a:off x="878040" y="76320"/>
            <a:ext cx="828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  <a:ea typeface="WenQuanYi Micro Hei"/>
              </a:rPr>
              <a:t>Oceanic Indices (http://ioc-goos-oopc.org/state_of_the_ocean/sur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4"/>
          <a:stretch/>
        </p:blipFill>
        <p:spPr>
          <a:xfrm>
            <a:off x="4422600" y="4797360"/>
            <a:ext cx="2381400" cy="18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5"/>
          <a:stretch/>
        </p:blipFill>
        <p:spPr>
          <a:xfrm>
            <a:off x="6804000" y="4502160"/>
            <a:ext cx="20480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ustomShape 1"/>
          <p:cNvSpPr/>
          <p:nvPr/>
        </p:nvSpPr>
        <p:spPr>
          <a:xfrm>
            <a:off x="503280" y="-2376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SST index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5916600" y="762120"/>
            <a:ext cx="2967120" cy="296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219320" y="3762360"/>
            <a:ext cx="4572000" cy="299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5918040" y="3794040"/>
            <a:ext cx="2967120" cy="2967120"/>
          </a:xfrm>
          <a:prstGeom prst="rect">
            <a:avLst/>
          </a:prstGeom>
          <a:ln w="0">
            <a:noFill/>
          </a:ln>
        </p:spPr>
      </p:pic>
      <p:sp>
        <p:nvSpPr>
          <p:cNvPr id="113" name="CustomShape 2"/>
          <p:cNvSpPr/>
          <p:nvPr/>
        </p:nvSpPr>
        <p:spPr>
          <a:xfrm>
            <a:off x="189000" y="1752480"/>
            <a:ext cx="11700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ustomShape 3"/>
          <p:cNvSpPr/>
          <p:nvPr/>
        </p:nvSpPr>
        <p:spPr>
          <a:xfrm>
            <a:off x="193680" y="4764240"/>
            <a:ext cx="11700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ustomShape 4"/>
          <p:cNvSpPr/>
          <p:nvPr/>
        </p:nvSpPr>
        <p:spPr>
          <a:xfrm>
            <a:off x="6635880" y="468360"/>
            <a:ext cx="1693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omaly corr ski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01:30Z</dcterms:created>
  <dc:creator>merryfieldw</dc:creator>
  <dc:description/>
  <dc:language>en-US</dc:language>
  <cp:lastModifiedBy>Merryfield,Bill [CCCMA]</cp:lastModifiedBy>
  <dcterms:modified xsi:type="dcterms:W3CDTF">2015-09-13T07:41:22Z</dcterms:modified>
  <cp:revision>208</cp:revision>
  <dc:subject/>
  <dc:title>Slide 1</dc:title>
</cp:coreProperties>
</file>