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C3B1E5-4403-437D-9C8D-59831B0E050A}" type="datetime">
              <a:rPr b="0" lang="en-US" sz="1200" spc="-1" strike="noStrike">
                <a:solidFill>
                  <a:srgbClr val="000000"/>
                </a:solidFill>
                <a:latin typeface="Calibri"/>
              </a:rPr>
              <a:t>07/29/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15E36B-728C-4179-B5B1-FA9E9E2989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ldImg"/>
          </p:nvPr>
        </p:nvSpPr>
        <p:spPr>
          <a:xfrm>
            <a:off x="1143000" y="685800"/>
            <a:ext cx="4572000" cy="3429000"/>
          </a:xfrm>
          <a:prstGeom prst="rect">
            <a:avLst/>
          </a:prstGeom>
          <a:ln w="0">
            <a:noFill/>
          </a:ln>
        </p:spPr>
      </p:sp>
      <p:sp>
        <p:nvSpPr>
          <p:cNvPr id="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only a partial report on the ECMWF activities that might be relevant to the present meet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ring the past year they have been several improvement in the representation of the initial Uncert. In particular in the computation of the Ensemble data Assimilation as well as few adjustments in the stochastic physics scheme.  </a:t>
            </a:r>
            <a:endParaRPr b="0" lang="en-US" sz="1200" spc="-1" strike="noStrike">
              <a:solidFill>
                <a:srgbClr val="000000"/>
              </a:solidFill>
              <a:latin typeface="Calibri"/>
            </a:endParaRPr>
          </a:p>
        </p:txBody>
      </p:sp>
      <p:sp>
        <p:nvSpPr>
          <p:cNvPr id="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2697FA-819C-4BE8-A4F6-FDF733C322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143000" y="685800"/>
            <a:ext cx="4572000" cy="3429000"/>
          </a:xfrm>
          <a:prstGeom prst="rect">
            <a:avLst/>
          </a:prstGeom>
          <a:ln w="0">
            <a:noFill/>
          </a:ln>
        </p:spPr>
      </p:sp>
      <p:sp>
        <p:nvSpPr>
          <p:cNvPr id="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0km/32km vs 32km/60km</a:t>
            </a:r>
            <a:endParaRPr b="0" lang="en-US" sz="1200" spc="-1" strike="noStrike">
              <a:solidFill>
                <a:srgbClr val="000000"/>
              </a:solidFill>
              <a:latin typeface="Calibri"/>
            </a:endParaRPr>
          </a:p>
        </p:txBody>
      </p:sp>
      <p:sp>
        <p:nvSpPr>
          <p:cNvPr id="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989D0B-F4A4-42C5-9B44-727C3FF0CB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ood shape by the end of 2016</a:t>
            </a:r>
            <a:endParaRPr b="0" lang="en-US" sz="1200" spc="-1" strike="noStrike">
              <a:solidFill>
                <a:srgbClr val="000000"/>
              </a:solidFill>
              <a:latin typeface="Calibri"/>
            </a:endParaRPr>
          </a:p>
        </p:txBody>
      </p:sp>
      <p:sp>
        <p:nvSpPr>
          <p:cNvPr id="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1C016E-0B64-4B33-8D7D-A897926937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159L91 (~125 km) for the atmosphere and 10x10 with 42 vertical levels for the ocea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nalysis IFS Cy40r3 in operations. It will benefit from numerous improvements introduced in the IFS since 2006, but this cycle is particularly important for reanalysis because of the implementation of new climate fields and the treatment of unresolved lakes. The planned resolution for the new reanalysis is T511L91 (39km horizontal, 91 vertical levels). It will use a lower‐resolution 10‐member EDA configuration with a 12h 4D‐Var analysi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0D4E63-AE64-4B99-B564-FC14F70212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81056-23AE-40E6-BA7E-C27727E8A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4D20E-FFA4-44C6-B8F0-13CEFBA06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53ED0-137A-424B-AFEA-D546C43F7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E8C61-C864-4997-B58B-4601D9617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7E72D-36A7-4E72-99D7-F062F47E9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FFFE0-3CF4-41F1-A70C-C52550ECC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9979C-BCC3-4F84-A7F4-2CF1E2496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E6C0D-1275-482B-86CE-34179CCB6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24DFD-CE0F-4C96-AA30-E33E96A20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30C2D-F366-46BB-9941-F79E459FC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22142-E660-4A51-BD01-8DE517A4D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22821-6E07-4CCB-BAEC-4FFD3EECE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C8EDE2-E513-4649-AB67-77013C42D643}"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BECE5B-7F72-4BA0-A744-23E1C099ECF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93400"/>
            <a:ext cx="7772400" cy="2406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CMWF activities:</a:t>
            </a:r>
            <a:br>
              <a:rPr sz="4400"/>
            </a:br>
            <a:r>
              <a:rPr b="0" lang="en-US" sz="4400" spc="-1" strike="noStrike">
                <a:solidFill>
                  <a:srgbClr val="000000"/>
                </a:solidFill>
                <a:latin typeface="Calibri"/>
              </a:rPr>
              <a:t> Seasonal and sub-seasonal time sca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3"/>
          <p:cNvSpPr/>
          <p:nvPr/>
        </p:nvSpPr>
        <p:spPr>
          <a:xfrm>
            <a:off x="287280" y="117360"/>
            <a:ext cx="885672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improvements in the representation of  initial uncertainties in the EN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system;</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improving model error simulation: development of stochastic scheme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for</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simulation of</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model</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uncertainties;</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Developmen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of</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next generation medium‐range/monthly ensembl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resolution upgrade ;</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Developmen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of the coupled system used  for ensemble prediction, and assessment of</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impact of model changes on long‐term biases and forecast skill;</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Sub‐seasonal and seasonal time scale: assessment of predictability</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from the medium‐range to the seasonal scale;</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Developmen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of the next‐generation seasonal forecast system.</a:t>
            </a:r>
            <a:r>
              <a:rPr b="0" lang="en-US" sz="2400" spc="-1" strike="noStrike">
                <a:solidFill>
                  <a:srgbClr val="000000"/>
                </a:solidFill>
                <a:latin typeface="Arial"/>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4"/>
          <p:cNvSpPr/>
          <p:nvPr/>
        </p:nvSpPr>
        <p:spPr>
          <a:xfrm>
            <a:off x="287280" y="334800"/>
            <a:ext cx="8856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Improvement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i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configuratio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nd</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component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of the coupled model used for the medium range (since Nov.2013  Ens is based on a coupled system):</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increas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i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horizontal</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resolutio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of</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mospheric</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model</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o</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20Km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i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leg</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 )</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introductio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of</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ORCA25_L75</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i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¼‐degree resolutio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75</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ver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level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versio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of</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NEMO</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ocea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model;</a:t>
            </a:r>
            <a:endParaRPr b="0" lang="en-US" sz="24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ntroductio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of</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dynamical sea‐ice modelling;</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extensio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of</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leg</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B</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o</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46 (implemented operationally);</a:t>
            </a:r>
            <a:endParaRPr b="0" lang="en-US" sz="24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fter th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horizontal</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resolutio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upgrade in the atmospheric model</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nd the implementatio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of</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¼‐degre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version of NEMO, i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i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lso</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planned</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o</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examin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whether</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extension</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of</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leg</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from</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10</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o</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15</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days would</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benefi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forecas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skill</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fter</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day</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10.</a:t>
            </a:r>
            <a:r>
              <a:rPr b="0" lang="en-US" sz="2400" spc="-1" strike="noStrike">
                <a:solidFill>
                  <a:srgbClr val="000000"/>
                </a:solidFill>
                <a:latin typeface="Arial"/>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698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Next seasonal forecast system:</a:t>
            </a:r>
            <a:endParaRPr b="0" lang="en-US" sz="4000" spc="-1" strike="noStrike">
              <a:solidFill>
                <a:srgbClr val="000000"/>
              </a:solidFill>
              <a:latin typeface="Calibri"/>
            </a:endParaRPr>
          </a:p>
        </p:txBody>
      </p:sp>
      <p:sp>
        <p:nvSpPr>
          <p:cNvPr id="52" name="Rectangle 3"/>
          <p:cNvSpPr/>
          <p:nvPr/>
        </p:nvSpPr>
        <p:spPr>
          <a:xfrm>
            <a:off x="457200" y="1290600"/>
            <a:ext cx="822960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baseline="30000">
                <a:solidFill>
                  <a:srgbClr val="000000"/>
                </a:solidFill>
                <a:latin typeface="Arial"/>
                <a:ea typeface="Arial"/>
              </a:rPr>
              <a:t>an IFS cycle with reduced tropical biases and improved stratospheric processe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baseline="30000">
                <a:solidFill>
                  <a:srgbClr val="000000"/>
                </a:solidFill>
                <a:latin typeface="Arial"/>
                <a:ea typeface="Arial"/>
              </a:rPr>
              <a:t>the availability of ERA‐NRT data for the initialization of the re‐forecas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baseline="30000">
                <a:solidFill>
                  <a:srgbClr val="000000"/>
                </a:solidFill>
                <a:latin typeface="Arial"/>
                <a:ea typeface="Arial"/>
              </a:rPr>
              <a:t>if necessary, an additional scheme to prepare stratospheric initial condition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baseline="30000">
                <a:solidFill>
                  <a:srgbClr val="000000"/>
                </a:solidFill>
                <a:latin typeface="Arial"/>
                <a:ea typeface="Arial"/>
              </a:rPr>
              <a:t>the availability of a suitable ocean re‐analysis/analysis, ideally based on ERA‐NRT forcing;</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baseline="30000">
                <a:solidFill>
                  <a:srgbClr val="000000"/>
                </a:solidFill>
                <a:latin typeface="Arial"/>
                <a:ea typeface="Arial"/>
              </a:rPr>
              <a:t>improved consistency in the specification of land‐surface initial conditions between re‐forecast and real‐time runs, possibly through the use of an off‐line land‐surface analysi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baseline="30000">
                <a:solidFill>
                  <a:srgbClr val="000000"/>
                </a:solidFill>
                <a:latin typeface="Arial"/>
                <a:ea typeface="Arial"/>
              </a:rPr>
              <a:t> </a:t>
            </a:r>
            <a:r>
              <a:rPr b="0" lang="en-US" sz="2800" spc="-1" strike="noStrike" baseline="30000">
                <a:solidFill>
                  <a:srgbClr val="000000"/>
                </a:solidFill>
                <a:latin typeface="Arial"/>
                <a:ea typeface="Arial"/>
              </a:rPr>
              <a:t>a physically realistic and computationally efficient version of NEMO in the ORCA25_L75 configuration;</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baseline="30000">
                <a:solidFill>
                  <a:srgbClr val="000000"/>
                </a:solidFill>
                <a:latin typeface="Arial"/>
                <a:ea typeface="Arial"/>
              </a:rPr>
              <a:t> </a:t>
            </a:r>
            <a:r>
              <a:rPr b="0" lang="en-US" sz="2800" spc="-1" strike="noStrike" baseline="30000">
                <a:solidFill>
                  <a:srgbClr val="000000"/>
                </a:solidFill>
                <a:latin typeface="Arial"/>
                <a:ea typeface="Arial"/>
              </a:rPr>
              <a:t>an increased resolution of the atmospheric component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baseline="30000">
                <a:solidFill>
                  <a:srgbClr val="000000"/>
                </a:solidFill>
                <a:latin typeface="Arial"/>
                <a:ea typeface="Arial"/>
              </a:rPr>
              <a:t>a dynamical sea‐ice model with stable behavior on long time scales and adequate initial condi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cean re-analysis</a:t>
            </a:r>
            <a:endParaRPr b="0" lang="en-US" sz="4400" spc="-1" strike="noStrike">
              <a:solidFill>
                <a:srgbClr val="000000"/>
              </a:solidFill>
              <a:latin typeface="Calibri"/>
            </a:endParaRPr>
          </a:p>
        </p:txBody>
      </p:sp>
      <p:sp>
        <p:nvSpPr>
          <p:cNvPr id="54" name="TextBox 4"/>
          <p:cNvSpPr/>
          <p:nvPr/>
        </p:nvSpPr>
        <p:spPr>
          <a:xfrm>
            <a:off x="259920" y="1460520"/>
            <a:ext cx="8958960" cy="576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ORAP5 a prototype for the high resolution analysis has been </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Developed. (ORCA25L75 NEMO driven by Era interim fluxes.</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ORAS5 (future oper. Analysis) will be based on ORAP5 with few </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mods.</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ERA weekly coupled data assimilation system, </a:t>
            </a:r>
            <a:r>
              <a:rPr b="0" lang="en-US" sz="2400" spc="-1" strike="noStrike">
                <a:solidFill>
                  <a:srgbClr val="000000"/>
                </a:solidFill>
                <a:latin typeface="Calibri"/>
              </a:rPr>
              <a:t>uses a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ully coupled model that combines the IFS atmospheric model with</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the NEMO ocean model.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scheme is based on an incremental variational approach. It also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cludes a mechanism for constraining drift in the coupled model using</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observational estimates of monthly averaged SST. </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1T23:04:25Z</dcterms:created>
  <dc:creator>Laura Ferranti</dc:creator>
  <dc:description/>
  <dc:language>en-US</dc:language>
  <cp:lastModifiedBy>Catherine Michaut</cp:lastModifiedBy>
  <dcterms:modified xsi:type="dcterms:W3CDTF">2015-10-01T09:57:49Z</dcterms:modified>
  <cp:revision>14</cp:revision>
  <dc:subject/>
  <dc:title>PowerPoint Presentation</dc:title>
</cp:coreProperties>
</file>