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AB0-1DF6-4DE4-A230-7177CC4B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2800" y="921600"/>
            <a:ext cx="867060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2800" y="3915000"/>
            <a:ext cx="867060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A614-9CFF-466A-8028-6E060AB6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2800" y="921600"/>
            <a:ext cx="42310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921600"/>
            <a:ext cx="42310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2800" y="3915000"/>
            <a:ext cx="42310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3915000"/>
            <a:ext cx="42310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5D3-050A-4194-A0A3-74217EEC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2800" y="921600"/>
            <a:ext cx="279180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921600"/>
            <a:ext cx="279180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480" y="921600"/>
            <a:ext cx="279180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2800" y="3915000"/>
            <a:ext cx="279180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3915000"/>
            <a:ext cx="279180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480" y="3915000"/>
            <a:ext cx="279180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8836-23E9-4719-A4DD-BBB61EBC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2800" y="921600"/>
            <a:ext cx="8670600" cy="57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982-1E45-4726-9A10-A3D6FC6A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2800" y="921600"/>
            <a:ext cx="8670600" cy="57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44D-0C68-403C-BA9D-ED9AF8A9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2800" y="921600"/>
            <a:ext cx="4231080" cy="57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921600"/>
            <a:ext cx="4231080" cy="57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1D3-CBF8-4354-9571-DFB84C8B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BAB9-F04E-48D0-8A68-76F631A0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2800" y="165600"/>
            <a:ext cx="8670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6DBC-A39F-4A85-871A-64575514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2800" y="921600"/>
            <a:ext cx="42310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921600"/>
            <a:ext cx="4231080" cy="57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2800" y="3915000"/>
            <a:ext cx="42310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558-4C02-474D-91DD-C76A6D95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2800" y="921600"/>
            <a:ext cx="4231080" cy="57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921600"/>
            <a:ext cx="42310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3915000"/>
            <a:ext cx="42310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8013-CE44-4D66-BAFE-3DB7D7BF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2800" y="921600"/>
            <a:ext cx="42310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921600"/>
            <a:ext cx="42310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2800" y="3915000"/>
            <a:ext cx="867060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8CC4-2C3B-4657-AE3B-4E386CE0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2800" y="921600"/>
            <a:ext cx="8670600" cy="57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67B7542-58E2-4875-89ED-9DCBFBF4942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ome updates from Korean s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62800" y="921600"/>
            <a:ext cx="8670600" cy="57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nts (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NU (CAM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UNIST (GloSea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PRI (CAM5-Unic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PCC (has intention with their under-developing mod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-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MA-NIMR is very positive to support SnowG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PRI can host a data-server for SnowG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Suitable snow da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62800" y="921600"/>
            <a:ext cx="8670600" cy="57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adian Meteorological Centre (CMC) Daily Snow Depth Analysis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ily from 1998 through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atial resolution: 24k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now depth and estimated snow water equivalent Brown, R. D. and B. Brasnett. 2010, updated annually. 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anadian Meteorological Centre (CMC) Daily Snow Depth Analysis Da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957960" y="3675240"/>
            <a:ext cx="1412640" cy="5158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MC snow dep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mat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929880" y="4737600"/>
            <a:ext cx="1468800" cy="302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MC - ERAinter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803920" y="6604560"/>
            <a:ext cx="13179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ong et al. (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2566440" y="3130200"/>
            <a:ext cx="4862520" cy="3522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8"/>
          <p:cNvSpPr/>
          <p:nvPr/>
        </p:nvSpPr>
        <p:spPr>
          <a:xfrm>
            <a:off x="921600" y="5695200"/>
            <a:ext cx="1485720" cy="302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MC -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7527240" y="5542560"/>
            <a:ext cx="1485720" cy="94212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Anomaly initialization is required like as GLAC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Impacts of Eurasian snow cover on AO – an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rcRect l="10445" t="22208" r="49376" b="39579"/>
          <a:stretch/>
        </p:blipFill>
        <p:spPr>
          <a:xfrm>
            <a:off x="431640" y="1005120"/>
            <a:ext cx="4555800" cy="244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rcRect l="0" t="20723" r="0" b="47136"/>
          <a:stretch/>
        </p:blipFill>
        <p:spPr>
          <a:xfrm>
            <a:off x="162720" y="3641760"/>
            <a:ext cx="6179400" cy="2821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3571920" y="6283800"/>
            <a:ext cx="262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gure from SH Kim, KOP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5044320" y="2774520"/>
            <a:ext cx="1430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hen (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442560" y="5172120"/>
            <a:ext cx="2490840" cy="82116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mote impacts are chang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5008680" y="1150200"/>
            <a:ext cx="3672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T snow advance index over Eur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s DJF AO showed 0.86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wn Arrow 10"/>
          <p:cNvSpPr/>
          <p:nvPr/>
        </p:nvSpPr>
        <p:spPr>
          <a:xfrm>
            <a:off x="3556800" y="3407760"/>
            <a:ext cx="414720" cy="448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cxnSp>
        <p:nvCxnSpPr>
          <p:cNvPr id="59" name="Straight Connector 12"/>
          <p:cNvCxnSpPr/>
          <p:nvPr/>
        </p:nvCxnSpPr>
        <p:spPr>
          <a:xfrm>
            <a:off x="4771800" y="3957480"/>
            <a:ext cx="14760" cy="204588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ontent Placeholder 2"/>
          <p:cNvSpPr/>
          <p:nvPr/>
        </p:nvSpPr>
        <p:spPr>
          <a:xfrm>
            <a:off x="457200" y="995400"/>
            <a:ext cx="8229240" cy="55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52" strike="noStrike">
              <a:solidFill>
                <a:srgbClr val="000000"/>
              </a:solidFill>
              <a:latin typeface="나눔고딕"/>
              <a:ea typeface="나눔고딕"/>
            </a:endParaRPr>
          </a:p>
        </p:txBody>
      </p:sp>
      <p:pic>
        <p:nvPicPr>
          <p:cNvPr id="61" name="Picture 64" descr="스크린샷 2014-08-19 오후 10.20.56.png"/>
          <p:cNvPicPr/>
          <p:nvPr/>
        </p:nvPicPr>
        <p:blipFill>
          <a:blip r:embed="rId1"/>
          <a:srcRect l="0" t="0" r="0" b="6240"/>
          <a:stretch/>
        </p:blipFill>
        <p:spPr>
          <a:xfrm>
            <a:off x="2008440" y="3298680"/>
            <a:ext cx="5179680" cy="31446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2800" y="165600"/>
            <a:ext cx="867060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now-nudging vs. initial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2800" y="921600"/>
            <a:ext cx="8670600" cy="57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dging snow depth (everyday) for one month before a prediction st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: adjusting surface temperature and soil-moisture to the s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now depth analysis from CMC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ndcast experiemnts with CAM3 initialized at Sep, Oct, Mar, Apr 1999-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0 days with 10 member ensem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dictive skills of SAT, soil-moisture are being estim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2636640" y="3271320"/>
            <a:ext cx="1062000" cy="302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079160" y="3270600"/>
            <a:ext cx="1292040" cy="302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it by nudg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5576400" y="3271320"/>
            <a:ext cx="1063440" cy="302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itial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2477880" y="6508800"/>
            <a:ext cx="4493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gnal is getting strong, might provide more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 Them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86</TotalTime>
  <Application>LibreOffice/7.4.7.2$Linux_X86_64 LibreOffice_project/40$Build-2</Application>
  <AppVersion>15.0000</AppVersion>
  <Words>259</Words>
  <Paragraphs>3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1T09:09:16Z</dcterms:created>
  <dc:creator>Jee-Hoon Jeong</dc:creator>
  <dc:description/>
  <dc:language>en-US</dc:language>
  <cp:lastModifiedBy>Catherine Michaut</cp:lastModifiedBy>
  <dcterms:modified xsi:type="dcterms:W3CDTF">2015-10-01T09:09:3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ésentation à l'écran (4:3)</vt:lpwstr>
  </property>
  <property fmtid="{D5CDD505-2E9C-101B-9397-08002B2CF9AE}" pid="3" name="Slides">
    <vt:r8>4</vt:r8>
  </property>
</Properties>
</file>