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dt" idx="55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ftr" idx="56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 type="sldNum" idx="57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660B-2200-4DF9-ABBD-45216E731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BC6F-9646-4926-BA5A-9B270B585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9487-6555-4D4B-AAAC-61F57D0EA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656-FFE9-45A9-891C-01D7E45F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0D7-FE46-4BA5-9CAD-156B4BE4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FB572-6A6B-486F-96CC-240A4F85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01190-4CAF-4685-B6B7-9283385B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51A39-A86A-4BCC-BB49-0FF48449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4FB18-EFF7-423E-9740-94A305D9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2420E-DAF5-41EE-B994-B8A25582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43B31-F299-4D13-9051-D18D3B32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05FF8-A8E2-43CE-AB91-B51E727B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99C6E-F629-471E-88D3-0A8C88B3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7AEF2-68C4-4FAF-8E76-80A7ED2C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C8B12-BE19-4198-8B6D-CB8E8F1D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F83-332C-460E-9DEF-2D828AB8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660DF-3225-46CD-AF32-8A1B6F34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DC9CE-EC5C-466B-B747-E2DB0F8E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4EB44-85A7-4760-B605-7102AF30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1C53C-8B8C-4850-A1A0-AD608B9B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E7A8D-7F9B-4323-9853-D82652A2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3F737-DAB5-477E-85A9-11C71FA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8AC44-1B66-4599-89FA-5D67DF5E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897BE-747D-4C97-B30D-2FF400D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94199-AC06-4DD2-91A9-FB88D2AE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CC3D0-1F43-4A8B-9E9D-2E267504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238-2AF5-4DAB-B346-C7331105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2BA0A-57DD-49C9-9860-18D6264A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30B79-63E4-4463-A492-B5F8C2C9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799D6-8191-4245-8045-AB7DA32F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2728B-AF30-4FF6-9B96-75E6C3CC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AA7F9-7789-4845-9937-358FBD79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720C1-550A-4B72-A0CD-6F34CDBF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51328-37EA-42C1-A002-D890CDE3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D2A69-2506-46BD-B722-CA7B7637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FEC99-4CE0-4FC0-A8E4-5B4EB2BB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4F786-6AAD-4939-B6F0-539B89F0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C940-8EFA-422E-8E23-4DA02EE6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CDD45-732F-41DF-BF3F-480CD0C5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4135F-4AF8-4C28-B957-9A75FE57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22E1C-0088-4913-AFBB-7A7AF828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3F2DA-F540-432F-9EFC-0E0A6B52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6E4EC-419D-47DA-9A24-862962FC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667A2-9552-4E8E-962D-E0ADC825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5DD8A-85D6-4CE1-A5ED-85B9D483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40FD1-AD00-4CB8-ADD3-DB83D866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4941F-0DE9-4404-8DCD-ECFECE04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81C69-D486-4713-AC32-DC6B253E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BD4-85B2-483C-ADD6-07E47D87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494A7-6636-42C6-AEBB-E012A174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2939D-C985-4E58-945B-364C686D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66C23-CBD3-4428-B4FE-1565F0CA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FBB8D-9B73-42FB-986F-7123ACA2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A48CA-81F0-4F87-8B23-210DAEFA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DB0EA-6FCD-41A4-803F-A7E35666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C1624-2D49-4590-AE06-2D200017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15A5A-D133-4A6C-8314-CBBBDC90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AA9E7-8251-421B-AA2E-951D261E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CD659-993E-4975-B426-1C17FF3A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4049-7A32-4A69-B0DE-E14277C8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8F83D-AC58-4C78-8E03-FBF4E612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9E5A3-FFB1-4323-9ECA-497D6884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9A30F-E3D2-4803-9E58-526B11D8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56C93-5295-4A39-A6E0-5A0B01F9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1C435-691C-4072-BF13-3053FF3D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02508-186D-41AF-8025-412E88A4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370CF-58F8-4986-B988-7447C294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2594B-4762-4BF5-B25B-D12FE879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90784B-2C07-422E-A369-CFBEC928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CB631-D35B-4997-9995-E247A1FE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5CAD-E7A7-47C3-B418-2FA97DC9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CF282-7269-444A-BB21-D0347E2E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F62A3-6918-4C0B-8EE6-CF8A3240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C29BB-B887-4255-95DB-26ECC9D2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BFD7C-27C0-4686-9F45-871DD0B0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7C8F5-D47A-4A0E-B9EC-D86FFEC4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BF899-8835-48C8-A46D-39260C12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59738-012D-45F8-A9A8-ADBE86E8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0DC2E-997C-4EDE-A4F5-B2F8F7D3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70423-14CF-4FFE-ADEA-0CFCC698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2F318-C6D9-4CDA-9CB2-36836CCA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BF62-2566-48E8-B1B0-E28BE818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A40EE-664C-4265-B664-72DE3054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F179C-33BB-47FA-B415-81E09276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CF0CB-36CE-4339-95E2-B8EE8FBE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1A1FF-1739-4901-B5E5-13602B46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2C92E-6F62-4483-9AA5-1A425789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4B79A7-2E9C-41CC-8AA6-CB9DD4EF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02012-2840-4CE0-AFC1-27CEFD5A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7D051-06C1-4759-BD57-E7C8C4DE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22473-6D8A-4B8F-81B6-5406F7C7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9EF68-723E-4F4E-86E7-E4D6E9ED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6049-9331-41E6-A95C-803241DE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B7EBF-AFF9-4E1C-96A1-1A42D654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841F7-85D0-4CF5-B4BE-87EFF5B6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41DE9-0F34-499A-A49E-9F06D464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63DAC-A4CC-4446-AF5D-DBD445C7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E1679-2B7F-40DD-ACBB-996FB5EB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CA903-0ED3-4831-B4E2-A38C6E26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BB0F0-448F-4773-AB54-DCD55C18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B9399-E80F-423B-9EC9-C90E128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BDE86-7F31-4430-8CB5-E0D8DDDE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ABEB3-DF36-4246-9BC6-34ADBF7B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6C24-FD6E-4E90-A9AF-71EECF7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C6A5F-84D5-4E52-BD22-45695F9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8D3DD8-A8AB-4A4B-A118-E2915768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723A37-3062-4659-8C18-D73490EC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F068F-8F02-47E3-A299-D6AD6A56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80CE0-5904-42D3-8587-23BF969A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14BB3-D905-4F0E-92AA-796C4E66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EE9EA-964F-48A1-B33D-80118B54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D59DE-B5D0-47FA-AC85-97184442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BB755-FA28-40DA-B370-494BBF24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77FC4F-3A10-4507-87BA-9DC258B3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EE6-3F4C-40FE-A416-0B7C227A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30EE-1386-4188-B28C-78BA691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640AF-B97D-431F-931B-B0752F1E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4C4FDF-19C6-4858-8977-A0338FF9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4633D-F958-4E6A-A2D9-A89DC519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FA95F-1E38-4E8C-AE78-DE1B7FFD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A694E-610C-4EA2-A445-A09323BA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8BD57-3E45-4DA3-B729-F73D89FC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D5746-6773-48C0-A2B5-8956E0F9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6E827-2D01-4238-BFC0-E5060FD0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60B84-471A-422D-87DC-1C733585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38355-1ACF-406A-AF50-EE0F49CE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E652-8E40-48FC-B1E3-33CD2E1E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A4315-5115-44B0-8696-3FBB13E0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E8A73-8E7A-40AC-83A1-A8968893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FC0A2D-E320-4B6A-B30D-F62A0438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440B32-B134-45A8-BEC6-8855977F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B84694-6740-4927-9B27-26D25B39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5D672-CD9F-404A-999C-F4152A1D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20544-7DE2-4B44-A54F-D96D6B7D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B37B-DCC0-41E4-BCCA-55144812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4D1C-AB64-4D09-8D04-9801C117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C051-67DA-4E16-89AD-DBE88977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9890-E87E-456F-A2D9-F6762091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EA063-96A7-4DFF-A3AF-828BC235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4062-DC6B-466F-9DC0-049C4C42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B155-9999-415D-B3D6-5DBD62D0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10DA-1FAA-4BB2-B560-67F679A0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F75-3283-4695-AF9E-FD00F1AB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0B4A-5CAA-40D8-B5AC-027AE95A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578B-84D0-4101-A20C-BA39586E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DF33B-3BEA-4817-9060-5CACABB8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F8CBB-8DA8-4A57-BC54-AC67F534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4B36-CD93-45EF-B029-23349C7F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9717-EF0A-4096-AE8C-5114837B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281F-2592-4D5A-ADDC-4295B8AC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7177-5306-430D-AC0E-FD1B54A6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0F89-0A12-4F09-B453-D2B98206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42478-AD6E-4517-9278-ADE3D1EA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74C-7C76-4C9B-885E-DB279D45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F62E-AB5C-4671-B357-609A22DD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F7C23-FD1B-4FBC-A825-53F2E516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D2F72-5A8E-40BF-A6CC-6D2A1885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7DFC-1828-487A-8161-E1169E73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CDC0-875E-4AFE-B7C1-69B67441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7520-F7F9-4525-8AE9-F66C2BDD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96049-0FFD-4138-9BAC-0C001B8C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8B0B7-7877-409B-8A1A-B6EA178D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0D56B-4B96-48F3-93E6-D9C41FD2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84638-8D75-4A18-8322-5A39D4DC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D72-0D02-4571-B84B-1262798F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2D9BB-FFC8-48DC-B5AF-52BCA912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131A-D470-4BBC-9AEB-DA0B3F1A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D7A4A-D02A-41FD-9C99-B44AC509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3B3FD-ADFD-47EE-9D44-4573E520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0B8D0-DB0D-420B-82A7-A43CC346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3A155-B082-4C3C-B71F-31EE02FB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77307-F50A-4F33-98AC-69D14FED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3782D-104C-48E9-935D-870BB465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C8581-E023-4C82-9F82-8C250DF6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EF207-2C67-4DDB-8B68-5B278821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F90-9298-4F9A-BA46-16F04822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C219E-F364-45C6-A44D-2B514D3A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D2CB0-F28D-42E1-8DDB-59AC7460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84A3C-B64D-4308-BB22-F281AFEE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628AB-14C7-4444-95FB-2DAA5F4D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B81C8-4C39-4888-93A9-BC387DD8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3BD34-443C-42E5-A50D-AC1C6AF1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34571-0A6F-4D48-970E-D60D8766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A5A50-1622-4910-B0E8-5B5F986E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35895-FD3E-412C-90B6-839DE3E8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B171A-5A98-4CDD-84CF-DC09F7B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3F0-423C-498E-8830-9D5C4CC5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AB4FC-C23F-48A4-BDC8-427A2C64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E5A8E-F0E3-4D1F-976F-913D4405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3C23B-5E03-4A84-8F86-FB3C779E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4B9DD-7B2A-41C3-8857-68767984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CA5E3-0FF3-423C-80B5-E9079AAC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F94A3-DC13-4E8B-9EEE-96E4BAE2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9FB48-0733-4E11-A5C2-3B26B630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D606D-9546-416E-ABFB-6443CAB1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114D9-088C-4FE4-8909-E4CDB612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D9A9F-2A46-4088-918D-EC7EAD06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B14-B48A-4E28-8E54-EA9CD71D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8423-ED74-4A2A-8670-5F4989EA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28141-2B30-4A99-A394-25EC0A5B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14BA9-22CB-47EF-A40D-179B7EB0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C7E83-7026-474B-9941-430BD746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E9B77-8EF0-40AA-AB64-630AEC21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2612B-5484-45A8-B9D4-DFB83699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C32B4-629F-482F-BACF-69184CD4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56F3B-CC02-417B-BD1C-403D7153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F9E67-AD76-4373-9C72-B5929137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0F822-DDD0-4B60-ACEB-25A612E6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1CD-768E-44CA-B684-015A8CA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D1791-23AC-412D-9365-CB96819B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13188-B1AC-41B7-8431-BA9379A9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E0691-4CFD-44B4-9640-242A7AB8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11F7F-D404-4FCB-B14E-E8965F6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1A3A8-8338-4599-8094-074FB150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DA63C-669D-4276-B704-DD61E06F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D9814-A469-4D5A-A9F3-E7FD96E5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B1EED-3648-495F-A147-7CC4BDF8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872E1-0DB0-4238-93B9-DD3CD066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991FE-6303-4FFD-962A-03BB043D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51CE-3026-4636-8117-5C41F7FE961B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F0AC-5361-4624-AFB6-AF4B43FAA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BADF-DC22-493F-86E4-4F2F6830B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671D-60CD-484E-BF2D-EB9F6B6E7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3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E98D-3726-4DAF-A419-9951E2A2E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BD6C-C5B5-45C0-AAF1-83AD5F436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2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B4A2-2D76-43B1-8EE6-C113F8976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7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C804-7E3F-46B1-85BD-A203E4B54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1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BE4E-C3F5-4D1F-8B0C-42D5C13D6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6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CB1F-921D-46DD-BFDA-72107C5E1F54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1F35-90A5-4512-96F7-B106082A493A}" type="slidenum">
              <a:rPr b="0" lang="en-C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0E36-B7FF-4A6F-8C17-04360CF443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DEF6-0F58-4011-96B2-1A70268E8D5A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19BF-628F-4C1B-A094-0FBFB9D04128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1DE8-7A0A-4C87-86D2-BF1BD4171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6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9EBE-DA6D-43CF-8FF8-61BD11EF0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248B-568E-4C8C-923E-51325DA3E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0B72-9DA2-40FC-9CAA-5066D00DC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5557680" cy="4491360"/>
          </a:xfrm>
          <a:prstGeom prst="rect">
            <a:avLst/>
          </a:prstGeom>
          <a:ln w="0">
            <a:noFill/>
          </a:ln>
        </p:spPr>
      </p:pic>
      <p:sp>
        <p:nvSpPr>
          <p:cNvPr id="815" name="TextBox 1"/>
          <p:cNvSpPr/>
          <p:nvPr/>
        </p:nvSpPr>
        <p:spPr>
          <a:xfrm>
            <a:off x="1288800" y="529596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Do we hav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Decadal Prediction Vi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9"/>
          <p:cNvSpPr/>
          <p:nvPr/>
        </p:nvSpPr>
        <p:spPr>
          <a:xfrm>
            <a:off x="7383600" y="39546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LI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Isosceles Triangle 2"/>
          <p:cNvSpPr/>
          <p:nvPr/>
        </p:nvSpPr>
        <p:spPr>
          <a:xfrm>
            <a:off x="1400040" y="3517920"/>
            <a:ext cx="1995480" cy="1633680"/>
          </a:xfrm>
          <a:prstGeom prst="triangle">
            <a:avLst>
              <a:gd name="adj" fmla="val 50000"/>
            </a:avLst>
          </a:prstGeom>
          <a:solidFill>
            <a:srgbClr val="ffff00">
              <a:alpha val="21000"/>
            </a:srgbClr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755640" y="259920"/>
            <a:ext cx="7848720" cy="28083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6666"/>
                </a:solidFill>
                <a:latin typeface="Verdana"/>
              </a:rPr>
              <a:t>Decadal prediction inter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WGS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Verdana"/>
              </a:rPr>
              <a:t>seasonal to decadal predic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WGC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Verdana"/>
              </a:rPr>
              <a:t>climate</a:t>
            </a:r>
            <a:r>
              <a:rPr b="1" lang="en-CA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Verdana"/>
              </a:rPr>
              <a:t>chang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CM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Verdana"/>
              </a:rPr>
              <a:t>MIPS and WIP Panel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CLIV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Verdana"/>
              </a:rPr>
              <a:t>decadal variability and predictability </a:t>
            </a:r>
            <a:r>
              <a:rPr b="0" i="1" lang="en-CA" sz="1500" spc="-1" strike="noStrike">
                <a:solidFill>
                  <a:srgbClr val="006666"/>
                </a:solidFill>
                <a:latin typeface="Verdana"/>
              </a:rPr>
              <a:t>focu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Verdana"/>
              </a:rPr>
              <a:t>Grand Challenge </a:t>
            </a:r>
            <a:r>
              <a:rPr b="0" i="1" lang="en-CA" sz="1700" spc="-1" strike="noStrike">
                <a:solidFill>
                  <a:srgbClr val="000000"/>
                </a:solidFill>
                <a:latin typeface="Verdana"/>
              </a:rPr>
              <a:t>“concept” </a:t>
            </a:r>
            <a:r>
              <a:rPr b="0" lang="en-CA" sz="17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develop concept then …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TextBox 1"/>
          <p:cNvSpPr/>
          <p:nvPr/>
        </p:nvSpPr>
        <p:spPr>
          <a:xfrm>
            <a:off x="4835160" y="428796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Gr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"/>
          <p:cNvSpPr/>
          <p:nvPr/>
        </p:nvSpPr>
        <p:spPr>
          <a:xfrm>
            <a:off x="6562800" y="3141720"/>
            <a:ext cx="1825560" cy="1423800"/>
          </a:xfrm>
          <a:prstGeom prst="ellipse">
            <a:avLst/>
          </a:prstGeom>
          <a:solidFill>
            <a:srgbClr val="def3f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8"/>
          <p:cNvSpPr/>
          <p:nvPr/>
        </p:nvSpPr>
        <p:spPr>
          <a:xfrm>
            <a:off x="2016360" y="428796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G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ounded Rectangle 6"/>
          <p:cNvSpPr/>
          <p:nvPr/>
        </p:nvSpPr>
        <p:spPr>
          <a:xfrm>
            <a:off x="3436920" y="3268800"/>
            <a:ext cx="1994040" cy="1377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8"/>
          <p:cNvSpPr/>
          <p:nvPr/>
        </p:nvSpPr>
        <p:spPr>
          <a:xfrm>
            <a:off x="5076720" y="4151160"/>
            <a:ext cx="1943280" cy="176400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5"/>
          <p:cNvSpPr/>
          <p:nvPr/>
        </p:nvSpPr>
        <p:spPr>
          <a:xfrm>
            <a:off x="2556000" y="3952800"/>
            <a:ext cx="2376360" cy="2232000"/>
          </a:xfrm>
          <a:prstGeom prst="ellipse">
            <a:avLst/>
          </a:prstGeom>
          <a:solidFill>
            <a:srgbClr val="adffff"/>
          </a:solidFill>
          <a:ln cap="sq" w="12600">
            <a:solidFill>
              <a:srgbClr val="000000">
                <a:alpha val="76000"/>
              </a:srgbClr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3355920" y="499896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GS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9"/>
          <p:cNvSpPr/>
          <p:nvPr/>
        </p:nvSpPr>
        <p:spPr>
          <a:xfrm>
            <a:off x="7234200" y="34639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I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0"/>
          <p:cNvSpPr/>
          <p:nvPr/>
        </p:nvSpPr>
        <p:spPr>
          <a:xfrm>
            <a:off x="4277160" y="3624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M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1"/>
          <p:cNvSpPr/>
          <p:nvPr/>
        </p:nvSpPr>
        <p:spPr>
          <a:xfrm>
            <a:off x="5367600" y="506880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Gr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A curious co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Content Placeholder 6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676760" cy="3960720"/>
          </a:xfrm>
          <a:prstGeom prst="rect">
            <a:avLst/>
          </a:prstGeom>
          <a:ln w="0">
            <a:noFill/>
          </a:ln>
        </p:spPr>
      </p:pic>
      <p:pic>
        <p:nvPicPr>
          <p:cNvPr id="832" name="Content Placeholder 7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556080" cy="4186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8"/>
          <p:cNvSpPr/>
          <p:nvPr/>
        </p:nvSpPr>
        <p:spPr>
          <a:xfrm>
            <a:off x="2921400" y="5664240"/>
            <a:ext cx="30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50% of membership in 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DVCP co-chairs on DCPP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DCPP co-chairs not on DVCP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"/>
          <p:cNvSpPr/>
          <p:nvPr/>
        </p:nvSpPr>
        <p:spPr>
          <a:xfrm>
            <a:off x="6375600" y="125748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6666"/>
                </a:solidFill>
                <a:latin typeface="Arial"/>
                <a:ea typeface="Arial"/>
              </a:rPr>
              <a:t>DCVP “Working Group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Diagram 4" descr=""/>
          <p:cNvPicPr/>
          <p:nvPr/>
        </p:nvPicPr>
        <p:blipFill>
          <a:blip r:embed="rId1"/>
          <a:stretch/>
        </p:blipFill>
        <p:spPr>
          <a:xfrm>
            <a:off x="2341440" y="3402000"/>
            <a:ext cx="4424400" cy="293220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755640" y="259920"/>
            <a:ext cx="7848720" cy="28083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6666"/>
                </a:solidFill>
                <a:latin typeface="Verdana"/>
              </a:rPr>
              <a:t>DCPP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1800" spc="-1" strike="noStrike">
                <a:solidFill>
                  <a:srgbClr val="006666"/>
                </a:solidFill>
                <a:latin typeface="Verdana"/>
              </a:rPr>
              <a:t>Panel 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has representatives fro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Verdana"/>
              </a:rPr>
              <a:t>WGS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seasonal to decadal predi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Verdana"/>
              </a:rPr>
              <a:t>WGCM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including members of CMIP and WIP Pane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CM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including WIP Pane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Verdana"/>
              </a:rPr>
              <a:t>CLIVAR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decadal variability and predictability </a:t>
            </a:r>
            <a:r>
              <a:rPr b="0" i="1" lang="en-CA" sz="1200" spc="-1" strike="noStrike">
                <a:solidFill>
                  <a:srgbClr val="006666"/>
                </a:solidFill>
                <a:latin typeface="Verdana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has apparently become the decadal climate variability and predictability </a:t>
            </a:r>
            <a:r>
              <a:rPr b="0" lang="en-CA" sz="1200" spc="-1" strike="noStrike">
                <a:solidFill>
                  <a:srgbClr val="006666"/>
                </a:solidFill>
                <a:latin typeface="Verdana"/>
              </a:rPr>
              <a:t>(DCVP) </a:t>
            </a:r>
            <a:r>
              <a:rPr b="0" i="1" lang="en-CA" sz="1200" spc="-1" strike="noStrike">
                <a:solidFill>
                  <a:srgbClr val="006666"/>
                </a:solidFill>
                <a:latin typeface="Verdana"/>
              </a:rPr>
              <a:t>focus (Working Group?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6666"/>
                </a:solidFill>
                <a:latin typeface="Verdana"/>
              </a:rPr>
              <a:t>50% of members from DCPP including co-ch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Verdana"/>
              </a:rPr>
              <a:t>Grand Challenge “concept” gro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Box 3"/>
          <p:cNvSpPr/>
          <p:nvPr/>
        </p:nvSpPr>
        <p:spPr>
          <a:xfrm>
            <a:off x="4215600" y="454644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6666"/>
                </a:solidFill>
                <a:latin typeface="Arial"/>
              </a:rPr>
              <a:t>D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6666"/>
                </a:solidFill>
                <a:latin typeface="Arial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6"/>
          <p:cNvGrpSpPr/>
          <p:nvPr/>
        </p:nvGrpSpPr>
        <p:grpSpPr>
          <a:xfrm>
            <a:off x="2411280" y="1515960"/>
            <a:ext cx="4416480" cy="3929040"/>
            <a:chOff x="2411280" y="1515960"/>
            <a:chExt cx="4416480" cy="3929040"/>
          </a:xfrm>
        </p:grpSpPr>
        <p:pic>
          <p:nvPicPr>
            <p:cNvPr id="839" name="Diagram 4" descr=""/>
            <p:cNvPicPr/>
            <p:nvPr/>
          </p:nvPicPr>
          <p:blipFill>
            <a:blip r:embed="rId1"/>
            <a:stretch/>
          </p:blipFill>
          <p:spPr>
            <a:xfrm>
              <a:off x="2411280" y="1645200"/>
              <a:ext cx="4416480" cy="32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Oval 1"/>
            <p:cNvSpPr/>
            <p:nvPr/>
          </p:nvSpPr>
          <p:spPr>
            <a:xfrm>
              <a:off x="2552040" y="1515960"/>
              <a:ext cx="3952440" cy="3929040"/>
            </a:xfrm>
            <a:prstGeom prst="ellipse">
              <a:avLst/>
            </a:prstGeom>
            <a:noFill/>
            <a:ln cap="sq"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TextBox 8"/>
          <p:cNvSpPr/>
          <p:nvPr/>
        </p:nvSpPr>
        <p:spPr>
          <a:xfrm>
            <a:off x="727560" y="682560"/>
            <a:ext cx="77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n we </a:t>
            </a:r>
            <a:r>
              <a:rPr b="0" i="1" lang="en-CA" sz="2400" spc="-1" strike="noStrike">
                <a:solidFill>
                  <a:srgbClr val="006666"/>
                </a:solidFill>
                <a:latin typeface="Arial"/>
              </a:rPr>
              <a:t>unif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several the interests in decadal prediction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50880" y="188640"/>
            <a:ext cx="78883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Where does a decadal prediction f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3" name="Text Box 12"/>
          <p:cNvSpPr/>
          <p:nvPr/>
        </p:nvSpPr>
        <p:spPr>
          <a:xfrm>
            <a:off x="1258920" y="5229360"/>
            <a:ext cx="72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cadal predi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annual, multi-annual, up to a dec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itializ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forecasts of both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forc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ternally generat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mponents of var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"/>
          <p:cNvGrpSpPr/>
          <p:nvPr/>
        </p:nvGrpSpPr>
        <p:grpSpPr>
          <a:xfrm>
            <a:off x="1387440" y="1125360"/>
            <a:ext cx="6218280" cy="3967920"/>
            <a:chOff x="1387440" y="1125360"/>
            <a:chExt cx="6218280" cy="3967920"/>
          </a:xfrm>
        </p:grpSpPr>
        <p:pic>
          <p:nvPicPr>
            <p:cNvPr id="845" name="Picture 4" descr="Fig11"/>
            <p:cNvPicPr/>
            <p:nvPr/>
          </p:nvPicPr>
          <p:blipFill>
            <a:blip r:embed="rId1"/>
            <a:srcRect l="0" t="16318" r="0" b="17011"/>
            <a:stretch/>
          </p:blipFill>
          <p:spPr>
            <a:xfrm>
              <a:off x="1387440" y="1125360"/>
              <a:ext cx="6218280" cy="29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Line 5"/>
            <p:cNvSpPr/>
            <p:nvPr/>
          </p:nvSpPr>
          <p:spPr>
            <a:xfrm flipV="1">
              <a:off x="3752640" y="1541520"/>
              <a:ext cx="0" cy="1767240"/>
            </a:xfrm>
            <a:prstGeom prst="line">
              <a:avLst/>
            </a:prstGeom>
            <a:ln w="1908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6"/>
            <p:cNvSpPr/>
            <p:nvPr/>
          </p:nvSpPr>
          <p:spPr>
            <a:xfrm>
              <a:off x="3549960" y="1345320"/>
              <a:ext cx="2230560" cy="3012120"/>
            </a:xfrm>
            <a:prstGeom prst="rect">
              <a:avLst/>
            </a:prstGeom>
            <a:noFill/>
            <a:ln cap="sq"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7"/>
            <p:cNvSpPr/>
            <p:nvPr/>
          </p:nvSpPr>
          <p:spPr>
            <a:xfrm>
              <a:off x="3484800" y="46544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S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8"/>
            <p:cNvSpPr/>
            <p:nvPr/>
          </p:nvSpPr>
          <p:spPr>
            <a:xfrm>
              <a:off x="5661720" y="46944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6"/>
          <p:cNvGrpSpPr/>
          <p:nvPr/>
        </p:nvGrpSpPr>
        <p:grpSpPr>
          <a:xfrm>
            <a:off x="2188800" y="4653000"/>
            <a:ext cx="3346560" cy="398880"/>
            <a:chOff x="2188800" y="4653000"/>
            <a:chExt cx="3346560" cy="398880"/>
          </a:xfrm>
        </p:grpSpPr>
        <p:sp>
          <p:nvSpPr>
            <p:cNvPr id="851" name="Text Box 7"/>
            <p:cNvSpPr/>
            <p:nvPr/>
          </p:nvSpPr>
          <p:spPr>
            <a:xfrm>
              <a:off x="2188800" y="46530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S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7"/>
            <p:cNvSpPr/>
            <p:nvPr/>
          </p:nvSpPr>
          <p:spPr>
            <a:xfrm>
              <a:off x="4592520" y="46530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0000"/>
                  </a:solidFill>
                  <a:latin typeface="Verdana"/>
                </a:rPr>
                <a:t>WGDP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Straight Connector 3"/>
          <p:cNvSpPr/>
          <p:nvPr/>
        </p:nvSpPr>
        <p:spPr>
          <a:xfrm>
            <a:off x="2050920" y="4575240"/>
            <a:ext cx="129708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8"/>
          <p:cNvSpPr/>
          <p:nvPr/>
        </p:nvSpPr>
        <p:spPr>
          <a:xfrm flipV="1">
            <a:off x="3419640" y="4502160"/>
            <a:ext cx="107604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3"/>
          <p:cNvSpPr/>
          <p:nvPr/>
        </p:nvSpPr>
        <p:spPr>
          <a:xfrm>
            <a:off x="4500720" y="4575240"/>
            <a:ext cx="92052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18"/>
          <p:cNvSpPr/>
          <p:nvPr/>
        </p:nvSpPr>
        <p:spPr>
          <a:xfrm>
            <a:off x="5435640" y="4508640"/>
            <a:ext cx="1008000" cy="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Whither decadal pred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y groups/organization have interests in decadal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nels, WGs, foci, concept groups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eed consolidation - not di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uld carefully consider a </a:t>
            </a:r>
            <a:r>
              <a:rPr b="0" lang="en-CA" sz="3200" spc="-1" strike="noStrike">
                <a:solidFill>
                  <a:srgbClr val="006666"/>
                </a:solidFill>
                <a:latin typeface="Arial"/>
              </a:rPr>
              <a:t>W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er,George [CCCMA]</dc:creator>
  <dc:description/>
  <dc:language>en-US</dc:language>
  <cp:lastModifiedBy>Catherine Michaut</cp:lastModifiedBy>
  <dcterms:modified xsi:type="dcterms:W3CDTF">2015-10-01T07:51:48Z</dcterms:modified>
  <cp:revision>152</cp:revision>
  <dc:subject/>
  <dc:title>Decadal prediction</dc:title>
</cp:coreProperties>
</file>