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dt" idx="55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ftr" idx="56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 type="sldNum" idx="57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264D-6FD1-4F08-9425-BF44A5116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68A6-A376-4BBC-AC5F-D91DB1EA0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8626-90E5-4928-B5FD-2D72A2FE4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7F0-6AE3-4B1E-8E9C-ACBE786B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255-E11A-4116-97B2-2428DBE0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87156-2E7C-4C02-9A5D-6AA211A8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7CAB0-6EAD-478A-A15E-AEBB28DB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F43D1-0EC7-4E09-9CD5-89295208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261A5-5B2E-4BEB-A9E9-6147BA2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E9E8D-EE92-4637-8867-C236339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E7F46-4B19-41E9-A137-C9AF2E0C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655B1-9C07-4119-BFA2-12FC90A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EEF9D-E13A-46DF-B908-6204E971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9B1CE-2C75-4022-9ED5-E8E90374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5206D-959F-4496-9184-A1207526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341-8FF8-4E21-B880-D49FFCD0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8261B-E0F5-4D35-B136-110DDB58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2E08B-EA1D-4282-8A3F-58F64429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17488-9F88-4DB9-99AE-41041425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75506-53D7-4A75-8F7B-CEC0A258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58DFA-CEFC-459E-8C14-662C28EA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3C78C-C861-4443-A926-B1F7036D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E75A5-C363-4A5E-80BE-89ABB73C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EBD23-22E8-4C4A-8021-6326DE85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A0BC0-D750-4934-9FC5-60F475CD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6F1ED-7643-446F-9494-79A5BC22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478-43F6-4B65-846A-EDA17B4A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A96F7-2740-434A-85FB-BD1E124F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D0CE4-0313-4BF6-A526-92FC405E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D7370-1F9F-4555-ADCD-874AFB7E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49B45-3095-4F9F-9C7F-953347DA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5C058-4CED-42D1-BD89-9C485985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1B168-C7BE-47B1-94BB-4416BE57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15F40-D7F1-4D17-AF28-C1A089DB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0A657-069F-4BE6-98DF-093335F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9897D-4C36-4CC1-A4CC-F488B3B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89AF3-354B-49E6-8CB8-C4A96596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6E82-AB1F-41D8-BE29-F76A9F85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B6E75-9CB0-426E-81E5-11A2C4D9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4F243-3B5C-4AF6-83F1-A36BBEB7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CF6A9-994C-42A6-AA5C-5BCC8B95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FD044-7FC2-4BE9-9FF4-1A40E0E7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2F88B-8AA8-4D2B-AAF2-FF3510EF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8AD12-4E4B-448C-ACEA-97368890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CE76D-320E-4910-8B2E-BD353613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86508-F002-4D83-8A43-553986B1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18F67-507B-429A-8543-2ABD5A3E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985D4-A0C0-46AC-B9D7-04EF1A5B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474E-1BE9-4FD5-B534-1A7EDE82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0C5DA-EF1E-4D64-B0A3-9A551FF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36661-143F-45CD-B2D4-B3AB59F5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B2F51-3CE8-42E9-80FC-0A713DF2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19EA4-534A-473B-AB84-495BC93B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5400A-247A-49AD-8D71-9B0EACEF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E77AC-A41F-4908-BBC4-4EE4D4FB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523BB-A380-4DED-9AC1-924C5D9B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0504F-D567-405D-9D63-FB0783FF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62D6D-5812-4A42-81FF-91D0700A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E0D29-8D87-4CB0-8C88-94954AD5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85E6-C8D8-4FAC-8244-871AD3C3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F8302-A00E-4C94-9177-2A073E38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4E07A-D18B-4137-A921-816B9C56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D4BA2-DD4B-4E3B-9EF7-5B176FD8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9DB7E-2D8B-401A-8B91-43F42D5B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9E139-A6EA-42D8-A3E8-E8E90F53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9DD13-D863-44C0-8A5D-2AA5F82C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43A9A-6E7C-4F6D-994D-D9E00286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91C46-99BB-4DD0-9CA2-41A1F47F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45AD9-973E-4C1A-941E-C9EA9225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50128-D5BF-499B-AF45-E1D2CDA9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1278-02CF-4A6E-BC71-2453BA4C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409D1-F511-446B-ACFE-05AD8793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5EA3B-5DEF-418F-9874-2E66E1F1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C5857-E153-4861-9C40-BB4574A2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1E46F-039C-4A1C-B88B-C388079C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AF73D-AED8-4C1B-A59C-AEC63718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9705F-0D17-4534-9507-8A31CE6F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D78E4-F40D-4254-A02C-EC89B792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A8F5B-CC2D-4EC9-BAE5-0C3BEF20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BFC26-B5F8-451E-8FFF-28E3D468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98030-08AA-4996-BA88-E2894930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444F-46A0-484F-8091-B684CC40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5AFC3-2864-4BC4-8A79-64E8D3D2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0F1C0-C0BB-44C0-B034-A97AEB3E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BFBF9-56AD-43E7-AEE3-3841A93D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5BC9A-69E3-432D-B704-45A269C0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27CA7-3BDE-4A9B-8255-EC060D04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114C7-0BB6-4849-B015-5B47EF0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7A9B4-E8DB-4CED-BA85-36F25A0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48096-79EC-4972-90B6-EEAC53E1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1E493-330F-4C0E-A133-9032F168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A73D0-4620-44CC-9503-FA710E4A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864A-624E-4720-9184-89D14B2D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D3304-2A0B-443B-BC34-A7317718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B7EC67-661F-43EB-A535-A35D110C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95498-7073-4675-8C1C-FDC10B24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13643-46BA-4D14-B4D1-652F002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5CE254-9724-4DE5-ABFC-E8481B4A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E26E7-431C-48FC-88C1-E800DBE3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8C78DE-6096-42A7-B9EB-670509BA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612B4-0558-4299-8AB6-BE069861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1A3AD-DF2E-4781-A800-406C6B67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0FF7E-7820-4EB4-B3A4-C860E84A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AD92-879F-4D37-B022-38985DC9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93039-4C2D-4D00-88A4-1AB8CA3E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BE8FA-EF91-4210-A63D-2FAD6F53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1C83DE-AD4B-4944-9A5C-5DFB60AC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83D5E-A73A-4DEF-AC7B-720E4001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7B005-5C3B-4790-B9C2-CC2E397D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B1881C-3B72-4F15-83EF-A179E59C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D1D051-3E4B-40F4-B99C-EF5594E7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BFE15-7456-4BCB-8F16-942137C1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EC137-426D-441B-9D58-03CAFC44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A21C8-6AFF-4D15-90BA-A84D9338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028-9676-489A-9AE5-78D84F3D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9D72-4D57-4001-9FE7-A3BD8D54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060565-E319-4741-8F58-2FB2225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64B0E-64C5-4999-8086-A6EC6F78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4D125-D016-47C6-8973-D9FA0ECD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42053-447C-4E9C-A449-BAF422C7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2ADDD-6122-4E63-AFAC-BA745190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96E53-DB57-4A6A-97B4-9F75270B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EFA1D2-1081-4DF2-9421-1B2BB116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2354F-1986-441E-B25B-CE540C5E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6B31B-1FA8-461E-A7EC-12C9647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515F7-919C-4F89-89F6-35F41B58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7789-91D4-4A1C-B165-4A4CF93B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4029B-8EC2-4191-BA31-C7EF561A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35D25-206A-4D0E-9629-D3DDCD63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2D6B5-1DD5-4B5F-8CAE-CD9C5A06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91C81-85D9-439B-A896-14ACC1E5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14DF4F-A400-44F3-8C35-E5BAEA67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DC6F05-89E9-4927-97DB-0AF52C9C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F6A8C-9BB1-451D-83EC-6A4328BB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198F-D317-4B47-9A7E-84C4DBF2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29CB-7997-4E17-8C7F-65CD6EF3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C94F-A5BD-4BBD-813D-44D962EA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17AD-662B-43A6-BE54-67BEC639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84409-29D4-49A8-AD0E-A31761C4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E923-1913-4C47-BEC4-EE095CCF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C0DDD-1C9D-4AEE-9E3A-C2E089AF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5EC68-69E0-413C-BD9E-B974AC75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010-89B6-4698-ACE7-02057488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5510-AE61-42E0-85A7-5056F072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A8CE-0F88-49EE-BB71-A5792F77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15BE-B6F4-4259-907F-B57E7FF7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D9FD-E058-4DC1-8871-F5C23FFA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F9F0-4CD4-4972-84CE-839A8425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1088-125E-4765-8171-90B25193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56B8-D5B7-4593-8133-D5459138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82451-68B7-402D-8992-B22AC3EF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422CE-3AB0-4DD0-9CB9-EE823C07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2455-C98A-4A83-AF67-6C1CDA49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321-EF85-4CA8-A954-A62CFB27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32244-F50C-4B10-8680-9FCAE537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8A347-9321-4B70-B20C-B6F09D2C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59E02-9692-48D1-A1BF-EEB99D0A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C06F-502F-4B87-8516-92A0C0C3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35BD7-D73F-4EA9-87C1-BE5968E8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5D0A-785E-45F7-ADA8-0692C3F6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A4AB-DCBD-4D74-9EA8-8B756FE3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3B60-8219-49C9-994E-1D1DF00A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2967-450B-4480-9DC8-EBB919A1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62783-4DD2-4900-AF35-A6F60D7C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AB5-80FD-4318-BB89-966205D8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CCE59-B3C1-4B9C-B3A1-07162602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C4DD-31BE-4CA1-B497-0A8325A1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C925-0917-4654-9411-08AEC091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C01B3-E35F-45C5-933E-51B38D41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AB83E-32A8-4797-8BA9-5D992FDF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0F7C9-09CE-4CEB-811E-D8B49129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1D0CE-FEEA-4F9B-A495-2D0EFD3A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CC361-F866-4FA1-A8DB-C107C844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F122D-D11C-40A3-8AD6-4E5A77CB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A11A-ADA0-4435-8F6C-AB84BEF3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D26-4587-4155-AB90-1D89B639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CE9F3-3020-4D61-899F-A2F83D0C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4127-BC19-48BC-890F-54F651A7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C8DE-7D25-4119-BABB-7BE9B6D4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9309B-7EF8-45ED-B8C6-B9E1FFE4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7D936-44FC-43E7-9C87-4A277EF4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0278F-AD87-4B09-95E1-DD328A7D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3F26C-F2E7-48D7-A4FB-FA1DD3E5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01D9D-AD10-46A2-B414-1FDD4B2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FD54E-A6D8-4BAD-BCC1-8025541F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47CBC-1425-4DC8-9C5E-7209EA3E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F7E-00DF-464D-8F6C-6DDF114A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4008-1954-4808-AAD9-DFF35A98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E0719-F2AC-4D28-89C7-149EAC1A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38567-7D8F-41B1-93F1-DE1F77F4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FACE9-1063-478F-89D9-4E233762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FCE0A-A163-4930-838A-72FCEA13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283B2-04FF-4E04-8532-7A3108E0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40466-B207-4B36-818C-09F96B23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58F9-990D-409B-AAE9-4078EAB8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BF69A-916C-4C51-A002-87231D62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3FE54-19C6-4CA5-82EF-D192A1B0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5E4-BB5C-428E-A2E6-6827F55D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285F9-D081-465E-B388-5A5CA6F6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A6471-3F55-4F0E-8EBF-35B2495C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39952-9D22-4289-8946-78BB27FB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FAD13-3FED-45BC-91AC-A9F113DD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1233E-AF56-434A-A289-2E1212A3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D0DB8-27B9-4165-B089-D55B55BE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D2131-FB5A-411B-8920-AAFA6517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79BE1-4825-412B-9C85-016BBA55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270B6-8032-4E34-B092-5A18EEE8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255C4-5EED-4AF1-BBE7-4DF720BC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74A-7485-4BAC-8905-7696FA4F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2C520-3577-4534-8315-E5D62D3A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C41CD-53AA-43EF-AAF0-2F40971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5427C-734A-4224-9A70-3794602F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DA8B6-F40E-4B5C-8251-58B98DC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5DE7F-AA36-4410-ADA1-D297446E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9EE39-3EC6-448F-B69C-2FACEDD6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FFB3B-9AD3-45CF-8887-6264894E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6C91C-4741-435D-ADC1-E0C3F934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8CB46-324B-47B0-B79E-04AEF445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F109D-825D-46B9-BF09-30B1B3F9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BD4-2C7F-4F3B-97A7-ADB36A69EEBE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DE16-670F-4D76-9339-8635688A2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1A52-AE9F-4713-9951-8BF4848F3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F9DD-B7F5-4D19-B1B0-349FF9C17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3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6AAD-0362-41EC-8F69-06F8FE89B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C89A-FEE6-4B61-9BB8-C616216E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2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E044-ADFC-41A9-A91D-E692354F9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7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C631-5881-46AD-9F37-ACF16374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1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F206-D9E8-4CEE-8E73-0F482363B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6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1BD2-D026-4C8C-82D0-C78C76145C64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05A1-F89E-42E7-BB3F-488D4D17C314}" type="slidenum">
              <a:rPr b="0" lang="en-C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5CBE-A249-4377-AE40-C939C9A061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2444-C392-45B4-AA8C-8F38C75FAC82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12F9-B253-4368-B738-1180410D8EC4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0D0C-6843-46D4-ABB4-1763E1C16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6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914D-8749-488F-88B5-015C0CC69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235D-F4F5-45B1-94DE-86E33B62A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9A48-B953-4910-BB5B-24C33B8E0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5557680" cy="4491360"/>
          </a:xfrm>
          <a:prstGeom prst="rect">
            <a:avLst/>
          </a:prstGeom>
          <a:ln w="0">
            <a:noFill/>
          </a:ln>
        </p:spPr>
      </p:pic>
      <p:sp>
        <p:nvSpPr>
          <p:cNvPr id="815" name="TextBox 1"/>
          <p:cNvSpPr/>
          <p:nvPr/>
        </p:nvSpPr>
        <p:spPr>
          <a:xfrm>
            <a:off x="1288800" y="529596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Do we hav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Decadal Prediction Vi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9"/>
          <p:cNvSpPr/>
          <p:nvPr/>
        </p:nvSpPr>
        <p:spPr>
          <a:xfrm>
            <a:off x="7383600" y="39546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LI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Isosceles Triangle 2"/>
          <p:cNvSpPr/>
          <p:nvPr/>
        </p:nvSpPr>
        <p:spPr>
          <a:xfrm>
            <a:off x="1400040" y="3517920"/>
            <a:ext cx="1995480" cy="1633680"/>
          </a:xfrm>
          <a:prstGeom prst="triangle">
            <a:avLst>
              <a:gd name="adj" fmla="val 50000"/>
            </a:avLst>
          </a:prstGeom>
          <a:solidFill>
            <a:srgbClr val="ffff00">
              <a:alpha val="21000"/>
            </a:srgbClr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755640" y="259920"/>
            <a:ext cx="7848720" cy="28083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6666"/>
                </a:solidFill>
                <a:latin typeface="Verdana"/>
              </a:rPr>
              <a:t>Decadal prediction inter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WGS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Verdana"/>
              </a:rPr>
              <a:t>seasonal to decadal predic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WGC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Verdana"/>
              </a:rPr>
              <a:t>climate</a:t>
            </a:r>
            <a:r>
              <a:rPr b="1" lang="en-CA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Verdana"/>
              </a:rPr>
              <a:t>chang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CM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Verdana"/>
              </a:rPr>
              <a:t>MIPS and WIP Panel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CLIV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Verdana"/>
              </a:rPr>
              <a:t>decadal variability and predictability </a:t>
            </a:r>
            <a:r>
              <a:rPr b="0" i="1" lang="en-CA" sz="1500" spc="-1" strike="noStrike">
                <a:solidFill>
                  <a:srgbClr val="006666"/>
                </a:solidFill>
                <a:latin typeface="Verdana"/>
              </a:rPr>
              <a:t>focu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Verdana"/>
              </a:rPr>
              <a:t>Grand Challenge </a:t>
            </a:r>
            <a:r>
              <a:rPr b="0" i="1" lang="en-CA" sz="1700" spc="-1" strike="noStrike">
                <a:solidFill>
                  <a:srgbClr val="000000"/>
                </a:solidFill>
                <a:latin typeface="Verdana"/>
              </a:rPr>
              <a:t>“concept” </a:t>
            </a:r>
            <a:r>
              <a:rPr b="0" lang="en-CA" sz="17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develop concept then …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TextBox 1"/>
          <p:cNvSpPr/>
          <p:nvPr/>
        </p:nvSpPr>
        <p:spPr>
          <a:xfrm>
            <a:off x="4835160" y="428796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Gr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"/>
          <p:cNvSpPr/>
          <p:nvPr/>
        </p:nvSpPr>
        <p:spPr>
          <a:xfrm>
            <a:off x="6562800" y="3141720"/>
            <a:ext cx="1825560" cy="1423800"/>
          </a:xfrm>
          <a:prstGeom prst="ellipse">
            <a:avLst/>
          </a:prstGeom>
          <a:solidFill>
            <a:srgbClr val="def3f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8"/>
          <p:cNvSpPr/>
          <p:nvPr/>
        </p:nvSpPr>
        <p:spPr>
          <a:xfrm>
            <a:off x="2016360" y="428796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G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ounded Rectangle 6"/>
          <p:cNvSpPr/>
          <p:nvPr/>
        </p:nvSpPr>
        <p:spPr>
          <a:xfrm>
            <a:off x="3436920" y="3268800"/>
            <a:ext cx="1994040" cy="1377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8"/>
          <p:cNvSpPr/>
          <p:nvPr/>
        </p:nvSpPr>
        <p:spPr>
          <a:xfrm>
            <a:off x="5076720" y="4151160"/>
            <a:ext cx="1943280" cy="176400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5"/>
          <p:cNvSpPr/>
          <p:nvPr/>
        </p:nvSpPr>
        <p:spPr>
          <a:xfrm>
            <a:off x="2556000" y="3952800"/>
            <a:ext cx="2376360" cy="2232000"/>
          </a:xfrm>
          <a:prstGeom prst="ellipse">
            <a:avLst/>
          </a:prstGeom>
          <a:solidFill>
            <a:srgbClr val="adffff"/>
          </a:solidFill>
          <a:ln cap="sq" w="12600">
            <a:solidFill>
              <a:srgbClr val="000000">
                <a:alpha val="76000"/>
              </a:srgbClr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3355920" y="499896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GS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9"/>
          <p:cNvSpPr/>
          <p:nvPr/>
        </p:nvSpPr>
        <p:spPr>
          <a:xfrm>
            <a:off x="7234200" y="34639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I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0"/>
          <p:cNvSpPr/>
          <p:nvPr/>
        </p:nvSpPr>
        <p:spPr>
          <a:xfrm>
            <a:off x="4277160" y="3624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M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1"/>
          <p:cNvSpPr/>
          <p:nvPr/>
        </p:nvSpPr>
        <p:spPr>
          <a:xfrm>
            <a:off x="5367600" y="506880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Gr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A curious co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Content Placeholder 6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676760" cy="3960720"/>
          </a:xfrm>
          <a:prstGeom prst="rect">
            <a:avLst/>
          </a:prstGeom>
          <a:ln w="0">
            <a:noFill/>
          </a:ln>
        </p:spPr>
      </p:pic>
      <p:pic>
        <p:nvPicPr>
          <p:cNvPr id="832" name="Content Placeholder 7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556080" cy="4186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8"/>
          <p:cNvSpPr/>
          <p:nvPr/>
        </p:nvSpPr>
        <p:spPr>
          <a:xfrm>
            <a:off x="2921400" y="5664240"/>
            <a:ext cx="30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50% of membership in 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DVCP co-chairs on DCPP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DCPP co-chairs not on DVCP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"/>
          <p:cNvSpPr/>
          <p:nvPr/>
        </p:nvSpPr>
        <p:spPr>
          <a:xfrm>
            <a:off x="6375600" y="125748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6666"/>
                </a:solidFill>
                <a:latin typeface="Arial"/>
                <a:ea typeface="Arial"/>
              </a:rPr>
              <a:t>DCVP “Working Group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Diagram 4" descr=""/>
          <p:cNvPicPr/>
          <p:nvPr/>
        </p:nvPicPr>
        <p:blipFill>
          <a:blip r:embed="rId1"/>
          <a:stretch/>
        </p:blipFill>
        <p:spPr>
          <a:xfrm>
            <a:off x="2341440" y="3402000"/>
            <a:ext cx="4424400" cy="293220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755640" y="259920"/>
            <a:ext cx="7848720" cy="28083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6666"/>
                </a:solidFill>
                <a:latin typeface="Verdana"/>
              </a:rPr>
              <a:t>DCPP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1800" spc="-1" strike="noStrike">
                <a:solidFill>
                  <a:srgbClr val="006666"/>
                </a:solidFill>
                <a:latin typeface="Verdana"/>
              </a:rPr>
              <a:t>Panel 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has representatives fro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Verdana"/>
              </a:rPr>
              <a:t>WGS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seasonal to decadal predi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Verdana"/>
              </a:rPr>
              <a:t>WGCM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including members of CMIP and WIP Pane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CM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including WIP Pane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Verdana"/>
              </a:rPr>
              <a:t>CLIVAR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decadal variability and predictability </a:t>
            </a:r>
            <a:r>
              <a:rPr b="0" i="1" lang="en-CA" sz="1200" spc="-1" strike="noStrike">
                <a:solidFill>
                  <a:srgbClr val="006666"/>
                </a:solidFill>
                <a:latin typeface="Verdana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has apparently become the decadal climate variability and predictability </a:t>
            </a:r>
            <a:r>
              <a:rPr b="0" lang="en-CA" sz="1200" spc="-1" strike="noStrike">
                <a:solidFill>
                  <a:srgbClr val="006666"/>
                </a:solidFill>
                <a:latin typeface="Verdana"/>
              </a:rPr>
              <a:t>(DCVP) </a:t>
            </a:r>
            <a:r>
              <a:rPr b="0" i="1" lang="en-CA" sz="1200" spc="-1" strike="noStrike">
                <a:solidFill>
                  <a:srgbClr val="006666"/>
                </a:solidFill>
                <a:latin typeface="Verdana"/>
              </a:rPr>
              <a:t>focus (Working Group?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6666"/>
                </a:solidFill>
                <a:latin typeface="Verdana"/>
              </a:rPr>
              <a:t>50% of members from DCPP including co-ch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Verdana"/>
              </a:rPr>
              <a:t>Grand Challenge “concept” gro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Box 3"/>
          <p:cNvSpPr/>
          <p:nvPr/>
        </p:nvSpPr>
        <p:spPr>
          <a:xfrm>
            <a:off x="4215600" y="454644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6666"/>
                </a:solidFill>
                <a:latin typeface="Arial"/>
              </a:rPr>
              <a:t>D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6666"/>
                </a:solidFill>
                <a:latin typeface="Arial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6"/>
          <p:cNvGrpSpPr/>
          <p:nvPr/>
        </p:nvGrpSpPr>
        <p:grpSpPr>
          <a:xfrm>
            <a:off x="2411280" y="1515960"/>
            <a:ext cx="4416480" cy="3929040"/>
            <a:chOff x="2411280" y="1515960"/>
            <a:chExt cx="4416480" cy="3929040"/>
          </a:xfrm>
        </p:grpSpPr>
        <p:pic>
          <p:nvPicPr>
            <p:cNvPr id="839" name="Diagram 4" descr=""/>
            <p:cNvPicPr/>
            <p:nvPr/>
          </p:nvPicPr>
          <p:blipFill>
            <a:blip r:embed="rId1"/>
            <a:stretch/>
          </p:blipFill>
          <p:spPr>
            <a:xfrm>
              <a:off x="2411280" y="1645200"/>
              <a:ext cx="4416480" cy="32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Oval 1"/>
            <p:cNvSpPr/>
            <p:nvPr/>
          </p:nvSpPr>
          <p:spPr>
            <a:xfrm>
              <a:off x="2552040" y="1515960"/>
              <a:ext cx="3952440" cy="3929040"/>
            </a:xfrm>
            <a:prstGeom prst="ellipse">
              <a:avLst/>
            </a:prstGeom>
            <a:noFill/>
            <a:ln cap="sq"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TextBox 8"/>
          <p:cNvSpPr/>
          <p:nvPr/>
        </p:nvSpPr>
        <p:spPr>
          <a:xfrm>
            <a:off x="727560" y="682560"/>
            <a:ext cx="77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n we </a:t>
            </a:r>
            <a:r>
              <a:rPr b="0" i="1" lang="en-CA" sz="2400" spc="-1" strike="noStrike">
                <a:solidFill>
                  <a:srgbClr val="006666"/>
                </a:solidFill>
                <a:latin typeface="Arial"/>
              </a:rPr>
              <a:t>unif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several the interests in decadal prediction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50880" y="188640"/>
            <a:ext cx="78883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Where does a decadal prediction f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3" name="Text Box 12"/>
          <p:cNvSpPr/>
          <p:nvPr/>
        </p:nvSpPr>
        <p:spPr>
          <a:xfrm>
            <a:off x="1258920" y="5229360"/>
            <a:ext cx="72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cadal predi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annual, multi-annual, up to a dec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itializ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forecasts of both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forc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ternally generat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mponents of var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"/>
          <p:cNvGrpSpPr/>
          <p:nvPr/>
        </p:nvGrpSpPr>
        <p:grpSpPr>
          <a:xfrm>
            <a:off x="1387440" y="1125360"/>
            <a:ext cx="6218280" cy="3967920"/>
            <a:chOff x="1387440" y="1125360"/>
            <a:chExt cx="6218280" cy="3967920"/>
          </a:xfrm>
        </p:grpSpPr>
        <p:pic>
          <p:nvPicPr>
            <p:cNvPr id="845" name="Picture 4" descr="Fig11"/>
            <p:cNvPicPr/>
            <p:nvPr/>
          </p:nvPicPr>
          <p:blipFill>
            <a:blip r:embed="rId1"/>
            <a:srcRect l="0" t="16318" r="0" b="17011"/>
            <a:stretch/>
          </p:blipFill>
          <p:spPr>
            <a:xfrm>
              <a:off x="1387440" y="1125360"/>
              <a:ext cx="6218280" cy="29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Line 5"/>
            <p:cNvSpPr/>
            <p:nvPr/>
          </p:nvSpPr>
          <p:spPr>
            <a:xfrm flipV="1">
              <a:off x="3752640" y="1541520"/>
              <a:ext cx="0" cy="1767240"/>
            </a:xfrm>
            <a:prstGeom prst="line">
              <a:avLst/>
            </a:prstGeom>
            <a:ln w="1908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6"/>
            <p:cNvSpPr/>
            <p:nvPr/>
          </p:nvSpPr>
          <p:spPr>
            <a:xfrm>
              <a:off x="3549960" y="1345320"/>
              <a:ext cx="2230560" cy="3012120"/>
            </a:xfrm>
            <a:prstGeom prst="rect">
              <a:avLst/>
            </a:prstGeom>
            <a:noFill/>
            <a:ln cap="sq"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7"/>
            <p:cNvSpPr/>
            <p:nvPr/>
          </p:nvSpPr>
          <p:spPr>
            <a:xfrm>
              <a:off x="3484800" y="46544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S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8"/>
            <p:cNvSpPr/>
            <p:nvPr/>
          </p:nvSpPr>
          <p:spPr>
            <a:xfrm>
              <a:off x="5661720" y="46944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6"/>
          <p:cNvGrpSpPr/>
          <p:nvPr/>
        </p:nvGrpSpPr>
        <p:grpSpPr>
          <a:xfrm>
            <a:off x="2188800" y="4653000"/>
            <a:ext cx="3346560" cy="398880"/>
            <a:chOff x="2188800" y="4653000"/>
            <a:chExt cx="3346560" cy="398880"/>
          </a:xfrm>
        </p:grpSpPr>
        <p:sp>
          <p:nvSpPr>
            <p:cNvPr id="851" name="Text Box 7"/>
            <p:cNvSpPr/>
            <p:nvPr/>
          </p:nvSpPr>
          <p:spPr>
            <a:xfrm>
              <a:off x="2188800" y="46530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S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7"/>
            <p:cNvSpPr/>
            <p:nvPr/>
          </p:nvSpPr>
          <p:spPr>
            <a:xfrm>
              <a:off x="4592520" y="46530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0000"/>
                  </a:solidFill>
                  <a:latin typeface="Verdana"/>
                </a:rPr>
                <a:t>WGDP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Straight Connector 3"/>
          <p:cNvSpPr/>
          <p:nvPr/>
        </p:nvSpPr>
        <p:spPr>
          <a:xfrm>
            <a:off x="2050920" y="4575240"/>
            <a:ext cx="129708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8"/>
          <p:cNvSpPr/>
          <p:nvPr/>
        </p:nvSpPr>
        <p:spPr>
          <a:xfrm flipV="1">
            <a:off x="3419640" y="4502160"/>
            <a:ext cx="107604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3"/>
          <p:cNvSpPr/>
          <p:nvPr/>
        </p:nvSpPr>
        <p:spPr>
          <a:xfrm>
            <a:off x="4500720" y="4575240"/>
            <a:ext cx="92052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18"/>
          <p:cNvSpPr/>
          <p:nvPr/>
        </p:nvSpPr>
        <p:spPr>
          <a:xfrm>
            <a:off x="5435640" y="4508640"/>
            <a:ext cx="1008000" cy="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Whither decadal pred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y groups/organization have interests in decadal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nels, WGs, foci, concept groups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eed consolidation - not di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uld carefully consider a </a:t>
            </a:r>
            <a:r>
              <a:rPr b="0" lang="en-CA" sz="3200" spc="-1" strike="noStrike">
                <a:solidFill>
                  <a:srgbClr val="006666"/>
                </a:solidFill>
                <a:latin typeface="Arial"/>
              </a:rPr>
              <a:t>W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er,George [CCCMA]</dc:creator>
  <dc:description/>
  <dc:language>en-US</dc:language>
  <cp:lastModifiedBy>Catherine Michaut</cp:lastModifiedBy>
  <dcterms:modified xsi:type="dcterms:W3CDTF">2015-10-01T07:51:48Z</dcterms:modified>
  <cp:revision>152</cp:revision>
  <dc:subject/>
  <dc:title>Decadal prediction</dc:title>
</cp:coreProperties>
</file>