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14F-C237-4619-A30E-9F2CC65A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9AF-35D2-478E-B5AF-DF00A2DE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9C8-ADEC-4374-A716-A115367E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D6F-E1F5-4F21-A5B1-AA74BB19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CF1-5863-44EA-978D-EA3888C2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854-6568-4D57-A751-0BEC3BD8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CFC-0896-44B8-836F-BF75718A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C76-49D2-4AE8-95EA-DAA3C709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68A-0152-4B46-890D-FCA21A7A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ACD-D6C0-4480-A679-5F273843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383-5EA7-4192-95E9-45A2F85A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C5B-AB50-4E7F-A099-0431089C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6A66-4DBF-4DDF-B780-C61A82DAC8A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00A4-F8DD-4B7D-9618-1E372F7514D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 of WGSIP16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oint WGSIP16/ ET-OPSLS 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eck what verification of real-time forecast issued by RCOFs has been done (Richard Graham, Andrew Roberts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ite WGSIP (and maybe S2S) to attend RCOFS workshops (annually or every 2 years) (Rupa Kumar Kolli, Michel Rixen, summer 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k which new groups can contribute to CHFP (Celeste Saulo, Francisco Doblas-Reyes, Adam Scaif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Beijing, Peiqun Zh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CPTEC, Caio Coel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Moscow, Mikhail Tolstyk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MA/MRI (add new ver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NU/Korea, Jee-Hoon Je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Pretoria, Asmerom Bera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PC Seoul, Suhee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k which GPCs can send more daily data (to study monsoon onset) and sea-ice variables (for the Polar Prediction Project) (Celeste Saul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F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6840" y="1268280"/>
            <a:ext cx="901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MWF to send ENSEMBLES data, check with Andy Brady (Laura Ferranti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eck which version of CFS is already uploaded and which one comes with NMME (Celeste Saul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the CHFP the year when the simulation set was created (Celeste Saulo with help of a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 information about each simulation (10 lines) and initialization method (burst or lagged) (Celeste to send a message with help of all contributors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ize CHFP in GFCS and Future Earth newsletters (Michel Rixen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ign a WGSIP poster (Andrew Robertson, Celeste Saulo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courage ET-OPSLS GPC to submit hindcast data for RCOF process (Adam Scaife, Richard Graham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hange name JMA/MRI CGM3 into JMA/MRI CGM (Celeste Saulo, Tamaki Yasuda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lag ENSEMBLES models in database as done for high/low top models (Celeste Saulo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d CHFP format specifications to Matt Palmer for potential storage of ORA-IP in CHFP (Celeste Saulo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d SPECS sample files to IRI to check if they are readable with the CPT (Francisco Doblas-Reyes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uture Earth funding for reformatting the CHFP data server to comply with IRI data library (Andrew Robertson, summer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Nature Data paper (Adrian Tompkins, to inform in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ntact PREFACE EU project to encourage use of CHFP for tropical Atlantic (Yvan Orsolini, April 201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MIP and ESG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sult with all WGSIP members to provide feedback to Veronica on CMIP new structure (cf EOS paper) (George Boer and WGSIP co-chairs, summer 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blicize Decadal Forecast Exchange within WGSIP (Adam Scaif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k feedback from PCMDI on CMOR2 (Francisco Doblas-Reyes, Michel  Rixen, April 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science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sure the coherence between the science projects and the S2S activities (Adam Scaife, Francisco Doblas-Reyes, summer 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NOWGlace: Jee-Hoon Jeong (co-lead), YvanOrsolini (co-lead), Hervé Douvi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/teleconnection between tropics and extratropics: Laura Ferranti (co-lead), Hervé Douville (co-lead), Adam Scaife, Swadhin Behara, Francisco Doblas-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odel drift/initial shock and verification within the first month: Mikhail Tolstykh (lead atmosphere), Bill Merryfield (lead ocean), Adam Scaife, Tamaki Yasuda, Francisco Doblas-R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kill of monsoon (including intraseasonal variability and monsoon onset, in collaboration with S2S): CLIVAR monsoon panel (Anna Pirani to follow-up), Adrian Tompkins, Yvan Orsolini, Ousmane Ndiay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cean diagnostics (e.g. high resolution issues, surface fluxes, issues related to ocean syntheses, studies in support of the observing system): Swadhin Beh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imate services: Adrian (malaria), Andrew Robertson (Africa project, GFCS, RCOFs), Swadhin Behara, Ousmane Ndiay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O and other bus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a protocol for ocean data withholding experiments on TAO array (Arun Kumar, May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CPP meeting funding (George Boer, Michel Rix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xt meeting Doodle poll (Michel Rix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sed mission and name for WGS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GSIP and D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WMAC4 report (bottom of page 10, http://www.wcrp-climate.org/WMAC-4/documents/WMAC4_report.pd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Adam suggested shorter presentations at the JSC (e.g. 10 mins) with more time for discussion, a possible merge of WGOMD and WGNE, and an evolution of WGSIP into something like a “Working Group on Initialized Prediction” or “Working Group on Seasonal - to Decadal Predictions”. He acknowledged the value of putting people from different fields togethe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the last conference cal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MAC suggestion to explore ways to blend WGSIP and DCPP groups with a revised scope and a new acronym, around a general theme of ‘Climate Predictions’. A proposal needs to be presented at the next JSC.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WGSIP and DCPP merge into a new entit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es, what should be the terms, membership and name of this new grou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would be the role of the new grand challenge in the situation of WGSIP and DC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2T15:57:15Z</dcterms:created>
  <dc:creator>bscuser</dc:creator>
  <dc:description/>
  <dc:language>en-US</dc:language>
  <cp:lastModifiedBy>Catherine Michaut</cp:lastModifiedBy>
  <dcterms:modified xsi:type="dcterms:W3CDTF">2015-10-01T09:04:00Z</dcterms:modified>
  <cp:revision>17</cp:revision>
  <dc:subject/>
  <dc:title>Review of WGSIP16 actions</dc:title>
</cp:coreProperties>
</file>