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1C3-DAF4-4126-BBCE-CB3E8F9A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1DE-AAF8-4166-B00B-E0D7524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3D6-D06C-4CCF-A83C-732AC4DE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A87-C6CE-41D0-92EF-36B31CB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16A-FAF7-4D40-B22A-85825D70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4C7-823E-4B8B-9A9B-D5F5BB5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C4D-90A2-4971-91CD-01759E3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6CF-E9F8-494A-95C6-C078BC3D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B8B-0493-4B97-A819-3ED5A3C1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03F-3D62-42A3-AC59-BFF7D42E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6E2-7FC0-4A59-8EE7-32EEC07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F80-9836-4457-9DFF-10991B5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AD97-8A73-4A2D-9C8D-718DA6BFB52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9F70-8854-44A9-ACFF-869D19679AC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 of WGSIP16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oint WGSIP16/ ET-OPSLS 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 what verification of real-time forecast issued by RCOFs has been done (Richard Graham, Andrew Robert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ite WGSIP (and maybe S2S) to attend RCOFS workshops (annually or every 2 years) (Rupa Kumar Kolli, Michel Rixen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 which new groups can contribute to CHFP (Celeste Saulo, Francisco Doblas-Reyes, Adam Scaif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Beijing, Peiqun Zh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CPTEC, Caio Coel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Moscow, Mikhail Tolstyk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MA/MRI (add new ver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NU/Korea, Jee-Hoon Je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Pretoria, Asmerom Ber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Seoul, Suhe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 which GPCs can send more daily data (to study monsoon onset) and sea-ice variables (for the Polar Prediction Project) (Celeste Saul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F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6840" y="1268280"/>
            <a:ext cx="901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MWF to send ENSEMBLES data, check with Andy Brady (Laura Ferranti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ck which version of CFS is already uploaded and which one comes with NMME (Celeste Sau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the CHFP the year when the simulation set was created (Celeste Saulo with help of 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information about each simulation (10 lines) and initialization method (burst or lagged) (Celeste to send a message with help of all contributors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ize CHFP in GFCS and Future Earth newsletters (Michel Rixen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 a WGSIP poster (Andrew Robertson, Celeste Saulo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courage ET-OPSLS GPC to submit hindcast data for RCOF process (Adam Scaife, Richard Graham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ange name JMA/MRI CGM3 into JMA/MRI CGM (Celeste Saulo, Tamaki Yasuda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lag ENSEMBLES models in database as done for high/low top models (Celeste Saulo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d CHFP format specifications to Matt Palmer for potential storage of ORA-IP in CHFP (Celeste Saulo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d SPECS sample files to IRI to check if they are readable with the CPT (Francisco Doblas-Reyes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uture Earth funding for reformatting the CHFP data server to comply with IRI data library (Andrew Robertson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Nature Data paper (Adrian Tompkins, to inform in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act PREFACE EU project to encourage use of CHFP for tropical Atlantic (Yvan Orsolini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MIP and ESG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ult with all WGSIP members to provide feedback to Veronica on CMIP new structure (cf EOS paper) (George Boer and WGSIP co-chairs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blicize Decadal Forecast Exchange within WGSIP (Adam Scaif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k feedback from PCMDI on CMOR2 (Francisco Doblas-Reyes, Michel  Rixen, April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science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sure the coherence between the science projects and the S2S activities (Adam Scaife, Francisco Doblas-Reyes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NOWGlace: Jee-Hoon Jeong (co-lead), YvanOrsolini (co-lead), Hervé Douv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/teleconnection between tropics and extratropics: Laura Ferranti (co-lead), Hervé Douville (co-lead), Adam Scaife, Swadhin Behara, Francisco Doblas-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del drift/initial shock and verification within the first month: Mikhail Tolstykh (lead atmosphere), Bill Merryfield (lead ocean), Adam Scaife, Tamaki Yasuda, Francisco Doblas-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kill of monsoon (including intraseasonal variability and monsoon onset, in collaboration with S2S): CLIVAR monsoon panel (Anna Pirani to follow-up), Adrian Tompkins, Yvan Orsolini, Ousmane Ndia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cean diagnostics (e.g. high resolution issues, surface fluxes, issues related to ocean syntheses, studies in support of the observing system): Swadhin Beh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mate services: Adrian (malaria), Andrew Robertson (Africa project, GFCS, RCOFs), Swadhin Behara, Ousmane Ndia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O and other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a protocol for ocean data withholding experiments on TAO array (Arun Kumar, May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PP meeting funding (George Boer, Michel Rix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 meeting Doodle poll (Michel Rix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sed mission and name for WGS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GSIP and D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WMAC4 report (bottom of page 10, http://www.wcrp-climate.org/WMAC-4/documents/WMAC4_report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Adam suggested shorter presentations at the JSC (e.g. 10 mins) with more time for discussion, a possible merge of WGOMD and WGNE, and an evolution of WGSIP into something like a “Working Group on Initialized Prediction” or “Working Group on Seasonal - to Decadal Predictions”. He acknowledged the value of putting people from different fields togethe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e last conference cal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MAC suggestion to explore ways to blend WGSIP and DCPP groups with a revised scope and a new acronym, around a general theme of ‘Climate Predictions’. A proposal needs to be presented at the next JSC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WGSIP and DCPP merge into a new entit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es, what should be the terms, membership and name of this new grou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would be the role of the new grand challenge in the situation of WGSIP and DC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15:57:15Z</dcterms:created>
  <dc:creator>bscuser</dc:creator>
  <dc:description/>
  <dc:language>en-US</dc:language>
  <cp:lastModifiedBy>Catherine Michaut</cp:lastModifiedBy>
  <dcterms:modified xsi:type="dcterms:W3CDTF">2015-10-01T09:04:00Z</dcterms:modified>
  <cp:revision>17</cp:revision>
  <dc:subject/>
  <dc:title>Review of WGSIP16 actions</dc:title>
</cp:coreProperties>
</file>