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9364-B4A9-4940-A1BC-CA3E95DB3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3E90-C1DB-45D4-B6CC-EB7F39D5C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FDED-C40C-445A-86C0-002E2C151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83AA-DB7B-49B5-9DDB-2150FFFD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5335-F64F-4027-8C09-4DECB1FB1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193F-CB12-44D5-A09C-9FD3049A5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FADE-BF45-4FA8-BD6E-60AD7493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C764-4F7D-444F-B7BE-780E6B93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BB18-34CC-4AE3-A8EF-C8F2E46D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2A50-B26D-4AD1-8551-4DEA7BE3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02AA-BA47-4372-B497-83953CA8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75E3-1FBD-40EA-8E7D-F3CDE9B7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3D7E-A35E-4589-9C10-16E7B45B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19EB-CF16-4CC4-AE6D-F7F6FBD6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0152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0152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0152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2560" y="6095520"/>
            <a:ext cx="3276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877840" y="647676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14B3-C6DA-43E8-A44E-0CF69B22A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be0e3"/>
              </a:solidFill>
              <a:latin typeface="Arial"/>
            </a:endParaRPr>
          </a:p>
        </p:txBody>
      </p:sp>
      <p:pic>
        <p:nvPicPr>
          <p:cNvPr id="5" name="Picture 9" descr="lower_banner"/>
          <p:cNvPicPr/>
          <p:nvPr/>
        </p:nvPicPr>
        <p:blipFill>
          <a:blip r:embed="rId2"/>
          <a:stretch/>
        </p:blipFill>
        <p:spPr>
          <a:xfrm>
            <a:off x="0" y="6229440"/>
            <a:ext cx="9144000" cy="6285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upper_banner"/>
          <p:cNvPicPr/>
          <p:nvPr/>
        </p:nvPicPr>
        <p:blipFill>
          <a:blip r:embed="rId3"/>
          <a:stretch/>
        </p:blipFill>
        <p:spPr>
          <a:xfrm>
            <a:off x="0" y="0"/>
            <a:ext cx="9144000" cy="938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321264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468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CRP JPS update</a:t>
            </a:r>
            <a:br>
              <a:rPr sz="4800"/>
            </a:br>
            <a:br>
              <a:rPr sz="48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GSIP17, Sept 13-14, 2015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MHI, Sweden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. Rix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115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JPS Sta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0920" y="112500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vid Carlson, D/WC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am Lee, Senior Scientific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ke Sparrow, Senior Scientific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efa Potter, Administrative Assi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thias Tuma, Junior Profes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pepi.jpg"/>
          <p:cNvPicPr/>
          <p:nvPr/>
        </p:nvPicPr>
        <p:blipFill>
          <a:blip r:embed="rId1"/>
          <a:stretch/>
        </p:blipFill>
        <p:spPr>
          <a:xfrm>
            <a:off x="7236000" y="4941720"/>
            <a:ext cx="1187280" cy="1543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Carlson_small.jpg"/>
          <p:cNvPicPr/>
          <p:nvPr/>
        </p:nvPicPr>
        <p:blipFill>
          <a:blip r:embed="rId2"/>
          <a:stretch/>
        </p:blipFill>
        <p:spPr>
          <a:xfrm>
            <a:off x="5724360" y="1052640"/>
            <a:ext cx="1254240" cy="1384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boram_lee.jpg"/>
          <p:cNvPicPr/>
          <p:nvPr/>
        </p:nvPicPr>
        <p:blipFill>
          <a:blip r:embed="rId3"/>
          <a:stretch/>
        </p:blipFill>
        <p:spPr>
          <a:xfrm>
            <a:off x="7164360" y="1897200"/>
            <a:ext cx="1327320" cy="1460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Mike_Sparrow.jpg"/>
          <p:cNvPicPr/>
          <p:nvPr/>
        </p:nvPicPr>
        <p:blipFill>
          <a:blip r:embed="rId4"/>
          <a:stretch/>
        </p:blipFill>
        <p:spPr>
          <a:xfrm>
            <a:off x="7020000" y="3489480"/>
            <a:ext cx="138564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5280" y="2057040"/>
            <a:ext cx="8424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e WMO and IOC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sing ICSU con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ing national con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ing pressure on current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pportunities: GFCS, Future Earth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be a new business model in the near fu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nd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95280" y="2346480"/>
            <a:ext cx="83534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nal Climate Information: cancelled/on hold until clearer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r Term Prediction: new, being develop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M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23640" y="2057040"/>
            <a:ext cx="8569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CRP-WWRP International Model Development Pr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Development Summer School – MPI 2015, nex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se CMIP – WGSIP initial shocks/drift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t WGs session in 2017 (“Model Olympics”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D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4920" y="2057040"/>
            <a:ext cx="84978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4MIPs, ana4MIPs, open data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data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set qualit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WCRP-GCOS International Data Pr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 System Reanalysis, Reanalysis Task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x Task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y personal selection of)</a:t>
            </a:r>
            <a:br>
              <a:rPr sz="28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orities for WGSIP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50560" y="2346480"/>
            <a:ext cx="8785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progress on sub-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ore synergies with WMO commissions and C3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peration with S2S and P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GF and CHF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GSIP/DCPP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y building, training, summer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st but not le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220356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GSIP17 report: thanks for preparing small summaries (1/2 page) of all presen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thanks to SMHI and staff support for hosting the meeting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1T15:23:54Z</dcterms:created>
  <dc:creator>Microsoft Office User</dc:creator>
  <dc:description/>
  <dc:language>en-US</dc:language>
  <cp:lastModifiedBy>Michel Rixen</cp:lastModifiedBy>
  <cp:lastPrinted>2008-10-29T15:33:33Z</cp:lastPrinted>
  <dcterms:modified xsi:type="dcterms:W3CDTF">2015-09-13T09:25:48Z</dcterms:modified>
  <cp:revision>20</cp:revision>
  <dc:subject/>
  <dc:title>WCRP  Data Advisory Council  July 2-3, 2015 Overview</dc:title>
</cp:coreProperties>
</file>