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9F0315-8534-45BC-9F10-22A243F3E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0FC5DB-6CF0-4EF0-92B3-8E960BCB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0A0-DBF9-48B9-BF90-5439BE11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C5D-130D-450F-8863-813FD12E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20F-ED7E-4F05-9192-DF6835BD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C43-B4A0-421B-97F9-5240C13F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CE5-38BD-4483-8A63-96E64EC2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6F7-943A-4E14-89FF-647F0FFF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99D-D7B6-4E81-8C9C-E8AD0FE3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190-3757-402A-96F7-509DD4DA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1D3-36C1-48FC-8775-05CA42F8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68C-4D14-48FF-955A-7740156D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A87-9ABE-4563-8CFB-3C25FDD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BA1-BFA8-4DD9-948F-861ACCD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14792A-BAA5-487B-A446-AB563D22447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14440" y="2080440"/>
            <a:ext cx="8152920" cy="2903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504000" y="142200"/>
            <a:ext cx="8163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Pan-CLIVA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2d2d8a"/>
                </a:solidFill>
                <a:latin typeface="Calibri"/>
              </a:rPr>
              <a:t>July 16-18 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2d2d8a"/>
                </a:solidFill>
                <a:latin typeface="Calibri"/>
              </a:rPr>
              <a:t>The Hagu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1046880" y="4522320"/>
            <a:ext cx="7139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CLIVAR Science Plan and Implementation Strategy for the next 5 to 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1363680"/>
            <a:ext cx="9143640" cy="549396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642960"/>
            <a:ext cx="6045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Monday and Tuesday – 14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/15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CLIVAR panel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Wednesday – 16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Pan-CLIVAR Plenary, Future CL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Climate Mode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Predicting Climate Variability and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Observing the Ocea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Climate Process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New CLIVAR Projec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CLIVAR Research Foci Break 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ENSO in a changing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Upwell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Thursday – 17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Oceans Break 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Ocean Synthesis: Integration of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Ocean process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Sustained Ocean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Ocean model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0" y="1458720"/>
            <a:ext cx="4571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CLIVAR Research Foci Break 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Heat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Decadal Variability and Predictions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Friday – 18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Joint Pan-CLIVAR/GEWEX Implementation Plenary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Extreme </a:t>
            </a:r>
            <a:r>
              <a:rPr b="0" lang="en-GB" sz="1800" spc="-1" strike="noStrike">
                <a:solidFill>
                  <a:srgbClr val="000090"/>
                </a:solidFill>
                <a:latin typeface="Calibri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Air-Sea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Mons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Circulation and climate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Seasonal to decadal variability and predictability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Africa Climate Research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Development agenda for Latin America and Carib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Saturday – 19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Joint CLIVAR SSG and GEWEX SS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637280" y="50760"/>
            <a:ext cx="5868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90"/>
                </a:solidFill>
                <a:latin typeface="Calibri"/>
              </a:rPr>
              <a:t>Pan-CLIVAR Meeting -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Screen shot 2014-02-26 at 12.30.33 PM.png"/>
          <p:cNvPicPr/>
          <p:nvPr/>
        </p:nvPicPr>
        <p:blipFill>
          <a:blip r:embed="rId1"/>
          <a:stretch/>
        </p:blipFill>
        <p:spPr>
          <a:xfrm>
            <a:off x="308880" y="0"/>
            <a:ext cx="8615880" cy="6857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7280" y="1767600"/>
            <a:ext cx="9143640" cy="5216760"/>
          </a:xfrm>
          <a:prstGeom prst="rect">
            <a:avLst/>
          </a:prstGeom>
          <a:solidFill>
            <a:srgbClr val="ffffff"/>
          </a:solidFill>
          <a:ln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379440" y="1785600"/>
            <a:ext cx="5254560" cy="47530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n-GEWEX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ursday afternoon, July 17: Pan-GEWEX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oss-Cutting Pan-GEWEX topics “new them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 use and land cover modeling within CMIP6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-resolution 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bon-water cycle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energy and water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 isotope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iday morning , July 18: Joint CLIVAR-GEWEX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iday afternoon: GEWEX Panel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  <Words>116</Words>
  <Paragraphs>60</Paragraphs>
  <Company>Appl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37:21Z</dcterms:created>
  <dc:creator>Mac</dc:creator>
  <dc:description/>
  <dc:language>en-US</dc:language>
  <cp:lastModifiedBy>Mac</cp:lastModifiedBy>
  <dcterms:modified xsi:type="dcterms:W3CDTF">2014-03-12T01:13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3</vt:r8>
  </property>
</Properties>
</file>