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9BC3E0-DE87-4209-AB27-8F0D77D79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DC1FE0-EE34-4A18-B2AF-DCA08D0D2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A3F-D39F-4AE9-B494-F897A2E0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9A1-B2C3-4B1A-BA01-25E017DB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321-D7D8-42F1-BCBA-BC37657E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5D7-9CA4-411A-9FE4-36CB24DC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CDD-C5A8-4906-AA70-9E26475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99C-5328-4E65-87D8-D98F3618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C15-3EE9-4D10-995F-158C3071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3E6-60A8-4459-A85F-9F744981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A59-3FEE-44AF-9FF2-E511C72C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2C1-5861-4820-9DC3-A4802541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23E-1542-42B6-A1A1-8555C08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6D8-B5BD-445B-8E9C-D43302FD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DADDE2-24CE-4016-82C9-235574B8B81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14440" y="2080440"/>
            <a:ext cx="8152920" cy="2903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504000" y="142200"/>
            <a:ext cx="8163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Pan-CLIVA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2d2d8a"/>
                </a:solidFill>
                <a:latin typeface="Calibri"/>
              </a:rPr>
              <a:t>July 16-18 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2d2d8a"/>
                </a:solidFill>
                <a:latin typeface="Calibri"/>
              </a:rPr>
              <a:t>The Hagu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1046880" y="4522320"/>
            <a:ext cx="7139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CLIVAR Science Plan and Implementation Strategy for the next 5 to 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1363680"/>
            <a:ext cx="9143640" cy="549396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642960"/>
            <a:ext cx="6045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Monday and Tuesday – 14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/15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CLIVAR panel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Wednesday – 16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Pan-CLIVAR Plenary, Future CL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Climate Mode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Predicting Climate Variability and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Observing the Ocea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Climate Process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New CLIVAR Projec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CLIVAR Research Foci Break 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ENSO in a changing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Upwell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Thursday – 17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Oceans Break 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Ocean Synthesis: Integration of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Ocean process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Sustained Ocean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Ocean model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0" y="1458720"/>
            <a:ext cx="4571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CLIVAR Research Foci Break 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Heat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Decadal Variability and Predictions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Friday – 18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Joint Pan-CLIVAR/GEWEX Implementation Plenary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Extreme </a:t>
            </a:r>
            <a:r>
              <a:rPr b="0" lang="en-GB" sz="1800" spc="-1" strike="noStrike">
                <a:solidFill>
                  <a:srgbClr val="000090"/>
                </a:solidFill>
                <a:latin typeface="Calibri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Air-Sea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Mons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Circulation and climate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Seasonal to decadal variability and predictability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Africa Climate Research f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Development agenda for Latin America and Carib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9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Saturday – 19</a:t>
            </a:r>
            <a:r>
              <a:rPr b="1" lang="en-US" sz="1800" spc="-1" strike="noStrike" baseline="30000">
                <a:solidFill>
                  <a:srgbClr val="00009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90"/>
                </a:solidFill>
                <a:latin typeface="Calibri"/>
              </a:rPr>
              <a:t>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Joint CLIVAR SSG and GEWEX SS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637280" y="50760"/>
            <a:ext cx="5868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90"/>
                </a:solidFill>
                <a:latin typeface="Calibri"/>
              </a:rPr>
              <a:t>Pan-CLIVAR Meeting - 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Screen shot 2014-02-26 at 12.30.33 PM.png"/>
          <p:cNvPicPr/>
          <p:nvPr/>
        </p:nvPicPr>
        <p:blipFill>
          <a:blip r:embed="rId1"/>
          <a:stretch/>
        </p:blipFill>
        <p:spPr>
          <a:xfrm>
            <a:off x="308880" y="0"/>
            <a:ext cx="8615880" cy="6857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7280" y="1767600"/>
            <a:ext cx="9143640" cy="5216760"/>
          </a:xfrm>
          <a:prstGeom prst="rect">
            <a:avLst/>
          </a:prstGeom>
          <a:solidFill>
            <a:srgbClr val="ffffff"/>
          </a:solidFill>
          <a:ln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379440" y="1785600"/>
            <a:ext cx="5254560" cy="47530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n-GEWEX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ursday afternoon, July 17: Pan-GEWEX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oss-Cutting Pan-GEWEX topics “new them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 use and land cover modeling within CMIP6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-resolution 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bon-water cycle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energy and water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 isotope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iday morning , July 18: Joint CLIVAR-GEWEX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iday afternoon: GEWEX Panel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  <Words>116</Words>
  <Paragraphs>60</Paragraphs>
  <Company>Appl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37:21Z</dcterms:created>
  <dc:creator>Mac</dc:creator>
  <dc:description/>
  <dc:language>en-US</dc:language>
  <cp:lastModifiedBy>Mac</cp:lastModifiedBy>
  <dcterms:modified xsi:type="dcterms:W3CDTF">2014-03-12T01:13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3</vt:r8>
  </property>
</Properties>
</file>