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7124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816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1432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7124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816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14320" y="349200"/>
            <a:ext cx="6970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ional climate grand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80880" y="1219320"/>
            <a:ext cx="8305920" cy="534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provide skilful regional climate predictions at seasonal to decadal time scales and reliable and actionable long term regional climate change projections?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scientific frontiers: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er 1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traseasonal and seasonal predictability and predi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dentify and understand phenomena that offer some degree of intra-seasonal to inter-annual predictability, and skilfully predict these climate fluctuations and tren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er 2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cadal variability, predictability and predi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dentify and understand phenomena that offer some degree of decadal predictability and skilfully predict these climate fluctuations and tren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er 3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liability and value of long term regional climate change proj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Provide reliable regional climate projection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and beyond for use in Impact, Adaptation and Vulnerability (IAV) studies as a basis for the development of response (adaptation, mitigation) strategies to climate change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ier 4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finition of usefulness: informing the risk management and decision making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Provide information that constitutes a solid and targeted basis for decision making concerning risk management and response options in specific sectors and contexts, also through active and two-way involvement with stakeholder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Francisco Doblas-Reyes</cp:lastModifiedBy>
  <cp:lastPrinted>2004-10-15T09:34:20Z</cp:lastPrinted>
  <dcterms:modified xsi:type="dcterms:W3CDTF">2014-03-12T11:09:21Z</dcterms:modified>
  <cp:revision>207</cp:revision>
  <dc:subject/>
  <dc:title>Title of Presentation</dc:title>
</cp:coreProperties>
</file>