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686-013B-4515-80E1-36FB0242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707-6178-408D-8E93-7A3E6A29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F87-8DF1-45E5-82C4-D95C5830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B88-CBF4-440C-BB70-DCEC1F82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A38-9BE0-4215-AEE2-599F1A5E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273-EA94-446D-9295-56294532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740-5311-406C-B31F-88F492D6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2F9-A2C6-4869-8D9A-44DEAE93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274-A09C-408C-BEB0-F1A05F9B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A54-E60E-4AE1-B423-E8747D2D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920-BCA7-439E-9295-486ACA22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1CD-14A2-4371-AB31-AF5D39CC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liquez pour modifier le style du titre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liquez pour modifier les styles du texte du masque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uxième niveau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oisième niveau</a:t>
            </a: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atrième niveau</a:t>
            </a:r>
            <a:endParaRPr b="0" lang="fr-FR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niveau</a:t>
            </a:r>
            <a:endParaRPr b="0" lang="fr-FR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fr-F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72A9E7-3F54-4DC3-A5D6-B5DB1B216D51}" type="slidenum">
              <a:rPr b="0" lang="fr-F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fricaclimateconference.org/conference-presentation/day-1/" TargetMode="External"/><Relationship Id="rId2" Type="http://schemas.openxmlformats.org/officeDocument/2006/relationships/hyperlink" Target="http://africaclimateconference.org/conference-presentation/day-1/" TargetMode="External"/><Relationship Id="rId3" Type="http://schemas.openxmlformats.org/officeDocument/2006/relationships/hyperlink" Target="http://africaclimateconference.org/conference-presentation/day-1/side-event-s1-africa-development-bank-pilot-program-for-climate-resilience/" TargetMode="External"/><Relationship Id="rId4" Type="http://schemas.openxmlformats.org/officeDocument/2006/relationships/hyperlink" Target="http://africaclimateconference.org/conference-presentation/day-1/side-event-s2-norway-gfcs-project-launch-event/" TargetMode="External"/><Relationship Id="rId5" Type="http://schemas.openxmlformats.org/officeDocument/2006/relationships/hyperlink" Target="http://africaclimateconference.org/conference-presentation/day-2/" TargetMode="External"/><Relationship Id="rId6" Type="http://schemas.openxmlformats.org/officeDocument/2006/relationships/hyperlink" Target="http://africaclimateconference.org/conference-presentation/day-2/side-event-s3-acmad-losses-and-damages-due-to-extreme-climate-events/" TargetMode="External"/><Relationship Id="rId7" Type="http://schemas.openxmlformats.org/officeDocument/2006/relationships/hyperlink" Target="http://africaclimateconference.org/conference-presentation/day-2/side-event-s4-hyvic-project/" TargetMode="External"/><Relationship Id="rId8" Type="http://schemas.openxmlformats.org/officeDocument/2006/relationships/hyperlink" Target="http://africaclimateconference.org/conference-presentation/day-3/" TargetMode="External"/><Relationship Id="rId9" Type="http://schemas.openxmlformats.org/officeDocument/2006/relationships/hyperlink" Target="http://africaclimateconference.org/conference-presentation/day-3/side-event-s5-amcomet-unesco-gfcs-irdc-side-event/" TargetMode="External"/><Relationship Id="rId10" Type="http://schemas.openxmlformats.org/officeDocument/2006/relationships/hyperlink" Target="http://africaclimateconference.org/conference-presentation/day-3/side-event-s6-future-climate-future-africa-fcfa-dfidcdkn/" TargetMode="External"/><Relationship Id="rId11" Type="http://schemas.openxmlformats.org/officeDocument/2006/relationships/hyperlink" Target="http://africaclimateconference.org/conference-presentation/day-4/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" y="260640"/>
            <a:ext cx="885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frica Climate Conference :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rusha, 18-20 October 2013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 5" descr="Screen Shot 2014-03-07 at 8.21.47 PM.png"/>
          <p:cNvPicPr/>
          <p:nvPr/>
        </p:nvPicPr>
        <p:blipFill>
          <a:blip r:embed="rId1"/>
          <a:srcRect l="15085" t="26485" r="13757" b="51826"/>
          <a:stretch/>
        </p:blipFill>
        <p:spPr>
          <a:xfrm>
            <a:off x="1331640" y="5358600"/>
            <a:ext cx="6505920" cy="12384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"/>
          <p:cNvPicPr/>
          <p:nvPr/>
        </p:nvPicPr>
        <p:blipFill>
          <a:blip r:embed="rId2"/>
          <a:stretch/>
        </p:blipFill>
        <p:spPr>
          <a:xfrm>
            <a:off x="1523880" y="2031840"/>
            <a:ext cx="609552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84960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chemeClr val="lt1"/>
                </a:solidFill>
                <a:latin typeface="Calibri"/>
              </a:rPr>
              <a:t>framework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8352720" cy="3052440"/>
          </a:xfrm>
          <a:prstGeom prst="rect">
            <a:avLst/>
          </a:prstGeom>
          <a:solidFill>
            <a:schemeClr val="lt1"/>
          </a:solidFill>
          <a:ln w="255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chemeClr val="dk1"/>
                </a:solidFill>
                <a:latin typeface="Calibri"/>
              </a:rPr>
              <a:t>World climate Research Programme (WRCP) + African Climate Policy Center (ACPC)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chemeClr val="dk1"/>
                </a:solidFill>
                <a:latin typeface="Calibri"/>
              </a:rPr>
              <a:t>Decision makers 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chemeClr val="dk1"/>
                </a:solidFill>
                <a:latin typeface="Calibri"/>
              </a:rPr>
              <a:t>Climate researchers, scientists and practitioners from Africa and around the world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3"/>
          <p:cNvSpPr/>
          <p:nvPr/>
        </p:nvSpPr>
        <p:spPr>
          <a:xfrm>
            <a:off x="467640" y="5085360"/>
            <a:ext cx="8424720" cy="17960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2800" spc="-1" strike="noStrike">
                <a:solidFill>
                  <a:schemeClr val="dk1"/>
                </a:solidFill>
                <a:latin typeface="Calibri"/>
              </a:rPr>
              <a:t>Coordinate climate research in africa to adress urgnet information needs and deliver operational climate services for policy makers, adaptation planners and vulnerable communities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lèche vers le bas 4"/>
          <p:cNvSpPr/>
          <p:nvPr/>
        </p:nvSpPr>
        <p:spPr>
          <a:xfrm>
            <a:off x="3852000" y="4293000"/>
            <a:ext cx="791640" cy="719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CC_diagram"/>
          <p:cNvPicPr/>
          <p:nvPr/>
        </p:nvPicPr>
        <p:blipFill>
          <a:blip r:embed="rId1"/>
          <a:srcRect l="8004" t="-1676" r="0" b="4941"/>
          <a:stretch/>
        </p:blipFill>
        <p:spPr>
          <a:xfrm>
            <a:off x="683640" y="789120"/>
            <a:ext cx="7848360" cy="587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79640" y="1150200"/>
            <a:ext cx="8784720" cy="55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lenary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1 – Grand Challenges &amp; Frontiers of African Climate Research to Inform Adaptation Decision-making in the 21st century in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llel Session B1: Modelling and Predicting Climate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Session B2: Mainstreaming climat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ide Event S1 – Africa Development Bank Pilot Program for Climate Resil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ide Event S2 – NORWAY GFCS Project Launch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lenary Da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2 – State of Knowledge, Research Gaps and Strategies to Address Research Gaps – Towards Coordinated Pan-African Research – Short Range Planning and Extremes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Session B3: Climate Variability and Predic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Session B4 – Observations for Monitoring, Understanding and Predicting 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de Event S3 – ACMAD: Losses and Damages due to extreme climate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Side Event S4 – HYVIC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lenary Da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3 – State of Knowledge, Research Gaps and Strategies to Address Research Gaps – Towards Coordinated Pan-African Research – Long Term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Session B5: Africa in a Changing 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Session B6: Regional Downscaling, Forecast Uncertainty and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ide Event S5 – AMCOMET, UNESCO, GFCS, IRDC Side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Side Event S6 – Future Climate Future Africa (FCFA), DfID/CDK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Plenary Da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4 – Advancing Climate Research Frontiers – Priority Research Gaps to Address Critical Climate Service Needs of End-Users, Policy Developers and Vulnerable Communities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5 – Climate Research Programs to Address Priority Climate Research Gaps and Inform Adaptation Decision-Making in Africa – Summary of Conclusions and Lessons Learned from ACC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6 – Closing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251640" y="332640"/>
            <a:ext cx="8568720" cy="63828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3600" spc="-1" strike="noStrike">
                <a:solidFill>
                  <a:schemeClr val="lt1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come 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research agenda to advance current frontiers of climate knowledge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to inform adaptation decision-making and climate risk management in Africa, 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policy-makers a better decision tools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-African climate research program proposals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ing the gap between social and biophysical research, and between Research and Application,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climate research agenda for Africa that brings research outputs together with user needs  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ltation with the broader research community, both climate science and user groups, and partners 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2400" spc="-1" strike="noStrike">
                <a:solidFill>
                  <a:schemeClr val="lt1"/>
                </a:solidFill>
                <a:latin typeface="Calibri"/>
              </a:rPr>
              <a:t>Concept notes :</a:t>
            </a:r>
            <a:r>
              <a:rPr b="1" lang="en-GB" sz="2400" spc="-1" strike="noStrike">
                <a:solidFill>
                  <a:schemeClr val="lt1"/>
                </a:solidFill>
                <a:latin typeface="Calibri"/>
              </a:rPr>
              <a:t>“Climate Information Partnerships for Resilience and Early Warning – Africa (CIPREWA)”</a:t>
            </a:r>
            <a:r>
              <a:rPr b="0" lang="en-US" sz="24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chemeClr val="lt1"/>
                </a:solidFill>
                <a:latin typeface="Calibri"/>
              </a:rPr>
              <a:t>(Richard Graham, Filipe Lucio)</a:t>
            </a:r>
            <a:br>
              <a:rPr sz="1400"/>
            </a:br>
            <a:endParaRPr b="0" lang="fr-FR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-5 years (sub) projects for each of 4 regions: West Africa, Central Africa, East Africa and southern Africa (NMHSs, users, GPCs, Universities)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lvl="1" marL="666360" indent="-256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P1: Forecast producer/forecast user consultation and dialog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360" indent="-256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P2: Strengthening use of Global Producing Centre (GPC) forecasts in RCC and NMHSs seasonal outlooks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360" indent="-256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P3: Enhanced interaction between RCCs and NMHSs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360" indent="-256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P4: Strengthening uptake of seasonal forecast products in user decision-making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360" indent="-256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P5: Capacity development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ncept notes :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frican Climate Data and information System (ACDIS)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(?)</a:t>
            </a:r>
            <a:br>
              <a:rPr sz="1400"/>
            </a:br>
            <a:endParaRPr b="0" lang="fr-FR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640" y="1124640"/>
            <a:ext cx="843480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A web based platform/infrastructure to organize local and regional in situ climate data, to develop and provide climate services </a:t>
            </a:r>
            <a:endParaRPr b="0" lang="fr-FR" sz="51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ollection and quality control of stations datasets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Generation of reanalyzes and analyses datasets merging model data and observations from surface, air and space based observations 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Analysis and visualization of data and products  with a web based map room ( eg.  IRI map room)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Provision of web based climate statements, reports, bulletins, advices, outlooks, scenarios, non quantitative ( eg traditional knowledge ) and quantitative information  on climate impacts on different development sectors, policies, strategies and practices ( using web and wiki page of ADIS)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Provision of advices and responses to other requests using web and wiki page of the user interface 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Real or near real time exchange  of data and products ( e.g  Connection to the Next Generation Regional Meteorological Data Communication Network in Europe – operated by ECMWF, connection to  WMO/ WIS as a DCPC)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640" y="125640"/>
            <a:ext cx="864072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chemeClr val="lt1"/>
                </a:solidFill>
                <a:latin typeface="Calibri"/>
              </a:rPr>
              <a:t>Enhance seasonal and sub-seasonal predictability and its application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843480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5100" spc="-1" strike="noStrike">
                <a:solidFill>
                  <a:srgbClr val="000000"/>
                </a:solidFill>
                <a:latin typeface="Calibri"/>
              </a:rPr>
              <a:t>Revisit seasonal to intra-seasonal forecasting in africa and tide it up with the user community needs : from useful (science) to useable (demand) products</a:t>
            </a:r>
            <a:endParaRPr b="0" lang="fr-FR" sz="51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Map existing efforts on forecasting and make an evaluation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nvolve more stakeholders for more accurate products : more centres products, universities in the COFs, …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frame the user demand : create user-only forum for climate services (other way discussion) to understand the need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rganize forum per sector : hydrology, health, agriculture, </a:t>
            </a:r>
            <a:r>
              <a:rPr b="0" lang="fr-FR" sz="4200" spc="-1" strike="noStrike">
                <a:solidFill>
                  <a:srgbClr val="000000"/>
                </a:solidFill>
                <a:latin typeface="Calibri"/>
              </a:rPr>
              <a:t>… to taillor the product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Training on modelling science and new tools : climate science, model uncertainties interpretation and communication, statistical tools, new (multi-model) approaches, 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nclude social scientists and journalists in climate services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  <a:p>
            <a:pPr marL="293040" indent="-29304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ncrease awareness of government and decision makers</a:t>
            </a:r>
            <a:endParaRPr b="0" lang="fr-FR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16640"/>
            <a:ext cx="9143640" cy="935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ite paper” on initiatives, mechanisms and coordination of climate research for development in africa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iorities for african climate research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ordination and institution to put in place, 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stablishment of task teams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pping institutions and initiatives engaged in climate science and research activities in Africa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b base catalogue : mapping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commendations based on other experiences in other regions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hèm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  <Words>927</Words>
  <Paragraphs>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0:25:13Z</dcterms:created>
  <dc:creator>hp</dc:creator>
  <dc:description/>
  <dc:language>en-US</dc:language>
  <cp:lastModifiedBy>oussou</cp:lastModifiedBy>
  <dcterms:modified xsi:type="dcterms:W3CDTF">2014-03-12T00:15:49Z</dcterms:modified>
  <cp:revision>63</cp:revision>
  <dc:subject/>
  <dc:title>forecasting at sub-seasonal time scale over West-Africa : needs, gaps and challenge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ésentation à l'écran (4:3)</vt:lpwstr>
  </property>
  <property fmtid="{D5CDD505-2E9C-101B-9397-08002B2CF9AE}" pid="3" name="Slides">
    <vt:r8>9</vt:r8>
  </property>
</Properties>
</file>