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14320" y="349200"/>
            <a:ext cx="697068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14320" y="1774800"/>
            <a:ext cx="69706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714320" y="4138200"/>
            <a:ext cx="69706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14320" y="349200"/>
            <a:ext cx="697068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14320" y="1774800"/>
            <a:ext cx="3401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86600" y="1774800"/>
            <a:ext cx="3401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14320" y="4138200"/>
            <a:ext cx="3401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286600" y="4138200"/>
            <a:ext cx="3401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14320" y="349200"/>
            <a:ext cx="697068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14320" y="1774800"/>
            <a:ext cx="2244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71240" y="1774800"/>
            <a:ext cx="2244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28160" y="1774800"/>
            <a:ext cx="2244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714320" y="4138200"/>
            <a:ext cx="2244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71240" y="4138200"/>
            <a:ext cx="2244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28160" y="4138200"/>
            <a:ext cx="2244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714320" y="349200"/>
            <a:ext cx="697068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714320" y="1774800"/>
            <a:ext cx="69706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14320" y="349200"/>
            <a:ext cx="697068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714320" y="1774800"/>
            <a:ext cx="69706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14320" y="349200"/>
            <a:ext cx="697068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714320" y="1774800"/>
            <a:ext cx="3401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286600" y="1774800"/>
            <a:ext cx="3401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14320" y="349200"/>
            <a:ext cx="697068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714320" y="349200"/>
            <a:ext cx="697068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14320" y="349200"/>
            <a:ext cx="697068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14320" y="1774800"/>
            <a:ext cx="3401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86600" y="1774800"/>
            <a:ext cx="3401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714320" y="4138200"/>
            <a:ext cx="3401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14320" y="349200"/>
            <a:ext cx="697068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14320" y="1774800"/>
            <a:ext cx="3401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86600" y="1774800"/>
            <a:ext cx="3401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286600" y="4138200"/>
            <a:ext cx="3401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14320" y="349200"/>
            <a:ext cx="697068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14320" y="1774800"/>
            <a:ext cx="3401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86600" y="1774800"/>
            <a:ext cx="3401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714320" y="4138200"/>
            <a:ext cx="69706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14320" y="349200"/>
            <a:ext cx="697068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14320" y="1774800"/>
            <a:ext cx="69706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5960" y="152280"/>
            <a:ext cx="8915400" cy="137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New pro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Text Box 3"/>
          <p:cNvSpPr/>
          <p:nvPr/>
        </p:nvSpPr>
        <p:spPr>
          <a:xfrm>
            <a:off x="380880" y="1219320"/>
            <a:ext cx="8305920" cy="5788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GSIP has three sub-projects under CHFP: IceHFP, SHFP and GLACE (land surfac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3880" indent="-353880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3880" indent="-353880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 projects (e.g. S2S) are organised in science projec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3880" indent="-353880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3880" indent="-353880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sible science projects relevant to WGSIP’s activities a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3880" indent="-353880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3880" indent="-353880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ons between tropics and extratrop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3880" indent="-353880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3880" indent="-353880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ift/initial shock and verification within the first mon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3880" indent="-353880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3880" indent="-353880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nsoon onset and precipi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3880" indent="-353880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3880" indent="-353880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k maps for unprecedented ev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3880" indent="-353880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3880" indent="-353880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s: climate services (malaria), verification, ocean aspects (oceanHFP, data availability, impact of resolution, surface fluxes)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3880" indent="-353880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3880" indent="-353880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y can all create synergies with S2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3880" indent="-353880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3880" indent="-353880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to proceed from 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2T09:40:06Z</dcterms:created>
  <dc:creator>helen.chater</dc:creator>
  <dc:description>submitted 26.7.2005     CHG015666 refers</dc:description>
  <dc:language>en-US</dc:language>
  <cp:lastModifiedBy>WMO</cp:lastModifiedBy>
  <cp:lastPrinted>2004-10-15T09:34:20Z</cp:lastPrinted>
  <dcterms:modified xsi:type="dcterms:W3CDTF">2014-04-17T13:54:16Z</dcterms:modified>
  <cp:revision>210</cp:revision>
  <dc:subject/>
  <dc:title>Title of Presentation</dc:title>
</cp:coreProperties>
</file>