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3.jpeg" ContentType="image/jpeg"/>
  <Override PartName="/ppt/media/image1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6669000" cy="992664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2150">
                <a:moveTo>
                  <a:pt x="5" y="0"/>
                </a:moveTo>
                <a:arcTo wR="5" hR="5" stAng="16200000" swAng="-5400000"/>
                <a:lnTo>
                  <a:pt x="0" y="32145"/>
                </a:lnTo>
                <a:arcTo wR="5" hR="5" stAng="10800000" swAng="-5400000"/>
                <a:lnTo>
                  <a:pt x="21595" y="321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778200" y="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852120" y="742680"/>
            <a:ext cx="4964040" cy="372276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6440" bIns="4644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3556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942660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4"/>
          </p:nvPr>
        </p:nvSpPr>
        <p:spPr>
          <a:xfrm>
            <a:off x="3778200" y="942660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6440" bIns="46440" anchor="b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719280"/>
                <a:tab algn="l" pos="1436760"/>
                <a:tab algn="l" pos="2155680"/>
                <a:tab algn="l" pos="287172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  <a:tab algn="l" pos="10406160"/>
                <a:tab algn="l" pos="10858680"/>
              </a:tabLst>
              <a:defRPr b="0" lang="en-GB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719280"/>
                <a:tab algn="l" pos="1436760"/>
                <a:tab algn="l" pos="2155680"/>
                <a:tab algn="l" pos="287172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  <a:tab algn="l" pos="10406160"/>
                <a:tab algn="l" pos="10858680"/>
              </a:tabLst>
            </a:pPr>
            <a:fld id="{CB63DAE9-31AB-4F40-86B7-2276093F2EAE}" type="slidenum"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3778200" y="942660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6440" bIns="46440" anchor="b">
            <a:noAutofit/>
          </a:bodyPr>
          <a:p>
            <a:pPr marL="216000" indent="-216000" algn="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19280"/>
                <a:tab algn="l" pos="1436760"/>
                <a:tab algn="l" pos="2155680"/>
                <a:tab algn="l" pos="287172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  <a:tab algn="l" pos="10406160"/>
                <a:tab algn="l" pos="10858680"/>
              </a:tabLst>
            </a:pPr>
            <a:fld id="{58F4822B-ECDC-4B50-839C-7614B12065C6}" type="slidenum"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F84C1975-A5C8-45D8-B3FA-80FA07DE8E11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95" name="Text Box 2"/>
          <p:cNvSpPr/>
          <p:nvPr/>
        </p:nvSpPr>
        <p:spPr>
          <a:xfrm>
            <a:off x="898560" y="744480"/>
            <a:ext cx="4876920" cy="37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666360" y="4714920"/>
            <a:ext cx="5313240" cy="45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752480" y="425520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3056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9716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4184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75248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09716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4184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752480" y="347760"/>
            <a:ext cx="6934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056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752480" y="425520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3056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09716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44184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75248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09716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44184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752480" y="347760"/>
            <a:ext cx="6934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3056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1752480" y="425520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3056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09716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44184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175248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09716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44184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752480" y="347760"/>
            <a:ext cx="6934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056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-262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182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1843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49280" indent="-182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23640" y="65527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© Crown copyright   Met Off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-262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182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1843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49280" indent="-182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ftr" idx="2"/>
          </p:nvPr>
        </p:nvSpPr>
        <p:spPr>
          <a:xfrm>
            <a:off x="323640" y="65527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Crown copyright   Met Offic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3640" y="3578040"/>
            <a:ext cx="85914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ftr" idx="3"/>
          </p:nvPr>
        </p:nvSpPr>
        <p:spPr>
          <a:xfrm>
            <a:off x="323640" y="65527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Crown copyright   Met Offic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41360" indent="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0316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16676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52892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5289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5289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676520"/>
            <a:ext cx="9144000" cy="441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edictability of the NAO?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am Scaife</a:t>
            </a:r>
            <a:br>
              <a:rPr sz="2400"/>
            </a:br>
            <a:br>
              <a:rPr sz="4800"/>
            </a:br>
            <a:br>
              <a:rPr sz="4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6021360"/>
            <a:ext cx="78962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9db0e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280360" cy="13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aily extremes and imp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508360" y="2204640"/>
            <a:ext cx="3384360" cy="32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/>
          </a:bodyPr>
          <a:p>
            <a:pPr marL="262080" indent="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ediction of the NA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ediction of winter extre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ediction of Impa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2080" indent="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2080" indent="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ld days (energy, transport.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2080" indent="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torms (insurance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2080" indent="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Windspeed (renewables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2080" indent="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ydrology (river flows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2080" indent="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2080" indent="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rcRect l="0" t="68926" r="0" b="0"/>
          <a:stretch/>
        </p:blipFill>
        <p:spPr>
          <a:xfrm>
            <a:off x="395280" y="1125360"/>
            <a:ext cx="4896000" cy="25336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Extremes_bar"/>
          <p:cNvPicPr/>
          <p:nvPr/>
        </p:nvPicPr>
        <p:blipFill>
          <a:blip r:embed="rId3"/>
          <a:stretch/>
        </p:blipFill>
        <p:spPr>
          <a:xfrm>
            <a:off x="1258920" y="3213000"/>
            <a:ext cx="3311640" cy="4240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/>
          <a:srcRect l="0" t="0" r="18366" b="23558"/>
          <a:stretch/>
        </p:blipFill>
        <p:spPr>
          <a:xfrm>
            <a:off x="900000" y="3933720"/>
            <a:ext cx="4103640" cy="271800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11"/>
          <p:cNvSpPr/>
          <p:nvPr/>
        </p:nvSpPr>
        <p:spPr>
          <a:xfrm>
            <a:off x="3889440" y="6553080"/>
            <a:ext cx="11790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vensson et al, 2014</a:t>
            </a:r>
            <a:endParaRPr b="0" lang="en-US" sz="800" spc="-1" strike="noStrike">
              <a:solidFill>
                <a:srgbClr val="b9db0e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3"/>
          <p:cNvSpPr/>
          <p:nvPr/>
        </p:nvSpPr>
        <p:spPr>
          <a:xfrm>
            <a:off x="324000" y="655308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Crown copyright   Met Office</a:t>
            </a:r>
            <a:endParaRPr b="0" lang="en-US" sz="10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7690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mmar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380880" y="1523880"/>
            <a:ext cx="8353440" cy="4191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2798"/>
              </a:lnSpc>
              <a:spcBef>
                <a:spcPts val="675"/>
              </a:spcBef>
              <a:spcAft>
                <a:spcPts val="1089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kilful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seasonal forecasts for the NAO, Europe &amp; N America</a:t>
            </a:r>
            <a:endParaRPr b="0" lang="en-US" sz="2500" spc="-1" strike="noStrike">
              <a:solidFill>
                <a:srgbClr val="b9db0e"/>
              </a:solidFill>
              <a:latin typeface="Arial"/>
            </a:endParaRPr>
          </a:p>
          <a:p>
            <a:pPr marL="343080" indent="-343080">
              <a:lnSpc>
                <a:spcPts val="2798"/>
              </a:lnSpc>
              <a:spcBef>
                <a:spcPts val="675"/>
              </a:spcBef>
              <a:spcAft>
                <a:spcPts val="1089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w signal to noise – this is a paradox and a key research topic</a:t>
            </a:r>
            <a:endParaRPr b="0" lang="en-US" sz="2500" spc="-1" strike="noStrike">
              <a:solidFill>
                <a:srgbClr val="b9db0e"/>
              </a:solidFill>
              <a:latin typeface="Arial"/>
            </a:endParaRPr>
          </a:p>
          <a:p>
            <a:pPr marL="343080" indent="-343080">
              <a:lnSpc>
                <a:spcPts val="2798"/>
              </a:lnSpc>
              <a:spcBef>
                <a:spcPts val="675"/>
              </a:spcBef>
              <a:spcAft>
                <a:spcPts val="1089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isk of daily extremes governed by large scale flow</a:t>
            </a:r>
            <a:endParaRPr b="0" lang="en-US" sz="2500" spc="-1" strike="noStrike">
              <a:solidFill>
                <a:srgbClr val="b9db0e"/>
              </a:solidFill>
              <a:latin typeface="Arial"/>
            </a:endParaRPr>
          </a:p>
          <a:p>
            <a:pPr marL="343080" indent="-343080">
              <a:lnSpc>
                <a:spcPts val="2798"/>
              </a:lnSpc>
              <a:spcBef>
                <a:spcPts val="675"/>
              </a:spcBef>
              <a:spcAft>
                <a:spcPts val="737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i="1" lang="en-US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dictability of useful quantities like storminess or windspeed</a:t>
            </a:r>
            <a:endParaRPr b="0" lang="en-US" sz="1700" spc="-1" strike="noStrike">
              <a:solidFill>
                <a:srgbClr val="b9db0e"/>
              </a:solidFill>
              <a:latin typeface="Arial"/>
            </a:endParaRPr>
          </a:p>
          <a:p>
            <a:pPr marL="343080" indent="-343080">
              <a:lnSpc>
                <a:spcPts val="2798"/>
              </a:lnSpc>
              <a:spcBef>
                <a:spcPts val="675"/>
              </a:spcBef>
              <a:spcAft>
                <a:spcPts val="1089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rther Development: </a:t>
            </a:r>
            <a:endParaRPr b="0" lang="en-US" sz="2500" spc="-1" strike="noStrike">
              <a:solidFill>
                <a:srgbClr val="b9db0e"/>
              </a:solidFill>
              <a:latin typeface="Arial"/>
            </a:endParaRPr>
          </a:p>
          <a:p>
            <a:pPr marL="343080" indent="-343080">
              <a:lnSpc>
                <a:spcPts val="2798"/>
              </a:lnSpc>
              <a:spcBef>
                <a:spcPts val="675"/>
              </a:spcBef>
              <a:spcAft>
                <a:spcPts val="737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i="1" lang="en-US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uch work to do with partners on predicting impacts…</a:t>
            </a:r>
            <a:endParaRPr b="0" lang="en-US" sz="1700" spc="-1" strike="noStrike">
              <a:solidFill>
                <a:srgbClr val="b9db0e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rcRect l="0" t="27284" r="0" b="21654"/>
          <a:stretch/>
        </p:blipFill>
        <p:spPr>
          <a:xfrm>
            <a:off x="0" y="5229360"/>
            <a:ext cx="3564000" cy="12952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17"/>
          <p:cNvSpPr/>
          <p:nvPr/>
        </p:nvSpPr>
        <p:spPr>
          <a:xfrm>
            <a:off x="250920" y="6597720"/>
            <a:ext cx="2017440" cy="26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6933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0" y="0"/>
            <a:ext cx="903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nters depend on which way the wind blows: </a:t>
            </a:r>
            <a:endParaRPr b="0" lang="en-US" sz="3000" spc="-1" strike="noStrike">
              <a:solidFill>
                <a:srgbClr val="b9db0e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North Atlantic Oscillation</a:t>
            </a:r>
            <a:endParaRPr b="0" lang="en-US" sz="3000" spc="-1" strike="noStrike">
              <a:solidFill>
                <a:srgbClr val="b9db0e"/>
              </a:solidFill>
              <a:latin typeface="Arial"/>
            </a:endParaRPr>
          </a:p>
        </p:txBody>
      </p:sp>
      <p:pic>
        <p:nvPicPr>
          <p:cNvPr id="131" name="Picture 5" descr="196263T"/>
          <p:cNvPicPr/>
          <p:nvPr/>
        </p:nvPicPr>
        <p:blipFill>
          <a:blip r:embed="rId3"/>
          <a:srcRect l="0" t="31481" r="0" b="24304"/>
          <a:stretch/>
        </p:blipFill>
        <p:spPr>
          <a:xfrm>
            <a:off x="3565440" y="1887480"/>
            <a:ext cx="3527640" cy="1109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200910T"/>
          <p:cNvPicPr/>
          <p:nvPr/>
        </p:nvPicPr>
        <p:blipFill>
          <a:blip r:embed="rId4"/>
          <a:srcRect l="0" t="28752" r="0" b="23324"/>
          <a:stretch/>
        </p:blipFill>
        <p:spPr>
          <a:xfrm>
            <a:off x="3565440" y="3606840"/>
            <a:ext cx="3490920" cy="11905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196263P"/>
          <p:cNvPicPr/>
          <p:nvPr/>
        </p:nvPicPr>
        <p:blipFill>
          <a:blip r:embed="rId5"/>
          <a:srcRect l="0" t="28148" r="0" b="21647"/>
          <a:stretch/>
        </p:blipFill>
        <p:spPr>
          <a:xfrm>
            <a:off x="1440" y="1771560"/>
            <a:ext cx="3600720" cy="12844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200910P"/>
          <p:cNvPicPr/>
          <p:nvPr/>
        </p:nvPicPr>
        <p:blipFill>
          <a:blip r:embed="rId6"/>
          <a:srcRect l="0" t="28105" r="0" b="25074"/>
          <a:stretch/>
        </p:blipFill>
        <p:spPr>
          <a:xfrm>
            <a:off x="1440" y="3584520"/>
            <a:ext cx="3600720" cy="1198440"/>
          </a:xfrm>
          <a:prstGeom prst="rect">
            <a:avLst/>
          </a:prstGeom>
          <a:ln w="0">
            <a:noFill/>
          </a:ln>
        </p:spPr>
      </p:pic>
      <p:sp>
        <p:nvSpPr>
          <p:cNvPr id="135" name="Line 12"/>
          <p:cNvSpPr/>
          <p:nvPr/>
        </p:nvSpPr>
        <p:spPr>
          <a:xfrm flipH="1">
            <a:off x="1512720" y="2192400"/>
            <a:ext cx="648000" cy="0"/>
          </a:xfrm>
          <a:prstGeom prst="line">
            <a:avLst/>
          </a:prstGeom>
          <a:ln w="349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36" name="Line 13"/>
          <p:cNvSpPr/>
          <p:nvPr/>
        </p:nvSpPr>
        <p:spPr>
          <a:xfrm flipH="1">
            <a:off x="1512720" y="3992400"/>
            <a:ext cx="648000" cy="0"/>
          </a:xfrm>
          <a:prstGeom prst="line">
            <a:avLst/>
          </a:prstGeom>
          <a:ln w="349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37" name="Text Box 15"/>
          <p:cNvSpPr/>
          <p:nvPr/>
        </p:nvSpPr>
        <p:spPr>
          <a:xfrm>
            <a:off x="7308720" y="2781360"/>
            <a:ext cx="1656000" cy="13615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ak P Gradient</a:t>
            </a:r>
            <a:endParaRPr b="0" lang="en-US" sz="1400" spc="-1" strike="noStrike">
              <a:solidFill>
                <a:srgbClr val="b9db0e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b9db0e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ld advection </a:t>
            </a:r>
            <a:endParaRPr b="0" lang="en-US" sz="1400" spc="-1" strike="noStrike">
              <a:solidFill>
                <a:srgbClr val="b9db0e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o Europe</a:t>
            </a:r>
            <a:endParaRPr b="0" lang="en-US" sz="1400" spc="-1" strike="noStrike">
              <a:solidFill>
                <a:srgbClr val="b9db0e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b9db0e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ld, calm </a:t>
            </a:r>
            <a:endParaRPr b="0" lang="en-US" sz="1400" spc="-1" strike="noStrike">
              <a:solidFill>
                <a:srgbClr val="b9db0e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d dry</a:t>
            </a:r>
            <a:endParaRPr b="0" lang="en-US" sz="14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38" name="Text Box 19"/>
          <p:cNvSpPr/>
          <p:nvPr/>
        </p:nvSpPr>
        <p:spPr>
          <a:xfrm>
            <a:off x="2052720" y="3284640"/>
            <a:ext cx="3600360" cy="326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nter 2009/10</a:t>
            </a:r>
            <a:endParaRPr b="0" lang="en-US" sz="18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39" name="Text Box 20"/>
          <p:cNvSpPr/>
          <p:nvPr/>
        </p:nvSpPr>
        <p:spPr>
          <a:xfrm>
            <a:off x="2052720" y="1484280"/>
            <a:ext cx="3600360" cy="326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nter 1962/63</a:t>
            </a:r>
            <a:endParaRPr b="0" lang="en-US" sz="18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40" name="Text Box 18"/>
          <p:cNvSpPr/>
          <p:nvPr/>
        </p:nvSpPr>
        <p:spPr>
          <a:xfrm>
            <a:off x="2052720" y="4940280"/>
            <a:ext cx="3600360" cy="326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nter 2011/12 c.f. 2013/14!</a:t>
            </a:r>
            <a:endParaRPr b="0" lang="en-US" sz="18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41" name="Line 13"/>
          <p:cNvSpPr/>
          <p:nvPr/>
        </p:nvSpPr>
        <p:spPr>
          <a:xfrm>
            <a:off x="1477800" y="5589720"/>
            <a:ext cx="646200" cy="0"/>
          </a:xfrm>
          <a:prstGeom prst="line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9db0e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7"/>
          <a:srcRect l="0" t="29098" r="0" b="22137"/>
          <a:stretch/>
        </p:blipFill>
        <p:spPr>
          <a:xfrm>
            <a:off x="3564000" y="5300640"/>
            <a:ext cx="3529080" cy="1224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92720" y="2060640"/>
            <a:ext cx="574560" cy="2160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0" y="2205000"/>
            <a:ext cx="358920" cy="2160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00720" y="4005360"/>
            <a:ext cx="358560" cy="215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257800" y="3841920"/>
            <a:ext cx="574560" cy="215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243400" y="5516640"/>
            <a:ext cx="574920" cy="2160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00720" y="5661000"/>
            <a:ext cx="358560" cy="2160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49" name="Text Box 15"/>
          <p:cNvSpPr/>
          <p:nvPr/>
        </p:nvSpPr>
        <p:spPr>
          <a:xfrm>
            <a:off x="7307280" y="5157720"/>
            <a:ext cx="1728720" cy="13615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ong P Gradient</a:t>
            </a:r>
            <a:endParaRPr b="0" lang="en-US" sz="1400" spc="-1" strike="noStrike">
              <a:solidFill>
                <a:srgbClr val="b9db0e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b9db0e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rm advection </a:t>
            </a:r>
            <a:endParaRPr b="0" lang="en-US" sz="1400" spc="-1" strike="noStrike">
              <a:solidFill>
                <a:srgbClr val="b9db0e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o Europe</a:t>
            </a:r>
            <a:endParaRPr b="0" lang="en-US" sz="1400" spc="-1" strike="noStrike">
              <a:solidFill>
                <a:srgbClr val="b9db0e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b9db0e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ld, stormy </a:t>
            </a:r>
            <a:endParaRPr b="0" lang="en-US" sz="1400" spc="-1" strike="noStrike">
              <a:solidFill>
                <a:srgbClr val="b9db0e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d wet</a:t>
            </a:r>
            <a:endParaRPr b="0" lang="en-US" sz="1400" spc="-1" strike="noStrike">
              <a:solidFill>
                <a:srgbClr val="b9db0e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893080" cy="198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loSea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5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lobal Seasonal Forecast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ystem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682560" y="2349360"/>
            <a:ext cx="7777080" cy="40323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2080" indent="-26208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del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HadGEM3H  N216</a:t>
            </a:r>
            <a:r>
              <a:rPr b="1" lang="en-GB" sz="20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L85O(0.25)</a:t>
            </a:r>
            <a:endParaRPr b="0" lang="en-US" sz="2000" spc="-1" strike="noStrike">
              <a:solidFill>
                <a:srgbClr val="b9db0e"/>
              </a:solidFill>
              <a:latin typeface="Arial"/>
            </a:endParaRPr>
          </a:p>
          <a:p>
            <a:pPr marL="262080" indent="-26208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9db0e"/>
              </a:solidFill>
              <a:latin typeface="Arial"/>
            </a:endParaRPr>
          </a:p>
          <a:p>
            <a:pPr marL="262080" indent="-26208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lisation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NWP state + NEMOVAR</a:t>
            </a:r>
            <a:r>
              <a:rPr b="1" lang="en-GB" sz="20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+</a:t>
            </a:r>
            <a:r>
              <a:rPr b="1" lang="en-GB" sz="20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 Sea Ice</a:t>
            </a:r>
            <a:endParaRPr b="0" lang="en-US" sz="2000" spc="-1" strike="noStrike">
              <a:solidFill>
                <a:srgbClr val="b9db0e"/>
              </a:solidFill>
              <a:latin typeface="Arial"/>
            </a:endParaRPr>
          </a:p>
          <a:p>
            <a:pPr marL="262080" indent="-26208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9db0e"/>
              </a:solidFill>
              <a:latin typeface="Arial"/>
            </a:endParaRPr>
          </a:p>
          <a:p>
            <a:pPr marL="262080" indent="-26208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nter Hindcasts: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4 members starting around 1 November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20 years: 1992/3 – 2012/13</a:t>
            </a:r>
            <a:endParaRPr b="0" lang="en-US" sz="2000" spc="-1" strike="noStrike">
              <a:solidFill>
                <a:srgbClr val="b9db0e"/>
              </a:solidFill>
              <a:latin typeface="Arial"/>
            </a:endParaRPr>
          </a:p>
          <a:p>
            <a:pPr marL="262080" indent="-26208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9db0e"/>
              </a:solidFill>
              <a:latin typeface="Arial"/>
            </a:endParaRPr>
          </a:p>
          <a:p>
            <a:pPr marL="262080" indent="-26208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w Operational: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 members per day -&gt; 2 months     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2 members per day -&gt; 7months</a:t>
            </a:r>
            <a:endParaRPr b="0" lang="en-US" sz="2000" spc="-1" strike="noStrike">
              <a:solidFill>
                <a:srgbClr val="b9db0e"/>
              </a:solidFill>
              <a:latin typeface="Arial"/>
            </a:endParaRPr>
          </a:p>
          <a:p>
            <a:pPr marL="262080" indent="-26208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9db0e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08000" y="30240"/>
            <a:ext cx="9036000" cy="21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erational forecasts: January 2013</a:t>
            </a:r>
            <a:endParaRPr b="0" lang="en-US" sz="3200" spc="-1" strike="noStrike">
              <a:solidFill>
                <a:srgbClr val="b9db0e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b9db0e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b9db0e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b9db0e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b9db0e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rcRect l="0" t="0" r="0" b="65801"/>
          <a:stretch/>
        </p:blipFill>
        <p:spPr>
          <a:xfrm>
            <a:off x="324000" y="1209600"/>
            <a:ext cx="3286080" cy="14986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4140360" y="1027080"/>
            <a:ext cx="4627440" cy="44686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042920" y="836640"/>
            <a:ext cx="19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servations</a:t>
            </a:r>
            <a:endParaRPr b="0" lang="en-US" sz="20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940360" y="76500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ecast</a:t>
            </a:r>
            <a:endParaRPr b="0" lang="en-US" sz="20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52280" y="5867280"/>
            <a:ext cx="5867640" cy="91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gnals appearing in forecasts from 2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Dec</a:t>
            </a:r>
            <a:endParaRPr b="0" lang="en-US" sz="1800" spc="-1" strike="noStrike">
              <a:solidFill>
                <a:srgbClr val="b9db0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rning provided to Dept for Transport 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Ja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endParaRPr b="0" lang="en-US" sz="1800" spc="-1" strike="noStrike">
              <a:solidFill>
                <a:srgbClr val="b9db0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longed snow from ~Jan 2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onwards</a:t>
            </a:r>
            <a:endParaRPr b="0" lang="en-US" sz="1800" spc="-1" strike="noStrike">
              <a:solidFill>
                <a:srgbClr val="b9db0e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395280" y="3213000"/>
            <a:ext cx="3240000" cy="20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560" y="347760"/>
            <a:ext cx="838188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dividual win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rcRect l="0" t="0" r="0" b="20532"/>
          <a:stretch/>
        </p:blipFill>
        <p:spPr>
          <a:xfrm>
            <a:off x="533520" y="1219320"/>
            <a:ext cx="4343400" cy="43196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rcRect l="0" t="0" r="0" b="15120"/>
          <a:stretch/>
        </p:blipFill>
        <p:spPr>
          <a:xfrm>
            <a:off x="4683240" y="1143000"/>
            <a:ext cx="4003560" cy="41911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371600" y="5638680"/>
            <a:ext cx="6172200" cy="838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ividual winters from 1992/3 to 2011/12</a:t>
            </a:r>
            <a:endParaRPr b="0" lang="en-US" sz="1600" spc="-1" strike="noStrike">
              <a:solidFill>
                <a:srgbClr val="b9db0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ttern of ensemble mean similar in many cases but not all</a:t>
            </a:r>
            <a:endParaRPr b="0" lang="en-US" sz="1600" spc="-1" strike="noStrike">
              <a:solidFill>
                <a:srgbClr val="b9db0e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693432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Winter NAO hindcasts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rcRect l="0" t="10072" r="0" b="47750"/>
          <a:stretch/>
        </p:blipFill>
        <p:spPr>
          <a:xfrm>
            <a:off x="1143000" y="1828800"/>
            <a:ext cx="6867360" cy="28717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371600" y="4952880"/>
            <a:ext cx="6172200" cy="838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rrelation score = </a:t>
            </a:r>
            <a:r>
              <a:rPr b="1" lang="en-GB" sz="16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0.62</a:t>
            </a:r>
            <a:endParaRPr b="0" lang="en-US" sz="1600" spc="-1" strike="noStrike">
              <a:solidFill>
                <a:srgbClr val="b9db0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ded to 20 years and 24 members for DJF </a:t>
            </a:r>
            <a:endParaRPr b="0" lang="en-US" sz="1600" spc="-1" strike="noStrike">
              <a:solidFill>
                <a:srgbClr val="b9db0e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asonal Skill for surface clim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405320" y="685800"/>
            <a:ext cx="3841920" cy="53341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533520" y="685800"/>
            <a:ext cx="3841560" cy="53341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447920" y="5713560"/>
            <a:ext cx="6095880" cy="91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kilful predictions of extreme events months ahead</a:t>
            </a:r>
            <a:endParaRPr b="0" lang="en-US" sz="1800" spc="-1" strike="noStrike">
              <a:solidFill>
                <a:srgbClr val="b9db0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b9db0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kill in E Atlantic and Europe is from the NAO</a:t>
            </a:r>
            <a:endParaRPr b="0" lang="en-US" sz="18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228600" y="6629400"/>
            <a:ext cx="220968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aife et al 2014</a:t>
            </a:r>
            <a:endParaRPr b="0" lang="en-US" sz="8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881360" y="762120"/>
            <a:ext cx="1322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ecast skill</a:t>
            </a:r>
            <a:endParaRPr b="0" lang="en-US" sz="14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779080" y="762120"/>
            <a:ext cx="1537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rom NAO alone</a:t>
            </a:r>
            <a:endParaRPr b="0" lang="en-US" sz="14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7040" y="1447920"/>
            <a:ext cx="794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orms</a:t>
            </a:r>
            <a:endParaRPr b="0" lang="en-US" sz="14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05840" y="2971800"/>
            <a:ext cx="65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mp</a:t>
            </a:r>
            <a:endParaRPr b="0" lang="en-US" sz="14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5440" y="4648320"/>
            <a:ext cx="615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nd</a:t>
            </a:r>
            <a:endParaRPr b="0" lang="en-US" sz="1400" spc="-1" strike="noStrike">
              <a:solidFill>
                <a:srgbClr val="b9db0e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49816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urces of predictability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880" y="5628960"/>
            <a:ext cx="7777440" cy="1152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trongest minus weakest cases for November predictor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NSO, Atlantic Ocean, Kara sea-ice and Quasi Biennial Oscil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esponse is weaker in model than o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1187280" y="838080"/>
            <a:ext cx="6743880" cy="48006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2411280" y="907920"/>
            <a:ext cx="1008360" cy="865440"/>
          </a:xfrm>
          <a:prstGeom prst="ellipse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476360" y="4005360"/>
            <a:ext cx="1008000" cy="865080"/>
          </a:xfrm>
          <a:prstGeom prst="ellipse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9db0e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rge ensembles are need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rcRect l="0" t="0" r="0" b="34906"/>
          <a:stretch/>
        </p:blipFill>
        <p:spPr>
          <a:xfrm>
            <a:off x="1371600" y="1122480"/>
            <a:ext cx="6400800" cy="42876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143000" y="5562720"/>
            <a:ext cx="6781680" cy="838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4 member ensemble shows strong sensitivity to ensemble size</a:t>
            </a:r>
            <a:endParaRPr b="0" lang="en-US" sz="1600" spc="-1" strike="noStrike">
              <a:solidFill>
                <a:srgbClr val="b9db0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hing special about 0.62 and higher values are possible!</a:t>
            </a:r>
            <a:endParaRPr b="0" lang="en-US" sz="1600" spc="-1" strike="noStrike">
              <a:solidFill>
                <a:srgbClr val="b9db0e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2T09:40:06Z</dcterms:created>
  <dc:creator>helen.chater</dc:creator>
  <dc:description>submitted 26.7.2005     CHG015666 refers</dc:description>
  <dc:language>en-US</dc:language>
  <cp:lastModifiedBy>adam.scaife</cp:lastModifiedBy>
  <cp:lastPrinted>2004-10-15T09:34:20Z</cp:lastPrinted>
  <dcterms:modified xsi:type="dcterms:W3CDTF">2014-03-10T16:53:13Z</dcterms:modified>
  <cp:revision>209</cp:revision>
  <dc:subject/>
  <dc:title>Title of Presentation</dc:title>
</cp:coreProperties>
</file>