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124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16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1432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7124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16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14320" y="349200"/>
            <a:ext cx="6970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124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16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1432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124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16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14320" y="349200"/>
            <a:ext cx="6970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6551640"/>
            <a:ext cx="289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57120" y="392040"/>
            <a:ext cx="116208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2880" y="214200"/>
            <a:ext cx="1357560" cy="142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65516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57120" y="392040"/>
            <a:ext cx="11620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347400"/>
            <a:ext cx="69328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2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5040" bIns="46800" anchor="t">
            <a:normAutofit/>
          </a:bodyPr>
          <a:p>
            <a:pPr marL="343080" indent="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84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1120" bIns="46800" anchor="b">
            <a:noAutofit/>
          </a:bodyPr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tratosphere resolving Historical</a:t>
            </a: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orecast Project  </a:t>
            </a: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y Butler, Adam Scaife, Alexey Karpechko, 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rew Charlton-Perez, Alan O’Neill, 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alia Calvo, Maria Athanassiadou, 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s others to be confirmed…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734080"/>
            <a:ext cx="78962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920" bIns="46800" anchor="t">
            <a:noAutofit/>
          </a:bodyPr>
          <a:p>
            <a:pPr algn="ctr">
              <a:lnSpc>
                <a:spcPct val="47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460520"/>
            <a:ext cx="7391520" cy="52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228600"/>
            <a:ext cx="7848360" cy="13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troposhere Northern Annular Mode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1339920"/>
            <a:ext cx="7162920" cy="551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76320"/>
            <a:ext cx="7848360" cy="13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es in the stratosphere and troposphere</a:t>
            </a:r>
            <a:endParaRPr b="0" lang="en-US" sz="28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339920"/>
            <a:ext cx="7467840" cy="5441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4080"/>
            <a:ext cx="7848720" cy="13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O in sea level pressure – Hi Top vs Low Top</a:t>
            </a: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1425600"/>
            <a:ext cx="7010640" cy="5432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1981080"/>
            <a:ext cx="1981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52280"/>
            <a:ext cx="7848360" cy="13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Atlantic Oscill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ual definition)</a:t>
            </a: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417600"/>
            <a:ext cx="8839440" cy="6440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0"/>
            <a:ext cx="8915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 winter skill in stratosphere resolving models</a:t>
            </a:r>
            <a:endParaRPr b="0" lang="en-US" sz="28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6360"/>
            <a:ext cx="7848360" cy="13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a skill is from ENS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572000" cy="341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390920" y="1969920"/>
            <a:ext cx="4753080" cy="3440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5410080"/>
            <a:ext cx="1981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3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FP activity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828800"/>
            <a:ext cx="8305920" cy="4235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ven high top and seven low top models are now in the CHFP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are being analysed by our WCRP-SPARC colleague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 top models show higher skill (but this is an ensemble of opportunity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differences in skill are apparent in relevant surface quantitie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differences are prominent over the northern extratropics in winter and appear to be related to ENSO teleconnections which are already known to operate via the stratospher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aper is in preparation led by Amy – should we add one person from each data providing centre?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920" y="1274760"/>
            <a:ext cx="6781680" cy="5481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76320"/>
            <a:ext cx="7848360" cy="13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face Northern Annular Mode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14-03-07T18:24:39Z</dcterms:modified>
  <cp:revision>184</cp:revision>
  <dc:subject/>
  <dc:title>Title of Presentation</dc:title>
</cp:coreProperties>
</file>