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5880" y="392040"/>
            <a:ext cx="643896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44720" y="866880"/>
            <a:ext cx="7199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78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5A9EC-67F2-44EC-9537-FD6AAFEA49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419360" y="25585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ffcc"/>
                </a:solidFill>
                <a:latin typeface="Arial"/>
              </a:rPr>
              <a:t>Hervé Dou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99ffcc"/>
                </a:solidFill>
                <a:latin typeface="Arial"/>
              </a:rPr>
              <a:t>Météo-F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99ffcc"/>
                </a:solidFill>
                <a:latin typeface="Arial"/>
              </a:rPr>
              <a:t>CNRM/GMGEC/VD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99ffcc"/>
                </a:solidFill>
                <a:latin typeface="Arial"/>
              </a:rPr>
              <a:t>herve.douville@meteo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639756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WGSIP 16th session, Exeter,, 10-12/03/20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16240" y="152280"/>
            <a:ext cx="647676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DejaVu Sans"/>
              </a:rPr>
              <a:t>Land surface impacts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DejaVu Sans"/>
              </a:rPr>
              <a:t>on seasonal foreca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DejaVu Sans"/>
              </a:rPr>
              <a:t>(not adding much new since May 20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DejaVu Sans"/>
              </a:rPr>
              <a:t>WCRP workshop on S2D predic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960" y="1294920"/>
            <a:ext cx="87627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0080" indent="-2728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S impacts can be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overestimat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f the focus i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tential rather than effective predictability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Jeong et al. 2013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reme case studies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Ferranti and Viterbo 2006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ndcasts rather than real-time forecasts 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Koster et al. 201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S impacts can be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derestimat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ck of LS variability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Hardimann et al. 200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sing LS processes such as groundwater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Bierkens and van den Hurk 200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or vegetation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Gao et al. 200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ck of ocean coupling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Henderson et al. 2013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955520" y="151920"/>
            <a:ext cx="6730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Limitation of numerical studies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55880" y="0"/>
            <a:ext cx="68832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Lack of multi-variate studies </a:t>
            </a:r>
            <a:br>
              <a:rPr sz="2800"/>
            </a:b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Ex: soil moisture &amp; LAI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079640"/>
            <a:ext cx="54388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uth West US JJA soil moisture &amp; LAI </a:t>
            </a:r>
            <a:r>
              <a:rPr b="0" lang="fr-FR" sz="2400" spc="-1" strike="noStrike">
                <a:solidFill>
                  <a:srgbClr val="579d1c"/>
                </a:solidFill>
                <a:latin typeface="Arial"/>
              </a:rPr>
              <a:t>composites of JJA T2M (°C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ver North America in a CMIP5 historical simulation based on CCSM4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219320"/>
            <a:ext cx="2743200" cy="4443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st studies on summertime land-atmosphere interactions focus either on soil moisture (e.g.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579d1c"/>
                </a:solidFill>
                <a:latin typeface="Arial"/>
              </a:rPr>
              <a:t>Koster et al. 201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or on vegetation (e.g. </a:t>
            </a:r>
            <a:r>
              <a:rPr b="0" lang="fr-FR" sz="2400" spc="-1" strike="noStrike">
                <a:solidFill>
                  <a:srgbClr val="579d1c"/>
                </a:solidFill>
                <a:latin typeface="Arial"/>
              </a:rPr>
              <a:t>Weiss et al. 201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while both contribute to the interannual variability of evapotra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2362320"/>
            <a:ext cx="5268960" cy="4189320"/>
            <a:chOff x="380880" y="2362320"/>
            <a:chExt cx="5268960" cy="41893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80880" y="2362320"/>
              <a:ext cx="5268960" cy="41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052880" y="5029200"/>
              <a:ext cx="152100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55520" y="0"/>
            <a:ext cx="71881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Lack of ocean coupling:</a:t>
            </a:r>
            <a:br>
              <a:rPr sz="2800"/>
            </a:b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Land surface impacts can be SST-mediated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990720"/>
            <a:ext cx="571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act of Max minus Min snow dep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ver Eurasia on seasonal mean SST 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1143000"/>
            <a:ext cx="2819520" cy="2579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Henderson et al. (2013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howed a significant and persistent SST cooling, both downstream and upstream of the snow for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920" y="1676520"/>
            <a:ext cx="5559480" cy="2238120"/>
            <a:chOff x="304920" y="1676520"/>
            <a:chExt cx="5559480" cy="2238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rcRect l="0" t="0" r="0" b="59306"/>
            <a:stretch/>
          </p:blipFill>
          <p:spPr>
            <a:xfrm>
              <a:off x="304920" y="1676520"/>
              <a:ext cx="540684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rcRect l="0" t="79964" r="0" b="7907"/>
            <a:stretch/>
          </p:blipFill>
          <p:spPr>
            <a:xfrm>
              <a:off x="457200" y="3403440"/>
              <a:ext cx="5407200" cy="51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264960" y="3962520"/>
            <a:ext cx="5602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act of soil moisture initialization on JJA T2m predictability at 16-30 day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038480"/>
            <a:ext cx="2819520" cy="2579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Van den Hurk et al. (2012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howed a stronger impa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upled than with AMIP SST =&gt; land surface impacts on SST predictabilit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rcRect l="12385" t="70550" r="6193" b="15254"/>
          <a:stretch/>
        </p:blipFill>
        <p:spPr>
          <a:xfrm>
            <a:off x="838080" y="6019920"/>
            <a:ext cx="4143600" cy="7506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611280" y="4657680"/>
            <a:ext cx="4568760" cy="1359000"/>
            <a:chOff x="611280" y="4657680"/>
            <a:chExt cx="4568760" cy="135900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rcRect l="8288" t="28237" r="6842" b="50904"/>
            <a:stretch/>
          </p:blipFill>
          <p:spPr>
            <a:xfrm>
              <a:off x="611280" y="4657680"/>
              <a:ext cx="456876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42400" y="5668920"/>
              <a:ext cx="1591920" cy="307080"/>
            </a:xfrm>
            <a:prstGeom prst="rect">
              <a:avLst/>
            </a:prstGeom>
            <a:solidFill>
              <a:srgbClr val="ffc1ff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MWF-coupl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5672160"/>
              <a:ext cx="1355760" cy="307080"/>
            </a:xfrm>
            <a:prstGeom prst="rect">
              <a:avLst/>
            </a:prstGeom>
            <a:solidFill>
              <a:srgbClr val="ffc1ff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MWF-AMI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55520" y="36360"/>
            <a:ext cx="67309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ff"/>
                </a:solidFill>
                <a:latin typeface="Arial"/>
                <a:ea typeface="Arial"/>
              </a:rPr>
              <a:t>Sensitivity to soil moisture initialization</a:t>
            </a: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(a CNRM’s contribution to SPECS)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6960" y="4513320"/>
            <a:ext cx="71517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22 years (1991-2012), 30 members (perturbed IC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4 starting dates: May 1st, June 1st, July 1st, August 1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ARPEGE v6.1 (Tl127L91)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coupl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 to Nemo 3.2 (1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Two soil moisture initializ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  <a:ea typeface="Tahoma"/>
              </a:rPr>
              <a:t>ERAI-Lan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ahoma"/>
              </a:rPr>
              <a:t>ERAI-Land climatolog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32760" y="1038240"/>
            <a:ext cx="7329600" cy="3386160"/>
            <a:chOff x="932760" y="1038240"/>
            <a:chExt cx="7329600" cy="3386160"/>
          </a:xfrm>
        </p:grpSpPr>
        <p:sp>
          <p:nvSpPr>
            <p:cNvPr id="178" name=""/>
            <p:cNvSpPr/>
            <p:nvPr/>
          </p:nvSpPr>
          <p:spPr>
            <a:xfrm>
              <a:off x="932760" y="1038240"/>
              <a:ext cx="3562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TMAX skill score (mean AC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over </a:t>
              </a:r>
              <a:r>
                <a:rPr b="0" lang="fr-FR" sz="2000" spc="-1" strike="noStrike">
                  <a:solidFill>
                    <a:srgbClr val="579d1c"/>
                  </a:solidFill>
                  <a:latin typeface="Arial"/>
                  <a:ea typeface="Tahoma"/>
                </a:rPr>
                <a:t>North Amer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99800" y="1038240"/>
              <a:ext cx="3562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TMAX skill score (mean AC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over </a:t>
              </a:r>
              <a:r>
                <a:rPr b="0" lang="fr-FR" sz="2000" spc="-1" strike="noStrike">
                  <a:solidFill>
                    <a:srgbClr val="579d1c"/>
                  </a:solidFill>
                  <a:latin typeface="Arial"/>
                  <a:ea typeface="Tahoma"/>
                </a:rPr>
                <a:t>Euro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66960" y="1733400"/>
              <a:ext cx="7111440" cy="2691000"/>
              <a:chOff x="966960" y="1733400"/>
              <a:chExt cx="7111440" cy="26910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966960" y="1733400"/>
                <a:ext cx="1466280" cy="2691000"/>
                <a:chOff x="966960" y="1733400"/>
                <a:chExt cx="1466280" cy="2691000"/>
              </a:xfrm>
            </p:grpSpPr>
            <p:pic>
              <p:nvPicPr>
                <p:cNvPr id="1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66960" y="1987560"/>
                  <a:ext cx="1466280" cy="243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>
                  <a:off x="1203840" y="1733400"/>
                  <a:ext cx="10998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just">
                    <a:lnSpc>
                      <a:spcPct val="9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Month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824920" y="1733400"/>
                <a:ext cx="1466640" cy="2691000"/>
                <a:chOff x="2824920" y="1733400"/>
                <a:chExt cx="1466640" cy="2691000"/>
              </a:xfrm>
            </p:grpSpPr>
            <p:pic>
              <p:nvPicPr>
                <p:cNvPr id="1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24920" y="1987560"/>
                  <a:ext cx="1466640" cy="243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>
                  <a:off x="3081240" y="1733400"/>
                  <a:ext cx="10998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just">
                    <a:lnSpc>
                      <a:spcPct val="9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Month 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777200" y="1733400"/>
                <a:ext cx="1466640" cy="2691000"/>
                <a:chOff x="4777200" y="1733400"/>
                <a:chExt cx="1466640" cy="2691000"/>
              </a:xfrm>
            </p:grpSpPr>
            <p:pic>
              <p:nvPicPr>
                <p:cNvPr id="18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77200" y="1987560"/>
                  <a:ext cx="1466640" cy="243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>
                  <a:off x="5044680" y="1733400"/>
                  <a:ext cx="10998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just">
                    <a:lnSpc>
                      <a:spcPct val="9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Month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612120" y="1733400"/>
                <a:ext cx="1466280" cy="2691000"/>
                <a:chOff x="6612120" y="1733400"/>
                <a:chExt cx="1466280" cy="2691000"/>
              </a:xfrm>
            </p:grpSpPr>
            <p:pic>
              <p:nvPicPr>
                <p:cNvPr id="1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612120" y="1987560"/>
                  <a:ext cx="1466280" cy="243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>
                  <a:off x="6874560" y="1733400"/>
                  <a:ext cx="10998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just">
                    <a:lnSpc>
                      <a:spcPct val="9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Month 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3" name=""/>
          <p:cNvSpPr/>
          <p:nvPr/>
        </p:nvSpPr>
        <p:spPr>
          <a:xfrm>
            <a:off x="6964200" y="5184720"/>
            <a:ext cx="2071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95% confidence intervals (using 20 out of 30 membe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62600" y="6361200"/>
            <a:ext cx="289656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C. Ardilouze, pers. c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19160" y="71280"/>
            <a:ext cx="26528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7920" y="882720"/>
            <a:ext cx="827244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re is both statistical and numerical eviden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local and remote land surface impac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mon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seasonal climate predictab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ch impacts are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model-depende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stronger for temperature (including extremes) than for precipitation, variable across regions and seas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d surface predictability is itself often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limit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y the low predictability of precipitation (especially for dry I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need improved observations, land surface models and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land surface data assimilation system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or both long-term reanalyses (e.g. GSWP3, Earth2Observe) and real-time init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499080" y="76320"/>
            <a:ext cx="256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6934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tivation and outline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4343400" cy="3981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1676520"/>
            <a:ext cx="1440" cy="2743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076400"/>
            <a:ext cx="15242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200400"/>
            <a:ext cx="7632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200400"/>
            <a:ext cx="60948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57400" y="1143000"/>
            <a:ext cx="2130480" cy="3121200"/>
            <a:chOff x="2057400" y="1143000"/>
            <a:chExt cx="2130480" cy="3121200"/>
          </a:xfrm>
        </p:grpSpPr>
        <p:sp>
          <p:nvSpPr>
            <p:cNvPr id="90" name=""/>
            <p:cNvSpPr/>
            <p:nvPr/>
          </p:nvSpPr>
          <p:spPr>
            <a:xfrm>
              <a:off x="2057400" y="1143000"/>
              <a:ext cx="21304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Arial"/>
                </a:rPr>
                <a:t>Stratosp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1523880"/>
              <a:ext cx="453960" cy="2740320"/>
            </a:xfrm>
            <a:prstGeom prst="line">
              <a:avLst/>
            </a:prstGeom>
            <a:ln cap="sq"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905120" y="2590920"/>
            <a:ext cx="14475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upled OAG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8120" y="1676520"/>
            <a:ext cx="2130480" cy="3120840"/>
            <a:chOff x="3048120" y="1676520"/>
            <a:chExt cx="2130480" cy="3120840"/>
          </a:xfrm>
        </p:grpSpPr>
        <p:sp>
          <p:nvSpPr>
            <p:cNvPr id="94" name=""/>
            <p:cNvSpPr/>
            <p:nvPr/>
          </p:nvSpPr>
          <p:spPr>
            <a:xfrm>
              <a:off x="3048120" y="1676520"/>
              <a:ext cx="21304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Arial"/>
                </a:rPr>
                <a:t>Radiative forcin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196800" y="4797360"/>
              <a:ext cx="9176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114800" y="2282040"/>
              <a:ext cx="0" cy="25146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57800" y="266652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5800" indent="-415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ae2112"/>
                </a:solidFill>
                <a:latin typeface="Arial"/>
              </a:rPr>
              <a:t>Observational studies (and their limit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9933ff"/>
                </a:solidFill>
                <a:latin typeface="Arial"/>
              </a:rPr>
              <a:t>Numerical studies (and their limit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3333ff"/>
                </a:solidFill>
                <a:latin typeface="Arial"/>
              </a:rPr>
              <a:t>Some reasons not to despair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90720" y="1838160"/>
            <a:ext cx="2130480" cy="3949920"/>
            <a:chOff x="990720" y="1838160"/>
            <a:chExt cx="2130480" cy="3949920"/>
          </a:xfrm>
        </p:grpSpPr>
        <p:sp>
          <p:nvSpPr>
            <p:cNvPr id="99" name=""/>
            <p:cNvSpPr/>
            <p:nvPr/>
          </p:nvSpPr>
          <p:spPr>
            <a:xfrm>
              <a:off x="1676520" y="2438280"/>
              <a:ext cx="758880" cy="2664000"/>
            </a:xfrm>
            <a:prstGeom prst="line">
              <a:avLst/>
            </a:prstGeom>
            <a:ln cap="sq"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1838160"/>
              <a:ext cx="14446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9900"/>
                  </a:solidFill>
                  <a:latin typeface="Arial"/>
                </a:rPr>
                <a:t>Land sur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28800" y="5105520"/>
              <a:ext cx="1292400" cy="682560"/>
            </a:xfrm>
            <a:prstGeom prst="ellipse">
              <a:avLst/>
            </a:prstGeom>
            <a:noFill/>
            <a:ln cap="sq"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853400" y="76320"/>
            <a:ext cx="1214280" cy="167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019920"/>
            <a:ext cx="441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ffffff"/>
                </a:solidFill>
                <a:latin typeface="Arial"/>
                <a:ea typeface="Arial Unicode MS"/>
              </a:rPr>
              <a:t>« Need to improve the representation of climate system interactions and their potential to improve forecast quality.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 Unicode MS"/>
              </a:rPr>
              <a:t> » (WCRP position paper, Barcelona 200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629400" y="62485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8580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ae2112"/>
                </a:solidFill>
                <a:latin typeface="Arial"/>
              </a:rPr>
              <a:t>Local impact of spring soil moisture </a:t>
            </a:r>
            <a:br>
              <a:rPr sz="2800"/>
            </a:br>
            <a:r>
              <a:rPr b="0" lang="fr-FR" sz="2800" spc="-1" strike="noStrike">
                <a:solidFill>
                  <a:srgbClr val="ae2112"/>
                </a:solidFill>
                <a:latin typeface="Arial"/>
              </a:rPr>
              <a:t>on summer surface air temperature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70852" r="0" b="0"/>
          <a:stretch/>
        </p:blipFill>
        <p:spPr>
          <a:xfrm>
            <a:off x="457200" y="2570040"/>
            <a:ext cx="3886200" cy="299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1123920"/>
            <a:ext cx="4038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JJA Tma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rediction sk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cross-validated over 1950-2001) using the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PDS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M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 a predi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Alfaro et al.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1728" t="23049" r="0" b="0"/>
          <a:stretch/>
        </p:blipFill>
        <p:spPr>
          <a:xfrm>
            <a:off x="4559400" y="2666880"/>
            <a:ext cx="4127400" cy="30276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546440" y="5562720"/>
            <a:ext cx="4442040" cy="314280"/>
            <a:chOff x="4546440" y="5562720"/>
            <a:chExt cx="4442040" cy="31428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rcRect l="0" t="0" r="30763" b="0"/>
            <a:stretch/>
          </p:blipFill>
          <p:spPr>
            <a:xfrm>
              <a:off x="4546440" y="5562720"/>
              <a:ext cx="369576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rcRect l="6833" t="0" r="0" b="0"/>
            <a:stretch/>
          </p:blipFill>
          <p:spPr>
            <a:xfrm>
              <a:off x="8273880" y="5587920"/>
              <a:ext cx="7146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5410080" y="1123920"/>
            <a:ext cx="2819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le regression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% of JJA hot d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6-month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eastern Eur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Hirschi et al.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952960"/>
            <a:ext cx="8381880" cy="67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gnificant but asymmetric impact of spring « soil moisture » on summer mid-latitude temperatures and their extr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29400" y="62485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55880" y="0"/>
            <a:ext cx="70358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ae2112"/>
                </a:solidFill>
                <a:latin typeface="Arial"/>
              </a:rPr>
              <a:t>Remote impact of fall / spring snow cover on the subsequent AO / Indian monsoon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24582"/>
          <a:stretch/>
        </p:blipFill>
        <p:spPr>
          <a:xfrm>
            <a:off x="4876920" y="2362320"/>
            <a:ext cx="3779640" cy="3333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95680" y="99072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lation betw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fall Eurasian snow c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d winter Arctic Oscil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973-1996)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Cohen &amp; Entekhabi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867280"/>
            <a:ext cx="8305920" cy="67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istical studies also suggest remote land surface impacts e.g. related to the variability of the Eurasian snow c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47760" y="1063800"/>
            <a:ext cx="4221000" cy="4572000"/>
            <a:chOff x="347760" y="1063800"/>
            <a:chExt cx="4221000" cy="4572000"/>
          </a:xfrm>
        </p:grpSpPr>
        <p:sp>
          <p:nvSpPr>
            <p:cNvPr id="120" name=""/>
            <p:cNvSpPr/>
            <p:nvPr/>
          </p:nvSpPr>
          <p:spPr>
            <a:xfrm>
              <a:off x="500040" y="1063800"/>
              <a:ext cx="40356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Strong-Weak Indian summer monsoon rainfall composite of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Arial"/>
                </a:rPr>
                <a:t>spring Eurasian snow cov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or neutral ENSO year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(1967-2001) </a:t>
              </a:r>
              <a:r>
                <a:rPr b="0" lang="fr-FR" sz="2000" spc="-1" strike="noStrike">
                  <a:solidFill>
                    <a:srgbClr val="009900"/>
                  </a:solidFill>
                  <a:latin typeface="Arial"/>
                </a:rPr>
                <a:t>Fasullo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47760" y="2590920"/>
              <a:ext cx="4221000" cy="3044880"/>
              <a:chOff x="347760" y="2590920"/>
              <a:chExt cx="4221000" cy="30448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7760" y="2590920"/>
                <a:ext cx="4221000" cy="304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3471840" y="3505320"/>
                <a:ext cx="1063800" cy="1216080"/>
              </a:xfrm>
              <a:prstGeom prst="ellipse">
                <a:avLst/>
              </a:prstGeom>
              <a:noFill/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4495680" y="990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lation betw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fall Eurasian snow c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d winter Arctic Oscil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973-1996)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Cohen &amp; Entekhabi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998-2010)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Cohen &amp; Jones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55520" y="151920"/>
            <a:ext cx="6730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ae2112"/>
                </a:solidFill>
                <a:latin typeface="Arial"/>
              </a:rPr>
              <a:t>Limitation of statistical studies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0080" indent="-272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ck of reliable global land surface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xy rather than direct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el-dependent &amp; non-homogeneous land surface re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hort satellite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ck of statistical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 test at all or test hypotheses not fully satis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n-stationarity of the suggested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verconfidence in the prediction skill (e.g. cross-vali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istical relationship does not mean caus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ysical mechanism remains un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arent relationship due to a common SST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638680"/>
            <a:ext cx="7267320" cy="396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=&gt; Need of numerical sensitivity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77120" y="6324480"/>
            <a:ext cx="2514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BFF0C-733C-4184-9826-4C63BDCBA8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0"/>
            <a:ext cx="7112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Impact of soil moisture initialization</a:t>
            </a:r>
            <a:br>
              <a:rPr sz="2800"/>
            </a:b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on multi-model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“consensus” 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9450"/>
          <a:stretch/>
        </p:blipFill>
        <p:spPr>
          <a:xfrm>
            <a:off x="298440" y="1255680"/>
            <a:ext cx="5035680" cy="458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1020600"/>
            <a:ext cx="4762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Impact on pot. predictability (r²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Arial"/>
              </a:rPr>
              <a:t>ideal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143000"/>
            <a:ext cx="320040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CE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Koster et al.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month hind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10 year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986-199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10 memb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AGCMs driven by prescribed observed S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eries: GSWP-2 vs random 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952960"/>
            <a:ext cx="8381880" cy="67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gnificant impact o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potentia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redictability for temperature (much weaker for precipitation) at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subseasona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im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4BACA-FE0A-4257-952D-B4ED8F62AF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4440" y="1219320"/>
            <a:ext cx="5089680" cy="5289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1020600"/>
            <a:ext cx="50119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Impact on effective predictability (r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72800" y="6397560"/>
            <a:ext cx="217404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Koster et al.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1143000"/>
            <a:ext cx="3048120" cy="48826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limited impacts on skill (r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increase dramatically when conditioned on the size of the initial soil moisture anom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stronger in areas with dense rain gauge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vary across the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79560" y="0"/>
            <a:ext cx="7112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Impact of soil moisture initialization</a:t>
            </a:r>
            <a:br>
              <a:rPr sz="2800"/>
            </a:b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on multi-model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“consensus” 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55520" y="36360"/>
            <a:ext cx="67309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  <a:ea typeface="Arial"/>
              </a:rPr>
              <a:t>Sensitivity to soil moisture initialization</a:t>
            </a: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(a KNMI’s contribution to SPECS)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5320" y="4770360"/>
            <a:ext cx="71517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EC-Earth AGCM (observed SST) including H-TESSEL L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5 starting dates: May 1st, Jun 1st, Jul 1st, Aug 1st, Sep 1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Two soil moisture initializ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- Series 1 = « realistic » (H-TESSEL driven by ERA40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- Series 2 = « random 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57480" y="22240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68444"/>
          <a:stretch/>
        </p:blipFill>
        <p:spPr>
          <a:xfrm>
            <a:off x="2655720" y="1292400"/>
            <a:ext cx="5883480" cy="303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15160" y="1066680"/>
            <a:ext cx="522216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ummer 2010 Russian heatwave case 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35960" y="4281480"/>
            <a:ext cx="534564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diction of daily T2M over Russia (vs </a:t>
            </a:r>
            <a:r>
              <a:rPr b="0" lang="fr-FR" sz="2000" spc="-1" strike="noStrike">
                <a:solidFill>
                  <a:srgbClr val="3333ff"/>
                </a:solidFill>
                <a:latin typeface="Arial"/>
              </a:rPr>
              <a:t>ERA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640" y="1295280"/>
            <a:ext cx="2160720" cy="32558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il mois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iliz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es not hel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predi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eatwave, 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roves T2M forecast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gust o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heatwa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s sett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65520" y="6361200"/>
            <a:ext cx="337644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B. Van den Hurk, pers. c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0" r="0" b="6790"/>
          <a:stretch/>
        </p:blipFill>
        <p:spPr>
          <a:xfrm>
            <a:off x="254160" y="1671480"/>
            <a:ext cx="4317840" cy="39672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55520" y="0"/>
            <a:ext cx="71881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Impact of snow mass initialization</a:t>
            </a:r>
            <a:br>
              <a:rPr sz="2800"/>
            </a:b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on T2M predictability in NCAR AGCM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0" t="0" r="0" b="8423"/>
          <a:stretch/>
        </p:blipFill>
        <p:spPr>
          <a:xfrm>
            <a:off x="4659480" y="1690560"/>
            <a:ext cx="4332240" cy="3935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29360" y="5635800"/>
            <a:ext cx="236160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Jeong et al. (2013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029280"/>
            <a:ext cx="8153280" cy="718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itive impact on r²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dea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ut not so clear on r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 years are not enough for an accurate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440" y="979560"/>
            <a:ext cx="8034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act of snow initialization (1999-2010) 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potential predictability r²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Arial"/>
              </a:rPr>
              <a:t>ideal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         effective predictability (r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ixteam</dc:creator>
  <dc:description/>
  <dc:language>en-US</dc:language>
  <cp:lastModifiedBy>douvil</cp:lastModifiedBy>
  <dcterms:modified xsi:type="dcterms:W3CDTF">2014-03-11T09:21:50Z</dcterms:modified>
  <cp:revision>260</cp:revision>
  <dc:subject/>
  <dc:title>PowerPoint Presentation</dc:title>
</cp:coreProperties>
</file>