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AD8-4CC9-4202-B3D0-6A690ADC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EAC-932E-496D-A20D-1588C2A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922-B521-4D80-A613-214631E3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3AE-CD02-42E6-8AAA-D3C5DCE5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708-D259-4823-A461-D9179617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5E14-8E44-4256-A55A-C1393128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1ECB-63DE-409D-8B60-EF2FDE3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6C2-9325-4CFE-8D80-F7457AE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62D-042E-47E0-B56F-3A9D045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2A8A-6535-42D4-B1A9-D4438041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4D7-FCA8-4E63-8488-37706A5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BC3-C777-4EC0-A3B9-21B5B2D1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E38-2B7D-47F5-B100-B225A2D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B350-0353-4B38-A704-287478E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E05F-6AF4-4C19-B266-2A488B4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7C9-D186-4A8F-AEE2-A600D6A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6E1-7206-470B-980F-31618C01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2C89-078B-4368-AAF1-23E29F4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24DB-3C5E-47F7-8C86-8C85173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E0A2-87C6-4920-A7E0-32C326AF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10A9-0BEF-4B6B-BC45-CA1E295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C84F-9873-45F9-89C7-9557BD8D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3A4-CF59-480A-A0AD-E38AE45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F6FD-96DA-40E0-BD3B-5E99F91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2847-F095-4749-AB81-3EDEF37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AFEA-2D5F-4278-8C39-5076614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ED46-CE39-4D96-A3BB-72C2CAC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46ED-F5E9-4F53-BF66-7EDAF067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0C35-8508-475A-8AC9-E2F036C8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C7BA-FD01-4068-B017-E9E267B0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C38D-BA5C-440A-9EAB-BAD4F8B7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A5AF-3726-4C7F-8C29-D5DE171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E075-3F27-47E3-B188-C67FCB6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2BC-7197-42FF-B2E8-C83A6EF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FB0C-4508-487E-A1BA-8090DC9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1B3B-EF97-491B-9D94-B78FA86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F813-1864-4B16-9514-7E6CA55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E654-3A8A-4A92-BF80-14261EC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B35A-0FB8-4B11-8507-642A215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CB46-0532-48D2-A451-BDF7638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6AE9-E932-47C7-B874-DCA630F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3D55-E70E-46D9-BFEC-C8675D70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DE35-B788-469F-93DA-6151CE14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4C6-0366-49FF-8437-ECD4D13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E4A-A000-4BF6-AF27-D17C550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A26-A51B-4D3D-BE35-05AFF11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9F6-EDE2-4270-9411-F2BCD25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B73-10DD-47C6-97FA-AD46EAF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3226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F1E50-ABA6-465D-91AB-79AD01D4835E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Haga clic para modificar el estilo de texto del patrón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Segundo nivel</a:t>
            </a:r>
            <a:endParaRPr b="0" lang="es-AR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Tercer ni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200" spc="-1" strike="noStrike">
                <a:solidFill>
                  <a:srgbClr val="404040"/>
                </a:solidFill>
                <a:latin typeface="Century Gothic"/>
              </a:rPr>
              <a:t>Cuarto ni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200" spc="-1" strike="noStrike">
                <a:solidFill>
                  <a:srgbClr val="404040"/>
                </a:solidFill>
                <a:latin typeface="Century Gothic"/>
              </a:rPr>
              <a:t>Quinto ni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560" y="64882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7CFDF3-0924-44BB-AF22-E0B323F0EBC3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52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8"/>
          </p:nvPr>
        </p:nvSpPr>
        <p:spPr>
          <a:xfrm>
            <a:off x="1942560" y="652752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9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3FD89E-EBB8-41D8-B26B-6017E9B72298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2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2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DD425D-0698-4A6E-B43A-CCF9C7D38B4C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14400" y="1194120"/>
            <a:ext cx="676332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An update on the CHFP/SHFP database status</a:t>
            </a:r>
            <a:endParaRPr b="0" lang="es-A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814400" y="3938400"/>
            <a:ext cx="7032960" cy="23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800" spc="-1" strike="noStrike">
                <a:solidFill>
                  <a:srgbClr val="595959"/>
                </a:solidFill>
                <a:latin typeface="Century Gothic"/>
              </a:rPr>
              <a:t>Celeste Sa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400" spc="-1" strike="noStrike">
                <a:solidFill>
                  <a:srgbClr val="595959"/>
                </a:solidFill>
                <a:latin typeface="Century Gothic"/>
              </a:rPr>
              <a:t>Centro de Investigaciones del Mar y la Atmósfera – Universidad de Buenos Aires, CONICET. UMI3351-CNRS-CONICET-UBA and Dpto. de Ciencias de la Atmósfera y los Océanos (FCEN, U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400" spc="-1" strike="noStrike">
                <a:solidFill>
                  <a:srgbClr val="595959"/>
                </a:solidFill>
                <a:latin typeface="Century Gothic"/>
              </a:rPr>
              <a:t>Argent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s-AR" sz="1800" spc="-1" strike="noStrike">
                <a:solidFill>
                  <a:srgbClr val="595959"/>
                </a:solidFill>
                <a:latin typeface="Century Gothic"/>
              </a:rPr>
              <a:t>with many thanks to María Inés Ortiz de Zárate (C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3"/>
          </p:nvPr>
        </p:nvSpPr>
        <p:spPr>
          <a:xfrm>
            <a:off x="1942560" y="63226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16</a:t>
            </a:r>
            <a:r>
              <a:rPr b="0" lang="es-AR" sz="900" spc="-1" strike="noStrike" baseline="30000">
                <a:solidFill>
                  <a:srgbClr val="8b8b8b"/>
                </a:solidFill>
                <a:latin typeface="Century Gothic"/>
              </a:rPr>
              <a:t>th</a:t>
            </a: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 WGSIP Meeting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UK Met Office, Exeter, UK, 10 to 12 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Imagen 5" descr="CIMA2"/>
          <p:cNvPicPr/>
          <p:nvPr/>
        </p:nvPicPr>
        <p:blipFill>
          <a:blip r:embed="rId1"/>
          <a:stretch/>
        </p:blipFill>
        <p:spPr>
          <a:xfrm>
            <a:off x="7672320" y="41040"/>
            <a:ext cx="1462680" cy="120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3600" y="170640"/>
            <a:ext cx="346176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AR" sz="3400" spc="-1" strike="noStrike">
                <a:solidFill>
                  <a:srgbClr val="262626"/>
                </a:solidFill>
                <a:latin typeface="Century Gothic"/>
              </a:rPr>
              <a:t>Usage statistics</a:t>
            </a:r>
            <a:endParaRPr b="0" lang="es-AR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CuadroTexto 3"/>
          <p:cNvSpPr/>
          <p:nvPr/>
        </p:nvSpPr>
        <p:spPr>
          <a:xfrm>
            <a:off x="1350000" y="6233040"/>
            <a:ext cx="7237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                          ≠ </a:t>
            </a: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visits            #visits        pages       requests     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uadroTexto 5"/>
          <p:cNvSpPr/>
          <p:nvPr/>
        </p:nvSpPr>
        <p:spPr>
          <a:xfrm>
            <a:off x="4685400" y="213120"/>
            <a:ext cx="4290480" cy="1186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Registered users increased from 28 to 59 since our last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n 4" descr=""/>
          <p:cNvPicPr/>
          <p:nvPr/>
        </p:nvPicPr>
        <p:blipFill>
          <a:blip r:embed="rId1"/>
          <a:srcRect l="9902" t="4674" r="12089" b="2572"/>
          <a:stretch/>
        </p:blipFill>
        <p:spPr>
          <a:xfrm>
            <a:off x="1676520" y="1418760"/>
            <a:ext cx="6526800" cy="489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Imagen 2" descr=""/>
          <p:cNvPicPr/>
          <p:nvPr/>
        </p:nvPicPr>
        <p:blipFill>
          <a:blip r:embed="rId1"/>
          <a:srcRect l="4451" t="5520" r="3827" b="0"/>
          <a:stretch/>
        </p:blipFill>
        <p:spPr>
          <a:xfrm>
            <a:off x="1828800" y="1264680"/>
            <a:ext cx="6429600" cy="484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s-AR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5" name="Imagen 3" descr=""/>
          <p:cNvPicPr/>
          <p:nvPr/>
        </p:nvPicPr>
        <p:blipFill>
          <a:blip r:embed="rId1"/>
          <a:stretch/>
        </p:blipFill>
        <p:spPr>
          <a:xfrm>
            <a:off x="1945080" y="128880"/>
            <a:ext cx="6658560" cy="67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51520" y="0"/>
            <a:ext cx="70826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Active users in the last period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51520" y="975960"/>
            <a:ext cx="708264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MCC-I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IMA/AR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et Office/UK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NOAA/USA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University of Barcelona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. New South Wales/AU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. Reading/UK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eteoSwiss/ SWISS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nnish Meteorological Institute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partment of Meteorology, University of Readin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versity of Hambur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stitut Teknologi Bandung ITB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inceton University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anjing University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4"/>
          <p:cNvSpPr/>
          <p:nvPr/>
        </p:nvSpPr>
        <p:spPr>
          <a:xfrm>
            <a:off x="2590200" y="2967480"/>
            <a:ext cx="3963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5400" spc="-1" strike="noStrike">
                <a:solidFill>
                  <a:schemeClr val="accent5"/>
                </a:solidFill>
                <a:latin typeface="Century Gothic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agen 3" descr=""/>
          <p:cNvPicPr/>
          <p:nvPr/>
        </p:nvPicPr>
        <p:blipFill>
          <a:blip r:embed="rId1"/>
          <a:stretch/>
        </p:blipFill>
        <p:spPr>
          <a:xfrm>
            <a:off x="1316520" y="196560"/>
            <a:ext cx="6611040" cy="6147720"/>
          </a:xfrm>
          <a:prstGeom prst="rect">
            <a:avLst/>
          </a:prstGeom>
          <a:ln w="0">
            <a:noFill/>
          </a:ln>
        </p:spPr>
      </p:pic>
      <p:sp>
        <p:nvSpPr>
          <p:cNvPr id="310" name="CuadroTexto 4"/>
          <p:cNvSpPr/>
          <p:nvPr/>
        </p:nvSpPr>
        <p:spPr>
          <a:xfrm>
            <a:off x="1316520" y="6160320"/>
            <a:ext cx="65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Exchanges 62 – August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26600" y="288000"/>
            <a:ext cx="7495200" cy="8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The CHFP/SHFP has been growing…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4960" y="1054080"/>
            <a:ext cx="761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In our previous meeting, we had 8 models, now we have 14: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2" name="Imagen 3" descr=""/>
          <p:cNvPicPr/>
          <p:nvPr/>
        </p:nvPicPr>
        <p:blipFill>
          <a:blip r:embed="rId1"/>
          <a:srcRect l="0" t="30812" r="92369" b="37633"/>
          <a:stretch/>
        </p:blipFill>
        <p:spPr>
          <a:xfrm>
            <a:off x="3368160" y="1535040"/>
            <a:ext cx="2150280" cy="50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ost recent updates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1520" y="1529280"/>
            <a:ext cx="784836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IROC5: monthly and daily data until 2011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CMWF-S4: monthly data until 2010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PI-ESM-LR: monthly data until 2011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GloSea5: monthly and daily until 2009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Rectángulo 3"/>
          <p:cNvSpPr/>
          <p:nvPr/>
        </p:nvSpPr>
        <p:spPr>
          <a:xfrm>
            <a:off x="1672920" y="3828600"/>
            <a:ext cx="7176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NMME complete data set, including 11 different model ru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However, some of them may be exactly the same as those we already have in the CHFP-SHFP  (e.g., ncep_cfs (2 versions),  CanCM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Most recent updates (cont.)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NSEMBLES data is going to be archived together with the CHFP/SHFP data base</a:t>
            </a:r>
            <a:endParaRPr b="0" lang="es-A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CHFP-SHFP size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22880" y="1825560"/>
            <a:ext cx="68922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During last year, our storage capacity has been increased from 4.5 Tb to 9 Tb to host the CHFP-SHFP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Up to this moment 7.2 Tb are used by the CHFP/SHFP.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Recently, CIMA increased its storage capacity to 18 Tb to host ENSEMBLES files (monthly fields from ENSEMBLES need around 6.5 Tb)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Our data base today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CuadroTexto 5"/>
          <p:cNvSpPr/>
          <p:nvPr/>
        </p:nvSpPr>
        <p:spPr>
          <a:xfrm>
            <a:off x="2305800" y="1496880"/>
            <a:ext cx="5141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Surface variables – Monthl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n 2" descr=""/>
          <p:cNvPicPr/>
          <p:nvPr/>
        </p:nvPicPr>
        <p:blipFill>
          <a:blip r:embed="rId1"/>
          <a:srcRect l="694" t="21176" r="31254" b="35162"/>
          <a:stretch/>
        </p:blipFill>
        <p:spPr>
          <a:xfrm>
            <a:off x="290160" y="2278800"/>
            <a:ext cx="8853480" cy="31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CuadroTexto 3"/>
          <p:cNvSpPr/>
          <p:nvPr/>
        </p:nvSpPr>
        <p:spPr>
          <a:xfrm>
            <a:off x="2517120" y="824760"/>
            <a:ext cx="5141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Upper air – Monthl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n 5" descr=""/>
          <p:cNvPicPr/>
          <p:nvPr/>
        </p:nvPicPr>
        <p:blipFill>
          <a:blip r:embed="rId1"/>
          <a:srcRect l="805" t="21969" r="31479" b="27623"/>
          <a:stretch/>
        </p:blipFill>
        <p:spPr>
          <a:xfrm>
            <a:off x="145080" y="1958400"/>
            <a:ext cx="8809920" cy="36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2600" y="344160"/>
            <a:ext cx="7961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Less centers provided daily data: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6" name="Imagen 4" descr=""/>
          <p:cNvPicPr/>
          <p:nvPr/>
        </p:nvPicPr>
        <p:blipFill>
          <a:blip r:embed="rId1"/>
          <a:srcRect l="692" t="29508" r="31033" b="7190"/>
          <a:stretch/>
        </p:blipFill>
        <p:spPr>
          <a:xfrm>
            <a:off x="261360" y="1553040"/>
            <a:ext cx="8882280" cy="462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25760" y="534960"/>
            <a:ext cx="734400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And even less, ocean variables: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Imagen 4" descr=""/>
          <p:cNvPicPr/>
          <p:nvPr/>
        </p:nvPicPr>
        <p:blipFill>
          <a:blip r:embed="rId1"/>
          <a:srcRect l="805" t="25344" r="30588" b="26831"/>
          <a:stretch/>
        </p:blipFill>
        <p:spPr>
          <a:xfrm>
            <a:off x="217800" y="2075400"/>
            <a:ext cx="8925840" cy="349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488</TotalTime>
  <Application>LibreOffice/7.4.7.2$Linux_X86_64 LibreOffice_project/40$Build-2</Application>
  <AppVersion>15.0000</AppVersion>
  <Words>587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0:08:48Z</dcterms:created>
  <dc:creator>Celeste Saulo</dc:creator>
  <dc:description/>
  <dc:language>en-US</dc:language>
  <cp:lastModifiedBy>Celeste Saulo</cp:lastModifiedBy>
  <dcterms:modified xsi:type="dcterms:W3CDTF">2014-03-09T20:32:31Z</dcterms:modified>
  <cp:revision>32</cp:revision>
  <dc:subject/>
  <dc:title>CHF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5</vt:r8>
  </property>
</Properties>
</file>