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B1D-AE3E-4C31-9652-3F4DCEEE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A08-C074-4E97-8D0C-C9B269D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D20-8CF7-4DF1-BDF9-80E53ED9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96D-9F3F-4EE3-91EC-5FA563E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C541-9B82-4D6D-869C-8BBC3734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8B1-6B66-41EC-8D1F-375B796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8A03-587E-4C7B-B36B-A924ED68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8252-E620-484D-8B07-2C8D81B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02E2-D8A4-428B-AD8B-0D4A129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730-CC74-4322-BBFC-9C5EE72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288A-9542-4CBA-945C-15E18BB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569-E114-495D-8EE7-BAA7EC7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2012-7864-4F26-9EAA-5F3B55B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FE3-CEC1-48BE-ADE5-666F24F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2F59-5A86-4A7C-BF4A-7104E55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BFA3-A2C0-4429-AC32-AB0112BC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3812-924E-4549-9B83-0CBB653D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9110-97C6-42F7-892F-850E8B81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B12B-0062-4976-9C61-1373E12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02AA-28E7-4340-826F-B027669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F848-E534-42FF-985F-09D38F8D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FA6A-0C0E-483C-B0E0-96571DA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697-CA16-474E-8E49-F5E92C5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55E0-BD84-41A0-942D-15FE600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4DE7-FD1C-47D1-A1BF-E80C0716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C4FB-CA6D-421F-A102-4DE9995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D2F7-D614-4DAD-9603-BFA5787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99278-8A98-49F9-A136-19979014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7EB2-9AF4-40B9-8304-7A8A99EB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7CDE-20F9-4F0E-BAC1-C4ABE750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88E0-7ABA-402B-9E72-E72CDA30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9D0A-6C74-483F-9617-16DF3E58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976C-E14A-4E91-A40E-F6FDC07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572-6CE2-4FBD-8F22-6E68481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0B41-537F-4DDA-9FDD-32D0C3E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D557-6E05-4ECB-B4F5-848D6F3A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4DCB-2933-469C-AF1F-D09CDC2F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DC99-F3E2-40CD-AC47-47D4B87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BFE7-D0B5-4155-BEE4-F135AA1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1A29-E4C8-48F1-8A8B-8FF4C0A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0E8D-1479-4BFD-8222-1186971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4B37-BB05-47C6-8410-F3CDC8EA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D106-444B-47CF-990C-EE2D8597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A26-25A7-499E-8A60-0EF0F7F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E58-51AC-4679-99FC-E326546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05D-E070-4781-95B4-43D004C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675-A561-42A9-BF2C-6EF830B1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3A7-B87E-4D22-AA51-31D20D2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3226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0F2707-2E52-4B8D-AD68-60142D766D4D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Haga clic para modificar el estilo de texto del patrón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Segundo nivel</a:t>
            </a:r>
            <a:endParaRPr b="0" lang="es-AR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Tercer ni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200" spc="-1" strike="noStrike">
                <a:solidFill>
                  <a:srgbClr val="404040"/>
                </a:solidFill>
                <a:latin typeface="Century Gothic"/>
              </a:rPr>
              <a:t>Cuarto ni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ES" sz="1200" spc="-1" strike="noStrike">
                <a:solidFill>
                  <a:srgbClr val="404040"/>
                </a:solidFill>
                <a:latin typeface="Century Gothic"/>
              </a:rPr>
              <a:t>Quinto ni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560" y="64882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7B2AA9-8F16-4580-B0D1-89AC2FB1CB9E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52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Haga clic para modificar el estilo de título del patrón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8"/>
          </p:nvPr>
        </p:nvSpPr>
        <p:spPr>
          <a:xfrm>
            <a:off x="1942560" y="652752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9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5CC732-4D64-44F1-8C38-AD1E65239D55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dede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2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2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AR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4246C4-1F5E-4D65-B9F2-083B54E65EC7}" type="slidenum">
              <a:rPr b="0" lang="es-AR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s-AR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s-AR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AR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s-AR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AR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s-AR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14400" y="1194120"/>
            <a:ext cx="676332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An update on the CHFP/SHFP database status</a:t>
            </a:r>
            <a:endParaRPr b="0" lang="es-AR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814400" y="3938400"/>
            <a:ext cx="7032960" cy="23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800" spc="-1" strike="noStrike">
                <a:solidFill>
                  <a:srgbClr val="595959"/>
                </a:solidFill>
                <a:latin typeface="Century Gothic"/>
              </a:rPr>
              <a:t>Celeste Sa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400" spc="-1" strike="noStrike">
                <a:solidFill>
                  <a:srgbClr val="595959"/>
                </a:solidFill>
                <a:latin typeface="Century Gothic"/>
              </a:rPr>
              <a:t>Centro de Investigaciones del Mar y la Atmósfera – Universidad de Buenos Aires, CONICET. UMI3351-CNRS-CONICET-UBA and Dpto. de Ciencias de la Atmósfera y los Océanos (FCEN, U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s-AR" sz="1400" spc="-1" strike="noStrike">
                <a:solidFill>
                  <a:srgbClr val="595959"/>
                </a:solidFill>
                <a:latin typeface="Century Gothic"/>
              </a:rPr>
              <a:t>Argent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s-AR" sz="1800" spc="-1" strike="noStrike">
                <a:solidFill>
                  <a:srgbClr val="595959"/>
                </a:solidFill>
                <a:latin typeface="Century Gothic"/>
              </a:rPr>
              <a:t>with many thanks to María Inés Ortiz de Zárate (C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3"/>
          </p:nvPr>
        </p:nvSpPr>
        <p:spPr>
          <a:xfrm>
            <a:off x="1942560" y="632268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AR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16</a:t>
            </a:r>
            <a:r>
              <a:rPr b="0" lang="es-AR" sz="900" spc="-1" strike="noStrike" baseline="30000">
                <a:solidFill>
                  <a:srgbClr val="8b8b8b"/>
                </a:solidFill>
                <a:latin typeface="Century Gothic"/>
              </a:rPr>
              <a:t>th</a:t>
            </a: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 WGSIP Meeting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s-AR" sz="900" spc="-1" strike="noStrike">
                <a:solidFill>
                  <a:srgbClr val="8b8b8b"/>
                </a:solidFill>
                <a:latin typeface="Century Gothic"/>
              </a:rPr>
              <a:t>UK Met Office, Exeter, UK, 10 to 12 March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Imagen 5" descr="CIMA2"/>
          <p:cNvPicPr/>
          <p:nvPr/>
        </p:nvPicPr>
        <p:blipFill>
          <a:blip r:embed="rId1"/>
          <a:stretch/>
        </p:blipFill>
        <p:spPr>
          <a:xfrm>
            <a:off x="7672320" y="41040"/>
            <a:ext cx="1462680" cy="120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3600" y="170640"/>
            <a:ext cx="3461760" cy="9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AR" sz="3400" spc="-1" strike="noStrike">
                <a:solidFill>
                  <a:srgbClr val="262626"/>
                </a:solidFill>
                <a:latin typeface="Century Gothic"/>
              </a:rPr>
              <a:t>Usage statistics</a:t>
            </a:r>
            <a:endParaRPr b="0" lang="es-AR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CuadroTexto 3"/>
          <p:cNvSpPr/>
          <p:nvPr/>
        </p:nvSpPr>
        <p:spPr>
          <a:xfrm>
            <a:off x="1350000" y="6233040"/>
            <a:ext cx="7237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                          ≠ </a:t>
            </a:r>
            <a:r>
              <a:rPr b="0" lang="es-AR" sz="1600" spc="-1" strike="noStrike">
                <a:solidFill>
                  <a:srgbClr val="000000"/>
                </a:solidFill>
                <a:latin typeface="Century Gothic"/>
              </a:rPr>
              <a:t>visits            #visits        pages       requests     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uadroTexto 5"/>
          <p:cNvSpPr/>
          <p:nvPr/>
        </p:nvSpPr>
        <p:spPr>
          <a:xfrm>
            <a:off x="4685400" y="213120"/>
            <a:ext cx="4290480" cy="1186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Registered users increased from 28 to 59 since our last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n 4" descr=""/>
          <p:cNvPicPr/>
          <p:nvPr/>
        </p:nvPicPr>
        <p:blipFill>
          <a:blip r:embed="rId1"/>
          <a:srcRect l="9902" t="4674" r="12089" b="2572"/>
          <a:stretch/>
        </p:blipFill>
        <p:spPr>
          <a:xfrm>
            <a:off x="1676520" y="1418760"/>
            <a:ext cx="6526800" cy="489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Imagen 2" descr=""/>
          <p:cNvPicPr/>
          <p:nvPr/>
        </p:nvPicPr>
        <p:blipFill>
          <a:blip r:embed="rId1"/>
          <a:srcRect l="4451" t="5520" r="3827" b="0"/>
          <a:stretch/>
        </p:blipFill>
        <p:spPr>
          <a:xfrm>
            <a:off x="1828800" y="1264680"/>
            <a:ext cx="6429600" cy="484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s-AR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5" name="Imagen 3" descr=""/>
          <p:cNvPicPr/>
          <p:nvPr/>
        </p:nvPicPr>
        <p:blipFill>
          <a:blip r:embed="rId1"/>
          <a:stretch/>
        </p:blipFill>
        <p:spPr>
          <a:xfrm>
            <a:off x="1945080" y="128880"/>
            <a:ext cx="6658560" cy="67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51520" y="0"/>
            <a:ext cx="70826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Active users in the last period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51520" y="975960"/>
            <a:ext cx="708264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MCC-IT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CIMA/AR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et Office/UK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NOAA/USA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University of Barcelona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. New South Wales/AU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. Reading/UK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eteoSwiss/ SWISS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nnish Meteorological Institute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partment of Meteorology, University of Readin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versity of Hamburg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stitut Teknologi Bandung ITB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inceton University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anjing University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4"/>
          <p:cNvSpPr/>
          <p:nvPr/>
        </p:nvSpPr>
        <p:spPr>
          <a:xfrm>
            <a:off x="2590200" y="2967480"/>
            <a:ext cx="3963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5400" spc="-1" strike="noStrike">
                <a:solidFill>
                  <a:schemeClr val="accent5"/>
                </a:solidFill>
                <a:latin typeface="Century Gothic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agen 3" descr=""/>
          <p:cNvPicPr/>
          <p:nvPr/>
        </p:nvPicPr>
        <p:blipFill>
          <a:blip r:embed="rId1"/>
          <a:stretch/>
        </p:blipFill>
        <p:spPr>
          <a:xfrm>
            <a:off x="1316520" y="196560"/>
            <a:ext cx="6611040" cy="6147720"/>
          </a:xfrm>
          <a:prstGeom prst="rect">
            <a:avLst/>
          </a:prstGeom>
          <a:ln w="0">
            <a:noFill/>
          </a:ln>
        </p:spPr>
      </p:pic>
      <p:sp>
        <p:nvSpPr>
          <p:cNvPr id="310" name="CuadroTexto 4"/>
          <p:cNvSpPr/>
          <p:nvPr/>
        </p:nvSpPr>
        <p:spPr>
          <a:xfrm>
            <a:off x="1316520" y="6160320"/>
            <a:ext cx="65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Exchanges 62 – August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26600" y="288000"/>
            <a:ext cx="7495200" cy="8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The CHFP/SHFP has been growing…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4960" y="1054080"/>
            <a:ext cx="761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s-AR" sz="1800" spc="-1" strike="noStrike">
                <a:solidFill>
                  <a:srgbClr val="404040"/>
                </a:solidFill>
                <a:latin typeface="Century Gothic"/>
              </a:rPr>
              <a:t>In our previous meeting, we had 8 models, now we have 14: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2" name="Imagen 3" descr=""/>
          <p:cNvPicPr/>
          <p:nvPr/>
        </p:nvPicPr>
        <p:blipFill>
          <a:blip r:embed="rId1"/>
          <a:srcRect l="0" t="30812" r="92369" b="37633"/>
          <a:stretch/>
        </p:blipFill>
        <p:spPr>
          <a:xfrm>
            <a:off x="3368160" y="1535040"/>
            <a:ext cx="2150280" cy="50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ost recent updates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1520" y="1529280"/>
            <a:ext cx="784836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IROC5: monthly and daily data until 2011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CMWF-S4: monthly data until 2010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PI-ESM-LR: monthly data until 2011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GloSea5: monthly and daily until 2009</a:t>
            </a:r>
            <a:endParaRPr b="0" lang="es-AR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Rectángulo 3"/>
          <p:cNvSpPr/>
          <p:nvPr/>
        </p:nvSpPr>
        <p:spPr>
          <a:xfrm>
            <a:off x="1672920" y="3828600"/>
            <a:ext cx="7176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Under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NMME complete data set, including 11 different model ru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Calibri"/>
              </a:rPr>
              <a:t>However, some of them may be exactly the same as those we already have in the CHFP-SHFP  (e.g., ncep_cfs (2 versions),  CanCM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Most recent updates (cont.)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NSEMBLES data is going to be archived together with the CHFP/SHFP data base</a:t>
            </a:r>
            <a:endParaRPr b="0" lang="es-AR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CHFP-SHFP size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22880" y="1825560"/>
            <a:ext cx="68922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During last year, our storage capacity has been increased from 4.5 Tb to 9 Tb to host the CHFP-SHFP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Up to this moment 7.2 Tb are used by the CHFP/SHFP.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</a:pPr>
            <a:r>
              <a:rPr b="0" lang="en-US" sz="2200" spc="-1" strike="noStrike">
                <a:solidFill>
                  <a:srgbClr val="404040"/>
                </a:solidFill>
                <a:latin typeface="Century Gothic"/>
              </a:rPr>
              <a:t>Recently, CIMA increased its storage capacity to 18 Tb to host ENSEMBLES files (monthly fields from ENSEMBLES need around 6.5 Tb)</a:t>
            </a:r>
            <a:endParaRPr b="0" lang="es-AR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Our data base today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CuadroTexto 5"/>
          <p:cNvSpPr/>
          <p:nvPr/>
        </p:nvSpPr>
        <p:spPr>
          <a:xfrm>
            <a:off x="2305800" y="1496880"/>
            <a:ext cx="5141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Surface variables – Monthl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n 2" descr=""/>
          <p:cNvPicPr/>
          <p:nvPr/>
        </p:nvPicPr>
        <p:blipFill>
          <a:blip r:embed="rId1"/>
          <a:srcRect l="694" t="21176" r="31254" b="35162"/>
          <a:stretch/>
        </p:blipFill>
        <p:spPr>
          <a:xfrm>
            <a:off x="290160" y="2278800"/>
            <a:ext cx="8853480" cy="31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CuadroTexto 3"/>
          <p:cNvSpPr/>
          <p:nvPr/>
        </p:nvSpPr>
        <p:spPr>
          <a:xfrm>
            <a:off x="2517120" y="824760"/>
            <a:ext cx="5141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AR" sz="2400" spc="-1" strike="noStrike">
                <a:solidFill>
                  <a:srgbClr val="000000"/>
                </a:solidFill>
                <a:latin typeface="Century Gothic"/>
              </a:rPr>
              <a:t>Upper air – Monthl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n 5" descr=""/>
          <p:cNvPicPr/>
          <p:nvPr/>
        </p:nvPicPr>
        <p:blipFill>
          <a:blip r:embed="rId1"/>
          <a:srcRect l="805" t="21969" r="31479" b="27623"/>
          <a:stretch/>
        </p:blipFill>
        <p:spPr>
          <a:xfrm>
            <a:off x="145080" y="1958400"/>
            <a:ext cx="8809920" cy="36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2600" y="344160"/>
            <a:ext cx="7961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Less centers provided daily data: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6" name="Imagen 4" descr=""/>
          <p:cNvPicPr/>
          <p:nvPr/>
        </p:nvPicPr>
        <p:blipFill>
          <a:blip r:embed="rId1"/>
          <a:srcRect l="692" t="29508" r="31033" b="7190"/>
          <a:stretch/>
        </p:blipFill>
        <p:spPr>
          <a:xfrm>
            <a:off x="261360" y="1553040"/>
            <a:ext cx="8882280" cy="462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25760" y="534960"/>
            <a:ext cx="734400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AR" sz="3600" spc="-1" strike="noStrike">
                <a:solidFill>
                  <a:srgbClr val="262626"/>
                </a:solidFill>
                <a:latin typeface="Century Gothic"/>
              </a:rPr>
              <a:t>And even less, ocean variables:</a:t>
            </a:r>
            <a:endParaRPr b="0" lang="es-AR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Imagen 4" descr=""/>
          <p:cNvPicPr/>
          <p:nvPr/>
        </p:nvPicPr>
        <p:blipFill>
          <a:blip r:embed="rId1"/>
          <a:srcRect l="805" t="25344" r="30588" b="26831"/>
          <a:stretch/>
        </p:blipFill>
        <p:spPr>
          <a:xfrm>
            <a:off x="217800" y="2075400"/>
            <a:ext cx="8925840" cy="349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16th WGSIP Meeting,  UK Met Office, Exeter, UK, 10 to 12 March 20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spiral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488</TotalTime>
  <Application>LibreOffice/7.4.7.2$Linux_X86_64 LibreOffice_project/40$Build-2</Application>
  <AppVersion>15.0000</AppVersion>
  <Words>587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0:08:48Z</dcterms:created>
  <dc:creator>Celeste Saulo</dc:creator>
  <dc:description/>
  <dc:language>en-US</dc:language>
  <cp:lastModifiedBy>Celeste Saulo</cp:lastModifiedBy>
  <dcterms:modified xsi:type="dcterms:W3CDTF">2014-03-09T20:32:31Z</dcterms:modified>
  <cp:revision>32</cp:revision>
  <dc:subject/>
  <dc:title>CHF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5</vt:r8>
  </property>
</Properties>
</file>