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35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B63152AC-B927-4E66-A8F4-D55285A6B9D3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778200" y="9426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9280"/>
                <a:tab algn="l" pos="1436760"/>
                <a:tab algn="l" pos="2155680"/>
                <a:tab algn="l" pos="28717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B96BE68C-E7AA-4ECA-B9E8-A944D7DF4BF5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E34AB6-0F8B-417C-BCF3-12E78FE7E9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98560" y="744480"/>
            <a:ext cx="48769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132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357804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31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892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28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 Office GP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am Scaif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 of Monthly to Decadal Predic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 Offi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6021360"/>
            <a:ext cx="7896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584360" y="127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DJ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50920" y="152280"/>
            <a:ext cx="874080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 Office forecasts from October showed enhanced westerlies for Nov-Jan: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79" name="Picture 13" descr="ensmean_20131001_mslp_months24_N_Hem_prob_glo5_8110"/>
          <p:cNvPicPr/>
          <p:nvPr/>
        </p:nvPicPr>
        <p:blipFill>
          <a:blip r:embed="rId2"/>
          <a:srcRect l="14280" t="12913" r="5392" b="19047"/>
          <a:stretch/>
        </p:blipFill>
        <p:spPr>
          <a:xfrm>
            <a:off x="0" y="2581200"/>
            <a:ext cx="4282920" cy="2719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t Office SLP forecast ensemble mean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1989000"/>
            <a:ext cx="4752720" cy="3606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October we issued 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reased risk of mild, wet and storm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ather for November to January: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e probability that UK precipitation for November-December-January will fall into th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driest of our five categories is close to 15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e probability that it will fall into the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wettest category is approximately 25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increased risk of windier periods or storms and heavy rainfal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ver northwestern Europe during the late autumn and early winter“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also fed into a successful European RCOF prediction last October.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584360" y="127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DJ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250920" y="152280"/>
            <a:ext cx="874080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asi-Biennial Oscillation was cited as one of the drivers (tropical Pacific also involved)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84" name="Picture 5" descr="WE_mslp_hPa_analysis_DJF"/>
          <p:cNvPicPr/>
          <p:nvPr/>
        </p:nvPicPr>
        <p:blipFill>
          <a:blip r:embed="rId2"/>
          <a:srcRect l="10765" t="18494" r="0" b="10306"/>
          <a:stretch/>
        </p:blipFill>
        <p:spPr>
          <a:xfrm>
            <a:off x="755640" y="2205000"/>
            <a:ext cx="3213000" cy="3602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667400" cy="3319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19280" y="3789360"/>
            <a:ext cx="1152360" cy="936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2637000"/>
            <a:ext cx="1152720" cy="93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1419120"/>
            <a:ext cx="262224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BO effect (hPa)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480" y="1801800"/>
            <a:ext cx="2567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-Jan 2013/14</a:t>
            </a: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6566040"/>
            <a:ext cx="2187720" cy="2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Scaife et al, GRL, 2014</a:t>
            </a:r>
            <a:endParaRPr b="0" lang="en-US" sz="12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9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Se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Seasonal Forecas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stem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82560" y="2349360"/>
            <a:ext cx="7777080" cy="4032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dGEM3H  N216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isatio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WP state + NEMOVAR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Sea Ic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Hindcasts: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s starting around 1 Novemb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0 years: 1992/3 – 2012/13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Operational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embers per day -&gt; 2 months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2 members per day -&gt; 7month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00" y="30240"/>
            <a:ext cx="9036000" cy="21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forecasts: January 2013</a:t>
            </a: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0" r="0" b="65801"/>
          <a:stretch/>
        </p:blipFill>
        <p:spPr>
          <a:xfrm>
            <a:off x="324000" y="1209600"/>
            <a:ext cx="3286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40360" y="1027080"/>
            <a:ext cx="4627440" cy="446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836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s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7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5867280"/>
            <a:ext cx="5867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s appearing in forecasts from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provided to Dept for Transport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longed snow from ~Jan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wards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3240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934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nter NAO hindcast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10072" r="0" b="47750"/>
          <a:stretch/>
        </p:blipFill>
        <p:spPr>
          <a:xfrm>
            <a:off x="1143000" y="1828800"/>
            <a:ext cx="6867360" cy="287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71600" y="4952880"/>
            <a:ext cx="6172200" cy="838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lation score =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0.6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ed to 20 years and 24 members for DJF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sonal Skill for surface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05320" y="685800"/>
            <a:ext cx="3841920" cy="5334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41560" cy="533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7920" y="5713560"/>
            <a:ext cx="60958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 predictions of extreme events months ahead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in E Atlantic and Europe is from the NAO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28600" y="6629400"/>
            <a:ext cx="22096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ife et al 2014</a:t>
            </a:r>
            <a:endParaRPr b="0" lang="en-US" sz="8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1360" y="762120"/>
            <a:ext cx="132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ecast skill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9080" y="762120"/>
            <a:ext cx="15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NAO alone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040" y="1447920"/>
            <a:ext cx="79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5840" y="2971800"/>
            <a:ext cx="65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440" y="4648320"/>
            <a:ext cx="61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rge ensemble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34906"/>
          <a:stretch/>
        </p:blipFill>
        <p:spPr>
          <a:xfrm>
            <a:off x="1371600" y="1122480"/>
            <a:ext cx="6400800" cy="428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5257800"/>
            <a:ext cx="73152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ember ensemble shows strong sensitivity to ensemble siz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hing special about 0.62 and higher values are possible!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members is important -&gt; see later comment about Met Office &amp; KMA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347760"/>
            <a:ext cx="7130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Time Forecast 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213000"/>
            <a:ext cx="2808360" cy="15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 Office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-Seasonal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77336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MO LC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Framework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Climate Services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515772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I</a:t>
            </a:r>
            <a:endParaRPr b="0" lang="en-US" sz="18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Research Inst.</a:t>
            </a: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Climate and Society</a:t>
            </a:r>
            <a:endParaRPr b="0" lang="en-US" sz="9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5084640"/>
            <a:ext cx="194328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SIP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20500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Met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059280" y="2637000"/>
            <a:ext cx="72072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67280" y="2971440"/>
            <a:ext cx="57636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419720"/>
            <a:ext cx="93492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48000" y="4648320"/>
            <a:ext cx="69048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364500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-IMME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618920" y="4654440"/>
            <a:ext cx="3603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657600"/>
            <a:ext cx="194328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 Gov 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000680"/>
            <a:ext cx="83808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5486400"/>
            <a:ext cx="1942920" cy="1008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sector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523880"/>
            <a:ext cx="194328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insurance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</a:t>
            </a:r>
            <a:endParaRPr b="0" lang="en-US" sz="16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00600" y="2514240"/>
            <a:ext cx="22860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ned Changes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219320"/>
            <a:ext cx="8137440" cy="23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as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ystem with KMA -&gt; 80 members each month!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cadal: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dGEM3 N96L85O(0.1) -&gt;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adGEM3H N216L85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omaly Initialisation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Full Field Initialisation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4149720"/>
            <a:ext cx="889308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6/17 – Increased HPC</a:t>
            </a:r>
            <a:endParaRPr b="0" lang="en-US" sz="4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8360" y="5084640"/>
            <a:ext cx="8136000" cy="100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 – Seasonal - Decad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dGEM3H N216L85O(0.25)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N512O(0.25)</a:t>
            </a: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  <a:p>
            <a:pPr marL="262080" indent="-26208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Crown copyright   Met Office</a:t>
            </a:r>
            <a:endParaRPr b="0" lang="en-US" sz="1000" spc="-1" strike="noStrike">
              <a:solidFill>
                <a:srgbClr val="b9db0e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690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2280" y="1523880"/>
            <a:ext cx="8839440" cy="419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ently implemented N216 atmosphere and 0.25deg ocean Global Seasonal Forecast System 5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f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ratropical forecasts for NAO, Europe &amp;  America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signal to noise – this is a paradox and a key research topic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of daily extremes governed by large scale flow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6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ability of useful quantities like storminess or windspeed</a:t>
            </a:r>
            <a:endParaRPr b="0" lang="en-US" sz="1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91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velopment: </a:t>
            </a:r>
            <a:endParaRPr b="0" lang="en-US" sz="21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649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 work to do with partners on predicting impacts…</a:t>
            </a:r>
            <a:endParaRPr b="0" lang="en-US" sz="1500" spc="-1" strike="noStrike">
              <a:solidFill>
                <a:srgbClr val="b9db0e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675"/>
              </a:spcBef>
              <a:spcAft>
                <a:spcPts val="7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700" spc="-1" strike="noStrike">
              <a:solidFill>
                <a:srgbClr val="b9db0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adam.scaife</cp:lastModifiedBy>
  <cp:lastPrinted>2004-10-15T09:34:20Z</cp:lastPrinted>
  <dcterms:modified xsi:type="dcterms:W3CDTF">2014-03-10T16:52:00Z</dcterms:modified>
  <cp:revision>213</cp:revision>
  <dc:subject/>
  <dc:title>Title of Presentation</dc:title>
</cp:coreProperties>
</file>