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7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AF5675-F58B-46A9-A4C3-28D3C645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D9DB0B-C4D6-4EAB-8735-D394CEC62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6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3A0B68-1372-4FA3-A376-C4FE6A844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7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A305E4-2707-4CF7-A9F1-B85B9C78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CD5BC4-D6B6-49D7-A615-348CE1F6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361587-11B5-4919-8565-18B3F45B2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3ED62A-3CA4-4469-8577-4EE00470E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0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4281DD-352B-4E62-9544-9B72B8A20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1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CFB33B-7F76-4A1B-96A2-7521C0A22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4EC858-1B5B-4974-A4DB-6D61CF7E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3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C0A777-7B3B-463E-987D-F116BB91B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4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90A52D-9C4C-42C7-998C-CFC22A22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58CEF6-74D1-438D-99EC-3E1B15511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72C-FB6D-435D-B927-B28325DA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36D-F520-4400-AF1C-F3C312A3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8B6-A4A3-4B74-AC35-F77F8CDC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281-80C0-4DD8-B124-852A0D82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24B-AC63-4FFE-8E01-AE5ED542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801-1A60-4B99-9F3A-A2774C82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37F-28C5-4378-BF95-C0437DF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863-D100-42EE-AC90-FC6E83A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02D-F6C1-4035-A616-7628DC63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679-D365-42A1-8109-ACF196ED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301-740C-49D9-9DDE-5D098CF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4DF-BE27-4F4C-BA85-175AB1F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4A3AF6-612F-4D4E-B53A-51194E7262A6}" type="slidenum"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0" y="2365920"/>
            <a:ext cx="9143640" cy="2142720"/>
          </a:xfrm>
          <a:prstGeom prst="rect">
            <a:avLst/>
          </a:prstGeom>
          <a:ln w="9525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0"/>
            <a:ext cx="9143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4d03b9"/>
                </a:solidFill>
                <a:latin typeface="Arial"/>
                <a:ea typeface="굴림"/>
              </a:rPr>
              <a:t>WMO CBS ET-OPSLS, Exeter, UK, 10-14 March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2920" y="2997000"/>
            <a:ext cx="7093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4799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GPC-Seoul: Status and 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631800" y="4869000"/>
            <a:ext cx="8713440" cy="88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uhee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Korea Meteorological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로고"/>
          <p:cNvPicPr/>
          <p:nvPr/>
        </p:nvPicPr>
        <p:blipFill>
          <a:blip r:embed="rId2"/>
          <a:srcRect l="12266" t="72868" r="65739" b="16655"/>
          <a:stretch/>
        </p:blipFill>
        <p:spPr>
          <a:xfrm>
            <a:off x="55440" y="6076800"/>
            <a:ext cx="2072880" cy="6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49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3"/>
          <p:cNvSpPr/>
          <p:nvPr/>
        </p:nvSpPr>
        <p:spPr>
          <a:xfrm>
            <a:off x="107640" y="714240"/>
            <a:ext cx="8928720" cy="485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KMA and UKMO are trying to establish a joint seasonal forecasting system (GloSea5) with the joint aim of developing and providing operational seasonal forecasting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lthough both GPC-Seoul and GPC-Exeter are using same forecasting model, they use different initial conditions (ICs) for the atmospheric and land surface model. Also, a forecasting model utilize a stochastic phys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fferent ICs and a stochastic physics lead to the significant regional-scale diversity in products between GPC-Exeter and GPC-Seo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53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3"/>
          <p:cNvSpPr/>
          <p:nvPr/>
        </p:nvSpPr>
        <p:spPr>
          <a:xfrm>
            <a:off x="107640" y="714240"/>
            <a:ext cx="8928720" cy="265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rom June 2014 the operational forecast model of KMA will be replaced by the GloSea5, a join seasonal forecasting system with Met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ll products of KMA will be provided with GloSea5 to WMO LC-LRFMME for LRF, ECMWF for S2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0" y="2962440"/>
            <a:ext cx="9143640" cy="2142720"/>
          </a:xfrm>
          <a:prstGeom prst="rect">
            <a:avLst/>
          </a:prstGeom>
          <a:ln w="9525">
            <a:noFill/>
          </a:ln>
        </p:spPr>
      </p:pic>
      <p:sp>
        <p:nvSpPr>
          <p:cNvPr id="157" name="Text Box 2"/>
          <p:cNvSpPr/>
          <p:nvPr/>
        </p:nvSpPr>
        <p:spPr>
          <a:xfrm>
            <a:off x="1956240" y="3643200"/>
            <a:ext cx="51768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Thank you very mu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53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내용 개체 틀 2"/>
          <p:cNvSpPr/>
          <p:nvPr/>
        </p:nvSpPr>
        <p:spPr>
          <a:xfrm>
            <a:off x="251640" y="1428840"/>
            <a:ext cx="8712720" cy="469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Current seasonal forecasting system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New seasonal forecasting system: GloSe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Description of GloSe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General features of operation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Results of hindcast and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굴림"/>
              </a:rPr>
              <a:t>Summary and 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57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rent seasonal forecasting system &amp;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grpSp>
        <p:nvGrpSpPr>
          <p:cNvPr id="59" name="그룹 2"/>
          <p:cNvGrpSpPr/>
          <p:nvPr/>
        </p:nvGrpSpPr>
        <p:grpSpPr>
          <a:xfrm>
            <a:off x="878760" y="1772640"/>
            <a:ext cx="7293240" cy="3412080"/>
            <a:chOff x="878760" y="1772640"/>
            <a:chExt cx="7293240" cy="3412080"/>
          </a:xfrm>
        </p:grpSpPr>
        <p:sp>
          <p:nvSpPr>
            <p:cNvPr id="60" name="Rectangle 12"/>
            <p:cNvSpPr/>
            <p:nvPr/>
          </p:nvSpPr>
          <p:spPr>
            <a:xfrm>
              <a:off x="972720" y="2196360"/>
              <a:ext cx="5162040" cy="1208520"/>
            </a:xfrm>
            <a:prstGeom prst="rect">
              <a:avLst/>
            </a:prstGeom>
            <a:solidFill>
              <a:srgbClr val="ffff99"/>
            </a:solidFill>
            <a:ln w="9525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972720" y="3806280"/>
              <a:ext cx="5162040" cy="1208520"/>
            </a:xfrm>
            <a:prstGeom prst="rect">
              <a:avLst/>
            </a:prstGeom>
            <a:solidFill>
              <a:srgbClr val="ccffcc"/>
            </a:solidFill>
            <a:ln w="9525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2197800" y="2016720"/>
              <a:ext cx="1067760" cy="316800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50000"/>
              </a:srgbClr>
            </a:solidFill>
            <a:ln w="9525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3" name="AutoShape 17"/>
            <p:cNvSpPr/>
            <p:nvPr/>
          </p:nvSpPr>
          <p:spPr>
            <a:xfrm>
              <a:off x="6240600" y="2196360"/>
              <a:ext cx="1884240" cy="1208520"/>
            </a:xfrm>
            <a:prstGeom prst="homePlate">
              <a:avLst>
                <a:gd name="adj" fmla="val 37831"/>
              </a:avLst>
            </a:prstGeom>
            <a:solidFill>
              <a:srgbClr val="ffff99"/>
            </a:solidFill>
            <a:ln w="9525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" name="AutoShape 18"/>
            <p:cNvSpPr/>
            <p:nvPr/>
          </p:nvSpPr>
          <p:spPr>
            <a:xfrm>
              <a:off x="6240600" y="3806280"/>
              <a:ext cx="1884240" cy="1208520"/>
            </a:xfrm>
            <a:prstGeom prst="homePlate">
              <a:avLst>
                <a:gd name="adj" fmla="val 37831"/>
              </a:avLst>
            </a:prstGeom>
            <a:solidFill>
              <a:srgbClr val="ccffcc"/>
            </a:solidFill>
            <a:ln w="9525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5" name="Text Box 20"/>
            <p:cNvSpPr/>
            <p:nvPr/>
          </p:nvSpPr>
          <p:spPr>
            <a:xfrm>
              <a:off x="878760" y="2360880"/>
              <a:ext cx="1432080" cy="8197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휴먼옛체"/>
                </a:rPr>
                <a:t>Global SST Prediction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"/>
            <p:cNvSpPr/>
            <p:nvPr/>
          </p:nvSpPr>
          <p:spPr>
            <a:xfrm>
              <a:off x="878760" y="3955680"/>
              <a:ext cx="1432080" cy="8197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휴먼옛체"/>
                </a:rPr>
                <a:t>LRF Global Dynamic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3"/>
            <p:cNvSpPr/>
            <p:nvPr/>
          </p:nvSpPr>
          <p:spPr>
            <a:xfrm>
              <a:off x="2084760" y="1772640"/>
              <a:ext cx="1281240" cy="2419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  <a:ea typeface="휴먼옛체"/>
                </a:rPr>
                <a:t>Initial Cond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2122560" y="2315160"/>
              <a:ext cx="1207440" cy="11847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990099"/>
                  </a:solidFill>
                  <a:latin typeface="Arial"/>
                  <a:ea typeface="휴먼옛체"/>
                </a:rPr>
                <a:t>monthly : OISST, UV850, UV200, T850,Z500, SLP, Prc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7"/>
            <p:cNvSpPr/>
            <p:nvPr/>
          </p:nvSpPr>
          <p:spPr>
            <a:xfrm>
              <a:off x="2244960" y="3952440"/>
              <a:ext cx="962280" cy="8197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990099"/>
                  </a:solidFill>
                  <a:latin typeface="Arial"/>
                  <a:ea typeface="휴먼옛체"/>
                </a:rPr>
                <a:t>6 hourly : U, V, T, GPH, Psfc, MSLP, R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0"/>
            <p:cNvSpPr/>
            <p:nvPr/>
          </p:nvSpPr>
          <p:spPr>
            <a:xfrm>
              <a:off x="3291120" y="2342520"/>
              <a:ext cx="2798280" cy="9525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7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El-Nino Prediction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CPPM(</a:t>
              </a:r>
              <a:r>
                <a:rPr b="0" lang="en-US" sz="10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Coupled Pattern Projection Model</a:t>
              </a: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LLRM(</a:t>
              </a:r>
              <a:r>
                <a:rPr b="0" lang="en-US" sz="10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Lagged Linear Regression Model</a:t>
              </a: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Persistence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1"/>
            <p:cNvSpPr/>
            <p:nvPr/>
          </p:nvSpPr>
          <p:spPr>
            <a:xfrm>
              <a:off x="3353760" y="4024080"/>
              <a:ext cx="2735640" cy="95580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7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GDPAS(GCM T106L2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230 day forec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Ensemble size : 20 members       (fcst&amp;hcs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Hindcast period : 1979-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3"/>
            <p:cNvSpPr/>
            <p:nvPr/>
          </p:nvSpPr>
          <p:spPr>
            <a:xfrm>
              <a:off x="3953880" y="3476880"/>
              <a:ext cx="1658160" cy="2419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  <a:ea typeface="휴먼옛체"/>
                </a:rPr>
                <a:t>Boundary Cond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7"/>
            <p:cNvSpPr/>
            <p:nvPr/>
          </p:nvSpPr>
          <p:spPr>
            <a:xfrm>
              <a:off x="6212160" y="2606400"/>
              <a:ext cx="1959840" cy="4726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4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Nino 3.4 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499"/>
                </a:spcBef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663300"/>
                  </a:solidFill>
                  <a:latin typeface="Arial"/>
                  <a:ea typeface="휴먼옛체"/>
                </a:rPr>
                <a:t>Global SST foreca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8"/>
            <p:cNvSpPr/>
            <p:nvPr/>
          </p:nvSpPr>
          <p:spPr>
            <a:xfrm>
              <a:off x="6192000" y="3890160"/>
              <a:ext cx="1678680" cy="11023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Monthly forecast : </a:t>
              </a: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T, GPH, RH, Precip., MSLP, U, 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Verification : </a:t>
              </a: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휴먼옛체"/>
                </a:rPr>
                <a:t>T2m, Z500, Z850, MSLP, Preci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AutoShape 40"/>
            <p:cNvCxnSpPr>
              <a:stCxn id="73" idx="2"/>
              <a:endCxn id="61" idx="0"/>
            </p:cNvCxnSpPr>
            <p:nvPr/>
          </p:nvCxnSpPr>
          <p:spPr>
            <a:xfrm flipV="1" rot="10800000">
              <a:off x="3554640" y="3116880"/>
              <a:ext cx="3637800" cy="689400"/>
            </a:xfrm>
            <a:prstGeom prst="bentConnector2">
              <a:avLst/>
            </a:prstGeom>
            <a:ln cap="sq" w="25400">
              <a:solidFill>
                <a:srgbClr val="008000"/>
              </a:solidFill>
              <a:miter/>
              <a:tailEnd len="sm" type="stealth" w="med"/>
            </a:ln>
          </p:spPr>
        </p:cxnSp>
        <p:grpSp>
          <p:nvGrpSpPr>
            <p:cNvPr id="76" name="Group 41"/>
            <p:cNvGrpSpPr/>
            <p:nvPr/>
          </p:nvGrpSpPr>
          <p:grpSpPr>
            <a:xfrm>
              <a:off x="6278040" y="2900520"/>
              <a:ext cx="1621080" cy="174240"/>
              <a:chOff x="6278040" y="2900520"/>
              <a:chExt cx="1621080" cy="174240"/>
            </a:xfrm>
          </p:grpSpPr>
          <p:sp>
            <p:nvSpPr>
              <p:cNvPr id="77" name="Line 42"/>
              <p:cNvSpPr/>
              <p:nvPr/>
            </p:nvSpPr>
            <p:spPr>
              <a:xfrm>
                <a:off x="6278040" y="2900520"/>
                <a:ext cx="360" cy="173880"/>
              </a:xfrm>
              <a:prstGeom prst="line">
                <a:avLst/>
              </a:prstGeom>
              <a:ln cap="sq" w="1905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78" name="Line 43"/>
              <p:cNvSpPr/>
              <p:nvPr/>
            </p:nvSpPr>
            <p:spPr>
              <a:xfrm flipH="1">
                <a:off x="6278040" y="3074400"/>
                <a:ext cx="1621080" cy="360"/>
              </a:xfrm>
              <a:prstGeom prst="line">
                <a:avLst/>
              </a:prstGeom>
              <a:ln cap="sq" w="1905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</p:grpSp>
      </p:grpSp>
      <p:sp>
        <p:nvSpPr>
          <p:cNvPr id="79" name="직사각형 8"/>
          <p:cNvSpPr/>
          <p:nvPr/>
        </p:nvSpPr>
        <p:spPr>
          <a:xfrm>
            <a:off x="4841640" y="5190480"/>
            <a:ext cx="3258360" cy="1549800"/>
          </a:xfrm>
          <a:prstGeom prst="rect">
            <a:avLst/>
          </a:prstGeom>
          <a:solidFill>
            <a:schemeClr val="bg1"/>
          </a:solidFill>
          <a:ln w="1905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2m surface air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Precip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Mean sea level pr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850hPa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SimSun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SimSun"/>
              </a:rPr>
              <a:t>500h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P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SimSun"/>
              </a:rPr>
              <a:t>a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geopotential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SimSun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Wingdings"/>
                <a:ea typeface="맑은 고딕"/>
              </a:rPr>
              <a:t>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  </a:t>
            </a:r>
            <a:r>
              <a:rPr b="0" lang="en-GB" sz="1600" spc="-1" strike="noStrike">
                <a:solidFill>
                  <a:srgbClr val="002060"/>
                </a:solidFill>
                <a:latin typeface="Arial"/>
                <a:ea typeface="맑은 고딕"/>
              </a:rPr>
              <a:t>Sea surface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59"/>
          <p:cNvSpPr/>
          <p:nvPr/>
        </p:nvSpPr>
        <p:spPr>
          <a:xfrm>
            <a:off x="251640" y="777600"/>
            <a:ext cx="8640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The operational LRF system of GPC-Seoul is a 2-tie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GPC-Seoul provides forecasts of 6 variables to WMO LC-LRFMME and verification results to WMO LC-LRFSV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캡처-LC_LRFSVS.PNG"/>
          <p:cNvPicPr/>
          <p:nvPr/>
        </p:nvPicPr>
        <p:blipFill>
          <a:blip r:embed="rId3"/>
          <a:stretch/>
        </p:blipFill>
        <p:spPr>
          <a:xfrm>
            <a:off x="763920" y="6068520"/>
            <a:ext cx="3562560" cy="63360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pic>
        <p:nvPicPr>
          <p:cNvPr id="82" name="Picture 3" descr="D:\캡처-LC-LRFMME.PNG"/>
          <p:cNvPicPr/>
          <p:nvPr/>
        </p:nvPicPr>
        <p:blipFill>
          <a:blip r:embed="rId4"/>
          <a:stretch/>
        </p:blipFill>
        <p:spPr>
          <a:xfrm>
            <a:off x="755640" y="5262480"/>
            <a:ext cx="3570840" cy="712440"/>
          </a:xfrm>
          <a:prstGeom prst="rect">
            <a:avLst/>
          </a:prstGeom>
          <a:ln w="0">
            <a:noFill/>
          </a:ln>
        </p:spPr>
      </p:pic>
      <p:cxnSp>
        <p:nvCxnSpPr>
          <p:cNvPr id="83" name="꺾인 연결선 61"/>
          <p:cNvCxnSpPr>
            <a:stCxn id="64" idx="3"/>
            <a:endCxn id="79" idx="3"/>
          </p:cNvCxnSpPr>
          <p:nvPr/>
        </p:nvCxnSpPr>
        <p:spPr>
          <a:xfrm flipV="1" rot="10800000">
            <a:off x="8100000" y="4410360"/>
            <a:ext cx="25200" cy="1564920"/>
          </a:xfrm>
          <a:prstGeom prst="bentConnector2">
            <a:avLst/>
          </a:prstGeom>
          <a:ln w="3175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4" name="직선 화살표 연결선 5119"/>
          <p:cNvCxnSpPr>
            <a:stCxn id="79" idx="1"/>
            <a:endCxn id="82" idx="3"/>
          </p:cNvCxnSpPr>
          <p:nvPr/>
        </p:nvCxnSpPr>
        <p:spPr>
          <a:xfrm flipH="1" flipV="1">
            <a:off x="4326840" y="5618520"/>
            <a:ext cx="515160" cy="356760"/>
          </a:xfrm>
          <a:prstGeom prst="straightConnector1">
            <a:avLst/>
          </a:prstGeom>
          <a:ln w="3175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5" name="직선 화살표 연결선 5123"/>
          <p:cNvCxnSpPr>
            <a:stCxn id="79" idx="1"/>
            <a:endCxn id="81" idx="3"/>
          </p:cNvCxnSpPr>
          <p:nvPr/>
        </p:nvCxnSpPr>
        <p:spPr>
          <a:xfrm flipH="1">
            <a:off x="4326840" y="5974920"/>
            <a:ext cx="515160" cy="410760"/>
          </a:xfrm>
          <a:prstGeom prst="straightConnector1">
            <a:avLst/>
          </a:prstGeom>
          <a:ln w="31750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87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 seasonal forecasting system: Joi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89" name="TextBox 7"/>
          <p:cNvSpPr/>
          <p:nvPr/>
        </p:nvSpPr>
        <p:spPr>
          <a:xfrm>
            <a:off x="251640" y="5730120"/>
            <a:ext cx="8640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jor advantages are to share ensemble members as many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Joint system will be launched by December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5"/>
          <p:cNvCxnSpPr/>
          <p:nvPr/>
        </p:nvCxnSpPr>
        <p:spPr>
          <a:xfrm>
            <a:off x="2699640" y="2909520"/>
            <a:ext cx="3591360" cy="9000"/>
          </a:xfrm>
          <a:prstGeom prst="straightConnector1">
            <a:avLst/>
          </a:prstGeom>
          <a:ln w="50800">
            <a:solidFill>
              <a:srgbClr val="4f81bd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91" name="직사각형 1"/>
          <p:cNvSpPr/>
          <p:nvPr/>
        </p:nvSpPr>
        <p:spPr>
          <a:xfrm>
            <a:off x="251640" y="849240"/>
            <a:ext cx="864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June 2010, the collaboration agreement was made betwe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새굴림"/>
              </a:rPr>
              <a:t>K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새굴림"/>
              </a:rPr>
              <a:t>UK Met Off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 for a joint seasonal forecas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08080"/>
              </a:buClr>
              <a:buFont typeface="Wingdings" charset="2"/>
              <a:buChar char=""/>
            </a:pPr>
            <a:r>
              <a:rPr b="0" i="1" lang="en-US" sz="1800" spc="-1" strike="noStrike">
                <a:solidFill>
                  <a:srgbClr val="808080"/>
                </a:solidFill>
                <a:latin typeface="Arial"/>
                <a:ea typeface="새굴림"/>
              </a:rPr>
              <a:t>To establish a joint seasonal forecasting system with the joint aim of developing and providing operational seasonal forecasting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6290640" y="2385360"/>
            <a:ext cx="1665360" cy="156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1043640" y="2385360"/>
            <a:ext cx="1656000" cy="156168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94" name="모서리가 둥근 직사각형 28"/>
          <p:cNvSpPr/>
          <p:nvPr/>
        </p:nvSpPr>
        <p:spPr>
          <a:xfrm>
            <a:off x="3191040" y="4166280"/>
            <a:ext cx="2644920" cy="13474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굴림"/>
              </a:rPr>
              <a:t>Join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3"/>
          <p:cNvSpPr/>
          <p:nvPr/>
        </p:nvSpPr>
        <p:spPr>
          <a:xfrm>
            <a:off x="3060000" y="2509920"/>
            <a:ext cx="28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Joi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꺾인 연결선 4"/>
          <p:cNvCxnSpPr>
            <a:stCxn id="93" idx="2"/>
            <a:endCxn id="94" idx="1"/>
          </p:cNvCxnSpPr>
          <p:nvPr/>
        </p:nvCxnSpPr>
        <p:spPr>
          <a:xfrm>
            <a:off x="1871640" y="3947400"/>
            <a:ext cx="1319400" cy="89280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7" name="꺾인 연결선 9"/>
          <p:cNvCxnSpPr>
            <a:stCxn id="92" idx="2"/>
            <a:endCxn id="94" idx="3"/>
          </p:cNvCxnSpPr>
          <p:nvPr/>
        </p:nvCxnSpPr>
        <p:spPr>
          <a:xfrm flipV="1" rot="10800000">
            <a:off x="5835960" y="3949920"/>
            <a:ext cx="1287720" cy="8902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8" name="직선 화살표 연결선 14"/>
          <p:cNvCxnSpPr>
            <a:stCxn id="94" idx="0"/>
            <a:endCxn id="93" idx="3"/>
          </p:cNvCxnSpPr>
          <p:nvPr/>
        </p:nvCxnSpPr>
        <p:spPr>
          <a:xfrm flipH="1" flipV="1">
            <a:off x="2699640" y="3166200"/>
            <a:ext cx="1814040" cy="10000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9" name="직선 화살표 연결선 16"/>
          <p:cNvCxnSpPr>
            <a:stCxn id="94" idx="0"/>
            <a:endCxn id="92" idx="1"/>
          </p:cNvCxnSpPr>
          <p:nvPr/>
        </p:nvCxnSpPr>
        <p:spPr>
          <a:xfrm flipV="1">
            <a:off x="4513320" y="3167640"/>
            <a:ext cx="1777680" cy="9986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00" name="직사각형 29"/>
          <p:cNvSpPr/>
          <p:nvPr/>
        </p:nvSpPr>
        <p:spPr>
          <a:xfrm>
            <a:off x="3090960" y="3285000"/>
            <a:ext cx="28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직사각형 30"/>
          <p:cNvSpPr/>
          <p:nvPr/>
        </p:nvSpPr>
        <p:spPr>
          <a:xfrm>
            <a:off x="827640" y="482832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M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직사각형 31"/>
          <p:cNvSpPr/>
          <p:nvPr/>
        </p:nvSpPr>
        <p:spPr>
          <a:xfrm>
            <a:off x="6067080" y="482832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KMO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04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Joint seasonal forecasting system : GloSea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106" name="TextBox 7"/>
          <p:cNvSpPr/>
          <p:nvPr/>
        </p:nvSpPr>
        <p:spPr>
          <a:xfrm>
            <a:off x="251640" y="704880"/>
            <a:ext cx="849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oint system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GlosSea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is the fifth version of the Met Office ensemble prediction system for seasonal forecasting, which has been built based on the latest vers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HadGEM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그룹 16"/>
          <p:cNvGrpSpPr/>
          <p:nvPr/>
        </p:nvGrpSpPr>
        <p:grpSpPr>
          <a:xfrm>
            <a:off x="2267640" y="1917000"/>
            <a:ext cx="4875480" cy="1444680"/>
            <a:chOff x="2267640" y="1917000"/>
            <a:chExt cx="4875480" cy="1444680"/>
          </a:xfrm>
        </p:grpSpPr>
        <p:sp>
          <p:nvSpPr>
            <p:cNvPr id="108" name="직사각형 17"/>
            <p:cNvSpPr/>
            <p:nvPr/>
          </p:nvSpPr>
          <p:spPr>
            <a:xfrm>
              <a:off x="2267640" y="2784240"/>
              <a:ext cx="1883160" cy="577440"/>
            </a:xfrm>
            <a:prstGeom prst="rect">
              <a:avLst/>
            </a:prstGeom>
            <a:gradFill rotWithShape="0">
              <a:gsLst>
                <a:gs pos="8000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dk1"/>
            </a:lnRef>
            <a:fillRef idx="3">
              <a:schemeClr val="dk1"/>
            </a:fillRef>
            <a:effectRef idx="3">
              <a:schemeClr val="dk1"/>
            </a:effectRef>
            <a:fontRef idx="minor"/>
          </p:style>
          <p:txBody>
            <a:bodyPr numCol="1" spcCol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Atmosphe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직사각형 18"/>
            <p:cNvSpPr/>
            <p:nvPr/>
          </p:nvSpPr>
          <p:spPr>
            <a:xfrm>
              <a:off x="5182920" y="2784240"/>
              <a:ext cx="1960200" cy="577440"/>
            </a:xfrm>
            <a:prstGeom prst="rect">
              <a:avLst/>
            </a:prstGeom>
            <a:gradFill rotWithShape="0">
              <a:gsLst>
                <a:gs pos="8000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dk1"/>
            </a:lnRef>
            <a:fillRef idx="3">
              <a:schemeClr val="dk1"/>
            </a:fillRef>
            <a:effectRef idx="3">
              <a:schemeClr val="dk1"/>
            </a:effectRef>
            <a:fontRef idx="minor"/>
          </p:style>
          <p:txBody>
            <a:bodyPr numCol="1" spcCol="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NEMO-C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Ocean &amp; Sea Ic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꺾인 연결선 12"/>
            <p:cNvCxnSpPr/>
            <p:nvPr/>
          </p:nvCxnSpPr>
          <p:spPr>
            <a:xfrm flipV="1">
              <a:off x="3383640" y="2731680"/>
              <a:ext cx="2714040" cy="12960"/>
            </a:xfrm>
            <a:prstGeom prst="curvedConnector2">
              <a:avLst/>
            </a:prstGeom>
            <a:ln w="28575">
              <a:solidFill>
                <a:srgbClr val="002060"/>
              </a:solidFill>
              <a:round/>
              <a:headEnd len="med" type="arrow" w="lg"/>
            </a:ln>
          </p:spPr>
        </p:cxnSp>
        <p:cxnSp>
          <p:nvCxnSpPr>
            <p:cNvPr id="111" name="꺾인 연결선 14"/>
            <p:cNvCxnSpPr/>
            <p:nvPr/>
          </p:nvCxnSpPr>
          <p:spPr>
            <a:xfrm flipV="1">
              <a:off x="3266640" y="2721240"/>
              <a:ext cx="2995920" cy="13320"/>
            </a:xfrm>
            <a:prstGeom prst="curvedConnector2">
              <a:avLst/>
            </a:prstGeom>
            <a:ln w="28575">
              <a:solidFill>
                <a:srgbClr val="002060"/>
              </a:solidFill>
              <a:round/>
              <a:tailEnd len="med" type="arrow" w="lg"/>
            </a:ln>
          </p:spPr>
        </p:cxnSp>
        <p:sp>
          <p:nvSpPr>
            <p:cNvPr id="112" name="직사각형 21"/>
            <p:cNvSpPr/>
            <p:nvPr/>
          </p:nvSpPr>
          <p:spPr>
            <a:xfrm>
              <a:off x="4007520" y="1917000"/>
              <a:ext cx="1382040" cy="57780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dk1"/>
            </a:lnRef>
            <a:fillRef idx="3">
              <a:schemeClr val="dk1"/>
            </a:fillRef>
            <a:effectRef idx="3">
              <a:schemeClr val="dk1"/>
            </a:effectRef>
            <a:fontRef idx="minor"/>
          </p:style>
          <p:txBody>
            <a:bodyPr numCol="1" spcCol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OASIS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(couple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표 22"/>
          <p:cNvGraphicFramePr/>
          <p:nvPr/>
        </p:nvGraphicFramePr>
        <p:xfrm>
          <a:off x="359640" y="3484080"/>
          <a:ext cx="8460720" cy="1706400"/>
        </p:xfrm>
        <a:graphic>
          <a:graphicData uri="http://schemas.openxmlformats.org/drawingml/2006/table">
            <a:tbl>
              <a:tblPr/>
              <a:tblGrid>
                <a:gridCol w="2088000"/>
                <a:gridCol w="2736000"/>
                <a:gridCol w="3636360"/>
              </a:tblGrid>
              <a:tr h="329760"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  <a:ea typeface="맑은 고딕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ean &amp; Sea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</a:tr>
              <a:tr h="53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(UM 8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O-C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MO 3.2, CICE 4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16 (0.83° x 0.56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CA tri-polar grid at 0.25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0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levels (~85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lev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14" name="직사각형 23"/>
          <p:cNvSpPr/>
          <p:nvPr/>
        </p:nvSpPr>
        <p:spPr>
          <a:xfrm>
            <a:off x="1652760" y="5301360"/>
            <a:ext cx="565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M (Met Office Unified Model) for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ULES (Joint UK Land Environment Simulator) for Land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NEMO (Nucleus for European Modeling of the Ocean) for Oc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ICE (Los Alamos National Laboratory) for Sea-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ASIS (CERFACS) for coupling between compon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16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loSea5: Initialization of th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251640" y="980640"/>
            <a:ext cx="8362800" cy="259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6800" bIns="46800" anchor="t">
            <a:noAutofit/>
          </a:bodyPr>
          <a:p>
            <a:pPr marL="473040" indent="-457200">
              <a:lnSpc>
                <a:spcPts val="2775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Forecast (initialized daily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5840">
              <a:lnSpc>
                <a:spcPts val="2775"/>
              </a:lnSpc>
              <a:spcBef>
                <a:spcPts val="649"/>
              </a:spcBef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 Atmosphere &amp; land surf: KMA NWP analysis (4d-V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57200">
              <a:lnSpc>
                <a:spcPts val="2775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UKMO system uses Met Office NWP analys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6880">
              <a:lnSpc>
                <a:spcPts val="2775"/>
              </a:lnSpc>
              <a:spcBef>
                <a:spcPts val="649"/>
              </a:spcBef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Ocean &amp; sea-ice: Met Offi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MOVAR analys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(3d-Var joint system for ocean, med-range, monthly and seas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1640" y="3861000"/>
            <a:ext cx="835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ts val="2775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Hindcast (initialized weekly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75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Atmosphere &amp; land surf: ERA-Interim reanaly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75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Ocean &amp; sea-ic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asonal ODA re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75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Fixed start dates of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1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2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f each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75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Hindcast period : 14 years (1996-2009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ts val="2775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Period will be extended for 25 years (1989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1" descr="bbb.bmp"/>
          <p:cNvPicPr/>
          <p:nvPr/>
        </p:nvPicPr>
        <p:blipFill>
          <a:blip r:embed="rId1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21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loSea5: Generation of ensemble me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C:\download\변환_시그니춰-국영문-좌우조합-A-2.gif"/>
          <p:cNvPicPr/>
          <p:nvPr/>
        </p:nvPicPr>
        <p:blipFill>
          <a:blip r:embed="rId2"/>
          <a:srcRect l="0" t="20194" r="0" b="23464"/>
          <a:stretch/>
        </p:blipFill>
        <p:spPr>
          <a:xfrm>
            <a:off x="7294320" y="6399000"/>
            <a:ext cx="1860480" cy="442800"/>
          </a:xfrm>
          <a:prstGeom prst="rect">
            <a:avLst/>
          </a:prstGeom>
          <a:ln w="9525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144720" y="692640"/>
            <a:ext cx="88794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Seasonal Foreca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2 members run each da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asonal forecast updated month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y pulling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st 3 weeks (i.e. 42 memb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2800" y="4293000"/>
            <a:ext cx="897768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Hindcast (for monthly-seasonal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3 members run each week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Lucida Sans Unicode"/>
              </a:rPr>
              <a:t>in real tim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4 years per memb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49"/>
              </a:spcBef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Hindcast for seasonal forecast updated month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y pulling together last 4 weeks (i.e. 12 memb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indcast for measonal forecast updated month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y pu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gether last 2 weeks (i.e. 6 memb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7640" y="2486520"/>
            <a:ext cx="892872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Monthly Foreca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2 additional members run each da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nthly Forecast updated week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y pulling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st 7 days (i.e. 28 memb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http://172.20.157.193/vrfy/kma/determ/hcst/mnth/201401/H500_CORR_mnth_global_1.png"/>
          <p:cNvPicPr/>
          <p:nvPr/>
        </p:nvPicPr>
        <p:blipFill>
          <a:blip r:embed="rId1"/>
          <a:stretch/>
        </p:blipFill>
        <p:spPr>
          <a:xfrm>
            <a:off x="1115640" y="3987720"/>
            <a:ext cx="3657240" cy="282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172.20.157.193/vrfy/kma/determ/hcst/mnth/201401/H500_BIAS_mnth_global_1.png"/>
          <p:cNvPicPr/>
          <p:nvPr/>
        </p:nvPicPr>
        <p:blipFill>
          <a:blip r:embed="rId2"/>
          <a:stretch/>
        </p:blipFill>
        <p:spPr>
          <a:xfrm>
            <a:off x="1058400" y="1251720"/>
            <a:ext cx="3657240" cy="282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172.20.157.193/vrfy/ukmo/determ/hcst/mnth/201401/H500_CORR_mnth_global_1.png"/>
          <p:cNvPicPr/>
          <p:nvPr/>
        </p:nvPicPr>
        <p:blipFill>
          <a:blip r:embed="rId3"/>
          <a:stretch/>
        </p:blipFill>
        <p:spPr>
          <a:xfrm>
            <a:off x="5076000" y="3987720"/>
            <a:ext cx="3657240" cy="282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172.20.157.193/vrfy/ukmo/determ/hcst/mnth/201401/H500_BIAS_mnth_global_1.png"/>
          <p:cNvPicPr/>
          <p:nvPr/>
        </p:nvPicPr>
        <p:blipFill>
          <a:blip r:embed="rId4"/>
          <a:stretch/>
        </p:blipFill>
        <p:spPr>
          <a:xfrm>
            <a:off x="5076000" y="1268640"/>
            <a:ext cx="3657240" cy="28252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bbb.bmp"/>
          <p:cNvPicPr/>
          <p:nvPr/>
        </p:nvPicPr>
        <p:blipFill>
          <a:blip r:embed="rId5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31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ndcast result : GPC-Seoul vs GPC-Ex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C:\download\변환_시그니춰-국영문-좌우조합-A-2.gif"/>
          <p:cNvPicPr/>
          <p:nvPr/>
        </p:nvPicPr>
        <p:blipFill>
          <a:blip r:embed="rId6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133" name="직사각형 14"/>
          <p:cNvSpPr/>
          <p:nvPr/>
        </p:nvSpPr>
        <p:spPr>
          <a:xfrm>
            <a:off x="179640" y="692640"/>
            <a:ext cx="878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361800" indent="-3618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Bias and correlation of 500hPa geopotential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2559960" y="1196640"/>
            <a:ext cx="7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K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6495480" y="119664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255960" y="2551680"/>
            <a:ext cx="66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255960" y="5220000"/>
            <a:ext cx="66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http://172.20.157.193/dagr/20131212/ukmo/mean_spread/H500_mnan_mnth_global_1.png"/>
          <p:cNvPicPr/>
          <p:nvPr/>
        </p:nvPicPr>
        <p:blipFill>
          <a:blip r:embed="rId1"/>
          <a:stretch/>
        </p:blipFill>
        <p:spPr>
          <a:xfrm>
            <a:off x="4644000" y="4005000"/>
            <a:ext cx="380952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172.20.157.193/dagr/20131212/kma/mean_spread/H500_mnan_mnth_global_1.png"/>
          <p:cNvPicPr/>
          <p:nvPr/>
        </p:nvPicPr>
        <p:blipFill>
          <a:blip r:embed="rId2"/>
          <a:stretch/>
        </p:blipFill>
        <p:spPr>
          <a:xfrm>
            <a:off x="4644000" y="1196640"/>
            <a:ext cx="380952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그림 1" descr="bbb.bmp"/>
          <p:cNvPicPr/>
          <p:nvPr/>
        </p:nvPicPr>
        <p:blipFill>
          <a:blip r:embed="rId3"/>
          <a:stretch/>
        </p:blipFill>
        <p:spPr>
          <a:xfrm>
            <a:off x="0" y="0"/>
            <a:ext cx="9148320" cy="704520"/>
          </a:xfrm>
          <a:prstGeom prst="rect">
            <a:avLst/>
          </a:prstGeom>
          <a:ln w="9525">
            <a:noFill/>
          </a:ln>
        </p:spPr>
      </p:pic>
      <p:sp>
        <p:nvSpPr>
          <p:cNvPr id="141" name="제목 1"/>
          <p:cNvSpPr/>
          <p:nvPr/>
        </p:nvSpPr>
        <p:spPr>
          <a:xfrm>
            <a:off x="0" y="-9360"/>
            <a:ext cx="9143640" cy="713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8920" algn="just"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Forecast result : GPC-Seoul vs GPC-Ex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C:\download\변환_시그니춰-국영문-좌우조합-A-2.gif"/>
          <p:cNvPicPr/>
          <p:nvPr/>
        </p:nvPicPr>
        <p:blipFill>
          <a:blip r:embed="rId4"/>
          <a:srcRect l="0" t="20194" r="0" b="23464"/>
          <a:stretch/>
        </p:blipFill>
        <p:spPr>
          <a:xfrm>
            <a:off x="7326720" y="6399000"/>
            <a:ext cx="1800360" cy="442800"/>
          </a:xfrm>
          <a:prstGeom prst="rect">
            <a:avLst/>
          </a:prstGeom>
          <a:ln w="9525">
            <a:noFill/>
          </a:ln>
        </p:spPr>
      </p:pic>
      <p:sp>
        <p:nvSpPr>
          <p:cNvPr id="143" name="직사각형 15"/>
          <p:cNvSpPr/>
          <p:nvPr/>
        </p:nvSpPr>
        <p:spPr>
          <a:xfrm>
            <a:off x="251640" y="692640"/>
            <a:ext cx="856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361800" indent="-3618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ean and anomaly of 500hPa geopotential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1464480" y="1943280"/>
            <a:ext cx="151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6314040" y="1196640"/>
            <a:ext cx="7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K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6171480" y="400500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172.20.157.193/anal_era/1MON/201401/mean_anomaly_1mon_H500_global.png"/>
          <p:cNvPicPr/>
          <p:nvPr/>
        </p:nvPicPr>
        <p:blipFill>
          <a:blip r:embed="rId5"/>
          <a:stretch/>
        </p:blipFill>
        <p:spPr>
          <a:xfrm>
            <a:off x="179640" y="2266560"/>
            <a:ext cx="411444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테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  <Words>855</Words>
  <Paragraphs>139</Paragraphs>
  <Company>기후연구팀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5:37:29Z</dcterms:created>
  <dc:creator>국립기상연구소</dc:creator>
  <dc:description/>
  <dc:language>en-US</dc:language>
  <cp:lastModifiedBy>Jee Eun Park</cp:lastModifiedBy>
  <dcterms:modified xsi:type="dcterms:W3CDTF">2014-03-08T09:13:21Z</dcterms:modified>
  <cp:revision>356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12</vt:r8>
  </property>
</Properties>
</file>