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6.jpeg" ContentType="image/jpe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8.png" ContentType="image/png"/>
  <Override PartName="/ppt/media/image7.png" ContentType="image/png"/>
  <Override PartName="/ppt/media/image29.gif" ContentType="image/gif"/>
  <Override PartName="/ppt/media/image9.png" ContentType="image/png"/>
  <Override PartName="/ppt/media/image10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Luxi Sans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D8F437-F39D-4681-9073-9D1C7797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16"/>
          </p:nvPr>
        </p:nvSpPr>
        <p:spPr>
          <a:xfrm>
            <a:off x="4276800" y="10158480"/>
            <a:ext cx="3273120" cy="528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46290-6286-40A1-9805-0FF674A0C3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360" cy="400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4760" cy="4811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hows the following winter situations for each of th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ly oriented cold anomalies over Eurasia are clearly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these characteristics, we investigated statistic relationship between the summer Arctic sea ice and the winter Eurasian cl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17"/>
          </p:nvPr>
        </p:nvSpPr>
        <p:spPr>
          <a:xfrm>
            <a:off x="4276800" y="10158480"/>
            <a:ext cx="3273120" cy="528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AAB26-A34A-402D-9F3C-45320B3E7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04840" y="801720"/>
            <a:ext cx="5346360" cy="4009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4760" cy="4811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hows the following winter situations for each of th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ly oriented cold anomalies over Eurasia are clearly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these characteristics, we investigated statistic relationship between the summer Arctic sea ice and the winter Eurasian cl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28B-6909-456D-9036-E302D5F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E96-AAD2-4BCE-B097-6C66C2D8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8AD-96A5-4D89-87DF-5D883D04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FFD-D024-47E2-9FBE-24D4BA2B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8BD9-75BB-46E1-95C5-68D8FA4F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AC86-04EE-428A-8439-A0CF6ADC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E24-B694-484E-9E87-96F734C6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15D1-147E-495F-A665-2871276D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2AD4-601B-4ADC-8B12-C3CBEBF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8BAC-3CAC-4F47-B60D-AAEADF68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9EB9-4CC6-425E-B7C8-94A7576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168-0F86-47FE-8B23-C01B31CD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A328-6440-4930-A166-8315DC1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027B-1B5F-4FB6-8C1B-36301C1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B410-B580-45A8-BE01-AF8AD68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449A-CA10-4262-924F-3251F61D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B9D5-3F7A-484A-8B0D-503B0816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767-18E2-4164-A374-519E80C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60DD-28D1-4A10-BDAB-0C6379FE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929F-FB9E-407F-8999-CB1A866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3521-78EC-49DE-8224-679D40F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AFA-6618-4B09-9556-6314E25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57C1-7541-4F1F-8F03-B7741922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9170-440D-435F-98AB-77ED130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846F-801D-4833-A62E-F8FB02A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4EC3-59EC-41E4-8354-382B196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1B35-B456-4CC4-8D3A-92E4FA0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1E1C-5475-4127-A23A-4E8B9E0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1665-EFC3-47E3-80C4-F656CE44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7D67-9D6F-4D11-84F4-9EAF7B0E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CA0D-3CC6-4C78-8DF1-005119BB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8EAB-2146-4EB7-AB51-A133532F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1CD-F6F5-4585-8493-8ADF07E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B2C0-E672-435E-AF8E-551CD04A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E21F-CB52-4827-86F3-57B4443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F011-DFF3-467F-B3CC-E6D0B93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573C-10BD-4CFE-8006-3EE9086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B2D2-B388-4875-9DE3-21FC45E2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AB8C-1C93-47A6-B53D-2C99C54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911C-D2A8-45F2-A8E4-45DE270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5BF6-BA75-4BC0-A9A2-841ED6D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CEDE-6521-44A4-BCA6-2064FFA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0F0B-FBC4-41F8-8363-7A18FC8C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5880" cy="582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D08-A664-4F84-B610-796DE99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683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3720" y="176868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683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3720" y="4374000"/>
            <a:ext cx="2918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77285-DCA0-4BA4-A7D8-152C366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202-3A6E-4AB1-A8F9-052FD29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3F5-1948-401A-9371-7131680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680"/>
            <a:ext cx="44240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5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D1A-0684-4E73-A76E-D726F21C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680"/>
            <a:ext cx="9065880" cy="4987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419400" indent="-3164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ext styles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43480" indent="-280440">
              <a:lnSpc>
                <a:spcPct val="10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Luxi Sans"/>
                <a:ea typeface="Luxi Sans"/>
              </a:rPr>
              <a:t>Second level</a:t>
            </a:r>
            <a:endParaRPr b="0" lang="en-GB" sz="2800" spc="-1" strike="noStrike">
              <a:solidFill>
                <a:srgbClr val="000000"/>
              </a:solidFill>
              <a:latin typeface="Luxi Sans"/>
            </a:endParaRPr>
          </a:p>
          <a:p>
            <a:pPr lvl="2" marL="1267560" indent="-208800">
              <a:lnSpc>
                <a:spcPct val="10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  <a:ea typeface="Luxi Sans"/>
              </a:rPr>
              <a:t>Third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3" marL="1691640" indent="-207360">
              <a:lnSpc>
                <a:spcPct val="108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Fourth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15360" indent="-208800">
              <a:lnSpc>
                <a:spcPct val="108000"/>
              </a:lnSpc>
              <a:spcAft>
                <a:spcPts val="289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Fifth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</a:pPr>
            <a:fld id="{7084EE53-1759-4389-B3BE-2DE9C5D035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</a:pPr>
            <a:fld id="{54D2098C-979B-43FF-B00C-706DBEFAE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20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Luxi Sans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 hidden="1"/>
          <p:cNvSpPr/>
          <p:nvPr/>
        </p:nvSpPr>
        <p:spPr>
          <a:xfrm>
            <a:off x="-5400" y="6842160"/>
            <a:ext cx="2257200" cy="72576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Freeform 7" hidden="1"/>
          <p:cNvSpPr/>
          <p:nvPr/>
        </p:nvSpPr>
        <p:spPr>
          <a:xfrm>
            <a:off x="-5400" y="6842160"/>
            <a:ext cx="10082160" cy="72576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Century Gothic"/>
              <a:ea typeface="ＭＳ Ｐゴシック"/>
            </a:endParaRPr>
          </a:p>
        </p:txBody>
      </p:sp>
      <p:pic>
        <p:nvPicPr>
          <p:cNvPr id="84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372600" y="276480"/>
            <a:ext cx="1881000" cy="61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_EU_small"/>
          <p:cNvPicPr/>
          <p:nvPr/>
        </p:nvPicPr>
        <p:blipFill>
          <a:blip r:embed="rId3"/>
          <a:srcRect l="0" t="0" r="56711" b="0"/>
          <a:stretch/>
        </p:blipFill>
        <p:spPr>
          <a:xfrm>
            <a:off x="8957160" y="225720"/>
            <a:ext cx="757440" cy="711720"/>
          </a:xfrm>
          <a:prstGeom prst="rect">
            <a:avLst/>
          </a:prstGeom>
          <a:ln w="0">
            <a:noFill/>
          </a:ln>
        </p:spPr>
      </p:pic>
      <p:sp>
        <p:nvSpPr>
          <p:cNvPr id="86" name="Right Triangle 6"/>
          <p:cNvSpPr/>
          <p:nvPr/>
        </p:nvSpPr>
        <p:spPr>
          <a:xfrm>
            <a:off x="0" y="2918880"/>
            <a:ext cx="3939120" cy="464040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800" y="-1800"/>
            <a:ext cx="10082160" cy="7561080"/>
          </a:xfrm>
          <a:custGeom>
            <a:avLst/>
            <a:gdLst>
              <a:gd name="textAreaLeft" fmla="*/ 0 w 10082160"/>
              <a:gd name="textAreaRight" fmla="*/ 10082520 w 10082160"/>
              <a:gd name="textAreaTop" fmla="*/ 0 h 7561080"/>
              <a:gd name="textAreaBottom" fmla="*/ 7561440 h 756108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Forma libre 11"/>
          <p:cNvSpPr/>
          <p:nvPr/>
        </p:nvSpPr>
        <p:spPr>
          <a:xfrm>
            <a:off x="3316320" y="6562080"/>
            <a:ext cx="6657120" cy="890280"/>
          </a:xfrm>
          <a:custGeom>
            <a:avLst/>
            <a:gdLst>
              <a:gd name="textAreaLeft" fmla="*/ 0 w 6657120"/>
              <a:gd name="textAreaRight" fmla="*/ 6657480 w 665712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9" name="Imagen 17" descr="IC3_Logo_Vector.png"/>
          <p:cNvPicPr/>
          <p:nvPr/>
        </p:nvPicPr>
        <p:blipFill>
          <a:blip r:embed="rId4"/>
          <a:stretch/>
        </p:blipFill>
        <p:spPr>
          <a:xfrm>
            <a:off x="8708400" y="6562080"/>
            <a:ext cx="1320840" cy="890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19140000">
            <a:off x="900720" y="1907280"/>
            <a:ext cx="6226920" cy="1327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00800" rIns="100800" tIns="50400" bIns="1008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_tradnl" sz="3500" spc="-1" strike="noStrike" cap="all">
                <a:solidFill>
                  <a:srgbClr val="000000"/>
                </a:solidFill>
                <a:latin typeface="Verdana"/>
                <a:ea typeface="ＭＳ Ｐゴシック"/>
              </a:rPr>
              <a:t>Clic para editar título</a:t>
            </a:r>
            <a:endParaRPr b="0" lang="en-GB" sz="35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GB" sz="2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GB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080" cy="162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6840"/>
                <a:tab algn="l" pos="914040"/>
                <a:tab algn="l" pos="1370880"/>
                <a:tab algn="l" pos="1828080"/>
                <a:tab algn="l" pos="2284920"/>
                <a:tab algn="l" pos="2742120"/>
                <a:tab algn="l" pos="3198960"/>
                <a:tab algn="l" pos="3656160"/>
                <a:tab algn="l" pos="4113000"/>
                <a:tab algn="l" pos="4570200"/>
                <a:tab algn="l" pos="5027040"/>
                <a:tab algn="l" pos="5484240"/>
                <a:tab algn="l" pos="5941080"/>
                <a:tab algn="l" pos="6398280"/>
                <a:tab algn="l" pos="6855120"/>
                <a:tab algn="l" pos="7312320"/>
                <a:tab algn="l" pos="7769160"/>
                <a:tab algn="l" pos="8226360"/>
                <a:tab algn="l" pos="8683200"/>
                <a:tab algn="l" pos="9140040"/>
              </a:tabLst>
            </a:pPr>
            <a:fld id="{31219A22-A096-4B02-9EF0-160F147E22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5880" cy="125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  <a:ea typeface="Luxi Sans"/>
              </a:rPr>
              <a:t>Click to edit Master title style</a:t>
            </a:r>
            <a:endParaRPr b="0" lang="en-GB" sz="4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503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888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1080" cy="520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8920"/>
                <a:tab algn="l" pos="897840"/>
                <a:tab algn="l" pos="1347120"/>
                <a:tab algn="l" pos="1796040"/>
                <a:tab algn="l" pos="2244960"/>
                <a:tab algn="l" pos="2693880"/>
                <a:tab algn="l" pos="3142800"/>
                <a:tab algn="l" pos="3591720"/>
                <a:tab algn="l" pos="4041000"/>
                <a:tab algn="l" pos="4489920"/>
                <a:tab algn="l" pos="4938840"/>
                <a:tab algn="l" pos="5387760"/>
                <a:tab algn="l" pos="5836680"/>
                <a:tab algn="l" pos="6285600"/>
                <a:tab algn="l" pos="6734520"/>
                <a:tab algn="l" pos="7183800"/>
                <a:tab algn="l" pos="7632720"/>
                <a:tab algn="l" pos="8081640"/>
                <a:tab algn="l" pos="8530560"/>
                <a:tab algn="l" pos="8979480"/>
              </a:tabLst>
            </a:pPr>
            <a:fld id="{5C847AE9-7C64-4D0C-8F06-DF6B6FA19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8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4000" indent="-324000">
              <a:lnSpc>
                <a:spcPct val="108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Luxi Sans"/>
            </a:endParaRPr>
          </a:p>
          <a:p>
            <a:pPr lvl="2" marL="1296000" indent="-288000">
              <a:lnSpc>
                <a:spcPct val="108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3" marL="1728000" indent="-216000">
              <a:lnSpc>
                <a:spcPct val="108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4" marL="2160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5" marL="2592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  <a:p>
            <a:pPr lvl="6" marL="3024000" indent="-216000">
              <a:lnSpc>
                <a:spcPct val="108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936000" y="3492000"/>
            <a:ext cx="8424720" cy="2863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t">
            <a:sp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Yvan J. OR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NILU - Norwegian Institute for Air Resear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and University of Bergen,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Collabora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R. Senan (U. of Oslo), R. E. Benestad (Norwegian Met. Ins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G. Balsamo, F. Vitart, A. Weisheimer (ECMWF, Eng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8920"/>
                <a:tab algn="l" pos="898200"/>
                <a:tab algn="l" pos="1347120"/>
                <a:tab algn="l" pos="1796040"/>
                <a:tab algn="l" pos="2244960"/>
                <a:tab algn="l" pos="2694240"/>
                <a:tab algn="l" pos="3143160"/>
                <a:tab algn="l" pos="3592080"/>
                <a:tab algn="l" pos="4041360"/>
                <a:tab algn="l" pos="4490280"/>
                <a:tab algn="l" pos="4939200"/>
                <a:tab algn="l" pos="5388480"/>
                <a:tab algn="l" pos="5837400"/>
                <a:tab algn="l" pos="6286320"/>
                <a:tab algn="l" pos="6735240"/>
                <a:tab algn="l" pos="7184520"/>
                <a:tab algn="l" pos="7633440"/>
                <a:tab algn="l" pos="8082360"/>
                <a:tab algn="l" pos="8531640"/>
                <a:tab algn="l" pos="898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F. Doblas-Reyes (ICREA, 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37960" y="1979640"/>
            <a:ext cx="9864360" cy="108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 algn="ctr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Working Group on Seasonal-to-Interannual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8640720" y="323280"/>
            <a:ext cx="969480" cy="105228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6" descr="NILU_logo_200.jpg"/>
          <p:cNvPicPr/>
          <p:nvPr/>
        </p:nvPicPr>
        <p:blipFill>
          <a:blip r:embed="rId2"/>
          <a:stretch/>
        </p:blipFill>
        <p:spPr>
          <a:xfrm>
            <a:off x="0" y="0"/>
            <a:ext cx="151164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15640" y="1835640"/>
            <a:ext cx="8568720" cy="648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Role of snowpack, in particular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impact of snow initialisation, on subseasonal-to-seasona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We made twin simulations using a modelling strategy similar to the one used for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looking at soil moisture impact in the warm season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(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Koster et al. 2004; 2010)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  in the GLACE2  international model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Actual predictability experiments for autumn (years 2004-2009) :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coupled ocean-atmosphere ECMWF forecasts at high resolution, with </a:t>
            </a: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realistic snow init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8000"/>
              </a:lnSpc>
              <a:buClr>
                <a:srgbClr val="000000"/>
              </a:buClr>
              <a:buSzPct val="180000"/>
              <a:buFont typeface="Wingdings" charset="2"/>
              <a:buChar char=""/>
            </a:pPr>
            <a:r>
              <a:rPr b="1" lang="nb-NO" sz="1800" spc="-1" strike="noStrike">
                <a:solidFill>
                  <a:schemeClr val="accent1">
                    <a:lumMod val="75000"/>
                  </a:schemeClr>
                </a:solidFill>
                <a:latin typeface="Luxi Sans"/>
                <a:ea typeface="Luxi Sans"/>
              </a:rPr>
              <a:t>Impact on circulation (NAO, Siberian High,...) at mid and high latitudes, impact on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43640" y="323280"/>
            <a:ext cx="6675840" cy="96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9000" rIns="99000" tIns="49320" bIns="4932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8920"/>
                <a:tab algn="l" pos="897840"/>
                <a:tab algn="l" pos="1346760"/>
                <a:tab algn="l" pos="1795680"/>
                <a:tab algn="l" pos="2244600"/>
                <a:tab algn="l" pos="2693520"/>
                <a:tab algn="l" pos="3142440"/>
                <a:tab algn="l" pos="3591360"/>
                <a:tab algn="l" pos="4040280"/>
                <a:tab algn="l" pos="4489200"/>
                <a:tab algn="l" pos="4938120"/>
                <a:tab algn="l" pos="5387040"/>
                <a:tab algn="l" pos="5835960"/>
                <a:tab algn="l" pos="6284880"/>
                <a:tab algn="l" pos="6734160"/>
                <a:tab algn="l" pos="7183080"/>
                <a:tab algn="l" pos="7632000"/>
                <a:tab algn="l" pos="8080920"/>
                <a:tab algn="l" pos="8529840"/>
                <a:tab algn="l" pos="897876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Luxi Sans"/>
                <a:ea typeface="Geneva"/>
              </a:rPr>
              <a:t>Role of Eurasian snow on subseasonal-to-seasonal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053" descr="雪回廊"/>
          <p:cNvPicPr/>
          <p:nvPr/>
        </p:nvPicPr>
        <p:blipFill>
          <a:blip r:embed="rId1"/>
          <a:stretch/>
        </p:blipFill>
        <p:spPr>
          <a:xfrm>
            <a:off x="7488720" y="0"/>
            <a:ext cx="2591640" cy="22345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648000" y="6816960"/>
            <a:ext cx="8759520" cy="5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89640" rIns="8964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Luxi Sans"/>
                <a:ea typeface="Luxi Sans"/>
              </a:rPr>
              <a:t>Orsolini, Y.J., Senan, R., Balsamo, G., Doblas-Reyes, F., Vitart, D., Weisheimer, A., Carrasco, A., Benestad, R. (2013), Impact of snow initialization on sub-seasonal forecasts , Clim. Dyn., DOI: 10.1007/s00382-013-1782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0" y="0"/>
            <a:ext cx="7195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71320" indent="-571320" algn="ctr">
              <a:lnSpc>
                <a:spcPct val="108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Negative NAO phase in very cold winter 200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31"/>
          <p:cNvSpPr/>
          <p:nvPr/>
        </p:nvSpPr>
        <p:spPr>
          <a:xfrm>
            <a:off x="215640" y="1536480"/>
            <a:ext cx="1821600" cy="119592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Luxi Sans"/>
              </a:rPr>
              <a:t>ensemble-me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xi Sans"/>
              </a:rPr>
              <a:t>(11 #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1" lang="nb-NO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Series 1</a:t>
            </a:r>
            <a:r>
              <a:rPr b="1" lang="nb-NO" sz="1400" spc="-1" strike="noStrike">
                <a:solidFill>
                  <a:srgbClr val="0000cc"/>
                </a:solidFill>
                <a:latin typeface="Luxi Sans"/>
                <a:ea typeface="Luxi Sans"/>
              </a:rPr>
              <a:t> – </a:t>
            </a:r>
            <a:r>
              <a:rPr b="1" lang="nb-NO" sz="1400" spc="-1" strike="noStrike">
                <a:solidFill>
                  <a:srgbClr val="ff0000"/>
                </a:solidFill>
                <a:latin typeface="Luxi Sans"/>
                <a:ea typeface="Luxi Sans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700"/>
              </a:spcBef>
            </a:pPr>
            <a:r>
              <a:rPr b="1" lang="nb-NO" sz="1400" spc="-1" strike="noStrike">
                <a:solidFill>
                  <a:srgbClr val="0000cc"/>
                </a:solidFill>
                <a:latin typeface="Luxi Sans"/>
                <a:ea typeface="Luxi Sans"/>
              </a:rPr>
              <a:t>15-day lead</a:t>
            </a:r>
            <a:r>
              <a:rPr b="1" lang="nb-NO" sz="1000" spc="-1" strike="noStrike">
                <a:solidFill>
                  <a:srgbClr val="0000cc"/>
                </a:solidFill>
                <a:latin typeface="Luxi Sans"/>
                <a:ea typeface="Luxi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  <a:spcBef>
                <a:spcPts val="499"/>
              </a:spcBef>
            </a:pPr>
            <a:r>
              <a:rPr b="1" lang="nb-NO" sz="1000" spc="-1" strike="noStrike">
                <a:solidFill>
                  <a:srgbClr val="0000cc"/>
                </a:solidFill>
                <a:latin typeface="Luxi Sans"/>
                <a:ea typeface="Luxi Sans"/>
              </a:rPr>
              <a:t>DEC 1, 2009 start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016000" y="755640"/>
            <a:ext cx="2581920" cy="251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4752360" y="755640"/>
            <a:ext cx="2514960" cy="251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7381440" y="755640"/>
            <a:ext cx="2524320" cy="2519640"/>
          </a:xfrm>
          <a:prstGeom prst="rect">
            <a:avLst/>
          </a:prstGeom>
          <a:ln w="0">
            <a:noFill/>
          </a:ln>
        </p:spPr>
      </p:pic>
      <p:cxnSp>
        <p:nvCxnSpPr>
          <p:cNvPr id="229" name="Straight Arrow Connector 11"/>
          <p:cNvCxnSpPr/>
          <p:nvPr/>
        </p:nvCxnSpPr>
        <p:spPr>
          <a:xfrm>
            <a:off x="8712720" y="2766240"/>
            <a:ext cx="804600" cy="432360"/>
          </a:xfrm>
          <a:prstGeom prst="straightConnector1">
            <a:avLst/>
          </a:prstGeom>
          <a:ln w="76200">
            <a:solidFill>
              <a:srgbClr val="3333cc"/>
            </a:solidFill>
            <a:round/>
            <a:headEnd len="med" type="arrow" w="med"/>
          </a:ln>
        </p:spPr>
      </p:cxnSp>
      <p:pic>
        <p:nvPicPr>
          <p:cNvPr id="230" name="Picture 2" descr=""/>
          <p:cNvPicPr/>
          <p:nvPr/>
        </p:nvPicPr>
        <p:blipFill>
          <a:blip r:embed="rId4"/>
          <a:stretch/>
        </p:blipFill>
        <p:spPr>
          <a:xfrm>
            <a:off x="3384000" y="3422520"/>
            <a:ext cx="5528520" cy="3599640"/>
          </a:xfrm>
          <a:prstGeom prst="rect">
            <a:avLst/>
          </a:prstGeom>
          <a:ln w="9525">
            <a:noFill/>
          </a:ln>
        </p:spPr>
      </p:pic>
      <p:sp>
        <p:nvSpPr>
          <p:cNvPr id="231" name="Text Box 1031"/>
          <p:cNvSpPr/>
          <p:nvPr/>
        </p:nvSpPr>
        <p:spPr>
          <a:xfrm>
            <a:off x="215640" y="3275640"/>
            <a:ext cx="2469600" cy="330552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Series1 (realistic snow) has more negative NAO index than </a:t>
            </a:r>
            <a:r>
              <a:rPr b="1" lang="en-US" sz="1400" spc="-1" strike="noStrike">
                <a:solidFill>
                  <a:srgbClr val="ff0000"/>
                </a:solidFill>
                <a:latin typeface="Luxi Sans"/>
                <a:ea typeface="Luxi Sans"/>
              </a:rPr>
              <a:t>Serie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closer to re-analy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Snow contributes to maintaining negative N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3333cc"/>
                </a:solidFill>
                <a:latin typeface="Luxi Sans"/>
                <a:ea typeface="Luxi Sans"/>
              </a:rPr>
              <a:t>-&gt; one of the factors influencing negative NAO p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31"/>
          <p:cNvSpPr/>
          <p:nvPr/>
        </p:nvSpPr>
        <p:spPr>
          <a:xfrm>
            <a:off x="59040" y="517680"/>
            <a:ext cx="4538880" cy="29520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  <a:spcBef>
                <a:spcPts val="601"/>
              </a:spcBef>
              <a:tabLst>
                <a:tab algn="l" pos="206208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Most negative winter (DJF) NAO in 145-Year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31"/>
          <p:cNvSpPr/>
          <p:nvPr/>
        </p:nvSpPr>
        <p:spPr>
          <a:xfrm>
            <a:off x="59040" y="7188120"/>
            <a:ext cx="10005120" cy="394200"/>
          </a:xfrm>
          <a:prstGeom prst="rect">
            <a:avLst/>
          </a:prstGeom>
          <a:solidFill>
            <a:srgbClr val="f8e2ca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8000"/>
              </a:lnSpc>
              <a:spcBef>
                <a:spcPts val="700"/>
              </a:spcBef>
              <a:tabLst>
                <a:tab algn="l" pos="2062080"/>
              </a:tabLst>
            </a:pPr>
            <a:r>
              <a:rPr b="1" lang="nb-NO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Several studies examined factors leading to NAO</a:t>
            </a:r>
            <a:r>
              <a:rPr b="1" lang="nb-NO" sz="1800" spc="-1" strike="noStrike" baseline="30000">
                <a:solidFill>
                  <a:srgbClr val="0000cc"/>
                </a:solidFill>
                <a:latin typeface="Arial"/>
                <a:ea typeface="ＭＳ Ｐゴシック"/>
              </a:rPr>
              <a:t>-</a:t>
            </a:r>
            <a:r>
              <a:rPr b="1" lang="nb-NO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</a:t>
            </a:r>
            <a:r>
              <a:rPr b="1" lang="nb-NO" sz="1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(Jung et al., 2011; Fereday et al., 2012; Cohen et al, 2010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1602000" y="802440"/>
            <a:ext cx="72540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Luxi Sans"/>
              </a:rPr>
              <a:t>T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4601520" y="802440"/>
            <a:ext cx="69660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Luxi Sans"/>
              </a:rPr>
              <a:t>S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413840" y="802440"/>
            <a:ext cx="1885320" cy="4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nb-NO" sz="2000" spc="-1" strike="noStrike">
                <a:solidFill>
                  <a:srgbClr val="ff0000"/>
                </a:solidFill>
                <a:latin typeface="Arial"/>
                <a:ea typeface="Luxi Sans"/>
              </a:rPr>
              <a:t>200hPa w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736000" y="3321360"/>
            <a:ext cx="734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10080" anchor="b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Role of Snow in Seasonal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ew SNOWGLACE2 experiments, covering mor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b-NO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nd both autumn/spring (NILU-ECMWF, Meteo-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nb-NO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ask coordination (NILU, Norwegian Met. Institute)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Forecast quality comparison of numerical hindcasts with improved snow initial conditions and statistical hindcasts using initial snow as a predi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PECS Logo Final Proposal"/>
          <p:cNvPicPr/>
          <p:nvPr/>
        </p:nvPicPr>
        <p:blipFill>
          <a:blip r:embed="rId1"/>
          <a:stretch/>
        </p:blipFill>
        <p:spPr>
          <a:xfrm>
            <a:off x="483120" y="286920"/>
            <a:ext cx="3702960" cy="1702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Logo_EU_small"/>
          <p:cNvPicPr/>
          <p:nvPr/>
        </p:nvPicPr>
        <p:blipFill>
          <a:blip r:embed="rId2"/>
          <a:srcRect l="0" t="0" r="56711" b="0"/>
          <a:stretch/>
        </p:blipFill>
        <p:spPr>
          <a:xfrm>
            <a:off x="6783480" y="6639120"/>
            <a:ext cx="757440" cy="71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iCrea_Pantone verd rgb"/>
          <p:cNvPicPr/>
          <p:nvPr/>
        </p:nvPicPr>
        <p:blipFill>
          <a:blip r:embed="rId3"/>
          <a:srcRect l="12958" t="0" r="12958" b="40400"/>
          <a:stretch/>
        </p:blipFill>
        <p:spPr>
          <a:xfrm>
            <a:off x="7604280" y="6801840"/>
            <a:ext cx="1142640" cy="353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_ce-en-rvb-lr"/>
          <p:cNvPicPr/>
          <p:nvPr/>
        </p:nvPicPr>
        <p:blipFill>
          <a:blip r:embed="rId4"/>
          <a:stretch/>
        </p:blipFill>
        <p:spPr>
          <a:xfrm>
            <a:off x="5523480" y="6577920"/>
            <a:ext cx="1226520" cy="851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0" y="2012760"/>
            <a:ext cx="396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10080" anchor="b">
            <a:sp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ord.: F.J. Doblas-Re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CREA and IC3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UiO_Segl_300dpi.png"/>
          <p:cNvPicPr/>
          <p:nvPr/>
        </p:nvPicPr>
        <p:blipFill>
          <a:blip r:embed="rId1"/>
          <a:stretch/>
        </p:blipFill>
        <p:spPr>
          <a:xfrm>
            <a:off x="4725720" y="6723360"/>
            <a:ext cx="713880" cy="713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2"/>
          <a:stretch/>
        </p:blipFill>
        <p:spPr>
          <a:xfrm>
            <a:off x="9199800" y="6672960"/>
            <a:ext cx="743400" cy="71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NORINDIA_Logo.png"/>
          <p:cNvPicPr/>
          <p:nvPr/>
        </p:nvPicPr>
        <p:blipFill>
          <a:blip r:embed="rId3"/>
          <a:stretch/>
        </p:blipFill>
        <p:spPr>
          <a:xfrm>
            <a:off x="3888360" y="3645000"/>
            <a:ext cx="2774880" cy="160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4"/>
          <a:stretch/>
        </p:blipFill>
        <p:spPr>
          <a:xfrm>
            <a:off x="88200" y="6672960"/>
            <a:ext cx="595080" cy="713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55080" y="1240200"/>
            <a:ext cx="993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Influence of springtime Himalayan-Tibetan Plateau snow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Luxi Sans"/>
              </a:rPr>
              <a:t>onset of the Indian summer mon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866600" y="2156040"/>
            <a:ext cx="64328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Yvan J. Orsolini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Retish Sena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Frode Stordal</a:t>
            </a: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Norwegian Institute for Air Research - NILU, Kjeller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600" spc="-1" strike="noStrike" baseline="30000">
                <a:solidFill>
                  <a:srgbClr val="000000"/>
                </a:solidFill>
                <a:latin typeface="Luxi Sans"/>
                <a:ea typeface="Luxi San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Department of Geosciences, University of Oslo, Oslo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1322640" y="3295440"/>
            <a:ext cx="78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Luxi Sans"/>
              </a:rPr>
              <a:t>Collaborating Institute in India: Indian Institute of Tropical Meteorology (IITM), P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63960" y="5247360"/>
            <a:ext cx="93416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8000"/>
              </a:lnSpc>
            </a:pPr>
            <a:r>
              <a:rPr b="1" i="1" lang="en-US" sz="1800" spc="-1" strike="noStrike">
                <a:solidFill>
                  <a:srgbClr val="ff9900"/>
                </a:solidFill>
                <a:latin typeface="Luxi Sans"/>
                <a:ea typeface="Luxi Sans"/>
              </a:rPr>
              <a:t>NORINDIA part of a cluster of projects funded by the Research Council of Nor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i="1" lang="en-US" sz="1800" spc="-1" strike="noStrike">
                <a:solidFill>
                  <a:srgbClr val="ff9900"/>
                </a:solidFill>
                <a:latin typeface="Luxi Sans"/>
                <a:ea typeface="Luxi Sans"/>
              </a:rPr>
              <a:t>INDIA-NORWAY programme (2012-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Luxi Sans"/>
                <a:ea typeface="Luxi Sans"/>
              </a:rPr>
              <a:t>NORINDIA : Climate Change and its Impacts on Selected Indian Hydrological Systems using Earth System and High-Resolution Modeling </a:t>
            </a:r>
            <a:r>
              <a:rPr b="1" lang="en-US" sz="1800" spc="-1" strike="noStrike">
                <a:solidFill>
                  <a:srgbClr val="ffffff"/>
                </a:solidFill>
                <a:latin typeface="Luxi Sans"/>
                <a:ea typeface="Luxi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8000"/>
              </a:lnSpc>
            </a:pPr>
            <a:r>
              <a:rPr b="1" i="1" lang="nb-NO" sz="1800" spc="-1" strike="noStrike">
                <a:solidFill>
                  <a:srgbClr val="000000"/>
                </a:solidFill>
                <a:latin typeface="Luxi Sans"/>
                <a:ea typeface="Luxi Sans"/>
              </a:rPr>
              <a:t>Coordinators : Eystein Jansen and Michel Mesquita (University of Be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036080" y="2435760"/>
            <a:ext cx="203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pic>
        <p:nvPicPr>
          <p:cNvPr id="252" name="Picture 16" descr="Asian-australian2"/>
          <p:cNvPicPr/>
          <p:nvPr/>
        </p:nvPicPr>
        <p:blipFill>
          <a:blip r:embed="rId5"/>
          <a:srcRect l="0" t="20881" r="11321" b="41826"/>
          <a:stretch/>
        </p:blipFill>
        <p:spPr>
          <a:xfrm>
            <a:off x="359640" y="88200"/>
            <a:ext cx="2788200" cy="1151640"/>
          </a:xfrm>
          <a:prstGeom prst="rect">
            <a:avLst/>
          </a:prstGeom>
          <a:ln w="12700">
            <a:solidFill>
              <a:srgbClr val="000000"/>
            </a:solidFill>
            <a:miter/>
          </a:ln>
        </p:spPr>
      </p:pic>
      <p:pic>
        <p:nvPicPr>
          <p:cNvPr id="253" name="Picture 6" descr="WATER_CYCLE2.gif"/>
          <p:cNvPicPr/>
          <p:nvPr/>
        </p:nvPicPr>
        <p:blipFill>
          <a:blip r:embed="rId6"/>
          <a:stretch/>
        </p:blipFill>
        <p:spPr>
          <a:xfrm>
            <a:off x="7488720" y="41760"/>
            <a:ext cx="2467080" cy="121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288360" y="659880"/>
            <a:ext cx="3095280" cy="3085920"/>
          </a:xfrm>
          <a:prstGeom prst="rect">
            <a:avLst/>
          </a:prstGeom>
          <a:ln w="9525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9446760" cy="534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ＭＳ Ｐゴシック"/>
              </a:rPr>
              <a:t>Sea ice loss and recent Eurasian cold winters</a:t>
            </a:r>
            <a:endParaRPr b="0" lang="en-GB" sz="2400" spc="-1" strike="noStrike">
              <a:solidFill>
                <a:srgbClr val="ffffff"/>
              </a:solidFill>
              <a:latin typeface="Luxi Sans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315360" y="3826800"/>
            <a:ext cx="3133440" cy="213840"/>
          </a:xfrm>
          <a:prstGeom prst="rect">
            <a:avLst/>
          </a:prstGeom>
          <a:ln w="9525">
            <a:noFill/>
          </a:ln>
        </p:spPr>
      </p:pic>
      <p:sp>
        <p:nvSpPr>
          <p:cNvPr id="257" name="Oval 14"/>
          <p:cNvSpPr/>
          <p:nvPr/>
        </p:nvSpPr>
        <p:spPr>
          <a:xfrm rot="1059000">
            <a:off x="334440" y="2725200"/>
            <a:ext cx="2512800" cy="791640"/>
          </a:xfrm>
          <a:prstGeom prst="ellipse">
            <a:avLst/>
          </a:prstGeom>
          <a:noFill/>
          <a:ln w="381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sp>
        <p:nvSpPr>
          <p:cNvPr id="258" name="Oval 15"/>
          <p:cNvSpPr/>
          <p:nvPr/>
        </p:nvSpPr>
        <p:spPr>
          <a:xfrm rot="1500600">
            <a:off x="923760" y="2009160"/>
            <a:ext cx="1191960" cy="634680"/>
          </a:xfrm>
          <a:prstGeom prst="ellipse">
            <a:avLst/>
          </a:prstGeom>
          <a:noFill/>
          <a:ln w="3175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8000"/>
              </a:lnSpc>
            </a:pPr>
            <a:endParaRPr b="1" lang="en-US" sz="1800" spc="-1" strike="noStrike">
              <a:solidFill>
                <a:srgbClr val="ffffff"/>
              </a:solidFill>
              <a:latin typeface="Luxi Sans"/>
              <a:ea typeface="Luxi Sans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770480" y="3271320"/>
            <a:ext cx="772200" cy="273600"/>
          </a:xfrm>
          <a:prstGeom prst="rect">
            <a:avLst/>
          </a:prstGeom>
          <a:solidFill>
            <a:schemeClr val="bg2">
              <a:alpha val="7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169880" y="672840"/>
            <a:ext cx="569484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79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Meiji Honda (GRL 2009) proposed a link between Arctic sea-ice reduction and cold Asian w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Warm Arctic-Cold continent” paradigm (Overland et al., 2010</a:t>
            </a:r>
            <a:r>
              <a:rPr b="1" lang="en-GB" sz="1600" spc="-1" strike="noStrike">
                <a:solidFill>
                  <a:srgbClr val="000000"/>
                </a:solidFill>
                <a:latin typeface="Luxi Sans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Many recent studi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nb-NO" sz="1600" spc="-1" strike="noStrike">
                <a:solidFill>
                  <a:srgbClr val="000000"/>
                </a:solidFill>
                <a:latin typeface="Luxi Sans"/>
                <a:ea typeface="Luxi Sans"/>
              </a:rPr>
              <a:t>Implications for season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37"/>
              </a:spcAft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396560" y="6457320"/>
            <a:ext cx="2519640" cy="923400"/>
          </a:xfrm>
          <a:prstGeom prst="rect">
            <a:avLst/>
          </a:prstGeom>
          <a:solidFill>
            <a:srgbClr val="ff99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Anomalously cold recent Eurasian wi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384000" y="4558320"/>
            <a:ext cx="3420000" cy="587520"/>
          </a:xfrm>
          <a:prstGeom prst="rightArrow">
            <a:avLst>
              <a:gd name="adj1" fmla="val 50000"/>
              <a:gd name="adj2" fmla="val 160714"/>
            </a:avLst>
          </a:prstGeom>
          <a:solidFill>
            <a:schemeClr val="accent2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8000"/>
              </a:lnSpc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Luxi Sans"/>
              </a:rPr>
              <a:t>Summer to winter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98720" y="6648840"/>
            <a:ext cx="2771640" cy="6922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xi Sans"/>
              </a:rPr>
              <a:t>Arctic Sea ice 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xi Sans"/>
              </a:rPr>
              <a:t>In late 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882040" y="5270400"/>
            <a:ext cx="1398960" cy="52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Luxi Sans"/>
              </a:rPr>
              <a:t>Eura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1" descr="extent_graph_2011.png"/>
          <p:cNvPicPr/>
          <p:nvPr/>
        </p:nvPicPr>
        <p:blipFill>
          <a:blip r:embed="rId3"/>
          <a:stretch/>
        </p:blipFill>
        <p:spPr>
          <a:xfrm>
            <a:off x="16920" y="4012920"/>
            <a:ext cx="3162960" cy="25196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3"/>
          <p:cNvSpPr/>
          <p:nvPr/>
        </p:nvSpPr>
        <p:spPr>
          <a:xfrm>
            <a:off x="3328560" y="5270400"/>
            <a:ext cx="1140120" cy="52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Luxi Sans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4"/>
          <a:stretch/>
        </p:blipFill>
        <p:spPr>
          <a:xfrm>
            <a:off x="7392600" y="3046680"/>
            <a:ext cx="25236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9446760" cy="534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108000"/>
              </a:lnSpc>
              <a:buNone/>
            </a:pPr>
            <a:r>
              <a:rPr b="1" lang="en-US" sz="2400" spc="-1" strike="noStrike">
                <a:solidFill>
                  <a:srgbClr val="00b0f0"/>
                </a:solidFill>
                <a:latin typeface="Luxi Sans"/>
                <a:ea typeface="ＭＳ Ｐゴシック"/>
              </a:rPr>
              <a:t>Sea ice loss and recent Eurasian cold winters</a:t>
            </a:r>
            <a:endParaRPr b="0" lang="en-GB" sz="2400" spc="-1" strike="noStrike">
              <a:solidFill>
                <a:srgbClr val="ffffff"/>
              </a:solidFill>
              <a:latin typeface="Luxi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304000" y="672840"/>
            <a:ext cx="748836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93200">
              <a:lnSpc>
                <a:spcPct val="100000"/>
              </a:lnSpc>
              <a:tabLst>
                <a:tab algn="l" pos="0"/>
              </a:tabLst>
            </a:pPr>
            <a:r>
              <a:rPr b="1" lang="nb-NO" sz="1600" spc="-1" strike="noStrike">
                <a:solidFill>
                  <a:schemeClr val="accent2"/>
                </a:solidFill>
                <a:latin typeface="Luxi Sans"/>
                <a:ea typeface="Luxi Sans"/>
              </a:rPr>
              <a:t>Impact of sea ice initialisation ECMWF coupled ensemble seasonal forecasts : case stud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32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9040" indent="-285840">
              <a:lnSpc>
                <a:spcPct val="100000"/>
              </a:lnSpc>
              <a:tabLst>
                <a:tab algn="l" pos="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xi Sans"/>
                <a:ea typeface="Luxi Sans"/>
              </a:rPr>
              <a:t>Orsolini, Y.J., Senan, R., Benestad, R.E., Melsom, A. (2012) Autumn atmospheric response to the 2007 low Arctic sea ice extent in coupled ocean-atmosphere hindcasts. Clim. Dyn., 38, 2437-244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37"/>
              </a:spcAft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416720" y="3491640"/>
            <a:ext cx="2519640" cy="923400"/>
          </a:xfrm>
          <a:prstGeom prst="rect">
            <a:avLst/>
          </a:prstGeom>
          <a:solidFill>
            <a:srgbClr val="ff99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Anomalous cold air outbreaks over Far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503640" y="5868000"/>
            <a:ext cx="4752000" cy="6922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xi Sans"/>
              </a:rPr>
              <a:t>Remote surface temperature influence of Arctic Sea ice reduction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Luxi Sans"/>
              </a:rPr>
              <a:t>in late summ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59640" y="467640"/>
            <a:ext cx="1635480" cy="21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grlpap_potpredict"/>
          <p:cNvPicPr/>
          <p:nvPr/>
        </p:nvPicPr>
        <p:blipFill>
          <a:blip r:embed="rId2"/>
          <a:stretch/>
        </p:blipFill>
        <p:spPr>
          <a:xfrm>
            <a:off x="287640" y="2915640"/>
            <a:ext cx="6696360" cy="2851200"/>
          </a:xfrm>
          <a:prstGeom prst="rect">
            <a:avLst/>
          </a:prstGeom>
          <a:ln w="9525">
            <a:noFill/>
          </a:ln>
        </p:spPr>
      </p:pic>
      <p:cxnSp>
        <p:nvCxnSpPr>
          <p:cNvPr id="274" name="Straight Arrow Connector 15"/>
          <p:cNvCxnSpPr/>
          <p:nvPr/>
        </p:nvCxnSpPr>
        <p:spPr>
          <a:xfrm flipH="1">
            <a:off x="6624360" y="3275640"/>
            <a:ext cx="864360" cy="575640"/>
          </a:xfrm>
          <a:prstGeom prst="straightConnector1">
            <a:avLst/>
          </a:prstGeom>
          <a:ln w="76200">
            <a:solidFill>
              <a:srgbClr val="ffc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4"/>
          <p:cNvSpPr/>
          <p:nvPr/>
        </p:nvSpPr>
        <p:spPr>
          <a:xfrm>
            <a:off x="0" y="6770520"/>
            <a:ext cx="10080360" cy="788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8000"/>
              </a:lnSpc>
            </a:pPr>
            <a:endParaRPr b="1" lang="en-GB" sz="1800" spc="-1" strike="noStrike">
              <a:solidFill>
                <a:schemeClr val="lt1"/>
              </a:solidFill>
              <a:latin typeface="Luxi Sans"/>
              <a:ea typeface="Luxi San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0"/>
            <a:ext cx="10080360" cy="13053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8000"/>
              </a:lnSpc>
            </a:pPr>
            <a:endParaRPr b="1" lang="en-GB" sz="1800" spc="-1" strike="noStrike">
              <a:solidFill>
                <a:schemeClr val="lt1"/>
              </a:solidFill>
              <a:latin typeface="Luxi Sans"/>
              <a:ea typeface="Luxi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0600" y="180000"/>
            <a:ext cx="8235720" cy="1240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400"/>
              </a:spcBef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Enhancing seasonal-to-decadal Prediction of climate for the North Atlantic Sector and Arctic</a:t>
            </a:r>
            <a:endParaRPr b="0" lang="en-GB" sz="2000" spc="-1" strike="noStrike">
              <a:solidFill>
                <a:srgbClr val="ffffff"/>
              </a:solidFill>
              <a:latin typeface="Luxi Sans"/>
            </a:endParaRPr>
          </a:p>
        </p:txBody>
      </p:sp>
      <p:pic>
        <p:nvPicPr>
          <p:cNvPr id="278" name="Picture 3" descr="RCN_FRlogoEngcmyk-farger.png"/>
          <p:cNvPicPr/>
          <p:nvPr/>
        </p:nvPicPr>
        <p:blipFill>
          <a:blip r:embed="rId1"/>
          <a:stretch/>
        </p:blipFill>
        <p:spPr>
          <a:xfrm>
            <a:off x="7956720" y="14040"/>
            <a:ext cx="2068920" cy="380520"/>
          </a:xfrm>
          <a:prstGeom prst="rect">
            <a:avLst/>
          </a:prstGeom>
          <a:ln w="0">
            <a:noFill/>
          </a:ln>
        </p:spPr>
      </p:pic>
      <p:pic>
        <p:nvPicPr>
          <p:cNvPr id="279" name="Bilde 12" descr=""/>
          <p:cNvPicPr/>
          <p:nvPr/>
        </p:nvPicPr>
        <p:blipFill>
          <a:blip r:embed="rId2"/>
          <a:stretch/>
        </p:blipFill>
        <p:spPr>
          <a:xfrm>
            <a:off x="54000" y="6840360"/>
            <a:ext cx="2417400" cy="616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94320" y="94320"/>
            <a:ext cx="1936080" cy="1103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UIB_logo.gif"/>
          <p:cNvPicPr/>
          <p:nvPr/>
        </p:nvPicPr>
        <p:blipFill>
          <a:blip r:embed="rId4"/>
          <a:stretch/>
        </p:blipFill>
        <p:spPr>
          <a:xfrm>
            <a:off x="2648880" y="6797520"/>
            <a:ext cx="694440" cy="6944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6"/>
          <p:cNvSpPr/>
          <p:nvPr/>
        </p:nvSpPr>
        <p:spPr>
          <a:xfrm>
            <a:off x="223920" y="1459080"/>
            <a:ext cx="9856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8000"/>
              </a:lnSpc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National project with  6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Lead by Uni. Bergen (N. Keenlyside), 2014-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Clr>
                <a:srgbClr val="3333cc"/>
              </a:buClr>
              <a:buSzPct val="150000"/>
              <a:buFont typeface="Wingdings" charset="2"/>
              <a:buChar char=""/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To investigate key mechanisms for seasonal-to-decadal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Focus on North Atlantic and Nordic S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Teleconnections to SST, sea ice, and snow cover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Stratosphere-troposphere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>
              <a:lnSpc>
                <a:spcPct val="108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400" indent="-212040">
              <a:lnSpc>
                <a:spcPct val="108000"/>
              </a:lnSpc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2"/>
                </a:solidFill>
                <a:latin typeface="Luxi Sans"/>
                <a:ea typeface="Luxi Sans"/>
              </a:rPr>
              <a:t>To develop the Norwegian Climate Prediction model (NorC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Norwegian Earth System model (NorESM) with ensemble Kalman Filter assim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NorESM atmospheric component (NCAR/CAM), oceanic component (U Miami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000">
              <a:lnSpc>
                <a:spcPct val="108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2"/>
                </a:solidFill>
                <a:latin typeface="Luxi Sans"/>
                <a:ea typeface="Luxi Sans"/>
              </a:rPr>
              <a:t>Seasonal and decadal prediction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1" descr=""/>
          <p:cNvPicPr/>
          <p:nvPr/>
        </p:nvPicPr>
        <p:blipFill>
          <a:blip r:embed="rId5"/>
          <a:stretch/>
        </p:blipFill>
        <p:spPr>
          <a:xfrm>
            <a:off x="8979840" y="6830640"/>
            <a:ext cx="636840" cy="636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2" descr=""/>
          <p:cNvPicPr/>
          <p:nvPr/>
        </p:nvPicPr>
        <p:blipFill>
          <a:blip r:embed="rId6"/>
          <a:stretch/>
        </p:blipFill>
        <p:spPr>
          <a:xfrm>
            <a:off x="7963560" y="6851160"/>
            <a:ext cx="509040" cy="6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3" descr=""/>
          <p:cNvPicPr/>
          <p:nvPr/>
        </p:nvPicPr>
        <p:blipFill>
          <a:blip r:embed="rId7"/>
          <a:stretch/>
        </p:blipFill>
        <p:spPr>
          <a:xfrm>
            <a:off x="3756240" y="6891480"/>
            <a:ext cx="1051560" cy="533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4" descr=""/>
          <p:cNvPicPr/>
          <p:nvPr/>
        </p:nvPicPr>
        <p:blipFill>
          <a:blip r:embed="rId8"/>
          <a:stretch/>
        </p:blipFill>
        <p:spPr>
          <a:xfrm>
            <a:off x="5183280" y="6861960"/>
            <a:ext cx="2215080" cy="576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6" descr=""/>
          <p:cNvPicPr/>
          <p:nvPr/>
        </p:nvPicPr>
        <p:blipFill>
          <a:blip r:embed="rId9"/>
          <a:srcRect l="0" t="4725" r="85610" b="0"/>
          <a:stretch/>
        </p:blipFill>
        <p:spPr>
          <a:xfrm>
            <a:off x="6847200" y="6891840"/>
            <a:ext cx="678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Ángulos">
  <a:themeElements>
    <a:clrScheme name="Ángulos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  <Words>820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bastien Orsolini</cp:lastModifiedBy>
  <dcterms:modified xsi:type="dcterms:W3CDTF">2014-03-07T16:41:43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Custom</vt:lpwstr>
  </property>
  <property fmtid="{D5CDD505-2E9C-101B-9397-08002B2CF9AE}" pid="4" name="Slides">
    <vt:r8>8</vt:r8>
  </property>
</Properties>
</file>