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png" ContentType="image/png"/>
  <Override PartName="/ppt/media/image22.png" ContentType="image/png"/>
  <Override PartName="/ppt/media/image19.png" ContentType="image/png"/>
  <Override PartName="/ppt/media/image21.wmf" ContentType="image/x-wmf"/>
  <Override PartName="/ppt/media/image6.jpeg" ContentType="image/jpe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8.png" ContentType="image/png"/>
  <Override PartName="/ppt/media/image7.png" ContentType="image/png"/>
  <Override PartName="/ppt/media/image29.gif" ContentType="image/gif"/>
  <Override PartName="/ppt/media/image9.png" ContentType="image/png"/>
  <Override PartName="/ppt/media/image10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20.wmf" ContentType="image/x-wmf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</a:pPr>
            <a:r>
              <a:rPr b="0" lang="en-GB" sz="4400" spc="-1" strike="noStrike">
                <a:solidFill>
                  <a:srgbClr val="ffffff"/>
                </a:solidFill>
                <a:latin typeface="Luxi Sans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C9476D-14B4-446B-8564-0024A3E0B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Num" idx="16"/>
          </p:nvPr>
        </p:nvSpPr>
        <p:spPr>
          <a:xfrm>
            <a:off x="4276800" y="10158480"/>
            <a:ext cx="3273120" cy="528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14AF3-4AD4-4058-95DF-7923D8D6A4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360" cy="4009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4760" cy="4811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hows the following winter situations for each of the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ally oriented cold anomalies over Eurasia are clearly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these characteristics, we investigated statistic relationship between the summer Arctic sea ice and the winter Eurasian cli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Num" idx="17"/>
          </p:nvPr>
        </p:nvSpPr>
        <p:spPr>
          <a:xfrm>
            <a:off x="4276800" y="10158480"/>
            <a:ext cx="3273120" cy="528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54D19-C085-436D-9EEA-B6805A63BB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360" cy="4009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4760" cy="4811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hows the following winter situations for each of the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ally oriented cold anomalies over Eurasia are clearly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these characteristics, we investigated statistic relationship between the summer Arctic sea ice and the winter Eurasian cli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A23-8DD0-44BC-BE43-811770FC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099-C325-40CE-BC04-5BDB9292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E77-929D-4E28-9C88-443B25DB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83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37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83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37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530-C3D2-4C64-AD00-73674675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0679-A4BB-4F62-A080-BD5D4B14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1D1A-8515-4873-BA72-AEA79699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3F5B-AE03-43CF-BFA1-802E05FB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7C58-E822-434E-9414-8692581E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0A2E-3249-49B7-B96B-05FCAE83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5880" cy="582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9AAB-FB9B-4AD6-9559-3E2FCC87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1EB5-CBEE-4E9C-A559-6CC15901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5F6-1F51-4CAF-BDCE-6BC23E6B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8737-6A43-45C1-8C13-0DAFB975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B5A4-64A2-420B-8214-A63AB2B7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0157-2477-4752-9FBD-4DDB9221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D024-7303-4E33-AA83-AA5A170C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83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37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83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37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A2BE-6732-451D-A225-E58B2A6A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8DB-1404-4DA1-972A-8668E64A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5880" cy="582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683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37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683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337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E7C5-867E-4501-A38D-7EE6E7D5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810BC-36B4-4D66-B9AD-BE581C63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085D-01DA-4EE5-A4BE-98A78BA7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B91-699B-4DBD-A6E6-0AF40E97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13E7-BA4A-4C7A-9EBD-FC6F8327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2CD6C-F34F-43A5-A1B3-E9BF2436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5880" cy="582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88CC0-ED86-462E-9CD4-7F8F3911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C1D2-5CB5-4723-A523-77C853BC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07B8-7940-4FBD-84B1-EC8A3E42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9B630-08F5-40D6-8CCD-69E45B5B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6933-13EC-4FBB-AB71-927789A8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5195E-B4CC-49F5-9D28-90523225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683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337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683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337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F7CD-692D-47C3-8396-E402EE69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AB763-551A-4260-898C-1A8A43FC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0B9-B494-47E8-909F-8AE0DA3B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F268B-9D40-4080-8BEF-D455B992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C9AE-AAF8-4792-9899-11043778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26376-E72C-43C6-8215-74A9629E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6328-9DB6-463C-BC1A-C75B68AE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5880" cy="582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0C367-F517-4977-8066-9A7DCEBB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790E-2115-4C1E-958B-80EEE729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1F52-6593-42F2-BCF1-4BB8430F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C95A-83C3-47A0-B768-816E22AA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7128-F7A2-47CF-9C73-63A9EAA6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2F787-F98D-456B-83C9-845B8BD8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5880" cy="582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2E4-9F87-43C9-8933-08F19445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683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37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683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6337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D60A-0699-43BC-817A-F6A003D5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65B-1C89-47A6-BF18-EE2DAB69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0CE-B5DA-4774-B6E4-DD581B5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CE4-A852-4FE4-BF78-08CB9836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  <a:ea typeface="Luxi Sans"/>
              </a:rPr>
              <a:t>Click to edit Master title style</a:t>
            </a: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419400" indent="-3164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Click to edit Master text styles</a:t>
            </a: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43480" indent="-280440">
              <a:lnSpc>
                <a:spcPct val="10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Luxi Sans"/>
                <a:ea typeface="Luxi Sans"/>
              </a:rPr>
              <a:t>Second level</a:t>
            </a:r>
            <a:endParaRPr b="0" lang="en-GB" sz="2800" spc="-1" strike="noStrike">
              <a:solidFill>
                <a:srgbClr val="000000"/>
              </a:solidFill>
              <a:latin typeface="Luxi Sans"/>
            </a:endParaRPr>
          </a:p>
          <a:p>
            <a:pPr lvl="2" marL="1267560" indent="-208800">
              <a:lnSpc>
                <a:spcPct val="108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Luxi Sans"/>
                <a:ea typeface="Luxi Sans"/>
              </a:rPr>
              <a:t>Third level</a:t>
            </a:r>
            <a:endParaRPr b="0" lang="en-GB" sz="2400" spc="-1" strike="noStrike">
              <a:solidFill>
                <a:srgbClr val="000000"/>
              </a:solidFill>
              <a:latin typeface="Luxi Sans"/>
            </a:endParaRPr>
          </a:p>
          <a:p>
            <a:pPr lvl="3" marL="1691640" indent="-207360">
              <a:lnSpc>
                <a:spcPct val="108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Fourth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4" marL="2115360" indent="-208800">
              <a:lnSpc>
                <a:spcPct val="108000"/>
              </a:lnSpc>
              <a:spcAft>
                <a:spcPts val="289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Fifth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88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48920"/>
                <a:tab algn="l" pos="897840"/>
                <a:tab algn="l" pos="1347120"/>
                <a:tab algn="l" pos="1796040"/>
                <a:tab algn="l" pos="2244960"/>
                <a:tab algn="l" pos="2693880"/>
                <a:tab algn="l" pos="3142800"/>
                <a:tab algn="l" pos="3591720"/>
                <a:tab algn="l" pos="4041000"/>
                <a:tab algn="l" pos="4489920"/>
                <a:tab algn="l" pos="4938840"/>
                <a:tab algn="l" pos="5387760"/>
                <a:tab algn="l" pos="5836680"/>
                <a:tab algn="l" pos="6285600"/>
                <a:tab algn="l" pos="6734520"/>
                <a:tab algn="l" pos="7183800"/>
                <a:tab algn="l" pos="7632720"/>
                <a:tab algn="l" pos="8081640"/>
                <a:tab algn="l" pos="8530560"/>
                <a:tab algn="l" pos="89794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48920"/>
                <a:tab algn="l" pos="897840"/>
                <a:tab algn="l" pos="1347120"/>
                <a:tab algn="l" pos="1796040"/>
                <a:tab algn="l" pos="2244960"/>
                <a:tab algn="l" pos="2693880"/>
                <a:tab algn="l" pos="3142800"/>
                <a:tab algn="l" pos="3591720"/>
                <a:tab algn="l" pos="4041000"/>
                <a:tab algn="l" pos="4489920"/>
                <a:tab algn="l" pos="4938840"/>
                <a:tab algn="l" pos="5387760"/>
                <a:tab algn="l" pos="5836680"/>
                <a:tab algn="l" pos="6285600"/>
                <a:tab algn="l" pos="6734520"/>
                <a:tab algn="l" pos="7183800"/>
                <a:tab algn="l" pos="7632720"/>
                <a:tab algn="l" pos="8081640"/>
                <a:tab algn="l" pos="8530560"/>
                <a:tab algn="l" pos="8979480"/>
              </a:tabLst>
            </a:pPr>
            <a:fld id="{836BA9D9-6306-4AC7-BFEB-A3AFBA59CC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503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888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6840"/>
                <a:tab algn="l" pos="914040"/>
                <a:tab algn="l" pos="1370880"/>
                <a:tab algn="l" pos="1828080"/>
                <a:tab algn="l" pos="2284920"/>
                <a:tab algn="l" pos="2742120"/>
                <a:tab algn="l" pos="3198960"/>
                <a:tab algn="l" pos="3656160"/>
                <a:tab algn="l" pos="4113000"/>
                <a:tab algn="l" pos="4570200"/>
                <a:tab algn="l" pos="5027040"/>
                <a:tab algn="l" pos="5484240"/>
                <a:tab algn="l" pos="5941080"/>
                <a:tab algn="l" pos="6398280"/>
                <a:tab algn="l" pos="6855120"/>
                <a:tab algn="l" pos="7312320"/>
                <a:tab algn="l" pos="7769160"/>
                <a:tab algn="l" pos="8226360"/>
                <a:tab algn="l" pos="8683200"/>
                <a:tab algn="l" pos="91400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6840"/>
                <a:tab algn="l" pos="914040"/>
                <a:tab algn="l" pos="1370880"/>
                <a:tab algn="l" pos="1828080"/>
                <a:tab algn="l" pos="2284920"/>
                <a:tab algn="l" pos="2742120"/>
                <a:tab algn="l" pos="3198960"/>
                <a:tab algn="l" pos="3656160"/>
                <a:tab algn="l" pos="4113000"/>
                <a:tab algn="l" pos="4570200"/>
                <a:tab algn="l" pos="5027040"/>
                <a:tab algn="l" pos="5484240"/>
                <a:tab algn="l" pos="5941080"/>
                <a:tab algn="l" pos="6398280"/>
                <a:tab algn="l" pos="6855120"/>
                <a:tab algn="l" pos="7312320"/>
                <a:tab algn="l" pos="7769160"/>
                <a:tab algn="l" pos="8226360"/>
                <a:tab algn="l" pos="8683200"/>
                <a:tab algn="l" pos="9140040"/>
              </a:tabLst>
            </a:pPr>
            <a:fld id="{6CE77E5C-427D-4129-BD26-F08FC0EE96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r>
              <a:rPr b="0" lang="en-GB" sz="4400" spc="-1" strike="noStrike">
                <a:solidFill>
                  <a:srgbClr val="ffffff"/>
                </a:solidFill>
                <a:latin typeface="Luxi Sans"/>
              </a:rPr>
              <a:t>Click to edit the title text format</a:t>
            </a: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8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4000" indent="-324000">
              <a:lnSpc>
                <a:spcPct val="108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Luxi Sans"/>
            </a:endParaRPr>
          </a:p>
          <a:p>
            <a:pPr lvl="2" marL="1296000" indent="-288000">
              <a:lnSpc>
                <a:spcPct val="108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3" marL="1728000" indent="-216000">
              <a:lnSpc>
                <a:spcPct val="108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4" marL="2160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5" marL="2592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6" marL="3024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 hidden="1"/>
          <p:cNvSpPr/>
          <p:nvPr/>
        </p:nvSpPr>
        <p:spPr>
          <a:xfrm>
            <a:off x="-5400" y="6842160"/>
            <a:ext cx="2257200" cy="72576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725760"/>
              <a:gd name="textAreaBottom" fmla="*/ 726120 h 725760"/>
            </a:gdLst>
            <a:ahLst/>
            <a:rect l="textAreaLeft" t="textAreaTop" r="textAreaRight" b="textAreaBottom"/>
            <a:pathLst>
              <a:path w="2045036" h="1824142">
                <a:moveTo>
                  <a:pt x="2382" y="1807368"/>
                </a:moveTo>
                <a:lnTo>
                  <a:pt x="0" y="0"/>
                </a:lnTo>
                <a:lnTo>
                  <a:pt x="1086491" y="2"/>
                </a:lnTo>
                <a:lnTo>
                  <a:pt x="2045036" y="1824142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Freeform 7" hidden="1"/>
          <p:cNvSpPr/>
          <p:nvPr/>
        </p:nvSpPr>
        <p:spPr>
          <a:xfrm>
            <a:off x="-5400" y="6842160"/>
            <a:ext cx="10082160" cy="725760"/>
          </a:xfrm>
          <a:custGeom>
            <a:avLst/>
            <a:gdLst>
              <a:gd name="textAreaLeft" fmla="*/ 0 w 10082160"/>
              <a:gd name="textAreaRight" fmla="*/ 10082520 w 10082160"/>
              <a:gd name="textAreaTop" fmla="*/ 0 h 725760"/>
              <a:gd name="textAreaBottom" fmla="*/ 726120 h 72576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403018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Century Gothic"/>
              <a:ea typeface="ＭＳ Ｐゴシック"/>
            </a:endParaRPr>
          </a:p>
        </p:txBody>
      </p:sp>
      <p:pic>
        <p:nvPicPr>
          <p:cNvPr id="84" name="Picture 11" descr="SPECS Logo Final Proposal_without text"/>
          <p:cNvPicPr/>
          <p:nvPr/>
        </p:nvPicPr>
        <p:blipFill>
          <a:blip r:embed="rId2"/>
          <a:stretch/>
        </p:blipFill>
        <p:spPr>
          <a:xfrm>
            <a:off x="372600" y="276480"/>
            <a:ext cx="1881000" cy="613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Logo_EU_small"/>
          <p:cNvPicPr/>
          <p:nvPr/>
        </p:nvPicPr>
        <p:blipFill>
          <a:blip r:embed="rId3"/>
          <a:srcRect l="0" t="0" r="56711" b="0"/>
          <a:stretch/>
        </p:blipFill>
        <p:spPr>
          <a:xfrm>
            <a:off x="8957160" y="225720"/>
            <a:ext cx="757440" cy="711720"/>
          </a:xfrm>
          <a:prstGeom prst="rect">
            <a:avLst/>
          </a:prstGeom>
          <a:ln w="0">
            <a:noFill/>
          </a:ln>
        </p:spPr>
      </p:pic>
      <p:sp>
        <p:nvSpPr>
          <p:cNvPr id="86" name="Right Triangle 6"/>
          <p:cNvSpPr/>
          <p:nvPr/>
        </p:nvSpPr>
        <p:spPr>
          <a:xfrm>
            <a:off x="0" y="2918880"/>
            <a:ext cx="3939120" cy="464040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800" y="-1800"/>
            <a:ext cx="10082160" cy="7561080"/>
          </a:xfrm>
          <a:custGeom>
            <a:avLst/>
            <a:gdLst>
              <a:gd name="textAreaLeft" fmla="*/ 0 w 10082160"/>
              <a:gd name="textAreaRight" fmla="*/ 10082520 w 10082160"/>
              <a:gd name="textAreaTop" fmla="*/ 0 h 7561080"/>
              <a:gd name="textAreaBottom" fmla="*/ 7561440 h 756108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Forma libre 11"/>
          <p:cNvSpPr/>
          <p:nvPr/>
        </p:nvSpPr>
        <p:spPr>
          <a:xfrm>
            <a:off x="3316320" y="6562080"/>
            <a:ext cx="6657120" cy="890280"/>
          </a:xfrm>
          <a:custGeom>
            <a:avLst/>
            <a:gdLst>
              <a:gd name="textAreaLeft" fmla="*/ 0 w 6657120"/>
              <a:gd name="textAreaRight" fmla="*/ 6657480 w 665712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5932705" h="613440">
                <a:moveTo>
                  <a:pt x="653873" y="613440"/>
                </a:moveTo>
                <a:lnTo>
                  <a:pt x="5932705" y="613440"/>
                </a:lnTo>
                <a:lnTo>
                  <a:pt x="5932705" y="0"/>
                </a:lnTo>
                <a:lnTo>
                  <a:pt x="0" y="0"/>
                </a:lnTo>
                <a:lnTo>
                  <a:pt x="653873" y="61344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9" name="Imagen 17" descr="IC3_Logo_Vector.png"/>
          <p:cNvPicPr/>
          <p:nvPr/>
        </p:nvPicPr>
        <p:blipFill>
          <a:blip r:embed="rId4"/>
          <a:stretch/>
        </p:blipFill>
        <p:spPr>
          <a:xfrm>
            <a:off x="8708400" y="6562080"/>
            <a:ext cx="1320840" cy="890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 rot="19140000">
            <a:off x="900720" y="1907280"/>
            <a:ext cx="6226920" cy="1327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0800" rIns="100800" tIns="50400" bIns="1008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3500" spc="-1" strike="noStrike" cap="all">
                <a:solidFill>
                  <a:srgbClr val="000000"/>
                </a:solidFill>
                <a:latin typeface="Verdana"/>
                <a:ea typeface="ＭＳ Ｐゴシック"/>
              </a:rPr>
              <a:t>Clic para editar título</a:t>
            </a:r>
            <a:endParaRPr b="0" lang="en-GB" sz="35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GB" sz="22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GB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GB" sz="18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GB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080" cy="1620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  <a:ea typeface="Luxi Sans"/>
              </a:rPr>
              <a:t>Click to edit Master title style</a:t>
            </a: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503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888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6840"/>
                <a:tab algn="l" pos="914040"/>
                <a:tab algn="l" pos="1370880"/>
                <a:tab algn="l" pos="1828080"/>
                <a:tab algn="l" pos="2284920"/>
                <a:tab algn="l" pos="2742120"/>
                <a:tab algn="l" pos="3198960"/>
                <a:tab algn="l" pos="3656160"/>
                <a:tab algn="l" pos="4113000"/>
                <a:tab algn="l" pos="4570200"/>
                <a:tab algn="l" pos="5027040"/>
                <a:tab algn="l" pos="5484240"/>
                <a:tab algn="l" pos="5941080"/>
                <a:tab algn="l" pos="6398280"/>
                <a:tab algn="l" pos="6855120"/>
                <a:tab algn="l" pos="7312320"/>
                <a:tab algn="l" pos="7769160"/>
                <a:tab algn="l" pos="8226360"/>
                <a:tab algn="l" pos="8683200"/>
                <a:tab algn="l" pos="91400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6840"/>
                <a:tab algn="l" pos="914040"/>
                <a:tab algn="l" pos="1370880"/>
                <a:tab algn="l" pos="1828080"/>
                <a:tab algn="l" pos="2284920"/>
                <a:tab algn="l" pos="2742120"/>
                <a:tab algn="l" pos="3198960"/>
                <a:tab algn="l" pos="3656160"/>
                <a:tab algn="l" pos="4113000"/>
                <a:tab algn="l" pos="4570200"/>
                <a:tab algn="l" pos="5027040"/>
                <a:tab algn="l" pos="5484240"/>
                <a:tab algn="l" pos="5941080"/>
                <a:tab algn="l" pos="6398280"/>
                <a:tab algn="l" pos="6855120"/>
                <a:tab algn="l" pos="7312320"/>
                <a:tab algn="l" pos="7769160"/>
                <a:tab algn="l" pos="8226360"/>
                <a:tab algn="l" pos="8683200"/>
                <a:tab algn="l" pos="9140040"/>
              </a:tabLst>
            </a:pPr>
            <a:fld id="{8B08B145-49D2-4644-BD75-841D79E103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8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4000" indent="-324000">
              <a:lnSpc>
                <a:spcPct val="108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Luxi Sans"/>
            </a:endParaRPr>
          </a:p>
          <a:p>
            <a:pPr lvl="2" marL="1296000" indent="-288000">
              <a:lnSpc>
                <a:spcPct val="108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3" marL="1728000" indent="-216000">
              <a:lnSpc>
                <a:spcPct val="108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4" marL="2160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5" marL="2592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6" marL="3024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  <a:ea typeface="Luxi Sans"/>
              </a:rPr>
              <a:t>Click to edit Master title style</a:t>
            </a: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503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888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48920"/>
                <a:tab algn="l" pos="897840"/>
                <a:tab algn="l" pos="1347120"/>
                <a:tab algn="l" pos="1796040"/>
                <a:tab algn="l" pos="2244960"/>
                <a:tab algn="l" pos="2693880"/>
                <a:tab algn="l" pos="3142800"/>
                <a:tab algn="l" pos="3591720"/>
                <a:tab algn="l" pos="4041000"/>
                <a:tab algn="l" pos="4489920"/>
                <a:tab algn="l" pos="4938840"/>
                <a:tab algn="l" pos="5387760"/>
                <a:tab algn="l" pos="5836680"/>
                <a:tab algn="l" pos="6285600"/>
                <a:tab algn="l" pos="6734520"/>
                <a:tab algn="l" pos="7183800"/>
                <a:tab algn="l" pos="7632720"/>
                <a:tab algn="l" pos="8081640"/>
                <a:tab algn="l" pos="8530560"/>
                <a:tab algn="l" pos="89794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48920"/>
                <a:tab algn="l" pos="897840"/>
                <a:tab algn="l" pos="1347120"/>
                <a:tab algn="l" pos="1796040"/>
                <a:tab algn="l" pos="2244960"/>
                <a:tab algn="l" pos="2693880"/>
                <a:tab algn="l" pos="3142800"/>
                <a:tab algn="l" pos="3591720"/>
                <a:tab algn="l" pos="4041000"/>
                <a:tab algn="l" pos="4489920"/>
                <a:tab algn="l" pos="4938840"/>
                <a:tab algn="l" pos="5387760"/>
                <a:tab algn="l" pos="5836680"/>
                <a:tab algn="l" pos="6285600"/>
                <a:tab algn="l" pos="6734520"/>
                <a:tab algn="l" pos="7183800"/>
                <a:tab algn="l" pos="7632720"/>
                <a:tab algn="l" pos="8081640"/>
                <a:tab algn="l" pos="8530560"/>
                <a:tab algn="l" pos="8979480"/>
              </a:tabLst>
            </a:pPr>
            <a:fld id="{B9D06655-A4DD-445F-A91F-0C3FDB7CFD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8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4000" indent="-324000">
              <a:lnSpc>
                <a:spcPct val="108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Luxi Sans"/>
            </a:endParaRPr>
          </a:p>
          <a:p>
            <a:pPr lvl="2" marL="1296000" indent="-288000">
              <a:lnSpc>
                <a:spcPct val="108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3" marL="1728000" indent="-216000">
              <a:lnSpc>
                <a:spcPct val="108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4" marL="2160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5" marL="2592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6" marL="3024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936000" y="3492000"/>
            <a:ext cx="8424720" cy="2863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6080" bIns="46080" anchor="t">
            <a:spAutoFit/>
          </a:bodyPr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Yvan J. ORSOL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NILU - Norwegian Institute for Air Resear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and University of Bergen,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Collaborator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R. Senan (U. of Oslo), R. E. Benestad (Norwegian Met. Inst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G. Balsamo, F. Vitart, A. Weisheimer (ECMWF, Eng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F. Doblas-Reyes (ICREA, Sp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37960" y="1979640"/>
            <a:ext cx="9864360" cy="108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 algn="ctr">
              <a:lnSpc>
                <a:spcPct val="10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Working Group on Seasonal-to-Interannual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8640720" y="323280"/>
            <a:ext cx="969480" cy="1052280"/>
          </a:xfrm>
          <a:prstGeom prst="rect">
            <a:avLst/>
          </a:prstGeom>
          <a:ln w="9525">
            <a:noFill/>
          </a:ln>
        </p:spPr>
      </p:pic>
      <p:pic>
        <p:nvPicPr>
          <p:cNvPr id="219" name="Picture 6" descr="NILU_logo_200.jpg"/>
          <p:cNvPicPr/>
          <p:nvPr/>
        </p:nvPicPr>
        <p:blipFill>
          <a:blip r:embed="rId2"/>
          <a:stretch/>
        </p:blipFill>
        <p:spPr>
          <a:xfrm>
            <a:off x="0" y="0"/>
            <a:ext cx="1511640" cy="18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15640" y="1835640"/>
            <a:ext cx="8568720" cy="648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t">
            <a:spAutoFit/>
          </a:bodyPr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8000"/>
              </a:lnSpc>
              <a:buClr>
                <a:srgbClr val="000000"/>
              </a:buClr>
              <a:buSzPct val="180000"/>
              <a:buFont typeface="Wingdings" charset="2"/>
              <a:buChar char=""/>
            </a:pP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Role of snowpack, in particular 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impact of snow initialisation, on subseasonal-to-seasonal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8000"/>
              </a:lnSpc>
              <a:buClr>
                <a:srgbClr val="000000"/>
              </a:buClr>
              <a:buSzPct val="180000"/>
              <a:buFont typeface="Wingdings" charset="2"/>
              <a:buChar char=""/>
            </a:pP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We made twin simulations using a modelling strategy similar to the one used for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 looking at soil moisture impact in the warm season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 (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Koster et al. 2004; 2010)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  in the GLACE2  international model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8000"/>
              </a:lnSpc>
              <a:buClr>
                <a:srgbClr val="000000"/>
              </a:buClr>
              <a:buSzPct val="180000"/>
              <a:buFont typeface="Wingdings" charset="2"/>
              <a:buChar char=""/>
            </a:pPr>
            <a:r>
              <a:rPr b="1" lang="nb-NO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Actual predictability experiments for autumn (years 2004-2009) : 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coupled ocean-atmosphere ECMWF forecasts at high resolution, with </a:t>
            </a:r>
            <a:r>
              <a:rPr b="1" lang="nb-NO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realistic snow initi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8000"/>
              </a:lnSpc>
              <a:buClr>
                <a:srgbClr val="000000"/>
              </a:buClr>
              <a:buSzPct val="180000"/>
              <a:buFont typeface="Wingdings" charset="2"/>
              <a:buChar char=""/>
            </a:pPr>
            <a:r>
              <a:rPr b="1" lang="nb-NO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Impact on circulation (NAO, Siberian High,...) at mid and high latitudes, impact on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43640" y="323280"/>
            <a:ext cx="6675840" cy="96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9000" rIns="99000" tIns="49320" bIns="4932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8920"/>
                <a:tab algn="l" pos="897840"/>
                <a:tab algn="l" pos="1346760"/>
                <a:tab algn="l" pos="1795680"/>
                <a:tab algn="l" pos="2244600"/>
                <a:tab algn="l" pos="2693520"/>
                <a:tab algn="l" pos="3142440"/>
                <a:tab algn="l" pos="3591360"/>
                <a:tab algn="l" pos="4040280"/>
                <a:tab algn="l" pos="4489200"/>
                <a:tab algn="l" pos="4938120"/>
                <a:tab algn="l" pos="5387040"/>
                <a:tab algn="l" pos="5835960"/>
                <a:tab algn="l" pos="6284880"/>
                <a:tab algn="l" pos="6734160"/>
                <a:tab algn="l" pos="7183080"/>
                <a:tab algn="l" pos="7632000"/>
                <a:tab algn="l" pos="8080920"/>
                <a:tab algn="l" pos="8529840"/>
                <a:tab algn="l" pos="897876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Luxi Sans"/>
                <a:ea typeface="Geneva"/>
              </a:rPr>
              <a:t>Role of Eurasian snow on subseasonal-to-seasonal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053" descr="雪回廊"/>
          <p:cNvPicPr/>
          <p:nvPr/>
        </p:nvPicPr>
        <p:blipFill>
          <a:blip r:embed="rId1"/>
          <a:stretch/>
        </p:blipFill>
        <p:spPr>
          <a:xfrm>
            <a:off x="7488720" y="0"/>
            <a:ext cx="2591640" cy="22345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648000" y="6816960"/>
            <a:ext cx="8759520" cy="51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89640" rIns="8964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Luxi Sans"/>
                <a:ea typeface="Luxi Sans"/>
              </a:rPr>
              <a:t>Orsolini, Y.J., Senan, R., Balsamo, G., Doblas-Reyes, F., Vitart, D., Weisheimer, A., Carrasco, A., Benestad, R. (2013), Impact of snow initialization on sub-seasonal forecasts , Clim. Dyn., DOI: 10.1007/s00382-013-1782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0" y="0"/>
            <a:ext cx="7195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71320" indent="-571320" algn="ctr">
              <a:lnSpc>
                <a:spcPct val="108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Luxi Sans"/>
                <a:ea typeface="Luxi Sans"/>
              </a:rPr>
              <a:t>Negative NAO phase in very cold winter 2009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31"/>
          <p:cNvSpPr/>
          <p:nvPr/>
        </p:nvSpPr>
        <p:spPr>
          <a:xfrm>
            <a:off x="215640" y="1536480"/>
            <a:ext cx="1821600" cy="1195920"/>
          </a:xfrm>
          <a:prstGeom prst="rect">
            <a:avLst/>
          </a:prstGeom>
          <a:solidFill>
            <a:srgbClr val="f8e2ca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8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Luxi Sans"/>
              </a:rPr>
              <a:t>ensemble-mea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xi Sans"/>
              </a:rPr>
              <a:t>(11 #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  <a:spcBef>
                <a:spcPts val="700"/>
              </a:spcBef>
            </a:pPr>
            <a:r>
              <a:rPr b="1" lang="nb-NO" sz="1400" spc="-1" strike="noStrike">
                <a:solidFill>
                  <a:srgbClr val="3333cc"/>
                </a:solidFill>
                <a:latin typeface="Luxi Sans"/>
                <a:ea typeface="Luxi Sans"/>
              </a:rPr>
              <a:t>Series 1</a:t>
            </a:r>
            <a:r>
              <a:rPr b="1" lang="nb-NO" sz="1400" spc="-1" strike="noStrike">
                <a:solidFill>
                  <a:srgbClr val="0000cc"/>
                </a:solidFill>
                <a:latin typeface="Luxi Sans"/>
                <a:ea typeface="Luxi Sans"/>
              </a:rPr>
              <a:t> – </a:t>
            </a:r>
            <a:r>
              <a:rPr b="1" lang="nb-NO" sz="1400" spc="-1" strike="noStrike">
                <a:solidFill>
                  <a:srgbClr val="ff0000"/>
                </a:solidFill>
                <a:latin typeface="Luxi Sans"/>
                <a:ea typeface="Luxi Sans"/>
              </a:rPr>
              <a:t>Serie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  <a:spcBef>
                <a:spcPts val="700"/>
              </a:spcBef>
            </a:pPr>
            <a:r>
              <a:rPr b="1" lang="nb-NO" sz="1400" spc="-1" strike="noStrike">
                <a:solidFill>
                  <a:srgbClr val="0000cc"/>
                </a:solidFill>
                <a:latin typeface="Luxi Sans"/>
                <a:ea typeface="Luxi Sans"/>
              </a:rPr>
              <a:t>15-day lead</a:t>
            </a:r>
            <a:r>
              <a:rPr b="1" lang="nb-NO" sz="1000" spc="-1" strike="noStrike">
                <a:solidFill>
                  <a:srgbClr val="0000cc"/>
                </a:solidFill>
                <a:latin typeface="Luxi Sans"/>
                <a:ea typeface="Luxi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  <a:spcBef>
                <a:spcPts val="499"/>
              </a:spcBef>
            </a:pPr>
            <a:r>
              <a:rPr b="1" lang="nb-NO" sz="1000" spc="-1" strike="noStrike">
                <a:solidFill>
                  <a:srgbClr val="0000cc"/>
                </a:solidFill>
                <a:latin typeface="Luxi Sans"/>
                <a:ea typeface="Luxi Sans"/>
              </a:rPr>
              <a:t>DEC 1, 2009 start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016000" y="755640"/>
            <a:ext cx="2581920" cy="2519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4752360" y="755640"/>
            <a:ext cx="2514960" cy="2519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3"/>
          <a:stretch/>
        </p:blipFill>
        <p:spPr>
          <a:xfrm>
            <a:off x="7381440" y="755640"/>
            <a:ext cx="2524320" cy="2519640"/>
          </a:xfrm>
          <a:prstGeom prst="rect">
            <a:avLst/>
          </a:prstGeom>
          <a:ln w="0">
            <a:noFill/>
          </a:ln>
        </p:spPr>
      </p:pic>
      <p:cxnSp>
        <p:nvCxnSpPr>
          <p:cNvPr id="229" name="Straight Arrow Connector 11"/>
          <p:cNvCxnSpPr/>
          <p:nvPr/>
        </p:nvCxnSpPr>
        <p:spPr>
          <a:xfrm>
            <a:off x="8712720" y="2766240"/>
            <a:ext cx="804600" cy="432360"/>
          </a:xfrm>
          <a:prstGeom prst="straightConnector1">
            <a:avLst/>
          </a:prstGeom>
          <a:ln w="76200">
            <a:solidFill>
              <a:srgbClr val="3333cc"/>
            </a:solidFill>
            <a:round/>
            <a:headEnd len="med" type="arrow" w="med"/>
          </a:ln>
        </p:spPr>
      </p:cxnSp>
      <p:pic>
        <p:nvPicPr>
          <p:cNvPr id="230" name="Picture 2" descr=""/>
          <p:cNvPicPr/>
          <p:nvPr/>
        </p:nvPicPr>
        <p:blipFill>
          <a:blip r:embed="rId4"/>
          <a:stretch/>
        </p:blipFill>
        <p:spPr>
          <a:xfrm>
            <a:off x="3384000" y="3422520"/>
            <a:ext cx="5528520" cy="3599640"/>
          </a:xfrm>
          <a:prstGeom prst="rect">
            <a:avLst/>
          </a:prstGeom>
          <a:ln w="9525">
            <a:noFill/>
          </a:ln>
        </p:spPr>
      </p:pic>
      <p:sp>
        <p:nvSpPr>
          <p:cNvPr id="231" name="Text Box 1031"/>
          <p:cNvSpPr/>
          <p:nvPr/>
        </p:nvSpPr>
        <p:spPr>
          <a:xfrm>
            <a:off x="215640" y="3275640"/>
            <a:ext cx="2469600" cy="3305520"/>
          </a:xfrm>
          <a:prstGeom prst="rect">
            <a:avLst/>
          </a:prstGeom>
          <a:solidFill>
            <a:srgbClr val="f8e2ca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8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3333cc"/>
                </a:solidFill>
                <a:latin typeface="Luxi Sans"/>
                <a:ea typeface="Luxi Sans"/>
              </a:rPr>
              <a:t>Series1 (realistic snow) has more negative NAO index than </a:t>
            </a:r>
            <a:r>
              <a:rPr b="1" lang="en-US" sz="1400" spc="-1" strike="noStrike">
                <a:solidFill>
                  <a:srgbClr val="ff0000"/>
                </a:solidFill>
                <a:latin typeface="Luxi Sans"/>
                <a:ea typeface="Luxi Sans"/>
              </a:rPr>
              <a:t>Serie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3333cc"/>
                </a:solidFill>
                <a:latin typeface="Luxi Sans"/>
                <a:ea typeface="Luxi Sans"/>
              </a:rPr>
              <a:t>-&gt; closer to re-analy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3333cc"/>
                </a:solidFill>
                <a:latin typeface="Luxi Sans"/>
                <a:ea typeface="Luxi Sans"/>
              </a:rPr>
              <a:t>-&gt; Snow contributes to maintaining negative N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3333cc"/>
                </a:solidFill>
                <a:latin typeface="Luxi Sans"/>
                <a:ea typeface="Luxi Sans"/>
              </a:rPr>
              <a:t>-&gt; one of the factors influencing negative NAO ph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31"/>
          <p:cNvSpPr/>
          <p:nvPr/>
        </p:nvSpPr>
        <p:spPr>
          <a:xfrm>
            <a:off x="59040" y="517680"/>
            <a:ext cx="4538880" cy="295200"/>
          </a:xfrm>
          <a:prstGeom prst="rect">
            <a:avLst/>
          </a:prstGeom>
          <a:solidFill>
            <a:srgbClr val="f8e2ca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t">
            <a:spAutoFit/>
          </a:bodyPr>
          <a:p>
            <a:pPr>
              <a:lnSpc>
                <a:spcPct val="108000"/>
              </a:lnSpc>
              <a:spcBef>
                <a:spcPts val="601"/>
              </a:spcBef>
              <a:tabLst>
                <a:tab algn="l" pos="206208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Most negative winter (DJF) NAO in 145-Year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31"/>
          <p:cNvSpPr/>
          <p:nvPr/>
        </p:nvSpPr>
        <p:spPr>
          <a:xfrm>
            <a:off x="59040" y="7188120"/>
            <a:ext cx="10005120" cy="394200"/>
          </a:xfrm>
          <a:prstGeom prst="rect">
            <a:avLst/>
          </a:prstGeom>
          <a:solidFill>
            <a:srgbClr val="f8e2ca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t">
            <a:spAutoFit/>
          </a:bodyPr>
          <a:p>
            <a:pPr>
              <a:lnSpc>
                <a:spcPct val="108000"/>
              </a:lnSpc>
              <a:spcBef>
                <a:spcPts val="700"/>
              </a:spcBef>
              <a:tabLst>
                <a:tab algn="l" pos="2062080"/>
              </a:tabLst>
            </a:pPr>
            <a:r>
              <a:rPr b="1" lang="nb-NO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Several studies examined factors leading to NAO</a:t>
            </a:r>
            <a:r>
              <a:rPr b="1" lang="nb-NO" sz="1800" spc="-1" strike="noStrike" baseline="30000">
                <a:solidFill>
                  <a:srgbClr val="0000cc"/>
                </a:solidFill>
                <a:latin typeface="Arial"/>
                <a:ea typeface="ＭＳ Ｐゴシック"/>
              </a:rPr>
              <a:t>-</a:t>
            </a:r>
            <a:r>
              <a:rPr b="1" lang="nb-NO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 </a:t>
            </a:r>
            <a:r>
              <a:rPr b="1" lang="nb-NO" sz="1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(Jung et al., 2011; Fereday et al., 2012; Cohen et al, 2010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1602000" y="802440"/>
            <a:ext cx="725400" cy="42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Luxi Sans"/>
              </a:rPr>
              <a:t>T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4601520" y="802440"/>
            <a:ext cx="696600" cy="42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Luxi Sans"/>
              </a:rPr>
              <a:t>S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7413840" y="802440"/>
            <a:ext cx="1885320" cy="42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i="1" lang="nb-NO" sz="2000" spc="-1" strike="noStrike">
                <a:solidFill>
                  <a:srgbClr val="ff0000"/>
                </a:solidFill>
                <a:latin typeface="Arial"/>
                <a:ea typeface="Luxi Sans"/>
              </a:rPr>
              <a:t>200hPa wi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736000" y="3321360"/>
            <a:ext cx="7344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10080" anchor="b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Role of Snow in Seasonal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ew SNOWGLACE2 experiments, covering mor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b-NO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nd both autumn/spring (NILU-ECMWF, Meteo-F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nb-NO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ask coordination (NILU, Norwegian Met. Institute)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Forecast quality comparison of numerical hindcasts with improved snow initial conditions and statistical hindcasts using initial snow as a predi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SPECS Logo Final Proposal"/>
          <p:cNvPicPr/>
          <p:nvPr/>
        </p:nvPicPr>
        <p:blipFill>
          <a:blip r:embed="rId1"/>
          <a:stretch/>
        </p:blipFill>
        <p:spPr>
          <a:xfrm>
            <a:off x="483120" y="286920"/>
            <a:ext cx="3702960" cy="1702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Logo_EU_small"/>
          <p:cNvPicPr/>
          <p:nvPr/>
        </p:nvPicPr>
        <p:blipFill>
          <a:blip r:embed="rId2"/>
          <a:srcRect l="0" t="0" r="56711" b="0"/>
          <a:stretch/>
        </p:blipFill>
        <p:spPr>
          <a:xfrm>
            <a:off x="6783480" y="6639120"/>
            <a:ext cx="757440" cy="711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iCrea_Pantone verd rgb"/>
          <p:cNvPicPr/>
          <p:nvPr/>
        </p:nvPicPr>
        <p:blipFill>
          <a:blip r:embed="rId3"/>
          <a:srcRect l="12958" t="0" r="12958" b="40400"/>
          <a:stretch/>
        </p:blipFill>
        <p:spPr>
          <a:xfrm>
            <a:off x="7604280" y="6801840"/>
            <a:ext cx="1142640" cy="353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logo_ce-en-rvb-lr"/>
          <p:cNvPicPr/>
          <p:nvPr/>
        </p:nvPicPr>
        <p:blipFill>
          <a:blip r:embed="rId4"/>
          <a:stretch/>
        </p:blipFill>
        <p:spPr>
          <a:xfrm>
            <a:off x="5523480" y="6577920"/>
            <a:ext cx="1226520" cy="8517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0" y="2012760"/>
            <a:ext cx="396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10080" anchor="b">
            <a:spAutoFit/>
          </a:bodyPr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oord.: F.J. Doblas-Re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ICREA and IC3, Barcelona, 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UiO_Segl_300dpi.png"/>
          <p:cNvPicPr/>
          <p:nvPr/>
        </p:nvPicPr>
        <p:blipFill>
          <a:blip r:embed="rId1"/>
          <a:stretch/>
        </p:blipFill>
        <p:spPr>
          <a:xfrm>
            <a:off x="4725720" y="6723360"/>
            <a:ext cx="713880" cy="713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2"/>
          <a:stretch/>
        </p:blipFill>
        <p:spPr>
          <a:xfrm>
            <a:off x="9199800" y="6672960"/>
            <a:ext cx="743400" cy="713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NORINDIA_Logo.png"/>
          <p:cNvPicPr/>
          <p:nvPr/>
        </p:nvPicPr>
        <p:blipFill>
          <a:blip r:embed="rId3"/>
          <a:stretch/>
        </p:blipFill>
        <p:spPr>
          <a:xfrm>
            <a:off x="3888360" y="3645000"/>
            <a:ext cx="2774880" cy="160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"/>
          <p:cNvPicPr/>
          <p:nvPr/>
        </p:nvPicPr>
        <p:blipFill>
          <a:blip r:embed="rId4"/>
          <a:stretch/>
        </p:blipFill>
        <p:spPr>
          <a:xfrm>
            <a:off x="88200" y="6672960"/>
            <a:ext cx="595080" cy="713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>
            <a:off x="55080" y="1240200"/>
            <a:ext cx="99306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8000"/>
              </a:lnSpc>
            </a:pPr>
            <a:r>
              <a:rPr b="1" lang="en-US" sz="2400" spc="-1" strike="noStrike">
                <a:solidFill>
                  <a:srgbClr val="00b0f0"/>
                </a:solidFill>
                <a:latin typeface="Luxi Sans"/>
                <a:ea typeface="Luxi Sans"/>
              </a:rPr>
              <a:t>Influence of springtime Himalayan-Tibetan Plateau snow 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lang="en-US" sz="2400" spc="-1" strike="noStrike">
                <a:solidFill>
                  <a:srgbClr val="00b0f0"/>
                </a:solidFill>
                <a:latin typeface="Luxi Sans"/>
                <a:ea typeface="Luxi Sans"/>
              </a:rPr>
              <a:t>onset of the Indian summer mon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866600" y="2156040"/>
            <a:ext cx="64328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8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Yvan J. Orsolini</a:t>
            </a:r>
            <a:r>
              <a:rPr b="1" lang="en-US" sz="1600" spc="-1" strike="noStrike" baseline="30000">
                <a:solidFill>
                  <a:srgbClr val="000000"/>
                </a:solidFill>
                <a:latin typeface="Luxi Sans"/>
                <a:ea typeface="Luxi Sans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Retish Sena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Luxi Sans"/>
                <a:ea typeface="Luxi San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Frode Stordal</a:t>
            </a:r>
            <a:r>
              <a:rPr b="1" lang="en-US" sz="1600" spc="-1" strike="noStrike" baseline="30000">
                <a:solidFill>
                  <a:srgbClr val="000000"/>
                </a:solidFill>
                <a:latin typeface="Luxi Sans"/>
                <a:ea typeface="Luxi Sans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lang="en-US" sz="1600" spc="-1" strike="noStrike" baseline="30000">
                <a:solidFill>
                  <a:srgbClr val="000000"/>
                </a:solidFill>
                <a:latin typeface="Luxi Sans"/>
                <a:ea typeface="Luxi San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Norwegian Institute for Air Research - NILU, Kjeller, No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lang="en-US" sz="1600" spc="-1" strike="noStrike" baseline="30000">
                <a:solidFill>
                  <a:srgbClr val="000000"/>
                </a:solidFill>
                <a:latin typeface="Luxi Sans"/>
                <a:ea typeface="Luxi San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Department of Geosciences, University of Oslo, Oslo, No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1322640" y="3295440"/>
            <a:ext cx="78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8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xi Sans"/>
              </a:rPr>
              <a:t>Collaborating Institute in India: Indian Institute of Tropical Meteorology (IITM), P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363960" y="5247360"/>
            <a:ext cx="93416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8000"/>
              </a:lnSpc>
            </a:pPr>
            <a:r>
              <a:rPr b="1" i="1" lang="en-US" sz="1800" spc="-1" strike="noStrike">
                <a:solidFill>
                  <a:srgbClr val="ff9900"/>
                </a:solidFill>
                <a:latin typeface="Luxi Sans"/>
                <a:ea typeface="Luxi Sans"/>
              </a:rPr>
              <a:t>NORINDIA part of a cluster of projects funded by the Research Council of Nor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i="1" lang="en-US" sz="1800" spc="-1" strike="noStrike">
                <a:solidFill>
                  <a:srgbClr val="ff9900"/>
                </a:solidFill>
                <a:latin typeface="Luxi Sans"/>
                <a:ea typeface="Luxi Sans"/>
              </a:rPr>
              <a:t>INDIA-NORWAY programme (2012-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lang="en-US" sz="1800" spc="-1" strike="noStrike">
                <a:solidFill>
                  <a:srgbClr val="00b050"/>
                </a:solidFill>
                <a:latin typeface="Luxi Sans"/>
                <a:ea typeface="Luxi Sans"/>
              </a:rPr>
              <a:t>NORINDIA : Climate Change and its Impacts on Selected Indian Hydrological Systems using Earth System and High-Resolution Modeling </a:t>
            </a:r>
            <a:r>
              <a:rPr b="1" lang="en-US" sz="1800" spc="-1" strike="noStrike">
                <a:solidFill>
                  <a:srgbClr val="ffffff"/>
                </a:solidFill>
                <a:latin typeface="Luxi Sans"/>
                <a:ea typeface="Luxi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i="1" lang="nb-NO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Coordinators : Eystein Jansen and Michel Mesquita (University of Ber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036080" y="2435760"/>
            <a:ext cx="203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endParaRPr b="1" lang="en-US" sz="1800" spc="-1" strike="noStrike">
              <a:solidFill>
                <a:srgbClr val="ffffff"/>
              </a:solidFill>
              <a:latin typeface="Luxi Sans"/>
              <a:ea typeface="Luxi Sans"/>
            </a:endParaRPr>
          </a:p>
        </p:txBody>
      </p:sp>
      <p:pic>
        <p:nvPicPr>
          <p:cNvPr id="252" name="Picture 16" descr="Asian-australian2"/>
          <p:cNvPicPr/>
          <p:nvPr/>
        </p:nvPicPr>
        <p:blipFill>
          <a:blip r:embed="rId5"/>
          <a:srcRect l="0" t="20881" r="11321" b="41826"/>
          <a:stretch/>
        </p:blipFill>
        <p:spPr>
          <a:xfrm>
            <a:off x="359640" y="88200"/>
            <a:ext cx="2788200" cy="1151640"/>
          </a:xfrm>
          <a:prstGeom prst="rect">
            <a:avLst/>
          </a:prstGeom>
          <a:ln w="12700">
            <a:solidFill>
              <a:srgbClr val="000000"/>
            </a:solidFill>
            <a:miter/>
          </a:ln>
        </p:spPr>
      </p:pic>
      <p:pic>
        <p:nvPicPr>
          <p:cNvPr id="253" name="Picture 6" descr="WATER_CYCLE2.gif"/>
          <p:cNvPicPr/>
          <p:nvPr/>
        </p:nvPicPr>
        <p:blipFill>
          <a:blip r:embed="rId6"/>
          <a:stretch/>
        </p:blipFill>
        <p:spPr>
          <a:xfrm>
            <a:off x="7488720" y="41760"/>
            <a:ext cx="2467080" cy="121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288360" y="659880"/>
            <a:ext cx="3095280" cy="3085920"/>
          </a:xfrm>
          <a:prstGeom prst="rect">
            <a:avLst/>
          </a:prstGeom>
          <a:ln w="9525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9446760" cy="534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r>
              <a:rPr b="1" lang="en-US" sz="2400" spc="-1" strike="noStrike">
                <a:solidFill>
                  <a:srgbClr val="00b0f0"/>
                </a:solidFill>
                <a:latin typeface="Luxi Sans"/>
                <a:ea typeface="ＭＳ Ｐゴシック"/>
              </a:rPr>
              <a:t>Sea ice loss and recent Eurasian cold winters</a:t>
            </a:r>
            <a:endParaRPr b="0" lang="en-GB" sz="2400" spc="-1" strike="noStrike">
              <a:solidFill>
                <a:srgbClr val="ffffff"/>
              </a:solidFill>
              <a:latin typeface="Luxi Sans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315360" y="3826800"/>
            <a:ext cx="3133440" cy="213840"/>
          </a:xfrm>
          <a:prstGeom prst="rect">
            <a:avLst/>
          </a:prstGeom>
          <a:ln w="9525">
            <a:noFill/>
          </a:ln>
        </p:spPr>
      </p:pic>
      <p:sp>
        <p:nvSpPr>
          <p:cNvPr id="257" name="Oval 14"/>
          <p:cNvSpPr/>
          <p:nvPr/>
        </p:nvSpPr>
        <p:spPr>
          <a:xfrm rot="1059000">
            <a:off x="334440" y="2725200"/>
            <a:ext cx="2512800" cy="791640"/>
          </a:xfrm>
          <a:prstGeom prst="ellipse">
            <a:avLst/>
          </a:prstGeom>
          <a:noFill/>
          <a:ln w="381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8000"/>
              </a:lnSpc>
            </a:pPr>
            <a:endParaRPr b="1" lang="en-US" sz="1800" spc="-1" strike="noStrike">
              <a:solidFill>
                <a:srgbClr val="ffffff"/>
              </a:solidFill>
              <a:latin typeface="Luxi Sans"/>
              <a:ea typeface="Luxi Sans"/>
            </a:endParaRPr>
          </a:p>
        </p:txBody>
      </p:sp>
      <p:sp>
        <p:nvSpPr>
          <p:cNvPr id="258" name="Oval 15"/>
          <p:cNvSpPr/>
          <p:nvPr/>
        </p:nvSpPr>
        <p:spPr>
          <a:xfrm rot="1500600">
            <a:off x="923760" y="2009160"/>
            <a:ext cx="1191960" cy="634680"/>
          </a:xfrm>
          <a:prstGeom prst="ellipse">
            <a:avLst/>
          </a:prstGeom>
          <a:noFill/>
          <a:ln w="3175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8000"/>
              </a:lnSpc>
            </a:pPr>
            <a:endParaRPr b="1" lang="en-US" sz="1800" spc="-1" strike="noStrike">
              <a:solidFill>
                <a:srgbClr val="ffffff"/>
              </a:solidFill>
              <a:latin typeface="Luxi Sans"/>
              <a:ea typeface="Luxi Sans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770480" y="3271320"/>
            <a:ext cx="772200" cy="273600"/>
          </a:xfrm>
          <a:prstGeom prst="rect">
            <a:avLst/>
          </a:prstGeom>
          <a:solidFill>
            <a:schemeClr val="bg2">
              <a:alpha val="7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169880" y="672840"/>
            <a:ext cx="569484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779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nb-NO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Meiji Honda (GRL 2009) proposed a link between Arctic sea-ice reduction and cold Asian w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Warm Arctic-Cold continent” paradigm (Overland et al., 2010</a:t>
            </a:r>
            <a:r>
              <a:rPr b="1" lang="en-GB" sz="1600" spc="-1" strike="noStrike">
                <a:solidFill>
                  <a:srgbClr val="000000"/>
                </a:solidFill>
                <a:latin typeface="Luxi Sans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nb-NO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Many recent studie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nb-NO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Implications for seasonal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37"/>
              </a:spcAft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7396560" y="6457320"/>
            <a:ext cx="2519640" cy="923400"/>
          </a:xfrm>
          <a:prstGeom prst="rect">
            <a:avLst/>
          </a:prstGeom>
          <a:solidFill>
            <a:srgbClr val="ff99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Anomalously cold recent Eurasian win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3384000" y="4558320"/>
            <a:ext cx="3420000" cy="587520"/>
          </a:xfrm>
          <a:prstGeom prst="rightArrow">
            <a:avLst>
              <a:gd name="adj1" fmla="val 50000"/>
              <a:gd name="adj2" fmla="val 160714"/>
            </a:avLst>
          </a:prstGeom>
          <a:solidFill>
            <a:schemeClr val="accent2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8000"/>
              </a:lnSpc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  <a:ea typeface="Luxi Sans"/>
              </a:rPr>
              <a:t>Summer to winter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98720" y="6648840"/>
            <a:ext cx="2771640" cy="69228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xi Sans"/>
              </a:rPr>
              <a:t>Arctic Sea ice 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xi Sans"/>
              </a:rPr>
              <a:t>In late 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5882040" y="5270400"/>
            <a:ext cx="1398960" cy="528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Luxi Sans"/>
              </a:rPr>
              <a:t>Eura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1" descr="extent_graph_2011.png"/>
          <p:cNvPicPr/>
          <p:nvPr/>
        </p:nvPicPr>
        <p:blipFill>
          <a:blip r:embed="rId3"/>
          <a:stretch/>
        </p:blipFill>
        <p:spPr>
          <a:xfrm>
            <a:off x="16920" y="4012920"/>
            <a:ext cx="3162960" cy="25196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3"/>
          <p:cNvSpPr/>
          <p:nvPr/>
        </p:nvSpPr>
        <p:spPr>
          <a:xfrm>
            <a:off x="3328560" y="5270400"/>
            <a:ext cx="1140120" cy="528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Luxi Sans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4"/>
          <a:stretch/>
        </p:blipFill>
        <p:spPr>
          <a:xfrm>
            <a:off x="7392600" y="3046680"/>
            <a:ext cx="25236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9446760" cy="534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r>
              <a:rPr b="1" lang="en-US" sz="2400" spc="-1" strike="noStrike">
                <a:solidFill>
                  <a:srgbClr val="00b0f0"/>
                </a:solidFill>
                <a:latin typeface="Luxi Sans"/>
                <a:ea typeface="ＭＳ Ｐゴシック"/>
              </a:rPr>
              <a:t>Sea ice loss and recent Eurasian cold winters</a:t>
            </a:r>
            <a:endParaRPr b="0" lang="en-GB" sz="2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304000" y="672840"/>
            <a:ext cx="748836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93200">
              <a:lnSpc>
                <a:spcPct val="100000"/>
              </a:lnSpc>
              <a:tabLst>
                <a:tab algn="l" pos="0"/>
              </a:tabLst>
            </a:pPr>
            <a:r>
              <a:rPr b="1" lang="nb-NO" sz="1600" spc="-1" strike="noStrike">
                <a:solidFill>
                  <a:schemeClr val="accent2"/>
                </a:solidFill>
                <a:latin typeface="Luxi Sans"/>
                <a:ea typeface="Luxi Sans"/>
              </a:rPr>
              <a:t>Impact of sea ice initialisation ECMWF coupled ensemble seasonal forecasts : case stud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320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9040" indent="-285840">
              <a:lnSpc>
                <a:spcPct val="100000"/>
              </a:lnSpc>
              <a:tabLst>
                <a:tab algn="l" pos="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xi Sans"/>
                <a:ea typeface="Luxi Sans"/>
              </a:rPr>
              <a:t>Orsolini, Y.J., Senan, R., Benestad, R.E., Melsom, A. (2012) Autumn atmospheric response to the 2007 low Arctic sea ice extent in coupled ocean-atmosphere hindcasts. Clim. Dyn., 38, 2437-244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37"/>
              </a:spcAft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7416720" y="3491640"/>
            <a:ext cx="2519640" cy="923400"/>
          </a:xfrm>
          <a:prstGeom prst="rect">
            <a:avLst/>
          </a:prstGeom>
          <a:solidFill>
            <a:srgbClr val="ff99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Anomalous cold air outbreaks over Far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503640" y="5868000"/>
            <a:ext cx="4752000" cy="69228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xi Sans"/>
              </a:rPr>
              <a:t>Remote surface temperature influence of Arctic Sea ice reduction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xi Sans"/>
              </a:rPr>
              <a:t>in late summ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359640" y="467640"/>
            <a:ext cx="1635480" cy="21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grlpap_potpredict"/>
          <p:cNvPicPr/>
          <p:nvPr/>
        </p:nvPicPr>
        <p:blipFill>
          <a:blip r:embed="rId2"/>
          <a:stretch/>
        </p:blipFill>
        <p:spPr>
          <a:xfrm>
            <a:off x="287640" y="2915640"/>
            <a:ext cx="6696360" cy="2851200"/>
          </a:xfrm>
          <a:prstGeom prst="rect">
            <a:avLst/>
          </a:prstGeom>
          <a:ln w="9525">
            <a:noFill/>
          </a:ln>
        </p:spPr>
      </p:pic>
      <p:cxnSp>
        <p:nvCxnSpPr>
          <p:cNvPr id="274" name="Straight Arrow Connector 15"/>
          <p:cNvCxnSpPr/>
          <p:nvPr/>
        </p:nvCxnSpPr>
        <p:spPr>
          <a:xfrm flipH="1">
            <a:off x="6624360" y="3275640"/>
            <a:ext cx="864360" cy="575640"/>
          </a:xfrm>
          <a:prstGeom prst="straightConnector1">
            <a:avLst/>
          </a:prstGeom>
          <a:ln w="76200">
            <a:solidFill>
              <a:srgbClr val="ffc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4"/>
          <p:cNvSpPr/>
          <p:nvPr/>
        </p:nvSpPr>
        <p:spPr>
          <a:xfrm>
            <a:off x="0" y="6770520"/>
            <a:ext cx="10080360" cy="788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8000"/>
              </a:lnSpc>
            </a:pPr>
            <a:endParaRPr b="1" lang="en-GB" sz="1800" spc="-1" strike="noStrike">
              <a:solidFill>
                <a:schemeClr val="lt1"/>
              </a:solidFill>
              <a:latin typeface="Luxi Sans"/>
              <a:ea typeface="Luxi Sans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0" y="0"/>
            <a:ext cx="10080360" cy="1305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8000"/>
              </a:lnSpc>
            </a:pPr>
            <a:endParaRPr b="1" lang="en-GB" sz="1800" spc="-1" strike="noStrike">
              <a:solidFill>
                <a:schemeClr val="lt1"/>
              </a:solidFill>
              <a:latin typeface="Luxi Sans"/>
              <a:ea typeface="Luxi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30600" y="180000"/>
            <a:ext cx="8235720" cy="1240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400"/>
              </a:spcBef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Enhancing seasonal-to-decadal Prediction of climate for the North Atlantic Sector and Arctic</a:t>
            </a:r>
            <a:endParaRPr b="0" lang="en-GB" sz="2000" spc="-1" strike="noStrike">
              <a:solidFill>
                <a:srgbClr val="ffffff"/>
              </a:solidFill>
              <a:latin typeface="Luxi Sans"/>
            </a:endParaRPr>
          </a:p>
        </p:txBody>
      </p:sp>
      <p:pic>
        <p:nvPicPr>
          <p:cNvPr id="278" name="Picture 3" descr="RCN_FRlogoEngcmyk-farger.png"/>
          <p:cNvPicPr/>
          <p:nvPr/>
        </p:nvPicPr>
        <p:blipFill>
          <a:blip r:embed="rId1"/>
          <a:stretch/>
        </p:blipFill>
        <p:spPr>
          <a:xfrm>
            <a:off x="7956720" y="14040"/>
            <a:ext cx="2068920" cy="380520"/>
          </a:xfrm>
          <a:prstGeom prst="rect">
            <a:avLst/>
          </a:prstGeom>
          <a:ln w="0">
            <a:noFill/>
          </a:ln>
        </p:spPr>
      </p:pic>
      <p:pic>
        <p:nvPicPr>
          <p:cNvPr id="279" name="Bilde 12" descr=""/>
          <p:cNvPicPr/>
          <p:nvPr/>
        </p:nvPicPr>
        <p:blipFill>
          <a:blip r:embed="rId2"/>
          <a:stretch/>
        </p:blipFill>
        <p:spPr>
          <a:xfrm>
            <a:off x="54000" y="6840360"/>
            <a:ext cx="2417400" cy="616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3"/>
          <a:stretch/>
        </p:blipFill>
        <p:spPr>
          <a:xfrm>
            <a:off x="94320" y="94320"/>
            <a:ext cx="1936080" cy="1103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5" descr="UIB_logo.gif"/>
          <p:cNvPicPr/>
          <p:nvPr/>
        </p:nvPicPr>
        <p:blipFill>
          <a:blip r:embed="rId4"/>
          <a:stretch/>
        </p:blipFill>
        <p:spPr>
          <a:xfrm>
            <a:off x="2648880" y="6797520"/>
            <a:ext cx="694440" cy="69444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6"/>
          <p:cNvSpPr/>
          <p:nvPr/>
        </p:nvSpPr>
        <p:spPr>
          <a:xfrm>
            <a:off x="223920" y="1459080"/>
            <a:ext cx="985644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lang="en-GB" sz="2000" spc="-1" strike="noStrike">
                <a:solidFill>
                  <a:schemeClr val="accent2"/>
                </a:solidFill>
                <a:latin typeface="Luxi Sans"/>
                <a:ea typeface="Luxi Sans"/>
              </a:rPr>
              <a:t>National project with  6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r>
              <a:rPr b="1" lang="en-GB" sz="2000" spc="-1" strike="noStrike">
                <a:solidFill>
                  <a:schemeClr val="accent2"/>
                </a:solidFill>
                <a:latin typeface="Luxi Sans"/>
                <a:ea typeface="Luxi Sans"/>
              </a:rPr>
              <a:t>Lead by Uni. Bergen (N. Keenlyside), 2014-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Clr>
                <a:srgbClr val="3333cc"/>
              </a:buClr>
              <a:buSzPct val="150000"/>
              <a:buFont typeface="Wingdings" charset="2"/>
              <a:buChar char=""/>
            </a:pPr>
            <a:r>
              <a:rPr b="1" lang="en-GB" sz="2000" spc="-1" strike="noStrike">
                <a:solidFill>
                  <a:schemeClr val="accent2"/>
                </a:solidFill>
                <a:latin typeface="Luxi Sans"/>
                <a:ea typeface="Luxi Sans"/>
              </a:rPr>
              <a:t>To investigate key mechanisms for seasonal-to-decadal predic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Focus on North Atlantic and Nordic S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Teleconnections to SST, sea ice, and snow cover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Stratosphere-troposphere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000">
              <a:lnSpc>
                <a:spcPct val="108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400" indent="-212040">
              <a:lnSpc>
                <a:spcPct val="108000"/>
              </a:lnSpc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Clr>
                <a:srgbClr val="3333cc"/>
              </a:buClr>
              <a:buSzPct val="150000"/>
              <a:buFont typeface="Wingdings" charset="2"/>
              <a:buChar char=""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2"/>
                </a:solidFill>
                <a:latin typeface="Luxi Sans"/>
                <a:ea typeface="Luxi Sans"/>
              </a:rPr>
              <a:t>To develop the Norwegian Climate Prediction model (NorC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</a:tabLst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Norwegian Earth System model (NorESM) with ensemble Kalman Filter assim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</a:tabLst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NorESM atmospheric component (NCAR/CAM), oceanic component (U Miami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</a:tabLst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Seasonal and decadal prediction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1" descr=""/>
          <p:cNvPicPr/>
          <p:nvPr/>
        </p:nvPicPr>
        <p:blipFill>
          <a:blip r:embed="rId5"/>
          <a:stretch/>
        </p:blipFill>
        <p:spPr>
          <a:xfrm>
            <a:off x="8979840" y="6830640"/>
            <a:ext cx="636840" cy="636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2" descr=""/>
          <p:cNvPicPr/>
          <p:nvPr/>
        </p:nvPicPr>
        <p:blipFill>
          <a:blip r:embed="rId6"/>
          <a:stretch/>
        </p:blipFill>
        <p:spPr>
          <a:xfrm>
            <a:off x="7963560" y="6851160"/>
            <a:ext cx="509040" cy="610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3" descr=""/>
          <p:cNvPicPr/>
          <p:nvPr/>
        </p:nvPicPr>
        <p:blipFill>
          <a:blip r:embed="rId7"/>
          <a:stretch/>
        </p:blipFill>
        <p:spPr>
          <a:xfrm>
            <a:off x="3756240" y="6891480"/>
            <a:ext cx="1051560" cy="533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4" descr=""/>
          <p:cNvPicPr/>
          <p:nvPr/>
        </p:nvPicPr>
        <p:blipFill>
          <a:blip r:embed="rId8"/>
          <a:stretch/>
        </p:blipFill>
        <p:spPr>
          <a:xfrm>
            <a:off x="5183280" y="6861960"/>
            <a:ext cx="2215080" cy="576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6" descr=""/>
          <p:cNvPicPr/>
          <p:nvPr/>
        </p:nvPicPr>
        <p:blipFill>
          <a:blip r:embed="rId9"/>
          <a:srcRect l="0" t="4725" r="85610" b="0"/>
          <a:stretch/>
        </p:blipFill>
        <p:spPr>
          <a:xfrm>
            <a:off x="6847200" y="6891840"/>
            <a:ext cx="678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Ángulos">
  <a:themeElements>
    <a:clrScheme name="Ángulo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  <Words>820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bastien Orsolini</cp:lastModifiedBy>
  <dcterms:modified xsi:type="dcterms:W3CDTF">2014-03-07T16:41:43Z</dcterms:modified>
  <cp:revision>3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Custom</vt:lpwstr>
  </property>
  <property fmtid="{D5CDD505-2E9C-101B-9397-08002B2CF9AE}" pid="4" name="Slides">
    <vt:r8>8</vt:r8>
  </property>
</Properties>
</file>