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8EF-6AAD-4413-AAC6-258936FA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1C6-68FD-447B-B6DA-BCC101A0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5DE-3780-43A5-BDED-6F393EE4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F3D-79E1-421D-B219-06D78E64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07D-B782-46C0-8610-AF92BAA9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092-1D1E-48BB-A937-DDB58BC2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D36C-13D0-4B2D-A8E1-16A3016C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385-129C-445C-BD5F-C25E1863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909-B3FE-42AB-A8A9-CC34C81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607-A521-4018-9116-5E8D383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5DB-896F-4EF8-9BB5-F8EE01B4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E5F-663A-4498-8E35-6816407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B8B-418E-46B4-A1A5-91456488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A8D-05EB-45F6-B9CF-AC54A74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48A-9E1F-4289-BF9D-BCD9AC5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EFF-009B-4269-A008-4B0EEF4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F0A-8622-4186-9076-88F0F34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015-54E6-4454-A339-5F5F9A95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68F-6BBE-48D0-82BF-C75D0719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26920" y="6308640"/>
            <a:ext cx="81378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COM1016_corp_banner__03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13906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6" descr="environnement_canada_logo"/>
          <p:cNvPicPr/>
          <p:nvPr/>
        </p:nvPicPr>
        <p:blipFill>
          <a:blip r:embed="rId3"/>
          <a:stretch/>
        </p:blipFill>
        <p:spPr>
          <a:xfrm>
            <a:off x="324000" y="260280"/>
            <a:ext cx="2857320" cy="343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826920" y="6308640"/>
            <a:ext cx="81378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E02E-DAEF-45DC-8D05-04C74E8C2C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349360"/>
            <a:ext cx="6696000" cy="14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601b"/>
                </a:solidFill>
                <a:latin typeface="Arial"/>
              </a:rPr>
              <a:t>GPC-Montreal</a:t>
            </a:r>
            <a:br>
              <a:rPr sz="2400"/>
            </a:br>
            <a:r>
              <a:rPr b="0" lang="en-US" sz="2400" spc="-1" strike="noStrike">
                <a:solidFill>
                  <a:srgbClr val="3a601b"/>
                </a:solidFill>
                <a:latin typeface="Arial"/>
              </a:rPr>
              <a:t>- Status Report -</a:t>
            </a:r>
            <a:br>
              <a:rPr sz="2400"/>
            </a:br>
            <a:r>
              <a:rPr b="0" lang="en-US" sz="1800" spc="-1" strike="noStrike">
                <a:solidFill>
                  <a:srgbClr val="3a601b"/>
                </a:solidFill>
                <a:latin typeface="Arial"/>
              </a:rPr>
              <a:t>March 2014 </a:t>
            </a:r>
            <a:endParaRPr b="1" lang="en-US" sz="18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87280" y="6381720"/>
            <a:ext cx="8569440" cy="3985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MO Meeting of the CB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/CCL Expert Team on Operational Predictions from Sub-Seasonal to long time-sc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Exeter, UK, 10-14 March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627280" y="4005360"/>
            <a:ext cx="367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r. Bertrand D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eteorological Service of Ca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lleagues at CMC and CC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Mandatory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242440" y="216144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DJF, 1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1428840" y="1205280"/>
            <a:ext cx="50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Calibrated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cccma.ec.gc.ca/data/seasonal_forecast/fcstdata2/chfp2de_cmc_ens10_gpcp22_1981_2010_pcp_glb_12seas3_gwdth2_gwdthsd1_lead1_crps_gdt/chfp2de_cmc_ens10_gpcp22_1981_2010_pcp_glb_12seas3_gwdth2_gwdthsd1_lead1_crps_gdt_2013_djf_pxgc.png"/>
          <p:cNvPicPr/>
          <p:nvPr/>
        </p:nvPicPr>
        <p:blipFill>
          <a:blip r:embed="rId1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www.cccma.ec.gc.ca/data/seasonal_forecast/miscdata2/legend_pcp_pgx.png"/>
          <p:cNvPicPr/>
          <p:nvPr/>
        </p:nvPicPr>
        <p:blipFill>
          <a:blip r:embed="rId2"/>
          <a:stretch/>
        </p:blipFill>
        <p:spPr>
          <a:xfrm>
            <a:off x="1258920" y="5805360"/>
            <a:ext cx="494352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www.cccma.ec.gc.ca/data/seasonal_forecast/skilldata2/chfp2dc_ens10_gpcp22_1981_2010_pcp_glb_12seas3_gwdth2_gwdthsd1_lead1_crps_gdt/chfp2dc_ens10_gpcp22_1981_2010_pcp_glb_12seas3_gwdth2_gwdthsd1_lead1_crps_gdt_djf_reliab_gc_lfit.png"/>
          <p:cNvPicPr/>
          <p:nvPr/>
        </p:nvPicPr>
        <p:blipFill>
          <a:blip r:embed="rId3"/>
          <a:stretch/>
        </p:blipFill>
        <p:spPr>
          <a:xfrm>
            <a:off x="7459560" y="34369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cccma.ec.gc.ca/data/seasonal_forecast/skilldata2/chfp2dc_ens10_gpcp22_1981_2010_pcp_glb_12seas3_gwdth2_gwdthsd1_lead1_crps_gdt/chfp2dc_ens10_gpcp22_1981_2010_pcp_glb_12seas3_gwdth2_gwdthsd1_lead1_crps_gdt_djf_sm_rocgc3.png"/>
          <p:cNvPicPr/>
          <p:nvPr/>
        </p:nvPicPr>
        <p:blipFill>
          <a:blip r:embed="rId4"/>
          <a:stretch/>
        </p:blipFill>
        <p:spPr>
          <a:xfrm>
            <a:off x="7167600" y="249228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http://www.cccma.ec.gc.ca/data/seasonal_forecast/skilldata2/chfp2dc_ens10_gpcp22_1981_2010_pcp_glb_12seas3_gwdth2_gwdthsd1_lead1_crps_gdt/chfp2dc_ens10_gpcp22_1981_2010_pcp_glb_12seas3_gwdth2_gwdthsd1_lead1_crps_gdt_djf_sm_rocgc1.png"/>
          <p:cNvPicPr/>
          <p:nvPr/>
        </p:nvPicPr>
        <p:blipFill>
          <a:blip r:embed="rId5"/>
          <a:stretch/>
        </p:blipFill>
        <p:spPr>
          <a:xfrm>
            <a:off x="7167600" y="4653000"/>
            <a:ext cx="1868400" cy="919080"/>
          </a:xfrm>
          <a:prstGeom prst="rect">
            <a:avLst/>
          </a:prstGeom>
          <a:ln w="0">
            <a:noFill/>
          </a:ln>
        </p:spPr>
      </p:pic>
      <p:sp>
        <p:nvSpPr>
          <p:cNvPr id="197" name="ZoneTexte 1"/>
          <p:cNvSpPr/>
          <p:nvPr/>
        </p:nvSpPr>
        <p:spPr>
          <a:xfrm>
            <a:off x="732096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39640" y="279360"/>
            <a:ext cx="8437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WMO recommended forecas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55640" y="1782720"/>
            <a:ext cx="868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brated probabil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@ 85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hPa geopotentia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2230200" y="215172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NDJ, 0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428840" y="1205280"/>
            <a:ext cx="50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Soil mois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Calibrated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1"/>
          <p:cNvSpPr/>
          <p:nvPr/>
        </p:nvSpPr>
        <p:spPr>
          <a:xfrm>
            <a:off x="731484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legend"/>
          <p:cNvPicPr/>
          <p:nvPr/>
        </p:nvPicPr>
        <p:blipFill>
          <a:blip r:embed="rId1"/>
          <a:stretch/>
        </p:blipFill>
        <p:spPr>
          <a:xfrm>
            <a:off x="1284120" y="5805360"/>
            <a:ext cx="494352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cccma.ec.gc.ca/data/seasonal_forecast/fcstdata2/chfp2de_cmc_ens10_eraint_1981_2010_vfsm_glb_12seas3_gwdth2_gwdthsd1_lead0_crps/chfp2de_cmc_ens10_eraint_1981_2010_vfsm_glb_12seas3_gwdth2_gwdthsd1_lead0_crps_2013_ndj_pxgc.png"/>
          <p:cNvPicPr/>
          <p:nvPr/>
        </p:nvPicPr>
        <p:blipFill>
          <a:blip r:embed="rId2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cccma.ec.gc.ca/data/seasonal_forecast/skilldata2/chfp2dc_ens10_eraint_1981_2010_vfsm_glb_12seas3_gwdth2_gwdthsd1_lead0_crps/chfp2dc_ens10_eraint_1981_2010_vfsm_glb_12seas3_gwdth2_gwdthsd1_lead0_crps_ndj_reliab_gc_lfit.png"/>
          <p:cNvPicPr/>
          <p:nvPr/>
        </p:nvPicPr>
        <p:blipFill>
          <a:blip r:embed="rId3"/>
          <a:stretch/>
        </p:blipFill>
        <p:spPr>
          <a:xfrm>
            <a:off x="7451640" y="34369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www.cccma.ec.gc.ca/data/seasonal_forecast/skilldata2/chfp2dc_ens10_eraint_1981_2010_vfsm_glb_12seas3_gwdth2_gwdthsd1_lead0_crps/chfp2dc_ens10_eraint_1981_2010_vfsm_glb_12seas3_gwdth2_gwdthsd1_lead0_crps_ndj_sm_rocgc1.png"/>
          <p:cNvPicPr/>
          <p:nvPr/>
        </p:nvPicPr>
        <p:blipFill>
          <a:blip r:embed="rId4"/>
          <a:stretch/>
        </p:blipFill>
        <p:spPr>
          <a:xfrm>
            <a:off x="7167600" y="466884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http://www.cccma.ec.gc.ca/data/seasonal_forecast/skilldata2/chfp2dc_ens10_eraint_1981_2010_vfsm_glb_12seas3_gwdth2_gwdthsd1_lead0_crps/chfp2dc_ens10_eraint_1981_2010_vfsm_glb_12seas3_gwdth2_gwdthsd1_lead0_crps_ndj_sm_rocgc3.png"/>
          <p:cNvPicPr/>
          <p:nvPr/>
        </p:nvPicPr>
        <p:blipFill>
          <a:blip r:embed="rId5"/>
          <a:stretch/>
        </p:blipFill>
        <p:spPr>
          <a:xfrm>
            <a:off x="7164360" y="2492280"/>
            <a:ext cx="1868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r>
              <a:rPr b="1" lang="fr-CA" sz="2800" spc="-1" strike="noStrike">
                <a:solidFill>
                  <a:srgbClr val="3a601b"/>
                </a:solidFill>
                <a:latin typeface="Arial"/>
              </a:rPr>
              <a:t>Standardized Precipitation Index (SPI)</a:t>
            </a:r>
            <a:endParaRPr b="1" lang="en-US" sz="28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214" name="Picture 3" descr="http://www.cccma.ec.gc.ca/data/seasonal_forecast/fcstdata2/chfp2de_cmc_ens10_gpcp22_1981_2010_pcp_glb_12seas3_gwdth2_gwdthsd1_lead0_crps_gdt/chfp2de_cmc_ens10_gpcp22_1981_2010_pcp_glb_12seas3_gwdth2_gwdthsd1_lead0_crps_gdt_2012_mjj_ansf.png"/>
          <p:cNvPicPr/>
          <p:nvPr/>
        </p:nvPicPr>
        <p:blipFill>
          <a:blip r:embed="rId1"/>
          <a:stretch/>
        </p:blipFill>
        <p:spPr>
          <a:xfrm>
            <a:off x="819000" y="2575080"/>
            <a:ext cx="8148960" cy="4066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1376280" y="1916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. Standardized Anomaly Forec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ay-June-Jul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le 1"/>
          <p:cNvSpPr/>
          <p:nvPr/>
        </p:nvSpPr>
        <p:spPr>
          <a:xfrm>
            <a:off x="4906800" y="1082520"/>
            <a:ext cx="4114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Probabil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2-categories (abv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/blw 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1384200" y="1498680"/>
            <a:ext cx="2291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2013110100_cgcm3cgcm4_gl_m1_arct_000"/>
          <p:cNvPicPr/>
          <p:nvPr/>
        </p:nvPicPr>
        <p:blipFill>
          <a:blip r:embed="rId1"/>
          <a:stretch/>
        </p:blipFill>
        <p:spPr>
          <a:xfrm>
            <a:off x="912960" y="2219400"/>
            <a:ext cx="3728880" cy="437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iweb.cmc.ec.gc.ca/~afsyjhn/saisons/images_cal/2013110100_cgcm3cgcm4_3cat_3g_m1_arct_cal_000.gif"/>
          <p:cNvPicPr/>
          <p:nvPr/>
        </p:nvPicPr>
        <p:blipFill>
          <a:blip r:embed="rId2"/>
          <a:stretch/>
        </p:blipFill>
        <p:spPr>
          <a:xfrm>
            <a:off x="5037120" y="2219400"/>
            <a:ext cx="3844800" cy="4373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974880" y="35100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r>
              <a:rPr b="1" lang="en-US" sz="2800" spc="-1" strike="noStrike">
                <a:solidFill>
                  <a:srgbClr val="397200"/>
                </a:solidFill>
                <a:latin typeface="Arial"/>
              </a:rPr>
              <a:t> - </a:t>
            </a: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Sea ice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13111200_cgcm3cgcm4_srfc_m123_000"/>
          <p:cNvPicPr/>
          <p:nvPr/>
        </p:nvPicPr>
        <p:blipFill>
          <a:blip r:embed="rId1"/>
          <a:stretch/>
        </p:blipFill>
        <p:spPr>
          <a:xfrm>
            <a:off x="1476360" y="1968480"/>
            <a:ext cx="6842160" cy="4889520"/>
          </a:xfrm>
          <a:prstGeom prst="rect">
            <a:avLst/>
          </a:prstGeom>
          <a:ln w="0">
            <a:noFill/>
          </a:ln>
        </p:spPr>
      </p:pic>
      <p:sp>
        <p:nvSpPr>
          <p:cNvPr id="223" name="Title 1"/>
          <p:cNvSpPr/>
          <p:nvPr/>
        </p:nvSpPr>
        <p:spPr>
          <a:xfrm>
            <a:off x="974880" y="35100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a601b"/>
                </a:solidFill>
                <a:latin typeface="Arial"/>
              </a:rPr>
              <a:t>SST anomalies &amp; sea ice &amp; </a:t>
            </a:r>
            <a:r>
              <a:rPr b="1" lang="fr-CA" sz="2800" spc="-1" strike="noStrike" u="sng">
                <a:solidFill>
                  <a:srgbClr val="3a601b"/>
                </a:solidFill>
                <a:uFillTx/>
                <a:latin typeface="Arial"/>
              </a:rPr>
              <a:t>snow dep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Other products unde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47640" y="1034640"/>
            <a:ext cx="87408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50000"/>
              </a:lnSpc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for extrem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for outer (1st/5th) quintiles more clearly indicate likelihood of extreme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experimental at CCC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occurrence of extreme events within a season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Probability of minimum temperature under -30°C at least one da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in use for EPS 2-weeks forecast at C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forecast of summer severe weather potential (torn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5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forecast of tropical cyclone genesis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storm track dens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flow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limate indices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tmospheric blocking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onsoon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Upcoming impr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84080" y="909720"/>
            <a:ext cx="848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a 7-months forecast at each mid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of CMC/Mercator SAM2 global ocea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perational monthly foreca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members at 50 km based on GEPS (kalman filter 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issued wee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dcast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the-fl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ize 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resolution T6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12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e land surfa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ice thickness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M + NEMO coupl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a RCM for 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539640" y="13644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Data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797120" y="5905440"/>
            <a:ext cx="760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://dapp2p.cccma.uvic.ca/pub/goapp/CHFP/CHFP2_Data_Guide_v1.pdf</a:t>
            </a:r>
            <a:r>
              <a:rPr b="0" i="1" lang="en-US" sz="1600" spc="-1" strike="noStrike">
                <a:solidFill>
                  <a:srgbClr val="3972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922320" y="1325520"/>
            <a:ext cx="848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SIPS data sets are publicly available (free of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MC datamart public servers (no password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ttp://weather.gc.ca/grib/grib2_cansips_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ndcasts and forecasts (available e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day of the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GRIB 2 format; working on NETCDF4 for N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CCma OpenDAP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ndcas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re inf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13644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Data a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922320" y="1325520"/>
            <a:ext cx="848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SIPS data sets are also available through other organizations, 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89640" y="2397240"/>
            <a:ext cx="3903480" cy="1819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351320" y="4681440"/>
            <a:ext cx="4275000" cy="1990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3"/>
          <p:cNvSpPr/>
          <p:nvPr/>
        </p:nvSpPr>
        <p:spPr>
          <a:xfrm>
            <a:off x="922320" y="5264280"/>
            <a:ext cx="36673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 NCAR EGS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22320" y="2719440"/>
            <a:ext cx="36673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MO LRFM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anSIPS_xfer_to_ops"/>
          <p:cNvPicPr/>
          <p:nvPr/>
        </p:nvPicPr>
        <p:blipFill>
          <a:blip r:embed="rId1"/>
          <a:stretch/>
        </p:blipFill>
        <p:spPr>
          <a:xfrm>
            <a:off x="6157800" y="973080"/>
            <a:ext cx="2806920" cy="2168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41240" y="230184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at CCC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at CMC since Dec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models CanCM3/4, 10 ensemble members each (total 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cast verification period = 1981-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cast range = 12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casts initialized at the start of every month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 time-lag 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4600" y="0"/>
            <a:ext cx="7056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a601b"/>
                </a:solidFill>
                <a:latin typeface="Arial"/>
              </a:rPr>
              <a:t>THANK YOU !</a:t>
            </a:r>
            <a:br>
              <a:rPr sz="4000"/>
            </a:br>
            <a:endParaRPr b="1" lang="en-US" sz="40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979560" y="1425600"/>
            <a:ext cx="3419280" cy="5181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332320" y="1249200"/>
            <a:ext cx="320040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782720"/>
            <a:ext cx="868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produced at the Canadian Meteorological Centre (CMC) contribute 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ttps://www.wmolc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ME (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ttp://www.cpc.ncep.noaa.gov/products/NMME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CC MME (https://www.wmolc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 ENSO plumes and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Office Hadley Centre multi-annual to decadal experiment (provided directly by CCC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iri.columbia.edu/wp-content/uploads/2014/02/figure4.gif"/>
          <p:cNvPicPr/>
          <p:nvPr/>
        </p:nvPicPr>
        <p:blipFill>
          <a:blip r:embed="rId1"/>
          <a:stretch/>
        </p:blipFill>
        <p:spPr>
          <a:xfrm>
            <a:off x="981000" y="246240"/>
            <a:ext cx="7473960" cy="6346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68360" y="6524640"/>
            <a:ext cx="8675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iri"/>
          <p:cNvPicPr/>
          <p:nvPr/>
        </p:nvPicPr>
        <p:blipFill>
          <a:blip r:embed="rId2"/>
          <a:stretch/>
        </p:blipFill>
        <p:spPr>
          <a:xfrm>
            <a:off x="468360" y="6450120"/>
            <a:ext cx="2522520" cy="363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157560" y="6524640"/>
            <a:ext cx="448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ttp://iri.columbia.edu/climate/ENSO/currentinfo/SST_tab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9"/>
          <p:cNvSpPr/>
          <p:nvPr/>
        </p:nvSpPr>
        <p:spPr>
          <a:xfrm>
            <a:off x="8454960" y="3984480"/>
            <a:ext cx="442800" cy="246240"/>
          </a:xfrm>
          <a:prstGeom prst="leftArrow">
            <a:avLst>
              <a:gd name="adj1" fmla="val 49472"/>
              <a:gd name="adj2" fmla="val 644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7"/>
          <p:cNvSpPr/>
          <p:nvPr/>
        </p:nvSpPr>
        <p:spPr>
          <a:xfrm>
            <a:off x="5530680" y="284328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7"/>
          <p:cNvSpPr/>
          <p:nvPr/>
        </p:nvSpPr>
        <p:spPr>
          <a:xfrm>
            <a:off x="6026040" y="284328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7"/>
          <p:cNvSpPr/>
          <p:nvPr/>
        </p:nvSpPr>
        <p:spPr>
          <a:xfrm>
            <a:off x="6526080" y="291132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7"/>
          <p:cNvSpPr/>
          <p:nvPr/>
        </p:nvSpPr>
        <p:spPr>
          <a:xfrm>
            <a:off x="6997680" y="296712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7"/>
          <p:cNvSpPr/>
          <p:nvPr/>
        </p:nvSpPr>
        <p:spPr>
          <a:xfrm>
            <a:off x="5019840" y="292104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4527720" y="3090960"/>
            <a:ext cx="13464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7"/>
          <p:cNvSpPr/>
          <p:nvPr/>
        </p:nvSpPr>
        <p:spPr>
          <a:xfrm>
            <a:off x="4022640" y="329580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7"/>
          <p:cNvSpPr/>
          <p:nvPr/>
        </p:nvSpPr>
        <p:spPr>
          <a:xfrm>
            <a:off x="3032280" y="366876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3517920" y="351324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7"/>
          <p:cNvSpPr/>
          <p:nvPr/>
        </p:nvSpPr>
        <p:spPr>
          <a:xfrm>
            <a:off x="7267680" y="403236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Operational improvements since CanSIPS implementation in Dec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13880" y="1461960"/>
            <a:ext cx="85726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SIPS being operational, it needs constant adaptation to the ever evolving operational ecosystem at C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b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-km CMC Global 4Dvar analysis assimilated (previously at 33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ch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 CMC SST analysis used for SST nu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bration of the probability forecast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il moisture bias correction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Operational improvements since CanSIPS implementation in Dec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13880" y="1461960"/>
            <a:ext cx="85726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SIPS being operational, it needs constant adaptation to the ever evolving operational ecosystem at C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Feb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5-km CMC Global 4Dvar analysis assimilated (previously at 33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March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ew and improved CMC SST analysis used for SST nu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of the probability forecast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moisture bias correction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Impact of cal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06320" y="948240"/>
            <a:ext cx="7869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97200"/>
                </a:solidFill>
                <a:latin typeface="Arial"/>
              </a:rPr>
              <a:t>MAM 2014 precipitation forecast over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-category Probabilistic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iweb.cmc.ec.gc.ca/~afsyjhn/saisons/images_new_new/2014022800_cgcm3cgcm4_3cat_3p_m123_cal_000.gif"/>
          <p:cNvPicPr/>
          <p:nvPr/>
        </p:nvPicPr>
        <p:blipFill>
          <a:blip r:embed="rId1"/>
          <a:stretch/>
        </p:blipFill>
        <p:spPr>
          <a:xfrm>
            <a:off x="5146560" y="2508120"/>
            <a:ext cx="37944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iweb.cmc.ec.gc.ca/~afsyjhn/saisons/images_new_new/2014022800_cgcm3cgcm4_3cat_3p_m123_000.gif"/>
          <p:cNvPicPr/>
          <p:nvPr/>
        </p:nvPicPr>
        <p:blipFill>
          <a:blip r:embed="rId2"/>
          <a:stretch/>
        </p:blipFill>
        <p:spPr>
          <a:xfrm>
            <a:off x="1111320" y="2514600"/>
            <a:ext cx="37940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382760" y="2066760"/>
            <a:ext cx="3062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915160" y="2060640"/>
            <a:ext cx="2255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126040" y="6175440"/>
            <a:ext cx="38149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forecast issued on http://weather.gc.ca/s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63280" y="965160"/>
            <a:ext cx="8396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from ERA reanalysis for atmospheric assimilation in hindcasts to CMC analysis in operational forecasts l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umulating soil moisture def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been fixed using the bias correction procedure of  Kharin &amp; Scinocc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hindcasts i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operational forecasts produced after June 2013 inclusive is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operational forecasts produced from Nov 2011 to May 2013 inclusive suffers from this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412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oil moisture bias correction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grpSp>
        <p:nvGrpSpPr>
          <p:cNvPr id="163" name="Groupe 1"/>
          <p:cNvGrpSpPr/>
          <p:nvPr/>
        </p:nvGrpSpPr>
        <p:grpSpPr>
          <a:xfrm>
            <a:off x="1650960" y="1916280"/>
            <a:ext cx="7422120" cy="1857240"/>
            <a:chOff x="1650960" y="1916280"/>
            <a:chExt cx="7422120" cy="1857240"/>
          </a:xfrm>
        </p:grpSpPr>
        <p:pic>
          <p:nvPicPr>
            <p:cNvPr id="164" name="Picture 6" descr="vfsm_era_vs_cmc_glb"/>
            <p:cNvPicPr/>
            <p:nvPr/>
          </p:nvPicPr>
          <p:blipFill>
            <a:blip r:embed="rId1"/>
            <a:srcRect l="2017" t="52280" r="0" b="0"/>
            <a:stretch/>
          </p:blipFill>
          <p:spPr>
            <a:xfrm>
              <a:off x="1650960" y="1916280"/>
              <a:ext cx="584892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10"/>
            <p:cNvSpPr/>
            <p:nvPr/>
          </p:nvSpPr>
          <p:spPr>
            <a:xfrm>
              <a:off x="7307280" y="2467800"/>
              <a:ext cx="640800" cy="0"/>
            </a:xfrm>
            <a:prstGeom prst="line">
              <a:avLst/>
            </a:prstGeom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7315560" y="2754360"/>
              <a:ext cx="640800" cy="0"/>
            </a:xfrm>
            <a:prstGeom prst="line">
              <a:avLst/>
            </a:prstGeom>
            <a:ln w="19080">
              <a:solidFill>
                <a:srgbClr val="00f4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8092080" y="23140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00b9"/>
                  </a:solidFill>
                  <a:latin typeface="Arial"/>
                </a:rPr>
                <a:t>CanCM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8092080" y="26089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ded9"/>
                  </a:solidFill>
                  <a:latin typeface="Arial"/>
                </a:rPr>
                <a:t>CanCM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3453840" y="1941120"/>
              <a:ext cx="2459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Globa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mean VFSM anoma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112360" y="2258280"/>
              <a:ext cx="166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A assimil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5003640" y="2536560"/>
              <a:ext cx="17532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9"/>
            <p:cNvSpPr/>
            <p:nvPr/>
          </p:nvSpPr>
          <p:spPr>
            <a:xfrm>
              <a:off x="5408640" y="2759040"/>
              <a:ext cx="166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MC assimil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527880" y="301608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Mandatory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legend"/>
          <p:cNvPicPr/>
          <p:nvPr/>
        </p:nvPicPr>
        <p:blipFill>
          <a:blip r:embed="rId1"/>
          <a:stretch/>
        </p:blipFill>
        <p:spPr>
          <a:xfrm>
            <a:off x="1284120" y="5805360"/>
            <a:ext cx="494352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242440" y="216144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DJF, 1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1429200" y="1204920"/>
            <a:ext cx="50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2-m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alibrate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www.cccma.ec.gc.ca/data/seasonal_forecast/fcstdata2/chfp2de_cmc_ens10_eraint_1981_2010_st_glb_12seas3_gwdth2_gwdthsd1_lead1_crps/chfp2de_cmc_ens10_eraint_1981_2010_st_glb_12seas3_gwdth2_gwdthsd1_lead1_crps_2013_djf_pxgc.png"/>
          <p:cNvPicPr/>
          <p:nvPr/>
        </p:nvPicPr>
        <p:blipFill>
          <a:blip r:embed="rId2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cccma.ec.gc.ca/data/seasonal_forecast/skilldata2/chfp2dc_ens10_eraint_1981_2010_st_glb_12seas3_gwdth2_gwdthsd1_lead1_crps/chfp2dc_ens10_eraint_1981_2010_st_glb_12seas3_gwdth2_gwdthsd1_lead1_crps_djf_sm_rocgc3.png"/>
          <p:cNvPicPr/>
          <p:nvPr/>
        </p:nvPicPr>
        <p:blipFill>
          <a:blip r:embed="rId3"/>
          <a:stretch/>
        </p:blipFill>
        <p:spPr>
          <a:xfrm>
            <a:off x="7167600" y="249228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www.cccma.ec.gc.ca/data/seasonal_forecast/skilldata2/chfp2dc_ens10_eraint_1981_2010_st_glb_12seas3_gwdth2_gwdthsd1_lead1_crps/chfp2dc_ens10_eraint_1981_2010_st_glb_12seas3_gwdth2_gwdthsd1_lead1_crps_djf_sm_rocgc1.png"/>
          <p:cNvPicPr/>
          <p:nvPr/>
        </p:nvPicPr>
        <p:blipFill>
          <a:blip r:embed="rId4"/>
          <a:stretch/>
        </p:blipFill>
        <p:spPr>
          <a:xfrm>
            <a:off x="7167600" y="4638600"/>
            <a:ext cx="1868400" cy="91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Attributes Diagram"/>
          <p:cNvPicPr/>
          <p:nvPr/>
        </p:nvPicPr>
        <p:blipFill>
          <a:blip r:embed="rId5"/>
          <a:stretch/>
        </p:blipFill>
        <p:spPr>
          <a:xfrm>
            <a:off x="7437600" y="3436920"/>
            <a:ext cx="1215720" cy="1216080"/>
          </a:xfrm>
          <a:prstGeom prst="rect">
            <a:avLst/>
          </a:prstGeom>
          <a:ln w="0">
            <a:noFill/>
          </a:ln>
        </p:spPr>
      </p:pic>
      <p:sp>
        <p:nvSpPr>
          <p:cNvPr id="185" name="ZoneTexte 16"/>
          <p:cNvSpPr/>
          <p:nvPr/>
        </p:nvSpPr>
        <p:spPr>
          <a:xfrm>
            <a:off x="731484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9:58:49Z</dcterms:created>
  <dc:creator>Environnement Canada</dc:creator>
  <dc:description/>
  <dc:language>en-US</dc:language>
  <cp:lastModifiedBy>Denis,Bertrand [CMC]</cp:lastModifiedBy>
  <dcterms:modified xsi:type="dcterms:W3CDTF">2014-03-09T21:11:47Z</dcterms:modified>
  <cp:revision>273</cp:revision>
  <dc:subject/>
  <dc:title>Slide 1</dc:title>
</cp:coreProperties>
</file>